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798480" y="359244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9848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552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84280" y="12506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70080" y="12506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798480" y="35924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84280" y="35924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70080" y="35924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9848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6552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98480" y="359244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798480" y="359244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9848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552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4280" y="12506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70080" y="12506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798480" y="35924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4280" y="35924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70080" y="359244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9848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5520" y="35924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65520" y="125064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8480" y="359244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05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10.</a:t>
            </a:r>
            <a:fld id="{A9ED32FF-8C0E-4EBC-8357-C5B0CEEA896F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5760" y="6613560"/>
            <a:ext cx="33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Jan 1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0:  File-System Interfa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Locking Example – Java API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import java.io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import java.nio.channels.*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class LockingExample </a:t>
            </a: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static final boolean EXCLUSIVE = fals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static final boolean SHARED = tru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public static void main(String arsg[]) throws IOException </a:t>
            </a: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FileLock sharedLock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FileLock exclusiveLock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try </a:t>
            </a:r>
            <a:r>
              <a:rPr b="0" i="1" lang="en-US" sz="1400" spc="-1" strike="noStrike">
                <a:solidFill>
                  <a:srgbClr val="0033cc"/>
                </a:solidFill>
                <a:latin typeface="Arial"/>
              </a:rPr>
              <a:t>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RandomAccessFile raf = new RandomAccessFile("file.txt", "rw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/ get the channel for th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FileChannel ch = raf.getChannel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/ this locks the first half of the file - exclus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exclusiveLock = ch.lock(0, raf.length()/2, EXCLUSIV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** Now modify the data . . .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// release the 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exclusiveLock.releas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Locking Example – Java API (cont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24392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// this locks the second half of the file - sha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haredLock = ch.lock(raf.length()/2+1, raf.length(),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HARE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/** Now read the data . . .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// release the 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haredLock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catch (java.io.IOException ioe) {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ystem.err.println(io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finally {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if (exclusiveLock !=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exclusiveLock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if (sharedLock != nu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sharedLock.release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Types – Name, Extens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15715" t="1186" r="15715" b="1186"/>
          <a:stretch/>
        </p:blipFill>
        <p:spPr>
          <a:xfrm>
            <a:off x="2209680" y="1251000"/>
            <a:ext cx="4654800" cy="4970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ccess Metho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31680" y="1380600"/>
            <a:ext cx="6584760" cy="37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quential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ead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write n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e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no read after last 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(rewri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ead 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write 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position to 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ead n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write n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rewrite </a:t>
            </a:r>
            <a:r>
              <a:rPr b="0" i="1" lang="en-US" sz="1600" spc="-1" strike="noStrike">
                <a:solidFill>
                  <a:srgbClr val="0033cc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203640"/>
                <a:tab algn="l" pos="4056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relative block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quential-access Fi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698" t="33012" r="458" b="33947"/>
          <a:stretch/>
        </p:blipFill>
        <p:spPr>
          <a:xfrm>
            <a:off x="798480" y="1251000"/>
            <a:ext cx="7924680" cy="1987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74640" y="0"/>
            <a:ext cx="84693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Simulation of Sequential Access on a Direct-access File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rcRect l="1093" t="27696" r="864" b="28277"/>
          <a:stretch/>
        </p:blipFill>
        <p:spPr>
          <a:xfrm>
            <a:off x="1295280" y="1251000"/>
            <a:ext cx="6834240" cy="23018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Index and Relative Fi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rcRect l="598" t="12044" r="812" b="12330"/>
          <a:stretch/>
        </p:blipFill>
        <p:spPr>
          <a:xfrm>
            <a:off x="1033560" y="1251000"/>
            <a:ext cx="7311960" cy="42069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rectory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1040" y="1390680"/>
            <a:ext cx="6584760" cy="35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llection of nodes containing information about al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2819520" y="228600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3581280" y="228600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4343400" y="228600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"/>
          <p:cNvSpPr/>
          <p:nvPr/>
        </p:nvSpPr>
        <p:spPr>
          <a:xfrm>
            <a:off x="5105520" y="2286000"/>
            <a:ext cx="53316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8"/>
          <p:cNvSpPr/>
          <p:nvPr/>
        </p:nvSpPr>
        <p:spPr>
          <a:xfrm>
            <a:off x="5867280" y="2590920"/>
            <a:ext cx="533520" cy="457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2819520" y="4267080"/>
            <a:ext cx="457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3581280" y="4267080"/>
            <a:ext cx="4572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4343400" y="4267080"/>
            <a:ext cx="45720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5105520" y="4267080"/>
            <a:ext cx="45720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5867280" y="4648320"/>
            <a:ext cx="45720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>
            <a:off x="383868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457200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6095880" y="304812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>
            <a:off x="533412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8"/>
          <p:cNvSpPr/>
          <p:nvPr/>
        </p:nvSpPr>
        <p:spPr>
          <a:xfrm>
            <a:off x="3048120" y="27432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9"/>
          <p:cNvSpPr/>
          <p:nvPr/>
        </p:nvSpPr>
        <p:spPr>
          <a:xfrm>
            <a:off x="2538360" y="1962000"/>
            <a:ext cx="4186440" cy="1473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0"/>
          <p:cNvSpPr/>
          <p:nvPr/>
        </p:nvSpPr>
        <p:spPr>
          <a:xfrm>
            <a:off x="2362320" y="3886200"/>
            <a:ext cx="4262400" cy="1600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1297800" y="22852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1437120" y="41904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990720" y="5638680"/>
            <a:ext cx="7029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the directory structure and the files reside on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ups of these two structures are kept on ta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 Typical File-system Organiz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668" t="14791" r="439" b="14485"/>
          <a:stretch/>
        </p:blipFill>
        <p:spPr>
          <a:xfrm>
            <a:off x="1262160" y="1251000"/>
            <a:ext cx="6792840" cy="3643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rations Performed on Direct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 for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a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am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rse the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0:  File-System Interfa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8480" y="1251000"/>
            <a:ext cx="50976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System M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66400" y="371520"/>
            <a:ext cx="77439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Organize the Directory (Logically) to Obtai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98480" y="1320480"/>
            <a:ext cx="649440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 – locating a file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– convenient to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users can have same name for different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file can have several different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– logical grouping of files by properties, (e.g., all Java programs, all games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ingle-Level Direct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71480" y="1482480"/>
            <a:ext cx="702936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directory for all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1050840" y="4238640"/>
            <a:ext cx="712332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ing problem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ing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1"/>
          <a:srcRect l="439" t="37624" r="879" b="37934"/>
          <a:stretch/>
        </p:blipFill>
        <p:spPr>
          <a:xfrm>
            <a:off x="798480" y="2157480"/>
            <a:ext cx="8123400" cy="1509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wo-Level Direct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98480" y="1251000"/>
            <a:ext cx="702936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directory for each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798480" y="4575240"/>
            <a:ext cx="700236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have the same file name for different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sear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grouping cap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rcRect l="443" t="29448" r="1115" b="29168"/>
          <a:stretch/>
        </p:blipFill>
        <p:spPr>
          <a:xfrm>
            <a:off x="1174680" y="1959120"/>
            <a:ext cx="6721560" cy="2119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ree-Structured Directori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370160" y="1251000"/>
            <a:ext cx="7165800" cy="455436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ree-Structured Directories (Cont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t search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Capabi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directory (working dire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d /spell/mail/pr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yp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ree-Structured Directories (Cont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11080" y="1308240"/>
            <a:ext cx="658512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lu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th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new file is done in curren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rm &lt;file-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new subdirectory is done in curren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kdir &lt;dir-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if in current directory  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/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kdir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3724200" y="4589640"/>
            <a:ext cx="879480" cy="331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2533680" y="5232240"/>
            <a:ext cx="720720" cy="331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3254400" y="5232240"/>
            <a:ext cx="720720" cy="331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975120" y="5232240"/>
            <a:ext cx="446040" cy="331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4416480" y="5232240"/>
            <a:ext cx="446040" cy="331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4862520" y="5232240"/>
            <a:ext cx="706320" cy="331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3881520" y="4921200"/>
            <a:ext cx="0" cy="30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852480" y="5902200"/>
            <a:ext cx="7423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ting “mail”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eting the entire subtree rooted by “mai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cyclic-Graph Directori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7880" y="1261800"/>
            <a:ext cx="7029720" cy="5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shared subdirectories an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rcRect l="4264" t="591" r="4474" b="901"/>
          <a:stretch/>
        </p:blipFill>
        <p:spPr>
          <a:xfrm>
            <a:off x="1693800" y="1697040"/>
            <a:ext cx="5770800" cy="4672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cyclic-Graph Directorie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ifferent names (aliasing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let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ngling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pointers, so we can delete all point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size records a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pointers using a daisy chain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y-hold-count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irectory entry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nother name (pointer) to an existin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ve the l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ollow pointer to locate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General Graph Direct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rcRect l="620" t="10769" r="1063" b="11035"/>
          <a:stretch/>
        </p:blipFill>
        <p:spPr>
          <a:xfrm>
            <a:off x="1020600" y="1311120"/>
            <a:ext cx="7053480" cy="42069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General Graph Directory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we guarantee no cycl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only links to file not sub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time a new link is added use a cycle detec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to determine whether it is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ain the function of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interfaces to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file-system design tradeoffs, including access methods, file sharing, file locking, and directory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file-system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ystem Mount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98120" y="1250640"/>
            <a:ext cx="6094440" cy="30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le system must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n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fore it can be acc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nmounted file system (i.e. Fig. 11-11(b)) is mounted at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nt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(a) Existing.  (b) Unmounted Parti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rcRect l="820" t="11901" r="1037" b="12453"/>
          <a:stretch/>
        </p:blipFill>
        <p:spPr>
          <a:xfrm>
            <a:off x="1050840" y="1409760"/>
            <a:ext cx="7209000" cy="41670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ount Poi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rcRect l="19034" t="615" r="19034" b="615"/>
          <a:stretch/>
        </p:blipFill>
        <p:spPr>
          <a:xfrm>
            <a:off x="2557440" y="1251000"/>
            <a:ext cx="4065480" cy="48625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har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of files on multi-user systems is desira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may be done through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distributed systems, files may be shared across a networ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File System (NFS) is a common distributed file-shar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haring – Multiple User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98120" y="1251000"/>
            <a:ext cx="655812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fy users, allowing permissions and protections to be per-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 users to be in groups, permitting group access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haring – Remote File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98480" y="1251000"/>
            <a:ext cx="735192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networking to allow file system access betwee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ally via programs like 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ally, seamlessly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ed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i automatically via the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ld wid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-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el allows clients to mount remote file systems from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can serve multiple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and user-on-client identification is insecure or compl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tandard UNIX client-server file sharing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tandard Windows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operating system file calls are translated into remote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Information System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istributed naming service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as LDAP, DNS, NIS, Active Directory implement unified access to information needed for remote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haring – Failure Mod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67341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file systems add new failure modes, due to network failure, server fail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from failure can involve state information about status of each remot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less protocols such as NFS include all information in each request, allowing easy recovery but less 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haring – Consistency Semantic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ency seman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fy how multiple users are to access a shared file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Ch 7 process synchronizat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nd to be less complex due to disk I/O and network latency (for remote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File System (AFS) implemented complex remote file sharing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file system (UFS) impl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to an open file visible immediately to other users of the same open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ing file pointer to allow multiple users to read and write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S has session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s only visible to sessions starting after the file is 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tec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owner/creator should be able to contro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can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who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ccess Lists and Group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98120" y="1251000"/>
            <a:ext cx="6559560" cy="32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 of access:  read, write, 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ee classes of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wner ac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1 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up ac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1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W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ublic acce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 0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k manager to create a group (unique name), say G, and add some users to the grou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a particular file (sa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or subdirectory, define an appropriate ac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3416400" y="488412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w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4071600" y="4884120"/>
            <a:ext cx="5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4814640" y="488412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3475080" y="5398200"/>
            <a:ext cx="63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m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4108320" y="53982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9"/>
          <p:cNvSpPr/>
          <p:nvPr/>
        </p:nvSpPr>
        <p:spPr>
          <a:xfrm>
            <a:off x="4591080" y="539820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0"/>
          <p:cNvSpPr/>
          <p:nvPr/>
        </p:nvSpPr>
        <p:spPr>
          <a:xfrm>
            <a:off x="3736800" y="5065560"/>
            <a:ext cx="46224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4343400" y="5108400"/>
            <a:ext cx="0" cy="2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2"/>
          <p:cNvSpPr/>
          <p:nvPr/>
        </p:nvSpPr>
        <p:spPr>
          <a:xfrm flipH="1">
            <a:off x="4493880" y="5079960"/>
            <a:ext cx="60012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798480" y="5643720"/>
            <a:ext cx="7029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33480"/>
                <a:tab algn="l" pos="4459320"/>
                <a:tab algn="l" pos="5195880"/>
                <a:tab algn="l" pos="5888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 a group to a 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chgrp     G   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Concep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guous logical address s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-716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Windows XP Access-control List Managemen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rcRect l="21806" t="1201" r="22042" b="1831"/>
          <a:stretch/>
        </p:blipFill>
        <p:spPr>
          <a:xfrm>
            <a:off x="1339920" y="808200"/>
            <a:ext cx="6502320" cy="57290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 Sample UNIX Directory List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rcRect l="724" t="27066" r="724" b="27066"/>
          <a:stretch/>
        </p:blipFill>
        <p:spPr>
          <a:xfrm>
            <a:off x="511200" y="1647720"/>
            <a:ext cx="8140680" cy="3716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e - sequence of words,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record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atted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catable load 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imulate last two with first method by inserting appropriate control charac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dec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Attribut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nly information kept in human-readabl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unique tag (number) identifies file within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eeded for systems that support different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ointer to file location on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urrent fi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ntrols who can do reading, writing, exec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, date, and user identif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ata for protection, security, and usage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bout files are kept in the directory structure, which is maintained on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Opera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is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tract data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sition within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nc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pen(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earch the directory structure on disk for entr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move the content of entry 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ose (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ove the content of entr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emory to directory structure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n Fi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pieces of data are needed to manage open fi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pointer:  pointer to last read/write location, per process that has the file op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open count: counter of number of times a file is open – to allow removal of data from open-file table when last processes close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location of the file: cache of data access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rights: per-process access mod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n File Lock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98480" y="1250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by some operating systems and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ates access to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or advis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d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ccess is denied depending on locks held and reque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is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cesses can find status of locks and decide what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8:29:30Z</dcterms:created>
  <dc:creator/>
  <dc:description/>
  <dc:language>en-US</dc:language>
  <cp:lastModifiedBy>LOVE GOEL</cp:lastModifiedBy>
  <dcterms:modified xsi:type="dcterms:W3CDTF">2008-08-09T10:14:15Z</dcterms:modified>
  <cp:revision>0</cp:revision>
  <dc:subject/>
  <dc:title/>
</cp:coreProperties>
</file>