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98480" y="35924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552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842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700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7984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842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700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552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98480" y="35924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552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42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700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984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42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700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552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0.</a:t>
            </a:r>
            <a:fld id="{245D6AA5-D204-4DE0-8364-5960E01B662B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760" y="6613560"/>
            <a:ext cx="33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0:  File-System Interf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Locking Example – Java AP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import java.nio.channels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class LockingExample 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final boolean EXCLUSIVE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final boolean SHARED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void main(String arsg[]) throws IOException 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Lock sharedLock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Lock exclusiveLock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try 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RandomAccessFile raf = new RandomAccessFile("file.txt", "rw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get the channel for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Channel ch = raf.getChan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this locks the first half of the file - exclus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exclusiveLock = ch.lock(0, raf.length()/2, EXCLUSIV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** Now modify the data . . 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release the 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exclusiveLock.rele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Locking Example – Java API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2439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/ this locks the second half of the file -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 = ch.lock(raf.length()/2+1, raf.length(),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** Now read the data . . 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/ release the 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atch (java.io.IOException ioe) {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ystem.err.println(io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finally {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f (exclusiveLock !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exclusive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f (sharedLock !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Types – Name, Extens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15715" t="1186" r="15715" b="1186"/>
          <a:stretch/>
        </p:blipFill>
        <p:spPr>
          <a:xfrm>
            <a:off x="2209680" y="1251000"/>
            <a:ext cx="4654800" cy="4970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Metho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31680" y="1380600"/>
            <a:ext cx="658476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no read after last 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(rewr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ad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write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position to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write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relative block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quential-access Fi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698" t="33012" r="458" b="33947"/>
          <a:stretch/>
        </p:blipFill>
        <p:spPr>
          <a:xfrm>
            <a:off x="798480" y="1251000"/>
            <a:ext cx="7924680" cy="1987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4640" y="0"/>
            <a:ext cx="84693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imulation of Sequential Access on a Direct-access File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1093" t="27696" r="864" b="28277"/>
          <a:stretch/>
        </p:blipFill>
        <p:spPr>
          <a:xfrm>
            <a:off x="1295280" y="1251000"/>
            <a:ext cx="6834240" cy="2301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Index and Relative Fi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rcRect l="598" t="12044" r="812" b="12330"/>
          <a:stretch/>
        </p:blipFill>
        <p:spPr>
          <a:xfrm>
            <a:off x="1033560" y="1251000"/>
            <a:ext cx="7311960" cy="4206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ory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1040" y="1390680"/>
            <a:ext cx="6584760" cy="35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llection of nodes containing information about al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2819520" y="22860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3581280" y="22860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4343400" y="22860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5105520" y="22860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5867280" y="25909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2819520" y="4267080"/>
            <a:ext cx="457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581280" y="4267080"/>
            <a:ext cx="4572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343400" y="4267080"/>
            <a:ext cx="45720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5105520" y="426708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5867280" y="4648320"/>
            <a:ext cx="457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383868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609588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5334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3048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9"/>
          <p:cNvSpPr/>
          <p:nvPr/>
        </p:nvSpPr>
        <p:spPr>
          <a:xfrm>
            <a:off x="2538360" y="1962000"/>
            <a:ext cx="4186440" cy="1473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2362320" y="3886200"/>
            <a:ext cx="4262400" cy="1600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1297800" y="2285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1437120" y="4190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990720" y="5638680"/>
            <a:ext cx="7029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the directory structure and the files reside o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ups of these two structures are kept on 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Typical File-system Organiz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668" t="14791" r="439" b="14485"/>
          <a:stretch/>
        </p:blipFill>
        <p:spPr>
          <a:xfrm>
            <a:off x="1262160" y="1251000"/>
            <a:ext cx="6792840" cy="3643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ons Performed on Direc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a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rse the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0:  File-System Interf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8480" y="1251000"/>
            <a:ext cx="5097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M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66400" y="371520"/>
            <a:ext cx="7743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Organize the Directory (Logically) to Obtai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98480" y="1320480"/>
            <a:ext cx="64944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– locating a file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– convenient to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users can have same name for differ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file can have several different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– logical grouping of files by properties, (e.g., all Java programs, all game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ngle-Level Direc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1480" y="1482480"/>
            <a:ext cx="702936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directory for all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050840" y="4238640"/>
            <a:ext cx="71233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ing proble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rcRect l="439" t="37624" r="879" b="37934"/>
          <a:stretch/>
        </p:blipFill>
        <p:spPr>
          <a:xfrm>
            <a:off x="798480" y="2157480"/>
            <a:ext cx="8123400" cy="1509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Level Direc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8480" y="1251000"/>
            <a:ext cx="702936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irectory for each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798480" y="4575240"/>
            <a:ext cx="70023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ave the same file name for different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ear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rouping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rcRect l="443" t="29448" r="1115" b="29168"/>
          <a:stretch/>
        </p:blipFill>
        <p:spPr>
          <a:xfrm>
            <a:off x="1174680" y="1959120"/>
            <a:ext cx="6721560" cy="2119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ree-Structured Director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370160" y="1251000"/>
            <a:ext cx="7165800" cy="45543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ree-Structured Directories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ear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Capabi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irectory (working dire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d /spell/mail/p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yp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ree-Structured Directories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1080" y="1308240"/>
            <a:ext cx="658512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th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file is done in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rm &lt;file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subdirectory is done in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kdir &lt;dir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if in current directory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/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kdi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724200" y="4589640"/>
            <a:ext cx="879480" cy="33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533680" y="5232240"/>
            <a:ext cx="720720" cy="33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3254400" y="5232240"/>
            <a:ext cx="720720" cy="33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975120" y="5232240"/>
            <a:ext cx="446040" cy="33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416480" y="5232240"/>
            <a:ext cx="446040" cy="33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862520" y="5232240"/>
            <a:ext cx="706320" cy="33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3881520" y="492120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852480" y="5902200"/>
            <a:ext cx="742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ing “mail”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eting the entire subtree rooted by “ma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yclic-Graph Director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7880" y="1261800"/>
            <a:ext cx="702972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shared subdirectories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rcRect l="4264" t="591" r="4474" b="901"/>
          <a:stretch/>
        </p:blipFill>
        <p:spPr>
          <a:xfrm>
            <a:off x="1693800" y="1697040"/>
            <a:ext cx="5770800" cy="4672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yclic-Graph Directori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fferent names (aliasing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et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ngling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ointers, so we can delete all point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size records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ointers using a daisy chain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-hold-cou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irectory entry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other name (pointer) to an existin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 the 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ollow pointer to locate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eneral Graph Direc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rcRect l="620" t="10769" r="1063" b="11035"/>
          <a:stretch/>
        </p:blipFill>
        <p:spPr>
          <a:xfrm>
            <a:off x="1020600" y="1311120"/>
            <a:ext cx="7053480" cy="4206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eneral Graph Director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guarantee no cyc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nly links to file not sub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time a new link is added use a cycle det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to determine whether it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function of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interfaces to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file-system design tradeoffs, including access methods, file sharing, file locking, and direct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file-system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ystem Mount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609444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system must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it can be 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mounted file system (i.e. Fig. 11-11(b)) is mounted at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(a) Existing.  (b) Unmounted Parti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rcRect l="820" t="11901" r="1037" b="12453"/>
          <a:stretch/>
        </p:blipFill>
        <p:spPr>
          <a:xfrm>
            <a:off x="1050840" y="1409760"/>
            <a:ext cx="7209000" cy="4167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unt Poi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rcRect l="19034" t="615" r="19034" b="615"/>
          <a:stretch/>
        </p:blipFill>
        <p:spPr>
          <a:xfrm>
            <a:off x="2557440" y="1251000"/>
            <a:ext cx="4065480" cy="4862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of files on multi-user systems is desir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may be done through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istributed systems, files may be shared across a networ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File System (NFS) is a common distributed file-shar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 – Multiple Us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98120" y="1251000"/>
            <a:ext cx="655812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fy users, allowing permissions and protections to be per-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 users to be in groups, permitting group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 – Remote 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98480" y="1251000"/>
            <a:ext cx="735192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networking to allow file system access betwee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via programs like 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, seamlessly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 automatically via th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-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l allows clients to mount remote file systems from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can serve multiple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and user-on-client identification is insecure or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UNIX client-server file shari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Window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operating system file calls are translated into remot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Information System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istributed naming servi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as LDAP, DNS, NIS, Active Directory implement unified access to information needed for remot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 – Failure Mod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6734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file systems add new failure modes, due to network failure, serve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from failure can involve state information about status of each remot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less protocols such as NFS include all information in each request, allowing easy recovery but less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 – Consistency Semantic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cy seman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y how multiple users are to access a shared file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Ch 7 process synchronizat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 to be less complex due to disk I/O and network latency (for remot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File System (AFS) implemented complex remote file sharing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file system (UFS) imp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to an open file visible immediately to other users of the same ope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file pointer to allow multiple users to read and writ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S has session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only visible to sessions starting after the file is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owner/creator should be able to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who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Lists and Group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98120" y="1251000"/>
            <a:ext cx="6559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 of access:  read, write,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classes of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1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p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manager to create a group (unique name), say G, and add some users to the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particular file (sa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or subdirectory, define an appropriate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416400" y="48841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071600" y="488412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814640" y="488412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475080" y="53982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108320" y="5398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591080" y="53982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3736800" y="5065560"/>
            <a:ext cx="46224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4343400" y="51084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 flipH="1">
            <a:off x="4493880" y="5079960"/>
            <a:ext cx="60012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798480" y="5643720"/>
            <a:ext cx="7029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a group to a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chgrp     G   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Concep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logical address s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-71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indows XP Access-control List Managemen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rcRect l="21806" t="1201" r="22042" b="1831"/>
          <a:stretch/>
        </p:blipFill>
        <p:spPr>
          <a:xfrm>
            <a:off x="1339920" y="808200"/>
            <a:ext cx="6502320" cy="5729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Sample UNIX Directory List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rcRect l="724" t="27066" r="724" b="27066"/>
          <a:stretch/>
        </p:blipFill>
        <p:spPr>
          <a:xfrm>
            <a:off x="511200" y="1647720"/>
            <a:ext cx="8140680" cy="3716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 - sequence of words,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record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e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able load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mulate last two with first method by inserting appropriate control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dec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Attribut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information kept in human-readab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nique tag (number) identifies file within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eeded for systems that support differe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ointer to file location 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urrent fi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ntrols who can do reading, writing,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date, and user ident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ata for protection, security, and usag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files are kept in the directory structure, which is maintained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Oper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i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sition withi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n(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arch the directory structure on disk for ent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move the content of entry 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se (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ove the content of ent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emory to directory structure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n Fi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ieces of data are needed to manage open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pointer:  pointer to last read/write location, per process that has the file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open count: counter of number of times a file is open – to allow removal of data from open-file table when last processes clos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location of the file: cache of data acces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: per-process access mod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n File Lock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by some operating systems an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es access to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or advis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d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ccess is denied depending on locks held and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is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esses can find status of locks and decide 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8:29:30Z</dcterms:created>
  <dc:creator/>
  <dc:description/>
  <dc:language>en-US</dc:language>
  <cp:lastModifiedBy>LOVE GOEL</cp:lastModifiedBy>
  <dcterms:modified xsi:type="dcterms:W3CDTF">2008-08-09T10:14:15Z</dcterms:modified>
  <cp:revision>0</cp:revision>
  <dc:subject/>
  <dc:title/>
</cp:coreProperties>
</file>