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71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129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413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71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129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271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129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413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271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129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1.</a:t>
            </a:r>
            <a:fld id="{F45C35C7-8D6F-480D-8BBC-59543C093AA1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1:  File System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Virtual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909" t="635" r="1934" b="970"/>
          <a:stretch/>
        </p:blipFill>
        <p:spPr>
          <a:xfrm>
            <a:off x="1568520" y="1270080"/>
            <a:ext cx="6354720" cy="4878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on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65851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a set of contiguous blocks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ful of space (dynamic storage-allocation probl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not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82720" y="5398920"/>
            <a:ext cx="7029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1279440"/>
            <a:ext cx="656604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655720" y="258516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768840" y="21279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25720" y="31442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3760920" y="2300400"/>
            <a:ext cx="25848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711600" y="2954160"/>
            <a:ext cx="2728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82720" y="5398920"/>
            <a:ext cx="7029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887400" y="3740040"/>
            <a:ext cx="70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to be accessed = ! + start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into block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 of Disk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13197" t="581" r="12968" b="886"/>
          <a:stretch/>
        </p:blipFill>
        <p:spPr>
          <a:xfrm>
            <a:off x="2225520" y="1279440"/>
            <a:ext cx="5177160" cy="5181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tent-Based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er file systems (I.e. Veritas File System) use a modified contiguous alloc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-based file systems allocate disk block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ntiguous block of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s are allocated for fil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consists of one or more ex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735192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is a linked list of disk blocks: blocks may be scattered anywhere on th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678400" y="2502000"/>
            <a:ext cx="2760480" cy="1500120"/>
            <a:chOff x="2678400" y="2502000"/>
            <a:chExt cx="2760480" cy="1500120"/>
          </a:xfrm>
        </p:grpSpPr>
        <p:sp>
          <p:nvSpPr>
            <p:cNvPr id="141" name="Rectangle 5"/>
            <p:cNvSpPr/>
            <p:nvPr/>
          </p:nvSpPr>
          <p:spPr>
            <a:xfrm>
              <a:off x="3938760" y="2502000"/>
              <a:ext cx="15001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938760" y="2933640"/>
              <a:ext cx="1500120" cy="106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2678400" y="25344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    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58512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need only starting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system – no waste of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1320" y="4348080"/>
            <a:ext cx="7029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is the Qth block in the linked chain of blocks representing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llocation table (FAT) – disk-space allocation used by MS-DOS and O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29560" y="3209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244760" y="2893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245120" y="3509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V="1">
            <a:off x="4049640" y="313488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4057560" y="3446640"/>
            <a:ext cx="25884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4515" t="640" r="14515" b="975"/>
          <a:stretch/>
        </p:blipFill>
        <p:spPr>
          <a:xfrm>
            <a:off x="2098800" y="1279440"/>
            <a:ext cx="4992480" cy="5192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pter 11: File System Implement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Structur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AF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328" t="586" r="7328" b="896"/>
          <a:stretch/>
        </p:blipFill>
        <p:spPr>
          <a:xfrm>
            <a:off x="1898640" y="1320840"/>
            <a:ext cx="5746680" cy="4975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735192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s all pointers together i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4880" y="233856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4880" y="266400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044880" y="298944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044880" y="331488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044880" y="3639960"/>
            <a:ext cx="6062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603680" y="235260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03680" y="272088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603680" y="308916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603680" y="345744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603680" y="382572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3679920" y="244008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3645000" y="277956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3652920" y="319104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3618000" y="354492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3639960" y="3898800"/>
            <a:ext cx="92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182760" y="4074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7760" t="684" r="8003" b="1363"/>
          <a:stretch/>
        </p:blipFill>
        <p:spPr>
          <a:xfrm>
            <a:off x="1827360" y="1282680"/>
            <a:ext cx="5911560" cy="5154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658512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ccess without external fragmentation, but have overhead of 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maximum size of 256K words and block size of 512 words.  We need only 1 block for index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89800" y="3917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005000" y="3601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005360" y="421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 flipV="1">
            <a:off x="3809880" y="384300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3817800" y="415440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457280" y="4960800"/>
            <a:ext cx="70293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displacement into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displacement in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5851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unbounded length (block size of 512 wor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scheme – Link blocks of index table (no limit on siz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228120" y="30189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/ (512 x 5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187240" y="2750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186160" y="32626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4791240" y="295704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782960" y="319896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99216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672720" y="4367880"/>
            <a:ext cx="9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/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891680" y="4101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890960" y="4613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V="1">
            <a:off x="4495680" y="430848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4487760" y="454968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99216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5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index (maximum file size is 5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99760" y="235548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/ (512 x 5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258520" y="20865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257440" y="25992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V="1">
            <a:off x="4862520" y="2293920"/>
            <a:ext cx="4190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854600" y="253512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84132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outer-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672720" y="4367880"/>
            <a:ext cx="9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/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891680" y="4101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890960" y="4613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 flipV="1">
            <a:off x="4495680" y="430848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4487760" y="454968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84132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357800" y="1400040"/>
            <a:ext cx="167472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646520" y="17035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48320" y="19810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649760" y="22096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46520" y="28465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648320" y="31240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648320" y="4038480"/>
            <a:ext cx="10666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858000" y="1219320"/>
            <a:ext cx="106668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039080" y="14479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039080" y="23623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7039080" y="32767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2665440" y="1932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2666880" y="216216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2666880" y="2438280"/>
            <a:ext cx="1096920" cy="175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666880" y="4191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1028880" y="1905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133720" y="20289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 flipV="1">
            <a:off x="3757680" y="1828440"/>
            <a:ext cx="890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757680" y="2281320"/>
            <a:ext cx="88560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3767040" y="4300560"/>
            <a:ext cx="885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3066120" y="30092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4"/>
          <p:cNvSpPr/>
          <p:nvPr/>
        </p:nvSpPr>
        <p:spPr>
          <a:xfrm flipH="1" flipV="1">
            <a:off x="5734080" y="2985840"/>
            <a:ext cx="1309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 flipH="1" flipV="1">
            <a:off x="5738760" y="2057040"/>
            <a:ext cx="12952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6"/>
          <p:cNvSpPr/>
          <p:nvPr/>
        </p:nvSpPr>
        <p:spPr>
          <a:xfrm flipH="1">
            <a:off x="5729400" y="1685880"/>
            <a:ext cx="13096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585880" y="45284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-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532400" y="53445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241040" y="5323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mbined Scheme:  UNIX (4K bytes per block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485" t="950" r="4707" b="950"/>
          <a:stretch/>
        </p:blipFill>
        <p:spPr>
          <a:xfrm>
            <a:off x="1566720" y="1290600"/>
            <a:ext cx="6278760" cy="508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2480" y="1285920"/>
            <a:ext cx="73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vector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87172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040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5290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5776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1860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51476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876920" y="2085840"/>
            <a:ext cx="12189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60958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89764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20220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65940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996520" y="167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648880" y="29394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 rot="16200000">
            <a:off x="3245040" y="294156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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758040" y="2740320"/>
            <a:ext cx="2367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990720" y="3886200"/>
            <a:ext cx="7029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umber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670120" y="4419360"/>
            <a:ext cx="304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bits per word)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of first 1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 requires extra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(1 giga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r 32K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get contiguous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(fre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get contiguous spac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details of implementing local file systems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mplementation of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block allocation and free-block algorithms and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6549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prot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to fre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kept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n memory and disk 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allow for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to have a situation where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memory and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0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list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Table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Free Space List on Dis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18443" t="650" r="18672" b="1299"/>
          <a:stretch/>
        </p:blipFill>
        <p:spPr>
          <a:xfrm>
            <a:off x="2678040" y="1279440"/>
            <a:ext cx="4386240" cy="5130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fficiency and 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dependent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file’s directory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che – separate section of main memory for frequently us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behind and read-ahead – techniques to optimize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C performance by dedicating section of memory as virtual disk, or RAM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s pages rather than disk blocks using virtual memory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I/O uses a pag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/O through the file system uses the buffer (disk)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following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Without a 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905" t="630" r="11905" b="960"/>
          <a:stretch/>
        </p:blipFill>
        <p:spPr>
          <a:xfrm>
            <a:off x="1763640" y="1270080"/>
            <a:ext cx="5386320" cy="5218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ified buffer cache uses the same page cache to cache both memory-mapped pages and ordinary file syste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Using a 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244" t="4115" r="539" b="4115"/>
          <a:stretch/>
        </p:blipFill>
        <p:spPr>
          <a:xfrm>
            <a:off x="1522440" y="1322280"/>
            <a:ext cx="6743520" cy="467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checking – compares data in directory structure with data blocks on disk, and tries to fix inconsistenc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from disk to another storage device (floppy disk, 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journaling) file systems record each update to the file system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ce it is written to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file system may not yet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is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un Network File System (NFS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and a specification of a software system for accessing remote files across LANs (or WAN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is part of the Solaris and SunOS operating systems running on Sun workstations using an unreliable datagram protocol (UDP/IP protocol and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ed workstations viewed as a set of independent machines with independent file systems, which allows sharing among these file systems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directory is mounted over a local file system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ed directory looks like an integral  subtree of the local file system, replacing the subtree descending from the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the remote directory for the mount operation is nontransparent; the host name of the remote directory has to b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n the remote directory can then be accessed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access-rights accreditation, potentially any file system (or directory within a file system), can be mounted remotely on top of any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is designed to operate in a heterogeneous environment of different machines, operating systems, and network architectures; the NFS specifications independent of thes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dependence is achieved through the use of RPC primitives built on top of an External Data Representation (XDR) protocol used between two implementation-independent inter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specification distinguishes between the services provided by a mount mechanism and the actual remote-file-access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 Independent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768" t="16484" r="794" b="16848"/>
          <a:stretch/>
        </p:blipFill>
        <p:spPr>
          <a:xfrm>
            <a:off x="841320" y="1279440"/>
            <a:ext cx="8048520" cy="4087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unting in NF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135240" y="5563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206680" y="558864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rcRect l="1395" t="733" r="1945" b="733"/>
          <a:stretch/>
        </p:blipFill>
        <p:spPr>
          <a:xfrm>
            <a:off x="2166840" y="1257480"/>
            <a:ext cx="5540400" cy="423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Mount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40960" y="1279080"/>
            <a:ext cx="77662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logical connection between server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operation includes name of remote directory to be mounted and name of server machine stor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request is mapped to corresponding RPC and forwarded to mount server running on server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list – specifies local file systems that server exports for mounting, along with names of machines that are permitted to mount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 mount request that conforms to its export list, the server returns a file handle—a key for further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handle – a file-system identifier, and an inode number to identify the mounted directory within the expor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 operation changes only the user’s view and does not affect the serv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set of remote procedure calls for remote file operations.  The procedures support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ing for a file within a direc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 set of directory e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inks and dir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fil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er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ach request has to provide a full set of arg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FS V4 is just coming available – very different, statef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data must be committed to the server’s disk before results are returned to the client (lose advantages of c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protocol does not provide concurrency-contro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34720" y="146160"/>
            <a:ext cx="7219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hree Major Layers of NFS Architecture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-system interface (based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, read,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Fil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FS) layer – distinguishes local files from remote ones, and local files are further distinguished according to their file-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FS activates file-system-specific operations to handle local requests according to their file-system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he NFS protocol procedures for remote requ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ice layer – bottom layer of th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NF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NFS Archite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rcRect l="480" t="5207" r="1152" b="5527"/>
          <a:stretch/>
        </p:blipFill>
        <p:spPr>
          <a:xfrm>
            <a:off x="841320" y="1279440"/>
            <a:ext cx="7431120" cy="5058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Path-Name Trans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by breaking the path into component names and performing a separate NFS lookup call for every pair of component name and directory vn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ookup faster, a directory name lookup cache on the client’s side holds the vnodes for remote director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31673" t="1004" r="31880" b="1004"/>
          <a:stretch/>
        </p:blipFill>
        <p:spPr>
          <a:xfrm>
            <a:off x="3314880" y="1279440"/>
            <a:ext cx="2531880" cy="5103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Remot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one-to-one correspondence between regular UNIX  system calls and the NFS protocol RPCs (except opening and closin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adheres to the remote-service paradigm, but employs buffering and caching techniques for the sake of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blocks cache – when a file is opened, the kernel checks with the remote server whether to fetch or revalidate the cach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file blocks are used only if the corresponding cached attributes are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ttribute cache – the attribute cache is updated whenever new attributes arrive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do not free delayed-write blocks until the server confirms that the data have been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WAFL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Network Appliance “Filers” – distributed file system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anywhere file lay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s up NFS, CIFS, http,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I/O optimized, writ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RAM for writ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Berkeley Fast File System, with extensive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WAFL File Layou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rcRect l="517" t="27091" r="543" b="27775"/>
          <a:stretch/>
        </p:blipFill>
        <p:spPr>
          <a:xfrm>
            <a:off x="841320" y="1279440"/>
            <a:ext cx="7966080" cy="272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285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napshots in WAF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rcRect l="26472" t="581" r="26930" b="886"/>
          <a:stretch/>
        </p:blipFill>
        <p:spPr>
          <a:xfrm>
            <a:off x="2838600" y="1279440"/>
            <a:ext cx="3354120" cy="5318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1.02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rcRect l="705" t="7462" r="705" b="7787"/>
          <a:stretch/>
        </p:blipFill>
        <p:spPr>
          <a:xfrm>
            <a:off x="1233360" y="1415880"/>
            <a:ext cx="6431040" cy="4146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File Control Bloc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705" t="7462" r="705" b="7787"/>
          <a:stretch/>
        </p:blipFill>
        <p:spPr>
          <a:xfrm>
            <a:off x="1233360" y="1415880"/>
            <a:ext cx="6431040" cy="4146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the necessary file system structures provided by the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a) refers to opening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b) refers to reading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4422" t="1373" r="3906" b="689"/>
          <a:stretch/>
        </p:blipFill>
        <p:spPr>
          <a:xfrm>
            <a:off x="1523880" y="1271520"/>
            <a:ext cx="6386760" cy="5114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File Systems (VFS) provide an object-oriented way of implementing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allows the same system call interface (the API) to be used for different types of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I is to the VFS interface, rather than any specific type of fil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/>
  <dc:description/>
  <dc:language>en-US</dc:language>
  <cp:lastModifiedBy>LOVE GOEL</cp:lastModifiedBy>
  <dcterms:modified xsi:type="dcterms:W3CDTF">2008-08-09T10:14:15Z</dcterms:modified>
  <cp:revision>0</cp:revision>
  <dc:subject/>
  <dc:title/>
</cp:coreProperties>
</file>