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41320" y="362088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41320" y="36208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08360" y="36208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27120" y="12790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12920" y="12790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41320" y="36208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27120" y="36208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12920" y="36208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1320" y="36208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08360" y="36208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41320" y="362088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41320" y="362088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41320" y="36208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08360" y="36208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27120" y="12790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812920" y="12790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41320" y="36208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27120" y="36208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812920" y="362088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41320" y="36208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08360" y="36208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08360" y="127908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1320" y="362088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1.</a:t>
            </a:r>
            <a:fld id="{24B7AEDF-3CD7-405D-83E3-958594E6976F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5760" y="6613560"/>
            <a:ext cx="33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Jan 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1:  File System Imple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matic View of Virtual File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1909" t="635" r="1934" b="970"/>
          <a:stretch/>
        </p:blipFill>
        <p:spPr>
          <a:xfrm>
            <a:off x="1568520" y="1270080"/>
            <a:ext cx="6354720" cy="4878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rectory Imple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ile names with pointer to the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consuming to execu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h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linear list with hash data struc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directory sear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i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ituations where two file names hash to the sam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llocation Metho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location method refers to how disk blocks are allocated for fi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guous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iguous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6585120" cy="40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occupies a set of contiguous blocks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– only starting location (block #) and length (number of blocks) are requi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c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teful of space (dynamic storage-allocation proble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cannot g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882720" y="5398920"/>
            <a:ext cx="7029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iguous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1279440"/>
            <a:ext cx="656604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from logical to 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655720" y="2585160"/>
            <a:ext cx="126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/5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768840" y="2127960"/>
            <a:ext cx="8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825720" y="3144240"/>
            <a:ext cx="63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7"/>
          <p:cNvSpPr/>
          <p:nvPr/>
        </p:nvSpPr>
        <p:spPr>
          <a:xfrm flipV="1">
            <a:off x="3760920" y="2300400"/>
            <a:ext cx="25848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3711600" y="2954160"/>
            <a:ext cx="2728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882720" y="5398920"/>
            <a:ext cx="7029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887400" y="3740040"/>
            <a:ext cx="702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to be accessed = ! + starting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cement into block =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iguous Allocation of Disk Sp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rcRect l="13197" t="581" r="12968" b="886"/>
          <a:stretch/>
        </p:blipFill>
        <p:spPr>
          <a:xfrm>
            <a:off x="2225520" y="1279440"/>
            <a:ext cx="5177160" cy="5181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tent-Based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ewer file systems (I.e. Veritas File System) use a modified contiguous allocation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t-based file systems allocate disk blocks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contiguous block of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ts are allocated for fil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consists of one or more ex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ked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41320" y="1279440"/>
            <a:ext cx="7351920" cy="7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is a linked list of disk blocks: blocks may be scattered anywhere on the di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2678400" y="2502000"/>
            <a:ext cx="2760480" cy="1500120"/>
            <a:chOff x="2678400" y="2502000"/>
            <a:chExt cx="2760480" cy="1500120"/>
          </a:xfrm>
        </p:grpSpPr>
        <p:sp>
          <p:nvSpPr>
            <p:cNvPr id="141" name="Rectangle 5"/>
            <p:cNvSpPr/>
            <p:nvPr/>
          </p:nvSpPr>
          <p:spPr>
            <a:xfrm>
              <a:off x="3938760" y="2502000"/>
              <a:ext cx="1500120" cy="431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6"/>
            <p:cNvSpPr/>
            <p:nvPr/>
          </p:nvSpPr>
          <p:spPr>
            <a:xfrm>
              <a:off x="3938760" y="2933640"/>
              <a:ext cx="1500120" cy="1068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7"/>
            <p:cNvSpPr/>
            <p:nvPr/>
          </p:nvSpPr>
          <p:spPr>
            <a:xfrm>
              <a:off x="2678400" y="25344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lock     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ked Alloc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41320" y="1279440"/>
            <a:ext cx="6585120" cy="15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– need only starting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-space management system – no waste of 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andom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841320" y="4348080"/>
            <a:ext cx="702936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to be accessed is the Qth block in the linked chain of blocks representing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cement into block = R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allocation table (FAT) – disk-space allocation used by MS-DOS and OS/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3229560" y="32090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/5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244760" y="28933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245120" y="3509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V="1">
            <a:off x="4049640" y="3134880"/>
            <a:ext cx="25884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>
            <a:off x="4057560" y="3446640"/>
            <a:ext cx="25884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ked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rcRect l="14515" t="640" r="14515" b="975"/>
          <a:stretch/>
        </p:blipFill>
        <p:spPr>
          <a:xfrm>
            <a:off x="2098800" y="1279440"/>
            <a:ext cx="4992480" cy="5192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hapter 11: File System Implement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Imple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-Space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-Structured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WAFL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974880" y="1531800"/>
            <a:ext cx="702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-Allocation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328" t="586" r="7328" b="896"/>
          <a:stretch/>
        </p:blipFill>
        <p:spPr>
          <a:xfrm>
            <a:off x="1898640" y="1320840"/>
            <a:ext cx="5746680" cy="4975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exed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1320" y="1279440"/>
            <a:ext cx="735192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s all pointers together in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dex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vie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044880" y="2338560"/>
            <a:ext cx="606240" cy="33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4880" y="2664000"/>
            <a:ext cx="606240" cy="33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044880" y="2989440"/>
            <a:ext cx="606240" cy="33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044880" y="3314880"/>
            <a:ext cx="606240" cy="331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3044880" y="3639960"/>
            <a:ext cx="606240" cy="331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4603680" y="2352600"/>
            <a:ext cx="201600" cy="17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"/>
          <p:cNvSpPr/>
          <p:nvPr/>
        </p:nvSpPr>
        <p:spPr>
          <a:xfrm>
            <a:off x="4603680" y="2720880"/>
            <a:ext cx="201600" cy="17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4603680" y="3089160"/>
            <a:ext cx="201600" cy="17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4603680" y="3457440"/>
            <a:ext cx="201600" cy="17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4603680" y="3825720"/>
            <a:ext cx="201600" cy="173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4"/>
          <p:cNvSpPr/>
          <p:nvPr/>
        </p:nvSpPr>
        <p:spPr>
          <a:xfrm>
            <a:off x="3679920" y="2440080"/>
            <a:ext cx="92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3645000" y="2779560"/>
            <a:ext cx="92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6"/>
          <p:cNvSpPr/>
          <p:nvPr/>
        </p:nvSpPr>
        <p:spPr>
          <a:xfrm>
            <a:off x="3652920" y="3191040"/>
            <a:ext cx="92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7"/>
          <p:cNvSpPr/>
          <p:nvPr/>
        </p:nvSpPr>
        <p:spPr>
          <a:xfrm>
            <a:off x="3618000" y="3544920"/>
            <a:ext cx="923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8"/>
          <p:cNvSpPr/>
          <p:nvPr/>
        </p:nvSpPr>
        <p:spPr>
          <a:xfrm>
            <a:off x="3639960" y="3898800"/>
            <a:ext cx="92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3182760" y="407448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Indexed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rcRect l="7760" t="684" r="8003" b="1363"/>
          <a:stretch/>
        </p:blipFill>
        <p:spPr>
          <a:xfrm>
            <a:off x="1827360" y="1282680"/>
            <a:ext cx="5911560" cy="5154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exed Alloc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6585120" cy="22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access without external fragmentation, but have overhead of index blo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from logical to physical in a file of maximum size of 256K words and block size of 512 words.  We need only 1 block for index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989800" y="39171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/5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4005000" y="3601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005360" y="4217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 flipV="1">
            <a:off x="3809880" y="3843000"/>
            <a:ext cx="25884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>
            <a:off x="3817800" y="4154400"/>
            <a:ext cx="258840" cy="1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457280" y="4960800"/>
            <a:ext cx="70293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displacement into 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 displacement into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exed Allocation – Mapping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41320" y="1279440"/>
            <a:ext cx="658512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ping from logical to physical in a file of unbounded length (block size of 512 word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scheme – Link blocks of index table (no limit on siz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3228120" y="3018960"/>
            <a:ext cx="16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/ (512 x 5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5187240" y="275004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5186160" y="326268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7"/>
          <p:cNvSpPr/>
          <p:nvPr/>
        </p:nvSpPr>
        <p:spPr>
          <a:xfrm flipV="1">
            <a:off x="4791240" y="2957040"/>
            <a:ext cx="41904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>
            <a:off x="4782960" y="3198960"/>
            <a:ext cx="41940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992160" y="3581280"/>
            <a:ext cx="70293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lock of 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sed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3672720" y="4367880"/>
            <a:ext cx="90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/ 5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4891680" y="4101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4890960" y="4613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 flipV="1">
            <a:off x="4495680" y="4308480"/>
            <a:ext cx="41940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>
            <a:off x="4487760" y="4549680"/>
            <a:ext cx="41904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"/>
          <p:cNvSpPr/>
          <p:nvPr/>
        </p:nvSpPr>
        <p:spPr>
          <a:xfrm>
            <a:off x="992160" y="5075280"/>
            <a:ext cx="7029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isplacement into block of 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placement into block of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exed Allocation – Mapping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5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level index (maximum file size is 51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3299760" y="2355480"/>
            <a:ext cx="16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/ (512 x 51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5258520" y="208656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5257440" y="259920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 flipV="1">
            <a:off x="4862520" y="2293920"/>
            <a:ext cx="4190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854600" y="2535120"/>
            <a:ext cx="41904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841320" y="3581280"/>
            <a:ext cx="702936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isplacement into outer-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"/>
          <p:cNvSpPr/>
          <p:nvPr/>
        </p:nvSpPr>
        <p:spPr>
          <a:xfrm>
            <a:off x="3672720" y="4367880"/>
            <a:ext cx="900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/ 5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4891680" y="4101120"/>
            <a:ext cx="403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4890960" y="4613760"/>
            <a:ext cx="392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 flipV="1">
            <a:off x="4495680" y="4308480"/>
            <a:ext cx="41940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4487760" y="4549680"/>
            <a:ext cx="419040" cy="20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5"/>
          <p:cNvSpPr/>
          <p:nvPr/>
        </p:nvSpPr>
        <p:spPr>
          <a:xfrm>
            <a:off x="841320" y="5075280"/>
            <a:ext cx="70293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displacement into block of 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placement into block of fi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exed Allocation – Mapping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357800" y="1400040"/>
            <a:ext cx="1674720" cy="38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646520" y="170352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4648320" y="198108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4649760" y="220968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4646520" y="284652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4648320" y="312408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648320" y="4038480"/>
            <a:ext cx="10666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6858000" y="1219320"/>
            <a:ext cx="1066680" cy="4038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7039080" y="1447920"/>
            <a:ext cx="7333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7039080" y="2362320"/>
            <a:ext cx="7333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7039080" y="3276720"/>
            <a:ext cx="73332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2665440" y="193212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2666880" y="216216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2666880" y="2438280"/>
            <a:ext cx="1096920" cy="175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7"/>
          <p:cNvSpPr/>
          <p:nvPr/>
        </p:nvSpPr>
        <p:spPr>
          <a:xfrm>
            <a:off x="2666880" y="419112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1028880" y="1905120"/>
            <a:ext cx="1096920" cy="274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9"/>
          <p:cNvSpPr/>
          <p:nvPr/>
        </p:nvSpPr>
        <p:spPr>
          <a:xfrm>
            <a:off x="2133720" y="20289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0"/>
          <p:cNvSpPr/>
          <p:nvPr/>
        </p:nvSpPr>
        <p:spPr>
          <a:xfrm flipV="1">
            <a:off x="3757680" y="1828440"/>
            <a:ext cx="890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757680" y="2281320"/>
            <a:ext cx="88560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2"/>
          <p:cNvSpPr/>
          <p:nvPr/>
        </p:nvSpPr>
        <p:spPr>
          <a:xfrm>
            <a:off x="3767040" y="4300560"/>
            <a:ext cx="88596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23"/>
          <p:cNvSpPr/>
          <p:nvPr/>
        </p:nvSpPr>
        <p:spPr>
          <a:xfrm>
            <a:off x="3066120" y="3009240"/>
            <a:ext cx="3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4"/>
          <p:cNvSpPr/>
          <p:nvPr/>
        </p:nvSpPr>
        <p:spPr>
          <a:xfrm flipH="1" flipV="1">
            <a:off x="5734080" y="2985840"/>
            <a:ext cx="13096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5"/>
          <p:cNvSpPr/>
          <p:nvPr/>
        </p:nvSpPr>
        <p:spPr>
          <a:xfrm flipH="1" flipV="1">
            <a:off x="5738760" y="2057040"/>
            <a:ext cx="1295280" cy="6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6"/>
          <p:cNvSpPr/>
          <p:nvPr/>
        </p:nvSpPr>
        <p:spPr>
          <a:xfrm flipH="1">
            <a:off x="5729400" y="1685880"/>
            <a:ext cx="130968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2585880" y="45284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-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8"/>
          <p:cNvSpPr/>
          <p:nvPr/>
        </p:nvSpPr>
        <p:spPr>
          <a:xfrm>
            <a:off x="4532400" y="534456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9"/>
          <p:cNvSpPr/>
          <p:nvPr/>
        </p:nvSpPr>
        <p:spPr>
          <a:xfrm>
            <a:off x="7241040" y="53236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0304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ombined Scheme:  UNIX (4K bytes per block)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rcRect l="4485" t="950" r="4707" b="950"/>
          <a:stretch/>
        </p:blipFill>
        <p:spPr>
          <a:xfrm>
            <a:off x="1566720" y="1290600"/>
            <a:ext cx="6278760" cy="5087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ree-Space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52480" y="1285920"/>
            <a:ext cx="73296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vector  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2871720" y="2085840"/>
            <a:ext cx="36036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3200400" y="2085840"/>
            <a:ext cx="36036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3529080" y="2085840"/>
            <a:ext cx="36036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3857760" y="2085840"/>
            <a:ext cx="36036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4186080" y="2085840"/>
            <a:ext cx="36036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4514760" y="2085840"/>
            <a:ext cx="36036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4876920" y="2085840"/>
            <a:ext cx="121896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6095880" y="2085840"/>
            <a:ext cx="360360" cy="362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2897640" y="167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202200" y="167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3659400" y="167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5996520" y="16758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2648880" y="2939400"/>
            <a:ext cx="79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7"/>
          <p:cNvSpPr/>
          <p:nvPr/>
        </p:nvSpPr>
        <p:spPr>
          <a:xfrm rot="16200000">
            <a:off x="3245040" y="2941560"/>
            <a:ext cx="4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T Extra"/>
                <a:ea typeface="MT Extra"/>
              </a:rPr>
              <a:t>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8"/>
          <p:cNvSpPr/>
          <p:nvPr/>
        </p:nvSpPr>
        <p:spPr>
          <a:xfrm>
            <a:off x="3758040" y="2740320"/>
            <a:ext cx="2367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occu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990720" y="3886200"/>
            <a:ext cx="7029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number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0"/>
          <p:cNvSpPr/>
          <p:nvPr/>
        </p:nvSpPr>
        <p:spPr>
          <a:xfrm>
            <a:off x="2670120" y="4419360"/>
            <a:ext cx="304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umber of bits per word)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umber of 0-value words)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of first 1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ree-Space Management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map requires extra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size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size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tes (1 gigaby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(or 32K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get contiguous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ed list (free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get contiguous space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waste of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312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details of implementing local file systems and directory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implementation of remote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block allocation and free-block algorithms and trade-of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ree-Space Management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41320" y="1279440"/>
            <a:ext cx="66549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ed to prote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 to fre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kept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 in memory and disk may di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allow for block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to have a situation where bit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1 in memory and bit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0 o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it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1 in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 block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bit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= 1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rectory Imple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list of file names with pointer to the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consuming to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 Table – linear list with hash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directory sear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is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ituations where two file names hash to the sam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ked Free Space List on Disk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68" name="Picture 4" descr=""/>
          <p:cNvPicPr/>
          <p:nvPr/>
        </p:nvPicPr>
        <p:blipFill>
          <a:blip r:embed="rId1"/>
          <a:srcRect l="18443" t="650" r="18672" b="1299"/>
          <a:stretch/>
        </p:blipFill>
        <p:spPr>
          <a:xfrm>
            <a:off x="2678040" y="1279440"/>
            <a:ext cx="4386240" cy="5130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fficiency and Performan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iciency dependent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allocation and directory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data kept in file’s directory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cache – separate section of main memory for frequently used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-behind and read-ahead – techniques to optimize sequential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PC performance by dedicating section of memory as virtual disk, or RAM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e Cach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c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ches pages rather than disk blocks using virtual memory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I/O uses a page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e I/O through the file system uses the buffer (disk)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eads to the following fig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/O Without a Unified Buffer Cach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rcRect l="11905" t="630" r="11905" b="960"/>
          <a:stretch/>
        </p:blipFill>
        <p:spPr>
          <a:xfrm>
            <a:off x="1763640" y="1270080"/>
            <a:ext cx="5386320" cy="5218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nified Buffer Cach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nified buffer cache uses the same page cache to cache both memory-mapped pages and ordinary file system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/O Using a Unified Buffer Cach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rcRect l="244" t="4115" r="539" b="4115"/>
          <a:stretch/>
        </p:blipFill>
        <p:spPr>
          <a:xfrm>
            <a:off x="1522440" y="1322280"/>
            <a:ext cx="6743520" cy="4678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cove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ency checking – compares data in directory structure with data blocks on disk, and tries to fix inconsistenc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ystem programs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from disk to another storage device (floppy disk, magnetic tape, other magnetic disk, optical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 lost file or disk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o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ta from bac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og Structured Fil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 structu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r journaling) file systems record each update to the file system 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ransactions are written to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action is consider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it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ce it is written to the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the file system may not yet be upd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ransactions in the log are asynchronously written to the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file system is modified, the transaction is removed from the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ile system crashes, all remaining transactions in the log must still be 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-System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storag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 of related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 resides on secondary storage (di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 organized into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control 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torage structure consisting of information about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Sun Network File System (NFS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mplementation and a specification of a software system for accessing remote files across LANs (or WAN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mplementation is part of the Solaris and SunOS operating systems running on Sun workstations using an unreliable datagram protocol (UDP/IP protocol and Eth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F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connected workstations viewed as a set of independent machines with independent file systems, which allows sharing among these file systems in a transparent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mote directory is mounted over a local file system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unted directory looks like an integral  subtree of the local file system, replacing the subtree descending from the local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of the remote directory for the mount operation is nontransparent; the host name of the remote directory has to be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in the remote directory can then be accessed in a transparent m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ject to access-rights accreditation, potentially any file system (or directory within a file system), can be mounted remotely on top of any local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F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 is designed to operate in a heterogeneous environment of different machines, operating systems, and network architectures; the NFS specifications independent of these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dependence is achieved through the use of RPC primitives built on top of an External Data Representation (XDR) protocol used between two implementation-independent interfa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FS specification distinguishes between the services provided by a mount mechanism and the actual remote-file-access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e Independent Fil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rcRect l="768" t="16484" r="794" b="16848"/>
          <a:stretch/>
        </p:blipFill>
        <p:spPr>
          <a:xfrm>
            <a:off x="841320" y="1279440"/>
            <a:ext cx="8048520" cy="4087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unting in NF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3135240" y="55634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"/>
          <p:cNvSpPr/>
          <p:nvPr/>
        </p:nvSpPr>
        <p:spPr>
          <a:xfrm>
            <a:off x="5206680" y="558864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ing 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6" descr=""/>
          <p:cNvPicPr/>
          <p:nvPr/>
        </p:nvPicPr>
        <p:blipFill>
          <a:blip r:embed="rId1"/>
          <a:srcRect l="1395" t="733" r="1945" b="733"/>
          <a:stretch/>
        </p:blipFill>
        <p:spPr>
          <a:xfrm>
            <a:off x="2166840" y="1257480"/>
            <a:ext cx="5540400" cy="4235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FS Mount Protoc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40960" y="1279080"/>
            <a:ext cx="776628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logical connection between server and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operation includes name of remote directory to be mounted and name of server machine stor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 request is mapped to corresponding RPC and forwarded to mount server running on server mach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ort list – specifies local file systems that server exports for mounting, along with names of machines that are permitted to mount th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lowing a mount request that conforms to its export list, the server returns a file handle—a key for further a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handle – a file-system identifier, and an inode number to identify the mounted directory within the exported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unt operation changes only the user’s view and does not affect the server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FS Protoc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a set of remote procedure calls for remote file operations.  The procedures support the following ope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ing for a file within a direc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a set of directory ent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ipulating links and director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ng file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and writing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 servers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l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ach request has to provide a full set of argu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FS V4 is just coming available – very different, statefu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 data must be committed to the server’s disk before results are returned to the client (lose advantages of cac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FS protocol does not provide concurrency-control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34720" y="146160"/>
            <a:ext cx="7219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hree Major Layers of NFS Architecture 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file-system interface (based 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, read, 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s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descripto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al File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VFS) layer – distinguishes local files from remote ones, and local files are further distinguished according to their file-system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FS activates file-system-specific operations to handle local requests according to their file-system typ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he NFS protocol procedures for remote reques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 service layer – bottom layer of the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the NF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matic View of NFS Architecture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rcRect l="480" t="5207" r="1152" b="5527"/>
          <a:stretch/>
        </p:blipFill>
        <p:spPr>
          <a:xfrm>
            <a:off x="841320" y="1279440"/>
            <a:ext cx="7431120" cy="5058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FS Path-Name Transl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ed by breaking the path into component names and performing a separate NFS lookup call for every pair of component name and directory vn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lookup faster, a directory name lookup cache on the client’s side holds the vnodes for remote directory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ayered File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31673" t="1004" r="31880" b="1004"/>
          <a:stretch/>
        </p:blipFill>
        <p:spPr>
          <a:xfrm>
            <a:off x="3314880" y="1279440"/>
            <a:ext cx="2531880" cy="5103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FS Remote Oper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ly one-to-one correspondence between regular UNIX  system calls and the NFS protocol RPCs (except opening and closing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S adheres to the remote-service paradigm, but employs buffering and caching techniques for the sake of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blocks cache – when a file is opened, the kernel checks with the remote server whether to fetch or revalidate the cached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file blocks are used only if the corresponding cached attributes are up to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attribute cache – the attribute cache is updated whenever new attributes arrive from th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 do not free delayed-write blocks until the server confirms that the data have been written to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: WAFL File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on Network Appliance “Filers” – distributed file system appli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-anywhere file layout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s up NFS, CIFS, http, f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I/O optimized, writ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VRAM for write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Berkeley Fast File System, with extensive mod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WAFL File Layou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rcRect l="517" t="27091" r="543" b="27775"/>
          <a:stretch/>
        </p:blipFill>
        <p:spPr>
          <a:xfrm>
            <a:off x="841320" y="1279440"/>
            <a:ext cx="7966080" cy="2725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2852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napshots in WAF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rcRect l="26472" t="581" r="26930" b="886"/>
          <a:stretch/>
        </p:blipFill>
        <p:spPr>
          <a:xfrm>
            <a:off x="2838600" y="1279440"/>
            <a:ext cx="3354120" cy="5318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11.02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rcRect l="705" t="7462" r="705" b="7787"/>
          <a:stretch/>
        </p:blipFill>
        <p:spPr>
          <a:xfrm>
            <a:off x="1233360" y="1415880"/>
            <a:ext cx="6431040" cy="4146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 Typical File Control Block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705" t="7462" r="705" b="7787"/>
          <a:stretch/>
        </p:blipFill>
        <p:spPr>
          <a:xfrm>
            <a:off x="1233360" y="1415880"/>
            <a:ext cx="6431040" cy="4146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-Memory File System Structur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figure illustrates the necessary file system structures provided by the operating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2-3(a) refers to opening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12-3(b) refers to reading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-Memory File System Structur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4422" t="1373" r="3906" b="689"/>
          <a:stretch/>
        </p:blipFill>
        <p:spPr>
          <a:xfrm>
            <a:off x="1523880" y="1271520"/>
            <a:ext cx="6386760" cy="5114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2676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Fil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41320" y="127908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File Systems (VFS) provide an object-oriented way of implementing file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FS allows the same system call interface (the API) to be used for different types of file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PI is to the VFS interface, rather than any specific type of fil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8:29:30Z</dcterms:created>
  <dc:creator/>
  <dc:description/>
  <dc:language>en-US</dc:language>
  <cp:lastModifiedBy>LOVE GOEL</cp:lastModifiedBy>
  <dcterms:modified xsi:type="dcterms:W3CDTF">2008-08-09T10:14:15Z</dcterms:modified>
  <cp:revision>0</cp:revision>
  <dc:subject/>
  <dc:title/>
</cp:coreProperties>
</file>