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3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5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0EA43-6958-42C3-8BBA-A3E716CFC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433FD-EBB8-42B2-8840-848A034C2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9000" y="36417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8604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048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06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190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048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06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604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19000" y="36417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8604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48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06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190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48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06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8604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3.</a:t>
            </a:r>
            <a:fld id="{FE27A879-AAEE-4A7C-8F25-045835CE74FD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3:  I/O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0" y="1652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Intel Pentium Processor Event-Vector Tabl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6888" t="625" r="7110" b="625"/>
          <a:stretch/>
        </p:blipFill>
        <p:spPr>
          <a:xfrm>
            <a:off x="2052720" y="1300320"/>
            <a:ext cx="5844960" cy="503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 Memory Acces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a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ed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arge data movem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es CPU to transfer data directly between I/O device and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12680" y="243000"/>
            <a:ext cx="7950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ix Step Process to Perform DMA Transf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465" t="5926" r="465" b="5926"/>
          <a:stretch/>
        </p:blipFill>
        <p:spPr>
          <a:xfrm>
            <a:off x="1122480" y="1300320"/>
            <a:ext cx="7081560" cy="4725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plication I/O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ystem calls encapsulate device behaviors in generic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-driver layer hides differences among I/O controllers from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vary in many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-str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tial or random-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able or de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write, read onl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Kernel I/O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rcRect l="967" t="1920" r="720" b="2215"/>
          <a:stretch/>
        </p:blipFill>
        <p:spPr>
          <a:xfrm>
            <a:off x="1217520" y="1300320"/>
            <a:ext cx="6872400" cy="5025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640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 of I/O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1310" t="8741" r="1310" b="9435"/>
          <a:stretch/>
        </p:blipFill>
        <p:spPr>
          <a:xfrm>
            <a:off x="1138320" y="1300320"/>
            <a:ext cx="7238880" cy="4562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 and Character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s include disk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include read, write, s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I/O or file-syste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acces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devices include keyboards, mice, serial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includ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,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ies layered on top allow line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enough from block and character to have own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and Windows NT/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000 include socke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s network protocol from network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es vary widely (pipes, FIFOs, streams, queues, mailbo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ocks and Tim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urrent time, elapsed time, ti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interval ti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d for timings, periodic interrup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oct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n UNIX) covers odd aspects of I/O such as clocks and ti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ing and Nonblocking I/O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cess suspended until I/O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use and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for some nee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I/O call returns as much a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, data copy (buffered I/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via multi-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quickly with count of bytes read or writ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cess runs while I/O exec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ubsystem signals process when I/O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3:  I/O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/O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ing I/O Requests to Hardwar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 I/O Metho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rcRect l="816" t="21977" r="624" b="21977"/>
          <a:stretch/>
        </p:blipFill>
        <p:spPr>
          <a:xfrm>
            <a:off x="731880" y="1386000"/>
            <a:ext cx="8113680" cy="3460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2511360" y="4981680"/>
            <a:ext cx="19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838840" y="500076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I/O Sub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/O request ordering via per-devic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Ss try fairn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ing - store data in memory while transferring between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pe with device speed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pe with device transfer size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intain “copy semantic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vice-status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450" t="13698" r="1141" b="13698"/>
          <a:stretch/>
        </p:blipFill>
        <p:spPr>
          <a:xfrm>
            <a:off x="974880" y="1150920"/>
            <a:ext cx="7642080" cy="4229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9725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un Enterprise 6000 Device-Transfer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7228" t="576" r="7660" b="881"/>
          <a:stretch/>
        </p:blipFill>
        <p:spPr>
          <a:xfrm>
            <a:off x="1417680" y="1300320"/>
            <a:ext cx="5927760" cy="5146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I/O Sub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fast memory holding cop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just a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perform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old output for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vice can serve only one request at a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Print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rese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vides exclusive access to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for allocation and de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out for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rror Hand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can recover from disk read, device unavailable, transient write fail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return an error number or code when I/O request fail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error logs hold problem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 may accidentally or purposefully attempt to disrupt normal operation via illegal I/O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/O instructions defined to be privile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must be performed via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and I/O port memory locations must be protected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 of a System Call to Perform I/O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18849" t="827" r="18849" b="827"/>
          <a:stretch/>
        </p:blipFill>
        <p:spPr>
          <a:xfrm>
            <a:off x="1995480" y="912960"/>
            <a:ext cx="4633920" cy="5486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Data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keeps state info for I/O components, including open file tables, network connections, character device 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, many complex data structures to track buffers, memory allocation, “dirty” bloc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se object-oriented methods and message passing to implement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 I/O Kernel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1480" t="556" r="1698" b="1117"/>
          <a:stretch/>
        </p:blipFill>
        <p:spPr>
          <a:xfrm>
            <a:off x="1360440" y="1333440"/>
            <a:ext cx="6532560" cy="4975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structure of an operating system’s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inciples of I/O hardware and its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details of the performance aspects of I/O hardware an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Requests to Hardware Oper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reading a file from disk for a proces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device holding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name to device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ly read data from disk into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ata available to reques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ontrol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fe Cycle of An I/O Reques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rcRect l="24442" t="561" r="24442" b="561"/>
          <a:stretch/>
        </p:blipFill>
        <p:spPr>
          <a:xfrm>
            <a:off x="2313000" y="771480"/>
            <a:ext cx="4006800" cy="5813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RE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full-duplex communication channel between a user-level process and a device in Unix System V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EAM consis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AM head interfaces with the user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river end interfaces with the devi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zero or more STREAM modules between th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ule contain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 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 is used to communicate between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2716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STREAMS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15084" t="546" r="15493" b="832"/>
          <a:stretch/>
        </p:blipFill>
        <p:spPr>
          <a:xfrm>
            <a:off x="2419200" y="1300320"/>
            <a:ext cx="4835520" cy="5151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a major factor in system performanc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s CPU to execute device driver, kernel I/O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switches due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raffic especially str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computer Communic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17527" t="546" r="18151" b="546"/>
          <a:stretch/>
        </p:blipFill>
        <p:spPr>
          <a:xfrm>
            <a:off x="2065320" y="816120"/>
            <a:ext cx="4987800" cy="575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roving Performan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number of context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data cop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interrupts by using large transfers, smart controllers, po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CPU, memory, bus, and I/O performance for highest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vice-Functionality Progress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rcRect l="556" t="27808" r="556" b="28030"/>
          <a:stretch/>
        </p:blipFill>
        <p:spPr>
          <a:xfrm>
            <a:off x="1128600" y="1133640"/>
            <a:ext cx="7469280" cy="4448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Hardwa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dible variety of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isy 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shared direc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adap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instructions contro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have addresses, us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/O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map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Typical PC Bus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Picture 1028" descr=""/>
          <p:cNvPicPr/>
          <p:nvPr/>
        </p:nvPicPr>
        <p:blipFill>
          <a:blip r:embed="rId1"/>
          <a:srcRect l="1683" t="635" r="1934" b="635"/>
          <a:stretch/>
        </p:blipFill>
        <p:spPr>
          <a:xfrm>
            <a:off x="1509840" y="1300320"/>
            <a:ext cx="6091200" cy="4679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evice I/O Port Locations on PCs (partial)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882" t="12472" r="657" b="12472"/>
          <a:stretch/>
        </p:blipFill>
        <p:spPr>
          <a:xfrm>
            <a:off x="1268280" y="1300320"/>
            <a:ext cx="6902640" cy="3946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ol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35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state of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y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cle to wait for I/O from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rup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-request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iggered by I/O dev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 hand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interrup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ignore or delay some interrup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vector to dispatch interrupt to correc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maskab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mechanism also used for 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rupt-Driven I/O Cyc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rcRect l="12607" t="861" r="12607" b="891"/>
          <a:stretch/>
        </p:blipFill>
        <p:spPr>
          <a:xfrm>
            <a:off x="2049480" y="1300320"/>
            <a:ext cx="5199120" cy="512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4:03:58Z</dcterms:created>
  <dc:creator/>
  <dc:description/>
  <dc:language>en-US</dc:language>
  <cp:lastModifiedBy>LOVE GOEL</cp:lastModifiedBy>
  <cp:lastPrinted>1999-06-28T19:27:31Z</cp:lastPrinted>
  <dcterms:modified xsi:type="dcterms:W3CDTF">2008-08-09T10:14:15Z</dcterms:modified>
  <cp:revision>0</cp:revision>
  <dc:subject/>
  <dc:title/>
</cp:coreProperties>
</file>