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3"/>
          </p:nvPr>
        </p:nvSpPr>
        <p:spPr>
          <a:xfrm>
            <a:off x="4146480" y="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4"/>
          </p:nvPr>
        </p:nvSpPr>
        <p:spPr>
          <a:xfrm>
            <a:off x="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5"/>
          </p:nvPr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D3896-9B48-4B82-AB28-8A8F69E34D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146480" y="9121680"/>
            <a:ext cx="3168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C69415-34B3-48E7-A7AF-928E4A2783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19000" y="364176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86040" y="129996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19000" y="364176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86040" y="364176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04800" y="129996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90600" y="129996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19000" y="364176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04800" y="364176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790600" y="364176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19000" y="12999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86040" y="129996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86040" y="129996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19000" y="364176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19000" y="12999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86040" y="129996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86040" y="364176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86040" y="129996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19000" y="364176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19000" y="364176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86040" y="129996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19000" y="364176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86040" y="364176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04800" y="129996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90600" y="129996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19000" y="364176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04800" y="364176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90600" y="364176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86040" y="129996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86040" y="129996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19000" y="364176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86040" y="129996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86040" y="364176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86040" y="129996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19000" y="364176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19000" y="12999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400572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13.</a:t>
            </a:r>
            <a:fld id="{FB84C092-29E2-402F-A02A-D60DD1F1B3E6}" type="slidenum">
              <a:rPr b="1" lang="en-US" sz="1000" spc="-1" strike="noStrike">
                <a:solidFill>
                  <a:srgbClr val="99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 flipV="1" rot="8361600">
            <a:off x="1609200" y="4961520"/>
            <a:ext cx="972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6"/>
          <p:cNvSpPr/>
          <p:nvPr/>
        </p:nvSpPr>
        <p:spPr>
          <a:xfrm flipV="1" rot="10665600">
            <a:off x="1188720" y="420444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5164200" y="4206960"/>
            <a:ext cx="79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Silberschatz, Galvin and Gagne ©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5760" y="6613560"/>
            <a:ext cx="33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Operating System Concepts – 7</a:t>
            </a:r>
            <a:r>
              <a:rPr b="1" lang="en-US" sz="1000" spc="-1" strike="noStrike" baseline="30000">
                <a:solidFill>
                  <a:srgbClr val="99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 Edition, Jan 2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-1658880" y="110952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-898560" y="1170000"/>
            <a:ext cx="324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-1479600" y="42372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Freeform 13"/>
          <p:cNvSpPr/>
          <p:nvPr/>
        </p:nvSpPr>
        <p:spPr>
          <a:xfrm>
            <a:off x="-1467000" y="888840"/>
            <a:ext cx="64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4"/>
          <p:cNvSpPr/>
          <p:nvPr/>
        </p:nvSpPr>
        <p:spPr>
          <a:xfrm>
            <a:off x="-1639800" y="114444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Freeform 15"/>
          <p:cNvSpPr/>
          <p:nvPr/>
        </p:nvSpPr>
        <p:spPr>
          <a:xfrm>
            <a:off x="-1247760" y="1146240"/>
            <a:ext cx="4680" cy="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6"/>
          <p:cNvSpPr/>
          <p:nvPr/>
        </p:nvSpPr>
        <p:spPr>
          <a:xfrm>
            <a:off x="-1101600" y="122868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reeform 17"/>
          <p:cNvSpPr/>
          <p:nvPr/>
        </p:nvSpPr>
        <p:spPr>
          <a:xfrm>
            <a:off x="-1303200" y="1270080"/>
            <a:ext cx="1260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Freeform 18"/>
          <p:cNvSpPr/>
          <p:nvPr/>
        </p:nvSpPr>
        <p:spPr>
          <a:xfrm>
            <a:off x="1176480" y="885960"/>
            <a:ext cx="468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Picture 19" descr="Slide_iconblue_pc"/>
          <p:cNvPicPr/>
          <p:nvPr/>
        </p:nvPicPr>
        <p:blipFill>
          <a:blip r:embed="rId2"/>
          <a:stretch/>
        </p:blipFill>
        <p:spPr>
          <a:xfrm>
            <a:off x="8118360" y="6010200"/>
            <a:ext cx="1011240" cy="61128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20" descr="Slide_iconvertical"/>
          <p:cNvPicPr/>
          <p:nvPr/>
        </p:nvPicPr>
        <p:blipFill>
          <a:blip r:embed="rId3"/>
          <a:stretch/>
        </p:blipFill>
        <p:spPr>
          <a:xfrm>
            <a:off x="0" y="0"/>
            <a:ext cx="600120" cy="11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Slide_iconblue_pc"/>
          <p:cNvPicPr/>
          <p:nvPr/>
        </p:nvPicPr>
        <p:blipFill>
          <a:blip r:embed="rId2"/>
          <a:stretch/>
        </p:blipFill>
        <p:spPr>
          <a:xfrm>
            <a:off x="3179880" y="4829040"/>
            <a:ext cx="2349360" cy="14194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57" name="Picture 8" descr="BD21332_"/>
          <p:cNvPicPr/>
          <p:nvPr/>
        </p:nvPicPr>
        <p:blipFill>
          <a:blip r:embed="rId3"/>
          <a:stretch/>
        </p:blipFill>
        <p:spPr>
          <a:xfrm>
            <a:off x="1539720" y="3603600"/>
            <a:ext cx="6035760" cy="343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819000" y="12999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13:  I/O Syste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6400" y="16524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Intel Pentium Processor Event-Vector Tabl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rcRect l="6888" t="625" r="7110" b="625"/>
          <a:stretch/>
        </p:blipFill>
        <p:spPr>
          <a:xfrm>
            <a:off x="2052720" y="1300320"/>
            <a:ext cx="5844960" cy="50338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irect Memory Acces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28556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to avoi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med I/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large data movemen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M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roll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passes CPU to transfer data directly between I/O device and mem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12680" y="243000"/>
            <a:ext cx="79502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Six Step Process to Perform DMA Transfer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465" t="5926" r="465" b="5926"/>
          <a:stretch/>
        </p:blipFill>
        <p:spPr>
          <a:xfrm>
            <a:off x="1122480" y="1300320"/>
            <a:ext cx="7081560" cy="47257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pplication I/O Interfac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system calls encapsulate device behaviors in generic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-driver layer hides differences among I/O controllers from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s vary in many dim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acter-strea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quential or random-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able or dedi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 of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-write, read only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rite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 Kernel I/O Stru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rcRect l="967" t="1920" r="720" b="2215"/>
          <a:stretch/>
        </p:blipFill>
        <p:spPr>
          <a:xfrm>
            <a:off x="1217520" y="1300320"/>
            <a:ext cx="6872400" cy="50259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7640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racteristics of I/O Devic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rcRect l="1310" t="8741" r="1310" b="9435"/>
          <a:stretch/>
        </p:blipFill>
        <p:spPr>
          <a:xfrm>
            <a:off x="1138320" y="1300320"/>
            <a:ext cx="7238880" cy="45622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lock and Character Devic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devices include disk dr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include read, write, see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w I/O or file-system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-mapped file access possib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 devices include keyboards, mice, serial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includ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,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raries layered on top allow line ed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Network Devic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ying enough from block and character to have own interfa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 and Windows NT/9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000 include socket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s network protocol from network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unction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aches vary widely (pipes, FIFOs, streams, queues, mailbox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ocks and Timer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current time, elapsed time, tim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mable interval tim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sed for timings, periodic interrup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oct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on UNIX) covers odd aspects of I/O such as clocks and ti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locking and Nonblocking I/O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process suspended until I/O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use and under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ufficient for some need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bloc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I/O call returns as much a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, data copy (buffered I/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ed via multi-th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s quickly with count of bytes read or writte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ynchrono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process runs while I/O exec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 t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subsystem signals process when I/O comple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13:  I/O Syste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I/O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I/O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ing I/O Requests to Hardware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wo I/O Method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rcRect l="816" t="21977" r="624" b="21977"/>
          <a:stretch/>
        </p:blipFill>
        <p:spPr>
          <a:xfrm>
            <a:off x="731880" y="1386000"/>
            <a:ext cx="8113680" cy="34606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sp>
        <p:nvSpPr>
          <p:cNvPr id="144" name="Text Box 4"/>
          <p:cNvSpPr/>
          <p:nvPr/>
        </p:nvSpPr>
        <p:spPr>
          <a:xfrm>
            <a:off x="2511360" y="4981680"/>
            <a:ext cx="19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chron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5838840" y="5000760"/>
            <a:ext cx="267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ynchron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Kernel I/O Subsyste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I/O request ordering via per-device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Ss try fairnes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ing - store data in memory while transferring between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pe with device speed mism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pe with device transfer size mism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maintain “copy semantic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evice-status Tabl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rcRect l="450" t="13698" r="1141" b="13698"/>
          <a:stretch/>
        </p:blipFill>
        <p:spPr>
          <a:xfrm>
            <a:off x="974880" y="1150920"/>
            <a:ext cx="7642080" cy="42292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71440" y="0"/>
            <a:ext cx="797256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Sun Enterprise 6000 Device-Transfer Rate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rcRect l="7228" t="576" r="7660" b="881"/>
          <a:stretch/>
        </p:blipFill>
        <p:spPr>
          <a:xfrm>
            <a:off x="1417680" y="1300320"/>
            <a:ext cx="5927760" cy="51465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Kernel I/O Subsyste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fast memory holding copy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 just a 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to performan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oo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hold output for a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device can serve only one request at a ti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, Print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ice reserv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provides exclusive access to a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s for allocation and de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ch out for dead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rror Hand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 can recover from disk read, device unavailable, transient write failur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return an error number or code when I/O request fail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error logs hold problem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/O Protec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process may accidentally or purposefully attempt to disrupt normal operation via illegal I/O 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I/O instructions defined to be privile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must be performed via system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-mapped and I/O port memory locations must be protected t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Use of a System Call to Perform I/O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rcRect l="18849" t="827" r="18849" b="827"/>
          <a:stretch/>
        </p:blipFill>
        <p:spPr>
          <a:xfrm>
            <a:off x="1995480" y="912960"/>
            <a:ext cx="4633920" cy="54864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Kernel Data Structur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keeps state info for I/O components, including open file tables, network connections, character device sta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, many complex data structures to track buffers, memory allocation, “dirty” block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use object-oriented methods and message passing to implement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UNIX I/O Kernel Stru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rcRect l="1480" t="556" r="1698" b="1117"/>
          <a:stretch/>
        </p:blipFill>
        <p:spPr>
          <a:xfrm>
            <a:off x="1360440" y="1333440"/>
            <a:ext cx="6532560" cy="49752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ore the structure of an operating system’s I/O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the principles of I/O hardware and its 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details of the performance aspects of I/O hardware and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/O Requests to Hardware Operation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reading a file from disk for a process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device holding 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 name to device re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ly read data from disk into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data available to request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control to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ife Cycle of An I/O Reques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67" name="Picture 5" descr=""/>
          <p:cNvPicPr/>
          <p:nvPr/>
        </p:nvPicPr>
        <p:blipFill>
          <a:blip r:embed="rId1"/>
          <a:srcRect l="24442" t="561" r="24442" b="561"/>
          <a:stretch/>
        </p:blipFill>
        <p:spPr>
          <a:xfrm>
            <a:off x="2313000" y="771480"/>
            <a:ext cx="4006800" cy="58136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TREA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E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 full-duplex communication channel between a user-level process and a device in Unix System V and bey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REAM consists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EAM head interfaces with the user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river end interfaces with the devi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zero or more STREAM modules between th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module contain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  que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passing is used to communicate between que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2716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e STREAMS Stru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rcRect l="15084" t="546" r="15493" b="832"/>
          <a:stretch/>
        </p:blipFill>
        <p:spPr>
          <a:xfrm>
            <a:off x="2419200" y="1300320"/>
            <a:ext cx="4835520" cy="51512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erformanc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a major factor in system performanc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ands CPU to execute device driver, kernel I/O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xt switches due to interru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cop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traffic especially stress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tercomputer Communication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rcRect l="17527" t="546" r="18151" b="546"/>
          <a:stretch/>
        </p:blipFill>
        <p:spPr>
          <a:xfrm>
            <a:off x="2065320" y="816120"/>
            <a:ext cx="4987800" cy="57528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mproving Performanc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number of context swit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data copy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interrupts by using large transfers, smart controllers, pol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D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ance CPU, memory, bus, and I/O performance for highest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evice-Functionality Progress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79" name="Picture 7" descr=""/>
          <p:cNvPicPr/>
          <p:nvPr/>
        </p:nvPicPr>
        <p:blipFill>
          <a:blip r:embed="rId1"/>
          <a:srcRect l="556" t="27808" r="556" b="28030"/>
          <a:stretch/>
        </p:blipFill>
        <p:spPr>
          <a:xfrm>
            <a:off x="1128600" y="1133640"/>
            <a:ext cx="7469280" cy="44481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/O Hardwa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dible variety of I/O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con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isy ch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shared direct ac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 adap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instructions control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s have addresses, used 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I/O 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-mapp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 Typical PC Bus Stru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3" name="Picture 1028" descr=""/>
          <p:cNvPicPr/>
          <p:nvPr/>
        </p:nvPicPr>
        <p:blipFill>
          <a:blip r:embed="rId1"/>
          <a:srcRect l="1683" t="635" r="1934" b="635"/>
          <a:stretch/>
        </p:blipFill>
        <p:spPr>
          <a:xfrm>
            <a:off x="1509840" y="1300320"/>
            <a:ext cx="6091200" cy="46796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Device I/O Port Locations on PCs (partial)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rcRect l="882" t="12472" r="657" b="12472"/>
          <a:stretch/>
        </p:blipFill>
        <p:spPr>
          <a:xfrm>
            <a:off x="1268280" y="1300320"/>
            <a:ext cx="6902640" cy="39463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ol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7351920" cy="35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s state of de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y-wa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ycle to wait for I/O from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terrupt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19000" y="12999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rupt-request 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iggered by I/O devi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rupt hand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ceives interrup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k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ignore or delay some interrup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rupt vector to dispatch interrupt to correct 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maskab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rupt mechanism also used for exce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terrupt-Driven I/O Cycl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rcRect l="12607" t="861" r="12607" b="891"/>
          <a:stretch/>
        </p:blipFill>
        <p:spPr>
          <a:xfrm>
            <a:off x="2049480" y="1300320"/>
            <a:ext cx="5199120" cy="51228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4T14:03:58Z</dcterms:created>
  <dc:creator/>
  <dc:description/>
  <dc:language>en-US</dc:language>
  <cp:lastModifiedBy>LOVE GOEL</cp:lastModifiedBy>
  <cp:lastPrinted>1999-06-28T19:27:31Z</cp:lastPrinted>
  <dcterms:modified xsi:type="dcterms:W3CDTF">2008-08-09T10:14:15Z</dcterms:modified>
  <cp:revision>0</cp:revision>
  <dc:subject/>
  <dc:title/>
</cp:coreProperties>
</file>