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0572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14.</a:t>
            </a:r>
            <a:fld id="{204AB5EC-920E-4414-B2B2-1921257126F1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320" y="6613560"/>
            <a:ext cx="343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–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Apr 11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14:  Protec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ccess Matrix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8" name="Picture 11" descr=""/>
          <p:cNvPicPr/>
          <p:nvPr/>
        </p:nvPicPr>
        <p:blipFill>
          <a:blip r:embed="rId1"/>
          <a:srcRect l="399" t="14249" r="399" b="14505"/>
          <a:stretch/>
        </p:blipFill>
        <p:spPr>
          <a:xfrm>
            <a:off x="1082520" y="1847880"/>
            <a:ext cx="6720120" cy="3620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se of Access Matrix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process in Doma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es to do “op” on objec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“op” must be in the access matrix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expanded to dynamic prot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 to add, delete access r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access righ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wner of O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py op from O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o O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trol –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an modify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ccess r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ansfer – switch from domain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to 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se of Access Matrix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matrix design separates mechanism from poli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provides access-matrix + ru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nsures that the matrix is only manipulated by authorized agents and that rules are strictly enforc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dictates polic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can access what object and in what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mplementation of Access Matrix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17200" y="1285920"/>
            <a:ext cx="6583320" cy="37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lumn = Access-control list for one objec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who can perform what operation.</a:t>
            </a:r>
            <a:br>
              <a:rPr sz="18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1 = Read, Writ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2 = Rea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3 = Read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MT Extra"/>
                <a:ea typeface="MT Extra"/>
              </a:rPr>
              <a:t>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ow = Capability List (like a ke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e each domain, what operations allowed on what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 1 – 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 4 – Read, Write, Execu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38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bject 5 – Read, Write, Delete, Co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6480" y="57240"/>
            <a:ext cx="856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Access Matrix of Figure A With Domains as Objects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912840" y="488232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1"/>
          <a:srcRect l="1506" t="22991" r="1078" b="22991"/>
          <a:stretch/>
        </p:blipFill>
        <p:spPr>
          <a:xfrm>
            <a:off x="817560" y="1285920"/>
            <a:ext cx="7932600" cy="32986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ccess Matrix with </a:t>
            </a:r>
            <a:r>
              <a:rPr b="1" i="1" lang="en-US" sz="3200" spc="-1" strike="noStrike">
                <a:solidFill>
                  <a:srgbClr val="993300"/>
                </a:solidFill>
                <a:latin typeface="Arial"/>
              </a:rPr>
              <a:t>Copy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Right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rcRect l="14999" t="610" r="14999" b="930"/>
          <a:stretch/>
        </p:blipFill>
        <p:spPr>
          <a:xfrm>
            <a:off x="1995480" y="1285920"/>
            <a:ext cx="4622760" cy="48769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ccess Matrix With </a:t>
            </a:r>
            <a:r>
              <a:rPr b="1" i="1" lang="en-US" sz="3200" spc="-1" strike="noStrike">
                <a:solidFill>
                  <a:srgbClr val="993300"/>
                </a:solidFill>
                <a:latin typeface="Arial"/>
              </a:rPr>
              <a:t>Owner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Right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21691" t="1378" r="21691" b="1378"/>
          <a:stretch/>
        </p:blipFill>
        <p:spPr>
          <a:xfrm>
            <a:off x="2538360" y="1285920"/>
            <a:ext cx="4041720" cy="52070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odified Access Matrix of Figure B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rcRect l="993" t="22784" r="997" b="22538"/>
          <a:stretch/>
        </p:blipFill>
        <p:spPr>
          <a:xfrm>
            <a:off x="817560" y="1285920"/>
            <a:ext cx="7512120" cy="31431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ccess Contro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can be applied to non-file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 10 provid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-based access contro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mplement least privi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ilege is right to execute system call or use an option within a system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assigned to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assigned roles granting access to privileges and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ole-based Access Control in Solaris 10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7" name="Picture 3" descr=""/>
          <p:cNvPicPr/>
          <p:nvPr/>
        </p:nvPicPr>
        <p:blipFill>
          <a:blip r:embed="rId1"/>
          <a:srcRect l="27406" t="832" r="27428" b="546"/>
          <a:stretch/>
        </p:blipFill>
        <p:spPr>
          <a:xfrm>
            <a:off x="2787480" y="826920"/>
            <a:ext cx="3338640" cy="54676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14: Protec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17200" y="128556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s of Prot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les of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of Prot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Matri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of Access Matri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ocation of Access Righ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bility-Based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-Based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vocation of Access Right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ess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Delete access rights from access l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pability Li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cheme required to locate capability in the system before capability can be revok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-po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apability-Based Systems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set of access rights known to and interpreted by th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ation of user-defined rights performed solely by user's program; system provides access protection for use of these right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mbridge CAP 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apability - provides standard read, write, execute of individual storage segments associated with o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capability -interpretation left to the subsystem, through its protected procedu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anguage-Based Protec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of protection in a programming language allows the high-level description of policies for the allocation and use of resourc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implementation can provide software for protection enforcement when automatic hardware-supported checking is unavailabl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et protection specifications to generate calls on whatever protection system is provided by the hardware and the operating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tection in Java 2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is handled by the Java Virtual Machine (JVM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lass is assigned a protection domain when it is loaded by the JVM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tection domain indicates what operations the class can (and cannot) perform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library method is invoked that performs a privileged operation, the stack is inspected to ensure the operation can be performed by the libra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tack Inspec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450" t="24433" r="628" b="24433"/>
          <a:stretch/>
        </p:blipFill>
        <p:spPr>
          <a:xfrm>
            <a:off x="817560" y="1285920"/>
            <a:ext cx="7975440" cy="30924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the goals and principles of protection in a modern compute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how protection domains combined with an access matrix are used to specify the resources a process may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ine capability and language-based protec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Goals of Protec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consists of a collection of objects, hardware or softwa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object has a unique name and can be accessed through a well-defined set of operation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problem - ensure that each object is accessed correctly and only by those processes that are allowed to do 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inciples of Protec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ing principle – principle of least privi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, users and systems should be given just enough privileges to perform their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omain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-right = &l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bject-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ights-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ights-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ubset of all valid operations that can be performed on the objec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= set of access-right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rcRect l="406" t="35739" r="432" b="35739"/>
          <a:stretch/>
        </p:blipFill>
        <p:spPr>
          <a:xfrm>
            <a:off x="1521000" y="3475080"/>
            <a:ext cx="6352920" cy="13698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omain Implementation  (UNIX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onsists of 2 domai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vis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= user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switch accomplished via file syste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file has associated with it a domain bit (setuid bi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file is executed and setuid = on, then user-id is set to owner of the file being executed. When execution completes user-id is rese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omain Implementation (MULTICS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23480" y="1474920"/>
            <a:ext cx="6583320" cy="117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ny two domain r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rcRect l="664" t="5862" r="1100" b="5862"/>
          <a:stretch/>
        </p:blipFill>
        <p:spPr>
          <a:xfrm>
            <a:off x="2085840" y="2550960"/>
            <a:ext cx="4856400" cy="3273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ccess Matrix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w protection as a matrix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ess matr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ws represent dom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umns represent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ccess(i, j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set of operations that a process executing in Domai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invoke on Objec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5:43:02Z</dcterms:created>
  <dc:creator/>
  <dc:description/>
  <dc:language>en-US</dc:language>
  <cp:lastModifiedBy>LOVE GOEL</cp:lastModifiedBy>
  <cp:lastPrinted>2001-07-05T20:35:38Z</cp:lastPrinted>
  <dcterms:modified xsi:type="dcterms:W3CDTF">2008-08-09T10:14:15Z</dcterms:modified>
  <cp:revision>0</cp:revision>
  <dc:subject/>
  <dc:title/>
</cp:coreProperties>
</file>