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4.</a:t>
            </a:r>
            <a:fld id="{6782497F-587A-4BE6-9BE2-75A93661BB65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1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4: 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rcRect l="399" t="14249" r="399" b="14505"/>
          <a:stretch/>
        </p:blipFill>
        <p:spPr>
          <a:xfrm>
            <a:off x="1082520" y="1847880"/>
            <a:ext cx="6720120" cy="3620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s to do “op” on obj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“op” must be in the access matrix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ynamic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o add, delete acces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access r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of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op from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–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an modify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– switch from domain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ccess Matrix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design separates mechanism from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provides access-matrix +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nsures that the matrix is only manipulated by authorized agents and that rules are strictly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ictates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can access what object and in what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200" y="1285920"/>
            <a:ext cx="65833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= Access-control list for one obj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o can perform what operation.</a:t>
            </a:r>
            <a:br>
              <a:rPr sz="18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 = Read, Wri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2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3 = Read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= Capability List (like a ke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 each domain, what operations allowed on wha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1 –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4 –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5 – Read, Write, Delete,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6480" y="57240"/>
            <a:ext cx="856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ccess Matrix of Figure A With Domains as Object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12840" y="48823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rcRect l="1506" t="22991" r="1078" b="22991"/>
          <a:stretch/>
        </p:blipFill>
        <p:spPr>
          <a:xfrm>
            <a:off x="817560" y="1285920"/>
            <a:ext cx="7932600" cy="3298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Copy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4999" t="610" r="14999" b="930"/>
          <a:stretch/>
        </p:blipFill>
        <p:spPr>
          <a:xfrm>
            <a:off x="1995480" y="1285920"/>
            <a:ext cx="4622760" cy="4876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Owner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21691" t="1378" r="21691" b="1378"/>
          <a:stretch/>
        </p:blipFill>
        <p:spPr>
          <a:xfrm>
            <a:off x="2538360" y="1285920"/>
            <a:ext cx="4041720" cy="520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ified Access Matrix of Figure B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993" t="22784" r="997" b="22538"/>
          <a:stretch/>
        </p:blipFill>
        <p:spPr>
          <a:xfrm>
            <a:off x="817560" y="1285920"/>
            <a:ext cx="7512120" cy="3143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an be applied to non-fi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10 provi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-based access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lege is right to execute system call or use an option within a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ssigned t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assigned roles granting access to privileges and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ole-based Access Control in Solaris 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27406" t="832" r="27428" b="546"/>
          <a:stretch/>
        </p:blipFill>
        <p:spPr>
          <a:xfrm>
            <a:off x="2787480" y="826920"/>
            <a:ext cx="3338640" cy="546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4: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7200" y="128556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of Access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vocation of Access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lete access rights from access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bility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cheme required to locate capability in the system before capability can be revo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pability-Based System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et of access rights known to and interpreted by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 of user-defined rights performed solely by user's program; system provides access protection for use of these righ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CAP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pability - provides standard read, write, execute of individual storage segments associated with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capability -interpretation left to the subsystem, through its protected proced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nguage-Based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protection in a programming language allows the high-level description of policies for the allocation and use of resourc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mplementation can provide software for protection enforcement when automatic hardware-supported checking is unavailab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protection specifications to generate calls on whatever protection system is provided by the hardware and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tection in Java 2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is handled by the Java Virtual Machine (JV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ass is assigned a protection domain when it is loaded by the JV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ection domain indicates what operations the class can (and cannot) per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ibrary method is invoked that performs a privileged operation, the stack is inspected to ensure the operation can be performed by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ck Insp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0" t="24433" r="628" b="24433"/>
          <a:stretch/>
        </p:blipFill>
        <p:spPr>
          <a:xfrm>
            <a:off x="817560" y="1285920"/>
            <a:ext cx="7975440" cy="3092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goals and principles of protection in a modern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rotection domains combined with an access matrix are used to specify the resources a process ma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capability and language-based prote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oals of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onsists of a collection of objects, hardware or softw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a unique name and can be accessed through a well-defined set of operation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problem - ensure that each object is accessed correctly and only by those processes that are allowed to do 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nciples of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principle – principle of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, users and systems should be given just enough privileges to perform thei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right =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all valid operations that can be performed on the objec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set of access-righ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406" t="35739" r="432" b="35739"/>
          <a:stretch/>
        </p:blipFill>
        <p:spPr>
          <a:xfrm>
            <a:off x="1521000" y="3475080"/>
            <a:ext cx="6352920" cy="1369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Implementation  (UNIX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nsists of 2 dom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user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file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associated with it a domain bit (setuid b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le is executed and setuid = on, then user-id is set to owner of the file being executed. When execution completes user-id is res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Implementation (MULTICS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3480" y="1474920"/>
            <a:ext cx="658332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y two domain 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664" t="5862" r="1100" b="5862"/>
          <a:stretch/>
        </p:blipFill>
        <p:spPr>
          <a:xfrm>
            <a:off x="2085840" y="2550960"/>
            <a:ext cx="4856400" cy="327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rotection as a matri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s represen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 repres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(i, 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operations that a process executing in Doma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voke on Objec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43:02Z</dcterms:created>
  <dc:creator/>
  <dc:description/>
  <dc:language>en-US</dc:language>
  <cp:lastModifiedBy>LOVE GOEL</cp:lastModifiedBy>
  <cp:lastPrinted>2001-07-05T20:35:38Z</cp:lastPrinted>
  <dcterms:modified xsi:type="dcterms:W3CDTF">2008-08-09T10:14:15Z</dcterms:modified>
  <cp:revision>0</cp:revision>
  <dc:subject/>
  <dc:title/>
</cp:coreProperties>
</file>