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400572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15.</a:t>
            </a:r>
            <a:fld id="{E2BA6F14-5781-40E4-8C21-0D70C1DCD438}" type="slidenum">
              <a:rPr b="1" lang="en-US" sz="1000" spc="-1" strike="noStrike">
                <a:solidFill>
                  <a:srgbClr val="99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 flipV="1" rot="8361600">
            <a:off x="1609200" y="4961520"/>
            <a:ext cx="972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6"/>
          <p:cNvSpPr/>
          <p:nvPr/>
        </p:nvSpPr>
        <p:spPr>
          <a:xfrm flipV="1" rot="10665600">
            <a:off x="1188720" y="420444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5164200" y="4206960"/>
            <a:ext cx="79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Silberschatz, Galvin and Gagne ©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5760" y="6613560"/>
            <a:ext cx="343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Operating System Concepts – 7</a:t>
            </a:r>
            <a:r>
              <a:rPr b="1" lang="en-US" sz="1000" spc="-1" strike="noStrike" baseline="30000">
                <a:solidFill>
                  <a:srgbClr val="99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 Edition, Jan 10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-1658880" y="110952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-898560" y="1170000"/>
            <a:ext cx="324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-1479600" y="42372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Freeform 13"/>
          <p:cNvSpPr/>
          <p:nvPr/>
        </p:nvSpPr>
        <p:spPr>
          <a:xfrm>
            <a:off x="-1467000" y="888840"/>
            <a:ext cx="64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4"/>
          <p:cNvSpPr/>
          <p:nvPr/>
        </p:nvSpPr>
        <p:spPr>
          <a:xfrm>
            <a:off x="-1639800" y="114444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Freeform 15"/>
          <p:cNvSpPr/>
          <p:nvPr/>
        </p:nvSpPr>
        <p:spPr>
          <a:xfrm>
            <a:off x="-1247760" y="1146240"/>
            <a:ext cx="4680" cy="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6"/>
          <p:cNvSpPr/>
          <p:nvPr/>
        </p:nvSpPr>
        <p:spPr>
          <a:xfrm>
            <a:off x="-1101600" y="122868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reeform 17"/>
          <p:cNvSpPr/>
          <p:nvPr/>
        </p:nvSpPr>
        <p:spPr>
          <a:xfrm>
            <a:off x="-1303200" y="1270080"/>
            <a:ext cx="1260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Freeform 18"/>
          <p:cNvSpPr/>
          <p:nvPr/>
        </p:nvSpPr>
        <p:spPr>
          <a:xfrm>
            <a:off x="1176480" y="885960"/>
            <a:ext cx="468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Picture 19" descr="Slide_iconblue_pc"/>
          <p:cNvPicPr/>
          <p:nvPr/>
        </p:nvPicPr>
        <p:blipFill>
          <a:blip r:embed="rId2"/>
          <a:stretch/>
        </p:blipFill>
        <p:spPr>
          <a:xfrm>
            <a:off x="8118360" y="6010200"/>
            <a:ext cx="1011240" cy="61128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20" descr="Slide_iconvertical"/>
          <p:cNvPicPr/>
          <p:nvPr/>
        </p:nvPicPr>
        <p:blipFill>
          <a:blip r:embed="rId3"/>
          <a:stretch/>
        </p:blipFill>
        <p:spPr>
          <a:xfrm>
            <a:off x="0" y="0"/>
            <a:ext cx="600120" cy="11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Slide_iconblue_pc"/>
          <p:cNvPicPr/>
          <p:nvPr/>
        </p:nvPicPr>
        <p:blipFill>
          <a:blip r:embed="rId2"/>
          <a:stretch/>
        </p:blipFill>
        <p:spPr>
          <a:xfrm>
            <a:off x="3179880" y="4829040"/>
            <a:ext cx="2349360" cy="14194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57" name="Picture 8" descr="BD21332_"/>
          <p:cNvPicPr/>
          <p:nvPr/>
        </p:nvPicPr>
        <p:blipFill>
          <a:blip r:embed="rId3"/>
          <a:stretch/>
        </p:blipFill>
        <p:spPr>
          <a:xfrm>
            <a:off x="1539720" y="3603600"/>
            <a:ext cx="6035760" cy="343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15:  Securit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ayout of Typical Stack Fram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rcRect l="454" t="11271" r="690" b="10671"/>
          <a:stretch/>
        </p:blipFill>
        <p:spPr>
          <a:xfrm>
            <a:off x="1309680" y="1370160"/>
            <a:ext cx="6589800" cy="39020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odified Shell Cod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ain(int argc, char *argv[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ecvp(‘‘\bin\sh’’,‘‘\bin \sh’’, NUL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Hypothetical Stack Fram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rcRect l="661" t="4952" r="661" b="5252"/>
          <a:stretch/>
        </p:blipFill>
        <p:spPr>
          <a:xfrm>
            <a:off x="1173240" y="1081080"/>
            <a:ext cx="6878520" cy="46944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sp>
        <p:nvSpPr>
          <p:cNvPr id="121" name="Text Box 4"/>
          <p:cNvSpPr/>
          <p:nvPr/>
        </p:nvSpPr>
        <p:spPr>
          <a:xfrm>
            <a:off x="1454040" y="5894280"/>
            <a:ext cx="23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at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6257880" y="5892840"/>
            <a:ext cx="17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at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gram Threats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 fragment embedded in legitimat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specific to CPU architecture, operating system,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borne via email or as a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 Basic Macro to reformat hard d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b AutoOpe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m o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FS = CreateObject(’’Scripting.FileSystemObject’’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s = Shell(’’c:command.com /k forma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:’’,vbHi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gram Threats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 drop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serts virus onto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tegories of viruses, literally many thousands of vir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ymorph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nn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art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mo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 Boot-sector Computer Viru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rcRect l="15043" t="866" r="15471" b="866"/>
          <a:stretch/>
        </p:blipFill>
        <p:spPr>
          <a:xfrm>
            <a:off x="1874880" y="1052640"/>
            <a:ext cx="4927680" cy="52257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ystem and Network Threat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ms – us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chanism; standalon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w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ed UNIX networking features (remote access) and bug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ma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pling hoo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gram uploaded main worm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 sc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attempt to connect to a range of ports on one or a range of IP add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al of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load the targeted computer preventing it from doing any usefu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ed denial-of-service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D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come from multiple sites a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e Morris Internet Wor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2" name="Picture 1028" descr=""/>
          <p:cNvPicPr/>
          <p:nvPr/>
        </p:nvPicPr>
        <p:blipFill>
          <a:blip r:embed="rId1"/>
          <a:srcRect l="698" t="17862" r="458" b="17862"/>
          <a:stretch/>
        </p:blipFill>
        <p:spPr>
          <a:xfrm>
            <a:off x="1082520" y="1271520"/>
            <a:ext cx="7366320" cy="35924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ryptography as a Security Too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est security tool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and destination of messages cannot be trusted without crypt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s to constrain potential senders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ur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nd / or receivers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stin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secrets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Secure Communication over Insecure Medium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rcRect l="13123" t="925" r="13123" b="605"/>
          <a:stretch/>
        </p:blipFill>
        <p:spPr>
          <a:xfrm>
            <a:off x="1617840" y="941400"/>
            <a:ext cx="5513040" cy="55213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15:  Securit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19000" y="12711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curity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Thre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and Network Thre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yptography as a Security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ing Security Def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walling to Protect Systems and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-Security Class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xample: Windows 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ncryp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12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ryption algorithm consists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of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e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of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of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iphertexts (encrypted messag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unction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→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. That is, for each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is a function for generating ciphertexts from messag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12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for 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uld be efficiently computable func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unction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→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. That is, for each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is a function for generating messages from ciphertext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12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for 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uld be efficiently computable func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12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encryption algorithm must provide this essential property: Given a ciphertex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 computer can comput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h tha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ly if it possesse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us, a computer holding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can decrypt ciphertexts to the plaintexts used to produce them, but a computer not holding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cannot decrypt ciphertex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ce ciphertexts are generally exposed (for example, sent on the network), it is important that it be infeasible to deriv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from the ciphertex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ymmetric Encryp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key used to encrypt and decry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can be derived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and vice ve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is most commonly used symmetric block-encryption algorithm (created by US Gov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s a block of data at a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ple-DES considered more se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ced Encryption Standard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fi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p and co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4 is most common symmetric stream cipher, but known to have vulner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s/decrypts a stream of bytes (i.e wireless transmis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is a input to psuedo-random-bit 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s an infini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symmetric Encryp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-key encryption based on each user having two ke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key – published key used to encryp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key – key known only to individual user used to decryp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n encryption scheme that can be made public without making it easy to figure out the decryption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common is RSA block cip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t algorithm for testing whether or not a number is p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efficient algorithm is know for finding the prime factors of a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symmetric Encryption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lly, it is computationally infeasible to deriv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, 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, 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and s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need not be kept secret and can be widely dissem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, 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(or ju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, 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(or ju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product of two large, randomly chosen prime number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or example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512 bits ea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ryption algorithm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, 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 baseline="12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isfi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−1)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−1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cryption algorithm is th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, 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 baseline="12000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symmetric Encryption Exampl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. mak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7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then calcula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7∗13 = 91 and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−1)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−1) = 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next 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ly prime to 72 an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, yielding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ly,we calcula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 72 = 1, yielding 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ow have our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ke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5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ke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, 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9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ing the message 69 with the public key results in the cyphertext 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phertext can be decoded with the private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key can be distributed in cleartext to anyone who wants to communicate with holder of public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Encryption and Decryption using RSA Asymmetric Cryptograph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rcRect l="30363" t="546" r="30795" b="832"/>
          <a:stretch/>
        </p:blipFill>
        <p:spPr>
          <a:xfrm>
            <a:off x="3181320" y="841320"/>
            <a:ext cx="3017880" cy="57466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ryptography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symmetric cryptography based on transformations, asymmetric based on mathematical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mmetric much more compute int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not used for bulk data encry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uthenti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training set of potential senders of a 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mentary and sometimes redundant to encry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an prove message unmodif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gorithm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e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e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e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authenti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unc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→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t is, for each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is a function for generating authenticators from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for an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uld be efficiently computable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unc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→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ue, false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. That is, for each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is a function for verifying authenticators on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for an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uld be efficiently computable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uthentication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messag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 computer can generate an authenticat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,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ly if it possess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computer hold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can generate authenticators on messages so that any other computer possess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can verify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not hold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cannot generate authenticators on messages that can be verified us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authenticators are generally exposed (for example, they are sent on the network with the messages themselves), it must not be feasible to deriv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rom the authent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uthentication – Hash Function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s of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small, fixed-size block of data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sage digest, hash val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h 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collision resistant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infeasible to find 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≠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ssage has not been 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message-digest functions inclu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D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produces a 128-bit hash,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outputs a 160-bit h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iscuss security threats and att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plain the fundamentals of encryption, authentication, and has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amine the uses of cryptography in 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scribe the various countermeasures to security att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uthentication - MAC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ic encryption used 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sage-authentication cod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uthentication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 defin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, 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function that is one-way on its first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be derived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, 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of the collision resistance in the hash function, reasonably assured no other message could create the same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itable verification algorithm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,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≡ (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,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needed to compute bo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so anyone able to compute one can compute the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uthentication – Digital Signa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asymmetric keys and digital signature algorith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ors produced ar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gital sign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a digital-signature algorithm, computationally infeasible to deriv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from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one-way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us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public key 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private k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der the RSA digital-signature algorith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to the RSA encryption algorithm, but the key use is rever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al signature of messag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600" spc="-1" strike="noStrike" baseline="12000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ke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ain is a pai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, 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product of two large, randomly chosen prime number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ication algorithm i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, 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≡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600" spc="-1" strike="noStrike" baseline="10000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tisfie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− 1)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− 1)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uthentication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authentication if a subset of encryp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computations (except for RSA digital signatu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ator usually shorter than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imes want authentication but not confidenti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ed patches et 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basis f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repu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Key Distribu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y of symmetric key is huge 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imes don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-of-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mmetric keys can proliferate – stored 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asymmetric key distribution needs care – man-in-the-middle at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Man-in-the-middle Attack on Asymmetric Cryptograph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rcRect l="19598" t="842" r="19794" b="551"/>
          <a:stretch/>
        </p:blipFill>
        <p:spPr>
          <a:xfrm>
            <a:off x="2314440" y="885960"/>
            <a:ext cx="4629240" cy="56480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igital Certificat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of of who or what owns a public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key digitally signed a trusted p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sted party receives proof of identification from entity and certifies that public key belongs to 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tificate authority are trusted party – their public keys included with web browser dis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vouch for other authorities via digitally signing their keys, and so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ncryption Example - SS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 of cryptography at one layer of the ISO network model (the transport lay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L – Secure Socket Layer (also called T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yptographic protocol that limits two computers to only exchange messages with each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complicated, with many var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between web servers and browsers for secure communication (credit card numb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rver is verified with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rtifica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ring client is talking to correct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mmetric cryptography used to establish a secu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 k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symmetric encryption) for bulk of communication during 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between each computer theb uses symmetric key crypt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User Authenti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ucial to identify user correctly, as protection systems depend on us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dentity most often established throug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sswo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an be considered a special case of either keys or 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can include something user has and /or a user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words must be kept sec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t change of pass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“non-guessable” pass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all invalid access attem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words may also either be encrypted or allowed to be used only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mplementing Security Defens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ense in dep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most common security theory – multiple layers of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policy describes what is being sec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ulnerability assessment compares real state of system / network compared to security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usion detection endeavors to detect attempted or successful intru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ture-bas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tection spots known bad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omaly det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ots differences from normal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detec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ro-d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t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lse-positiv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lse-negativ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us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iting, accounting, and logging of all or specific system or network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Firewalling to Protect Systems and Network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etwork firewall is placed between trusted and untrusted h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ewall limits network access between these two security dom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tunneled or spoof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nneling allows disallowed protocol to travel within allowed protocol (i.e. telnet inside of HTT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wall rules typically based on host name or IP address which can be spoof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al firew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oftware layer on given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monitor / limit traffic to and from the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xy firew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derstands application protocol and can control them (i.e. SMT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-call firew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nitors all important system calls and apply rules to them (i.e. this program can execute that system ca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e Security Proble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must consider external environment of the system, and protect the system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uders (crackers) attempt to breach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potential security vi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ttempt to breach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ck can be accidental or malic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r to protect against accidental than malicious mis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5400" y="241200"/>
            <a:ext cx="8034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00"/>
                </a:solidFill>
                <a:latin typeface="Arial"/>
              </a:rPr>
              <a:t>Network Security Through Domain Separation Via Firewall</a:t>
            </a:r>
            <a:endParaRPr b="1" lang="en-US" sz="2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rcRect l="727" t="9647" r="1207" b="9647"/>
          <a:stretch/>
        </p:blipFill>
        <p:spPr>
          <a:xfrm>
            <a:off x="1363680" y="1271520"/>
            <a:ext cx="6740640" cy="41608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omputer Security Classification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Department of Defense outlines four divisions of computer security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Minimal secur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vides discretionary protection through auditing. Divided in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fies cooperating users with the same level of protection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lows user-level access cont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ll the properties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however each object may have unique sensitivity labels. Divided in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Uses formal design and verification techniques to ensure secur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xample: Windows XP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6560" y="1282320"/>
            <a:ext cx="76424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is based on user ac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user has unique security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n to ID creat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ity access 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s security ID for user, for user’s groups, and special privile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process gets copy of 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hecks token to determine if access allowed or den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a subject model to ensure access security. A subject tracks and manages permissions for each program that a user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object in Windows XP has a security attribute defined by a security descri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a file has a security descriptor that indicates the access permissions for all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ecurity Violation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g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ch of confidenti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ch of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ch of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ft of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ial of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querading (breach authenti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lay at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sage mod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-in-the-middle at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 hij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tandard Security Attack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rcRect l="21832" t="1363" r="21832" b="1363"/>
          <a:stretch/>
        </p:blipFill>
        <p:spPr>
          <a:xfrm>
            <a:off x="2411280" y="876240"/>
            <a:ext cx="4416480" cy="57196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ecurity Measure Level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must occur at four levels to be effec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al engineering, phishing, dumpster d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is as week as the weakest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gram Threat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ojan Ho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 segment that misuses its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loits mechanisms for allowing programs written by users to be executed by other 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yware, pop-up browser windows, covert chan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p D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c user identifier or password that circumvents normal security proced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ld be included in a compi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 Bom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 that initiates a security incident under certain circum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 and Buffer Over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loits a bug in a program (overflow either the stack or memory buff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C Program with Buffer-overflow Condition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include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io.h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define BUFFER SIZE 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ain(int argc, char *argv[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buffer[BUFFER SIZE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rgc &lt;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cpy(buffer,argv[1]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4T18:07:37Z</dcterms:created>
  <dc:creator/>
  <dc:description/>
  <dc:language>en-US</dc:language>
  <cp:lastModifiedBy>LOVE GOEL</cp:lastModifiedBy>
  <cp:lastPrinted>2001-07-05T20:37:20Z</cp:lastPrinted>
  <dcterms:modified xsi:type="dcterms:W3CDTF">2008-08-09T10:14:15Z</dcterms:modified>
  <cp:revision>0</cp:revision>
  <dc:subject/>
  <dc:title/>
</cp:coreProperties>
</file>