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27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7985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8269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27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7985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807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27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7985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269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27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7985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807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4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4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14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85640" indent="-221400">
              <a:spcBef>
                <a:spcPts val="1400"/>
              </a:spcBef>
              <a:buClr>
                <a:srgbClr val="ff99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18280" indent="-221400">
              <a:spcBef>
                <a:spcPts val="1400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3"/>
          <p:cNvSpPr/>
          <p:nvPr/>
        </p:nvSpPr>
        <p:spPr>
          <a:xfrm>
            <a:off x="4005720" y="6613560"/>
            <a:ext cx="96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15.</a:t>
            </a:r>
            <a:fld id="{282A2EA3-C862-4D2E-AF8A-94A0E0AE2BB0}" type="slidenum">
              <a:rPr b="1" lang="en-US" sz="1000" spc="-1" strike="noStrike">
                <a:solidFill>
                  <a:srgbClr val="9933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Freeform 5"/>
          <p:cNvSpPr/>
          <p:nvPr/>
        </p:nvSpPr>
        <p:spPr>
          <a:xfrm flipV="1" rot="8361600">
            <a:off x="1609200" y="4961520"/>
            <a:ext cx="9720" cy="1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Freeform 6"/>
          <p:cNvSpPr/>
          <p:nvPr/>
        </p:nvSpPr>
        <p:spPr>
          <a:xfrm flipV="1" rot="10665600">
            <a:off x="1188720" y="4204440"/>
            <a:ext cx="4680" cy="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5164200" y="4206960"/>
            <a:ext cx="792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Silberschatz, Galvin and Gagne ©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5760" y="6613560"/>
            <a:ext cx="343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Operating System Concepts – 7</a:t>
            </a:r>
            <a:r>
              <a:rPr b="1" lang="en-US" sz="1000" spc="-1" strike="noStrike" baseline="30000">
                <a:solidFill>
                  <a:srgbClr val="99330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 Edition, Jan 10, 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-1658880" y="1109520"/>
            <a:ext cx="4680" cy="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Freeform 11"/>
          <p:cNvSpPr/>
          <p:nvPr/>
        </p:nvSpPr>
        <p:spPr>
          <a:xfrm>
            <a:off x="-898560" y="1170000"/>
            <a:ext cx="3240" cy="1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-1479600" y="423720"/>
            <a:ext cx="18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Freeform 13"/>
          <p:cNvSpPr/>
          <p:nvPr/>
        </p:nvSpPr>
        <p:spPr>
          <a:xfrm>
            <a:off x="-1467000" y="888840"/>
            <a:ext cx="6480" cy="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Freeform 14"/>
          <p:cNvSpPr/>
          <p:nvPr/>
        </p:nvSpPr>
        <p:spPr>
          <a:xfrm>
            <a:off x="-1639800" y="1144440"/>
            <a:ext cx="1440" cy="6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Freeform 15"/>
          <p:cNvSpPr/>
          <p:nvPr/>
        </p:nvSpPr>
        <p:spPr>
          <a:xfrm>
            <a:off x="-1247760" y="1146240"/>
            <a:ext cx="4680" cy="7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Freeform 16"/>
          <p:cNvSpPr/>
          <p:nvPr/>
        </p:nvSpPr>
        <p:spPr>
          <a:xfrm>
            <a:off x="-1101600" y="1228680"/>
            <a:ext cx="1440" cy="6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Freeform 17"/>
          <p:cNvSpPr/>
          <p:nvPr/>
        </p:nvSpPr>
        <p:spPr>
          <a:xfrm>
            <a:off x="-1303200" y="1270080"/>
            <a:ext cx="12600" cy="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Freeform 18"/>
          <p:cNvSpPr/>
          <p:nvPr/>
        </p:nvSpPr>
        <p:spPr>
          <a:xfrm>
            <a:off x="1176480" y="885960"/>
            <a:ext cx="468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" name="Picture 19" descr="Slide_iconblue_pc"/>
          <p:cNvPicPr/>
          <p:nvPr/>
        </p:nvPicPr>
        <p:blipFill>
          <a:blip r:embed="rId2"/>
          <a:stretch/>
        </p:blipFill>
        <p:spPr>
          <a:xfrm>
            <a:off x="8118360" y="6010200"/>
            <a:ext cx="1011240" cy="611280"/>
          </a:xfrm>
          <a:prstGeom prst="rect">
            <a:avLst/>
          </a:prstGeom>
          <a:ln w="0">
            <a:noFill/>
          </a:ln>
        </p:spPr>
      </p:pic>
      <p:pic>
        <p:nvPicPr>
          <p:cNvPr id="18" name="Picture 20" descr="Slide_iconvertical"/>
          <p:cNvPicPr/>
          <p:nvPr/>
        </p:nvPicPr>
        <p:blipFill>
          <a:blip r:embed="rId3"/>
          <a:stretch/>
        </p:blipFill>
        <p:spPr>
          <a:xfrm>
            <a:off x="0" y="0"/>
            <a:ext cx="600120" cy="110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6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Slide_iconblue_pc"/>
          <p:cNvPicPr/>
          <p:nvPr/>
        </p:nvPicPr>
        <p:blipFill>
          <a:blip r:embed="rId2"/>
          <a:stretch/>
        </p:blipFill>
        <p:spPr>
          <a:xfrm>
            <a:off x="3179880" y="4829040"/>
            <a:ext cx="2349360" cy="141948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  <p:pic>
        <p:nvPicPr>
          <p:cNvPr id="57" name="Picture 8" descr="BD21332_"/>
          <p:cNvPicPr/>
          <p:nvPr/>
        </p:nvPicPr>
        <p:blipFill>
          <a:blip r:embed="rId3"/>
          <a:stretch/>
        </p:blipFill>
        <p:spPr>
          <a:xfrm>
            <a:off x="1539720" y="3603600"/>
            <a:ext cx="6035760" cy="3430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4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4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14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85640" indent="-221400">
              <a:spcBef>
                <a:spcPts val="1400"/>
              </a:spcBef>
              <a:buClr>
                <a:srgbClr val="ff99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18280" indent="-221400">
              <a:spcBef>
                <a:spcPts val="1400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hapter 15:  Security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Layout of Typical Stack Fram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rcRect l="454" t="11271" r="690" b="10671"/>
          <a:stretch/>
        </p:blipFill>
        <p:spPr>
          <a:xfrm>
            <a:off x="1309680" y="1370160"/>
            <a:ext cx="6589800" cy="39020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Modified Shell Cod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main(int argc, char *argv[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xecvp(‘‘\bin\sh’’,‘‘\bin \sh’’, NUL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Hypothetical Stack Fram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rcRect l="661" t="4952" r="661" b="5252"/>
          <a:stretch/>
        </p:blipFill>
        <p:spPr>
          <a:xfrm>
            <a:off x="1173240" y="1081080"/>
            <a:ext cx="6878520" cy="46944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sp>
        <p:nvSpPr>
          <p:cNvPr id="121" name="Text Box 4"/>
          <p:cNvSpPr/>
          <p:nvPr/>
        </p:nvSpPr>
        <p:spPr>
          <a:xfrm>
            <a:off x="1454040" y="5894280"/>
            <a:ext cx="23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 at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6257880" y="5892840"/>
            <a:ext cx="170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at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rogram Threats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 fragment embedded in legitimat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specific to CPU architecture, operating system, 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ually borne via email or as a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 Basic Macro to reformat hard d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b AutoOpen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im o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oFS = CreateObject(’’Scripting.FileSystemObject’’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vs = Shell(’’c:command.com /k format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:’’,vbHi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d Su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rogram Threats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us dropp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serts virus onto th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tegories of viruses, literally many thousands of vir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ymorph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ryp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nn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art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mo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 Boot-sector Computer Viru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rcRect l="15043" t="866" r="15471" b="866"/>
          <a:stretch/>
        </p:blipFill>
        <p:spPr>
          <a:xfrm>
            <a:off x="1874880" y="1052640"/>
            <a:ext cx="4927680" cy="52257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ystem and Network Threat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ms – us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a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chanism; standalon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 w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oited UNIX networking features (remote access) and bugs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n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ndmai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ppling hoo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gram uploaded main worm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 sc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ed attempt to connect to a range of ports on one or a range of IP addr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al of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load the targeted computer preventing it from doing any usefu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ted denial-of-service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D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come from multiple sites a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The Morris Internet Worm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32" name="Picture 1028" descr=""/>
          <p:cNvPicPr/>
          <p:nvPr/>
        </p:nvPicPr>
        <p:blipFill>
          <a:blip r:embed="rId1"/>
          <a:srcRect l="698" t="17862" r="458" b="17862"/>
          <a:stretch/>
        </p:blipFill>
        <p:spPr>
          <a:xfrm>
            <a:off x="1082520" y="1271520"/>
            <a:ext cx="7366320" cy="35924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ryptography as a Security Tool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adest security tool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 and destination of messages cannot be trusted without crypt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s to constrain potential senders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urc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and / or receivers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stina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secrets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Secure Communication over Insecure Medium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/>
          <a:srcRect l="13123" t="925" r="13123" b="605"/>
          <a:stretch/>
        </p:blipFill>
        <p:spPr>
          <a:xfrm>
            <a:off x="1617840" y="941400"/>
            <a:ext cx="5513040" cy="55213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hapter 15:  Security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19000" y="12711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curity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Thre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and Network Thre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yptography as a Security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ing Security Defe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ewalling to Protect Systems and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-Security Classif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xample: Windows 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Encryp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12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ryption algorithm consists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t of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ke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t of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Mess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t of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iphertexts (encrypted messag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function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→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. That is, for each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is a function for generating ciphertexts from messag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612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th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for 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ould be efficiently computable func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function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→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. That is, for each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is a function for generating messages from ciphertext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612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th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for 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ould be efficiently computable func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12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 encryption algorithm must provide this essential property: Given a ciphertex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a computer can comput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h tha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ly if it possesse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us, a computer holding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can decrypt ciphertexts to the plaintexts used to produce them, but a computer not holding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cannot decrypt ciphertex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12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nce ciphertexts are generally exposed (for example, sent on the network), it is important that it be infeasible to deriv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from the ciphertex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ymmetric Encryp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key used to encrypt and decry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can be derived 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and vice ver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 is most commonly used symmetric block-encryption algorithm (created by US Gov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rypts a block of data at a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ple-DES considered more sec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ced Encryption Standard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fis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p and co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C4 is most common symmetric stream cipher, but known to have vulner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rypts/decrypts a stream of bytes (i.e wireless transmis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 is a input to psuedo-random-bit gen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es an infinit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symmetric Encryp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-key encryption based on each user having two key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key – published key used to encrypt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e key – key known only to individual user used to decrypt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be an encryption scheme that can be made public without making it easy to figure out the decryption sch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common is RSA block cip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icient algorithm for testing whether or not a number is pr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efficient algorithm is know for finding the prime factors of a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symmetric Encryption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ally, it is computationally infeasible to deriv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, 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, 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and s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need not be kept secret and can be widely dissemin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, 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(or jus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s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, 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(or jus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s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vate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product of two large, randomly chosen prime number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or example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512 bits ea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ryption algorithm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, 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000" spc="-1" strike="noStrike" baseline="12000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isfi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−1)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−1)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ecryption algorithm is the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, 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000" spc="-1" strike="noStrike" baseline="12000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symmetric Encryption Exampl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xample. mak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7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then calcula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7∗13 = 91 and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−1)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−1) = 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next sele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ely prime to 72 an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2, yielding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ly,we calcula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h th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 72 = 1, yielding 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ow have our k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key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e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5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e key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, 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29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rypting the message 69 with the public key results in the cyphertext 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phertext can be decoded with the private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key can be distributed in cleartext to anyone who wants to communicate with holder of public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Encryption and Decryption using RSA Asymmetric Cryptography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rcRect l="30363" t="546" r="30795" b="832"/>
          <a:stretch/>
        </p:blipFill>
        <p:spPr>
          <a:xfrm>
            <a:off x="3181320" y="841320"/>
            <a:ext cx="3017880" cy="57466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ryptography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symmetric cryptography based on transformations, asymmetric based on mathematical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mmetric much more compute inten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ly not used for bulk data encryp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uthentic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training set of potential senders of a 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ementary and sometimes redundant to encry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an prove message unmodif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gorithm compon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et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 ke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et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et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 authenti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functio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→ 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at is, for each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is a function for generating authenticators from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th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for an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uld be efficiently computable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functio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→ 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ue, false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. That is, for each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is a function for verifying authenticators on mess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th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for an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uld be efficiently computable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uthentication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 messag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 computer can generate an authenticat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h th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,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ly if it possess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computer hold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can generate authenticators on messages so that any other computer possess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can verify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not hold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cannot generate authenticators on messages that can be verified us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authenticators are generally exposed (for example, they are sent on the network with the messages themselves), it must not be feasible to deriv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rom the authentic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uthentication – Hash Function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s of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small, fixed-size block of data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ssage digest, hash val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h Fun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be collision resistant 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be infeasible to find a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≠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h th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t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essage has not been mod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message-digest functions inclu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D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ich produces a 128-bit hash,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ich outputs a 160-bit ha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iscuss security threats and atta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plain the fundamentals of encryption, authentication, and has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amine the uses of cryptography in comp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scribe the various countermeasures to security atta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uthentication - MAC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metric encryption used i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ssage-authentication cod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authentication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 defin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, 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 function that is one-way on its first arg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SzPct val="75000"/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not be derived 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, 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ause of the collision resistance in the hash function, reasonably assured no other message could create the same 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uitable verification algorithm i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,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≡ (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,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needed to compute bo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so anyone able to compute one can compute the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uthentication – Digital Signatur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d on asymmetric keys and digital signature algorith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enticators produced ar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gital sign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a digital-signature algorithm, computationally infeasible to deriv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from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one-way 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us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the public key an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the private k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ider the RSA digital-signature algorith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to the RSA encryption algorithm, but the key use is rever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gital signature of messag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600" spc="-1" strike="noStrike" baseline="12000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ke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ain is a pair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, 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wher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the product of two large, randomly chosen prime number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ification algorithm i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, 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≡ 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600" spc="-1" strike="noStrike" baseline="10000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tisfie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 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− 1)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− 1) =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uthentication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authentication if a subset of encryp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wer computations (except for RSA digital signatu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enticator usually shorter than me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times want authentication but not confidenti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ed patches et 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basis f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n-repu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Key Distribu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ivery of symmetric key is huge 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times don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-of-b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mmetric keys can proliferate – stored o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 asymmetric key distribution needs care – man-in-the-middle at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Man-in-the-middle Attack on Asymmetric Cryptography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rcRect l="19598" t="842" r="19794" b="551"/>
          <a:stretch/>
        </p:blipFill>
        <p:spPr>
          <a:xfrm>
            <a:off x="2314440" y="885960"/>
            <a:ext cx="4629240" cy="56480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Digital Certificat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of of who or what owns a public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key digitally signed a trusted pa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sted party receives proof of identification from entity and certifies that public key belongs to e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rtificate authority are trusted party – their public keys included with web browser dis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vouch for other authorities via digitally signing their keys, and so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Encryption Example - SSL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ion of cryptography at one layer of the ISO network model (the transport lay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L – Secure Socket Layer (also called T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yptographic protocol that limits two computers to only exchange messages with each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complicated, with many vari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between web servers and browsers for secure communication (credit card numb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rver is verified with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rtificat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ring client is talking to correct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mmetric cryptography used to establish a secur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 ke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symmetric encryption) for bulk of communication during s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 between each computer theb uses symmetric key crypt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User Authentic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ucial to identify user correctly, as protection systems depend on us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dentity most often established throug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sswor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can be considered a special case of either keys or cap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can include something user has and /or a user attrib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words must be kept secr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t change of pass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“non-guessable” pass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 all invalid access attem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words may also either be encrypted or allowed to be used only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Implementing Security Defens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ense in dep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most common security theory – multiple layers of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policy describes what is being secu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ulnerability assessment compares real state of system / network compared to security 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usion detection endeavors to detect attempted or successful intru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gnature-bas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tection spots known bad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omaly dete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pots differences from normal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detec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ero-d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ta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lse-positiv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lse-negativ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us 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diting, accounting, and logging of all or specific system or network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Firewalling to Protect Systems and Network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etwork firewall is placed between trusted and untrusted h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rewall limits network access between these two security dom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tunneled or spoof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nneling allows disallowed protocol to travel within allowed protocol (i.e. telnet inside of HTT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ewall rules typically based on host name or IP address which can be spoof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onal firew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software layer on given 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monitor / limit traffic to and from the 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xy firew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nderstands application protocol and can control them (i.e. SMT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-call firew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nitors all important system calls and apply rules to them (i.e. this program can execute that system ca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The Security Problem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must consider external environment of the system, and protect the system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uders (crackers) attempt to breach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potential security vio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ta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ttempt to breach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ack can be accidental or malic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ier to protect against accidental than malicious mis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5400" y="241200"/>
            <a:ext cx="8034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3300"/>
                </a:solidFill>
                <a:latin typeface="Arial"/>
              </a:rPr>
              <a:t>Network Security Through Domain Separation Via Firewall</a:t>
            </a:r>
            <a:endParaRPr b="1" lang="en-US" sz="2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rcRect l="727" t="9647" r="1207" b="9647"/>
          <a:stretch/>
        </p:blipFill>
        <p:spPr>
          <a:xfrm>
            <a:off x="1363680" y="1271520"/>
            <a:ext cx="6740640" cy="41608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omputer Security Classification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.S. Department of Defense outlines four divisions of computer security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Minimal secur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Provides discretionary protection through auditing. Divided int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fies cooperating users with the same level of protection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llows user-level access contr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All the properties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however each object may have unique sensitivity labels. Divided int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Uses formal design and verification techniques to ensure secur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Example: Windows XP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6560" y="1282320"/>
            <a:ext cx="764244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is based on user accou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user has unique security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n to ID creat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urity access to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des security ID for user, for user’s groups, and special privile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process gets copy of to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checks token to determine if access allowed or den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a subject model to ensure access security. A subject tracks and manages permissions for each program that a user 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object in Windows XP has a security attribute defined by a security descri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xample, a file has a security descriptor that indicates the access permissions for all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ecurity Violation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teg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each of confidenti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each of integ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each of 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ft of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nial of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querading (breach authentic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lay at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ssage mod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-in-the-middle at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 hij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tandard Security Attack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rcRect l="21832" t="1363" r="21832" b="1363"/>
          <a:stretch/>
        </p:blipFill>
        <p:spPr>
          <a:xfrm>
            <a:off x="2411280" y="876240"/>
            <a:ext cx="4416480" cy="57196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ecurity Measure Level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must occur at four levels to be effecti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oi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cial engineering, phishing, dumpster di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is as week as the weakest ch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rogram Threat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ojan Hor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de segment that misuses its e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loits mechanisms for allowing programs written by users to be executed by other u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yware, pop-up browser windows, covert chan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p Do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fic user identifier or password that circumvents normal security proced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ld be included in a compi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c Bom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 that initiates a security incident under certain circum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 and Buffer Over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loits a bug in a program (overflow either the stack or memory buffe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C Program with Buffer-overflow Condition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#include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dio.h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#define BUFFER SIZE 2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main(int argc, char *argv[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r buffer[BUFFER SIZE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argc &lt;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-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cpy(buffer,argv[1]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4T18:07:37Z</dcterms:created>
  <dc:creator/>
  <dc:description/>
  <dc:language>en-US</dc:language>
  <cp:lastModifiedBy>LOVE GOEL</cp:lastModifiedBy>
  <cp:lastPrinted>2001-07-05T20:37:20Z</cp:lastPrinted>
  <dcterms:modified xsi:type="dcterms:W3CDTF">2008-08-09T10:14:15Z</dcterms:modified>
  <cp:revision>0</cp:revision>
  <dc:subject/>
  <dc:title/>
</cp:coreProperties>
</file>