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7.</a:t>
            </a:r>
            <a:fld id="{BB87072D-5C5E-4094-9F51-26C9F3005CAA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320" y="6613560"/>
            <a:ext cx="33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Apr 4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7:  Distributed-Fil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1840" y="228600"/>
            <a:ext cx="728496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ache Location – Disk vs. Main Memor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disk c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data kept on disk are still there during recovery and don’t need to be fetched aga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main-memory cach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 workstations to be disk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an be accessed more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speedup in bigger mem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caches (used to speed up disk I/O) are in main memory regardless of where user caches are located; using main-memory caches on the user machine permits a single caching mechanism for servers and us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ache Update Polic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-throu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write data through to disk as soon as they are placed on any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le, but poor performa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ayed-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modifications written to the cache and then written through to the serve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accesses complete quickly; some data may be overwritten before they are written back, and so need never be written a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or reliability; unwritten data will be lost whenever a user machine cras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– scan cache at regular intervals and flush blocks that have been modified since the last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-on-cl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rites data back to the server when the file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for files that are open for long periods and frequently mod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achefs and its Use of Cach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rcRect l="605" t="3229" r="605" b="3204"/>
          <a:stretch/>
        </p:blipFill>
        <p:spPr>
          <a:xfrm>
            <a:off x="1573200" y="1574640"/>
            <a:ext cx="5937120" cy="4218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sistenc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locally cached copy of the data consistent with the master copy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-initiat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initiates a validity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checks whether the local data are consistent with the master cop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-initiat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records, for each client, the (parts of) files it ca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erver detects a potential inconsistency, it must re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16160" y="390600"/>
            <a:ext cx="74390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omparing Caching and Remote Servic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ching, many remote accesses handled efficiently by the local cache; most remote accesses will be served as fast as local 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 are contracted only occasionally in caching (rather than for each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erver load and network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s potential for 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server method handles every remote access across the network; penalty in network traffic, server load,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etwork overhead in transmitting big chunks of data (caching) is lower than a series of responses to specific requests (remote-ser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1880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aching and Remote Service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ing is superior in access patterns with infrequent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frequent writes, substantial overhead incurred to overcome cache-consistency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 from caching when execution carried out on machines with either local disks or large main mem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access on diskless, small-memory-capacity machines should be done through remote-service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ching, the lower intermachine interface is different form the upper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mote-service, the intermachine interface mirrors the local user-file-system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teful File Servi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opens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fetches information about the file from its disk, stores it in its memory, and gives the client a connection identifier unique to the client and the open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 is used for subsequent accesses until the session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must reclaim the main-memory space used by clients who are no longer a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disk a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ful server knows if a file was opened for sequential access and can thus read ahead the nex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teless File Serv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state information by making each request self-contain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quest identifies the file and position in the 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establish and terminate a connection by open and clos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8520" y="382680"/>
            <a:ext cx="74930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Distinctions Between Stateful &amp; Stateless Service 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teful server loses all its volatile state in a cr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 state by recovery protocol based on a dialog with clients, or abort operations that were underway when the crash oc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eeds to be aware of client failures in order to reclaim space allocated to record the state of crashed client processes (orphan detection and eli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tateless server, the effects of server failure sand recovery are almost unnotic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ly reincarnated server can respond to a self-contained request without any difficu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tinction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alties for using the robust stateless servi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 request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request proces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constraints imposed on DFS desig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environments require stateful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rver employing server-initiated cache validation cannot provide stateless service, since it maintains a record of which files are cached by which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use of file descriptors and implicit offsets is inherently stateful; servers must maintain tables to map the file descriptors to inodes, and store the current offset within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6120" y="33012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7  Distributed-Fil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and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File A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ful versus Stateless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: A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Repl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s of the same file reside on failure-independent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s availability and can shorten servic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scheme maps a replicated file name to a particular re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nce of replicas should be invisible to higher lev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s must be distinguished from one another by different lower-level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s – replicas of a file denote the same logical entity, and thus an update to any replica must be reflected on all other rep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replication – reading a nonlocal replica causes it to be cached locally, thereby generating a new nonprimary repl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n Example: AF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computing environment (Andrew) under development since 1983 at Carnegie-Mellon University, purchased by IBM and released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arc DF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open sourced as OpenA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S tries to solve complex issues such as uniform name space, location-independent file sharing, client-side caching (with cache consistency), secure authentication (via Kerbe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includes server-side caching (via replicas), high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pan 5,000 work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NDREW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 are presented with a partitioned space of file names: 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name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nam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d servers, call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esent the shared name space to the clients as an homogeneous, identical, and location transparent fil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al name space is the root file system of a workstation, from which the shared name space desc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tations ru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tocol to communicate with Vice, and are required to have local disks where they store their local nam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 collectively are responsible for the storage and management of the shared nam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NDREW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 and servers are structured in clusters interconnected by a backbone L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uster consists of a collection of workstations and a cluster server and is connected to the backbone by a rou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ey mechanism selected for remote file operations is whole file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ing a file causes it to be cached, in its entirety, on the local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NDREW Shared Name Sp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’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small component units associated with the files of a singl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fies a Vice file or directory -  A fid is 96 bits long and has three equal-length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node 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ndex into an array containing the inodes of files in a singl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qu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llows reuse of vnode numbers, thereby keeping certain data structures, co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ds are location transparent; therefore, file movements from server to server do not invalidate cached directory cont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information is kept on a volume basis, and the information is replicated on each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NDREW File Oper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caches entire files form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ient workstation interacts with Vice servers only during opening and closing of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n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aches files from Vice when they are opened, and stores modified copies of files back when they are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and writing bytes of a file are done by the kernel without Venus intervention on the cached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 caches contents of directories and symbolic links, for path-nam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s to the caching policy are modifications to directories that are made directly on the server responsibility for tha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NDREW Imple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processes are interfaced to a UNIX kernel with the usual set of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 carries out path-name translation component b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X file system is used as a low-level storage system for both servers and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 cache is a local directory on the workstation’s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Venus and server processes access UNIX files directly by their inodes to avoid the expensive path name-to-inode translation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NDREW Implement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 manages two separate cach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U algorithm used to keep each of them bounded i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tus cache is kept in virtual memory to allow rapid servicing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ile status returning)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cache is resident on the local disk, but the UNIX  I/O buffering mechanism does some caching of the disk blocks in memory that are transparent to 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g. 17.01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605" t="3229" r="605" b="3204"/>
          <a:stretch/>
        </p:blipFill>
        <p:spPr>
          <a:xfrm>
            <a:off x="1666800" y="1039680"/>
            <a:ext cx="6542280" cy="4646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naming mechanism that provides location transparency and 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various methods for accessing distribute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rast stateful and stateless distributed file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how how replication of files on different machines in a distributed file system is a useful redundancy for improving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troduce the Andrew file system (AFS) as an example of a distributed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file system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a distributed implementation of the classical time-sharing model of a file system, where multiple users share files and storage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FS manages set of dispersed storage de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storage space managed by a DFS is composed of different, remotely located, smaller storage spa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usually a correspondence between constituent storage spaces and sets of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FS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oftware entity running on one or more machines and providing a particular type of function to a priori unknown cli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rvice software running on a single mach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process that can invoke a service using a set of operations that forms i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ent interfa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ient interface for a file service is formed by a set of primiti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e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reate, delete, read, writ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interface of a DFS should be transparent, i.e., not distinguish between local and remote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aming and Transparenc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apping between logical and physical ob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level map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bstraction of a file that hides the details of how and where on the disk the file is actually sto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a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FS hides the location where in the network the file is sto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file being replicated in several sites, the mapping returns a set of the locations of this file’s replicas; both the existence of multiple copies and their location are h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aming Structure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15760" y="1303200"/>
            <a:ext cx="690228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transpar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file name does not reveal the file’s physical storag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indepen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ile name does not need to be changed when the file’s physical storage location 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3880" y="32688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Naming Schemes — Three Main Approaches 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named by combination of their host name and local name; guarantees a unique systemwide 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remote directories to local directories, giving the appearance of a coherent directory tree; only previously mounted remote directories can be accessed transpa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integration of the component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global name structure spans all the file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erver is unavailable, some arbitrary set of directories on different machines also becomes un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mote File Acces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te-service mech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ne transfer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network traffic by retaining recently accessed disk blocks in a cache, so that repeated accesses to the same information can be handled local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eded data not already cached, a copy of data is brought from the server to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es are performed on the cached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identified with one master copy residing at the server machine, but copies of (parts of) the file are scattered in different c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-consistency probl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keeping the cached copies consistent with the maste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be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virtu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5:36:17Z</dcterms:created>
  <dc:creator/>
  <dc:description/>
  <dc:language>en-US</dc:language>
  <cp:lastModifiedBy>LOVE GOEL</cp:lastModifiedBy>
  <cp:lastPrinted>2001-07-09T17:29:32Z</cp:lastPrinted>
  <dcterms:modified xsi:type="dcterms:W3CDTF">2008-08-09T10:14:15Z</dcterms:modified>
  <cp:revision>0</cp:revision>
  <dc:subject/>
  <dc:title/>
</cp:coreProperties>
</file>