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05720" y="6613560"/>
            <a:ext cx="9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17.</a:t>
            </a:r>
            <a:fld id="{A4699ACD-73B4-4EB3-8291-9C4070F14318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320" y="6613560"/>
            <a:ext cx="336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Apr 4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7:  Distributed-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1840" y="228600"/>
            <a:ext cx="728496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ache Location – Disk vs. Main Memory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disk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l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data kept on disk are still there during recovery and don’t need to be fetched agai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main-memory cach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 workstations to be disk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can be accessed more quick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speedup in bigger mem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aches (used to speed up disk I/O) are in main memory regardless of where user caches are located; using main-memory caches on the user machine permits a single caching mechanism for servers and us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e Update Poli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-throu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write data through to disk as soon as they are placed on any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iable, but poor performan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ayed-wri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modifications written to the cache and then written through to the server la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e accesses complete quickly; some data may be overwritten before they are written back, and so need never be written a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or reliability; unwritten data will be lost whenever a user machine crash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scan cache at regular intervals and flush blocks that have been modified since the last sc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riation –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-on-cl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rites data back to the server when the file is clo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t for files that are open for long periods and frequently mod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efs and its Use of Cach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rcRect l="605" t="3229" r="605" b="3204"/>
          <a:stretch/>
        </p:blipFill>
        <p:spPr>
          <a:xfrm>
            <a:off x="1573200" y="1574640"/>
            <a:ext cx="5937120" cy="42181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sist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locally cached copy of the data consistent with the master copy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-initia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itiates a validity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checks whether the local data are consistent with the master cop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-initiated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records, for each client, the (parts of) files it cach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server detects a potential inconsistency, it must rea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16160" y="390600"/>
            <a:ext cx="7439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Comparing Caching and Remote Servic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ching, many remote accesses handled efficiently by the local cache; most remote accesses will be served as fast as local 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are contracted only occasionally in caching (rather than for each acc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erver load and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hances potential for sca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server method handles every remote access across the network; penalty in network traffic, server load,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etwork overhead in transmitting big chunks of data (caching) is lower than a series of responses to specific requests (remote-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880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aching and Remote Servic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ing is superior in access patterns with infrequent wr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frequent writes, substantial overhead incurred to overcome cache-consistency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efit from caching when execution carried out on machines with either local disks or large main mem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access on diskless, small-memory-capacity machines should be done through remote-service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ching, the lower intermachine interface is different form the upper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remote-service, the intermachine interface mirrors the local user-file-system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ful File Servi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opens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fetches information about the file from its disk, stores it in its memory, and gives the client a connection identifier unique to the client and the open f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ier is used for subsequent accesses until the session 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must reclaim the main-memory space used by clients who are no longer act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disk ac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ful server knows if a file was opened for sequential access and can thus read ahead the nex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teless File Server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state information by making each request self-contain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quest identifies the file and position in the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to establish and terminate a connection by open and close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8520" y="382680"/>
            <a:ext cx="74930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Distinctions Between Stateful &amp; Stateless Service 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tateful server loses all its volatile state in a cr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ore state by recovery protocol based on a dialog with clients, or abort operations that were underway when the crash occur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eeds to be aware of client failures in order to reclaim space allocated to record the state of crashed client processes (orphan detection and eli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stateless server, the effects of server failure sand recovery are almost unnotice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ewly reincarnated server can respond to a self-contained request without any diffi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tinction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alties for using the robust stateless servi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er reques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wer request process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constraints imposed on DFS desig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nvironments require stateful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employing server-initiated cache validation cannot provide stateless service, since it maintains a record of which files are cached by which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use of file descriptors and implicit offsets is inherently stateful; servers must maintain tables to map the file descriptors to inodes, and store the current offset with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16120" y="33012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17  Distributed-File System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and Transpar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File Ac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ful versus Stateless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Re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Example: 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Repl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s of the same file reside on failure-independent mach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s availability and can shorten service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ing scheme maps a replicated file name to a particular rep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stence of replicas should be invisible to higher lev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icas must be distinguished from one another by different lower-level n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s – replicas of a file denote the same logical entity, and thus an update to any replica must be reflected on all other repl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replication – reading a nonlocal replica causes it to be cached locally, thereby generating a new nonprimary replic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 Example: AF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istributed computing environment (Andrew) under development since 1983 at Carnegie-Mellon University, purchased by IBM and released 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arc DF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w open sourced as OpenA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S tries to solve complex issues such as uniform name space, location-independent file sharing, client-side caching (with cache consistency), secure authentication (via Kerber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includes server-side caching (via replicas), high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span 5,000 work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are presented with a partitioned space of file names: 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name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d servers, calle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resent the shared name space to the clients as an homogeneous, identical, and location transparent file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cal name space is the root file system of a workstation, from which the shared name space desc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tations ru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irt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tocol to communicate with Vice, and are required to have local disks where they store their local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 collectively are responsible for the storage and management of the shared nam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s and servers are structured in clusters interconnected by a backbone LA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uster consists of a collection of workstations and a cluster server and is connected to the backbone by a rout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key mechanism selected for remote file operations is whole file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ing a file causes it to be cached, in its entirety, on the local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Shared Name Sp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’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lu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small component units associated with the files of a single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dentifies a Vice file or directory -  A fid is 96 bits long and has three equal-length compon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index into an array containing the inodes of files in a single vol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qu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llows reuse of vnode numbers, thereby keeping certain data structures, co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ds are location transparent; therefore, file movements from server to server do not invalidate cached directory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ion information is kept on a volume basis, and the information is replicated on each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File Oper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caches entire files form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ient workstation interacts with Vice servers only during opening and closing of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n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aches files from Vice when they are opened, and stores modified copies of files back when they are cl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 and writing bytes of a file are done by the kernel without Venus intervention on the cached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caches contents of directories and symbolic links, for path-name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s to the caching policy are modifications to directories that are made directly on the server responsibility for tha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Implement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processes are interfaced to a UNIX kernel with the usual set of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carries out path-name translation component b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is used as a low-level storage system for both servers and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cache is a local directory on the workstation’s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Venus and server processes access UNIX files directly by their inodes to avoid the expensive path name-to-inode translation rou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NDREW Implement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nus manages two separate cach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st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o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algorithm used to keep each of them bounded in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atus cache is kept in virtual memory to allow rapid servicing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le status returning)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cache is resident on the local disk, but the UNIX  I/O buffering mechanism does some caching of the disk blocks in memory that are transparent to Ve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g. 17.01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rcRect l="605" t="3229" r="605" b="3204"/>
          <a:stretch/>
        </p:blipFill>
        <p:spPr>
          <a:xfrm>
            <a:off x="1666800" y="1039680"/>
            <a:ext cx="6542280" cy="4646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Objectiv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plain the naming mechanism that provides location transparency and indepen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escribe the various methods for accessing distributed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rast stateful and stateless distributed file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how how replication of files on different machines in a distributed file system is a useful redundancy for improving avail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introduce the Andrew file system (AFS) as an example of a distributed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ackgroun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file system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F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a distributed implementation of the classical time-sharing model of a file system, where multiple users share files and storage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FS manages set of dispersed storag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all storage space managed by a DFS is composed of different, remotely located, smaller storage spa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usually a correspondence between constituent storage spaces and sets of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F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oftware entity running on one or more machines and providing a particular type of function to a priori unknown cli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rvice software running on a single machin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process that can invoke a service using a set of operations that forms it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lient interfac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lient interface for a file service is formed by a set of primitiv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le opera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reate, delete, read, wri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 interface of a DFS should be transparent, i.e., not distinguish between local and remote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aming and Transparen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mapping between logical and physical ob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level mapp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abstraction of a file that hides the details of how and where on the disk the file is actually sto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ar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FS hides the location where in the network the file is stor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file being replicated in several sites, the mapping returns a set of the locations of this file’s replicas; both the existence of multiple copies and their location are hid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aming Structure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15760" y="1303200"/>
            <a:ext cx="690228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transparenc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 file name does not reveal the file’s physical storag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independ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file name does not need to be changed when the file’s physical storage location 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3880" y="32688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aming Schemes — Three Main Approaches 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named by combination of their host name and local name; guarantees a unique systemwide nam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tach remote directories to local directories, giving the appearance of a coherent directory tree; only previously mounted remote directories can be accessed transpa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integration of the component fi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global name structure spans all the fil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erver is unavailable, some arbitrary set of directories on different machines also becomes unavail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File Acces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15760" y="130284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te-service mechanis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one transfer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network traffic by retaining recently accessed disk blocks in a cache, so that repeated accesses to the same information can be handled local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eeded data not already cached, a copy of data is brought from the server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es are performed on the cached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identified with one master copy residing at the server machine, but copies of (parts of) the file are scattered in different c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-consistency proble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keeping the cached copies consistent with the master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ld be call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virtu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5:36:17Z</dcterms:created>
  <dc:creator/>
  <dc:description/>
  <dc:language>en-US</dc:language>
  <cp:lastModifiedBy>LOVE GOEL</cp:lastModifiedBy>
  <cp:lastPrinted>2001-07-09T17:29:32Z</cp:lastPrinted>
  <dcterms:modified xsi:type="dcterms:W3CDTF">2008-08-09T10:14:15Z</dcterms:modified>
  <cp:revision>0</cp:revision>
  <dc:subject/>
  <dc:title/>
</cp:coreProperties>
</file>