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8.</a:t>
            </a:r>
            <a:fld id="{2C13B8CC-0070-41DE-8DC8-6EF261B20597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32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Apr 11, 200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8:  Distributed Coordin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ME:  Fully Distributed Approach (Cont.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whether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es immediately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ssage or defers its reply is based on three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its critical section, then it defers its rep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 enter its critical section, then it send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mediate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to enter its critical section but has not yet entered it, then it compares its own request timestamp with the timestam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s own request timestamp is great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it send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mediate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reply is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esirable Behavior of Fully Distributed Approach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from Deadlock is en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from starvation is ensured, since entry to the critical section is scheduled according to the timestamp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ensures that processes are served in a first-come, first served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messages per critical-section entry i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– 1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inimum number of required messages per critical-section entry when processes act independently and concurr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 Undesirable Consequen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need to know the identity of all other processes in the system, which makes the dynamic addition and removal of processes more comple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of the processes fails, then the entire scheme collap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dealt with by continuously monitoring the state of all the processes in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have not entered their critical section must pause frequently to assure other processes that they intend to enter the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is therefore suited for small, stable sets of cooper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oken-Passing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e a token among processes i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pecial type of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ession of token entitles holder to enter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zed i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irectional ring guarantees freedom from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token – election must be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ed processes – new logical ring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tomicity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all the operations associated with a program unit are executed to completion, or none are perform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distributed system requir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coordin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responsible for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the execution of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ing the transaction into a number of subtransactions, and distribution these subtransactions to the appropriate sites for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ng the termination of the transaction, which may result in the transaction being committed at all sites or aborted at all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Phase Commit Protocol (2PC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fail-stop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the protocol is initiated by the coordinator after the last step of the transaction has been reach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protocol is initiated, the transaction may still be executing at some of the local si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involves all the local sites at which the transaction execu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transaction initiated at si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et the transaction coordinator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ase 1:  Obtaining a Deci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&lt;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to the 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&lt;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message to all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ite receives a &lt;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message, the transaction manager determines if it can commi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:  add &lt;n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to the log and respon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to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log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to stabl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messag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ase 1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collects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spond “ready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response is “abort”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participant fails to respond within time out perio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74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hase 2:  Recording Decision in the Data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adds a decision 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r &lt;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ts log and forces record onto stabl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at record reaches stable storage it is irrevocable (even if failures occ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sends a message to each participant informing it of the decision (commit or ab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s take appropriate action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ilure Handling in 2PC – Site Fail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contains a &lt;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contains an 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ains a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; consul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own, site sen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y-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to the other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contains no control records concer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8  Distributed Coordin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6000" y="1263240"/>
            <a:ext cx="658368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ual Exclu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ing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280" y="5335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Failure Handling in 2PC – Coordinator </a:t>
            </a:r>
            <a:r>
              <a:rPr b="1" i="1" lang="en-US" sz="2700" spc="-1" strike="noStrike">
                <a:solidFill>
                  <a:srgbClr val="993300"/>
                </a:solidFill>
                <a:latin typeface="Arial"/>
              </a:rPr>
              <a:t>C</a:t>
            </a:r>
            <a:r>
              <a:rPr b="1" i="1" lang="en-US" sz="2700" spc="-1" strike="noStrike" baseline="-25000">
                <a:solidFill>
                  <a:srgbClr val="993300"/>
                </a:solidFill>
                <a:latin typeface="Arial"/>
              </a:rPr>
              <a:t>i</a:t>
            </a:r>
            <a:r>
              <a:rPr b="1" i="1" lang="en-US" sz="27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Failure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active site contains a &lt;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in its log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active site contains an 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in its log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ab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 active site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the record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in its log then the failed coordin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have decid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ver, it is preferable to 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ctive sites have a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in their logs, but no additional control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we must wait for the coordinator to re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problem 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blocked pending the recovery of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centralized concurrency schemes to accommodate the distribution of trans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nager coordinates execution of transactions (or subtransactions) that access data at local si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ransaction only executes at that si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ransaction executes at several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cking Protoco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the two-phase locking protocol in a distributed environment by changing how the lock manager is implem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replicated scheme – each site maintains a local lock manager which administers lock and unlock requests for those data items that are stored in that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mplementation involves two message transfers for handling lock requests, and one message transfer for handling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handling is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ngle-Coordinator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lock manager resides in a single chosen site, all lock and unlock requests are made a that si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eadlock hand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bottlen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to loss of concurrency controller if single site fail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-coordinator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ributes lock-manager function over several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jority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drawbacks of central control by dealing with replicated data in a decentralized mann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plicated to impl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-handling algorithms must be modified; possible for deadlock to occur in locking only one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iased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ajority protocol, but requests for shared locks prioritized over requests for exclusive 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overhead on read operations than in majority protocol; but has additional overhead on wri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ajority protocol, deadlock handling is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mary Cop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sites at which a replica resides is designated as the primary si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to lock a data item is made at the primary site of that data i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for replicated data handled in a manner similar to that of unreplicated da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mplementation, but if primary site fails, the data item is unavailable, even though other sites may have a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imestam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unique timestamps in distributed sch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generates a unique local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al unique timestamp is obtained by concatenation of the unique local timestamp with the unique sit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 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d within each site to ensure the fair generation of timestam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-ordering scheme – combine the centralized concurrency control timestamp scheme with the 2PC protocol to obtain a protocol that ensures serializability with no cascading roll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tion of Unique Timestamp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539" t="28326" r="746" b="28636"/>
          <a:stretch/>
        </p:blipFill>
        <p:spPr>
          <a:xfrm>
            <a:off x="1133640" y="1263600"/>
            <a:ext cx="7583400" cy="2479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ordering deadlock-prevention – defin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ing among the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a unique number to all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may request a resource with unique nu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it is not holding a resource with a unique number grater tha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requires little overh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er’s algorithm – designate one of the processes in the system as the process that maintains the information necessary to carry out the Banker’s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mplemented easily, but may require too much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5640" y="1263240"/>
            <a:ext cx="683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various methods for achieving mutual exclusion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how atomic transactions can be implemented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how some of the concurrency-control schemes discussed in Chapter 6 can be modified for use in a distributed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sent schemes for handling deadlock prevention, deadlock avoidance, and deadlock detection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8800" y="15228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mestamped Deadlock-Prevention Schem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a unique priority numb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numbers are used to decide whether a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wait for a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otherwi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e prevents dead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wait-for graph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higher priority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a cycle cannot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ait-Die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112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 nonpreemptive techniq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currently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owed to wait only if it has a smaller timestamp than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ld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 (die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Suppose that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imestamps 5, 10, and 15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rolle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ould-Wait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 preemptive technique; counterpart to the wait-di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currently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owed to wait only if it has a larger timestamp than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young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Otherwi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oun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Suppose that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imestamps 5, 10, and 15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resource will be preempted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rolle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adlock Detec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1308240"/>
            <a:ext cx="63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it-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al wait-for graphs at each local 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nodes of the graph correspond to all the processes that are currently either holding or requesting any of the resources local to that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also use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obal wait-for graph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aph is the union of all local wait-for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 Local Wait-For Graph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458" t="22292" r="458" b="22617"/>
          <a:stretch/>
        </p:blipFill>
        <p:spPr>
          <a:xfrm>
            <a:off x="1373040" y="2162160"/>
            <a:ext cx="6270840" cy="2614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lobal Wait-For Grap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2344" t="17079" r="1093" b="18123"/>
          <a:stretch/>
        </p:blipFill>
        <p:spPr>
          <a:xfrm>
            <a:off x="1452600" y="2205000"/>
            <a:ext cx="6116760" cy="3078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adlock Detection – Centralized Approac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0960" y="1308240"/>
            <a:ext cx="648324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keeps a local wait-for grap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wait-for graph is maintained in a single coordinat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hree different options (points in time) when the wait-for graph may be construc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ever a new edge is inserted or removed in one of the local wait-for 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ically, when a number of changes have occurred in a wait-for 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ever the coordinator needs to invoke the cycle-detection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rollbacks may occur as a result of false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tection Algorithm Based on Option 3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 unique identifiers (timestamps) to requests form different si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quests a resource from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request message with timestam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lab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local wait-fo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edge is inserted in the local wait-for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the request message and cannot immediately grant the requested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Algorithm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roller sends an initiating message to each site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ceiving this message, a site sends its local wait-for graph to the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controller has received a reply from each site, it constructs a graph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structed graph contains a vertex for every proces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 The graph has an edge P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j if and only 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4272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n edge P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j in one of the wait-for graphs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4272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dge P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j with some label TS appears in more than one wait-fo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structed graph contains a cyc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cal and Global Wait-For Graph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484" t="31594" r="738" b="31934"/>
          <a:stretch/>
        </p:blipFill>
        <p:spPr>
          <a:xfrm>
            <a:off x="844560" y="1703520"/>
            <a:ext cx="7521480" cy="2082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vent Orde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ppened-bef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(denoted b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events in the same process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s executed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event of sending a message by one proces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event of receiving that message by another process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ully Distribut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rollers share equally the responsibility for detecting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ite constructs a wait-for graph that represents a part of the total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dd one additional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ch local wait-fo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al wait-for graph contains a cycle that does not involve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a deadlock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ycle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ies the possibility of a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certain whether a deadlock does exist, a distributed deadlock-detection algorithm must b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gmented Local Wait-For Graph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476" t="28282" r="476" b="28282"/>
          <a:stretch/>
        </p:blipFill>
        <p:spPr>
          <a:xfrm>
            <a:off x="846000" y="1263600"/>
            <a:ext cx="7513920" cy="2471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ugmented Local Wait-For Graph in Site S2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458" t="5257" r="1163" b="5577"/>
          <a:stretch/>
        </p:blipFill>
        <p:spPr>
          <a:xfrm>
            <a:off x="1325520" y="1293840"/>
            <a:ext cx="6458040" cy="438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lection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ere a new copy of the coordinator should be re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a unique priority number is associated with each active process in the system, and assume that the priority number o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a one-to-one correspondence between processes and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rdinator is always the process with the largest priority number.  When a coordinator fails, the algorithm must elect that active process with the largest priorit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lgorithms, the bully algorithm and a ring algorithm, can be used to elect a new coordinator in case of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systems where every process can send a message to every other process in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a request that is not answered by the coordinator within a time interv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sume that the coordinator has failed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ies to elect itself as the new coordin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an election message to every process with a higher priority numbe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waits for any of these processes to answer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lly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response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sume that all processes with numbers greater than i have failed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s itself the new coordin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swer is receiv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gins time interv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´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iting to receive a message that a process with a higher priority number has been elec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message is sent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´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ume the process with a higher number has failed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restart th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lly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the coordinator, then, at any time during execu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eceive one of the following two messages from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ew coordinato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&gt;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 turn, records thi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an elec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&gt;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s a respons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gins its own election algorithm, provided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not already initiated such an el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failed process recovers, it immediately begins execution of the same algorith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no active processes with higher numbers, the recovered process forces all processes with lower number to let it become the coordinator process, even if there is a currently active coordinator with a lower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40960" y="1307880"/>
            <a:ext cx="74516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systems organized as a ring (logically or physicall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that the links are unidirectional, and that processes send their messages to their right neighb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maintains an active list, consisting of all the priority numbers of all active processes in the system when the algorithm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Pi detects a coordinator failure, I creates a new active list that is initially empty.  It then sends a message elect(i) to its right neighbor, and adds the number i to its activ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ing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message elect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rom the process on the left, it must respond in one of three way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00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is is the firs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ssage it has seen or sent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eates a new active list with the number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92040"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then sends the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(i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lowed by the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(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00"/>
              </a:spcBef>
              <a:buClr>
                <a:srgbClr val="cc6600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the active list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w contains the numbers of all the active processes in the syste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92040"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now determine the largest number in the active list to identify the new coordinato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00"/>
              </a:spcBef>
              <a:buClr>
                <a:srgbClr val="cc6600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= 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the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92040"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ctive list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ains all the active processes 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5040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now determine the new coordinator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ching Agre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pplications where a set of processes wish to agree on a common “valu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greement may not take place due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y communication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y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ay send garbled or incorrect messages to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set of the processes may collaborate with each other in an attempt to defeat the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Relative Time for Three Concurrent Processes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694" t="4602" r="454" b="4922"/>
          <a:stretch/>
        </p:blipFill>
        <p:spPr>
          <a:xfrm>
            <a:off x="1158840" y="1281240"/>
            <a:ext cx="6546960" cy="4494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ulty Communic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as sent a message to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o proce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know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failures using a time-out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out a message, it also specifies a time interval during which it is willing to wait for an acknowledgment messag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message, it immediately sends an acknowledgmen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the acknowledgment message within the specified time interval, it concludes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it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ime-out occu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transmit its message and wait for an acknowle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nt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receives an acknowledgment, or is notified by the system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ulty Communication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needs to know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its acknowledgment message, in order to decide on how to pro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sence of failure, it is not possible to accomplish th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possible in a distributed environment for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gree completely on their respectiv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5520" y="154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Faulty Processes (Byzantine Generals Problem)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034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medium is reliable, but processes can fail in unpredictable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system of n processes, of which no more than m are fa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each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some priva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se an algorithm that allows each nonfault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onstruct a vec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: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nonfaulty process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both nonfaulty processes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 share the follow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rrect algorithm can be devised onl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st-case delay for reaching agreement is proportionat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 message-passing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ulty Process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5480" y="1307880"/>
            <a:ext cx="77011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gorithm for the case where m = 1 and n = 4 requires two rounds of information exch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sends its private value to the other 3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sends the information it has obtained in the first round to all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faulty process refuses to send messages, a nonfaulty process can choose an arbitrary value and pretend that that value was sent by that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two rounds are completed, a nonfaulty process Pi can construct its vector Xi = (Ai,1, Ai,2, Ai,3, Ai,4)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t least two of the three values reported for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ree, then the majority value is used to set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a default valu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of </a:t>
            </a:r>
            <a:r>
              <a:rPr b="1" lang="en-US" sz="3200" spc="-1" strike="noStrike">
                <a:solidFill>
                  <a:srgbClr val="9933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5480" y="13082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 a timestamp with each system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 that for every pair of events A and B, if 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, then the timestamp of A is less than the timestamp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in each process Pi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LCi is assoc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gical clock can be implemented as a simple counter that is incremented between any two successive events executed within a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clock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otonically incr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cess advances its logical clock when it receives a message whose timestamp is greater than the current value of its logical 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timestamps of two events A and B are the same, then the events are con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ay use the process identity numbers to break ties and to create a total or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tributed Mutual Exclusion (DME)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consist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; each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s at a different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has a critical section that requires mutual ex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ecuting in its critical section, then no other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ecuting in its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esent two algorithms to ensure the mutual exclusion execution of processes in their critical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ME:  Centraliz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5480" y="1307880"/>
            <a:ext cx="7701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processes in the system is chosen to coordinate the entry to the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that wants to enter its critical section sends a request message to the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rdinator decides which process can enter the critical section next, and its sends that process a reply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process receives a reply message from the coordinator, it enters its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xiting its critical section, the process sends a release message to the coordinator and proceeds with its ex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cheme requires three messages per critical-section ent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ME:  Fully Distribut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 to enter its critical section, it generates a new timestamp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ends the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all other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, it may reply immediately or it may defer sending a reply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from all other processes in the system, it can enter its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xiting its critical section, the process sen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 to all its deferred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20:22Z</dcterms:created>
  <dc:creator/>
  <dc:description/>
  <dc:language>en-US</dc:language>
  <cp:lastModifiedBy>LOVE GOEL</cp:lastModifiedBy>
  <cp:lastPrinted>2001-07-09T17:38:11Z</cp:lastPrinted>
  <dcterms:modified xsi:type="dcterms:W3CDTF">2008-08-09T10:14:15Z</dcterms:modified>
  <cp:revision>0</cp:revision>
  <dc:subject/>
  <dc:title/>
</cp:coreProperties>
</file>