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8.</a:t>
            </a:r>
            <a:fld id="{CFBA1758-66E9-446C-A16B-2FB43C472A17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32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Apr 11, 2005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8:  Distributed Coord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15228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ME:  Fully Distributed Approach (Cont.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cision whether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es immediately to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ssage or defers its reply is based on three facto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 its critical section, then it defers its rep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 to enter its critical section, then it send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mediate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nts to enter its critical section but has not yet entered it, then it compares its own request timestamp with the timestam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s own request timestamp is great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it send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mediately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ed fir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the reply is defe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esirable Behavior of Fully Distributed Approach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from Deadlock is ensu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edom from starvation is ensured, since entry to the critical section is scheduled according to the timestamp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stamp ordering ensures that processes are served in a first-come, first served or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messages per critical-section entry is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x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– 1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the minimum number of required messages per critical-section entry when processes act independently and concurren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 Undesirable Consequen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cesses need to know the identity of all other processes in the system, which makes the dynamic addition and removal of processes more comple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one of the processes fails, then the entire scheme collap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an be dealt with by continuously monitoring the state of all the processe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that have not entered their critical section must pause frequently to assure other processes that they intend to enter the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tocol is therefore suited for small, stable sets of cooper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oken-Passing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te a token among processes i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k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pecial type of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ession of token entitles holder to enter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ganized in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irectional ring guarantees freedom from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types of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t token – election must be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ed processes – new logical ring establ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tomicity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all the operations associated with a program unit are executed to completion, or none are perform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i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a distributed system requir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ction coordina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is responsible for the follow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the execution of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ing the transaction into a number of subtransactions, and distribution these subtransactions to the appropriate sites for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ing the termination of the transaction, which may result in the transaction being committed at all sites or aborted at all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Phase Commit Protocol (2PC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fail-stop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of the protocol is initiated by the coordinator after the last step of the transaction has been reach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protocol is initiated, the transaction may still be executing at some of the local si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tocol involves all the local sites at which the transaction execu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L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a transaction initiated at sit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let the transaction coordinator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ase 1:  Obtaining a Decis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s &lt;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to the lo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&lt;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 to all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site receives a &lt;prep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, the transaction manager determines if it can commit the trans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:  add &lt;n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to the log and respond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to the 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log rec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to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messag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hase 1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collects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respond “ready”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response is “abort”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least one participant fails to respond within time out period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2640" y="1746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hase 2:  Recording Decision in the Databas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adds a decision reco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or &lt;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ts log and forces record onto stable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at record reaches stable storage it is irrevocable (even if failures occ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rdinator sends a message to each participant informing it of the decision (commit or abo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397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nts take appropriate action lo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ilure Handling in 2PC – Site Fail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a &lt;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an 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ains a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; consul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own, site send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ry-stat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to the other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 contains no control records concern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, the site execu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8  Distributed Coord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6000" y="1263240"/>
            <a:ext cx="658368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Ord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ual Exclu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omi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hing Agre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280" y="5335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Failure Handling in 2PC – Coordinator </a:t>
            </a:r>
            <a:r>
              <a:rPr b="1" i="1" lang="en-US" sz="2700" spc="-1" strike="noStrike">
                <a:solidFill>
                  <a:srgbClr val="993300"/>
                </a:solidFill>
                <a:latin typeface="Arial"/>
              </a:rPr>
              <a:t>C</a:t>
            </a:r>
            <a:r>
              <a:rPr b="1" i="1" lang="en-US" sz="2700" spc="-1" strike="noStrike" baseline="-25000">
                <a:solidFill>
                  <a:srgbClr val="993300"/>
                </a:solidFill>
                <a:latin typeface="Arial"/>
              </a:rPr>
              <a:t>i</a:t>
            </a:r>
            <a:r>
              <a:rPr b="1" i="1" lang="en-US" sz="27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Failure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ctive site contains a &lt;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in its log,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commit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 active site contains an &lt;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in its log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ust be ab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ome active site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 the record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in its log then the failed coordina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have decided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i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her than wait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ecover, it is preferable to abo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active sites have a &lt;read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record in their logs, but no additional control rec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case we must wait for the coordinator to 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ing problem  –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blocked pending the recovery of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currency Contr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y the centralized concurrency schemes to accommodate the distribution of transac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action manager coordinates execution of transactions (or subtransactions) that access data at local si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ransaction only executes at that sit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ransaction executes at several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cking Protoco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the two-phase locking protocol in a distributed environment by changing how the lock manager is implem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replicated scheme – each site maintains a local lock manager which administers lock and unlock requests for those data items that are stored in that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 involves two message transfers for handling lock requests, and one message transfer for handling unlock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 handling is mor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-Coordinator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lock manager resides in a single chosen site, all lock and unlock requests are made a that si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deadlock handl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ility of bottlene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lnerable to loss of concurrency controller if single site fail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-coordinator appro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ributes lock-manager function over several si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jority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drawbacks of central control by dealing with replicated data in a decentralized mann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mplicated to implem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dlock-handling algorithms must be modified; possible for deadlock to occur in locking only one data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iased Protoc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ajority protocol, but requests for shared locks prioritized over requests for exclusive lock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overhead on read operations than in majority protocol; but has additional overhead on writ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ajority protocol, deadlock handling is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imary Cop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sites at which a replica resides is designated as the primary si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to lock a data item is made at the primary site of that data i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cy control for replicated data handled in a manner similar to that of unreplicated dat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implementation, but if primary site fails, the data item is unavailable, even though other sites may have a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imestam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te unique timestamps in distributed sch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generates a unique local time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lobal unique timestamp is obtained by concatenation of the unique local timestamp with the unique site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c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fined within each site to ensure the fair generation of timestam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stamp-ordering scheme – combine the centralized concurrency control timestamp scheme with the 2PC protocol to obtain a protocol that ensures serializability with no cascading roll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eneration of Unique Timestam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rcRect l="539" t="28326" r="746" b="28636"/>
          <a:stretch/>
        </p:blipFill>
        <p:spPr>
          <a:xfrm>
            <a:off x="1133640" y="1263600"/>
            <a:ext cx="7583400" cy="2479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adlock Preven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-ordering deadlock-prevention – defi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dering among the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 unique number to all system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may request a resource with unique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it is not holding a resource with a unique number grater tha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to implement; requires little overhea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er’s algorithm – designate one of the processes in the system as the process that maintains the information necessary to carry out the Banker’s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mplemented easily, but may require too much over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45640" y="1263240"/>
            <a:ext cx="683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various methods for achieving mutual exclusion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how atomic transactions can be implemented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how some of the concurrency-control schemes discussed in Chapter 6 can be modified for use in a distributed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esent schemes for handling deadlock prevention, deadlock avoidance, and deadlock detection in a distributed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18800" y="152280"/>
            <a:ext cx="77439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Timestamped Deadlock-Prevention Schem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signed a unique priority numb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ity numbers are used to decide whether a process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wait for a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otherw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heme prevents dead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very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wait-for graph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a higher priority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 a cycle cannot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ait-Die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1121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 nonpreemptive techniq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currently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owed to wait only if it has a smaller timestamp than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ld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 (die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Suppose that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imestamps 5, 10, and 15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roll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ould-Wait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a preemptive technique; counterpart to the wait-di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currently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owed to wait only if it has a larger timestamp than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young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Otherwi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rolled back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ounde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 Suppose that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timestamps 5, 10, and 15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resource will be preempted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be rolled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quests a resource held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w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adlock Detec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1308240"/>
            <a:ext cx="638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it-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ap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cal wait-for graphs at each local s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nodes of the graph correspond to all the processes that are currently either holding or requesting any of the resources local to that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also use a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lobal wait-for graph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aph is the union of all local wait-for grap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 Local Wait-For Graph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rcRect l="458" t="22292" r="458" b="22617"/>
          <a:stretch/>
        </p:blipFill>
        <p:spPr>
          <a:xfrm>
            <a:off x="1373040" y="2162160"/>
            <a:ext cx="6270840" cy="2614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Global Wait-For Grap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rcRect l="2344" t="17079" r="1093" b="18123"/>
          <a:stretch/>
        </p:blipFill>
        <p:spPr>
          <a:xfrm>
            <a:off x="1452600" y="2205000"/>
            <a:ext cx="6116760" cy="3078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8305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eadlock Detection – Centralized Approach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40960" y="1308240"/>
            <a:ext cx="648324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ite keeps a local wait-for graph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wait-for graph is maintained in a single coordina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hree different options (points in time) when the wait-for graph may be construct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ever a new edge is inserted or removed in one of the local wait-for grap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ically, when a number of changes have occurred in a wait-for 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ever the coordinator needs to invoke the cycle-detection algorith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necessary rollbacks may occur as a result of false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-763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etection Algorithm Based on Option 3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nd unique identifiers (timestamps) to requests form different si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equests a resource from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 request message with timestam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s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d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lab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inserted in the local wait-for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 edge is inserted in the local wait-for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the request message and cannot immediately grant the requested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Algorithm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roller sends an initiating message to each site in the syste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receiving this message, a site sends its local wait-for graph to th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controller has received a reply from each site, it constructs a graph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structed graph contains a vertex for every proces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)   The graph has an edge P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j if and only i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4272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n edge P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j in one of the wait-for graphs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9520" indent="-342720">
              <a:spcBef>
                <a:spcPts val="788"/>
              </a:spcBef>
              <a:buClr>
                <a:srgbClr val="009900"/>
              </a:buClr>
              <a:buSzPct val="75000"/>
              <a:buFont typeface="Helvetic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dge Pi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j with some label TS appears in more than one wait-fo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constructed graph contains a cycl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cal and Global Wait-For Graph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484" t="31594" r="738" b="31934"/>
          <a:stretch/>
        </p:blipFill>
        <p:spPr>
          <a:xfrm>
            <a:off x="844560" y="1703520"/>
            <a:ext cx="7521480" cy="208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vent Orde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ppened-befo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lation (denoted b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events in the same process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s executed bef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vent of sending a message by one proces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event of receiving that message by another process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ully Distribut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ontrollers share equally the responsibility for detecting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site constructs a wait-for graph that represents a part of the total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add one additional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each local wait-for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cal wait-for graph contains a cycle that does not involve no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the system is in a deadlock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ycle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plies the possibility of a dead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scertain whether a deadlock does exist, a distributed deadlock-detection algorithm must be invo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ugmented Local Wait-For Graph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476" t="28282" r="476" b="28282"/>
          <a:stretch/>
        </p:blipFill>
        <p:spPr>
          <a:xfrm>
            <a:off x="846000" y="1263600"/>
            <a:ext cx="7513920" cy="2471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ugmented Local Wait-For Graph in Site S2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458" t="5257" r="1163" b="5577"/>
          <a:stretch/>
        </p:blipFill>
        <p:spPr>
          <a:xfrm>
            <a:off x="1325520" y="1293840"/>
            <a:ext cx="6458040" cy="438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lection Algorith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where a new copy of the coordinator should be resta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a unique priority number is associated with each active process in the system, and assume that the priority number o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a one-to-one correspondence between processes and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is always the process with the largest priority number.  When a coordinator fails, the algorithm must elect that active process with the largest priority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algorithms, the bully algorithm and a ring algorithm, can be used to elect a new coordinator in case of fail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lly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systems where every process can send a message to every other process in th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a request that is not answered by the coordinator within a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sume that the coordinator has failed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ies to elect itself as the new coord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an election message to every process with a higher priority number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 waits for any of these processes to answer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lly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response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ssume that all processes with numbers greater than i have failed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s itself the new coordinat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nswer is receiv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gins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´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aiting to receive a message that a process with a higher priority number has been elec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 message is sent with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´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ume the process with a higher number has failed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ould restart the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lly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not the coordinator, then, at any time during execution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receive one of the following two messages from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ew coordinato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&gt;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 turn, records thi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arted an election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&gt; 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s a respons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begins its own election algorithm, provided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not already initiated such an el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 failed process recovers, it immediately begins execution of the same algorith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re are no active processes with higher numbers, the recovered process forces all processes with lower number to let it become the coordinator process, even if there is a currently active coordinator with a lower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ing Algorith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40960" y="1307880"/>
            <a:ext cx="745164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to systems organized as a ring (logically or physicall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s that the links are unidirectional, and that processes send their messages to their right neighbor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maintains an active list, consisting of all the priority numbers of all active processes in the system when the algorithm en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rocess Pi detects a coordinator failure, I creates a new active list that is initially empty.  It then sends a message elect(i) to its right neighbor, and adds the number i to its active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ing Algorithm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a message elect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from the process on the left, it must respond in one of three way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00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is is the firs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essage it has seen or sent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reates a new active list with the number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92040"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then sends the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(i)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llowed by the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(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00"/>
              </a:spcBef>
              <a:buClr>
                <a:srgbClr val="cc6600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the active list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ow contains the numbers of all the active processes in the system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92040"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now determine the largest number in the active list to identify the new coordinator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4080" indent="-335880">
              <a:spcBef>
                <a:spcPts val="700"/>
              </a:spcBef>
              <a:buClr>
                <a:srgbClr val="cc6600"/>
              </a:buClr>
              <a:buSzPct val="80000"/>
              <a:buFont typeface="Helvetic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 = 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eives the messag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lect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92040">
              <a:spcBef>
                <a:spcPts val="700"/>
              </a:spcBef>
              <a:buClr>
                <a:srgbClr val="00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ctive list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ains all the active processes in th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80120" indent="-504000">
              <a:spcBef>
                <a:spcPts val="700"/>
              </a:spcBef>
              <a:buClr>
                <a:srgbClr val="ff9900"/>
              </a:buClr>
              <a:buSzPct val="7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an now determine the new coordinator proce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aching Agre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applications where a set of processes wish to agree on a common “value”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agreement may not take place due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y communication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y proc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ay send garbled or incorrect messages to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ubset of the processes may collaborate with each other in an attempt to defeat the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3300"/>
                </a:solidFill>
                <a:latin typeface="Arial"/>
              </a:rPr>
              <a:t>Relative Time for Three Concurrent Processes</a:t>
            </a:r>
            <a:endParaRPr b="1" lang="en-US" sz="26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rcRect l="694" t="4602" r="454" b="4922"/>
          <a:stretch/>
        </p:blipFill>
        <p:spPr>
          <a:xfrm>
            <a:off x="1158840" y="1281240"/>
            <a:ext cx="6546960" cy="4494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ulty Communic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as sent a message to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sit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to proceed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know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the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 failures using a time-out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nds out a message, it also specifies a time interval during which it is willing to wait for an acknowledgment message for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s the message, it immediately sends an acknowledgment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the acknowledgment message within the specified time interval, it concludes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its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ime-out occur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eds to retransmit its message and wait for an acknowled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e unti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ither receives an acknowledgment, or is notified by the system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ulty Communication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so needs to know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received its acknowledgment message, in order to decide on how to proc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esence of failure, it is not possible to accomplish this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not possible in a distributed environment for proces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agree completely on their respective 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55520" y="1540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Faulty Processes (Byzantine Generals Problem)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034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medium is reliable, but processes can fail in unpredictable wa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der a system of n processes, of which no more than m are fa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that each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s some privat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se an algorithm that allows each nonfaulty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onstruct a vect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such that: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nonfaulty process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both nonfaulty processes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 share the following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rrect algorithm can be devised only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x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orst-case delay for reaching agreement is proportionate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1 message-passing de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aulty Process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5480" y="1307880"/>
            <a:ext cx="770112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lgorithm for the case where m = 1 and n = 4 requires two rounds of information exch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sends its private value to the other 3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sends the information it has obtained in the first round to all other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faulty process refuses to send messages, a nonfaulty process can choose an arbitrary value and pretend that that value was sent by that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two rounds are completed, a nonfaulty process Pi can construct its vector Xi = (Ai,1, Ai,2, Ai,3, Ai,4) as follow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i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at least two of the three values reported for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gree, then the majority value is used to set the valu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, a default value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i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</a:t>
            </a:r>
            <a:r>
              <a:rPr b="1" lang="en-US" sz="3200" spc="-1" strike="noStrike">
                <a:solidFill>
                  <a:srgbClr val="9933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25480" y="130824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e a timestamp with each system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re that for every pair of events A and B, if 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, then the timestamp of A is less than the timestamp of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in each process Pi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cloc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LCi is associ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logical clock can be implemented as a simple counter that is incremented between any two successive events executed within a proces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74600" indent="-22608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al clock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otonically in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cess advances its logical clock when it receives a message whose timestamp is greater than the current value of its logical c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timestamps of two events A and B are the same, then the events are concurr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may use the process identity numbers to break ties and to create a total ord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tributed Mutual Exclusion (DME)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consists of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; each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s at a different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has a critical section that requires mutual ex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ecuting in its critical section, then no other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executing in its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present two algorithms to ensure the mutual exclusion execution of processes in their critical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ME:  Centraliz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5480" y="1307880"/>
            <a:ext cx="7701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f the processes in the system is chosen to coordinate the entry to the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that wants to enter its critical section sends a request message to the coord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ordinator decides which process can enter the critical section next, and its sends that process a reply me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e process receives a reply message from the coordinator, it enters its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xiting its critical section, the process sends a release message to the coordinator and proceeds with its exec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cheme requires three messages per critical-section ent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ME:  Fully Distribut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 to enter its critical section, it generates a new timestamp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sends the messa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o all other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, it may reply immediately or it may defer sending a reply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roc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 from all other processes in the system, it can enter its critical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exiting its critical section, the process send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p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 to all its deferred requ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20:22Z</dcterms:created>
  <dc:creator/>
  <dc:description/>
  <dc:language>en-US</dc:language>
  <cp:lastModifiedBy>LOVE GOEL</cp:lastModifiedBy>
  <cp:lastPrinted>2001-07-09T17:38:11Z</cp:lastPrinted>
  <dcterms:modified xsi:type="dcterms:W3CDTF">2008-08-09T10:14:15Z</dcterms:modified>
  <cp:revision>0</cp:revision>
  <dc:subject/>
  <dc:title/>
</cp:coreProperties>
</file>