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19.</a:t>
            </a:r>
            <a:fld id="{60C84360-CA11-4D79-87EC-149820616637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7560" y="6613560"/>
            <a:ext cx="33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Jan 1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9:  Real-Tim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ddress Transl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rcRect l="698" t="17542" r="698" b="16951"/>
          <a:stretch/>
        </p:blipFill>
        <p:spPr>
          <a:xfrm>
            <a:off x="1506600" y="1298520"/>
            <a:ext cx="6735600" cy="3355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84280" y="50760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mplementing Real-Time  </a:t>
            </a:r>
            <a:br>
              <a:rPr sz="3200"/>
            </a:b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ng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, real-time operating systems must prov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Preemptive, priority-based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Preemptive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Latency must be min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inimizing Latenc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 lat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amount of time from when an event occurs to when it is servi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801" t="5311" r="535" b="6344"/>
          <a:stretch/>
        </p:blipFill>
        <p:spPr>
          <a:xfrm>
            <a:off x="1787400" y="2124000"/>
            <a:ext cx="5859720" cy="39355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terrupt Latenc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latency is the period of time from when an interrupt arrives at the CPU to when it is servic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28" descr=""/>
          <p:cNvPicPr/>
          <p:nvPr/>
        </p:nvPicPr>
        <p:blipFill>
          <a:blip r:embed="rId1"/>
          <a:srcRect l="10949" t="920" r="11411" b="920"/>
          <a:stretch/>
        </p:blipFill>
        <p:spPr>
          <a:xfrm>
            <a:off x="1935000" y="2106720"/>
            <a:ext cx="4873680" cy="42638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spatch Latenc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atch lat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amount of time required for the scheduler to stop one process and start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28" descr=""/>
          <p:cNvPicPr/>
          <p:nvPr/>
        </p:nvPicPr>
        <p:blipFill>
          <a:blip r:embed="rId1"/>
          <a:srcRect l="742" t="1708" r="768" b="2353"/>
          <a:stretch/>
        </p:blipFill>
        <p:spPr>
          <a:xfrm>
            <a:off x="1617840" y="2092320"/>
            <a:ext cx="6108480" cy="4462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al-Time CPU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processes require the CPU at specified intervals (perio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duration of th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deadline by when the process must be servi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process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rcRect l="480" t="30103" r="694" b="30772"/>
          <a:stretch/>
        </p:blipFill>
        <p:spPr>
          <a:xfrm>
            <a:off x="843120" y="3405240"/>
            <a:ext cx="7189560" cy="2135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0" y="54000"/>
            <a:ext cx="80773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duling of tasks when P</a:t>
            </a:r>
            <a:r>
              <a:rPr b="1" lang="en-US" sz="3200" spc="-1" strike="noStrike" baseline="-25000">
                <a:solidFill>
                  <a:srgbClr val="99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has a higher priority than P</a:t>
            </a:r>
            <a:r>
              <a:rPr b="1" lang="en-US" sz="3200" spc="-1" strike="noStrike" baseline="-25000">
                <a:solidFill>
                  <a:srgbClr val="9933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rcRect l="487" t="37865" r="735" b="37835"/>
          <a:stretch/>
        </p:blipFill>
        <p:spPr>
          <a:xfrm>
            <a:off x="900000" y="2149560"/>
            <a:ext cx="7697880" cy="1420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ate Montonic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rcRect l="495" t="40016" r="495" b="40311"/>
          <a:stretch/>
        </p:blipFill>
        <p:spPr>
          <a:xfrm>
            <a:off x="895320" y="3635280"/>
            <a:ext cx="7723080" cy="1150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6400" y="12981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iority is assigned based on the inverse of its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r periods = higher prior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r periods = lower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ssigned a higher priority than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2440" y="612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issed Deadlines with </a:t>
            </a:r>
            <a:br>
              <a:rPr sz="3200"/>
            </a:b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ate Monotonic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rcRect l="661" t="40080" r="664" b="40050"/>
          <a:stretch/>
        </p:blipFill>
        <p:spPr>
          <a:xfrm>
            <a:off x="806400" y="2166840"/>
            <a:ext cx="7997760" cy="1208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arliest Deadline First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06400" y="12981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ies are assigned according to deadlin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lier the deadline, the higher the prior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ter the deadline, the lower the prio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rcRect l="712" t="40188" r="712" b="39868"/>
          <a:stretch/>
        </p:blipFill>
        <p:spPr>
          <a:xfrm>
            <a:off x="890640" y="3589200"/>
            <a:ext cx="7704000" cy="11700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6040" y="2170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9:  Real-Tim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6400" y="12981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haracteris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 of Real-Time Syste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ing Real-Time Operating Syste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CPU Schedul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xWorks 5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portional Share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6400" y="12981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ares are allocated among all processes in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pplication receiv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ares whe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&lt;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nsures each application will receiv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/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total processor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thread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06400" y="12981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thread API provides functions for managing real-time thr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hreads defines two scheduling classes for real-time threa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CHED_FIFO - threads are scheduled using a FCFS strategy with a FIFO queue. There is no time-slicing for threads of equal prio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SCHED_RR - similar to SCHED_FIFO except time-slicing occurs for threads of equal prio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xWorks 5.0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rcRect l="21584" t="1171" r="21363" b="2313"/>
          <a:stretch/>
        </p:blipFill>
        <p:spPr>
          <a:xfrm>
            <a:off x="2930400" y="1371600"/>
            <a:ext cx="3760920" cy="47703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ind Microkern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06400" y="12981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ind microkernel provides support for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Processes and threads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preemptive and non-preemptive round-robin scheduling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manages interrupts (with bounded interrupt and dispatch latency times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hared memory and message passing interprocess communication facil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the timing requirements of real-time syste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tinguish between hard and soft real-time syste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the defining characteristics of real-time syste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scheduling algorithms for hard real-tim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verview of Real-Tim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-time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ires that results be produced within a specified deadline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bedded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computing device that is part of a larger system (I.e. automobile, airline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fety-critical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real-time system with catastrophic results in case of fail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ard real-time system guarantees that real-time tasks be completed within their required dead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 real-time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ides priority of real-time tasks over non real-time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Characteristic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xpensively mass-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tim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-on-a-Chip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real-time systems are designed using system-on-a-chip (SOC) strate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 allows the CPU, memory, memory-management unit, and attached peripheral ports (I.e. USB) to be contained in a single integrated circu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us-Oriented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447" t="17724" r="668" b="17754"/>
          <a:stretch/>
        </p:blipFill>
        <p:spPr>
          <a:xfrm>
            <a:off x="1146240" y="1298520"/>
            <a:ext cx="7026120" cy="3438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eatures of Real-Time Kerne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real-time systems do not provide the features found in a standard desktop syste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systems are typically single-purp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systems often do not require interfacing with a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 found in a desktop PC require more substantial hardware that what is typically available in a real-tim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emory in Real-Tim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translation may occur v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-addressing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re programs generate actual addr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gister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Implementing fu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mem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8T17:58:43Z</dcterms:created>
  <dc:creator/>
  <dc:description/>
  <dc:language>en-US</dc:language>
  <cp:lastModifiedBy>LOVE GOEL</cp:lastModifiedBy>
  <cp:lastPrinted>2001-06-14T13:58:17Z</cp:lastPrinted>
  <dcterms:modified xsi:type="dcterms:W3CDTF">2008-08-09T10:19:56Z</dcterms:modified>
  <cp:revision>0</cp:revision>
  <dc:subject/>
  <dc:title/>
</cp:coreProperties>
</file>