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9.</a:t>
            </a:r>
            <a:fld id="{17ED4E65-9398-4CAE-B38A-7A2E9B9D5DE4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56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9: 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 Trans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rcRect l="698" t="17542" r="698" b="16951"/>
          <a:stretch/>
        </p:blipFill>
        <p:spPr>
          <a:xfrm>
            <a:off x="1506600" y="1298520"/>
            <a:ext cx="6735600" cy="3355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84280" y="50760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ing Real-Time 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neral, real-time operating systems must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reemptive, priority-based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Preemptive ker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Latency must be min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nimizing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mount of time from when an event occurs to when it is servi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801" t="5311" r="535" b="6344"/>
          <a:stretch/>
        </p:blipFill>
        <p:spPr>
          <a:xfrm>
            <a:off x="1787400" y="2124000"/>
            <a:ext cx="5859720" cy="39355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latency is the period of time from when an interrupt arrives at the CPU to when it is servic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028" descr=""/>
          <p:cNvPicPr/>
          <p:nvPr/>
        </p:nvPicPr>
        <p:blipFill>
          <a:blip r:embed="rId1"/>
          <a:srcRect l="10949" t="920" r="11411" b="920"/>
          <a:stretch/>
        </p:blipFill>
        <p:spPr>
          <a:xfrm>
            <a:off x="1935000" y="2106720"/>
            <a:ext cx="4873680" cy="4263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patch La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atch lat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mount of time required for the scheduler to stop one process and start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28" descr=""/>
          <p:cNvPicPr/>
          <p:nvPr/>
        </p:nvPicPr>
        <p:blipFill>
          <a:blip r:embed="rId1"/>
          <a:srcRect l="742" t="1708" r="768" b="2353"/>
          <a:stretch/>
        </p:blipFill>
        <p:spPr>
          <a:xfrm>
            <a:off x="1617840" y="2092320"/>
            <a:ext cx="6108480" cy="4462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l-Time 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odic processes require the CPU at specified intervals (perio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uration of th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deadline by when the process must be servi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processing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rcRect l="480" t="30103" r="694" b="30772"/>
          <a:stretch/>
        </p:blipFill>
        <p:spPr>
          <a:xfrm>
            <a:off x="843120" y="3405240"/>
            <a:ext cx="7189560" cy="2135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0" y="54000"/>
            <a:ext cx="8077320" cy="113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 of tasks when P</a:t>
            </a:r>
            <a:r>
              <a:rPr b="1" lang="en-US" sz="3200" spc="-1" strike="noStrike" baseline="-25000">
                <a:solidFill>
                  <a:srgbClr val="9933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has a higher priority than P</a:t>
            </a:r>
            <a:r>
              <a:rPr b="1" lang="en-US" sz="3200" spc="-1" strike="noStrike" baseline="-25000">
                <a:solidFill>
                  <a:srgbClr val="993300"/>
                </a:solidFill>
                <a:latin typeface="Arial"/>
              </a:rPr>
              <a:t>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rcRect l="487" t="37865" r="735" b="37835"/>
          <a:stretch/>
        </p:blipFill>
        <p:spPr>
          <a:xfrm>
            <a:off x="900000" y="2149560"/>
            <a:ext cx="7697880" cy="1420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ate Montonic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495" t="40016" r="495" b="40311"/>
          <a:stretch/>
        </p:blipFill>
        <p:spPr>
          <a:xfrm>
            <a:off x="895320" y="3635280"/>
            <a:ext cx="7723080" cy="1150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iority is assigned based on the inverse of its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r periods = higher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periods =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ssigned a higher priority than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2440" y="612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ssed Deadlines with </a:t>
            </a:r>
            <a:br>
              <a:rPr sz="3200"/>
            </a:b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ate Monotonic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661" t="40080" r="664" b="40050"/>
          <a:stretch/>
        </p:blipFill>
        <p:spPr>
          <a:xfrm>
            <a:off x="806400" y="2166840"/>
            <a:ext cx="7997760" cy="1208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arliest Deadline First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ies are assigned according to deadline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arlier the deadline, the higher the prior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ter the deadline, the lower the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rcRect l="712" t="40188" r="712" b="39868"/>
          <a:stretch/>
        </p:blipFill>
        <p:spPr>
          <a:xfrm>
            <a:off x="890640" y="3589200"/>
            <a:ext cx="7704000" cy="1170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06040" y="21708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9: 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haracteris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of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Real-Time Operating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CPU Schedu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xWorks 5.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portional Share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are allocated among all processes in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plication receiv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s whe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&lt;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ensures each application will receiv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 / 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total processor ti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thread API provides functions for managing real-time threa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-34596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s defines two scheduling classes for real-time threa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SCHED_FIFO - threads are scheduled using a FCFS strategy with a FIFO queue. There is no time-slicing for threads of equal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SCHED_RR - similar to SCHED_FIFO except time-slicing occurs for threads of equal prior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596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xWorks 5.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21584" t="1171" r="21363" b="2313"/>
          <a:stretch/>
        </p:blipFill>
        <p:spPr>
          <a:xfrm>
            <a:off x="2930400" y="1371600"/>
            <a:ext cx="3760920" cy="4770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 Microkern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06400" y="12981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ind microkernel provides support for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Processes and threads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preemptive and non-preemptive round-robin scheduling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manages interrupts (with bounded interrupt and dispatch latency times);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4) shared memory and message passing interprocess communication facil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timing requirements of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tinguish between hard and soft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defining characteristics of real-time system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scheduling algorithms for hard real-tim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verview of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tim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ires that results be produced within a specified deadline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computing device that is part of a larger system (I.e. automobile, airline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fety-critical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real-time system with catastrophic results in case of fail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hard real-time system guarantees that real-time tasks be completed within their required deadl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 real-tim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s priority of real-time tasks over non real-time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haracteristic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xpensively mass-produ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 timing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-on-a-Chip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real-time systems are designed using system-on-a-chip (SOC) strate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 allows the CPU, memory, memory-management unit, and attached peripheral ports (I.e. USB) to be contained in a single integrated circ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s-Oriented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447" t="17724" r="668" b="17754"/>
          <a:stretch/>
        </p:blipFill>
        <p:spPr>
          <a:xfrm>
            <a:off x="1146240" y="1298520"/>
            <a:ext cx="7026120" cy="3438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eatures of Real-Time Kern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real-time systems do not provide the features found in a standard desktop syste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sons incl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ystems are typically single-purp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systems often do not require interfacing with a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tures found in a desktop PC require more substantial hardware that what is typically available in a real-tim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in Real-Tim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may occur v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l-addressing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ere programs generate actual addr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o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ist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) Implementing fu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em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17:58:43Z</dcterms:created>
  <dc:creator/>
  <dc:description/>
  <dc:language>en-US</dc:language>
  <cp:lastModifiedBy>LOVE GOEL</cp:lastModifiedBy>
  <cp:lastPrinted>2001-06-14T13:58:17Z</cp:lastPrinted>
  <dcterms:modified xsi:type="dcterms:W3CDTF">2008-08-09T10:19:56Z</dcterms:modified>
  <cp:revision>0</cp:revision>
  <dc:subject/>
  <dc:title/>
</cp:coreProperties>
</file>