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2.</a:t>
            </a:r>
            <a:fld id="{3DF1B417-67D5-4CF5-A52B-F2F5CBCD3192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760" y="6613560"/>
            <a:ext cx="343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14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11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:  Operating-System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 sequence to copy the contents of one file to anothe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613" t="6123" r="613" b="5710"/>
          <a:stretch/>
        </p:blipFill>
        <p:spPr>
          <a:xfrm>
            <a:off x="1620720" y="2060640"/>
            <a:ext cx="6148440" cy="4116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Standard AP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ReadFile() function i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32 API—a function for reading from a fil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scription of the parameters passed to ReadFil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 file—the file to be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VOID buffer—a buffer where the data will be read into and written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WORD bytesToRead—the number of bytes to be read into th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DWORD bytesRead—the number of bytes read during the last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OVERLAPPED ovl—indicates if overlapped I/O is being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1030" t="29630" r="1030" b="29355"/>
          <a:stretch/>
        </p:blipFill>
        <p:spPr>
          <a:xfrm>
            <a:off x="1585800" y="2120760"/>
            <a:ext cx="6732720" cy="2114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all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a number associated with each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-call interface maintains a table indexed according to thes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call interface invokes intended system call in OS kernel and returns status of the system call and any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er need know nothing about how the system call is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needs to obey API and understand what OS will do as a resul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details of  OS interface hidden from programmer by AP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 by run-time support library (set of functions built into libraries included with compi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PI – System Call – OS Relationship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775" t="9819" r="967" b="10075"/>
          <a:stretch/>
        </p:blipFill>
        <p:spPr>
          <a:xfrm>
            <a:off x="982800" y="1496880"/>
            <a:ext cx="7484760" cy="4577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ndard C Library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7880" y="1315800"/>
            <a:ext cx="76424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program invoking printf() library call, which calls write()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16811" t="669" r="17313" b="335"/>
          <a:stretch/>
        </p:blipFill>
        <p:spPr>
          <a:xfrm>
            <a:off x="2655720" y="2141640"/>
            <a:ext cx="3757680" cy="4235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all Parameter Pass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, more information is required than simply identity of desired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ct type and amount of information vary according to OS an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general methods used to pass parameters to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st:  pass the parameter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, may be more parameters tha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stored in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able, in memory, and address of block passed as a parameter in a regi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pproach taken by Linux and So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placed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she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program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p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the stack by the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and stack methods do not limit the number or length of parameters being 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rameter Passing via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402" t="15263" r="602" b="15529"/>
          <a:stretch/>
        </p:blipFill>
        <p:spPr>
          <a:xfrm>
            <a:off x="1714680" y="1644480"/>
            <a:ext cx="6260760" cy="3283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ypes of 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S-DOS execu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rcRect l="6084" t="507" r="6276" b="1014"/>
          <a:stretch/>
        </p:blipFill>
        <p:spPr>
          <a:xfrm>
            <a:off x="2181240" y="1352520"/>
            <a:ext cx="4905360" cy="4133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37" name="Rectangle 5"/>
          <p:cNvSpPr/>
          <p:nvPr/>
        </p:nvSpPr>
        <p:spPr>
          <a:xfrm>
            <a:off x="2286000" y="56404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t system startup (b) running a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BSD Running Multiple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rcRect l="31655" t="536" r="31655" b="536"/>
          <a:stretch/>
        </p:blipFill>
        <p:spPr>
          <a:xfrm>
            <a:off x="3530520" y="1469880"/>
            <a:ext cx="2311560" cy="4673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:  Operating-System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Operating System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Design an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8040" y="1294920"/>
            <a:ext cx="7326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rograms provide a convenient environment for program development and execution.  The can be divided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ni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languag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loading and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users’ view of the operation system is defined by system programs, not the actual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10 dtrace Following System Cal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rcRect l="19196" t="1319" r="19196" b="2372"/>
          <a:stretch/>
        </p:blipFill>
        <p:spPr>
          <a:xfrm>
            <a:off x="2603520" y="1287360"/>
            <a:ext cx="4297320" cy="5037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convenient environment for program development and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of them are simply user interfaces to system calls; others are considerably more com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management - Create, delete, copy, rename, print, dump, list, and generally manipulate files and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ask the system for info - date, time, amount of available memory, disk space, number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 provide detailed performance, logging, and debugg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, these programs format and print the output to the terminal or other outpu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systems implement  a registry - used to store and retrieve configura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Programs (cont’d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editors to create and modify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commands to search contents of files or perform transformations of 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-language support - Compilers, assemblers, debuggers and interpreters sometimes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loading and execution- Absolute loaders, relocatable loaders, linkage editors, and overlay-loaders, debugging systems for higher-level and machin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- Provide the mechanism for creating virtual connections among processes, users, and comput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users to send messages to one another’s screens, browse web pages, send electronic-mail messages, log in remotely, transfer files from one machin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Operating System Design and Implement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and Implementation of OS not “solvable”, but some approaches have proven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structure of different Operating Systems  can vary wid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by defining goals and specif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ected by choice of hardware, type of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al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goals – operating system should be convenient to use, easy to learn, reliable, safe, and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goals – operating system should be easy to design, implement, and maintain, as well as flexible, reliable, error-free, and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Operating System Design and Implementation (Cont.)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principle to sep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y: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be don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o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 determine how to do something, policies decide what will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paration of policy from mechanism is a very important principle, it allows maximum flexibility if policy decisions are to be changed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mple Structur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 – written to provide the most functionality in the leas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divided into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MS-DOS has some structure, its interfaces and levels of functionality are not well sepa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S-DOS Layer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11721" t="758" r="11532" b="758"/>
          <a:stretch/>
        </p:blipFill>
        <p:spPr>
          <a:xfrm>
            <a:off x="2108160" y="1270080"/>
            <a:ext cx="5156280" cy="4962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ered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is divided into a number of layers (levels), each built on top of lower layers.  The bottom layer (layer 0), is the hardware; the highest (layer N) is the user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odularity, layers are selected such that each uses functions (operations) and services of only lower-level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ered Operating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13090" t="709" r="13090" b="709"/>
          <a:stretch/>
        </p:blipFill>
        <p:spPr>
          <a:xfrm>
            <a:off x="2171880" y="1117440"/>
            <a:ext cx="5300640" cy="5308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services an operating system provides to users, processes, and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the various ways of structuring an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how operating systems are installed and customized and how they 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78000"/>
            <a:ext cx="7756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98040" y="1423800"/>
            <a:ext cx="7713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– limited by hardware functionality, the original UNIX operating system had limited structuring.  The UNIX OS consists of two separabl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everything below the system-call interface and above the physical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he file system, CPU scheduling, memory management, and other operating-system functions; a large number of functions for o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 System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380" t="10139" r="380" b="10139"/>
          <a:stretch/>
        </p:blipFill>
        <p:spPr>
          <a:xfrm>
            <a:off x="1290600" y="1631880"/>
            <a:ext cx="6629400" cy="3994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icrokernel System Structur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as much from the kernel into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takes place between user modules using 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extend a micro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port the operating system to new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eliable (less code is running in kernel 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ri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overhead of user space to kernel spac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c OS X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521" t="10420" r="783" b="10420"/>
          <a:stretch/>
        </p:blipFill>
        <p:spPr>
          <a:xfrm>
            <a:off x="2022480" y="1965240"/>
            <a:ext cx="4813200" cy="2895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du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modern operating systems implement kernel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bject-orient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re component is sep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alks to the others over known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s loadable as needed within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, similar to layers but with more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Modular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528" t="18748" r="351" b="19215"/>
          <a:stretch/>
        </p:blipFill>
        <p:spPr>
          <a:xfrm>
            <a:off x="1104840" y="1679400"/>
            <a:ext cx="7162920" cy="3362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achin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368360"/>
            <a:ext cx="68724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virtual mach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es the layered approach to its logical conclusion.  It treats hardware and the operating system kernel as though they were all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rtual machine provides an interfa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underlying bare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creates the illusion of multiple processes, each executing on its own processor with its own (virtual)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achin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ources of the physical computer are shared to create the virtual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can create the appearance that users have their own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oling and a file system can provide virtual card readers and virtual line 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rmal user time-sharing terminal serves as the virtual machine operator’s 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achin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62540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Nonvirtual machine (b) 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955520" y="457272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46720" y="4599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rcRect l="406" t="5429" r="609" b="5158"/>
          <a:stretch/>
        </p:blipFill>
        <p:spPr>
          <a:xfrm>
            <a:off x="1406520" y="1336680"/>
            <a:ext cx="6172200" cy="4181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2600" y="182160"/>
            <a:ext cx="772956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achines</a:t>
            </a: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 (Cont.)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98400" y="1294920"/>
            <a:ext cx="763920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-machine concept provides complete protection of system resources since each virtual machine is isolated from all other virtual machines.  This isolation, however, permits no direct sharing of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rtual-machine system is a perfect vehicle for operating-systems research and development.  System development is done on the virtual machine, instead of on a physical machine and so does not disrupt normal system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machine concept is difficult to implement due to the effort required to provide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plicate to the underlying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Ser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520" y="1238040"/>
            <a:ext cx="823896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et of operating-system services provides functions that are helpful to the u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- Almost all operating systems have a user interface (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es between Command-Line (CLI), Graphics User Interface (GUI),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execution - The system must be able to load a program into memory and to run that program, end execution, either normally or abnormally (indicating 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operations -  A running program may require I/O, which may involve a file or an I/O dev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manipulation -  The file system is of particular interest. Obviously, programs need to read and write files and directories, create and delete them, search them, list file Information, permission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Mware Archite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rcRect l="380" t="3047" r="380" b="4317"/>
          <a:stretch/>
        </p:blipFill>
        <p:spPr>
          <a:xfrm>
            <a:off x="1434960" y="1295280"/>
            <a:ext cx="6616800" cy="4632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Java Virtual Machin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rcRect l="395" t="18935" r="395" b="18935"/>
          <a:stretch/>
        </p:blipFill>
        <p:spPr>
          <a:xfrm>
            <a:off x="1447920" y="1749600"/>
            <a:ext cx="6387840" cy="3000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Gener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s are designed to run on any of a class of machines; the system must be configured for each specific computer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GEN program obtains information concerning the specific configuration of the hardwar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tarting a computer by loading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tstrap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de stored in ROM that is able to locate the kernel, load it into memory, and start it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Boo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must be made available to hardware so hardware can star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piece of code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strap lo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ocates the kernel, loads it into memory, and star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two-step process whe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fixed location loads bootstrap 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ower initialized on system, execution starts at a fixed memory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ware used to hold initial boo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Servic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238400"/>
            <a:ext cx="8238960" cy="57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et of operating-system services provides functions that are helpful to the user (Co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– Processes may exchange information, on the same computer or between computers over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may be via shared memory or through message passing (packets moved by the 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detection – OS needs to be constantly aware of possibl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occur in the CPU and memory hardware, in I/O devices, in user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ype of error, OS should take the appropriate action to ensure correct and consistent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ging facilities can greatly enhance the user’s and programmer’s abilities to efficiently use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Servic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2680" y="1318680"/>
            <a:ext cx="770076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set of OS functions exists for ensuring the efficient operation of the system itself via resourc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 allocation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 multiple users or multiple jobs running concurrently, resources must be allocated to each of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types of resources -  Some (such as CPU cycles,mainmemory, and file storage) may have special allocation code, others (such as I/O devices) may have general request and release co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keep track of which users use how much and what kinds of computer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 and security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wners of information stored in a multiuser or networked computer system may want to control use of that information, concurrent processes should not interfere with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volves ensuring that all access to system resources is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system from outsiders requires user authentication, extends to defending external I/O devices from invalid access attem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system is to be protected and secure, precautions must be instituted throughout it. A chain is only as strong as its weakest li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Operating System Interface - CL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0080" y="13489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 allows direct command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implemented in kernel, sometimes by system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multiple flavors implemented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ily fetches a command from user and execut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commands built-in, sometimes just names of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latter, adding new features doesn’t require shell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Operating System Interface - GU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k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apho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mouse, keyboard, and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 files, programs, action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mouse buttons over objects in the interface cause various actions (provide information, options, execute function, open directory (known 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at Xerox P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ystems now include both CLI and GUI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indows is GUI with CLI “command”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 OS X as “Aqua” GUI interface with UNIX kernel underneath and shell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is CLI with optional GUI interfaces (Java Desktop, K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interface to the services provided by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written in a high-level language (C or C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accessed by programs via a high-lev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gram Interface (AP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ther than direct system call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ost common APIs are Win32 API for Windows, POSIX API for POSIX-based systems (including virtually all versions of UNIX, Linux, and Mac OS X), and Java API for the Java virtual machine (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APIs rather than system calls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e that the system-call names used throughout this text are gene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9:11:13Z</dcterms:created>
  <dc:creator/>
  <dc:description/>
  <dc:language>en-US</dc:language>
  <cp:lastModifiedBy>LOVE GOEL</cp:lastModifiedBy>
  <cp:lastPrinted>2001-06-14T13:58:17Z</cp:lastPrinted>
  <dcterms:modified xsi:type="dcterms:W3CDTF">2008-08-09T10:14:15Z</dcterms:modified>
  <cp:revision>0</cp:revision>
  <dc:subject/>
  <dc:title/>
</cp:coreProperties>
</file>