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404100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2.</a:t>
            </a:r>
            <a:fld id="{9CF89CA9-A82F-482A-95DF-898724EC2887}" type="slidenum">
              <a:rPr b="1" lang="en-US" sz="1000" spc="-1" strike="noStrike">
                <a:solidFill>
                  <a:srgbClr val="99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Freeform 5"/>
          <p:cNvSpPr/>
          <p:nvPr/>
        </p:nvSpPr>
        <p:spPr>
          <a:xfrm flipV="1" rot="8361600">
            <a:off x="1609200" y="4961520"/>
            <a:ext cx="972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6"/>
          <p:cNvSpPr/>
          <p:nvPr/>
        </p:nvSpPr>
        <p:spPr>
          <a:xfrm flipV="1" rot="10665600">
            <a:off x="1188720" y="420444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5164200" y="4206960"/>
            <a:ext cx="792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Silberschatz, Galvin and Gagne ©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5760" y="6613560"/>
            <a:ext cx="343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Operating System Concepts – 7</a:t>
            </a:r>
            <a:r>
              <a:rPr b="1" lang="en-US" sz="1000" spc="-1" strike="noStrike" baseline="30000">
                <a:solidFill>
                  <a:srgbClr val="99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 Edition, Jan 14,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-1658880" y="110952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-898560" y="1170000"/>
            <a:ext cx="324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-1479600" y="42372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Freeform 13"/>
          <p:cNvSpPr/>
          <p:nvPr/>
        </p:nvSpPr>
        <p:spPr>
          <a:xfrm>
            <a:off x="-1467000" y="888840"/>
            <a:ext cx="64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4"/>
          <p:cNvSpPr/>
          <p:nvPr/>
        </p:nvSpPr>
        <p:spPr>
          <a:xfrm>
            <a:off x="-1639800" y="114444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Freeform 15"/>
          <p:cNvSpPr/>
          <p:nvPr/>
        </p:nvSpPr>
        <p:spPr>
          <a:xfrm>
            <a:off x="-1247760" y="1146240"/>
            <a:ext cx="4680" cy="7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6"/>
          <p:cNvSpPr/>
          <p:nvPr/>
        </p:nvSpPr>
        <p:spPr>
          <a:xfrm>
            <a:off x="-1101600" y="122868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Freeform 17"/>
          <p:cNvSpPr/>
          <p:nvPr/>
        </p:nvSpPr>
        <p:spPr>
          <a:xfrm>
            <a:off x="-1303200" y="1270080"/>
            <a:ext cx="12600" cy="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Freeform 18"/>
          <p:cNvSpPr/>
          <p:nvPr/>
        </p:nvSpPr>
        <p:spPr>
          <a:xfrm>
            <a:off x="1176480" y="885960"/>
            <a:ext cx="468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" name="Picture 19" descr="Slide_iconblue_pc"/>
          <p:cNvPicPr/>
          <p:nvPr/>
        </p:nvPicPr>
        <p:blipFill>
          <a:blip r:embed="rId2"/>
          <a:stretch/>
        </p:blipFill>
        <p:spPr>
          <a:xfrm>
            <a:off x="8118360" y="6010200"/>
            <a:ext cx="1011240" cy="611280"/>
          </a:xfrm>
          <a:prstGeom prst="rect">
            <a:avLst/>
          </a:prstGeom>
          <a:ln w="0">
            <a:noFill/>
          </a:ln>
        </p:spPr>
      </p:pic>
      <p:pic>
        <p:nvPicPr>
          <p:cNvPr id="18" name="Picture 20" descr="Slide_iconvertical"/>
          <p:cNvPicPr/>
          <p:nvPr/>
        </p:nvPicPr>
        <p:blipFill>
          <a:blip r:embed="rId3"/>
          <a:stretch/>
        </p:blipFill>
        <p:spPr>
          <a:xfrm>
            <a:off x="0" y="0"/>
            <a:ext cx="600120" cy="110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Slide_iconblue_pc"/>
          <p:cNvPicPr/>
          <p:nvPr/>
        </p:nvPicPr>
        <p:blipFill>
          <a:blip r:embed="rId2"/>
          <a:stretch/>
        </p:blipFill>
        <p:spPr>
          <a:xfrm>
            <a:off x="3179880" y="4829040"/>
            <a:ext cx="2349360" cy="14194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57" name="Picture 8" descr="BD21332_"/>
          <p:cNvPicPr/>
          <p:nvPr/>
        </p:nvPicPr>
        <p:blipFill>
          <a:blip r:embed="rId3"/>
          <a:stretch/>
        </p:blipFill>
        <p:spPr>
          <a:xfrm>
            <a:off x="1539720" y="3603600"/>
            <a:ext cx="6035760" cy="343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71160" y="2285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2:  Operating-System Structur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xample of System Call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 sequence to copy the contents of one file to another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rcRect l="613" t="6123" r="613" b="5710"/>
          <a:stretch/>
        </p:blipFill>
        <p:spPr>
          <a:xfrm>
            <a:off x="1620720" y="2060640"/>
            <a:ext cx="6148440" cy="41162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xample of Standard API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ider the ReadFile() function in 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n32 API—a function for reading from a file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description of the parameters passed to ReadFile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LE file—the file to be 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PVOID buffer—a buffer where the data will be read into and written 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WORD bytesToRead—the number of bytes to be read into the buf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PDWORD bytesRead—the number of bytes read during the last 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POVERLAPPED ovl—indicates if overlapped I/O is being u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rcRect l="1030" t="29630" r="1030" b="29355"/>
          <a:stretch/>
        </p:blipFill>
        <p:spPr>
          <a:xfrm>
            <a:off x="1585800" y="2120760"/>
            <a:ext cx="6732720" cy="21146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ystem Call Implement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, a number associated with each system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-call interface maintains a table indexed according to these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ystem call interface invokes intended system call in OS kernel and returns status of the system call and any return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ller need know nothing about how the system call is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 needs to obey API and understand what OS will do as a result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details of  OS interface hidden from programmer by AP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d by run-time support library (set of functions built into libraries included with compil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PI – System Call – OS Relationship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rcRect l="775" t="9819" r="967" b="10075"/>
          <a:stretch/>
        </p:blipFill>
        <p:spPr>
          <a:xfrm>
            <a:off x="982800" y="1496880"/>
            <a:ext cx="7484760" cy="45770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tandard C Library Exampl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7880" y="1315800"/>
            <a:ext cx="764244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program invoking printf() library call, which calls write() system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16811" t="669" r="17313" b="335"/>
          <a:stretch/>
        </p:blipFill>
        <p:spPr>
          <a:xfrm>
            <a:off x="2655720" y="2141640"/>
            <a:ext cx="3757680" cy="42354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ystem Call Parameter Pass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en, more information is required than simply identity of desired system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ct type and amount of information vary according to OS and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general methods used to pass parameters to the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st:  pass the parameters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some cases, may be more parameters than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ers stored in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lock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table, in memory, and address of block passed as a parameter in a regis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approach taken by Linux and Sol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ers placed, 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ushed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to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c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the program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pp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 the stack by the 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ck and stack methods do not limit the number or length of parameters being pa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arameter Passing via Tabl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rcRect l="402" t="15263" r="602" b="15529"/>
          <a:stretch/>
        </p:blipFill>
        <p:spPr>
          <a:xfrm>
            <a:off x="1714680" y="1644480"/>
            <a:ext cx="6260760" cy="32832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ypes of System Call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ic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S-DOS execu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14264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rcRect l="6084" t="507" r="6276" b="1014"/>
          <a:stretch/>
        </p:blipFill>
        <p:spPr>
          <a:xfrm>
            <a:off x="2181240" y="1352520"/>
            <a:ext cx="4905360" cy="41338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  <p:sp>
        <p:nvSpPr>
          <p:cNvPr id="137" name="Rectangle 5"/>
          <p:cNvSpPr/>
          <p:nvPr/>
        </p:nvSpPr>
        <p:spPr>
          <a:xfrm>
            <a:off x="2286000" y="564048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At system startup (b) running a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reeBSD Running Multiple Program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rcRect l="31655" t="536" r="31655" b="536"/>
          <a:stretch/>
        </p:blipFill>
        <p:spPr>
          <a:xfrm>
            <a:off x="3530520" y="1469880"/>
            <a:ext cx="2311560" cy="46738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2:  Operating-System Structur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Operating System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s of System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 Design and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 Gen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B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ystem Program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8040" y="1294920"/>
            <a:ext cx="732636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programs provide a convenient environment for program development and execution.  The can be divided i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manipu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us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mod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ing language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loading and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tion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users’ view of the operation system is defined by system programs, not the actual system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olaris 10 dtrace Following System Cal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rcRect l="19196" t="1319" r="19196" b="2372"/>
          <a:stretch/>
        </p:blipFill>
        <p:spPr>
          <a:xfrm>
            <a:off x="2603520" y="1287360"/>
            <a:ext cx="4297320" cy="50371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ystem Program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 a convenient environment for program development and exec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of them are simply user interfaces to system calls; others are considerably more compl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 management - Create, delete, copy, rename, print, dump, list, and generally manipulate files and directo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us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ask the system for info - date, time, amount of available memory, disk space, number of 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hers provide detailed performance, logging, and debugging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ically, these programs format and print the output to the terminal or other output de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systems implement  a registry - used to store and retrieve configuration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ystem Programs (cont’d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mod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editors to create and modify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commands to search contents of files or perform transformations of th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ing-language support - Compilers, assemblers, debuggers and interpreters sometimes provi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loading and execution- Absolute loaders, relocatable loaders, linkage editors, and overlay-loaders, debugging systems for higher-level and machine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- Provide the mechanism for creating virtual connections among processes, users, and comput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users to send messages to one another’s screens, browse web pages, send electronic-mail messages, log in remotely, transfer files from one machine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Operating System Design and Implementation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and Implementation of OS not “solvable”, but some approaches have proven success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structure of different Operating Systems  can vary wid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by defining goals and specific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fected by choice of hardware, type of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s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als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o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goals – operating system should be convenient to use, easy to learn, reliable, safe, and 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goals – operating system should be easy to design, implement, and maintain, as well as flexible, reliable, error-free, and effic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Operating System Design and Implementation (Cont.)</a:t>
            </a:r>
            <a:endParaRPr b="1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principle to sepa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icy: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ill be done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chanism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o do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sms determine how to do something, policies decide what will be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paration of policy from mechanism is a very important principle, it allows maximum flexibility if policy decisions are to be changed l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imple Structure 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-DOS – written to provide the most functionality in the least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divided into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MS-DOS has some structure, its interfaces and levels of functionality are not well sepa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S-DOS Layer Structur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11721" t="758" r="11532" b="758"/>
          <a:stretch/>
        </p:blipFill>
        <p:spPr>
          <a:xfrm>
            <a:off x="2108160" y="1270080"/>
            <a:ext cx="5156280" cy="49626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ayered Approach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perating system is divided into a number of layers (levels), each built on top of lower layers.  The bottom layer (layer 0), is the hardware; the highest (layer N) is the user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modularity, layers are selected such that each uses functions (operations) and services of only lower-level lay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ayered Operating System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rcRect l="13090" t="709" r="13090" b="709"/>
          <a:stretch/>
        </p:blipFill>
        <p:spPr>
          <a:xfrm>
            <a:off x="2171880" y="1117440"/>
            <a:ext cx="5300640" cy="53089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scribe the services an operating system provides to users, processes, and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iscuss the various ways of structuring an 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plain how operating systems are installed and customized and how they b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78000"/>
            <a:ext cx="77565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UNIX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98040" y="1423800"/>
            <a:ext cx="771372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 – limited by hardware functionality, the original UNIX operating system had limited structuring.  The UNIX OS consists of two separable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s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sts of everything below the system-call interface and above the physical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the file system, CPU scheduling, memory management, and other operating-system functions; a large number of functions for o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UNIX System Structur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rcRect l="380" t="10139" r="380" b="10139"/>
          <a:stretch/>
        </p:blipFill>
        <p:spPr>
          <a:xfrm>
            <a:off x="1290600" y="1631880"/>
            <a:ext cx="6629400" cy="39942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icrokernel System Structure 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s as much from the kernel into 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s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 takes place between user modules using message pa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i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ier to extend a micro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ier to port the operating system to new archite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reliable (less code is running in kernel mo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sec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ri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overhead of user space to kernel space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ac OS X Structur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521" t="10420" r="783" b="10420"/>
          <a:stretch/>
        </p:blipFill>
        <p:spPr>
          <a:xfrm>
            <a:off x="2022480" y="1965240"/>
            <a:ext cx="4813200" cy="28958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odul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modern operating systems implement kernel mod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object-orient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core component is sepa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talks to the others over known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is loadable as needed within the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all, similar to layers but with more flex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olaris Modular Approach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rcRect l="528" t="18748" r="351" b="19215"/>
          <a:stretch/>
        </p:blipFill>
        <p:spPr>
          <a:xfrm>
            <a:off x="1104840" y="1679400"/>
            <a:ext cx="7162920" cy="33624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Virtual Machin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26920" y="1368360"/>
            <a:ext cx="6872400" cy="45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virtual mach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akes the layered approach to its logical conclusion.  It treats hardware and the operating system kernel as though they were all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irtual machine provides an interfac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dentic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he underlying bare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perating system creates the illusion of multiple processes, each executing on its own processor with its own (virtual)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Virtual Machines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ources of the physical computer are shared to create the virtual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scheduling can create the appearance that users have their own 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ooling and a file system can provide virtual card readers and virtual line prin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ormal user time-sharing terminal serves as the virtual machine operator’s con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Virtual Machines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26920" y="162540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) Nonvirtual machine (b) virtual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955520" y="4572720"/>
            <a:ext cx="220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virtual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346720" y="45997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rcRect l="406" t="5429" r="609" b="5158"/>
          <a:stretch/>
        </p:blipFill>
        <p:spPr>
          <a:xfrm>
            <a:off x="1406520" y="1336680"/>
            <a:ext cx="6172200" cy="41814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72600" y="182160"/>
            <a:ext cx="7729560" cy="5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Virtual Machines</a:t>
            </a:r>
            <a:r>
              <a:rPr b="1" lang="en-US" sz="2700" spc="-1" strike="noStrike">
                <a:solidFill>
                  <a:srgbClr val="993300"/>
                </a:solidFill>
                <a:latin typeface="Arial"/>
              </a:rPr>
              <a:t> (Cont.)</a:t>
            </a:r>
            <a:endParaRPr b="1" lang="en-US" sz="27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98400" y="1294920"/>
            <a:ext cx="7639200" cy="37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irtual-machine concept provides complete protection of system resources since each virtual machine is isolated from all other virtual machines.  This isolation, however, permits no direct sharing of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virtual-machine system is a perfect vehicle for operating-systems research and development.  System development is done on the virtual machine, instead of on a physical machine and so does not disrupt normal system op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irtual machine concept is difficult to implement due to the effort required to provide 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a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uplicate to the underlying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perating System Servic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41520" y="1238040"/>
            <a:ext cx="8238960" cy="48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et of operating-system services provides functions that are helpful to the us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 - Almost all operating systems have a user interface (U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es between Command-Line (CLI), Graphics User Interface (GUI), B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execution - The system must be able to load a program into memory and to run that program, end execution, either normally or abnormally (indicating err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operations -  A running program may require I/O, which may involve a file or an I/O devi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-system manipulation -  The file system is of particular interest. Obviously, programs need to read and write files and directories, create and delete them, search them, list file Information, permission manag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VMware Architectur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rcRect l="380" t="3047" r="380" b="4317"/>
          <a:stretch/>
        </p:blipFill>
        <p:spPr>
          <a:xfrm>
            <a:off x="1434960" y="1295280"/>
            <a:ext cx="6616800" cy="46324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he Java Virtual Machin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rcRect l="395" t="18935" r="395" b="18935"/>
          <a:stretch/>
        </p:blipFill>
        <p:spPr>
          <a:xfrm>
            <a:off x="1447920" y="1749600"/>
            <a:ext cx="6387840" cy="30002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perating System Gener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s are designed to run on any of a class of machines; the system must be configured for each specific computer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GEN program obtains information concerning the specific configuration of the hardwar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o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starting a computer by loading the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otstrap pro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ode stored in ROM that is able to locate the kernel, load it into memory, and start its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ystem Boo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system must be made available to hardware so hardware can star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piece of code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tstrap loa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locates the kernel, loads it into memory, and starts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imes two-step process whe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t blo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fixed location loads bootstrap lo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power initialized on system, execution starts at a fixed memory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mware used to hold initial boot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perating System Services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41520" y="1238400"/>
            <a:ext cx="8238960" cy="57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et of operating-system services provides functions that are helpful to the user (Cont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– Processes may exchange information, on the same computer or between computers over a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s may be via shared memory or through message passing (packets moved by the 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ror detection – OS needs to be constantly aware of possible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occur in the CPU and memory hardware, in I/O devices, in user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type of error, OS should take the appropriate action to ensure correct and consistent comp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ugging facilities can greatly enhance the user’s and programmer’s abilities to efficiently use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Operating System Services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42680" y="1318680"/>
            <a:ext cx="7700760" cy="45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other set of OS functions exists for ensuring the efficient operation of the system itself via resource sha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ource allocation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 multiple users or multiple jobs running concurrently, resources must be allocated to each of th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y types of resources -  Some (such as CPU cycles,mainmemory, and file storage) may have special allocation code, others (such as I/O devices) may have general request and release co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ounting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keep track of which users use how much and what kinds of computer 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ection and security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wners of information stored in a multiuser or networked computer system may want to control use of that information, concurrent processes should not interfere with each 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tec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volves ensuring that all access to system resources is control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f the system from outsiders requires user authentication, extends to defending external I/O devices from invalid access attem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 system is to be protected and secure, precautions must be instituted throughout it. A chain is only as strong as its weakest lin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User Operating System Interface - CLI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30080" y="13489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 allows direct command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imes implemented in kernel, sometimes by systems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imes multiple flavors implemented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ily fetches a command from user and executes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times commands built-in, sometimes just names of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88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latter, adding new features doesn’t require shell mod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User Operating System Interface - GUI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-friendl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kt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tapho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ually mouse, keyboard, and moni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present files, programs, actions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ous mouse buttons over objects in the interface cause various actions (provide information, options, execute function, open directory (known a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l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ed at Xerox P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systems now include both CLI and GUI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soft Windows is GUI with CLI “command” sh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e Mac OS X as “Aqua” GUI interface with UNIX kernel underneath and shell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aris is CLI with optional GUI interfaces (Java Desktop, K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ystem Call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ing interface to the services provided by the 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written in a high-level language (C or C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ly accessed by programs via a high-leve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 Program Interface (API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ather than direct system call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most common APIs are Win32 API for Windows, POSIX API for POSIX-based systems (including virtually all versions of UNIX, Linux, and Mac OS X), and Java API for the Java virtual machine (JV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use APIs rather than system calls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te that the system-call names used throughout this text are gener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7T19:11:13Z</dcterms:created>
  <dc:creator/>
  <dc:description/>
  <dc:language>en-US</dc:language>
  <cp:lastModifiedBy>LOVE GOEL</cp:lastModifiedBy>
  <cp:lastPrinted>2001-06-14T13:58:17Z</cp:lastPrinted>
  <dcterms:modified xsi:type="dcterms:W3CDTF">2008-08-09T10:14:15Z</dcterms:modified>
  <cp:revision>0</cp:revision>
  <dc:subject/>
  <dc:title/>
</cp:coreProperties>
</file>