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0.</a:t>
            </a:r>
            <a:fld id="{4DB35934-727E-4937-95D6-13AE3D0C9130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5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0:  Multimedia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s Iss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must guarantee the specific data rate and timing requirements of continuous medi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requirements are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-of-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guarant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QoS Guarante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ing QoS has the following effects in a computer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CPU process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chedul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File syste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Network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6440" y="537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quirement of Multimedia Operating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hree levels of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Best-effort service - the system makes a best effort with no QoS guarant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oft QoS - allows different traffic streams to be prioritized, however no QoS guarantees ar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Hard QoS - the QoS  rquirements are guarant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rameters Defining Qo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- the total amount of work completed during a specific time interv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- the elapsed time from when a request is first submitted to when the desired result is produc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- the delays that occur during playback of a strea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- how errors are handled during transmission and processing of continuous m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urther QoS Iss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oti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the client and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often use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gorithm that admits a request for a service only if the server has sufficient resources to satisfy the requ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6300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1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sources on a file serv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20676" t="330" r="20403" b="989"/>
          <a:stretch/>
        </p:blipFill>
        <p:spPr>
          <a:xfrm>
            <a:off x="2763720" y="1528920"/>
            <a:ext cx="3778200" cy="4744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4440" y="143316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systems requi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real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duling to ensure critical tasks will be serviced within timing deadlin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hard realtime CPU scheduling algorithms assign realtime processes static priorities that do not change ove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cheduling algorithms must be optimized to meet the timing deadlines and rate requirements of continuous medi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st-Deadline-First (EDF) Schedu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-EDF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cheduling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F scheduler uses a queue to order requests  according to the time it must be completed (its deadlin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-EDF scheduling is similar to EDF except that requests with the same deadline are ordered according to a SCAN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3600" y="591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adline and cylinder requests for SCAN-EDF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13548" t="852" r="13570" b="852"/>
          <a:stretch/>
        </p:blipFill>
        <p:spPr>
          <a:xfrm>
            <a:off x="2273400" y="1386000"/>
            <a:ext cx="5065560" cy="51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99800"/>
            <a:ext cx="81486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0: Multimedia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2960" y="1542960"/>
            <a:ext cx="715356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Multi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of Multimedia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Cinebl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general methods for delivering content from a server to a client across a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server delivers the content to a singl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server delivers the content to all clients, regardless whether they want the content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server delivers the content to a group of receivers who indicate they wish to receive the con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9836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Time Streaming Protocol (RTSP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HTTP is stateless whereby the server does not maintain the status of its connection with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8640" y="676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gure 20.1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eaming media from a conventional web serv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rcRect l="432" t="15662" r="838" b="16523"/>
          <a:stretch/>
        </p:blipFill>
        <p:spPr>
          <a:xfrm>
            <a:off x="819000" y="1646280"/>
            <a:ext cx="7285320" cy="3752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8640" y="406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3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time Streaming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635" t="15962" r="845" b="15962"/>
          <a:stretch/>
        </p:blipFill>
        <p:spPr>
          <a:xfrm>
            <a:off x="819000" y="1285920"/>
            <a:ext cx="7394760" cy="3832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TSP Sta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- the server allocates resources for a client ses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- the server delivers a stream to a client ses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 - the server suspends delivery of a strea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RDOWN - the server breaks down the connection and releases the resources allocated for the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8640" y="463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4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TSP state machi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653" t="34666" r="635" b="34631"/>
          <a:stretch/>
        </p:blipFill>
        <p:spPr>
          <a:xfrm>
            <a:off x="819000" y="1930320"/>
            <a:ext cx="7185240" cy="1676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Multimedia Serv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Blitz supports both realtime and non-realtime clien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Blitz provides hard QoS guarantees to realtime clients using an admission control algorithm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k scheduler orders requests using C-SC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Admission Controll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buffer space required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ents where client has rate requirem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660760" y="2590920"/>
            <a:ext cx="3822480" cy="1676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4800" y="591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05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uble buffering in CineBlitz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15586" t="586" r="16025" b="1536"/>
          <a:stretch/>
        </p:blipFill>
        <p:spPr>
          <a:xfrm>
            <a:off x="2160720" y="1481040"/>
            <a:ext cx="4708440" cy="5054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Admission Controller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eek and trot are the worst-case seek and rotational delay times, the maximum latency for servicing N request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2635200"/>
            <a:ext cx="6858000" cy="1587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353600"/>
            <a:ext cx="636588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dentify the characteristics of multimedi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several algorithms used to compress multimedi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operating system requirements of multimedia data, including CPU and disk scheduling and networ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Admission Controller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neBlitz admission controller only admits a new client if there is  at lea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of free buffer space and the following equation is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974880" y="2701800"/>
            <a:ext cx="7684920" cy="1762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.20.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rcRect l="13548" t="852" r="13570" b="852"/>
          <a:stretch/>
        </p:blipFill>
        <p:spPr>
          <a:xfrm>
            <a:off x="2320920" y="1285920"/>
            <a:ext cx="5065560" cy="51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rcise 20.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rcRect l="13943" t="1290" r="13437" b="965"/>
          <a:stretch/>
        </p:blipFill>
        <p:spPr>
          <a:xfrm>
            <a:off x="2435400" y="1285920"/>
            <a:ext cx="4770360" cy="4816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hat is Multimedia?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a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udio and video clips (i.e. MP3 and MPE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ve webca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a may be delivered to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sktop PC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ndheld devices (PDAs, smart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dia Delive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a is stored in the file system like othe ordina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multimedia data must be accessed with specific timing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video must be displayed at 24-3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second. Multimedia video data must be delivered at a rate which guarantees 24-30 frames/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-media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ata with specific rat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ream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livering a multimedia file from a server to a client - typically the deliver occurs over a network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different types of strea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ive down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client begins playback of the multimedia file as it is delivered. The file is ultimately stored on the client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multimedia file is delivered to - but not stored on - the client’s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Stream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real-time strea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used to deliver a live event while it is occ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demand 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used to deliver media streams such as movies, archived lectures, etc. The events are not delivered in real-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39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media Systems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files can be quite larg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media data may require very high data rat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applications may be sensitive to timing delays during playback of the m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res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size and rate requirements of multimedia systems, multimedia files are often compressed into a small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EG Comp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PEG-1 - 352 X 240 @ 30 frames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PEG-2 - Used for compressing DVD and high-definition television (HDT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MPEG-4 - Used to transmit audio, video, and graphics. Can be delivered over very slow connections (56 K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8:18:01Z</dcterms:created>
  <dc:creator/>
  <dc:description/>
  <dc:language>en-US</dc:language>
  <cp:lastModifiedBy>LOVE GOEL</cp:lastModifiedBy>
  <cp:lastPrinted>2001-06-14T13:58:17Z</cp:lastPrinted>
  <dcterms:modified xsi:type="dcterms:W3CDTF">2008-08-09T10:19:56Z</dcterms:modified>
  <cp:revision>0</cp:revision>
  <dc:subject/>
  <dc:title/>
</cp:coreProperties>
</file>