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05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20.</a:t>
            </a:r>
            <a:fld id="{1A7812B9-90C4-46C6-A391-25932CC4F867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7560" y="6613560"/>
            <a:ext cx="33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Jan 2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20:  Multimedia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ng Systems Issu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19000" y="128556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erating system must guarantee the specific data rate and timing requirements of continuous media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requirements are known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-of-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guarant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QoS Guarante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ranteeing QoS has the following effects in a computer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CPU process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Scheduling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File system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Network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76440" y="5378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quirement of Multimedia Operating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19000" y="128556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hree levels of 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Best-effort service - the system makes a best effort with no QoS guarant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Soft QoS - allows different traffic streams to be prioritized, however no QoS guarantees are m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Hard QoS - the QoS  rquirements are guarante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rameters Defining Qo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put - the total amount of work completed during a specific time interva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 - the elapsed time from when a request is first submitted to when the desired result is produce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tter - the delays that occur during playback of a stream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 - how errors are handled during transmission and processing of continuous med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urther QoS Issu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oS may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gotia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the client and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s often use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mission contr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gorithm that admits a request for a service only if the server has sufficient resources to satisfy the reques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7360" y="63000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gure 20.1</a:t>
            </a:r>
            <a:br>
              <a:rPr sz="3200"/>
            </a:b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sources on a file serve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rcRect l="20676" t="330" r="20403" b="989"/>
          <a:stretch/>
        </p:blipFill>
        <p:spPr>
          <a:xfrm>
            <a:off x="2763720" y="1528920"/>
            <a:ext cx="3778200" cy="47448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PU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74440" y="143316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media systems requi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 real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duling to ensure critical tasks will be serviced within timing deadlin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hard realtime CPU scheduling algorithms assign realtime processes static priorities that do not change over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sk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scheduling algorithms must be optimized to meet the timing deadlines and rate requirements of continuous media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iest-Deadline-First (EDF) Schedul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-EDF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sk Scheduling (cont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DF scheduler uses a queue to order requests  according to the time it must be completed (its deadline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-EDF scheduling is similar to EDF except that requests with the same deadline are ordered according to a SCAN poli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3600" y="5918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adline and cylinder requests for SCAN-EDF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rcRect l="13548" t="852" r="13570" b="852"/>
          <a:stretch/>
        </p:blipFill>
        <p:spPr>
          <a:xfrm>
            <a:off x="2273400" y="1386000"/>
            <a:ext cx="5065560" cy="51228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99800"/>
            <a:ext cx="8148600" cy="601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20: Multimedia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32960" y="1542960"/>
            <a:ext cx="7153560" cy="30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Multi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ssion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s of Multimedia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: Cinebli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etwork Manag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general methods for delivering content from a server to a client across a networ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ca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 server delivers the content to a singl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adca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 server delivers the content to all clients, regardless whether they want the content or n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cas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 server delivers the content to a group of receivers who indicate they wish to receive the cont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19836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alTime Streaming Protocol (RTSP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19000" y="128556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 HTTP is stateless whereby the server does not maintain the status of its connection with the cli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18640" y="67608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Figure 20.1</a:t>
            </a:r>
            <a:br>
              <a:rPr sz="2800"/>
            </a:b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Streaming media from a conventional web serv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rcRect l="432" t="15662" r="838" b="16523"/>
          <a:stretch/>
        </p:blipFill>
        <p:spPr>
          <a:xfrm>
            <a:off x="819000" y="1646280"/>
            <a:ext cx="7285320" cy="3752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18640" y="40608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gure 20.3</a:t>
            </a:r>
            <a:br>
              <a:rPr sz="3200"/>
            </a:b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altime Streaming Protoco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rcRect l="635" t="15962" r="845" b="15962"/>
          <a:stretch/>
        </p:blipFill>
        <p:spPr>
          <a:xfrm>
            <a:off x="819000" y="1285920"/>
            <a:ext cx="7394760" cy="3832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TSP Stat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19000" y="128556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UP - the server allocates resources for a client sessio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- the server delivers a stream to a client sessio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SE - the server suspends delivery of a stream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RDOWN - the server breaks down the connection and releases the resources allocated for the s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18640" y="46332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gure 20.4</a:t>
            </a:r>
            <a:br>
              <a:rPr sz="3200"/>
            </a:b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TSP state machin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rcRect l="653" t="34666" r="635" b="34631"/>
          <a:stretch/>
        </p:blipFill>
        <p:spPr>
          <a:xfrm>
            <a:off x="819000" y="1930320"/>
            <a:ext cx="7185240" cy="16765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ineBlitz Multimedia Serve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eBlitz supports both realtime and non-realtime client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neBlitz provides hard QoS guarantees to realtime clients using an admission control algorithm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sk scheduler orders requests using C-SCAN or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ineBlitz Admission Controlle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9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buffer space required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ients where client has rate requiremen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2660760" y="2590920"/>
            <a:ext cx="3822480" cy="1676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94800" y="5918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gure 20.05</a:t>
            </a:r>
            <a:br>
              <a:rPr sz="3200"/>
            </a:b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ouble buffering in CineBlitz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3" name="Picture 3" descr=""/>
          <p:cNvPicPr/>
          <p:nvPr/>
        </p:nvPicPr>
        <p:blipFill>
          <a:blip r:embed="rId1"/>
          <a:srcRect l="15586" t="586" r="16025" b="1536"/>
          <a:stretch/>
        </p:blipFill>
        <p:spPr>
          <a:xfrm>
            <a:off x="2160720" y="1481040"/>
            <a:ext cx="4708440" cy="50547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ineBlitz Admission Controller (cont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seek and trot are the worst-case seek and rotational delay times, the maximum latency for servicing N request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143000" y="2635200"/>
            <a:ext cx="6858000" cy="15876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353600"/>
            <a:ext cx="6365880" cy="38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dentify the characteristics of multimedia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amine several algorithms used to compress multimedia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the operating system requirements of multimedia data, including CPU and disk scheduling and network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ineBlitz Admission Controller (cont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ineBlitz admission controller only admits a new client if there is  at lea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s of free buffer space and the following equation is satis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974880" y="2701800"/>
            <a:ext cx="7684920" cy="1762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.20.1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rcRect l="13548" t="852" r="13570" b="852"/>
          <a:stretch/>
        </p:blipFill>
        <p:spPr>
          <a:xfrm>
            <a:off x="2320920" y="1285920"/>
            <a:ext cx="5065560" cy="51228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ercise 20.10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rcRect l="13943" t="1290" r="13437" b="965"/>
          <a:stretch/>
        </p:blipFill>
        <p:spPr>
          <a:xfrm>
            <a:off x="2435400" y="1285920"/>
            <a:ext cx="4770360" cy="48164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What is Multimedia?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media data inclu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udio and video clips (i.e. MP3 and MPEG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ive webcast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media data may be delivered to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esktop PC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handheld devices (PDAs, smart 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edia Delive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media data is stored in the file system like othe ordinary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multimedia data must be accessed with specific timing requi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video must be displayed at 24-3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 second. Multimedia video data must be delivered at a rate which guarantees 24-30 frames/sec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ous-media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ata with specific rate require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ream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elivering a multimedia file from a server to a client - typically the deliver occurs over a network conn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different types of stream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essive downloa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 client begins playback of the multimedia file as it is delivered. The file is ultimately stored on the client compu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-time stre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the multimedia file is delivered to - but not stored on - the client’s compu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al-time Stream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types of real-time stream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 stre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used to deliver a live event while it is occur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-demand stre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used to deliver media streams such as movies, archived lectures, etc. The events are not delivered in real-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77520" y="63936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ultimedia Systems</a:t>
            </a:r>
            <a:br>
              <a:rPr sz="3200"/>
            </a:b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racteristic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19000" y="128556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media files can be quite larg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ous media data may require very high data rat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media applications may be sensitive to timing delays during playback of the med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mpress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of the size and rate requirements of multimedia systems, multimedia files are often compressed into a smaller 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PEG Compress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MPEG-1 - 352 X 240 @ 30 frames/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MPEG-2 - Used for compressing DVD and high-definition television (HDT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MPEG-4 - Used to transmit audio, video, and graphics. Can be delivered over very slow connections (56 Kbp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8T18:18:01Z</dcterms:created>
  <dc:creator/>
  <dc:description/>
  <dc:language>en-US</dc:language>
  <cp:lastModifiedBy>LOVE GOEL</cp:lastModifiedBy>
  <cp:lastPrinted>2001-06-14T13:58:17Z</cp:lastPrinted>
  <dcterms:modified xsi:type="dcterms:W3CDTF">2008-08-09T10:19:56Z</dcterms:modified>
  <cp:revision>0</cp:revision>
  <dc:subject/>
  <dc:title/>
</cp:coreProperties>
</file>