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0572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21.</a:t>
            </a:r>
            <a:fld id="{EE9E555D-96F5-4F5B-A1A9-9044F1BD8AA5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120" y="6613560"/>
            <a:ext cx="337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Feb 6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21:  The Linux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sign Princip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is a multiuser, multitasking system with a full set of UNIX-compatible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file system adheres to traditional UNIX semantics, and it fully implements the standard UNIX networking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design goals are speed, efficiency, and standar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is designed to be compliant with the relevant POSIX documents; at least two Linux distributions have achieved official POSIX cer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nux programming interface adheres to the SVR4 UNIX semantics, rather than to BSD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mponents of a Linux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rcRect l="679" t="26909" r="679" b="26909"/>
          <a:stretch/>
        </p:blipFill>
        <p:spPr>
          <a:xfrm>
            <a:off x="1274760" y="2036880"/>
            <a:ext cx="7143840" cy="25081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-11448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mponents of a Linux System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most UNIX implementations, Linux is composed of three main bodies of code; the most important distinction between the kernel and all other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esponsible for maintaining the important abstractions of the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code execute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full access to all the physical resources of the 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kernel code and data structures are kept in the same single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60480" y="-9540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mponents of a Linux System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librar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fine a standard set of functions through which applications interact with the kernel, and which implement much of the operating-system functionality that does not need the full privileges of kernel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util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form individual specialized management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Kernel Modu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14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tions of kernel code that can be compiled, loaded, and unloaded independent of the rest of the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ernel module may typically implement a device driver, a file system, or a networking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ule interface allows third parties to write and distribute, on their own terms, device drivers or file systems that could not be distributed under the G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ules allow a Linux system to be set up with a standard, minimal kernel, without any extra device drivers buil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components to Linux module suppo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r 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lict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odule Manag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loading modules into memory and letting them talk to the rest of the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e loading is split into two separate s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ing sections of module code in kerne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ling symbols that modules are allowed to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ule requestor manages loading requested, but currently unloaded, modules; it also regularly queries the kernel to see whether a dynamically loaded module is still in use, and will unload it when it is no longer actively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river Registr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modules to tell the rest of the kernel that a new driver has become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maintains dynamic tables of all known drivers, and provides a set of routines to allow drivers to be added to or removed from these tables at any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ration tables include the following items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nary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nflict Resolu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echanism that allows different device drivers to reserve hardware resources and to protect those resources from accidental use by another driv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flict resolution module aim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 modules from clashing over access to hardware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utoprob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interfering with existing device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lve conflicts with multiple drivers trying to access the same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Manag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process management separates the creation of processes and the running of a new program into two distinct oper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creates a new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w program is run after a call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UNIX, a process encompasses all the information that the operating system must mainta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ck the context of a single execution of a singl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Linux, process properties fall into three groups:  the process’s identity, environment, and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Identit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6000" y="1285920"/>
            <a:ext cx="7608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ID (PID).  The unique identifier for the process; used to specify processes to the operating system when an application makes a system call to signal, modify, or wait for anoth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dentials.  Each process must have an associated user ID and one or more group IDs that determine the process’s rights to access system resources an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ty.  Not traditionally found on UNIX systems, but under Linux each process has an associated personality identifier that can slightly modify the semantics of certain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primarily by emulation libraries to request that system calls be compatible with certain specific flavors of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3520" y="228240"/>
            <a:ext cx="6568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21:  The Linux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46000" y="1285920"/>
            <a:ext cx="658512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His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Manag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and Outpu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ocess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Environ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6456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’s environment is inherited from its parent, and is composed of two null-terminated vec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rgument vector lists the command-line arguments used to invoke the running program; conventionally starts with the name of the program it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 vector is a list of “NAME=VALUE” pairs that associates named environment variables with arbitrary textual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ng environment variables among processes and inheriting variables by a process’s children are flexible means of passing information to components of the user-mode system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vironment-variable mechanism provides a customization of the operating system that can be set on a per-process basis, rather than being configured for the system as a w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ontex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(constantly changing) state of a running program at any point i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ing con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most important part of the process context; it is the information that the scheduler needs to suspend and restart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maintai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formation about the resources currently being consumed by each process, and the total resources consumed by the process in its lifetime so f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n array of pointers to kernel file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making file I/O system calls, processes refer to files by their index into this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ontext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as the file table lists the existing open files, the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-system con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pplies to requests to open new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urrent root and default directories to be used for new file searches are store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-handler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fines the routine in the process’s address space to be called when specific signals arr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-memory contex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process describes the full contents of the its private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es and Threa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uses the same internal representation for processes and threads; a thread is simply a new process that happens to share the same address space as its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inction is only made when a new thread is created by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eates a new process with its own entirely new process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eates a new process with its own identity, but that is allowed to share the data structures of its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ives an application fine-grained control over exactly what is shared between two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job of allocating CPU time to different tasks within an operating syst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scheduling is normally thought of as the running and interrupting of processes, in Linux, scheduling also includes the running of the various kernel task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 kernel tasks encompasses both tasks that are requested by a running process and tasks that execute internally on behalf of a device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of 2.5, new scheduling algorithm – preemptive, priority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Relationship Between Priorities and Time-slice Length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rcRect l="1008" t="12630" r="1008" b="13161"/>
          <a:stretch/>
        </p:blipFill>
        <p:spPr>
          <a:xfrm>
            <a:off x="944640" y="1112760"/>
            <a:ext cx="7405560" cy="42069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st of Tasks Indexed by Priorit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rcRect l="602" t="18556" r="786" b="18556"/>
          <a:stretch/>
        </p:blipFill>
        <p:spPr>
          <a:xfrm>
            <a:off x="990720" y="1565280"/>
            <a:ext cx="7559640" cy="3616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Kernel Synchroniz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quest for kernel-mode execution can occur in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unning program may request an operating system service, either explicitly via a system call, or implicitly, for example, when a page fault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vice driver may deliver a hardware interrupt that causes the CPU to start executing a kernel-defined handler for that interru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synchronization requires a framework that will allow the kernel’s critical sections to run without interruption by another critical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Kernel Synchronization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uses two techniques to protect critical s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 kernel code is nonpreemptible (until 2.4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 when a time interrupt is received while a process 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executing a kernel system service routine, the kernel’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_resch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lag is set so that the scheduler will ru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once the system call has completed and control 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about to be returned to user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cond technique applies to critical sections that occur in an interrupt service rout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using the processor’s interrupt control hardware to disable interrupts during a critical section, the kernel guarantees that it can proceed without the risk of concurrent access of shared data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Kernel Synchronization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void performance penalties, Linux’s kernel uses a synchronization architecture that allows long critical sections to run without having interrupts disabled for the critical section’s entire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rupt service routines are separated into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p hal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ttom ha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op half is a normal interrupt service routine, and runs with recursive interrupts disab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ttom half is run, with all interrupts enabled, by a miniature scheduler that ensures that bottom halves never interrupt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rchitecture is completed by a mechanism for disabling selected bottom halves while executing normal, foreground kernel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ore the history of the UNIX operating system from which Linux is derived and the principles which Linux is designed 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amine the Linux process model and illustrate how Linux schedules processes and provides interprocess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look at memory management in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ore how Linux implements file systems and manages I/O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terrupt Protection Leve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12680" y="4332240"/>
            <a:ext cx="6801120" cy="19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level may be interrupted by code running at a higher level, but will never be interrupted by code running at the same or a lower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processes can always be preempted by another process when a time-sharing scheduling interrupt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rcRect l="668" t="27445" r="668" b="27140"/>
          <a:stretch/>
        </p:blipFill>
        <p:spPr>
          <a:xfrm>
            <a:off x="846000" y="1285920"/>
            <a:ext cx="7766280" cy="26812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46000" y="1285920"/>
            <a:ext cx="7570800" cy="491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uses two process-scheduling algorith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ime-sharing algorithm for fair preemptive scheduling between multipl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al-time algorithm for tasks where absolute priorities are more important than fair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’s scheduling class defines which algorithm to ap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ime-sharing processes, Linux uses a prioritized, credit based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rediting rul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s in both the process’s history and its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rediting system automatically prioritizes interactive or I/O-boun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2809800" y="4275000"/>
                <a:ext cx="256536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edits :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redits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priority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Scheduling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implements the FIFO and round-robin real-time scheduling classes; in both cases, each process has a priority in addition to its scheduling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heduler runs the process with the highest priority; for equal-priority processes, it runs the process waiting the long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O processes continue to run until they either exit or 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ound-robin process will be preempted after a while and moved to the end of the scheduling queue, so that round-robing processes of equal priority automatically time-share between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mmetric Multiprocess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2.0 was the first Linux kernel to support SMP hardware; separate processes or threads can execute in parallel on separate proce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eserve the kernel’s nonpreemptible synchronization requirements, SMP imposes the restriction, via a single kernel spinlock, that only one processor at a time may execute kernel-mod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emory Manag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’s physical memory-management system deals with allocating and freeing pages, groups of pages, and small blocks of memo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has additional mechanisms for handling virtual memory, memory mapped into the address space of runn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lits memory into 3 differen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e to hardware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Relationship of Zones and Physical Addresses on 80x86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rcRect l="591" t="31186" r="772" b="31186"/>
          <a:stretch/>
        </p:blipFill>
        <p:spPr>
          <a:xfrm>
            <a:off x="884160" y="1816200"/>
            <a:ext cx="7712280" cy="22064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plitting of Memory in a Buddy Heap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0" name="Picture 1029" descr=""/>
          <p:cNvPicPr/>
          <p:nvPr/>
        </p:nvPicPr>
        <p:blipFill>
          <a:blip r:embed="rId1"/>
          <a:srcRect l="642" t="15042" r="421" b="15042"/>
          <a:stretch/>
        </p:blipFill>
        <p:spPr>
          <a:xfrm>
            <a:off x="1171440" y="1285920"/>
            <a:ext cx="7086600" cy="3755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anaging Physical Mem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45640" y="1285560"/>
            <a:ext cx="7473960" cy="46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ge allocator allocates and frees all physical pages; it can allocate ranges of physically-contiguous pages on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llocator uses a buddy-heap algorithm to keep track of available physical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llocatable memory region is paired with an adjacent 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ever two allocated partner regions are both freed up they are combined to form a larger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mall memory request cannot be satisfied by allocating an existing small free region, then a larger free region will be subdivided into two partners to satisfy the requ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allocations in the Linux kernel occur either statically (drivers reserve a contiguous area of memory during system boot time) or dynamically (via the page alloc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us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ab alloca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kerne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21.07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4" name="Picture 3" descr=""/>
          <p:cNvPicPr/>
          <p:nvPr/>
        </p:nvPicPr>
        <p:blipFill>
          <a:blip r:embed="rId1"/>
          <a:srcRect l="428" t="3741" r="428" b="4312"/>
          <a:stretch/>
        </p:blipFill>
        <p:spPr>
          <a:xfrm>
            <a:off x="944640" y="1173240"/>
            <a:ext cx="7012080" cy="4876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irtual Mem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M system maintains the address space visible to each process:  It creates pages of virtual memory on demand, and manages the loading of those pages from disk or their swapping back out to disk a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M manager maintains two separate views of a process’s address spa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ogical view describing instructions concerning the layout of the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ddress space consists of a set of nonoverlapping regions, each representing a continuous, page-aligned subset of the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hysical view of each address space which is stored in the hardware page tables for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Hist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45640" y="128592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is a modern, free operating system based on UNIX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developed as a small but self-contained kernel in 1991 by Linus Torvalds, with the major design goal of UNIX compat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s history has been one of collaboration by many users from all around the world, corresponding almost exclusively over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has been designed to run efficiently and reliably on common PC hardware, but also runs on a variety of other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re Linux operating system kernel is entirely original, but it can run much existing free UNIX software, resulting in an entire UNIX-compatible operating system free from proprietary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, varying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ux Distribution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cluding the kernel, applications, and management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irtual Memory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emory regions are characterized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cking store, which describes from where the pages for a region come; regions are usually backed by a file or by nothing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and-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m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gion’s reaction to writes (page sharing or copy-on-writ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creates a new virtu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rocess runs a new program with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on creation of a new process by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irtual Memory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executing a new program, the process is given a new, completely empty virtual-address space; the program-loading routines populate the address space with virtual-memory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a new process wit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volves creating a complete copy of the existing process’s virtu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copies the parent process’s VMA descriptors, then creates a new set of page tables for th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ent’s page tables are copied directly into the child’s, with the reference count of each page covered being incr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e fork, the parent and child share the same physical pages of memory in their address sp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irtual Memory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M paging system relocates pages of memory from physical memory out to disk when the memory is needed for something el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M paging system can be divided into two s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geout-policy algorithm decides which pages to write out to disk, and w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ging mechanism actually carries out the transfer, and pages data back into physical memory as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irtual Memory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nux kernel reserves a constant, architecture-dependent region of the virtual address space of every process for its own internal u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kernel virtual-memory area contains two reg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atic area that contains page table references to every available physical page of memory in the system, so that there is a simple translation from physical to virtual addresses when running kernel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minder of the reserved section is not reserved for any specific purpose; its page-table entries can be modified to point to any other areas of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22400" y="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ecuting and Loading User Progra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maintains a table of functions for loading programs; it gives each function the opportunity to try loading the given file when an exec system call is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gistration of multiple loader routines allows Linux to support both the ELF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.o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nary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ly, binary-file pages are mapped into virtu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when a program tries to access a given page will a page fault result in that page being loaded into physic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LF-format binary file consists of a header followed by several page-aligned s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LF loader works by reading the header and mapping the sections of the file into separate regions of virtu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emory Layout for </a:t>
            </a:r>
            <a:r>
              <a:rPr b="0" lang="en-US" sz="3200" spc="-1" strike="noStrike">
                <a:solidFill>
                  <a:srgbClr val="993300"/>
                </a:solidFill>
                <a:latin typeface="Arial"/>
              </a:rPr>
              <a:t>ELF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Progra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rcRect l="406" t="2732" r="406" b="3017"/>
          <a:stretch/>
        </p:blipFill>
        <p:spPr>
          <a:xfrm>
            <a:off x="1109520" y="1285920"/>
            <a:ext cx="6919920" cy="49323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tatic and Dynamic Link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gram whose necessary library functions are embedded directly in the program’s executable binary file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ic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nked to its librar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disadvantage of static linkage is that every program generated must contain copies of exactly the same common system library fun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nking is more efficient in terms of both physical memory and disk-space usage because it loads the system libraries into memory only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user, Linux’s file system appears as a hierarchical directory tree obeying UNIX seman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ly, the kernel hides implementation details and manages the multiple different file systems via an abstraction layer, that is,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irtual file system (VF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nux VFS is designed around object-oriented principles and is composed of two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t of definitions that define what a file object is allowed to look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ode-o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le-o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uctures represent individual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le 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resents an entire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yer of software to manipulate thos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e Linux Ext2fs File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46000" y="1285920"/>
            <a:ext cx="759960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2fs uses a mechanism similar to that of BSD Fast File System (ffs) for locating data blocks belonging to a specific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differences between ext2fs and ffs concern their disk allocation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ffs, the disk is allocated to files in blocks of 8Kb, with blocks being subdivided into fragments of 1Kb to store small files or partially filled blocks at the end of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2fs does not use fragments; it performs its allocations in smaller unit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fault block size on ext2fs is 1Kb, although 2Kb and 4Kb blocks are also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2fs uses allocation policies designed to place logically adjacent blocks of a file into physically adjacent blocks on disk, so that it can submit an I/O request for several disk blocks as a single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t2fs Block-Allocation Polici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rcRect l="402" t="1895" r="402" b="1895"/>
          <a:stretch/>
        </p:blipFill>
        <p:spPr>
          <a:xfrm>
            <a:off x="1198440" y="1285920"/>
            <a:ext cx="6935760" cy="5046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e Linux Kern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45640" y="128592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0.01 (May 1991) had no networking, ran only on 80386-compatible Intel processors and on PC hardware, had extremely limited device-drive support, and supported only the Minix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1.0 (March 1994) included these new feat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UNIX’s standard TCP/IP networking protoc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D-compatible socket interface for networking 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ice-driver support for running IP over an Eth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hanced fil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a range of SCSI controllers fo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-performance disk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 hardwar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 1.2 (March 1995) was the final PC-only Linux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e Linux Proc File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ile system does not store data, rather, its contents are computed on demand according to user file I/O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implement a directory structure, and the file contents within; it must then define a unique and persistent inode number for each directory and files it cont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uses this inode number to identify just what operation is required when a user tries to read from a particular file inode or perform a lookup in a particular directory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data is read from one of these file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lects the appropriate information, formats it into text form and places it into the requesting process’s read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put and Outpu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nux device-oriented file system accesses disk storage through two cach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is cached in the page cache, which is unified with the virtual mem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data is cached in the buffer cache, a separate cache indexed by the physical disk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splits all devices into three 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lock dev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 random access to completely independent, fixed size block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haracter dev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lude most other devices; they don’t need to support the functionality of regular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etwork devic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interfaced via the kernel’s 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vice-Driver Block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02" name="Picture 1029" descr=""/>
          <p:cNvPicPr/>
          <p:nvPr/>
        </p:nvPicPr>
        <p:blipFill>
          <a:blip r:embed="rId1"/>
          <a:srcRect l="417" t="25265" r="635" b="24152"/>
          <a:stretch/>
        </p:blipFill>
        <p:spPr>
          <a:xfrm>
            <a:off x="846000" y="1285920"/>
            <a:ext cx="7162920" cy="27464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lock Devic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 the main interface to all disk devices in a syst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lock buff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che serves two main purpo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cts as a pool of buffers for active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serves as a cache for completed I/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est mana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anages the reading and writing of buffer contents to and from a block device dr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racter Devic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vice driver which does not offer random access to fixed blocks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haracter device driver must register a set of functions which implement the driver’s various file I/O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performs almost no preprocessing of a file read or write request to a character device, but simply passes on the request to the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exception to this rule is the special subset of character device drivers which implement terminal devices, for which the kernel maintains a standard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terprocess Commun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UNIX, Linux informs processes that an event has occurred via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limited number of signals, and they cannot carry information:  Only the fact that a signal occurred is available to a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nux kernel does not use signals to communicate with processes with are running in kernel mode, rather, communication within the kernel is accomplished via scheduling states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.que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ssing Data Between Process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pe mechanism allows a child process to inherit a communication channel to its parent, data written to one end of the pipe can be read a the oth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memory offers an extremely fast way of communicating; any data written by one process to a shared memory region can be read immediately by any other process that has mapped that region into its address sp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obtain synchronization, however, shared memory must be used in conjunction with another Interprocess-communication 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hared Memory Objec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ared-memory object acts as a backing store for shared-memory regions in the same way as a file can act as backing store for a memory-mapped memory reg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-memory mappings direct page faults to map in pages from a persistent shared-memory objec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-memory objects remember their contents even if no processes are currently mapping them into virtu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etwork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ing is a key area of functionality for Lin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supports the standard Internet protocols for UNIX to UNIX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lso implements protocols native to nonUNIX operating systems, in particular, protocols used on PC networks, such as Appletalk and IP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ly, networking in the Linux kernel is implemented by three layers of softw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cket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device dr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etwork Structure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important set of protocols in the Linux networking system is the internet protocol su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mplements routing between different hosts anywhere on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op of the routing protocol are built the UDP, TCP and ICMP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nux 2.0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701120" cy="42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eased in June 1996,  2.0 added two major new capabiliti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multiple architectures, including a fully 64-bit native Alpha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multiprocessor architec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 new features includ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memory-management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TCP/IP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or internal kernel threads, for handling dependencies between loadable modules, and for automatic loading of modules on dem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ized configuration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ilable for Motorola 68000-series processors, Sun Sparc systems, and for PC and PowerMac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4 and 2.6 increased SMP support, added journaling file system, preemptive kernel, 64-bit memory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curit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luggable authentication modules (PAM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is available under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M is based on a shared library that can be used by any system component that needs to authenticate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control under UNIX systems, including Linux, is performed through the use of unique numeric identifiers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control is performed by assigning object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tections mas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specifies which access modes—read, write, or execute—are to be granted to processes with owner, group, or world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curity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augments the standard UNIX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u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chanism in two way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mplements the POSIX specification’s sav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r-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chanism, which allows a process to repeatedly drop and reacquire its effective u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has added a process characteristic that grants just a subset of the rights of the effective ui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provides another mechanism that allows a client to selectively pass access to a single file to some server process without granting it any other privile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e Linux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uses many tools developed as part of Berkeley’s BSD operating system, MIT’s X  Window System, and the Free Software Foundation's GNU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in system libraries were started by the GNU project, with improvements provided by the Linux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networking-administration tools were derived from 4.3BSD code; recent BSD derivatives such as Free BSD have borrowed code from Linux in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nux system is maintained by a loose network of developers collaborating over the Internet, with a small number of public ftp sites acting as de facto standard repos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nux Distribu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ard, precompiled sets of packages,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istribu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nclude the basic Linux system, system installation and management utilities, and ready-to-install packages of common UNIX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rst distributions managed these packages by simply providing a means of unpacking all the files into the appropriate places; modern distributions include advanced packag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distributions included SLS and Slackw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d 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bi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popular distributions from commercial and noncommercial sources, resp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PM Package file format permits compatibility among the various Linux distrib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nux Licens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nux kernel is distributed under the GNU General Public License (GPL), the terms of which are set out by the Free Software Found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one using Linux, or creating their own derivative of Linux, may not make the derived product proprietary; software released under the GPL may not be redistributed as a binary-only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9:54:22Z</dcterms:created>
  <dc:creator/>
  <dc:description/>
  <dc:language>en-US</dc:language>
  <cp:lastModifiedBy>LOVE GOEL</cp:lastModifiedBy>
  <cp:lastPrinted>2001-07-05T20:38:13Z</cp:lastPrinted>
  <dcterms:modified xsi:type="dcterms:W3CDTF">2008-08-09T10:19:56Z</dcterms:modified>
  <cp:revision>0</cp:revision>
  <dc:subject/>
  <dc:title/>
</cp:coreProperties>
</file>