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3.</a:t>
            </a:r>
            <a:fld id="{B6B53D17-DF79-47A7-9029-B67AAB3CFD94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80" y="6613560"/>
            <a:ext cx="33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-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7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3: 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cheduling Que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8360" y="1545840"/>
            <a:ext cx="678492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b 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t of all process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y 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t of all processes residing in main memory, ready and wait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vice que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t of processes waiting for an I/O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igrate among the various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3880" y="380880"/>
            <a:ext cx="7983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Ready Queue And Various I/O Device Queu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7365" t="517" r="7365" b="1550"/>
          <a:stretch/>
        </p:blipFill>
        <p:spPr>
          <a:xfrm>
            <a:off x="1916280" y="1413000"/>
            <a:ext cx="5673600" cy="4886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presentation of Process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rcRect l="664" t="11596" r="890" b="12133"/>
          <a:stretch/>
        </p:blipFill>
        <p:spPr>
          <a:xfrm>
            <a:off x="1217520" y="1798560"/>
            <a:ext cx="6661080" cy="3872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1495080"/>
            <a:ext cx="643284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g-term 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or job scheduler) – selects which processes should be brought into the 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rt-term 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or CPU scheduler) – selects which process should be executed next and allocates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ition of Medium Term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1"/>
          <a:srcRect l="808" t="26687" r="1011" b="26687"/>
          <a:stretch/>
        </p:blipFill>
        <p:spPr>
          <a:xfrm>
            <a:off x="1030320" y="2400480"/>
            <a:ext cx="7278480" cy="2592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r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-term scheduler is invoked very frequently (millisecond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ust be f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term scheduler is invoked very infrequently (seconds, minute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ay be s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ng-term scheduler control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gree of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be described as ei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/O-bound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ends more time doing I/O than computations, many short CPU bur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PU-bound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ends more time doing computations; few very long CPU bur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ext Swit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PU switches to another process, the system must save the state of the old process and load the saved state for the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switch time is overhead; the system does no useful work while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pendent on hardwa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process create children processes, which, in turn create other processes, forming a tree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ren share al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share subset of parent’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 share n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ren execu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waits until children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duplicate of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has a program loaded i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reates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used aft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place the process’ memory space with a new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384" t="33248" r="576" b="33253"/>
          <a:stretch/>
        </p:blipFill>
        <p:spPr>
          <a:xfrm>
            <a:off x="1346040" y="2095560"/>
            <a:ext cx="6558120" cy="1663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3760" y="228240"/>
            <a:ext cx="7189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3: 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294920"/>
            <a:ext cx="658512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in Client-Ser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 Program Forking Separate Proces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00000" y="1282320"/>
            <a:ext cx="49640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id_t  p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fork another proces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id = for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f (pid &lt; 0) { /* error occurre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fprintf(stderr, "Fork Faile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xit(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lse if (pid == 0) { /* child proces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xeclp("/bin/ls", "ls"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lse { /* parent proces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parent will wait for the child to complet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ait (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rintf ("Child Comple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ree of processes on a typical Solari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7940" t="758" r="8129" b="507"/>
          <a:stretch/>
        </p:blipFill>
        <p:spPr>
          <a:xfrm>
            <a:off x="2098800" y="1557360"/>
            <a:ext cx="5216400" cy="4602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executes last statement and asks the operating system to delete it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data from child to parent (v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’ resources are deallocated by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may terminate execution of children processe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has exceeded alloca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assigned to child is no longer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ent is 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perating system do not allow child to continue if its parent 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terminated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cading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operating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cannot affect or be affected by the execution of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oper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can affect or be affected by the execution of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process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ha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ducer-Consumer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410840"/>
            <a:ext cx="6669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digm for cooperating process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produces information that is consumed b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bounded-buf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s no practical limit on the size of th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unded-buf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umes that there is a fixed buf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920" y="196920"/>
            <a:ext cx="8074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ounded-Buffer – Shared-Memory Solu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95560" y="1517760"/>
            <a:ext cx="713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efine BUFFER_SIZE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def stru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i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buffer[BUFFER_SIZE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ou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is correct, but can only use BUFFER_SIZE-1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-Buffer – Insert() Metho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42760" y="14284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while (true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/* Produce an item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while (((in = (in + 1) % BUFFER SIZE count)  ==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;   /* do nothing -- no free buffer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buffer[in] = i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in = (in + 1) % BUFFER 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 Buffer – Remove() Metho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09360" y="1499760"/>
            <a:ext cx="6157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hile (in == 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; // do nothing -- nothing to con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// remove an item from th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tem = buffer[out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out = (out + 1) % BUFFER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 i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process Communication (IPC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for processes to communicate and to synchronize their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system – processes communicate with each other without resorting to 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facility provides two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message size fixed or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sh to communicate, they ne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messages via send/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(e.g., shared memory, hardware b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(e.g., logical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Ques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links establ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 link be associated with more than two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inks can there be between every pair of communicating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apacity of a l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ze of a message that the link can accommodate fixed or vari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nk unidirectional or bi-dire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93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cep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94920"/>
            <a:ext cx="658512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perating system executes a variety of progr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system –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shared systems – user programs 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book uses the term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most interchange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– a program in execution; process execution must progress in sequential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munications Model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594" t="6600" r="594" b="7127"/>
          <a:stretch/>
        </p:blipFill>
        <p:spPr>
          <a:xfrm>
            <a:off x="1600200" y="1095480"/>
            <a:ext cx="6337440" cy="4149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ust name each other explici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send a message to proces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receive a message from process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are established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is associated with exactly one pair of communic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each pair there exists exactly on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may be unidirectional, but is usually bi-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1295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are directed and received from mailboxes (also referred to as po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ilbox has a uniqu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communicate only if they share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stablished only if processes share a common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may be associated with man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air of processes may share several communication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may be unidirectional or bi-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295280"/>
            <a:ext cx="67723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d receive messages through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s are defin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send a message to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receive a message from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box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s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gets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a link to be associated with at most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one process at a time to execute a receiv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he system to select arbitrarily the receiver.  Sender is notified who the receiver w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nchro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 may be either blocking or non-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 s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he sender block until the message is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 rece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he receiver block until a message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has the sender send the message and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has the receiver receive a valid message or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ffer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messages attached to the link; implemented in one of three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capacity – 0 messa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must wait for receiver (rendezv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ed capacity – finite lengt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must wait if link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bounded capacity – infinite leng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never w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ent-Server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Method Invocation (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ket is defined as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point for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enation of IP address an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1.25.19.8:16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s to 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ho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1.25.1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consists between a pair of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rcRect l="421" t="5055" r="631" b="4774"/>
          <a:stretch/>
        </p:blipFill>
        <p:spPr>
          <a:xfrm>
            <a:off x="1719360" y="1581120"/>
            <a:ext cx="5964120" cy="4076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in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27092" t="1191" r="27122" b="1191"/>
          <a:stretch/>
        </p:blipFill>
        <p:spPr>
          <a:xfrm>
            <a:off x="3568680" y="1782720"/>
            <a:ext cx="2522520" cy="4033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mote Procedure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rocedure call (RPC) abstracts procedure calls between processes on networked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lient-side proxy for the actual procedure on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-side stub locates the server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sh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-side stub receives this message, unpacks the marshalled parameters, and peforms the procedure on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ecution of RP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rcRect l="19237" t="1039" r="19432" b="1039"/>
          <a:stretch/>
        </p:blipFill>
        <p:spPr>
          <a:xfrm>
            <a:off x="2232000" y="1084320"/>
            <a:ext cx="4357800" cy="5219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mote Method Inv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Method Invocation (RMI) is a Java mechanism similar to RP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 allows a Java program on one machine to invoke a method on a remote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rcRect l="365" t="25004" r="362" b="25004"/>
          <a:stretch/>
        </p:blipFill>
        <p:spPr>
          <a:xfrm>
            <a:off x="1209600" y="3193920"/>
            <a:ext cx="6926400" cy="2616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rshalling Paramet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rcRect l="406" t="12792" r="410" b="12517"/>
          <a:stretch/>
        </p:blipFill>
        <p:spPr>
          <a:xfrm>
            <a:off x="1228680" y="1409760"/>
            <a:ext cx="7477200" cy="422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232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tat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95280"/>
            <a:ext cx="658512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 process executes, it chan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The process is being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Instructions are being exec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The process is waiting for some event to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The process is waiting to be assigned to a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in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The process has finished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agram of Process Stat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rcRect l="458" t="24142" r="690" b="24418"/>
          <a:stretch/>
        </p:blipFill>
        <p:spPr>
          <a:xfrm>
            <a:off x="1442880" y="2001960"/>
            <a:ext cx="6829560" cy="2665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94920"/>
            <a:ext cx="658368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ssociated with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tatu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27088" t="359" r="27413" b="1083"/>
          <a:stretch/>
        </p:blipFill>
        <p:spPr>
          <a:xfrm>
            <a:off x="3227400" y="1717560"/>
            <a:ext cx="2663640" cy="4327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witch From Process to Proces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4803" t="871" r="4803" b="290"/>
          <a:stretch/>
        </p:blipFill>
        <p:spPr>
          <a:xfrm>
            <a:off x="1752480" y="1538280"/>
            <a:ext cx="5697720" cy="4672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2:46:17Z</dcterms:created>
  <dc:creator/>
  <dc:description/>
  <dc:language>en-US</dc:language>
  <cp:lastModifiedBy>LOVE GOEL</cp:lastModifiedBy>
  <cp:lastPrinted>2001-06-14T14:14:54Z</cp:lastPrinted>
  <dcterms:modified xsi:type="dcterms:W3CDTF">2008-08-09T10:14:15Z</dcterms:modified>
  <cp:revision>0</cp:revision>
  <dc:subject/>
  <dc:title/>
</cp:coreProperties>
</file>