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27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98520" y="12823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269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27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98520" y="3624120"/>
            <a:ext cx="23670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80773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36241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1282320"/>
            <a:ext cx="3587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26920" y="3624120"/>
            <a:ext cx="735192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4041000" y="6613560"/>
            <a:ext cx="8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3.</a:t>
            </a:r>
            <a:fld id="{3206F57C-731F-4732-9A27-5E21729A5CA8}" type="slidenum">
              <a:rPr b="1" lang="en-US" sz="1000" spc="-1" strike="noStrike">
                <a:solidFill>
                  <a:srgbClr val="9933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3" name="Freeform 5"/>
          <p:cNvSpPr/>
          <p:nvPr/>
        </p:nvSpPr>
        <p:spPr>
          <a:xfrm flipV="1" rot="8361600">
            <a:off x="1609200" y="4961520"/>
            <a:ext cx="972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6"/>
          <p:cNvSpPr/>
          <p:nvPr/>
        </p:nvSpPr>
        <p:spPr>
          <a:xfrm flipV="1" rot="10665600">
            <a:off x="1188720" y="420444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5164200" y="4206960"/>
            <a:ext cx="792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6489720" y="6588000"/>
            <a:ext cx="271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Silberschatz, Galvin and Gagne ©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6480" y="6613560"/>
            <a:ext cx="33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Operating System Concepts - 7</a:t>
            </a:r>
            <a:r>
              <a:rPr b="1" lang="en-US" sz="1000" spc="-1" strike="noStrike" baseline="30000">
                <a:solidFill>
                  <a:srgbClr val="99330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993300"/>
                </a:solidFill>
                <a:latin typeface="Arial"/>
              </a:rPr>
              <a:t> Edition, Feb 7,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-1658880" y="1109520"/>
            <a:ext cx="46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-898560" y="1170000"/>
            <a:ext cx="3240" cy="144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-1479600" y="423720"/>
            <a:ext cx="1800" cy="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Freeform 13"/>
          <p:cNvSpPr/>
          <p:nvPr/>
        </p:nvSpPr>
        <p:spPr>
          <a:xfrm>
            <a:off x="-1467000" y="888840"/>
            <a:ext cx="6480" cy="180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Freeform 14"/>
          <p:cNvSpPr/>
          <p:nvPr/>
        </p:nvSpPr>
        <p:spPr>
          <a:xfrm>
            <a:off x="-1639800" y="114444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Freeform 15"/>
          <p:cNvSpPr/>
          <p:nvPr/>
        </p:nvSpPr>
        <p:spPr>
          <a:xfrm>
            <a:off x="-1247760" y="1146240"/>
            <a:ext cx="4680" cy="7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Freeform 16"/>
          <p:cNvSpPr/>
          <p:nvPr/>
        </p:nvSpPr>
        <p:spPr>
          <a:xfrm>
            <a:off x="-1101600" y="1228680"/>
            <a:ext cx="1440" cy="6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Freeform 17"/>
          <p:cNvSpPr/>
          <p:nvPr/>
        </p:nvSpPr>
        <p:spPr>
          <a:xfrm>
            <a:off x="-1303200" y="1270080"/>
            <a:ext cx="12600" cy="14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Freeform 18"/>
          <p:cNvSpPr/>
          <p:nvPr/>
        </p:nvSpPr>
        <p:spPr>
          <a:xfrm>
            <a:off x="1176480" y="885960"/>
            <a:ext cx="4680" cy="93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Picture 19" descr="Slide_iconblue_pc"/>
          <p:cNvPicPr/>
          <p:nvPr/>
        </p:nvPicPr>
        <p:blipFill>
          <a:blip r:embed="rId2"/>
          <a:stretch/>
        </p:blipFill>
        <p:spPr>
          <a:xfrm>
            <a:off x="8118360" y="6010200"/>
            <a:ext cx="1011240" cy="611280"/>
          </a:xfrm>
          <a:prstGeom prst="rect">
            <a:avLst/>
          </a:prstGeom>
          <a:ln w="0">
            <a:noFill/>
          </a:ln>
        </p:spPr>
      </p:pic>
      <p:pic>
        <p:nvPicPr>
          <p:cNvPr id="18" name="Picture 20" descr="Slide_iconvertical"/>
          <p:cNvPicPr/>
          <p:nvPr/>
        </p:nvPicPr>
        <p:blipFill>
          <a:blip r:embed="rId3"/>
          <a:stretch/>
        </p:blipFill>
        <p:spPr>
          <a:xfrm>
            <a:off x="0" y="0"/>
            <a:ext cx="600120" cy="11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8f8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Slide_iconblue_pc"/>
          <p:cNvPicPr/>
          <p:nvPr/>
        </p:nvPicPr>
        <p:blipFill>
          <a:blip r:embed="rId2"/>
          <a:stretch/>
        </p:blipFill>
        <p:spPr>
          <a:xfrm>
            <a:off x="3179880" y="4829040"/>
            <a:ext cx="2349360" cy="1419480"/>
          </a:xfrm>
          <a:prstGeom prst="rect">
            <a:avLst/>
          </a:prstGeom>
          <a:ln w="38160">
            <a:solidFill>
              <a:srgbClr val="cc3300"/>
            </a:solidFill>
            <a:miter/>
          </a:ln>
        </p:spPr>
      </p:pic>
      <p:pic>
        <p:nvPicPr>
          <p:cNvPr id="57" name="Picture 8" descr="BD21332_"/>
          <p:cNvPicPr/>
          <p:nvPr/>
        </p:nvPicPr>
        <p:blipFill>
          <a:blip r:embed="rId3"/>
          <a:stretch/>
        </p:blipFill>
        <p:spPr>
          <a:xfrm>
            <a:off x="1539720" y="3603600"/>
            <a:ext cx="6035760" cy="3430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4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4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3000" indent="-221400">
              <a:spcBef>
                <a:spcPts val="1400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85640" indent="-221400">
              <a:spcBef>
                <a:spcPts val="1400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18280" indent="-221400">
              <a:spcBef>
                <a:spcPts val="1400"/>
              </a:spcBef>
              <a:buClr>
                <a:srgbClr val="ff0066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18280" indent="-221400">
              <a:spcBef>
                <a:spcPts val="1400"/>
              </a:spcBef>
              <a:buClr>
                <a:srgbClr val="000000"/>
              </a:buClr>
              <a:buSzPct val="75000"/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3: 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cheduling Queu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8360" y="1545840"/>
            <a:ext cx="678492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Job 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t of all processes in th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ady que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t of all processes residing in main memory, ready and waiting to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vice que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et of processes waiting for an I/O 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igrate among the various que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93880" y="380880"/>
            <a:ext cx="79833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Ready Queue And Various I/O Device Queues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rcRect l="7365" t="517" r="7365" b="1550"/>
          <a:stretch/>
        </p:blipFill>
        <p:spPr>
          <a:xfrm>
            <a:off x="1916280" y="1413000"/>
            <a:ext cx="5673600" cy="48862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presentation of Process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rcRect l="664" t="11596" r="890" b="12133"/>
          <a:stretch/>
        </p:blipFill>
        <p:spPr>
          <a:xfrm>
            <a:off x="1217520" y="1798560"/>
            <a:ext cx="6661080" cy="38721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560" y="1495080"/>
            <a:ext cx="6432840" cy="25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g-term sched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or job scheduler) – selects which processes should be brought into the ready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hort-term schedu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(or CPU scheduler) – selects which process should be executed next and allocates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ddition of Medium Term Schedul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1"/>
          <a:srcRect l="808" t="26687" r="1011" b="26687"/>
          <a:stretch/>
        </p:blipFill>
        <p:spPr>
          <a:xfrm>
            <a:off x="1030320" y="2400480"/>
            <a:ext cx="7278480" cy="25923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chedulers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-term scheduler is invoked very frequently (millisecond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ust be fa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term scheduler is invoked very infrequently (seconds, minute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may be s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ong-term scheduler controls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gree of multi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be described as ei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/O-bound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pends more time doing I/O than computations, many short CPU bur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PU-bound 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spends more time doing computations; few very long CPU bur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ntext Switch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CPU switches to another process, the system must save the state of the old process and load the saved state for the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ext-switch time is overhead; the system does no useful work while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dependent on hardwar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process create children processes, which, in turn create other processes, forming a tree of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ren share all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ren share subset of parent’s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 share no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and children execute concurr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waits until children 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 (Cont.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duplicate of 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has a program loaded into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creates new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ystem call used after 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replace the process’ memory space with a new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rcRect l="384" t="33248" r="576" b="33253"/>
          <a:stretch/>
        </p:blipFill>
        <p:spPr>
          <a:xfrm>
            <a:off x="1346040" y="2095560"/>
            <a:ext cx="6558120" cy="1663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3760" y="228240"/>
            <a:ext cx="7189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hapter 3: 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920" y="1294920"/>
            <a:ext cx="658512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chedu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 o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rocess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in Client-Serv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 Program Forking Separate Proces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00000" y="1282320"/>
            <a:ext cx="49640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nt main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id_t  pi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fork another proces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id = fork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f (pid &lt; 0) { /* error occurred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fprintf(stderr, "Fork Failed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xit(-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lse if (pid == 0) { /* child proces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xeclp("/bin/ls", "ls", 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lse { /* parent proces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/* parent will wait for the child to complet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wait (NULL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rintf ("Child Complete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exit(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A tree of processes on a typical Solari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rcRect l="7940" t="758" r="8129" b="507"/>
          <a:stretch/>
        </p:blipFill>
        <p:spPr>
          <a:xfrm>
            <a:off x="2098800" y="1557360"/>
            <a:ext cx="5216400" cy="46022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executes last statement and asks the operating system to delete it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 data from child to parent (vi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’ resources are deallocated by operat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ent may terminate execution of children processes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ld has exceeded allocated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assigned to child is no longer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parent is ex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88"/>
              </a:spcBef>
              <a:buClr>
                <a:srgbClr val="009900"/>
              </a:buClr>
              <a:buSzPct val="75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operating system do not allow child to continue if its parent termin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88"/>
              </a:spcBef>
              <a:buClr>
                <a:srgbClr val="ff9900"/>
              </a:buClr>
              <a:buSzPct val="75000"/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children terminated -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scading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operating Processe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depend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cannot affect or be affected by the execution of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operat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can affect or be affected by the execution of anoth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s of process co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sha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ation 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ducer-Consumer Problem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410840"/>
            <a:ext cx="66693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digm for cooperating processes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 produces information that is consumed by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um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nbounded-buf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laces no practical limit on the size of th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ounded-buff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ssumes that there is a fixed buffer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920" y="196920"/>
            <a:ext cx="80740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</a:rPr>
              <a:t>Bounded-Buffer – Shared-Memory Solution</a:t>
            </a:r>
            <a:endParaRPr b="1" lang="en-US" sz="28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95560" y="1517760"/>
            <a:ext cx="7130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define BUFFER_SIZE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def struct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i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em buffer[BUFFER_SIZE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i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ou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is correct, but can only use BUFFER_SIZE-1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788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-Buffer – Insert() Metho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42760" y="1428480"/>
            <a:ext cx="73515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while (true) {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/* Produce an item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while (((in = (in + 1) % BUFFER SIZE count)  ==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;   /* do nothing -- no free buffer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buffer[in] = it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in = (in + 1) % BUFFER SIZ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ounded Buffer – Remove() Method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09360" y="1499760"/>
            <a:ext cx="61578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hile (tru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while (in == 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; // do nothing -- nothing to con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// remove an item from th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item = buffer[out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out = (out + 1) % BUFFER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turn it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Monaco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terprocess Communication (IPC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 for processes to communicate and to synchronize their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system – processes communicate with each other without resorting to 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 facility provides two opera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message size fixed or varia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sh to communicate, they ne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lish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tween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hange messages via send/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(e.g., shared memory, hardware b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cal (e.g., logical 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mplementation Question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are links establish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a link be associated with more than two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links can there be between every pair of communicating process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capacity of a l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size of a message that the link can accommodate fixed or vari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link unidirectional or bi-direct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930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cept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294920"/>
            <a:ext cx="658512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perating system executes a variety of progra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system –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shared systems – user programs or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book uses the term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most interchange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– a program in execution; process execution must progress in sequential fash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rocess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ou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ommunications Models 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rcRect l="594" t="6600" r="594" b="7127"/>
          <a:stretch/>
        </p:blipFill>
        <p:spPr>
          <a:xfrm>
            <a:off x="1600200" y="1095480"/>
            <a:ext cx="6337440" cy="414972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must name each other explicit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send a message to process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receive a message from process 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s are established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k is associated with exactly one pair of communicating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ween each pair there exists exactly one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ink may be unidirectional, but is usually bi-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6560" y="1295280"/>
            <a:ext cx="702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are directed and received from mailboxes (also referred to as po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ailbox has a unique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es can communicate only if they share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perties of communication l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established only if processes share a common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ink may be associated with many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air of processes may share several communication 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may be unidirectional or bi-dire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920" y="1295280"/>
            <a:ext cx="677232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 new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nd receive messages through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roy a mail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s are defined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send a message to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, mess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– receive a message from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Indirec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box sha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hare mailbox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ends;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ce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gets the mess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a link to be associated with at most two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only one process at a time to execute a receiv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the system to select arbitrarily the receiver.  Sender is notified who the receiver w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ynchroniz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passing may be either blocking or non-blo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 se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he sender block until the message is recei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cking receiv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s the receiver block until a message is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consider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has the sender send the message and conti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88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block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has the receiver receive a valid message or n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Buffering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 of messages attached to the link; implemented in one of three 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ro capacity – 0 messa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must wait for receiver (rendezv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unded capacity – finite lengt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essag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must wait if link 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bounded capacity – infinite leng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never wa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lient-Server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rocedure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Method Invocation (Jav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ocket is defined as 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ndpoint for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atenation of IP address and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ck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1.25.19.8:16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fers to por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ho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1.25.19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consists between a pair of s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Socket Communi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4" name="Picture 6" descr=""/>
          <p:cNvPicPr/>
          <p:nvPr/>
        </p:nvPicPr>
        <p:blipFill>
          <a:blip r:embed="rId1"/>
          <a:srcRect l="421" t="5055" r="631" b="4774"/>
          <a:stretch/>
        </p:blipFill>
        <p:spPr>
          <a:xfrm>
            <a:off x="1719360" y="1581120"/>
            <a:ext cx="5964120" cy="4076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in Memory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rcRect l="27092" t="1191" r="27122" b="1191"/>
          <a:stretch/>
        </p:blipFill>
        <p:spPr>
          <a:xfrm>
            <a:off x="3568680" y="1782720"/>
            <a:ext cx="2522520" cy="4033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mote Procedure Call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procedure call (RPC) abstracts procedure calls between processes on networked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ub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client-side proxy for the actual procedure on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-side stub locates the server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sh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rver-side stub receives this message, unpacks the marshalled parameters, and peforms the procedure on the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Execution of RPC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rcRect l="19237" t="1039" r="19432" b="1039"/>
          <a:stretch/>
        </p:blipFill>
        <p:spPr>
          <a:xfrm>
            <a:off x="2232000" y="1084320"/>
            <a:ext cx="4357800" cy="52196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Remote Method Invocation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6920" y="1282320"/>
            <a:ext cx="735192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 Method Invocation (RMI) is a Java mechanism similar to RPC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 allows a Java program on one machine to invoke a method on a remote ob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rcRect l="365" t="25004" r="362" b="25004"/>
          <a:stretch/>
        </p:blipFill>
        <p:spPr>
          <a:xfrm>
            <a:off x="1209600" y="3193920"/>
            <a:ext cx="6926400" cy="26164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Marshalling Parameter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rcRect l="406" t="12792" r="410" b="12517"/>
          <a:stretch/>
        </p:blipFill>
        <p:spPr>
          <a:xfrm>
            <a:off x="1228680" y="1409760"/>
            <a:ext cx="7477200" cy="422280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2324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Stat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6920" y="1295280"/>
            <a:ext cx="658512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a process executes, it change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The process is being cre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Instructions are being exec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ait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The process is waiting for some event to occ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The process is waiting to be assigned to a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minat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The process has finished exec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Diagram of Process State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08" name="Picture 8" descr=""/>
          <p:cNvPicPr/>
          <p:nvPr/>
        </p:nvPicPr>
        <p:blipFill>
          <a:blip r:embed="rId1"/>
          <a:srcRect l="458" t="24142" r="690" b="24418"/>
          <a:stretch/>
        </p:blipFill>
        <p:spPr>
          <a:xfrm>
            <a:off x="1442880" y="2001960"/>
            <a:ext cx="6829560" cy="266544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294920"/>
            <a:ext cx="6583680" cy="37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associated with each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cou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U schedul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-managem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88"/>
              </a:spcBef>
              <a:buClr>
                <a:srgbClr val="9933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/O status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Process Control Block (PCB)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rcRect l="27088" t="359" r="27413" b="1083"/>
          <a:stretch/>
        </p:blipFill>
        <p:spPr>
          <a:xfrm>
            <a:off x="3227400" y="1717560"/>
            <a:ext cx="2663640" cy="432756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773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Arial"/>
              </a:rPr>
              <a:t>CPU Switch From Process to Process</a:t>
            </a:r>
            <a:endParaRPr b="1" lang="en-US" sz="3200" spc="-1" strike="noStrike">
              <a:solidFill>
                <a:srgbClr val="9933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rcRect l="4803" t="871" r="4803" b="290"/>
          <a:stretch/>
        </p:blipFill>
        <p:spPr>
          <a:xfrm>
            <a:off x="1752480" y="1538280"/>
            <a:ext cx="5697720" cy="4672080"/>
          </a:xfrm>
          <a:prstGeom prst="rect">
            <a:avLst/>
          </a:prstGeom>
          <a:ln w="38160">
            <a:solidFill>
              <a:srgbClr val="cc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7T12:46:17Z</dcterms:created>
  <dc:creator/>
  <dc:description/>
  <dc:language>en-US</dc:language>
  <cp:lastModifiedBy>LOVE GOEL</cp:lastModifiedBy>
  <cp:lastPrinted>2001-06-14T14:14:54Z</cp:lastPrinted>
  <dcterms:modified xsi:type="dcterms:W3CDTF">2008-08-09T10:14:15Z</dcterms:modified>
  <cp:revision>0</cp:revision>
  <dc:subject/>
  <dc:title/>
</cp:coreProperties>
</file>