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4.</a:t>
            </a:r>
            <a:fld id="{C3B6A468-26AB-4F7C-9DA1-26E19613CE1E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400" y="6613560"/>
            <a:ext cx="34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3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4: 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ne-to-O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-level thread maps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NT/XP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9 an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ne-to-one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rcRect l="362" t="25422" r="539" b="25181"/>
          <a:stretch/>
        </p:blipFill>
        <p:spPr>
          <a:xfrm>
            <a:off x="1314360" y="2057400"/>
            <a:ext cx="6577200" cy="2459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574640"/>
            <a:ext cx="68947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any user level threads to be mapped to many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 operating system to create a sufficient number of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prior to vers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NT/2000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Fi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rcRect l="6704" t="837" r="6914" b="837"/>
          <a:stretch/>
        </p:blipFill>
        <p:spPr>
          <a:xfrm>
            <a:off x="2128680" y="1727280"/>
            <a:ext cx="4714920" cy="4024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447920"/>
            <a:ext cx="65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:M, except that it allows a user thread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8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rcRect l="716" t="5734" r="240" b="5414"/>
          <a:stretch/>
        </p:blipFill>
        <p:spPr>
          <a:xfrm>
            <a:off x="1649520" y="1757520"/>
            <a:ext cx="5587920" cy="376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ing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8120" y="1485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anc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pec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mantics of fork() and exec(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plicate only the calling thread or all thr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Cancel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34960"/>
            <a:ext cx="6647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ng a thread before it ha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eneral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 the target thread 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target thread to periodically check if it should be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gnal Hand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397160"/>
            <a:ext cx="7064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re used in UNIX systems to notify a process that a particular event has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hand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process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generated by particula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delivered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ha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the thread to which the signal a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every thread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certain threads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specific threa to receive all signal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4: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Poo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8169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umber of threads in a pool where they awai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lightly faster to service a request with an existing thread than create a new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number of threads in the application(s) to be bound to the size of th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Specific Dat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2802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each thread to have its own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you do not have control over the thread creation process (i.e., when using a thread p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 Activ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672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M:M and Two-level models require communication to maintain the appropriate number of kernel threads allocated to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 communication mechanism from the kernel to the threa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munication allows an application to maintain the correct number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1372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X standard (IEEE 1003.1c) API for thread creation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specifies behavior of the thread library, implementation is up to development of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UNIX operating systems (Solaris, Linux, Mac 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7773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one-to-one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user and kernel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 stor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er set, stacks, and private storage area are known 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data structures of a thread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READ (executive thread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HREAD (kernel thread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B (thread environment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560" y="1460520"/>
            <a:ext cx="6085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refers to them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reation is done throug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a child task to share the address space of the parent task (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1600" y="1280880"/>
            <a:ext cx="62802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are manag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may be created b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rea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Runnabl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tate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749" t="25181" r="2226" b="26840"/>
          <a:stretch/>
        </p:blipFill>
        <p:spPr>
          <a:xfrm>
            <a:off x="831960" y="1776240"/>
            <a:ext cx="7677000" cy="2848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 and Multithreaded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rcRect l="391" t="11749" r="391" b="11749"/>
          <a:stretch/>
        </p:blipFill>
        <p:spPr>
          <a:xfrm>
            <a:off x="1116000" y="1652760"/>
            <a:ext cx="7132680" cy="4125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7360" y="420480"/>
            <a:ext cx="7157880" cy="3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n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tion of MP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22360" y="165240"/>
            <a:ext cx="31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management done by user-level threads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mary thread libra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by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threading Mod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O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ser-level threads mapped to single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Green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U Portab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One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12680" t="1206" r="12680" b="1211"/>
          <a:stretch/>
        </p:blipFill>
        <p:spPr>
          <a:xfrm>
            <a:off x="2233440" y="1592280"/>
            <a:ext cx="4475160" cy="438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8:20:03Z</dcterms:created>
  <dc:creator/>
  <dc:description/>
  <dc:language>en-US</dc:language>
  <cp:lastModifiedBy>LOVE GOEL</cp:lastModifiedBy>
  <cp:lastPrinted>2001-06-14T14:23:12Z</cp:lastPrinted>
  <dcterms:modified xsi:type="dcterms:W3CDTF">2008-08-09T10:14:15Z</dcterms:modified>
  <cp:revision>0</cp:revision>
  <dc:subject/>
  <dc:title/>
</cp:coreProperties>
</file>