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826920" y="3624120"/>
            <a:ext cx="735192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593960" y="12823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826920" y="36241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93960" y="36241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312720" y="128232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798520" y="128232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826920" y="362412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312720" y="362412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5798520" y="362412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35874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3960" y="1282320"/>
            <a:ext cx="35874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80773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93960" y="1282320"/>
            <a:ext cx="35874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26920" y="36241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35874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93960" y="12823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93960" y="36241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93960" y="12823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26920" y="3624120"/>
            <a:ext cx="735192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26920" y="3624120"/>
            <a:ext cx="735192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593960" y="12823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26920" y="36241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93960" y="36241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12720" y="128232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798520" y="128232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26920" y="362412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12720" y="362412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798520" y="362412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35874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3960" y="1282320"/>
            <a:ext cx="35874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80773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93960" y="1282320"/>
            <a:ext cx="35874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26920" y="36241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35874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93960" y="12823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93960" y="36241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93960" y="12823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26920" y="3624120"/>
            <a:ext cx="735192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4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14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53000" indent="-221400">
              <a:spcBef>
                <a:spcPts val="1400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85640" indent="-221400">
              <a:spcBef>
                <a:spcPts val="1400"/>
              </a:spcBef>
              <a:buClr>
                <a:srgbClr val="ff9900"/>
              </a:buClr>
              <a:buSzPct val="75000"/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18280" indent="-221400">
              <a:spcBef>
                <a:spcPts val="1400"/>
              </a:spcBef>
              <a:buClr>
                <a:srgbClr val="ff0066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18280" indent="-221400">
              <a:spcBef>
                <a:spcPts val="1400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18280" indent="-221400">
              <a:spcBef>
                <a:spcPts val="1400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Text Box 3"/>
          <p:cNvSpPr/>
          <p:nvPr/>
        </p:nvSpPr>
        <p:spPr>
          <a:xfrm>
            <a:off x="4041000" y="6613560"/>
            <a:ext cx="89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93300"/>
                </a:solidFill>
                <a:latin typeface="Arial"/>
              </a:rPr>
              <a:t>4.</a:t>
            </a:r>
            <a:fld id="{45991622-329B-4CCB-8063-AA7E26ACBE85}" type="slidenum">
              <a:rPr b="1" lang="en-US" sz="1000" spc="-1" strike="noStrike">
                <a:solidFill>
                  <a:srgbClr val="9933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" name="Freeform 5"/>
          <p:cNvSpPr/>
          <p:nvPr/>
        </p:nvSpPr>
        <p:spPr>
          <a:xfrm flipV="1" rot="8361600">
            <a:off x="1609200" y="4961520"/>
            <a:ext cx="9720" cy="14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Freeform 6"/>
          <p:cNvSpPr/>
          <p:nvPr/>
        </p:nvSpPr>
        <p:spPr>
          <a:xfrm flipV="1" rot="10665600">
            <a:off x="1188720" y="4204440"/>
            <a:ext cx="4680" cy="18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5164200" y="4206960"/>
            <a:ext cx="7920" cy="93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8"/>
          <p:cNvSpPr/>
          <p:nvPr/>
        </p:nvSpPr>
        <p:spPr>
          <a:xfrm>
            <a:off x="6489720" y="6588000"/>
            <a:ext cx="271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93300"/>
                </a:solidFill>
                <a:latin typeface="Arial"/>
              </a:rPr>
              <a:t>Silberschatz, Galvin and Gagne ©200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Text Box 9"/>
          <p:cNvSpPr/>
          <p:nvPr/>
        </p:nvSpPr>
        <p:spPr>
          <a:xfrm>
            <a:off x="5400" y="6613560"/>
            <a:ext cx="342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93300"/>
                </a:solidFill>
                <a:latin typeface="Arial"/>
              </a:rPr>
              <a:t>Operating System Concepts – 7</a:t>
            </a:r>
            <a:r>
              <a:rPr b="1" lang="en-US" sz="1000" spc="-1" strike="noStrike" baseline="30000">
                <a:solidFill>
                  <a:srgbClr val="993300"/>
                </a:solidFill>
                <a:latin typeface="Arial"/>
              </a:rPr>
              <a:t>th</a:t>
            </a:r>
            <a:r>
              <a:rPr b="1" lang="en-US" sz="1000" spc="-1" strike="noStrike">
                <a:solidFill>
                  <a:srgbClr val="993300"/>
                </a:solidFill>
                <a:latin typeface="Arial"/>
              </a:rPr>
              <a:t> edition, Jan 23, 200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Freeform 10"/>
          <p:cNvSpPr/>
          <p:nvPr/>
        </p:nvSpPr>
        <p:spPr>
          <a:xfrm>
            <a:off x="-1658880" y="1109520"/>
            <a:ext cx="4680" cy="18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Freeform 11"/>
          <p:cNvSpPr/>
          <p:nvPr/>
        </p:nvSpPr>
        <p:spPr>
          <a:xfrm>
            <a:off x="-898560" y="1170000"/>
            <a:ext cx="3240" cy="14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12"/>
          <p:cNvSpPr/>
          <p:nvPr/>
        </p:nvSpPr>
        <p:spPr>
          <a:xfrm>
            <a:off x="-1479600" y="423720"/>
            <a:ext cx="180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Freeform 13"/>
          <p:cNvSpPr/>
          <p:nvPr/>
        </p:nvSpPr>
        <p:spPr>
          <a:xfrm>
            <a:off x="-1467000" y="888840"/>
            <a:ext cx="6480" cy="18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Freeform 14"/>
          <p:cNvSpPr/>
          <p:nvPr/>
        </p:nvSpPr>
        <p:spPr>
          <a:xfrm>
            <a:off x="-1639800" y="1144440"/>
            <a:ext cx="1440" cy="6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Freeform 15"/>
          <p:cNvSpPr/>
          <p:nvPr/>
        </p:nvSpPr>
        <p:spPr>
          <a:xfrm>
            <a:off x="-1247760" y="1146240"/>
            <a:ext cx="4680" cy="79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Freeform 16"/>
          <p:cNvSpPr/>
          <p:nvPr/>
        </p:nvSpPr>
        <p:spPr>
          <a:xfrm>
            <a:off x="-1101600" y="1228680"/>
            <a:ext cx="1440" cy="6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Freeform 17"/>
          <p:cNvSpPr/>
          <p:nvPr/>
        </p:nvSpPr>
        <p:spPr>
          <a:xfrm>
            <a:off x="-1303200" y="1270080"/>
            <a:ext cx="12600" cy="1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Freeform 18"/>
          <p:cNvSpPr/>
          <p:nvPr/>
        </p:nvSpPr>
        <p:spPr>
          <a:xfrm>
            <a:off x="1176480" y="885960"/>
            <a:ext cx="4680" cy="93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" name="Picture 19" descr="Slide_iconblue_pc"/>
          <p:cNvPicPr/>
          <p:nvPr/>
        </p:nvPicPr>
        <p:blipFill>
          <a:blip r:embed="rId2"/>
          <a:stretch/>
        </p:blipFill>
        <p:spPr>
          <a:xfrm>
            <a:off x="8118360" y="6010200"/>
            <a:ext cx="1011240" cy="611280"/>
          </a:xfrm>
          <a:prstGeom prst="rect">
            <a:avLst/>
          </a:prstGeom>
          <a:ln w="0">
            <a:noFill/>
          </a:ln>
        </p:spPr>
      </p:pic>
      <p:pic>
        <p:nvPicPr>
          <p:cNvPr id="18" name="Picture 20" descr="Slide_iconvertical"/>
          <p:cNvPicPr/>
          <p:nvPr/>
        </p:nvPicPr>
        <p:blipFill>
          <a:blip r:embed="rId3"/>
          <a:stretch/>
        </p:blipFill>
        <p:spPr>
          <a:xfrm>
            <a:off x="0" y="0"/>
            <a:ext cx="600120" cy="1101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6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7" descr="Slide_iconblue_pc"/>
          <p:cNvPicPr/>
          <p:nvPr/>
        </p:nvPicPr>
        <p:blipFill>
          <a:blip r:embed="rId2"/>
          <a:stretch/>
        </p:blipFill>
        <p:spPr>
          <a:xfrm>
            <a:off x="3179880" y="4829040"/>
            <a:ext cx="2349360" cy="1419480"/>
          </a:xfrm>
          <a:prstGeom prst="rect">
            <a:avLst/>
          </a:prstGeom>
          <a:ln w="38160">
            <a:solidFill>
              <a:srgbClr val="cc3300"/>
            </a:solidFill>
            <a:miter/>
          </a:ln>
        </p:spPr>
      </p:pic>
      <p:pic>
        <p:nvPicPr>
          <p:cNvPr id="57" name="Picture 8" descr="BD21332_"/>
          <p:cNvPicPr/>
          <p:nvPr/>
        </p:nvPicPr>
        <p:blipFill>
          <a:blip r:embed="rId3"/>
          <a:stretch/>
        </p:blipFill>
        <p:spPr>
          <a:xfrm>
            <a:off x="1539720" y="3603600"/>
            <a:ext cx="6035760" cy="34308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4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14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53000" indent="-221400">
              <a:spcBef>
                <a:spcPts val="1400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85640" indent="-221400">
              <a:spcBef>
                <a:spcPts val="1400"/>
              </a:spcBef>
              <a:buClr>
                <a:srgbClr val="ff9900"/>
              </a:buClr>
              <a:buSzPct val="75000"/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18280" indent="-221400">
              <a:spcBef>
                <a:spcPts val="1400"/>
              </a:spcBef>
              <a:buClr>
                <a:srgbClr val="ff0066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18280" indent="-221400">
              <a:spcBef>
                <a:spcPts val="1400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18280" indent="-221400">
              <a:spcBef>
                <a:spcPts val="1400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Chapter 4:  Threads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One-to-One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user-level thread maps to kernel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s NT/XP/2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laris 9 and l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One-to-one Model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119" name="Picture 7" descr=""/>
          <p:cNvPicPr/>
          <p:nvPr/>
        </p:nvPicPr>
        <p:blipFill>
          <a:blip r:embed="rId1"/>
          <a:srcRect l="362" t="25422" r="539" b="25181"/>
          <a:stretch/>
        </p:blipFill>
        <p:spPr>
          <a:xfrm>
            <a:off x="1314360" y="2057400"/>
            <a:ext cx="6577200" cy="245916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Many-to-Many Model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26920" y="1574640"/>
            <a:ext cx="6894720" cy="444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ows many user level threads to be mapped to many kernel threa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ows the  operating system to create a sufficient number of kernel threa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laris prior to version 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s NT/2000 with th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hreadFib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ack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Many-to-Many Model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123" name="Picture 7" descr=""/>
          <p:cNvPicPr/>
          <p:nvPr/>
        </p:nvPicPr>
        <p:blipFill>
          <a:blip r:embed="rId1"/>
          <a:srcRect l="6704" t="837" r="6914" b="837"/>
          <a:stretch/>
        </p:blipFill>
        <p:spPr>
          <a:xfrm>
            <a:off x="2128680" y="1727280"/>
            <a:ext cx="4714920" cy="402408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Two-level Model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26560" y="1447920"/>
            <a:ext cx="650268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ilar to M:M, except that it allows a user thread to b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un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o kernel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R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P-U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u64 UN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laris 8 and earl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Two-level Model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127" name="Picture 9" descr=""/>
          <p:cNvPicPr/>
          <p:nvPr/>
        </p:nvPicPr>
        <p:blipFill>
          <a:blip r:embed="rId1"/>
          <a:srcRect l="716" t="5734" r="240" b="5414"/>
          <a:stretch/>
        </p:blipFill>
        <p:spPr>
          <a:xfrm>
            <a:off x="1649520" y="1757520"/>
            <a:ext cx="5587920" cy="376056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Threading Issues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68120" y="1485720"/>
            <a:ext cx="735156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mantics of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k(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ec(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ystem ca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ead cancel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gnal hand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ead p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ead specific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heduler activ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Semantics of fork() and exec()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e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k(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uplicate only the calling thread or all thread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Thread Cancellation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26920" y="1434960"/>
            <a:ext cx="66470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ing a thread before it has fini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o general approach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ynchronous cancell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erminates the target thread  immediate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ferred cancell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llows the target thread to periodically check if it should be cancell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Signal Handling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26920" y="1397160"/>
            <a:ext cx="7064640" cy="44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gnals are used in UNIX systems to notify a process that a particular event has occur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gnal handl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used to process sign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788"/>
              </a:spcBef>
              <a:buClr>
                <a:srgbClr val="cc6600"/>
              </a:buClr>
              <a:buSzPct val="80000"/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gnal is generated by particular ev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788"/>
              </a:spcBef>
              <a:buClr>
                <a:srgbClr val="cc6600"/>
              </a:buClr>
              <a:buSzPct val="80000"/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gnal is delivered to a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788"/>
              </a:spcBef>
              <a:buClr>
                <a:srgbClr val="cc6600"/>
              </a:buClr>
              <a:buSzPct val="80000"/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gnal is handl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liver the signal to the thread to which the signal appl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liver the signal to every thread in th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liver the signal to certain threads in th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ign a specific threa to receive all signals for th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Chapter 4: Threads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threading Mod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eading Iss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threa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s XP Threa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ux Threa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 Threa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Thread Pools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26920" y="1282680"/>
            <a:ext cx="681696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a number of threads in a pool where they await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vant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ually slightly faster to service a request with an existing thread than create a new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ows the number of threads in the application(s) to be bound to the size of the p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Thread Specific Data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26560" y="1282680"/>
            <a:ext cx="628020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ows each thread to have its own copy of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ful when you do not have control over the thread creation process (i.e., when using a thread poo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Scheduler Activations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26560" y="1282320"/>
            <a:ext cx="6672600" cy="444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th M:M and Two-level models require communication to maintain the appropriate number of kernel threads allocated to the 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heduler activations provid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pcal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 a communication mechanism from the kernel to the thread libr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communication allows an application to maintain the correct number kernel threa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Pthreads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26920" y="1282680"/>
            <a:ext cx="6137280" cy="44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POSIX standard (IEEE 1003.1c) API for thread creation and synchron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I specifies behavior of the thread library, implementation is up to development of the libr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on in UNIX operating systems (Solaris, Linux, Mac OS 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Windows XP Threads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26920" y="1282680"/>
            <a:ext cx="6777360" cy="45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s the one-to-one mapp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thread conta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thread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ister 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parate user and kernel stac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vate data storage a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register set, stacks, and private storage area are known as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ex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 the threa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rimary data structures of a thread includ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THREAD (executive thread bloc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THREAD (kernel thread bloc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B (thread environment bloc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Linux Threads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26560" y="1460520"/>
            <a:ext cx="60850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ux refers to them a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ask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ather tha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hrea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ead creation is done through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one(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ystem c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one(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llows a child task to share the address space of the parent task (proces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Java Threads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1600" y="1280880"/>
            <a:ext cx="6280200" cy="306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 threads are managed by the JV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 threads may be created by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ing Thread 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ing the Runnable interfac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Java Thread States 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151" name="Picture 4" descr=""/>
          <p:cNvPicPr/>
          <p:nvPr/>
        </p:nvPicPr>
        <p:blipFill>
          <a:blip r:embed="rId1"/>
          <a:srcRect l="749" t="25181" r="2226" b="26840"/>
          <a:stretch/>
        </p:blipFill>
        <p:spPr>
          <a:xfrm>
            <a:off x="831960" y="1776240"/>
            <a:ext cx="7677000" cy="284832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Single and Multithreaded Processes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102" name="Picture 9" descr=""/>
          <p:cNvPicPr/>
          <p:nvPr/>
        </p:nvPicPr>
        <p:blipFill>
          <a:blip r:embed="rId1"/>
          <a:srcRect l="391" t="11749" r="391" b="11749"/>
          <a:stretch/>
        </p:blipFill>
        <p:spPr>
          <a:xfrm>
            <a:off x="1116000" y="1652760"/>
            <a:ext cx="7132680" cy="412560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47360" y="420480"/>
            <a:ext cx="7157880" cy="33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Benefits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ponsivenes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ource Sharing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conom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tilization of MP Architec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1422360" y="165240"/>
            <a:ext cx="3100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User Threads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ead management done by user-level threads librar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ee primary thread librari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IX Pthrea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32 threa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 threa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Kernel Threads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orted by the Kernel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s XP/2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lar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u64 UN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c OS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Multithreading Models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-to-On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e-to-On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-to-M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Many-to-One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 user-level threads mapped to single kernel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laris Green Threa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NU Portable Threa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Many-to-One Model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115" name="Picture 4" descr=""/>
          <p:cNvPicPr/>
          <p:nvPr/>
        </p:nvPicPr>
        <p:blipFill>
          <a:blip r:embed="rId1"/>
          <a:srcRect l="12680" t="1206" r="12680" b="1211"/>
          <a:stretch/>
        </p:blipFill>
        <p:spPr>
          <a:xfrm>
            <a:off x="2233440" y="1592280"/>
            <a:ext cx="4475160" cy="438768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15T18:20:03Z</dcterms:created>
  <dc:creator/>
  <dc:description/>
  <dc:language>en-US</dc:language>
  <cp:lastModifiedBy>LOVE GOEL</cp:lastModifiedBy>
  <cp:lastPrinted>2001-06-14T14:23:12Z</cp:lastPrinted>
  <dcterms:modified xsi:type="dcterms:W3CDTF">2008-08-09T10:14:15Z</dcterms:modified>
  <cp:revision>0</cp:revision>
  <dc:subject/>
  <dc:title/>
</cp:coreProperties>
</file>