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3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5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5C6D3-B7F4-49FD-BC22-B7120FC3D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34CF4-5D8A-4708-A9ED-5D07CE537E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64E7F-42A7-42DF-95A8-630BBB968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84443-06E2-460D-9BC4-7792114D47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7B22D-3548-4D61-8A4B-5923EE87CD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4C9A59-C219-482C-9276-7907D34FB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F43C5-287E-4286-902A-0660CCAFCF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0819B-4CB5-45BB-BA82-27112C227B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7CF00-755C-45BE-81EF-32EAF248A3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472B7-CC1E-4C98-B803-C22B4957D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C2AED-A2F7-43F0-A39D-7495C0163A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75B0A-0EB8-48B1-A9ED-F6CB838AE4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13DDD-974D-419A-B6BC-C45E3D1AD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A3684-B9DB-491D-8912-82E7A8A879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42461-A6CE-4D44-AB11-2DBBB8E76B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B6E95-726B-45DA-A590-F0EF5D568B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D7EE3-853A-4BBB-AE1E-DE63DFD910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77344-B031-4DDB-AC13-1C48F0D5A1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13218-5023-4367-81AD-46BD2D2B8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CAE03-4608-4A62-81FC-6D4CD4CFE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7D8ED-11B3-42FE-A0E4-9D021134EF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0F671-56DB-4602-B694-1B9FB087C5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8F0C1-6EAA-46E7-82D8-4394337483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EFEDE-154D-490B-9E81-58A19C59E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D1FCB-B414-48FC-B9D0-E779B7C5B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5192A-AE4C-4417-ABC5-60C3F5A923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5C9E7-A470-4067-972D-5929EFA0B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5C158-A950-44B7-AEF2-269FE42433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44713-3A00-4110-A043-D84B51C180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F90AC-9773-4EA6-A626-E0F49EFC8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F9084-150C-44E3-8BC5-9A1B3F57A5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B5068-AA11-4F40-939B-E861ACEE84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369D38-2074-4059-81DC-172F176578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4BF78-3892-4C80-BE22-3DBD955B0E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96A00-328D-4E6C-8FFF-22B873BCE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08FB3-69BB-4D98-997C-CB0BD9055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3C5D6-53A7-4D7E-BAF5-BFDEBB3962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2B9C0-2A70-43C6-B896-F5B24E9D91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4C9ED-03C7-47C7-990F-D444D0583C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E817E-95DA-4EA2-9CEA-1CB02150C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98551-12A3-4B7B-8945-69A65AB678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FA50E-5B96-4546-AC1F-B3B84B7D7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90402-D546-411E-BD32-3FA073335B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3569D-FB70-413A-B8D4-D1EC7316AD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68392-B395-4B53-91D1-5D341BF9B3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69A14-4557-4575-83DF-7C16E516C5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627E1-0EF1-46D3-B3FA-9CB8A059C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AB6CB-E609-48EF-BF67-EB3A54C0ED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14963-B6BB-4FDC-B078-1ADCF7B2AA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A658B-4AE9-4A9F-BADE-BA0B445D6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22E44-6F7D-4568-92D1-162FE9521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5.</a:t>
            </a:r>
            <a:fld id="{836079A8-5477-4BEE-9963-4322F2EF130F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3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5:  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4120" y="355680"/>
            <a:ext cx="8340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First-Come, First-Served (FCFS) Schedul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56720" y="1390680"/>
            <a:ext cx="7566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he processes arrive in the ord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8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0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= 24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032280"/>
                <a:tab algn="ctr" pos="46353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:  (0 + 24 + 27)/3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8"/>
          <p:cNvGrpSpPr/>
          <p:nvPr/>
        </p:nvGrpSpPr>
        <p:grpSpPr>
          <a:xfrm>
            <a:off x="1686240" y="3578400"/>
            <a:ext cx="5552280" cy="1129320"/>
            <a:chOff x="1686240" y="3578400"/>
            <a:chExt cx="5552280" cy="1129320"/>
          </a:xfrm>
        </p:grpSpPr>
        <p:sp>
          <p:nvSpPr>
            <p:cNvPr id="125" name="Rectangle 4"/>
            <p:cNvSpPr/>
            <p:nvPr/>
          </p:nvSpPr>
          <p:spPr>
            <a:xfrm>
              <a:off x="1849320" y="357840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5"/>
            <p:cNvSpPr/>
            <p:nvPr/>
          </p:nvSpPr>
          <p:spPr>
            <a:xfrm>
              <a:off x="3152160" y="3634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6"/>
            <p:cNvSpPr/>
            <p:nvPr/>
          </p:nvSpPr>
          <p:spPr>
            <a:xfrm>
              <a:off x="5514120" y="3634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"/>
            <p:cNvSpPr/>
            <p:nvPr/>
          </p:nvSpPr>
          <p:spPr>
            <a:xfrm>
              <a:off x="6428520" y="36349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>
              <a:off x="1849320" y="4187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>
              <a:off x="7107120" y="4187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5202360" y="3578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6116760" y="35784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5202360" y="4187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>
              <a:off x="6116760" y="4187880"/>
              <a:ext cx="0" cy="22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4"/>
            <p:cNvSpPr/>
            <p:nvPr/>
          </p:nvSpPr>
          <p:spPr>
            <a:xfrm>
              <a:off x="4975920" y="4339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5"/>
            <p:cNvSpPr/>
            <p:nvPr/>
          </p:nvSpPr>
          <p:spPr>
            <a:xfrm>
              <a:off x="5890320" y="4339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6"/>
            <p:cNvSpPr/>
            <p:nvPr/>
          </p:nvSpPr>
          <p:spPr>
            <a:xfrm>
              <a:off x="6804720" y="43394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17"/>
            <p:cNvSpPr/>
            <p:nvPr/>
          </p:nvSpPr>
          <p:spPr>
            <a:xfrm>
              <a:off x="1686240" y="4339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CFS Schedul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the processes arrive in the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for the schedule i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:   (6 + 0 + 3)/3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ch better than previous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voy eff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rt process behind lo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20"/>
          <p:cNvGrpSpPr/>
          <p:nvPr/>
        </p:nvGrpSpPr>
        <p:grpSpPr>
          <a:xfrm>
            <a:off x="1891080" y="2604960"/>
            <a:ext cx="5571000" cy="1129680"/>
            <a:chOff x="1891080" y="2604960"/>
            <a:chExt cx="5571000" cy="1129680"/>
          </a:xfrm>
        </p:grpSpPr>
        <p:sp>
          <p:nvSpPr>
            <p:cNvPr id="142" name="Rectangle 6"/>
            <p:cNvSpPr/>
            <p:nvPr/>
          </p:nvSpPr>
          <p:spPr>
            <a:xfrm flipH="1">
              <a:off x="2040840" y="260496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 flipH="1">
              <a:off x="5590800" y="2661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8"/>
            <p:cNvSpPr/>
            <p:nvPr/>
          </p:nvSpPr>
          <p:spPr>
            <a:xfrm flipH="1">
              <a:off x="3228480" y="2661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9"/>
            <p:cNvSpPr/>
            <p:nvPr/>
          </p:nvSpPr>
          <p:spPr>
            <a:xfrm flipH="1">
              <a:off x="2314080" y="26618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10"/>
            <p:cNvSpPr/>
            <p:nvPr/>
          </p:nvSpPr>
          <p:spPr>
            <a:xfrm>
              <a:off x="7299360" y="32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11"/>
            <p:cNvSpPr/>
            <p:nvPr/>
          </p:nvSpPr>
          <p:spPr>
            <a:xfrm>
              <a:off x="2041560" y="32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12"/>
            <p:cNvSpPr/>
            <p:nvPr/>
          </p:nvSpPr>
          <p:spPr>
            <a:xfrm>
              <a:off x="3946680" y="2604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13"/>
            <p:cNvSpPr/>
            <p:nvPr/>
          </p:nvSpPr>
          <p:spPr>
            <a:xfrm>
              <a:off x="3032280" y="2604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3946680" y="32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5"/>
            <p:cNvSpPr/>
            <p:nvPr/>
          </p:nvSpPr>
          <p:spPr>
            <a:xfrm>
              <a:off x="3032280" y="32144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16"/>
            <p:cNvSpPr/>
            <p:nvPr/>
          </p:nvSpPr>
          <p:spPr>
            <a:xfrm flipH="1">
              <a:off x="3801960" y="336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17"/>
            <p:cNvSpPr/>
            <p:nvPr/>
          </p:nvSpPr>
          <p:spPr>
            <a:xfrm flipH="1">
              <a:off x="2887560" y="336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8"/>
            <p:cNvSpPr/>
            <p:nvPr/>
          </p:nvSpPr>
          <p:spPr>
            <a:xfrm flipH="1">
              <a:off x="7027920" y="33663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 flipH="1">
              <a:off x="1890720" y="3366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ortest-Job-First (SJF)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e with each process the length of its next CPU burst.  Use these lengths to schedule the process with the shorte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schem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eemptive – once CPU given to the process it cannot be preempted until completes its CPU bu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ve – if a new process arrives with CPU burst length less than remaining time of current executing process, preempt.  This scheme is know a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st-Remaining-Time-First (SRT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is optimal – gives minimum average waiting time for a given set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rival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(non-preemp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(0 + 6 + 3 + 7)/4  =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Non-Preemptive SJF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grpSp>
        <p:nvGrpSpPr>
          <p:cNvPr id="160" name="Group 37"/>
          <p:cNvGrpSpPr/>
          <p:nvPr/>
        </p:nvGrpSpPr>
        <p:grpSpPr>
          <a:xfrm>
            <a:off x="2044800" y="3691080"/>
            <a:ext cx="5571000" cy="1129320"/>
            <a:chOff x="2044800" y="3691080"/>
            <a:chExt cx="5571000" cy="1129320"/>
          </a:xfrm>
        </p:grpSpPr>
        <p:sp>
          <p:nvSpPr>
            <p:cNvPr id="161" name="Rectangle 5"/>
            <p:cNvSpPr/>
            <p:nvPr/>
          </p:nvSpPr>
          <p:spPr>
            <a:xfrm flipH="1">
              <a:off x="2194560" y="3691080"/>
              <a:ext cx="5257800" cy="609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6"/>
            <p:cNvSpPr/>
            <p:nvPr/>
          </p:nvSpPr>
          <p:spPr>
            <a:xfrm flipH="1">
              <a:off x="288792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7"/>
            <p:cNvSpPr/>
            <p:nvPr/>
          </p:nvSpPr>
          <p:spPr>
            <a:xfrm flipH="1">
              <a:off x="448812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8"/>
            <p:cNvSpPr/>
            <p:nvPr/>
          </p:nvSpPr>
          <p:spPr>
            <a:xfrm flipH="1">
              <a:off x="540252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9"/>
            <p:cNvSpPr/>
            <p:nvPr/>
          </p:nvSpPr>
          <p:spPr>
            <a:xfrm>
              <a:off x="745308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0"/>
            <p:cNvSpPr/>
            <p:nvPr/>
          </p:nvSpPr>
          <p:spPr>
            <a:xfrm>
              <a:off x="219528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1"/>
            <p:cNvSpPr/>
            <p:nvPr/>
          </p:nvSpPr>
          <p:spPr>
            <a:xfrm>
              <a:off x="4938480" y="36910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2"/>
            <p:cNvSpPr/>
            <p:nvPr/>
          </p:nvSpPr>
          <p:spPr>
            <a:xfrm>
              <a:off x="4481280" y="36910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13"/>
            <p:cNvSpPr/>
            <p:nvPr/>
          </p:nvSpPr>
          <p:spPr>
            <a:xfrm>
              <a:off x="448128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4"/>
            <p:cNvSpPr/>
            <p:nvPr/>
          </p:nvSpPr>
          <p:spPr>
            <a:xfrm>
              <a:off x="288108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5"/>
            <p:cNvSpPr/>
            <p:nvPr/>
          </p:nvSpPr>
          <p:spPr>
            <a:xfrm flipH="1">
              <a:off x="433044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6"/>
            <p:cNvSpPr/>
            <p:nvPr/>
          </p:nvSpPr>
          <p:spPr>
            <a:xfrm flipH="1">
              <a:off x="304128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7"/>
            <p:cNvSpPr/>
            <p:nvPr/>
          </p:nvSpPr>
          <p:spPr>
            <a:xfrm flipH="1">
              <a:off x="7181640" y="4452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8"/>
            <p:cNvSpPr/>
            <p:nvPr/>
          </p:nvSpPr>
          <p:spPr>
            <a:xfrm flipH="1">
              <a:off x="204444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0"/>
            <p:cNvSpPr/>
            <p:nvPr/>
          </p:nvSpPr>
          <p:spPr>
            <a:xfrm flipH="1">
              <a:off x="6545520" y="374760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1"/>
            <p:cNvSpPr/>
            <p:nvPr/>
          </p:nvSpPr>
          <p:spPr>
            <a:xfrm>
              <a:off x="6157800" y="369108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2"/>
            <p:cNvSpPr/>
            <p:nvPr/>
          </p:nvSpPr>
          <p:spPr>
            <a:xfrm>
              <a:off x="250020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3"/>
            <p:cNvSpPr/>
            <p:nvPr/>
          </p:nvSpPr>
          <p:spPr>
            <a:xfrm>
              <a:off x="326232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4"/>
            <p:cNvSpPr/>
            <p:nvPr/>
          </p:nvSpPr>
          <p:spPr>
            <a:xfrm>
              <a:off x="364320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5"/>
            <p:cNvSpPr/>
            <p:nvPr/>
          </p:nvSpPr>
          <p:spPr>
            <a:xfrm>
              <a:off x="394812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6"/>
            <p:cNvSpPr/>
            <p:nvPr/>
          </p:nvSpPr>
          <p:spPr>
            <a:xfrm>
              <a:off x="425268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>
              <a:off x="493848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28"/>
            <p:cNvSpPr/>
            <p:nvPr/>
          </p:nvSpPr>
          <p:spPr>
            <a:xfrm flipH="1">
              <a:off x="4787640" y="4452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9"/>
            <p:cNvSpPr/>
            <p:nvPr/>
          </p:nvSpPr>
          <p:spPr>
            <a:xfrm>
              <a:off x="531972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0"/>
            <p:cNvSpPr/>
            <p:nvPr/>
          </p:nvSpPr>
          <p:spPr>
            <a:xfrm>
              <a:off x="562428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31"/>
            <p:cNvSpPr/>
            <p:nvPr/>
          </p:nvSpPr>
          <p:spPr>
            <a:xfrm>
              <a:off x="592920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2"/>
            <p:cNvSpPr/>
            <p:nvPr/>
          </p:nvSpPr>
          <p:spPr>
            <a:xfrm>
              <a:off x="6157800" y="43005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33"/>
            <p:cNvSpPr/>
            <p:nvPr/>
          </p:nvSpPr>
          <p:spPr>
            <a:xfrm flipH="1">
              <a:off x="5930640" y="445212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53868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35"/>
            <p:cNvSpPr/>
            <p:nvPr/>
          </p:nvSpPr>
          <p:spPr>
            <a:xfrm>
              <a:off x="684360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36"/>
            <p:cNvSpPr/>
            <p:nvPr/>
          </p:nvSpPr>
          <p:spPr>
            <a:xfrm>
              <a:off x="7148520" y="4187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Preemptive SJF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rival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(preempt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1603440"/>
                <a:tab algn="ctr" pos="3254400"/>
                <a:tab algn="ctr" pos="5143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waiting time = (9 + 1 + 0 +2)/4 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74"/>
          <p:cNvGrpSpPr/>
          <p:nvPr/>
        </p:nvGrpSpPr>
        <p:grpSpPr>
          <a:xfrm>
            <a:off x="1373400" y="3753000"/>
            <a:ext cx="5920200" cy="1205640"/>
            <a:chOff x="1373400" y="3753000"/>
            <a:chExt cx="5920200" cy="1205640"/>
          </a:xfrm>
        </p:grpSpPr>
        <p:sp>
          <p:nvSpPr>
            <p:cNvPr id="195" name="Rectangle 37"/>
            <p:cNvSpPr/>
            <p:nvPr/>
          </p:nvSpPr>
          <p:spPr>
            <a:xfrm flipH="1">
              <a:off x="1523880" y="3767040"/>
              <a:ext cx="5562720" cy="6098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38"/>
            <p:cNvSpPr/>
            <p:nvPr/>
          </p:nvSpPr>
          <p:spPr>
            <a:xfrm flipH="1">
              <a:off x="160704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9"/>
            <p:cNvSpPr/>
            <p:nvPr/>
          </p:nvSpPr>
          <p:spPr>
            <a:xfrm flipH="1">
              <a:off x="29023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40"/>
            <p:cNvSpPr/>
            <p:nvPr/>
          </p:nvSpPr>
          <p:spPr>
            <a:xfrm flipH="1">
              <a:off x="23695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41"/>
            <p:cNvSpPr/>
            <p:nvPr/>
          </p:nvSpPr>
          <p:spPr>
            <a:xfrm>
              <a:off x="7067520" y="4362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42"/>
            <p:cNvSpPr/>
            <p:nvPr/>
          </p:nvSpPr>
          <p:spPr>
            <a:xfrm>
              <a:off x="1523880" y="437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43"/>
            <p:cNvSpPr/>
            <p:nvPr/>
          </p:nvSpPr>
          <p:spPr>
            <a:xfrm>
              <a:off x="4267080" y="37670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44"/>
            <p:cNvSpPr/>
            <p:nvPr/>
          </p:nvSpPr>
          <p:spPr>
            <a:xfrm>
              <a:off x="2133720" y="3753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45"/>
            <p:cNvSpPr/>
            <p:nvPr/>
          </p:nvSpPr>
          <p:spPr>
            <a:xfrm>
              <a:off x="3809880" y="437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47"/>
            <p:cNvSpPr/>
            <p:nvPr/>
          </p:nvSpPr>
          <p:spPr>
            <a:xfrm flipH="1">
              <a:off x="2744640" y="459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48"/>
            <p:cNvSpPr/>
            <p:nvPr/>
          </p:nvSpPr>
          <p:spPr>
            <a:xfrm flipH="1">
              <a:off x="1982520" y="459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49"/>
            <p:cNvSpPr/>
            <p:nvPr/>
          </p:nvSpPr>
          <p:spPr>
            <a:xfrm flipH="1">
              <a:off x="5259240" y="45140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50"/>
            <p:cNvSpPr/>
            <p:nvPr/>
          </p:nvSpPr>
          <p:spPr>
            <a:xfrm flipH="1">
              <a:off x="1373040" y="4528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51"/>
            <p:cNvSpPr/>
            <p:nvPr/>
          </p:nvSpPr>
          <p:spPr>
            <a:xfrm flipH="1">
              <a:off x="47311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52"/>
            <p:cNvSpPr/>
            <p:nvPr/>
          </p:nvSpPr>
          <p:spPr>
            <a:xfrm>
              <a:off x="5486400" y="37670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53"/>
            <p:cNvSpPr/>
            <p:nvPr/>
          </p:nvSpPr>
          <p:spPr>
            <a:xfrm>
              <a:off x="182880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54"/>
            <p:cNvSpPr/>
            <p:nvPr/>
          </p:nvSpPr>
          <p:spPr>
            <a:xfrm>
              <a:off x="259092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8"/>
            <p:cNvSpPr/>
            <p:nvPr/>
          </p:nvSpPr>
          <p:spPr>
            <a:xfrm>
              <a:off x="4267080" y="437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59"/>
            <p:cNvSpPr/>
            <p:nvPr/>
          </p:nvSpPr>
          <p:spPr>
            <a:xfrm flipH="1">
              <a:off x="3278160" y="459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60"/>
            <p:cNvSpPr/>
            <p:nvPr/>
          </p:nvSpPr>
          <p:spPr>
            <a:xfrm>
              <a:off x="464832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61"/>
            <p:cNvSpPr/>
            <p:nvPr/>
          </p:nvSpPr>
          <p:spPr>
            <a:xfrm>
              <a:off x="495288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62"/>
            <p:cNvSpPr/>
            <p:nvPr/>
          </p:nvSpPr>
          <p:spPr>
            <a:xfrm>
              <a:off x="525780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63"/>
            <p:cNvSpPr/>
            <p:nvPr/>
          </p:nvSpPr>
          <p:spPr>
            <a:xfrm>
              <a:off x="5486400" y="4376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 Box 64"/>
            <p:cNvSpPr/>
            <p:nvPr/>
          </p:nvSpPr>
          <p:spPr>
            <a:xfrm flipH="1">
              <a:off x="4116240" y="4590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65"/>
            <p:cNvSpPr/>
            <p:nvPr/>
          </p:nvSpPr>
          <p:spPr>
            <a:xfrm>
              <a:off x="586728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66"/>
            <p:cNvSpPr/>
            <p:nvPr/>
          </p:nvSpPr>
          <p:spPr>
            <a:xfrm>
              <a:off x="617220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67"/>
            <p:cNvSpPr/>
            <p:nvPr/>
          </p:nvSpPr>
          <p:spPr>
            <a:xfrm>
              <a:off x="647712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68"/>
            <p:cNvSpPr/>
            <p:nvPr/>
          </p:nvSpPr>
          <p:spPr>
            <a:xfrm>
              <a:off x="2895480" y="3753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69"/>
            <p:cNvSpPr/>
            <p:nvPr/>
          </p:nvSpPr>
          <p:spPr>
            <a:xfrm>
              <a:off x="3429000" y="3753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70"/>
            <p:cNvSpPr/>
            <p:nvPr/>
          </p:nvSpPr>
          <p:spPr>
            <a:xfrm flipH="1">
              <a:off x="35881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71"/>
            <p:cNvSpPr/>
            <p:nvPr/>
          </p:nvSpPr>
          <p:spPr>
            <a:xfrm flipH="1">
              <a:off x="6102720" y="380952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72"/>
            <p:cNvSpPr/>
            <p:nvPr/>
          </p:nvSpPr>
          <p:spPr>
            <a:xfrm>
              <a:off x="6781680" y="426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73"/>
            <p:cNvSpPr/>
            <p:nvPr/>
          </p:nvSpPr>
          <p:spPr>
            <a:xfrm flipH="1">
              <a:off x="6859440" y="45140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76400" y="-763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termining Length of Next CPU Burs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only estimate th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done by using the length of previous CPU bursts, using exponential aver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4"/>
              <p:cNvSpPr txBox="1"/>
              <p:nvPr/>
            </p:nvSpPr>
            <p:spPr>
              <a:xfrm>
                <a:off x="1784520" y="2374920"/>
                <a:ext cx="640080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ctual  length of 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CPU  burst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τ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predicted value for the next CPU  burst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, 0</m:t>
                        </m:r>
                        <m:r>
                          <m:t xml:space="preserve">≤</m:t>
                        </m:r>
                        <m:r>
                          <m:t xml:space="preserve">α</m:t>
                        </m:r>
                        <m:r>
                          <m:t xml:space="preserve">≤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Define: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Object 5"/>
              <p:cNvSpPr txBox="1"/>
              <p:nvPr/>
            </p:nvSpPr>
            <p:spPr>
              <a:xfrm>
                <a:off x="2960640" y="3695760"/>
                <a:ext cx="222264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e>
                    </m:d>
                    <m:sSub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1160" y="0"/>
            <a:ext cx="8121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rediction of the Length of the Next CPU Burst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rcRect l="642" t="2279" r="642" b="2850"/>
          <a:stretch/>
        </p:blipFill>
        <p:spPr>
          <a:xfrm>
            <a:off x="1938240" y="1935000"/>
            <a:ext cx="5140440" cy="3705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s of Exponential Aver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nt history does not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actual last CPU burs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we expand the formula, we ge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(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 +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bo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(1 -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are less than or equal to 1, each successive term has less weight than its prede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ority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ority number (integer) is associated with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PU is allocated to the process with the highest priority (smallest intege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ighest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JF is a priority scheduling where priority is the predicted next CPU 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vation – low priority processes may never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ing – as time progresses increase the priority of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ound Robin (RR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2880" y="1396800"/>
            <a:ext cx="70610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gets a small unit of CPU tim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ime quant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usually 10-100 milliseconds.  After this time has elapsed, the process is preempted and added to the end of the ready que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in the ready queue and the time quantum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each process gets 1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CPU time in chunks of at mo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s at once.  No process waits more tha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un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rg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large with respect to context switch, otherwise overhead is too h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5:  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1320" y="1265400"/>
            <a:ext cx="658512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Cri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rocessor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550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RR with Time Quantum = 2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6920" y="15109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urs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antt chart is: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2222640"/>
                <a:tab algn="ctr" pos="3997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higher average turnaround than SJF, but bet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27"/>
          <p:cNvGrpSpPr/>
          <p:nvPr/>
        </p:nvGrpSpPr>
        <p:grpSpPr>
          <a:xfrm>
            <a:off x="1611360" y="3952800"/>
            <a:ext cx="6047280" cy="977040"/>
            <a:chOff x="1611360" y="3952800"/>
            <a:chExt cx="6047280" cy="977040"/>
          </a:xfrm>
        </p:grpSpPr>
        <p:grpSp>
          <p:nvGrpSpPr>
            <p:cNvPr id="243" name="Group 14"/>
            <p:cNvGrpSpPr/>
            <p:nvPr/>
          </p:nvGrpSpPr>
          <p:grpSpPr>
            <a:xfrm>
              <a:off x="1761840" y="3952800"/>
              <a:ext cx="5638320" cy="609120"/>
              <a:chOff x="1761840" y="3952800"/>
              <a:chExt cx="5638320" cy="609120"/>
            </a:xfrm>
          </p:grpSpPr>
          <p:sp>
            <p:nvSpPr>
              <p:cNvPr id="244" name="Rectangle 4"/>
              <p:cNvSpPr/>
              <p:nvPr/>
            </p:nvSpPr>
            <p:spPr>
              <a:xfrm>
                <a:off x="176184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Rectangle 5"/>
              <p:cNvSpPr/>
              <p:nvPr/>
            </p:nvSpPr>
            <p:spPr>
              <a:xfrm>
                <a:off x="232560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Rectangle 6"/>
              <p:cNvSpPr/>
              <p:nvPr/>
            </p:nvSpPr>
            <p:spPr>
              <a:xfrm>
                <a:off x="288936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Rectangle 7"/>
              <p:cNvSpPr/>
              <p:nvPr/>
            </p:nvSpPr>
            <p:spPr>
              <a:xfrm>
                <a:off x="345312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Rectangle 8"/>
              <p:cNvSpPr/>
              <p:nvPr/>
            </p:nvSpPr>
            <p:spPr>
              <a:xfrm>
                <a:off x="401724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Rectangle 9"/>
              <p:cNvSpPr/>
              <p:nvPr/>
            </p:nvSpPr>
            <p:spPr>
              <a:xfrm>
                <a:off x="458100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10"/>
              <p:cNvSpPr/>
              <p:nvPr/>
            </p:nvSpPr>
            <p:spPr>
              <a:xfrm>
                <a:off x="514476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11"/>
              <p:cNvSpPr/>
              <p:nvPr/>
            </p:nvSpPr>
            <p:spPr>
              <a:xfrm>
                <a:off x="570852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12"/>
              <p:cNvSpPr/>
              <p:nvPr/>
            </p:nvSpPr>
            <p:spPr>
              <a:xfrm>
                <a:off x="627264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13"/>
              <p:cNvSpPr/>
              <p:nvPr/>
            </p:nvSpPr>
            <p:spPr>
              <a:xfrm>
                <a:off x="6836400" y="3952800"/>
                <a:ext cx="563760" cy="6091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Text Box 15"/>
            <p:cNvSpPr/>
            <p:nvPr/>
          </p:nvSpPr>
          <p:spPr>
            <a:xfrm>
              <a:off x="1611360" y="4561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16"/>
            <p:cNvSpPr/>
            <p:nvPr/>
          </p:nvSpPr>
          <p:spPr>
            <a:xfrm>
              <a:off x="208152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7"/>
            <p:cNvSpPr/>
            <p:nvPr/>
          </p:nvSpPr>
          <p:spPr>
            <a:xfrm>
              <a:off x="261504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18"/>
            <p:cNvSpPr/>
            <p:nvPr/>
          </p:nvSpPr>
          <p:spPr>
            <a:xfrm>
              <a:off x="321804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19"/>
            <p:cNvSpPr/>
            <p:nvPr/>
          </p:nvSpPr>
          <p:spPr>
            <a:xfrm>
              <a:off x="383400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20"/>
            <p:cNvSpPr/>
            <p:nvPr/>
          </p:nvSpPr>
          <p:spPr>
            <a:xfrm>
              <a:off x="4367520" y="456156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9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21"/>
            <p:cNvSpPr/>
            <p:nvPr/>
          </p:nvSpPr>
          <p:spPr>
            <a:xfrm>
              <a:off x="48376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22"/>
            <p:cNvSpPr/>
            <p:nvPr/>
          </p:nvSpPr>
          <p:spPr>
            <a:xfrm>
              <a:off x="544716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24"/>
            <p:cNvSpPr/>
            <p:nvPr/>
          </p:nvSpPr>
          <p:spPr>
            <a:xfrm>
              <a:off x="59806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3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5"/>
            <p:cNvSpPr/>
            <p:nvPr/>
          </p:nvSpPr>
          <p:spPr>
            <a:xfrm>
              <a:off x="656496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26"/>
            <p:cNvSpPr/>
            <p:nvPr/>
          </p:nvSpPr>
          <p:spPr>
            <a:xfrm>
              <a:off x="7098480" y="45615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5640" y="385920"/>
            <a:ext cx="7829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993300"/>
                </a:solidFill>
                <a:latin typeface="Arial"/>
              </a:rPr>
              <a:t>Time Quantum and Context Switch Time</a:t>
            </a:r>
            <a:endParaRPr b="1" lang="en-US" sz="3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1"/>
          <a:srcRect l="380" t="22277" r="568" b="22533"/>
          <a:stretch/>
        </p:blipFill>
        <p:spPr>
          <a:xfrm>
            <a:off x="1333440" y="2049480"/>
            <a:ext cx="6624720" cy="2768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76440" y="306360"/>
            <a:ext cx="838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Turnaround Time Varies With The Time Quantum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1"/>
          <a:srcRect l="5371" t="768" r="5179" b="1024"/>
          <a:stretch/>
        </p:blipFill>
        <p:spPr>
          <a:xfrm>
            <a:off x="1986120" y="1739880"/>
            <a:ext cx="5024160" cy="4137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y queue is partitioned into separate queue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 (interactiv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(bat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queue has its own scheduling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ground –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– F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must be done between the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ority scheduling; (i.e., serve all from foreground then from background).  Possibility of star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slice – each queue gets a certain amount of CPU time which it can schedule amongst its processes; i.e., 80% to foreground in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to background in FCF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Queue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rcRect l="233" t="6743" r="458" b="6743"/>
          <a:stretch/>
        </p:blipFill>
        <p:spPr>
          <a:xfrm>
            <a:off x="1722600" y="1914480"/>
            <a:ext cx="5511600" cy="3622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Feedback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26920" y="1468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can move between the various queues; aging can be implemented this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level-feedback-queue scheduler defined by the following paramet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algorithms for each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en to upgrade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en to demote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used to determine which queue a process will enter when that process need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3184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Multilevel Feedback Queu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queu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R with time quantum 8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RR time quantum 16 milli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C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job enters que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is serv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FS. When it gains CPU, job receives 8 milliseconds.  If it does not finish in 8 milliseconds, job is moved to que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ob is again served FCFS and receives 16 additional milliseconds.  If it still does not complete, it is preempted and moved to que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level Feedback Que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609" t="10026" r="1015" b="9755"/>
          <a:stretch/>
        </p:blipFill>
        <p:spPr>
          <a:xfrm>
            <a:off x="1727280" y="2209680"/>
            <a:ext cx="5554440" cy="3397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ple-Processor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26920" y="1411200"/>
            <a:ext cx="6321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more complex when multiple CPUs ar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omogeneous process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in a multi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ad sha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symmetric multiprocess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only one processor accesses the system data structures, alleviating the need for data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-Time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6920" y="1468080"/>
            <a:ext cx="594360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rd real-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s – required to complete a critical task within a guaranteed amount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oft real-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uting – requires that critical processes receive priority over less fortunate 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c Concep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1320" y="1265040"/>
            <a:ext cx="7351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CPU utilization obtained with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–I/O Burst Cycle – Process execution consists of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CPU execution and I/O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burs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6560" y="1623960"/>
            <a:ext cx="684396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cheduling – How the threads library decides which thread to put onto an available LW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cheduling – How the kernel decides which kernel thread to run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thread Scheduling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38280" y="1243080"/>
            <a:ext cx="68184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#include &lt;pthread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#define NUM THREAD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nt main(int argc, char *argv[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nt i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t tid[NUM THREADS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attr t att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get the default attribute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attr init(&amp;att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set the scheduling algorithm to PROCESS or SYSTEM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attr setscope(&amp;attr, PTHREAD SCOPE SYSTEM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set the scheduling policy - FIFO, RT, or OTHER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attr setschedpolicy(&amp;attr, SCHED OTHE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create the thread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for (i = 0; i &lt; NUM THREADS; i+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thread create(&amp;tid[i],&amp;attr,runner,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thread Scheduling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335320" y="1623600"/>
            <a:ext cx="5448240" cy="35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/* now join on each threa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for (i = 0; i &lt; NUM THREADS; 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thread join(tid[i], NULL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/* Each thread will begin control in this funct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void *runner(void *para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rintf("I am a thread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thread exit(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55640" y="1109520"/>
            <a:ext cx="68436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2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13648" t="1088" r="13648" b="817"/>
          <a:stretch/>
        </p:blipFill>
        <p:spPr>
          <a:xfrm>
            <a:off x="2428920" y="1785960"/>
            <a:ext cx="4113000" cy="4162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Dispatch Tabl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4" name="Picture 3" descr=""/>
          <p:cNvPicPr/>
          <p:nvPr/>
        </p:nvPicPr>
        <p:blipFill>
          <a:blip r:embed="rId1"/>
          <a:srcRect l="8985" t="556" r="9402" b="1112"/>
          <a:stretch/>
        </p:blipFill>
        <p:spPr>
          <a:xfrm>
            <a:off x="2286000" y="1795320"/>
            <a:ext cx="4365720" cy="3945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ows XP Priorit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6" name="Picture 5" descr=""/>
          <p:cNvPicPr/>
          <p:nvPr/>
        </p:nvPicPr>
        <p:blipFill>
          <a:blip r:embed="rId1"/>
          <a:srcRect l="388" t="24452" r="388" b="23168"/>
          <a:stretch/>
        </p:blipFill>
        <p:spPr>
          <a:xfrm>
            <a:off x="1044720" y="2187720"/>
            <a:ext cx="6514920" cy="2579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920" y="14108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lgorithms: time-sharing and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zed credit-based – process with most credits is scheduled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it subtracted when timer interrup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redit = 0, another process cho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ll processes have credit = 0, recrediting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factors including priority and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 real-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.1b compliant – two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FS and 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st priority process always runs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80600" y="-28440"/>
            <a:ext cx="8791560" cy="75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he Relationship Between Priorities and Time-slice length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0" name="Picture 3" descr=""/>
          <p:cNvPicPr/>
          <p:nvPr/>
        </p:nvPicPr>
        <p:blipFill>
          <a:blip r:embed="rId1"/>
          <a:srcRect l="602" t="12561" r="1004" b="13092"/>
          <a:stretch/>
        </p:blipFill>
        <p:spPr>
          <a:xfrm>
            <a:off x="1455840" y="1967040"/>
            <a:ext cx="6006960" cy="3403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List of Tasks Indexed According to Proriti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rcRect l="594" t="18206" r="395" b="18472"/>
          <a:stretch/>
        </p:blipFill>
        <p:spPr>
          <a:xfrm>
            <a:off x="1595520" y="2081160"/>
            <a:ext cx="5759280" cy="2762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04680" y="3762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lternating Sequence of CPU And I/O Burst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Picture 6" descr=""/>
          <p:cNvPicPr/>
          <p:nvPr/>
        </p:nvPicPr>
        <p:blipFill>
          <a:blip r:embed="rId1"/>
          <a:srcRect l="30034" t="788" r="30034" b="1575"/>
          <a:stretch/>
        </p:blipFill>
        <p:spPr>
          <a:xfrm>
            <a:off x="3200400" y="1468440"/>
            <a:ext cx="2543040" cy="4662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gorithm Evalu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6560" y="1382760"/>
            <a:ext cx="635004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istic modeling – takes a particular predetermined workload and defines the performance of each algorithm  for that work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5.15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6" name="Picture 3" descr=""/>
          <p:cNvPicPr/>
          <p:nvPr/>
        </p:nvPicPr>
        <p:blipFill>
          <a:blip r:embed="rId1"/>
          <a:srcRect l="413" t="8589" r="624" b="9140"/>
          <a:stretch/>
        </p:blipFill>
        <p:spPr>
          <a:xfrm>
            <a:off x="1612800" y="1193760"/>
            <a:ext cx="6050160" cy="3772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5.08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8" name="Picture 3" descr=""/>
          <p:cNvPicPr/>
          <p:nvPr/>
        </p:nvPicPr>
        <p:blipFill>
          <a:blip r:embed="rId1"/>
          <a:srcRect l="587" t="27401" r="978" b="27922"/>
          <a:stretch/>
        </p:blipFill>
        <p:spPr>
          <a:xfrm>
            <a:off x="1523880" y="1558800"/>
            <a:ext cx="6388200" cy="2175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5.7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0" name="Picture 3" descr=""/>
          <p:cNvPicPr/>
          <p:nvPr/>
        </p:nvPicPr>
        <p:blipFill>
          <a:blip r:embed="rId1"/>
          <a:srcRect l="952" t="41881" r="1333" b="42388"/>
          <a:stretch/>
        </p:blipFill>
        <p:spPr>
          <a:xfrm>
            <a:off x="660240" y="2108160"/>
            <a:ext cx="7991640" cy="965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5.8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2" name="Picture 3" descr=""/>
          <p:cNvPicPr/>
          <p:nvPr/>
        </p:nvPicPr>
        <p:blipFill>
          <a:blip r:embed="rId1"/>
          <a:srcRect l="362" t="42551" r="269" b="42792"/>
          <a:stretch/>
        </p:blipFill>
        <p:spPr>
          <a:xfrm>
            <a:off x="444600" y="2374920"/>
            <a:ext cx="8375400" cy="927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5.9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rcRect l="908" t="42132" r="1270" b="42615"/>
          <a:stretch/>
        </p:blipFill>
        <p:spPr>
          <a:xfrm>
            <a:off x="546120" y="2133720"/>
            <a:ext cx="8140680" cy="952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patch La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6" name="Picture 3" descr=""/>
          <p:cNvPicPr/>
          <p:nvPr/>
        </p:nvPicPr>
        <p:blipFill>
          <a:blip r:embed="rId1"/>
          <a:srcRect l="28981" t="16328" r="30817" b="50135"/>
          <a:stretch/>
        </p:blipFill>
        <p:spPr>
          <a:xfrm>
            <a:off x="1452600" y="1668600"/>
            <a:ext cx="6154560" cy="4108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Thread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6920" y="1650960"/>
            <a:ext cx="7351920" cy="31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VM Uses a Preemptive, Priority-Based Scheduling Algorithm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 Queue is Used if There Are Multiple Threads With the Same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Thread Scheduling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VM Schedules a Thread to Run Wh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ly Running Thread Exits the Runn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igher Priority Thread Enters the Runnabl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te – the JVM Does Not Specify Whether Threads are Time-Sliced or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ime-Slic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2711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JVM Doesn’t Ensure Time-Slicing, the yield() Metho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Us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/ perform CPU-intensiv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yiel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Yields Control to Another Thread of Equal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gram of CPU-burst Tim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7" descr=""/>
          <p:cNvPicPr/>
          <p:nvPr/>
        </p:nvPicPr>
        <p:blipFill>
          <a:blip r:embed="rId1"/>
          <a:srcRect l="624" t="6123" r="417" b="6123"/>
          <a:stretch/>
        </p:blipFill>
        <p:spPr>
          <a:xfrm>
            <a:off x="1654200" y="1812960"/>
            <a:ext cx="5702400" cy="3792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Priorit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720" y="1491840"/>
            <a:ext cx="682308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rio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MIN_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Thread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MAX_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Maximum Thread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.NORM_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Default Thread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es May Be Set Using setPriority() metho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riority(Thread.NORM_PRIORITY + 2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chedul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s from among the processes in memory that are ready to execute, and allocates the CPU to one of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decisions may take place when a proc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running to wait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running to ready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es from waiting to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4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under 1 and 4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n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ther scheduling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emp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patch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3824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atcher module gives control of the CPU to the process selected by the short-term scheduler; this invol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ing to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mping to the proper location in the user program to restart that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ime it takes for the dispatcher to stop one process and start another r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ing Criteri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1320" y="1265400"/>
            <a:ext cx="658512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utilization – keep the CPU as busy as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– # of processes that complete their execution per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around time – amount of time to execute a particula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ing time – amount of time a process has been waiting in the 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– amount of time it takes from when a request was submitted until the first response is produce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utput  (for time-sharing environ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mization Criteri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439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turnaround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waiting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 respons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0T17:58:50Z</dcterms:created>
  <dc:creator/>
  <dc:description/>
  <dc:language>en-US</dc:language>
  <cp:lastModifiedBy>LOVE GOEL</cp:lastModifiedBy>
  <cp:lastPrinted>2001-06-14T14:25:09Z</cp:lastPrinted>
  <dcterms:modified xsi:type="dcterms:W3CDTF">2008-08-09T10:14:15Z</dcterms:modified>
  <cp:revision>0</cp:revision>
  <dc:subject/>
  <dc:title/>
</cp:coreProperties>
</file>