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3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5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7B68A-475D-4EA3-88D0-D41DD0F426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DA892-3A02-4F09-BAD9-13CFB6DFEF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4C55E-4E84-4583-9EAA-EE6CF2C49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FFD0B-783E-4A78-9734-B5C9EEBE6C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703F9-D8E1-4BD6-8888-95B322842B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100C7-6656-45DE-9DBD-7B64C7B2F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ABFF6-EE0E-437C-BA19-3E02AC8FA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CCE20-CF64-4B7C-B30F-1AFBDE9B50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80F7E5-0AB2-4507-8661-31695B7E2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38485-85D2-43F5-9419-ADCE4F4FA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079EB-93DB-48CC-8255-4403B82D3E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E0D4B-1060-4982-8BED-A5B0CD69B1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88E33-CEA8-4DB6-8195-41F541668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FCDBB-59EE-4CB5-BEDD-669DC4B6D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43453-EC3A-4310-ABFD-D18C8682F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B7662-BCA9-488C-8AF0-74815B1939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8FBF9-15A7-429E-B6A9-3636F06EE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60E22-7DFE-4B79-84A0-B96EBF3D5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FB3FF-C52F-4A47-9C32-DBE0DC76F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120C6-7E80-48A6-B67C-E88F6F543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CC729-9515-42A0-9961-FB0EB02E40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BE63E-2A95-4E0D-84D6-3931430C58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2A56A-7BFE-48E1-8DEF-9862186B3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5A335-9BC0-4146-952A-89C0231470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8D74C-FC6D-4677-9125-32CFF709A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C1F67-70B6-450E-91A3-86618916E6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73CF9-0B62-453F-854F-11EF60334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527C1-026B-4789-8CBD-0C3515E67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F67AC-7DC5-436A-A87A-6B2F09F0B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6061D-F4AE-4260-B8BA-6DD08BC76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EAF44-0A32-4F20-93C4-8D8874B21B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08D73-E9E6-4DD2-891A-978B7B877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D91E5-257F-4E0A-BBDB-06347F538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6E899-C819-4D73-BFBD-EE498C261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07EAD-35DE-428B-84A5-E671E6EBE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9535F-63BA-467C-B862-838F96B71E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58045-2DD5-4B4F-A7BA-641AD10B6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FFF7F-B15C-4BBC-9276-A79BC560C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F79CA-6E12-4733-951C-ECAFC93706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E281A-9AA0-4ADD-812F-516B42D98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EFC96-A51B-4A81-91BC-C30A4776CE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9E6B9-4217-42C5-9859-15F2C4DB6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3502A-46E6-4B9D-A552-4E3A9AD80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0CCBC-5EC5-4C19-8507-BA556EEE3E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0C228-6506-4A93-B822-D768EC3C3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6C260-AF54-4206-A7B3-489F2913B6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06DA0-19CF-412A-B774-C29422DCC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E7F95-5B94-40A8-A542-7B5510C6F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272C3-DF2A-44A7-A319-4CC59D1B0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2475A-2AFA-4AF7-8350-BA37689351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2F2CC-95C4-4C93-8380-ECFAEDB3EE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5.</a:t>
            </a:r>
            <a:fld id="{2C0E8502-63E4-4209-AEF5-37189A7194D1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20" y="6613560"/>
            <a:ext cx="337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Feb 2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5:  CPU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355680"/>
            <a:ext cx="8340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First-Come, First-Served (FCFS) Schedul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6720" y="139068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he processes arrive in the order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ntt Chart for the schedule is: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im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0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24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:  (0 + 24 + 27)/3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8"/>
          <p:cNvGrpSpPr/>
          <p:nvPr/>
        </p:nvGrpSpPr>
        <p:grpSpPr>
          <a:xfrm>
            <a:off x="1686240" y="3578400"/>
            <a:ext cx="5552280" cy="1129320"/>
            <a:chOff x="1686240" y="3578400"/>
            <a:chExt cx="5552280" cy="1129320"/>
          </a:xfrm>
        </p:grpSpPr>
        <p:sp>
          <p:nvSpPr>
            <p:cNvPr id="125" name="Rectangle 4"/>
            <p:cNvSpPr/>
            <p:nvPr/>
          </p:nvSpPr>
          <p:spPr>
            <a:xfrm>
              <a:off x="1849320" y="3578400"/>
              <a:ext cx="5257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3152160" y="36349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5514120" y="36349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6428520" y="36349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1849320" y="4187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7107120" y="4187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5202360" y="3578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6116760" y="3578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5202360" y="4187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>
              <a:off x="6116760" y="4187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4"/>
            <p:cNvSpPr/>
            <p:nvPr/>
          </p:nvSpPr>
          <p:spPr>
            <a:xfrm>
              <a:off x="4975920" y="4339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5890320" y="4339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6804720" y="4339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686240" y="4339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CFS Schedul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he processes arrive in th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ntt chart for the schedule i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im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:   (6 + 0 + 3)/3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better than previou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oy 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rt process behind lo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0"/>
          <p:cNvGrpSpPr/>
          <p:nvPr/>
        </p:nvGrpSpPr>
        <p:grpSpPr>
          <a:xfrm>
            <a:off x="1891080" y="2604960"/>
            <a:ext cx="5571000" cy="1129680"/>
            <a:chOff x="1891080" y="2604960"/>
            <a:chExt cx="5571000" cy="1129680"/>
          </a:xfrm>
        </p:grpSpPr>
        <p:sp>
          <p:nvSpPr>
            <p:cNvPr id="142" name="Rectangle 6"/>
            <p:cNvSpPr/>
            <p:nvPr/>
          </p:nvSpPr>
          <p:spPr>
            <a:xfrm flipH="1">
              <a:off x="2040840" y="2604960"/>
              <a:ext cx="5257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 flipH="1">
              <a:off x="5590800" y="26618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 flipH="1">
              <a:off x="3228480" y="26618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 flipH="1">
              <a:off x="2314080" y="26618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7299360" y="32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2041560" y="32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3946680" y="2604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"/>
            <p:cNvSpPr/>
            <p:nvPr/>
          </p:nvSpPr>
          <p:spPr>
            <a:xfrm>
              <a:off x="3032280" y="2604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3946680" y="32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3032280" y="32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6"/>
            <p:cNvSpPr/>
            <p:nvPr/>
          </p:nvSpPr>
          <p:spPr>
            <a:xfrm flipH="1">
              <a:off x="3801960" y="336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 flipH="1">
              <a:off x="2887560" y="336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8"/>
            <p:cNvSpPr/>
            <p:nvPr/>
          </p:nvSpPr>
          <p:spPr>
            <a:xfrm flipH="1">
              <a:off x="7027920" y="3366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 flipH="1">
              <a:off x="1890720" y="336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ortest-Job-First (SJF)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with each process the length of its next CPU burst.  Use these lengths to schedule the process with the shorte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chem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preemptive – once CPU given to the process it cannot be preempted until completes its CPU 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ive – if a new process arrives with CPU burst length less than remaining time of current executing process, preempt.  This scheme is know a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st-Remaining-Time-First (SRT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is optimal – gives minimum average waiting time for a given set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rival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(non-preemp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 = (0 + 6 + 3 + 7)/4 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Non-Preemptive SJF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60" name="Group 37"/>
          <p:cNvGrpSpPr/>
          <p:nvPr/>
        </p:nvGrpSpPr>
        <p:grpSpPr>
          <a:xfrm>
            <a:off x="2044800" y="3691080"/>
            <a:ext cx="5571000" cy="1129320"/>
            <a:chOff x="2044800" y="3691080"/>
            <a:chExt cx="5571000" cy="1129320"/>
          </a:xfrm>
        </p:grpSpPr>
        <p:sp>
          <p:nvSpPr>
            <p:cNvPr id="161" name="Rectangle 5"/>
            <p:cNvSpPr/>
            <p:nvPr/>
          </p:nvSpPr>
          <p:spPr>
            <a:xfrm flipH="1">
              <a:off x="2194560" y="3691080"/>
              <a:ext cx="5257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 flipH="1">
              <a:off x="2887920" y="374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 flipH="1">
              <a:off x="4488120" y="374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 flipH="1">
              <a:off x="5402520" y="374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>
              <a:off x="7453080" y="430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0"/>
            <p:cNvSpPr/>
            <p:nvPr/>
          </p:nvSpPr>
          <p:spPr>
            <a:xfrm>
              <a:off x="2195280" y="430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4938480" y="36910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2"/>
            <p:cNvSpPr/>
            <p:nvPr/>
          </p:nvSpPr>
          <p:spPr>
            <a:xfrm>
              <a:off x="4481280" y="36910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4481280" y="430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288108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 flipH="1">
              <a:off x="4330440" y="445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 flipH="1">
              <a:off x="3041280" y="445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7"/>
            <p:cNvSpPr/>
            <p:nvPr/>
          </p:nvSpPr>
          <p:spPr>
            <a:xfrm flipH="1">
              <a:off x="7181640" y="4452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8"/>
            <p:cNvSpPr/>
            <p:nvPr/>
          </p:nvSpPr>
          <p:spPr>
            <a:xfrm flipH="1">
              <a:off x="2044440" y="445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 flipH="1">
              <a:off x="6545520" y="374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6157800" y="36910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2"/>
            <p:cNvSpPr/>
            <p:nvPr/>
          </p:nvSpPr>
          <p:spPr>
            <a:xfrm>
              <a:off x="250020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326232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364320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394812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6"/>
            <p:cNvSpPr/>
            <p:nvPr/>
          </p:nvSpPr>
          <p:spPr>
            <a:xfrm>
              <a:off x="425268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938480" y="430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8"/>
            <p:cNvSpPr/>
            <p:nvPr/>
          </p:nvSpPr>
          <p:spPr>
            <a:xfrm flipH="1">
              <a:off x="4787640" y="445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9"/>
            <p:cNvSpPr/>
            <p:nvPr/>
          </p:nvSpPr>
          <p:spPr>
            <a:xfrm>
              <a:off x="531972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0"/>
            <p:cNvSpPr/>
            <p:nvPr/>
          </p:nvSpPr>
          <p:spPr>
            <a:xfrm>
              <a:off x="562428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1"/>
            <p:cNvSpPr/>
            <p:nvPr/>
          </p:nvSpPr>
          <p:spPr>
            <a:xfrm>
              <a:off x="592920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6157800" y="430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3"/>
            <p:cNvSpPr/>
            <p:nvPr/>
          </p:nvSpPr>
          <p:spPr>
            <a:xfrm flipH="1">
              <a:off x="5930640" y="4452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53868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5"/>
            <p:cNvSpPr/>
            <p:nvPr/>
          </p:nvSpPr>
          <p:spPr>
            <a:xfrm>
              <a:off x="684360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714852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Preemptive SJF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rival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(preemp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 = (9 + 1 + 0 +2)/4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74"/>
          <p:cNvGrpSpPr/>
          <p:nvPr/>
        </p:nvGrpSpPr>
        <p:grpSpPr>
          <a:xfrm>
            <a:off x="1373400" y="3753000"/>
            <a:ext cx="5920200" cy="1205640"/>
            <a:chOff x="1373400" y="3753000"/>
            <a:chExt cx="5920200" cy="1205640"/>
          </a:xfrm>
        </p:grpSpPr>
        <p:sp>
          <p:nvSpPr>
            <p:cNvPr id="195" name="Rectangle 37"/>
            <p:cNvSpPr/>
            <p:nvPr/>
          </p:nvSpPr>
          <p:spPr>
            <a:xfrm flipH="1">
              <a:off x="1523880" y="3767040"/>
              <a:ext cx="556272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8"/>
            <p:cNvSpPr/>
            <p:nvPr/>
          </p:nvSpPr>
          <p:spPr>
            <a:xfrm flipH="1">
              <a:off x="1607040" y="380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9"/>
            <p:cNvSpPr/>
            <p:nvPr/>
          </p:nvSpPr>
          <p:spPr>
            <a:xfrm flipH="1">
              <a:off x="2902320" y="380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 flipH="1">
              <a:off x="2369520" y="380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7067520" y="4362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1523880" y="437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4267080" y="37670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2133720" y="3753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809880" y="437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7"/>
            <p:cNvSpPr/>
            <p:nvPr/>
          </p:nvSpPr>
          <p:spPr>
            <a:xfrm flipH="1">
              <a:off x="2744640" y="4590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8"/>
            <p:cNvSpPr/>
            <p:nvPr/>
          </p:nvSpPr>
          <p:spPr>
            <a:xfrm flipH="1">
              <a:off x="1982520" y="4590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9"/>
            <p:cNvSpPr/>
            <p:nvPr/>
          </p:nvSpPr>
          <p:spPr>
            <a:xfrm flipH="1">
              <a:off x="5259240" y="45140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50"/>
            <p:cNvSpPr/>
            <p:nvPr/>
          </p:nvSpPr>
          <p:spPr>
            <a:xfrm flipH="1">
              <a:off x="1373040" y="4528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1"/>
            <p:cNvSpPr/>
            <p:nvPr/>
          </p:nvSpPr>
          <p:spPr>
            <a:xfrm flipH="1">
              <a:off x="4731120" y="380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52"/>
            <p:cNvSpPr/>
            <p:nvPr/>
          </p:nvSpPr>
          <p:spPr>
            <a:xfrm>
              <a:off x="5486400" y="37670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3"/>
            <p:cNvSpPr/>
            <p:nvPr/>
          </p:nvSpPr>
          <p:spPr>
            <a:xfrm>
              <a:off x="182880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4"/>
            <p:cNvSpPr/>
            <p:nvPr/>
          </p:nvSpPr>
          <p:spPr>
            <a:xfrm>
              <a:off x="259092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8"/>
            <p:cNvSpPr/>
            <p:nvPr/>
          </p:nvSpPr>
          <p:spPr>
            <a:xfrm>
              <a:off x="4267080" y="437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9"/>
            <p:cNvSpPr/>
            <p:nvPr/>
          </p:nvSpPr>
          <p:spPr>
            <a:xfrm flipH="1">
              <a:off x="3278160" y="4590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0"/>
            <p:cNvSpPr/>
            <p:nvPr/>
          </p:nvSpPr>
          <p:spPr>
            <a:xfrm>
              <a:off x="464832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1"/>
            <p:cNvSpPr/>
            <p:nvPr/>
          </p:nvSpPr>
          <p:spPr>
            <a:xfrm>
              <a:off x="495288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2"/>
            <p:cNvSpPr/>
            <p:nvPr/>
          </p:nvSpPr>
          <p:spPr>
            <a:xfrm>
              <a:off x="525780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3"/>
            <p:cNvSpPr/>
            <p:nvPr/>
          </p:nvSpPr>
          <p:spPr>
            <a:xfrm>
              <a:off x="5486400" y="437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64"/>
            <p:cNvSpPr/>
            <p:nvPr/>
          </p:nvSpPr>
          <p:spPr>
            <a:xfrm flipH="1">
              <a:off x="4116240" y="4590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65"/>
            <p:cNvSpPr/>
            <p:nvPr/>
          </p:nvSpPr>
          <p:spPr>
            <a:xfrm>
              <a:off x="586728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6"/>
            <p:cNvSpPr/>
            <p:nvPr/>
          </p:nvSpPr>
          <p:spPr>
            <a:xfrm>
              <a:off x="617220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67"/>
            <p:cNvSpPr/>
            <p:nvPr/>
          </p:nvSpPr>
          <p:spPr>
            <a:xfrm>
              <a:off x="647712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68"/>
            <p:cNvSpPr/>
            <p:nvPr/>
          </p:nvSpPr>
          <p:spPr>
            <a:xfrm>
              <a:off x="2895480" y="3753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69"/>
            <p:cNvSpPr/>
            <p:nvPr/>
          </p:nvSpPr>
          <p:spPr>
            <a:xfrm>
              <a:off x="3429000" y="3753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0"/>
            <p:cNvSpPr/>
            <p:nvPr/>
          </p:nvSpPr>
          <p:spPr>
            <a:xfrm flipH="1">
              <a:off x="3588120" y="380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71"/>
            <p:cNvSpPr/>
            <p:nvPr/>
          </p:nvSpPr>
          <p:spPr>
            <a:xfrm flipH="1">
              <a:off x="6102720" y="380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72"/>
            <p:cNvSpPr/>
            <p:nvPr/>
          </p:nvSpPr>
          <p:spPr>
            <a:xfrm>
              <a:off x="678168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73"/>
            <p:cNvSpPr/>
            <p:nvPr/>
          </p:nvSpPr>
          <p:spPr>
            <a:xfrm flipH="1">
              <a:off x="6859440" y="45140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6400" y="-763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termining Length of Next CPU Burs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only estimate th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by using the length of previous CPU bursts, using exponential ave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784520" y="2374920"/>
                <a:ext cx="64008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tual  length of 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PU  burst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edicted value for the next CPU  burst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, 0</m:t>
                        </m:r>
                        <m:r>
                          <m:t xml:space="preserve">≤</m:t>
                        </m:r>
                        <m:r>
                          <m:t xml:space="preserve">α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Define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2960640" y="3695760"/>
                <a:ext cx="22226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1160" y="0"/>
            <a:ext cx="8121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rediction of the Length of the Next CPU Burs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642" t="2279" r="642" b="2850"/>
          <a:stretch/>
        </p:blipFill>
        <p:spPr>
          <a:xfrm>
            <a:off x="1938240" y="1935000"/>
            <a:ext cx="5140440" cy="3705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s of Exponential Averag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history does not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actual last CPU burs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expand the formula, we g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(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+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bo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(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re less than or equal to 1, each successive term has less weight than its prede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iority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iority number (integer) is associated with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PU is allocated to the process with the highest priority (smallest integ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ghest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is a priority scheduling where priority is the predicted next CPU 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vation – low priority processes may never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ing – as time progresses increase the priority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ound Robin (RR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12880" y="1396800"/>
            <a:ext cx="70610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gets a small unit of CPU tim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 quan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usually 10-100 milliseconds.  After this time has elapsed, the process is preempted and added to the end of the ready que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 in the ready queue and the time quantu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each process gets 1/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CPU time in chunks of at mo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units at once.  No process waits more tha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rg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large with respect to context switch, otherwise overhead is too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5:  CPU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1320" y="1265400"/>
            <a:ext cx="658512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-Processor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s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550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RR with Time Quantum = 2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6920" y="15109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ntt chart is: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higher average turnaround than SJF, but bet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7"/>
          <p:cNvGrpSpPr/>
          <p:nvPr/>
        </p:nvGrpSpPr>
        <p:grpSpPr>
          <a:xfrm>
            <a:off x="1611360" y="3952800"/>
            <a:ext cx="6047280" cy="977040"/>
            <a:chOff x="1611360" y="3952800"/>
            <a:chExt cx="6047280" cy="977040"/>
          </a:xfrm>
        </p:grpSpPr>
        <p:grpSp>
          <p:nvGrpSpPr>
            <p:cNvPr id="243" name="Group 14"/>
            <p:cNvGrpSpPr/>
            <p:nvPr/>
          </p:nvGrpSpPr>
          <p:grpSpPr>
            <a:xfrm>
              <a:off x="1761840" y="3952800"/>
              <a:ext cx="5638320" cy="609120"/>
              <a:chOff x="1761840" y="3952800"/>
              <a:chExt cx="5638320" cy="609120"/>
            </a:xfrm>
          </p:grpSpPr>
          <p:sp>
            <p:nvSpPr>
              <p:cNvPr id="244" name="Rectangle 4"/>
              <p:cNvSpPr/>
              <p:nvPr/>
            </p:nvSpPr>
            <p:spPr>
              <a:xfrm>
                <a:off x="176184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5"/>
              <p:cNvSpPr/>
              <p:nvPr/>
            </p:nvSpPr>
            <p:spPr>
              <a:xfrm>
                <a:off x="232560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288936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345312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8"/>
              <p:cNvSpPr/>
              <p:nvPr/>
            </p:nvSpPr>
            <p:spPr>
              <a:xfrm>
                <a:off x="401724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9"/>
              <p:cNvSpPr/>
              <p:nvPr/>
            </p:nvSpPr>
            <p:spPr>
              <a:xfrm>
                <a:off x="458100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0"/>
              <p:cNvSpPr/>
              <p:nvPr/>
            </p:nvSpPr>
            <p:spPr>
              <a:xfrm>
                <a:off x="514476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1"/>
              <p:cNvSpPr/>
              <p:nvPr/>
            </p:nvSpPr>
            <p:spPr>
              <a:xfrm>
                <a:off x="570852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2"/>
              <p:cNvSpPr/>
              <p:nvPr/>
            </p:nvSpPr>
            <p:spPr>
              <a:xfrm>
                <a:off x="627264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3"/>
              <p:cNvSpPr/>
              <p:nvPr/>
            </p:nvSpPr>
            <p:spPr>
              <a:xfrm>
                <a:off x="683640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15"/>
            <p:cNvSpPr/>
            <p:nvPr/>
          </p:nvSpPr>
          <p:spPr>
            <a:xfrm>
              <a:off x="1611360" y="4561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6"/>
            <p:cNvSpPr/>
            <p:nvPr/>
          </p:nvSpPr>
          <p:spPr>
            <a:xfrm>
              <a:off x="208152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7"/>
            <p:cNvSpPr/>
            <p:nvPr/>
          </p:nvSpPr>
          <p:spPr>
            <a:xfrm>
              <a:off x="261504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321804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383400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0"/>
            <p:cNvSpPr/>
            <p:nvPr/>
          </p:nvSpPr>
          <p:spPr>
            <a:xfrm>
              <a:off x="436752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1"/>
            <p:cNvSpPr/>
            <p:nvPr/>
          </p:nvSpPr>
          <p:spPr>
            <a:xfrm>
              <a:off x="483768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2"/>
            <p:cNvSpPr/>
            <p:nvPr/>
          </p:nvSpPr>
          <p:spPr>
            <a:xfrm>
              <a:off x="544716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4"/>
            <p:cNvSpPr/>
            <p:nvPr/>
          </p:nvSpPr>
          <p:spPr>
            <a:xfrm>
              <a:off x="598068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5"/>
            <p:cNvSpPr/>
            <p:nvPr/>
          </p:nvSpPr>
          <p:spPr>
            <a:xfrm>
              <a:off x="656496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6"/>
            <p:cNvSpPr/>
            <p:nvPr/>
          </p:nvSpPr>
          <p:spPr>
            <a:xfrm>
              <a:off x="709848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5640" y="385920"/>
            <a:ext cx="7829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Time Quantum and Context Switch Time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rcRect l="380" t="22277" r="568" b="22533"/>
          <a:stretch/>
        </p:blipFill>
        <p:spPr>
          <a:xfrm>
            <a:off x="1333440" y="2049480"/>
            <a:ext cx="6624720" cy="2768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6440" y="306360"/>
            <a:ext cx="838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00"/>
                </a:solidFill>
                <a:latin typeface="Arial"/>
              </a:rPr>
              <a:t>Turnaround Time Varies With The Time Quantum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rcRect l="5371" t="768" r="5179" b="1024"/>
          <a:stretch/>
        </p:blipFill>
        <p:spPr>
          <a:xfrm>
            <a:off x="1986120" y="1739880"/>
            <a:ext cx="5024160" cy="4137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level Queu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queue is partitioned into separate queue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ground (intera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(ba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queue has its own schedul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ground –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– F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must be done between the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riority scheduling; (i.e., serve all from foreground then from background).  Possibility of 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lice – each queue gets a certain amount of CPU time which it can schedule amongst its processes; i.e., 80% to foreground in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to background in FC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level Queue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233" t="6743" r="458" b="6743"/>
          <a:stretch/>
        </p:blipFill>
        <p:spPr>
          <a:xfrm>
            <a:off x="1722600" y="1914480"/>
            <a:ext cx="5511600" cy="3622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level Feedback Queu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6920" y="1468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can move between the various queues; aging can be implemented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level-feedback-queue scheduler defined by the following parame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algorithms for each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used to determine when to upgrade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used to determine when to demote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used to determine which queue a process will enter when that process needs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318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Multilevel Feedback Queu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queu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R with time quantum 8 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R time quantum 16 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job enters que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serv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FS. When it gains CPU, job receives 8 milliseconds.  If it does not finish in 8 milliseconds, job is moved to que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ob is again served FCFS and receives 16 additional milliseconds.  If it still does not complete, it is preempted and moved to que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level Feedback Queu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rcRect l="609" t="10026" r="1015" b="9755"/>
          <a:stretch/>
        </p:blipFill>
        <p:spPr>
          <a:xfrm>
            <a:off x="1727280" y="2209680"/>
            <a:ext cx="5554440" cy="3397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ple-Processor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6920" y="1411200"/>
            <a:ext cx="6321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more complex when multiple CPUs ar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mogeneous process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in a multi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d sha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ymmetric multiproces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one processor accesses the system data structures, alleviating the need for data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l-Time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6920" y="1468080"/>
            <a:ext cx="594360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d real-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s – required to complete a critical task within a guaranteed amount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ft real-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uting – requires that critical processes receive priority over less fortunate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sic Concep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1320" y="1265040"/>
            <a:ext cx="7351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CPU utilization obtained with multi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–I/O Burst Cycle – Process execution consists of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CPU execution and I/O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burs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6560" y="1623960"/>
            <a:ext cx="684396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cheduling – How the threads library decides which thread to put onto an available L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cheduling – How the kernel decides which kernel thread to run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thread Scheduling AP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38280" y="1243080"/>
            <a:ext cx="6818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#include &lt;pthread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#define NUM THREADS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nt main(int argc, 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thread t tid[NUM THREADS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thread attr t att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* get the default attribute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thread attr init(&amp;at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* set the scheduling algorithm to PROCESS or SYSTEM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thread attr setscope(&amp;attr, PTHREAD SCOPE SYSTE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* set the scheduling policy - FIFO, RT, or OTHER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thread attr setschedpolicy(&amp;attr, SCHED OTH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* create the thread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for (i = 0; i &lt; NUM THREADS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thread create(&amp;tid[i],&amp;attr,runner,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thread Scheduling AP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335320" y="1623600"/>
            <a:ext cx="544824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/* now join on each thread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for (i = 0; i &lt; NUM THREADS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thread join(tid[i]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/* Each thread will begin control in this functio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void *runner(void *pa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rintf("I am a thread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thread 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Examp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109520"/>
            <a:ext cx="68436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2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13648" t="1088" r="13648" b="817"/>
          <a:stretch/>
        </p:blipFill>
        <p:spPr>
          <a:xfrm>
            <a:off x="2428920" y="1785960"/>
            <a:ext cx="4113000" cy="4162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Dispatch Tabl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8985" t="556" r="9402" b="1112"/>
          <a:stretch/>
        </p:blipFill>
        <p:spPr>
          <a:xfrm>
            <a:off x="2286000" y="1795320"/>
            <a:ext cx="4365720" cy="3945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indows XP Priorit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rcRect l="388" t="24452" r="388" b="23168"/>
          <a:stretch/>
        </p:blipFill>
        <p:spPr>
          <a:xfrm>
            <a:off x="1044720" y="2187720"/>
            <a:ext cx="6514920" cy="2579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6920" y="14108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algorithms: time-sharing and 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zed credit-based – process with most credits is scheduled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ubtracted when timer interrupt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redit = 0, another process cho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ll processes have credit = 0, recrediting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factors including priority and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.1b compliant – two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FS and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priority process always runs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0600" y="-28440"/>
            <a:ext cx="879156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The Relationship Between Priorities and Time-slice length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rcRect l="602" t="12561" r="1004" b="13092"/>
          <a:stretch/>
        </p:blipFill>
        <p:spPr>
          <a:xfrm>
            <a:off x="1455840" y="1967040"/>
            <a:ext cx="6006960" cy="3403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List of Tasks Indexed According to Proriti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rcRect l="594" t="18206" r="395" b="18472"/>
          <a:stretch/>
        </p:blipFill>
        <p:spPr>
          <a:xfrm>
            <a:off x="1595520" y="2081160"/>
            <a:ext cx="5759280" cy="2762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4680" y="3762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lternating Sequence of CPU And I/O Burs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rcRect l="30034" t="788" r="30034" b="1575"/>
          <a:stretch/>
        </p:blipFill>
        <p:spPr>
          <a:xfrm>
            <a:off x="3200400" y="1468440"/>
            <a:ext cx="2543040" cy="4662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gorithm Evalu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6560" y="1382760"/>
            <a:ext cx="63500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istic modeling – takes a particular predetermined workload and defines the performance of each algorithm  for that work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5.1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rcRect l="413" t="8589" r="624" b="9140"/>
          <a:stretch/>
        </p:blipFill>
        <p:spPr>
          <a:xfrm>
            <a:off x="1612800" y="1193760"/>
            <a:ext cx="6050160" cy="3772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5.08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rcRect l="587" t="27401" r="978" b="27922"/>
          <a:stretch/>
        </p:blipFill>
        <p:spPr>
          <a:xfrm>
            <a:off x="1523880" y="1558800"/>
            <a:ext cx="6388200" cy="2175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-5.7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rcRect l="952" t="41881" r="1333" b="42388"/>
          <a:stretch/>
        </p:blipFill>
        <p:spPr>
          <a:xfrm>
            <a:off x="660240" y="2108160"/>
            <a:ext cx="7991640" cy="965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-5.8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rcRect l="362" t="42551" r="269" b="42792"/>
          <a:stretch/>
        </p:blipFill>
        <p:spPr>
          <a:xfrm>
            <a:off x="444600" y="2374920"/>
            <a:ext cx="8375400" cy="927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-5.9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rcRect l="908" t="42132" r="1270" b="42615"/>
          <a:stretch/>
        </p:blipFill>
        <p:spPr>
          <a:xfrm>
            <a:off x="546120" y="2133720"/>
            <a:ext cx="8140680" cy="952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patch Laten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rcRect l="28981" t="16328" r="30817" b="50135"/>
          <a:stretch/>
        </p:blipFill>
        <p:spPr>
          <a:xfrm>
            <a:off x="1452600" y="1668600"/>
            <a:ext cx="6154560" cy="4108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ava Thread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6920" y="1650960"/>
            <a:ext cx="735192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VM Uses a Preemptive, Priority-Based Scheduling Algorithm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 Queue is Used if There Are Multiple Threads With the Sam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ava Thread Scheduling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VM Schedules a Thread to Run W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ly Running Thread Exits the Runna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igher Priority Thread Enters the Runna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te – the JVM Does Not Specify Whether Threads are Time-Sliced or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ime-Slic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2711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JVM Doesn’t Ensure Time-Slicing, the yield() Meth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U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perform CPU-intensiv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.yiel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Yields Control to Another Thread of Equal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istogram of CPU-burst Tim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rcRect l="624" t="6123" r="417" b="6123"/>
          <a:stretch/>
        </p:blipFill>
        <p:spPr>
          <a:xfrm>
            <a:off x="1654200" y="1812960"/>
            <a:ext cx="5702400" cy="3792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Priorit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720" y="1491840"/>
            <a:ext cx="682308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o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.MIN_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hread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.MAX_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Maximum Thread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.NORM_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Default Thread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es May Be Set Using setPriority() meth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iority(Thread.NORM_PRIORITY +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PU Schedul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s from among the processes in memory that are ready to execute, and allocates the CPU to one of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decisions may take place when a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from running to wait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from running to r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from waiting to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under 1 and 4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 scheduling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patch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38240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er module gives control of the CPU to the process selected by the short-term scheduler; this invol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to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ing to the proper location in the user program to restart tha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ime it takes for the dispatcher to stop one process and start another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ing Criteria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1320" y="1265400"/>
            <a:ext cx="658512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– keep the CPU as busy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put – # of processes that complete their execution per tim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around time – amount of time to execute a particula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ime – amount of time a process has been waiting in the 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– amount of time it takes from when a request was submitted until the first response is produce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put  (for time-sharing environ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timization Criteria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1439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turnaround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waiting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7:58:50Z</dcterms:created>
  <dc:creator/>
  <dc:description/>
  <dc:language>en-US</dc:language>
  <cp:lastModifiedBy>LOVE GOEL</cp:lastModifiedBy>
  <cp:lastPrinted>2001-06-14T14:25:09Z</cp:lastPrinted>
  <dcterms:modified xsi:type="dcterms:W3CDTF">2008-08-09T10:14:15Z</dcterms:modified>
  <cp:revision>0</cp:revision>
  <dc:subject/>
  <dc:title/>
</cp:coreProperties>
</file>