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8.</a:t>
            </a:r>
            <a:fld id="{47648E92-4C29-404D-B1E2-E2D35C2D7E45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4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2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8:  Main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80550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ynamic relocation using a relocation regist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842" t="3480" r="1089" b="3785"/>
          <a:stretch/>
        </p:blipFill>
        <p:spPr>
          <a:xfrm>
            <a:off x="1819440" y="1941480"/>
            <a:ext cx="5384520" cy="395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Load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s not loaded until it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memory-space utilization; unused routine is never 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large amounts of code are needed to handle infrequently occurring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l support from the operating system is required implemented through progra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Lin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378080"/>
            <a:ext cx="67341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postponed until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to locate the appropriate memory-resident librar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 replaces itself with the address of the routine, and executes the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needed to check if routine is in processes’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is particularly useful for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lso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cess can be swapped temporarily out of memory to a backing store, and then brought back into memory for continued execu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ing st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ast disk large enough to accommodate copies of all memory images for all users; must provide direct access to these memory ima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l out, roll 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wapping variant used for priority-based scheduling algorithms; lower-priority process is swapped out so higher-priority process can be loaded and execu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part of swap time is transfer time; total transfer time is directly proportional to the amount of memory swapp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versions of swapping are found on many systems (i.e., UNIX, Linux, and Wind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maintains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ready-to-run processes which have memory images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Swap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rcRect l="742" t="340" r="487" b="1299"/>
          <a:stretch/>
        </p:blipFill>
        <p:spPr>
          <a:xfrm>
            <a:off x="1722600" y="1692360"/>
            <a:ext cx="5578200" cy="4165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8080"/>
            <a:ext cx="70372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usually into two part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 operating system, usually held in low memory with interrup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then held in high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registers used to protect user processes from each other, and from changing operating-system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register contains value of smallest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register contains range of logical addresses – each logical address must be less than the limit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 maps logical addr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520" y="228600"/>
            <a:ext cx="901872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HW address protection with base and limit register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465" t="20840" r="443" b="21425"/>
          <a:stretch/>
        </p:blipFill>
        <p:spPr>
          <a:xfrm>
            <a:off x="1389240" y="2455920"/>
            <a:ext cx="6260760" cy="2736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335240"/>
            <a:ext cx="735156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artition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– block of available memory; holes of various size are scattered throughou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arrives, it is allocated memory from a hole large enough to accommod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maintains information abou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allocated partitions    b) free partitions (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048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11048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11048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11048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4112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1048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04840" y="51933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1048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9336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29336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29336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29336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2400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9336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9336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47624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7624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7624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7624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50688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47624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47624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5912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65912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65912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65912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6"/>
          <p:cNvSpPr/>
          <p:nvPr/>
        </p:nvSpPr>
        <p:spPr>
          <a:xfrm>
            <a:off x="68976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65912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6591240" y="48279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65912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2933640" y="4829040"/>
            <a:ext cx="1143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4762440" y="5210280"/>
            <a:ext cx="11430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"/>
          <p:cNvSpPr/>
          <p:nvPr/>
        </p:nvSpPr>
        <p:spPr>
          <a:xfrm>
            <a:off x="4762440" y="48279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4"/>
          <p:cNvSpPr/>
          <p:nvPr/>
        </p:nvSpPr>
        <p:spPr>
          <a:xfrm>
            <a:off x="6591240" y="5514840"/>
            <a:ext cx="11430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5"/>
          <p:cNvSpPr/>
          <p:nvPr/>
        </p:nvSpPr>
        <p:spPr>
          <a:xfrm>
            <a:off x="6591240" y="5165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6591240" y="52092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2324160" y="521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8"/>
          <p:cNvSpPr/>
          <p:nvPr/>
        </p:nvSpPr>
        <p:spPr>
          <a:xfrm>
            <a:off x="4152960" y="521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9"/>
          <p:cNvSpPr/>
          <p:nvPr/>
        </p:nvSpPr>
        <p:spPr>
          <a:xfrm>
            <a:off x="5981760" y="521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Storage-Allocation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51040" y="1914480"/>
            <a:ext cx="671328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; must search entire list, unless ordered by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small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; must also search entire li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larg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49880" y="1377000"/>
            <a:ext cx="65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atisfy a request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 list of free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4332960"/>
            <a:ext cx="653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fit and best-fit better than worst-fit in terms of speed and storage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a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tal memory space exists to satisfy a request, but it is not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ocated memory may be slightly larger than requested memory; this size difference is memory internal to a partition, but not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external fragmentation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 memory contents to place all free memory together in one larg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ion is possi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location is dynamic, and is done at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job in memory while it is involved in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/O only into OS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8:  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Memor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he Intel Pen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8720" y="1449360"/>
            <a:ext cx="68835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space of a process can be noncontiguous; process is allocated physical memory whenever the latter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hysical memory into fixed-sized block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ze is power of 2, between 512 bytes and 8,19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logical memory into blocks of same siz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all fre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un a program of siz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, need to 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frames and loa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 page table to translate logical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 Translation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6895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generated by CPU is divided into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number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used as an index into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ich contains base address of each page in physical memo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offset (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mbined with base address to define the physical memory address that is sent to the memory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given logical address space 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page size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28"/>
          <p:cNvSpPr/>
          <p:nvPr/>
        </p:nvSpPr>
        <p:spPr>
          <a:xfrm>
            <a:off x="2592360" y="3913200"/>
            <a:ext cx="310500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30"/>
          <p:cNvSpPr/>
          <p:nvPr/>
        </p:nvSpPr>
        <p:spPr>
          <a:xfrm>
            <a:off x="4226040" y="3570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2436840" y="34808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32"/>
          <p:cNvSpPr/>
          <p:nvPr/>
        </p:nvSpPr>
        <p:spPr>
          <a:xfrm>
            <a:off x="4299480" y="34934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3"/>
          <p:cNvSpPr/>
          <p:nvPr/>
        </p:nvSpPr>
        <p:spPr>
          <a:xfrm>
            <a:off x="3148200" y="393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4597560" y="396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36"/>
          <p:cNvSpPr/>
          <p:nvPr/>
        </p:nvSpPr>
        <p:spPr>
          <a:xfrm>
            <a:off x="2952720" y="43869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-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38"/>
          <p:cNvSpPr/>
          <p:nvPr/>
        </p:nvSpPr>
        <p:spPr>
          <a:xfrm>
            <a:off x="4549680" y="43966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rcRect l="591" t="10750" r="620" b="11163"/>
          <a:stretch/>
        </p:blipFill>
        <p:spPr>
          <a:xfrm>
            <a:off x="1233360" y="1506600"/>
            <a:ext cx="7251840" cy="4298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aging Model of Logical and Physical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2" name="Picture 1029" descr=""/>
          <p:cNvPicPr/>
          <p:nvPr/>
        </p:nvPicPr>
        <p:blipFill>
          <a:blip r:embed="rId1"/>
          <a:srcRect l="10392" t="620" r="10613" b="950"/>
          <a:stretch/>
        </p:blipFill>
        <p:spPr>
          <a:xfrm>
            <a:off x="2225520" y="1824120"/>
            <a:ext cx="4429440" cy="4138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19979" t="640" r="20580" b="640"/>
          <a:stretch/>
        </p:blipFill>
        <p:spPr>
          <a:xfrm>
            <a:off x="2664000" y="1411200"/>
            <a:ext cx="3617640" cy="450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95" name="Text Box 5"/>
          <p:cNvSpPr/>
          <p:nvPr/>
        </p:nvSpPr>
        <p:spPr>
          <a:xfrm>
            <a:off x="2506680" y="6107040"/>
            <a:ext cx="40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byte memory and 4-byt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 Fra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940400" y="60015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354280" y="59634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698" t="2476" r="698" b="3086"/>
          <a:stretch/>
        </p:blipFill>
        <p:spPr>
          <a:xfrm>
            <a:off x="1590840" y="1535040"/>
            <a:ext cx="5929200" cy="4257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6675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is kep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-table base register (PTB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s to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-table length register (PRL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siz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heme every data/instruction access requires two memory accesses.  One for the page table and one for the data/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emory access problem can be solved by the use of a special fast-lookup hardware cach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mem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look-aside buffers (TL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LBs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dress-space identifiers (ASID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TLB entry – uniquely identifies each process to provide address-space protection for tha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3060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memory – parallel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(p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 is in associative register, get frame #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get frame # from page tabl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52"/>
          <p:cNvSpPr/>
          <p:nvPr/>
        </p:nvSpPr>
        <p:spPr>
          <a:xfrm>
            <a:off x="3059280" y="2104920"/>
            <a:ext cx="2895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53"/>
          <p:cNvSpPr/>
          <p:nvPr/>
        </p:nvSpPr>
        <p:spPr>
          <a:xfrm>
            <a:off x="4506840" y="1647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054"/>
          <p:cNvSpPr/>
          <p:nvPr/>
        </p:nvSpPr>
        <p:spPr>
          <a:xfrm>
            <a:off x="3059280" y="24098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55"/>
          <p:cNvSpPr/>
          <p:nvPr/>
        </p:nvSpPr>
        <p:spPr>
          <a:xfrm>
            <a:off x="3059280" y="271476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056"/>
          <p:cNvSpPr/>
          <p:nvPr/>
        </p:nvSpPr>
        <p:spPr>
          <a:xfrm>
            <a:off x="3059280" y="30956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57"/>
          <p:cNvSpPr/>
          <p:nvPr/>
        </p:nvSpPr>
        <p:spPr>
          <a:xfrm>
            <a:off x="3363840" y="172404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58"/>
          <p:cNvSpPr/>
          <p:nvPr/>
        </p:nvSpPr>
        <p:spPr>
          <a:xfrm>
            <a:off x="4735440" y="172404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Hardware With TLB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rcRect l="1292" t="1039" r="1292" b="684"/>
          <a:stretch/>
        </p:blipFill>
        <p:spPr>
          <a:xfrm>
            <a:off x="1658880" y="1670040"/>
            <a:ext cx="5770800" cy="4365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ffective Access Ti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353960"/>
            <a:ext cx="667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Lookup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emory cycle time is 1 micro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– percentage of times that a page number is found in the associative registers; ratio related to number of associativ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Acces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425600"/>
            <a:ext cx="66517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various ways of organizing memor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various memory-management techniques, including paging and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the Intel Pentium, which supports both pure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8738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protection implemented by associating protection bit with each fr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-inva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attached to each entry in the pag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” indicates that the associated page is in the process’ logical address space, and is thus a leg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” indicates that the page is not in the process’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2320" y="0"/>
            <a:ext cx="81612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alid (v) or Invalid (i) Bit In A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rcRect l="7302" t="600" r="7302" b="600"/>
          <a:stretch/>
        </p:blipFill>
        <p:spPr>
          <a:xfrm>
            <a:off x="1836720" y="1494000"/>
            <a:ext cx="5329080" cy="462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Pag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821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py of read-only (reentrant) code shared among processes (i.e., text editors, compilers, window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code must appear in same location in the logical address space of all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code and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keeps a separate copy of the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s for the private code and data can appear anywhere in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Pages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rcRect l="13408" t="1319" r="13441" b="1777"/>
          <a:stretch/>
        </p:blipFill>
        <p:spPr>
          <a:xfrm>
            <a:off x="2301840" y="1395360"/>
            <a:ext cx="4792680" cy="4761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ructure of the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erarchical Page T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up the logical address space into multiple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technique is a two-level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Page-Table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14991" t="847" r="15006" b="1043"/>
          <a:stretch/>
        </p:blipFill>
        <p:spPr>
          <a:xfrm>
            <a:off x="2379600" y="1630440"/>
            <a:ext cx="4305240" cy="4525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1080" y="1533600"/>
            <a:ext cx="710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gical address (on 32-bit machine with 1K page size) is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ge number consisting of 22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ge offset consisting of 10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the page table is paged, the page number is further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12-bit page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10-bit page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a logical address is as follows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n index into the outer page table,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displacement within the page of the outer pag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067200" y="4387680"/>
            <a:ext cx="3105000" cy="4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905280" y="4425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700520" y="4044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911680" y="3955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774320" y="39679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299760" y="439524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078080" y="4387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072400" y="444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3371760" y="50634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038480" y="503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105520" y="503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040" y="2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-Translation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3" name="Picture 1033" descr=""/>
          <p:cNvPicPr/>
          <p:nvPr/>
        </p:nvPicPr>
        <p:blipFill>
          <a:blip r:embed="rId1"/>
          <a:srcRect l="509" t="22415" r="509" b="22415"/>
          <a:stretch/>
        </p:blipFill>
        <p:spPr>
          <a:xfrm>
            <a:off x="1349280" y="2349360"/>
            <a:ext cx="6265800" cy="2619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-level Paging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698" t="38264" r="458" b="37978"/>
          <a:stretch/>
        </p:blipFill>
        <p:spPr>
          <a:xfrm>
            <a:off x="1147680" y="4275000"/>
            <a:ext cx="6675480" cy="1203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46" name="Picture 5" descr=""/>
          <p:cNvPicPr/>
          <p:nvPr/>
        </p:nvPicPr>
        <p:blipFill>
          <a:blip r:embed="rId2"/>
          <a:srcRect l="646" t="35192" r="646" b="35502"/>
          <a:stretch/>
        </p:blipFill>
        <p:spPr>
          <a:xfrm>
            <a:off x="1168560" y="1871640"/>
            <a:ext cx="6065640" cy="1351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30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must be brought (from disk)  into memory and placed within a process for it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and registers are only storage CPU can acces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access in one CPU clock (or 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can take many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ts between main memory and CPU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of memory required to ensure correct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ashed Page T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address spaces &gt;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page number is hashed into a page table. This page table contains a chain of elements hashing to the same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s are compared in this chain searching for a match. If a match is found, the corresponding physical frame is extra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ashed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439" t="14205" r="668" b="13900"/>
          <a:stretch/>
        </p:blipFill>
        <p:spPr>
          <a:xfrm>
            <a:off x="1198440" y="1906560"/>
            <a:ext cx="6591600" cy="3594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verted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19160" y="1420560"/>
            <a:ext cx="65167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try for each real page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consists of the virtual address of the page stored in that real memory location, with information about the process that owns tha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memory needed to store each page table, but increases time needed to search the table when a page referenc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hash table to limit the search to one — or at most a few — page-tab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verted Page Table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rcRect l="705" t="4346" r="705" b="4671"/>
          <a:stretch/>
        </p:blipFill>
        <p:spPr>
          <a:xfrm>
            <a:off x="1668600" y="1900080"/>
            <a:ext cx="5654520" cy="391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scheme that supports user view of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a collection of segments.  A segment is a logical unit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, global variab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lo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able,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’s View of a Progra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21813" t="630" r="21813" b="965"/>
          <a:stretch/>
        </p:blipFill>
        <p:spPr>
          <a:xfrm>
            <a:off x="2836800" y="1784520"/>
            <a:ext cx="3232080" cy="4230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ical View of 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0" name="Oval 3"/>
          <p:cNvSpPr/>
          <p:nvPr/>
        </p:nvSpPr>
        <p:spPr>
          <a:xfrm>
            <a:off x="1371600" y="1171440"/>
            <a:ext cx="2895480" cy="396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905120" y="1857240"/>
            <a:ext cx="990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752480" y="300024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200400" y="246708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124080" y="3457440"/>
            <a:ext cx="914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5638680" y="1171440"/>
            <a:ext cx="1143000" cy="3962160"/>
            <a:chOff x="5638680" y="1171440"/>
            <a:chExt cx="1143000" cy="3962160"/>
          </a:xfrm>
        </p:grpSpPr>
        <p:grpSp>
          <p:nvGrpSpPr>
            <p:cNvPr id="266" name="Group 11"/>
            <p:cNvGrpSpPr/>
            <p:nvPr/>
          </p:nvGrpSpPr>
          <p:grpSpPr>
            <a:xfrm>
              <a:off x="5638680" y="1171440"/>
              <a:ext cx="1143000" cy="1066680"/>
              <a:chOff x="5638680" y="1171440"/>
              <a:chExt cx="1143000" cy="1066680"/>
            </a:xfrm>
          </p:grpSpPr>
          <p:sp>
            <p:nvSpPr>
              <p:cNvPr id="267" name="Rectangle 8"/>
              <p:cNvSpPr/>
              <p:nvPr/>
            </p:nvSpPr>
            <p:spPr>
              <a:xfrm>
                <a:off x="5638680" y="1171440"/>
                <a:ext cx="1143000" cy="1066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9"/>
              <p:cNvSpPr/>
              <p:nvPr/>
            </p:nvSpPr>
            <p:spPr>
              <a:xfrm>
                <a:off x="5638680" y="17046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2"/>
            <p:cNvGrpSpPr/>
            <p:nvPr/>
          </p:nvGrpSpPr>
          <p:grpSpPr>
            <a:xfrm>
              <a:off x="5638680" y="2238120"/>
              <a:ext cx="1143000" cy="1066680"/>
              <a:chOff x="5638680" y="2238120"/>
              <a:chExt cx="1143000" cy="1066680"/>
            </a:xfrm>
          </p:grpSpPr>
          <p:sp>
            <p:nvSpPr>
              <p:cNvPr id="270" name="Rectangle 13"/>
              <p:cNvSpPr/>
              <p:nvPr/>
            </p:nvSpPr>
            <p:spPr>
              <a:xfrm>
                <a:off x="5638680" y="2238120"/>
                <a:ext cx="114300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5638680" y="27712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15"/>
            <p:cNvSpPr/>
            <p:nvPr/>
          </p:nvSpPr>
          <p:spPr>
            <a:xfrm>
              <a:off x="6018480" y="129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6021720" y="178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638680" y="3304800"/>
              <a:ext cx="114300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>
              <a:off x="5638680" y="4752720"/>
              <a:ext cx="1143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5638680" y="3686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0"/>
            <p:cNvSpPr/>
            <p:nvPr/>
          </p:nvSpPr>
          <p:spPr>
            <a:xfrm>
              <a:off x="6021720" y="335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1"/>
            <p:cNvSpPr/>
            <p:nvPr/>
          </p:nvSpPr>
          <p:spPr>
            <a:xfrm>
              <a:off x="6021720" y="408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2"/>
          <p:cNvSpPr/>
          <p:nvPr/>
        </p:nvSpPr>
        <p:spPr>
          <a:xfrm>
            <a:off x="2024640" y="5255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4886640" y="52556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mor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 Archite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477440"/>
            <a:ext cx="679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consists of a two tu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gment-number, offset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ps two-dimensional physical addresses; each table entry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ains the starting physical address where the segments resi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cifies the length of th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-table base register (STB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s to the segment table’s location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-table length register (STL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number of segments used by a progr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numb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egal i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 Architectur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18640" y="1477800"/>
            <a:ext cx="6658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entry in segment table associ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bit =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leg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/execut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bits associated with segments; code sharing occurs at seg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segments vary in length, memory allocation is a dynamic storage-allocati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ation example is shown in the following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rcRect l="458" t="3696" r="240" b="3696"/>
          <a:stretch/>
        </p:blipFill>
        <p:spPr>
          <a:xfrm>
            <a:off x="1574640" y="1727280"/>
            <a:ext cx="5935680" cy="4151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30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e and Limit Regist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39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ir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isters define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6726" t="876" r="16431" b="876"/>
          <a:stretch/>
        </p:blipFill>
        <p:spPr>
          <a:xfrm>
            <a:off x="3046320" y="2109960"/>
            <a:ext cx="3229200" cy="3558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rcRect l="7815" t="925" r="7815" b="1536"/>
          <a:stretch/>
        </p:blipFill>
        <p:spPr>
          <a:xfrm>
            <a:off x="2038320" y="1776240"/>
            <a:ext cx="4865760" cy="421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: The Intel Pentiu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both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generates log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o segmentation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roduces linear addr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address given to pag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nerates physical address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units form equivalent of M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63120" y="4269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ogical to Physical Address Translation in Pentium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rcRect l="447" t="43230" r="679" b="42949"/>
          <a:stretch/>
        </p:blipFill>
        <p:spPr>
          <a:xfrm>
            <a:off x="628560" y="2239920"/>
            <a:ext cx="7894800" cy="827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93" name="Picture 4" descr=""/>
          <p:cNvPicPr/>
          <p:nvPr/>
        </p:nvPicPr>
        <p:blipFill>
          <a:blip r:embed="rId2"/>
          <a:srcRect l="639" t="35571" r="661" b="35571"/>
          <a:stretch/>
        </p:blipFill>
        <p:spPr>
          <a:xfrm>
            <a:off x="1533600" y="4363920"/>
            <a:ext cx="5805360" cy="1273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l Pentium 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rcRect l="664" t="9657" r="664" b="10267"/>
          <a:stretch/>
        </p:blipFill>
        <p:spPr>
          <a:xfrm>
            <a:off x="1266840" y="1754280"/>
            <a:ext cx="6435720" cy="3917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entium Paging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rcRect l="13208" t="842" r="13208" b="842"/>
          <a:stretch/>
        </p:blipFill>
        <p:spPr>
          <a:xfrm>
            <a:off x="2100240" y="1509840"/>
            <a:ext cx="4794120" cy="4803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ear Address in Linu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rcRect l="797" t="42782" r="897" b="42782"/>
          <a:stretch/>
        </p:blipFill>
        <p:spPr>
          <a:xfrm>
            <a:off x="1235160" y="2886120"/>
            <a:ext cx="6661080" cy="733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300" name="Text Box 4"/>
          <p:cNvSpPr/>
          <p:nvPr/>
        </p:nvSpPr>
        <p:spPr>
          <a:xfrm>
            <a:off x="1211400" y="151272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n into four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-level Paging in Linu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450" t="13280" r="450" b="13595"/>
          <a:stretch/>
        </p:blipFill>
        <p:spPr>
          <a:xfrm>
            <a:off x="1098720" y="1768320"/>
            <a:ext cx="6883200" cy="381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9440" y="307800"/>
            <a:ext cx="8134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inding of Instructions and Data to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7240" y="113976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inding of instructions and data to memory addresses can happen at three different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f memory location known a priori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generated; must recompile code if starting loc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Must gene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ocatabl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memory location is not known at compi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Binding delayed until run time if the process can be moved during its execution from one memory segment to another.  Need hardware support for address maps (e.g., base and lim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ultistep Processing of a User Program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30186" t="1004" r="30392" b="660"/>
          <a:stretch/>
        </p:blipFill>
        <p:spPr>
          <a:xfrm>
            <a:off x="3200400" y="1438200"/>
            <a:ext cx="2552760" cy="4773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ical vs. Physical Address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9372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a logical address space that is bound to a sepa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entral to proper 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enerated by the CPU; also referred to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ddress seen by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nd physical addresses are the same in compile-time and load-time address-binding schemes; logical (virtual) and physical addresses differ in execution-time address-bind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-Management Unit 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MMU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vice that maps virtual to physical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MU scheme, the value in the relocation register is added to every address generated by a user process at the time it is sent to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program deal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es; it never se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/>
  <dc:description/>
  <dc:language>en-US</dc:language>
  <cp:lastModifiedBy>LOVE GOEL</cp:lastModifiedBy>
  <cp:lastPrinted>2001-06-14T19:17:20Z</cp:lastPrinted>
  <dcterms:modified xsi:type="dcterms:W3CDTF">2008-08-09T10:14:15Z</dcterms:modified>
  <cp:revision>0</cp:revision>
  <dc:subject/>
  <dc:title/>
</cp:coreProperties>
</file>