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8.</a:t>
            </a:r>
            <a:fld id="{E00CAD06-8B00-4373-B367-52519C3FEFF1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22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ain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88480" y="0"/>
            <a:ext cx="80550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Dynamic relocation using a relocation register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842" t="3480" r="1089" b="3785"/>
          <a:stretch/>
        </p:blipFill>
        <p:spPr>
          <a:xfrm>
            <a:off x="1819440" y="1941480"/>
            <a:ext cx="5384520" cy="3959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oad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e is not loaded until it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memory-space utilization; unused routine is never loa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when large amounts of code are needed to handle infrequently occurring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l support from the operating system is required implemented through program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Link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2120" y="1378080"/>
            <a:ext cx="673416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ing postponed until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u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sed to locate the appropriate memory-resident library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b replaces itself with the address of the routine, and executes the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needed to check if routine is in processes’ memory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linking is particularly useful for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also known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cess can be swapped temporarily out of memory to a backing store, and then brought back into memory for continued execu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king sto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fast disk large enough to accommodate copies of all memory images for all users; must provide direct access to these memory ima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ll out, roll 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swapping variant used for priority-based scheduling algorithms; lower-priority process is swapped out so higher-priority process can be loaded and execu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part of swap time is transfer time; total transfer time is directly proportional to the amount of memory swapp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ified versions of swapping are found on many systems (i.e., UNIX, Linux, and Window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 maintains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 que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ready-to-run processes which have memory images on d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matic View of Swapp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rcRect l="742" t="340" r="487" b="1299"/>
          <a:stretch/>
        </p:blipFill>
        <p:spPr>
          <a:xfrm>
            <a:off x="1722600" y="1692360"/>
            <a:ext cx="5578200" cy="4165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8080"/>
            <a:ext cx="703728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usually into two parti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dent operating system, usually held in low memory with interrupt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processes then held in high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registers used to protect user processes from each other, and from changing operating-system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register contains value of smallest phys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 register contains range of logical addresses – each logical address must be less than the limit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U maps logical addr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ynam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520" y="228600"/>
            <a:ext cx="9018720" cy="59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HW address protection with base and limit registers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rcRect l="465" t="20840" r="443" b="21425"/>
          <a:stretch/>
        </p:blipFill>
        <p:spPr>
          <a:xfrm>
            <a:off x="1389240" y="2455920"/>
            <a:ext cx="6260760" cy="2736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iguous Alloc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335240"/>
            <a:ext cx="7351560" cy="26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-partition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– block of available memory; holes of various size are scattered throughout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arrives, it is allocated memory from a hole large enough to accommodate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maintains information about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allocated partitions    b) free partitions (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048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11048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11048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11048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4112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11048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1104840" y="51933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11048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29336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5"/>
          <p:cNvSpPr/>
          <p:nvPr/>
        </p:nvSpPr>
        <p:spPr>
          <a:xfrm>
            <a:off x="29336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6"/>
          <p:cNvSpPr/>
          <p:nvPr/>
        </p:nvSpPr>
        <p:spPr>
          <a:xfrm>
            <a:off x="29336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7"/>
          <p:cNvSpPr/>
          <p:nvPr/>
        </p:nvSpPr>
        <p:spPr>
          <a:xfrm>
            <a:off x="29336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32400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9336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29336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3"/>
          <p:cNvSpPr/>
          <p:nvPr/>
        </p:nvSpPr>
        <p:spPr>
          <a:xfrm>
            <a:off x="47624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47624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47624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47624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7"/>
          <p:cNvSpPr/>
          <p:nvPr/>
        </p:nvSpPr>
        <p:spPr>
          <a:xfrm>
            <a:off x="50688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47624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47624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2"/>
          <p:cNvSpPr/>
          <p:nvPr/>
        </p:nvSpPr>
        <p:spPr>
          <a:xfrm>
            <a:off x="6591240" y="4067280"/>
            <a:ext cx="1143000" cy="2133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3"/>
          <p:cNvSpPr/>
          <p:nvPr/>
        </p:nvSpPr>
        <p:spPr>
          <a:xfrm>
            <a:off x="6591240" y="4430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4"/>
          <p:cNvSpPr/>
          <p:nvPr/>
        </p:nvSpPr>
        <p:spPr>
          <a:xfrm>
            <a:off x="6591240" y="484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5"/>
          <p:cNvSpPr/>
          <p:nvPr/>
        </p:nvSpPr>
        <p:spPr>
          <a:xfrm>
            <a:off x="6591240" y="5773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6"/>
          <p:cNvSpPr/>
          <p:nvPr/>
        </p:nvSpPr>
        <p:spPr>
          <a:xfrm>
            <a:off x="6897600" y="406620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7"/>
          <p:cNvSpPr/>
          <p:nvPr/>
        </p:nvSpPr>
        <p:spPr>
          <a:xfrm>
            <a:off x="6591240" y="45104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8"/>
          <p:cNvSpPr/>
          <p:nvPr/>
        </p:nvSpPr>
        <p:spPr>
          <a:xfrm>
            <a:off x="6591240" y="48279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9"/>
          <p:cNvSpPr/>
          <p:nvPr/>
        </p:nvSpPr>
        <p:spPr>
          <a:xfrm>
            <a:off x="6591240" y="579024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1"/>
          <p:cNvSpPr/>
          <p:nvPr/>
        </p:nvSpPr>
        <p:spPr>
          <a:xfrm>
            <a:off x="2933640" y="4829040"/>
            <a:ext cx="1143000" cy="9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2"/>
          <p:cNvSpPr/>
          <p:nvPr/>
        </p:nvSpPr>
        <p:spPr>
          <a:xfrm>
            <a:off x="4762440" y="5210280"/>
            <a:ext cx="1143000" cy="6094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3"/>
          <p:cNvSpPr/>
          <p:nvPr/>
        </p:nvSpPr>
        <p:spPr>
          <a:xfrm>
            <a:off x="4762440" y="48279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4"/>
          <p:cNvSpPr/>
          <p:nvPr/>
        </p:nvSpPr>
        <p:spPr>
          <a:xfrm>
            <a:off x="6591240" y="5514840"/>
            <a:ext cx="114300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45"/>
          <p:cNvSpPr/>
          <p:nvPr/>
        </p:nvSpPr>
        <p:spPr>
          <a:xfrm>
            <a:off x="6591240" y="516564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6591240" y="52092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ce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23241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8"/>
          <p:cNvSpPr/>
          <p:nvPr/>
        </p:nvSpPr>
        <p:spPr>
          <a:xfrm>
            <a:off x="41529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9"/>
          <p:cNvSpPr/>
          <p:nvPr/>
        </p:nvSpPr>
        <p:spPr>
          <a:xfrm>
            <a:off x="5981760" y="521028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ynamic Storage-Allocation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51040" y="1914480"/>
            <a:ext cx="6713280" cy="22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mall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 that is big enough; must search entire list, unless ordered by 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small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st-f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locat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arg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ole; must also search entire list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 the largest leftover h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49880" y="1377000"/>
            <a:ext cx="655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satisfy a request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om a list of free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2120" y="4332960"/>
            <a:ext cx="6530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-fit and best-fit better than worst-fit in terms of speed and storage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a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otal memory space exists to satisfy a request, but it is not contigu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ocated memory may be slightly larger than requested memory; this size difference is memory internal to a partition, but not being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external fragmentation b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uffle memory contents to place all free memory together in one large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ction is possib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relocation is dynamic, and is done at execu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ch job in memory while it is involved in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I/O only into OS bu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8:  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app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guous Memory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The Intel Pen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8720" y="1449360"/>
            <a:ext cx="68835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space of a process can be noncontiguous; process is allocated physical memory whenever the latter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physical memory into fixed-sized blocks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ize is power of 2, between 512 bytes and 8,192 by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logical memory into blocks of same siz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track of all free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run a program of siz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ges, need to fi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 frames and loa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a page table to translate logical to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fra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 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6895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 generated by CPU is divided into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number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used as an index into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ag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ab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hich contains base address of each page in physical memor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ge offset (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combined with base address to define the physical memory address that is sent to the memory un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given logical address space 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page size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28"/>
          <p:cNvSpPr/>
          <p:nvPr/>
        </p:nvSpPr>
        <p:spPr>
          <a:xfrm>
            <a:off x="2592360" y="3913200"/>
            <a:ext cx="3105000" cy="438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030"/>
          <p:cNvSpPr/>
          <p:nvPr/>
        </p:nvSpPr>
        <p:spPr>
          <a:xfrm>
            <a:off x="4226040" y="3570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31"/>
          <p:cNvSpPr/>
          <p:nvPr/>
        </p:nvSpPr>
        <p:spPr>
          <a:xfrm>
            <a:off x="2436840" y="348084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32"/>
          <p:cNvSpPr/>
          <p:nvPr/>
        </p:nvSpPr>
        <p:spPr>
          <a:xfrm>
            <a:off x="4299480" y="349344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3"/>
          <p:cNvSpPr/>
          <p:nvPr/>
        </p:nvSpPr>
        <p:spPr>
          <a:xfrm>
            <a:off x="3148200" y="3939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35"/>
          <p:cNvSpPr/>
          <p:nvPr/>
        </p:nvSpPr>
        <p:spPr>
          <a:xfrm>
            <a:off x="4597560" y="396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6"/>
          <p:cNvSpPr/>
          <p:nvPr/>
        </p:nvSpPr>
        <p:spPr>
          <a:xfrm>
            <a:off x="2952720" y="4386960"/>
            <a:ext cx="7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-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38"/>
          <p:cNvSpPr/>
          <p:nvPr/>
        </p:nvSpPr>
        <p:spPr>
          <a:xfrm>
            <a:off x="4549680" y="43966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rcRect l="591" t="10750" r="620" b="11163"/>
          <a:stretch/>
        </p:blipFill>
        <p:spPr>
          <a:xfrm>
            <a:off x="1233360" y="1506600"/>
            <a:ext cx="7251840" cy="42987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Paging Model of Logical and Physical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2" name="Picture 1029" descr=""/>
          <p:cNvPicPr/>
          <p:nvPr/>
        </p:nvPicPr>
        <p:blipFill>
          <a:blip r:embed="rId1"/>
          <a:srcRect l="10392" t="620" r="10613" b="950"/>
          <a:stretch/>
        </p:blipFill>
        <p:spPr>
          <a:xfrm>
            <a:off x="2225520" y="1824120"/>
            <a:ext cx="4429440" cy="4138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528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rcRect l="19979" t="640" r="20580" b="640"/>
          <a:stretch/>
        </p:blipFill>
        <p:spPr>
          <a:xfrm>
            <a:off x="2664000" y="1411200"/>
            <a:ext cx="3617640" cy="450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95" name="Text Box 5"/>
          <p:cNvSpPr/>
          <p:nvPr/>
        </p:nvSpPr>
        <p:spPr>
          <a:xfrm>
            <a:off x="2506680" y="6107040"/>
            <a:ext cx="40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-byte memory and 4-byte p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 Fram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940400" y="600156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354280" y="59634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1"/>
          <a:srcRect l="698" t="2476" r="698" b="3086"/>
          <a:stretch/>
        </p:blipFill>
        <p:spPr>
          <a:xfrm>
            <a:off x="1590840" y="1535040"/>
            <a:ext cx="5929200" cy="4257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of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66754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table is kep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-table base register (PTB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s to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ge-table length register (PRL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size of the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is scheme every data/instruction access requires two memory accesses.  One for the page table and one for the data/instr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emory access problem can be solved by the use of a special fast-lookup hardware cach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ve memor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lation look-aside buffers (TLB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TLBs sto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ddress-space identifiers (ASIDs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each TLB entry – uniquely identifies each process to provide address-space protection for tha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ssociative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1760" y="13060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memory – parallel 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translation (p, 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 is in associative register, get frame #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wise get frame # from page tabl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052"/>
          <p:cNvSpPr/>
          <p:nvPr/>
        </p:nvSpPr>
        <p:spPr>
          <a:xfrm>
            <a:off x="3059280" y="2104920"/>
            <a:ext cx="2895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053"/>
          <p:cNvSpPr/>
          <p:nvPr/>
        </p:nvSpPr>
        <p:spPr>
          <a:xfrm>
            <a:off x="4506840" y="164772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054"/>
          <p:cNvSpPr/>
          <p:nvPr/>
        </p:nvSpPr>
        <p:spPr>
          <a:xfrm>
            <a:off x="3059280" y="24098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055"/>
          <p:cNvSpPr/>
          <p:nvPr/>
        </p:nvSpPr>
        <p:spPr>
          <a:xfrm>
            <a:off x="3059280" y="271476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056"/>
          <p:cNvSpPr/>
          <p:nvPr/>
        </p:nvSpPr>
        <p:spPr>
          <a:xfrm>
            <a:off x="3059280" y="309564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057"/>
          <p:cNvSpPr/>
          <p:nvPr/>
        </p:nvSpPr>
        <p:spPr>
          <a:xfrm>
            <a:off x="33638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058"/>
          <p:cNvSpPr/>
          <p:nvPr/>
        </p:nvSpPr>
        <p:spPr>
          <a:xfrm>
            <a:off x="4735440" y="1724040"/>
            <a:ext cx="1295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 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Hardware With TLB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2" name="Picture 4" descr=""/>
          <p:cNvPicPr/>
          <p:nvPr/>
        </p:nvPicPr>
        <p:blipFill>
          <a:blip r:embed="rId1"/>
          <a:srcRect l="1292" t="1039" r="1292" b="684"/>
          <a:stretch/>
        </p:blipFill>
        <p:spPr>
          <a:xfrm>
            <a:off x="1658880" y="1670040"/>
            <a:ext cx="5770800" cy="4365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ffective Access Ti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920" y="1353960"/>
            <a:ext cx="667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e Lookup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emory cycle time is 1 micro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– percentage of times that a page number is found in the associative registers; ratio related to number of associative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t ratio =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ective Access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T = (1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(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+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2063880"/>
                <a:tab algn="l" pos="2568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425600"/>
            <a:ext cx="665172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various ways of organizing memory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various memory-management techniques, including paging and seg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rovide a detailed description of the Intel Pentium, which supports both pure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Prot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873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protection implemented by associating protection bit with each fr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id-inval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attached to each entry in the page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” indicates that the associated page is in the process’ logical address space, and is thus a legal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” indicates that the page is not in the process’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22320" y="0"/>
            <a:ext cx="81612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alid (v) or Invalid (i) Bit In A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rcRect l="7302" t="600" r="7302" b="600"/>
          <a:stretch/>
        </p:blipFill>
        <p:spPr>
          <a:xfrm>
            <a:off x="1836720" y="1494000"/>
            <a:ext cx="5329080" cy="462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821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copy of read-only (reentrant) code shared among processes (i.e., text editors, compilers, window system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code must appear in same location in the logical address space of all proces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vate code and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keeps a separate copy of the code an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ges for the private code and data can appear anywhere in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ared Pages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2" name="Picture 3" descr=""/>
          <p:cNvPicPr/>
          <p:nvPr/>
        </p:nvPicPr>
        <p:blipFill>
          <a:blip r:embed="rId1"/>
          <a:srcRect l="13408" t="1319" r="13441" b="1777"/>
          <a:stretch/>
        </p:blipFill>
        <p:spPr>
          <a:xfrm>
            <a:off x="2301840" y="1395360"/>
            <a:ext cx="4792680" cy="47610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ructure of the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archical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h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ted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erarchical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 up the logical address space into multiple page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mple technique is a two-level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e-Table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rcRect l="14991" t="847" r="15006" b="1043"/>
          <a:stretch/>
        </p:blipFill>
        <p:spPr>
          <a:xfrm>
            <a:off x="2379600" y="1630440"/>
            <a:ext cx="4305240" cy="4525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wo-Level Paging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81080" y="1533600"/>
            <a:ext cx="710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ogical address (on 32-bit machine with 1K page size) is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number consisting of 22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ge offset consisting of 10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ce the page table is paged, the page number is further divided i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2-bit page numb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59080" indent="-253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10-bit page off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us, a logical address is as follows: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an index into the outer page table, an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displacement within the page of the outer page 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067200" y="4387680"/>
            <a:ext cx="3105000" cy="438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>
            <a:off x="3905280" y="44258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>
            <a:off x="4700520" y="404496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911680" y="3955320"/>
            <a:ext cx="152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774320" y="396792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 off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3299760" y="4395240"/>
            <a:ext cx="335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4078080" y="4387320"/>
            <a:ext cx="38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5072400" y="4444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3371760" y="506340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403848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5105520" y="50349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71040" y="2426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ress-Translation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3" name="Picture 1033" descr=""/>
          <p:cNvPicPr/>
          <p:nvPr/>
        </p:nvPicPr>
        <p:blipFill>
          <a:blip r:embed="rId1"/>
          <a:srcRect l="509" t="22415" r="509" b="22415"/>
          <a:stretch/>
        </p:blipFill>
        <p:spPr>
          <a:xfrm>
            <a:off x="1349280" y="2349360"/>
            <a:ext cx="6265800" cy="2619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-level Paging Schem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rcRect l="698" t="38264" r="458" b="37978"/>
          <a:stretch/>
        </p:blipFill>
        <p:spPr>
          <a:xfrm>
            <a:off x="1147680" y="4275000"/>
            <a:ext cx="6675480" cy="120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46" name="Picture 5" descr=""/>
          <p:cNvPicPr/>
          <p:nvPr/>
        </p:nvPicPr>
        <p:blipFill>
          <a:blip r:embed="rId2"/>
          <a:srcRect l="646" t="35192" r="646" b="35502"/>
          <a:stretch/>
        </p:blipFill>
        <p:spPr>
          <a:xfrm>
            <a:off x="1168560" y="1871640"/>
            <a:ext cx="6065640" cy="1351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0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must be brought (from disk)  into memory and placed within a process for it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and registers are only storage CPU can acces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 access in one CPU clock (or l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memory can take many cy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ts between main memory and 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of memory required to ensure correct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address spaces &gt; 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page number is hashed into a page table. This page table contains a chain of elements hashing to the same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page numbers are compared in this chain searching for a match. If a match is found, the corresponding physical frame is extra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ash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rcRect l="439" t="14205" r="668" b="13900"/>
          <a:stretch/>
        </p:blipFill>
        <p:spPr>
          <a:xfrm>
            <a:off x="1198440" y="1906560"/>
            <a:ext cx="6591600" cy="3594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19160" y="1420560"/>
            <a:ext cx="651672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entry for each real page of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ry consists of the virtual address of the page stored in that real memory location, with information about the process that owns that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reases memory needed to store each page table, but increases time needed to search the table when a page reference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hash table to limit the search to one — or at most a few — page-table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verted Page Tabl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rcRect l="705" t="4346" r="705" b="4671"/>
          <a:stretch/>
        </p:blipFill>
        <p:spPr>
          <a:xfrm>
            <a:off x="1668600" y="1900080"/>
            <a:ext cx="5654520" cy="391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scheme that supports user view of mem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gram is a collection of segments.  A segment is a logical unit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 progr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du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variables, global variab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blo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0"/>
                <a:tab algn="l" pos="1833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mbol table, ar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’s View of a Progra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rcRect l="21813" t="630" r="21813" b="965"/>
          <a:stretch/>
        </p:blipFill>
        <p:spPr>
          <a:xfrm>
            <a:off x="2836800" y="1784520"/>
            <a:ext cx="3232080" cy="4230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ical View of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60" name="Oval 3"/>
          <p:cNvSpPr/>
          <p:nvPr/>
        </p:nvSpPr>
        <p:spPr>
          <a:xfrm>
            <a:off x="1371600" y="1171440"/>
            <a:ext cx="2895480" cy="39625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905120" y="1857240"/>
            <a:ext cx="9903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752480" y="3000240"/>
            <a:ext cx="9144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3200400" y="2467080"/>
            <a:ext cx="91440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3124080" y="3457440"/>
            <a:ext cx="9144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24"/>
          <p:cNvGrpSpPr/>
          <p:nvPr/>
        </p:nvGrpSpPr>
        <p:grpSpPr>
          <a:xfrm>
            <a:off x="5638680" y="1171440"/>
            <a:ext cx="1143000" cy="3962160"/>
            <a:chOff x="5638680" y="1171440"/>
            <a:chExt cx="1143000" cy="3962160"/>
          </a:xfrm>
        </p:grpSpPr>
        <p:grpSp>
          <p:nvGrpSpPr>
            <p:cNvPr id="266" name="Group 11"/>
            <p:cNvGrpSpPr/>
            <p:nvPr/>
          </p:nvGrpSpPr>
          <p:grpSpPr>
            <a:xfrm>
              <a:off x="5638680" y="1171440"/>
              <a:ext cx="1143000" cy="1066680"/>
              <a:chOff x="5638680" y="1171440"/>
              <a:chExt cx="1143000" cy="1066680"/>
            </a:xfrm>
          </p:grpSpPr>
          <p:sp>
            <p:nvSpPr>
              <p:cNvPr id="267" name="Rectangle 8"/>
              <p:cNvSpPr/>
              <p:nvPr/>
            </p:nvSpPr>
            <p:spPr>
              <a:xfrm>
                <a:off x="5638680" y="1171440"/>
                <a:ext cx="1143000" cy="1066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Line 9"/>
              <p:cNvSpPr/>
              <p:nvPr/>
            </p:nvSpPr>
            <p:spPr>
              <a:xfrm>
                <a:off x="5638680" y="170460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Group 12"/>
            <p:cNvGrpSpPr/>
            <p:nvPr/>
          </p:nvGrpSpPr>
          <p:grpSpPr>
            <a:xfrm>
              <a:off x="5638680" y="2238120"/>
              <a:ext cx="1143000" cy="1066680"/>
              <a:chOff x="5638680" y="2238120"/>
              <a:chExt cx="1143000" cy="1066680"/>
            </a:xfrm>
          </p:grpSpPr>
          <p:sp>
            <p:nvSpPr>
              <p:cNvPr id="270" name="Rectangle 13"/>
              <p:cNvSpPr/>
              <p:nvPr/>
            </p:nvSpPr>
            <p:spPr>
              <a:xfrm>
                <a:off x="5638680" y="2238120"/>
                <a:ext cx="1143000" cy="10666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Line 14"/>
              <p:cNvSpPr/>
              <p:nvPr/>
            </p:nvSpPr>
            <p:spPr>
              <a:xfrm>
                <a:off x="5638680" y="277128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Text Box 15"/>
            <p:cNvSpPr/>
            <p:nvPr/>
          </p:nvSpPr>
          <p:spPr>
            <a:xfrm>
              <a:off x="6018480" y="1292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16"/>
            <p:cNvSpPr/>
            <p:nvPr/>
          </p:nvSpPr>
          <p:spPr>
            <a:xfrm>
              <a:off x="6021720" y="178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7"/>
            <p:cNvSpPr/>
            <p:nvPr/>
          </p:nvSpPr>
          <p:spPr>
            <a:xfrm>
              <a:off x="5638680" y="3304800"/>
              <a:ext cx="1143000" cy="1447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8"/>
            <p:cNvSpPr/>
            <p:nvPr/>
          </p:nvSpPr>
          <p:spPr>
            <a:xfrm>
              <a:off x="5638680" y="4752720"/>
              <a:ext cx="1143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19"/>
            <p:cNvSpPr/>
            <p:nvPr/>
          </p:nvSpPr>
          <p:spPr>
            <a:xfrm>
              <a:off x="5638680" y="36860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20"/>
            <p:cNvSpPr/>
            <p:nvPr/>
          </p:nvSpPr>
          <p:spPr>
            <a:xfrm>
              <a:off x="6021720" y="33501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21"/>
            <p:cNvSpPr/>
            <p:nvPr/>
          </p:nvSpPr>
          <p:spPr>
            <a:xfrm>
              <a:off x="6021720" y="4080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2"/>
          <p:cNvSpPr/>
          <p:nvPr/>
        </p:nvSpPr>
        <p:spPr>
          <a:xfrm>
            <a:off x="2024640" y="52556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sp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23"/>
          <p:cNvSpPr/>
          <p:nvPr/>
        </p:nvSpPr>
        <p:spPr>
          <a:xfrm>
            <a:off x="4886640" y="525564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mory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Archite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1477440"/>
            <a:ext cx="679104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ddress consists of a two tup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segment-number, offset&gt;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 tab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ps two-dimensional physical addresses; each table entry h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ntains the starting physical address where the segments reside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cifies the length of th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-table base register (STB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s to the segment table’s location 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gment-table length register (STL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number of segments used by a progra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1830240"/>
                <a:tab algn="ctr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number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legal if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Architectur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18640" y="1477800"/>
            <a:ext cx="665820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each entry in segment table associ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ation bit = 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lleg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/write/execute privile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ction bits associated with segments; code sharing occurs at seg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segments vary in length, memory allocation is a dynamic storage-allocation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gmentation example is shown in the following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egmentation Hardwa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rcRect l="458" t="3696" r="240" b="3696"/>
          <a:stretch/>
        </p:blipFill>
        <p:spPr>
          <a:xfrm>
            <a:off x="1574640" y="1727280"/>
            <a:ext cx="5935680" cy="4151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23096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se and Limit Regist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1760" y="1239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ir of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lim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gisters define the logical 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rcRect l="16726" t="876" r="16431" b="876"/>
          <a:stretch/>
        </p:blipFill>
        <p:spPr>
          <a:xfrm>
            <a:off x="3046320" y="2109960"/>
            <a:ext cx="3229200" cy="3558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88" name="Picture 4" descr=""/>
          <p:cNvPicPr/>
          <p:nvPr/>
        </p:nvPicPr>
        <p:blipFill>
          <a:blip r:embed="rId1"/>
          <a:srcRect l="7815" t="925" r="7815" b="1536"/>
          <a:stretch/>
        </p:blipFill>
        <p:spPr>
          <a:xfrm>
            <a:off x="2038320" y="1776240"/>
            <a:ext cx="4865760" cy="421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: The Intel Pentiu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both segmentation and segmentation with p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generates logic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o segmentation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produces linear addres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ar address given to paging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generates physical address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ing units form equivalent of M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63120" y="426960"/>
            <a:ext cx="807732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Logical to Physical Address Translation in Pentium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2" name="Picture 3" descr=""/>
          <p:cNvPicPr/>
          <p:nvPr/>
        </p:nvPicPr>
        <p:blipFill>
          <a:blip r:embed="rId1"/>
          <a:srcRect l="447" t="43230" r="679" b="42949"/>
          <a:stretch/>
        </p:blipFill>
        <p:spPr>
          <a:xfrm>
            <a:off x="628560" y="2239920"/>
            <a:ext cx="7894800" cy="827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pic>
        <p:nvPicPr>
          <p:cNvPr id="293" name="Picture 4" descr=""/>
          <p:cNvPicPr/>
          <p:nvPr/>
        </p:nvPicPr>
        <p:blipFill>
          <a:blip r:embed="rId2"/>
          <a:srcRect l="639" t="35571" r="661" b="35571"/>
          <a:stretch/>
        </p:blipFill>
        <p:spPr>
          <a:xfrm>
            <a:off x="1533600" y="4363920"/>
            <a:ext cx="5805360" cy="1273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l Pentium Seg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5" name="Picture 3" descr=""/>
          <p:cNvPicPr/>
          <p:nvPr/>
        </p:nvPicPr>
        <p:blipFill>
          <a:blip r:embed="rId1"/>
          <a:srcRect l="664" t="9657" r="664" b="10267"/>
          <a:stretch/>
        </p:blipFill>
        <p:spPr>
          <a:xfrm>
            <a:off x="1266840" y="1754280"/>
            <a:ext cx="6435720" cy="3917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entium Paging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7" name="Picture 3" descr=""/>
          <p:cNvPicPr/>
          <p:nvPr/>
        </p:nvPicPr>
        <p:blipFill>
          <a:blip r:embed="rId1"/>
          <a:srcRect l="13208" t="842" r="13208" b="842"/>
          <a:stretch/>
        </p:blipFill>
        <p:spPr>
          <a:xfrm>
            <a:off x="2100240" y="1509840"/>
            <a:ext cx="4794120" cy="4803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near Address in Linu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99" name="Picture 3" descr=""/>
          <p:cNvPicPr/>
          <p:nvPr/>
        </p:nvPicPr>
        <p:blipFill>
          <a:blip r:embed="rId1"/>
          <a:srcRect l="797" t="42782" r="897" b="42782"/>
          <a:stretch/>
        </p:blipFill>
        <p:spPr>
          <a:xfrm>
            <a:off x="1235160" y="2886120"/>
            <a:ext cx="6661080" cy="733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300" name="Text Box 4"/>
          <p:cNvSpPr/>
          <p:nvPr/>
        </p:nvSpPr>
        <p:spPr>
          <a:xfrm>
            <a:off x="1211400" y="1512720"/>
            <a:ext cx="58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ken into four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ree-level Paging in Linu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302" name="Picture 3" descr=""/>
          <p:cNvPicPr/>
          <p:nvPr/>
        </p:nvPicPr>
        <p:blipFill>
          <a:blip r:embed="rId1"/>
          <a:srcRect l="450" t="13280" r="450" b="13595"/>
          <a:stretch/>
        </p:blipFill>
        <p:spPr>
          <a:xfrm>
            <a:off x="1098720" y="1768320"/>
            <a:ext cx="6883200" cy="381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9440" y="307800"/>
            <a:ext cx="8134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inding of Instructions and Data to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47240" y="113976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binding of instructions and data to memory addresses can happen at three different s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ile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f memory location known a priori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generated; must recompile code if starting location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Must gene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ocatable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 memory location is not known at compil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Binding delayed until run time if the process can be moved during its execution from one memory segment to another.  Need hardware support for address maps (e.g., base and limit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ultistep Processing of a User Program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rcRect l="30186" t="1004" r="30392" b="660"/>
          <a:stretch/>
        </p:blipFill>
        <p:spPr>
          <a:xfrm>
            <a:off x="3200400" y="1438200"/>
            <a:ext cx="2552760" cy="4773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ogical vs. Physical Address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1377720"/>
            <a:ext cx="693720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cept of a logical address space that is bound to a separat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entral to proper 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generated by the CPU; also referred to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ddress seen by the memory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and physical addresses are the same in compile-time and load-time address-binding schemes; logical (virtual) and physical addresses differ in execution-time address-binding sc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-Management Unit (</a:t>
            </a: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MMU</a:t>
            </a: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137772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 device that maps virtual to physical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MU scheme, the value in the relocation register is added to every address generated by a user process at the time it is sent to memo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program deal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resses; it never se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hysical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/>
  <dc:description/>
  <dc:language>en-US</dc:language>
  <cp:lastModifiedBy>LOVE GOEL</cp:lastModifiedBy>
  <cp:lastPrinted>2001-06-14T19:17:20Z</cp:lastPrinted>
  <dcterms:modified xsi:type="dcterms:W3CDTF">2008-08-09T10:14:15Z</dcterms:modified>
  <cp:revision>0</cp:revision>
  <dc:subject/>
  <dc:title/>
</cp:coreProperties>
</file>