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5.png" ContentType="image/png"/>
  <Override PartName="/ppt/media/image28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127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7985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8269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127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7985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8077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27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7985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269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27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7985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8077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4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4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spcBef>
                <a:spcPts val="14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85640" indent="-221400">
              <a:spcBef>
                <a:spcPts val="1400"/>
              </a:spcBef>
              <a:buClr>
                <a:srgbClr val="ff99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18280" indent="-221400">
              <a:spcBef>
                <a:spcPts val="1400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3"/>
          <p:cNvSpPr/>
          <p:nvPr/>
        </p:nvSpPr>
        <p:spPr>
          <a:xfrm>
            <a:off x="4041000" y="6613560"/>
            <a:ext cx="89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9.</a:t>
            </a:r>
            <a:fld id="{D9721CCF-EE1D-4D93-BC55-0006FDAADB94}" type="slidenum">
              <a:rPr b="1" lang="en-US" sz="1000" spc="-1" strike="noStrike">
                <a:solidFill>
                  <a:srgbClr val="9933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Freeform 5"/>
          <p:cNvSpPr/>
          <p:nvPr/>
        </p:nvSpPr>
        <p:spPr>
          <a:xfrm flipV="1" rot="8361600">
            <a:off x="1609200" y="4961520"/>
            <a:ext cx="9720" cy="1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Freeform 6"/>
          <p:cNvSpPr/>
          <p:nvPr/>
        </p:nvSpPr>
        <p:spPr>
          <a:xfrm flipV="1" rot="10665600">
            <a:off x="1188720" y="4204440"/>
            <a:ext cx="4680" cy="1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5164200" y="4206960"/>
            <a:ext cx="792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6489720" y="6588000"/>
            <a:ext cx="27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Silberschatz, Galvin and Gagne ©2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6120" y="6613560"/>
            <a:ext cx="344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Operating System Concepts – 7</a:t>
            </a:r>
            <a:r>
              <a:rPr b="1" lang="en-US" sz="1000" spc="-1" strike="noStrike" baseline="30000">
                <a:solidFill>
                  <a:srgbClr val="993300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 Edition, Feb 22, 2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-1658880" y="1109520"/>
            <a:ext cx="4680" cy="1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Freeform 11"/>
          <p:cNvSpPr/>
          <p:nvPr/>
        </p:nvSpPr>
        <p:spPr>
          <a:xfrm>
            <a:off x="-898560" y="1170000"/>
            <a:ext cx="3240" cy="1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2"/>
          <p:cNvSpPr/>
          <p:nvPr/>
        </p:nvSpPr>
        <p:spPr>
          <a:xfrm>
            <a:off x="-1479600" y="423720"/>
            <a:ext cx="18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Freeform 13"/>
          <p:cNvSpPr/>
          <p:nvPr/>
        </p:nvSpPr>
        <p:spPr>
          <a:xfrm>
            <a:off x="-1467000" y="888840"/>
            <a:ext cx="6480" cy="1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Freeform 14"/>
          <p:cNvSpPr/>
          <p:nvPr/>
        </p:nvSpPr>
        <p:spPr>
          <a:xfrm>
            <a:off x="-1639800" y="1144440"/>
            <a:ext cx="1440" cy="6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Freeform 15"/>
          <p:cNvSpPr/>
          <p:nvPr/>
        </p:nvSpPr>
        <p:spPr>
          <a:xfrm>
            <a:off x="-1247760" y="1146240"/>
            <a:ext cx="4680" cy="7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Freeform 16"/>
          <p:cNvSpPr/>
          <p:nvPr/>
        </p:nvSpPr>
        <p:spPr>
          <a:xfrm>
            <a:off x="-1101600" y="1228680"/>
            <a:ext cx="1440" cy="6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Freeform 17"/>
          <p:cNvSpPr/>
          <p:nvPr/>
        </p:nvSpPr>
        <p:spPr>
          <a:xfrm>
            <a:off x="-1303200" y="1270080"/>
            <a:ext cx="12600" cy="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Freeform 18"/>
          <p:cNvSpPr/>
          <p:nvPr/>
        </p:nvSpPr>
        <p:spPr>
          <a:xfrm>
            <a:off x="1176480" y="885960"/>
            <a:ext cx="468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" name="Picture 19" descr="Slide_iconblue_pc"/>
          <p:cNvPicPr/>
          <p:nvPr/>
        </p:nvPicPr>
        <p:blipFill>
          <a:blip r:embed="rId2"/>
          <a:stretch/>
        </p:blipFill>
        <p:spPr>
          <a:xfrm>
            <a:off x="8118360" y="6010200"/>
            <a:ext cx="1011240" cy="611280"/>
          </a:xfrm>
          <a:prstGeom prst="rect">
            <a:avLst/>
          </a:prstGeom>
          <a:ln w="0">
            <a:noFill/>
          </a:ln>
        </p:spPr>
      </p:pic>
      <p:pic>
        <p:nvPicPr>
          <p:cNvPr id="18" name="Picture 20" descr="Slide_iconvertical"/>
          <p:cNvPicPr/>
          <p:nvPr/>
        </p:nvPicPr>
        <p:blipFill>
          <a:blip r:embed="rId3"/>
          <a:stretch/>
        </p:blipFill>
        <p:spPr>
          <a:xfrm>
            <a:off x="0" y="0"/>
            <a:ext cx="600120" cy="110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6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Slide_iconblue_pc"/>
          <p:cNvPicPr/>
          <p:nvPr/>
        </p:nvPicPr>
        <p:blipFill>
          <a:blip r:embed="rId2"/>
          <a:stretch/>
        </p:blipFill>
        <p:spPr>
          <a:xfrm>
            <a:off x="3179880" y="4829040"/>
            <a:ext cx="2349360" cy="141948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  <p:pic>
        <p:nvPicPr>
          <p:cNvPr id="57" name="Picture 8" descr="BD21332_"/>
          <p:cNvPicPr/>
          <p:nvPr/>
        </p:nvPicPr>
        <p:blipFill>
          <a:blip r:embed="rId3"/>
          <a:stretch/>
        </p:blipFill>
        <p:spPr>
          <a:xfrm>
            <a:off x="1539720" y="3603600"/>
            <a:ext cx="6035760" cy="3430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4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4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spcBef>
                <a:spcPts val="14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85640" indent="-221400">
              <a:spcBef>
                <a:spcPts val="1400"/>
              </a:spcBef>
              <a:buClr>
                <a:srgbClr val="ff99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18280" indent="-221400">
              <a:spcBef>
                <a:spcPts val="1400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hapter 9:  Virtual Memory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Valid-Invalid Bi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1960" y="1282320"/>
            <a:ext cx="72453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each page table entry a valid–invalid bit is associate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-memory,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ot-in-memor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ly valid–invalid bit is set to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i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all e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 of a page table snapshot: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uring address translation, if valid–invalid bit in page table ent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age fa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2951280" y="2867040"/>
            <a:ext cx="1877760" cy="26668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5"/>
          <p:cNvSpPr/>
          <p:nvPr/>
        </p:nvSpPr>
        <p:spPr>
          <a:xfrm>
            <a:off x="2901960" y="31510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6"/>
          <p:cNvSpPr/>
          <p:nvPr/>
        </p:nvSpPr>
        <p:spPr>
          <a:xfrm>
            <a:off x="2901960" y="34560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7"/>
          <p:cNvSpPr/>
          <p:nvPr/>
        </p:nvSpPr>
        <p:spPr>
          <a:xfrm>
            <a:off x="2901960" y="376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8"/>
          <p:cNvSpPr/>
          <p:nvPr/>
        </p:nvSpPr>
        <p:spPr>
          <a:xfrm>
            <a:off x="2901960" y="4065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0"/>
          <p:cNvSpPr/>
          <p:nvPr/>
        </p:nvSpPr>
        <p:spPr>
          <a:xfrm>
            <a:off x="2901960" y="43704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1"/>
          <p:cNvSpPr/>
          <p:nvPr/>
        </p:nvSpPr>
        <p:spPr>
          <a:xfrm>
            <a:off x="2901960" y="49276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2"/>
          <p:cNvSpPr/>
          <p:nvPr/>
        </p:nvSpPr>
        <p:spPr>
          <a:xfrm>
            <a:off x="2901960" y="5208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3"/>
          <p:cNvSpPr/>
          <p:nvPr/>
        </p:nvSpPr>
        <p:spPr>
          <a:xfrm>
            <a:off x="4349880" y="254160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4"/>
          <p:cNvSpPr/>
          <p:nvPr/>
        </p:nvSpPr>
        <p:spPr>
          <a:xfrm>
            <a:off x="4428000" y="2817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5"/>
          <p:cNvSpPr/>
          <p:nvPr/>
        </p:nvSpPr>
        <p:spPr>
          <a:xfrm>
            <a:off x="4429440" y="3117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6"/>
          <p:cNvSpPr/>
          <p:nvPr/>
        </p:nvSpPr>
        <p:spPr>
          <a:xfrm>
            <a:off x="4428000" y="3417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7"/>
          <p:cNvSpPr/>
          <p:nvPr/>
        </p:nvSpPr>
        <p:spPr>
          <a:xfrm>
            <a:off x="4429440" y="3745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8"/>
          <p:cNvSpPr/>
          <p:nvPr/>
        </p:nvSpPr>
        <p:spPr>
          <a:xfrm>
            <a:off x="4458960" y="4064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9"/>
          <p:cNvSpPr/>
          <p:nvPr/>
        </p:nvSpPr>
        <p:spPr>
          <a:xfrm>
            <a:off x="4458960" y="49032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0"/>
          <p:cNvSpPr/>
          <p:nvPr/>
        </p:nvSpPr>
        <p:spPr>
          <a:xfrm>
            <a:off x="4458960" y="5207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1"/>
          <p:cNvSpPr/>
          <p:nvPr/>
        </p:nvSpPr>
        <p:spPr>
          <a:xfrm>
            <a:off x="3404880" y="44460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2"/>
          <p:cNvSpPr/>
          <p:nvPr/>
        </p:nvSpPr>
        <p:spPr>
          <a:xfrm>
            <a:off x="3257280" y="2540520"/>
            <a:ext cx="84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 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3"/>
          <p:cNvSpPr/>
          <p:nvPr/>
        </p:nvSpPr>
        <p:spPr>
          <a:xfrm>
            <a:off x="4371480" y="2540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id-invalid b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4"/>
          <p:cNvSpPr/>
          <p:nvPr/>
        </p:nvSpPr>
        <p:spPr>
          <a:xfrm>
            <a:off x="3451320" y="5512320"/>
            <a:ext cx="101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46200" y="0"/>
            <a:ext cx="8361360" cy="84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Page Table When Some Pages Are Not in Main Memory</a:t>
            </a:r>
            <a:endParaRPr b="1" lang="en-US" sz="24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rcRect l="11794" t="635" r="12020" b="1299"/>
          <a:stretch/>
        </p:blipFill>
        <p:spPr>
          <a:xfrm>
            <a:off x="2332080" y="1569960"/>
            <a:ext cx="4829040" cy="466272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age Faul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1960" y="1396800"/>
            <a:ext cx="6448320" cy="41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re is a reference to a page, first reference to that page will trap to operating syst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fa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 system looks at another table to deci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 referenc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b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st not in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 empty 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ap page into 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t 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validation bit =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art the instruction that caused the page fa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age Fault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1600" y="1282320"/>
            <a:ext cx="687996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tart instr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ock move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 increment/decrement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3381480" y="2131920"/>
            <a:ext cx="91440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3895560" y="255276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6"/>
          <p:cNvSpPr/>
          <p:nvPr/>
        </p:nvSpPr>
        <p:spPr>
          <a:xfrm>
            <a:off x="4289400" y="1965240"/>
            <a:ext cx="533520" cy="5335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teps in Handling a Page Faul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rcRect l="5667" t="600" r="6113" b="911"/>
          <a:stretch/>
        </p:blipFill>
        <p:spPr>
          <a:xfrm>
            <a:off x="1619280" y="1060560"/>
            <a:ext cx="6307200" cy="527976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erformance of Demand Pag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21654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Fault Rate 0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21654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0 no page faul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21654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, every reference is a faul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21654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ective Access Time (E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21654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T = (1 –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x memory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21654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page fault over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21654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swap page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21654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swap page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21654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restart over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21654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Demand Paging Exampl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77480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 access time = 200 nano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77480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77480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page-fault service time = 8 millisecond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77480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T = (1 – p) x 200 + p (8 millisecond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77480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(1 – p  x 200 + p x 8,000,0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77480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200 + p x 7,999,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77480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77480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one access out of 1,000 causes a page fault,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77480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T = 8.2 micro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77480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slowdown by a factor of 40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rocess Crea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memory allows other benefits during process creatio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Copy-on-Writ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Memory-Mapped Files (la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opy-on-Writ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-on-Write (COW) allows both parent and child processes to initiall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ha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same pages in memory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either process modifies a shared page, only then is the page cop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W allows more efficient process creation as only modified pages are cop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 pages are allocated from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o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zeroed-out p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Before Process 1 Modifies Page C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rcRect l="676" t="23744" r="783" b="23330"/>
          <a:stretch/>
        </p:blipFill>
        <p:spPr>
          <a:xfrm>
            <a:off x="399960" y="2241720"/>
            <a:ext cx="8248680" cy="352404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hapter 9:  Virtual Memory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1600" y="1282320"/>
            <a:ext cx="73515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mand Pa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-on-Wr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Replac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cation of Fram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as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-Mapped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cating Kernel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Consid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-System 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After Process 1 Modifies Page C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rcRect l="676" t="23808" r="886" b="23808"/>
          <a:stretch/>
        </p:blipFill>
        <p:spPr>
          <a:xfrm>
            <a:off x="422280" y="1724040"/>
            <a:ext cx="8116920" cy="324000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What happens if there is no free frame?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26560" y="1425600"/>
            <a:ext cx="6683400" cy="45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replacement – find some page in memory, but not really in use, swap it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 – want an algorithm which will result in minimum number of page fa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page may be brought into memory several 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age Replacemen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ent over-allocation of memory by modifying page-fault service routine to include page replaceme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ify (dirty) bit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reduce overhead of page transfers – only modified pages are written to dis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replacement completes separation between logical memory and physical memory – large virtual memory can be provided on a smaller physical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Need For Page Replacemen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rcRect l="701" t="2161" r="701" b="2161"/>
          <a:stretch/>
        </p:blipFill>
        <p:spPr>
          <a:xfrm>
            <a:off x="782640" y="1119240"/>
            <a:ext cx="6958080" cy="506232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Basic Page Replacemen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1600" y="1440000"/>
            <a:ext cx="6329160" cy="44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788"/>
              </a:spcBef>
              <a:buClr>
                <a:srgbClr val="993300"/>
              </a:buClr>
              <a:buSzPct val="9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he location of the desired page on dis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788"/>
              </a:spcBef>
              <a:buClr>
                <a:srgbClr val="993300"/>
              </a:buClr>
              <a:buSzPct val="9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a free frame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-  If there is a free frame, use i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-  If there is no free frame, use a page replacem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orithm to select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cti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ram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788"/>
              </a:spcBef>
              <a:buClr>
                <a:srgbClr val="993300"/>
              </a:buClr>
              <a:buSzPct val="9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ng  the desired page into the (newly) free frame; update the page and frame tabl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788"/>
              </a:spcBef>
              <a:buClr>
                <a:srgbClr val="993300"/>
              </a:buClr>
              <a:buSzPct val="9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art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age Replacemen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70" name="Picture 4" descr=""/>
          <p:cNvPicPr/>
          <p:nvPr/>
        </p:nvPicPr>
        <p:blipFill>
          <a:blip r:embed="rId1"/>
          <a:srcRect l="694" t="1536" r="694" b="1536"/>
          <a:stretch/>
        </p:blipFill>
        <p:spPr>
          <a:xfrm>
            <a:off x="1514520" y="1668600"/>
            <a:ext cx="5932440" cy="43732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age Replacement Algorithm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26560" y="1396800"/>
            <a:ext cx="57690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ctr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nt lowest page-fault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ctr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ctr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e algorithm by running it on a particular string of memory references (reference string) and computing the number of page faults on that 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ctr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ctr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ll our examples, the reference string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ctr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ctr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, 2, 3, 4, 1, 2, 5, 1, 2, 3, 4,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Graph of Page Faults Versus The Number of Frames</a:t>
            </a:r>
            <a:endParaRPr b="1" lang="en-US" sz="24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rcRect l="495" t="11266" r="1244" b="11611"/>
          <a:stretch/>
        </p:blipFill>
        <p:spPr>
          <a:xfrm>
            <a:off x="1386000" y="1897200"/>
            <a:ext cx="6060960" cy="35668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First-In-First-Out (FIFO) Algorithm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1960" y="1153800"/>
            <a:ext cx="702936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tring: 1, 2, 3, 4, 1, 2, 5, 1, 2, 3, 4,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 frames (3 pages can be in memory at a time per proc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 frames</a:t>
            </a:r>
            <a:br>
              <a:rPr sz="16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lady’s Anomaly: more fram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ore page fa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3441600" y="2225520"/>
            <a:ext cx="38124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3441600" y="2682720"/>
            <a:ext cx="38124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3441600" y="3139920"/>
            <a:ext cx="38124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3056400" y="225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3056400" y="2701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3056400" y="317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3900960" y="229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1"/>
          <p:cNvSpPr/>
          <p:nvPr/>
        </p:nvSpPr>
        <p:spPr>
          <a:xfrm>
            <a:off x="3900960" y="2739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2"/>
          <p:cNvSpPr/>
          <p:nvPr/>
        </p:nvSpPr>
        <p:spPr>
          <a:xfrm>
            <a:off x="3900960" y="3215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3"/>
          <p:cNvSpPr/>
          <p:nvPr/>
        </p:nvSpPr>
        <p:spPr>
          <a:xfrm>
            <a:off x="4281840" y="229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4"/>
          <p:cNvSpPr/>
          <p:nvPr/>
        </p:nvSpPr>
        <p:spPr>
          <a:xfrm>
            <a:off x="4281840" y="2739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5"/>
          <p:cNvSpPr/>
          <p:nvPr/>
        </p:nvSpPr>
        <p:spPr>
          <a:xfrm>
            <a:off x="4281840" y="3215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6"/>
          <p:cNvSpPr/>
          <p:nvPr/>
        </p:nvSpPr>
        <p:spPr>
          <a:xfrm>
            <a:off x="4739760" y="273924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 page fa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7"/>
          <p:cNvSpPr/>
          <p:nvPr/>
        </p:nvSpPr>
        <p:spPr>
          <a:xfrm>
            <a:off x="3409920" y="3949560"/>
            <a:ext cx="38088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8"/>
          <p:cNvSpPr/>
          <p:nvPr/>
        </p:nvSpPr>
        <p:spPr>
          <a:xfrm>
            <a:off x="3409920" y="4406760"/>
            <a:ext cx="38088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9"/>
          <p:cNvSpPr/>
          <p:nvPr/>
        </p:nvSpPr>
        <p:spPr>
          <a:xfrm>
            <a:off x="3409920" y="4863960"/>
            <a:ext cx="38088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0"/>
          <p:cNvSpPr/>
          <p:nvPr/>
        </p:nvSpPr>
        <p:spPr>
          <a:xfrm>
            <a:off x="3024360" y="3982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1"/>
          <p:cNvSpPr/>
          <p:nvPr/>
        </p:nvSpPr>
        <p:spPr>
          <a:xfrm>
            <a:off x="3024360" y="4425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2"/>
          <p:cNvSpPr/>
          <p:nvPr/>
        </p:nvSpPr>
        <p:spPr>
          <a:xfrm>
            <a:off x="3024360" y="4901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3"/>
          <p:cNvSpPr/>
          <p:nvPr/>
        </p:nvSpPr>
        <p:spPr>
          <a:xfrm>
            <a:off x="3868920" y="4020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4"/>
          <p:cNvSpPr/>
          <p:nvPr/>
        </p:nvSpPr>
        <p:spPr>
          <a:xfrm>
            <a:off x="3868920" y="4463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5"/>
          <p:cNvSpPr/>
          <p:nvPr/>
        </p:nvSpPr>
        <p:spPr>
          <a:xfrm>
            <a:off x="3868920" y="4939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6"/>
          <p:cNvSpPr/>
          <p:nvPr/>
        </p:nvSpPr>
        <p:spPr>
          <a:xfrm>
            <a:off x="4250160" y="4020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8"/>
          <p:cNvSpPr/>
          <p:nvPr/>
        </p:nvSpPr>
        <p:spPr>
          <a:xfrm>
            <a:off x="4250160" y="448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9"/>
          <p:cNvSpPr/>
          <p:nvPr/>
        </p:nvSpPr>
        <p:spPr>
          <a:xfrm>
            <a:off x="4644720" y="446328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page fa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0"/>
          <p:cNvSpPr/>
          <p:nvPr/>
        </p:nvSpPr>
        <p:spPr>
          <a:xfrm>
            <a:off x="3409920" y="5321160"/>
            <a:ext cx="38088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1"/>
          <p:cNvSpPr/>
          <p:nvPr/>
        </p:nvSpPr>
        <p:spPr>
          <a:xfrm>
            <a:off x="3030840" y="5396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2"/>
          <p:cNvSpPr/>
          <p:nvPr/>
        </p:nvSpPr>
        <p:spPr>
          <a:xfrm>
            <a:off x="3868920" y="5396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FIFO Page Replacemen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rcRect l="653" t="32362" r="450" b="32362"/>
          <a:stretch/>
        </p:blipFill>
        <p:spPr>
          <a:xfrm>
            <a:off x="244440" y="2166840"/>
            <a:ext cx="8659800" cy="231624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escribe the benefits of a virtual memory system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xplain the concepts of demand paging, page-replacement algorithms, and allocation of page fram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iscuss the principle of the working-set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FIFO Illustrating Belady’s Anomaly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208" name="Picture 4" descr=""/>
          <p:cNvPicPr/>
          <p:nvPr/>
        </p:nvPicPr>
        <p:blipFill>
          <a:blip r:embed="rId1"/>
          <a:srcRect l="1104" t="7934" r="1104" b="8520"/>
          <a:stretch/>
        </p:blipFill>
        <p:spPr>
          <a:xfrm>
            <a:off x="1411200" y="1827360"/>
            <a:ext cx="6195960" cy="39700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Optimal Algorithm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89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ace page that will not be used for longest period of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89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frames ex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89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, 2, 3, 4, 1, 2, 5, 1, 2, 3, 4, 5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89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do you know thi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89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for measuring how well your algorithm per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3560760" y="2611440"/>
            <a:ext cx="38088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3560760" y="3068640"/>
            <a:ext cx="38088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3560760" y="3525840"/>
            <a:ext cx="38088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4297320" y="268200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5110200" y="3125160"/>
            <a:ext cx="14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page fa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3560760" y="3983040"/>
            <a:ext cx="38088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0"/>
          <p:cNvSpPr/>
          <p:nvPr/>
        </p:nvSpPr>
        <p:spPr>
          <a:xfrm>
            <a:off x="4019760" y="405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Optimal Page Replacemen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219" name="Picture 4" descr=""/>
          <p:cNvPicPr/>
          <p:nvPr/>
        </p:nvPicPr>
        <p:blipFill>
          <a:blip r:embed="rId1"/>
          <a:srcRect l="473" t="32077" r="783" b="32077"/>
          <a:stretch/>
        </p:blipFill>
        <p:spPr>
          <a:xfrm>
            <a:off x="436680" y="1990800"/>
            <a:ext cx="8342280" cy="227160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Least Recently Used (LRU) Algorithm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19664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ence string:  1, 2, 3, 4, 1, 2,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1, 2,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5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er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page entry has a counter; every time page is referenced through this entry, copy the clock into the cou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 page needs to be changed, look at the counters to determine which are to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0"/>
          <p:cNvSpPr/>
          <p:nvPr/>
        </p:nvSpPr>
        <p:spPr>
          <a:xfrm>
            <a:off x="4638600" y="1728720"/>
            <a:ext cx="38124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51"/>
          <p:cNvSpPr/>
          <p:nvPr/>
        </p:nvSpPr>
        <p:spPr>
          <a:xfrm>
            <a:off x="4638600" y="2185920"/>
            <a:ext cx="38124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2"/>
          <p:cNvSpPr/>
          <p:nvPr/>
        </p:nvSpPr>
        <p:spPr>
          <a:xfrm>
            <a:off x="4638600" y="2643120"/>
            <a:ext cx="38124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53"/>
          <p:cNvSpPr/>
          <p:nvPr/>
        </p:nvSpPr>
        <p:spPr>
          <a:xfrm>
            <a:off x="4638600" y="3100320"/>
            <a:ext cx="38124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54"/>
          <p:cNvSpPr/>
          <p:nvPr/>
        </p:nvSpPr>
        <p:spPr>
          <a:xfrm>
            <a:off x="2620800" y="1727280"/>
            <a:ext cx="38124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55"/>
          <p:cNvSpPr/>
          <p:nvPr/>
        </p:nvSpPr>
        <p:spPr>
          <a:xfrm>
            <a:off x="2620800" y="2184480"/>
            <a:ext cx="38124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56"/>
          <p:cNvSpPr/>
          <p:nvPr/>
        </p:nvSpPr>
        <p:spPr>
          <a:xfrm>
            <a:off x="2620800" y="2641680"/>
            <a:ext cx="38124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7"/>
          <p:cNvSpPr/>
          <p:nvPr/>
        </p:nvSpPr>
        <p:spPr>
          <a:xfrm>
            <a:off x="2620800" y="3098880"/>
            <a:ext cx="38124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58"/>
          <p:cNvSpPr/>
          <p:nvPr/>
        </p:nvSpPr>
        <p:spPr>
          <a:xfrm>
            <a:off x="3124080" y="1735200"/>
            <a:ext cx="38124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59"/>
          <p:cNvSpPr/>
          <p:nvPr/>
        </p:nvSpPr>
        <p:spPr>
          <a:xfrm>
            <a:off x="3124080" y="2192400"/>
            <a:ext cx="38124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60"/>
          <p:cNvSpPr/>
          <p:nvPr/>
        </p:nvSpPr>
        <p:spPr>
          <a:xfrm>
            <a:off x="3124080" y="2649600"/>
            <a:ext cx="38124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61"/>
          <p:cNvSpPr/>
          <p:nvPr/>
        </p:nvSpPr>
        <p:spPr>
          <a:xfrm>
            <a:off x="3124080" y="3106800"/>
            <a:ext cx="38124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62"/>
          <p:cNvSpPr/>
          <p:nvPr/>
        </p:nvSpPr>
        <p:spPr>
          <a:xfrm>
            <a:off x="3643200" y="1714680"/>
            <a:ext cx="38124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63"/>
          <p:cNvSpPr/>
          <p:nvPr/>
        </p:nvSpPr>
        <p:spPr>
          <a:xfrm>
            <a:off x="3643200" y="2171880"/>
            <a:ext cx="38124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64"/>
          <p:cNvSpPr/>
          <p:nvPr/>
        </p:nvSpPr>
        <p:spPr>
          <a:xfrm>
            <a:off x="3643200" y="2629080"/>
            <a:ext cx="38124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65"/>
          <p:cNvSpPr/>
          <p:nvPr/>
        </p:nvSpPr>
        <p:spPr>
          <a:xfrm>
            <a:off x="3643200" y="3086280"/>
            <a:ext cx="38124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66"/>
          <p:cNvSpPr/>
          <p:nvPr/>
        </p:nvSpPr>
        <p:spPr>
          <a:xfrm>
            <a:off x="4146480" y="1722600"/>
            <a:ext cx="38124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67"/>
          <p:cNvSpPr/>
          <p:nvPr/>
        </p:nvSpPr>
        <p:spPr>
          <a:xfrm>
            <a:off x="4146480" y="2179800"/>
            <a:ext cx="38124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68"/>
          <p:cNvSpPr/>
          <p:nvPr/>
        </p:nvSpPr>
        <p:spPr>
          <a:xfrm>
            <a:off x="4146480" y="2637000"/>
            <a:ext cx="38124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69"/>
          <p:cNvSpPr/>
          <p:nvPr/>
        </p:nvSpPr>
        <p:spPr>
          <a:xfrm>
            <a:off x="4146480" y="3094200"/>
            <a:ext cx="38124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LRU Page Replacemen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243" name="Picture 4" descr=""/>
          <p:cNvPicPr/>
          <p:nvPr/>
        </p:nvPicPr>
        <p:blipFill>
          <a:blip r:embed="rId1"/>
          <a:srcRect l="808" t="32879" r="790" b="32362"/>
          <a:stretch/>
        </p:blipFill>
        <p:spPr>
          <a:xfrm>
            <a:off x="911160" y="1755720"/>
            <a:ext cx="7286760" cy="193032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LRU Algorithm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 implementation – keep a stack of page numbers in a double link for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referenc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 it to th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s 6 pointers to be chan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search for replac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Use Of A Stack to Record The Most Recent Page References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247" name="Picture 4" descr=""/>
          <p:cNvPicPr/>
          <p:nvPr/>
        </p:nvPicPr>
        <p:blipFill>
          <a:blip r:embed="rId1"/>
          <a:srcRect l="616" t="4622" r="831" b="4622"/>
          <a:stretch/>
        </p:blipFill>
        <p:spPr>
          <a:xfrm>
            <a:off x="1581120" y="1914480"/>
            <a:ext cx="5845320" cy="403704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LRU Approximation Algorithm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64880" y="1282680"/>
            <a:ext cx="6584760" cy="38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ence 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each page associate a bit, initially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page is referenced bit set to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lace the one which is 0 (if one exis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63800" indent="-22392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do not know the order, howe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ch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 reference 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ock replac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page to be replaced (in clock order) has reference bit = 1 th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63800" indent="-22392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 reference bit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63800" indent="-22392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ave page in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63800" indent="-22392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lace next page (in clock order), subject to same r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28720" y="0"/>
            <a:ext cx="8267760" cy="84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Second-Chance (clock) Page-Replacement Algorithm</a:t>
            </a:r>
            <a:endParaRPr b="1" lang="en-US" sz="24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251" name="Picture 4" descr=""/>
          <p:cNvPicPr/>
          <p:nvPr/>
        </p:nvPicPr>
        <p:blipFill>
          <a:blip r:embed="rId1"/>
          <a:srcRect l="8767" t="984" r="8767" b="984"/>
          <a:stretch/>
        </p:blipFill>
        <p:spPr>
          <a:xfrm>
            <a:off x="1609560" y="1065240"/>
            <a:ext cx="5845320" cy="52102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ounting Algorithm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26560" y="1282320"/>
            <a:ext cx="6766200" cy="45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ep a counter of the number of references that have been made to each pa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FU Algorith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replaces page with smallest cou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FU Algorith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based on the argument that the page with the smallest count was probably just brought in and has yet to be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Background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1600" y="1282320"/>
            <a:ext cx="73515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tual mem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separation of user logical memory from physical mem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part of the program needs to be in memory for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al address space can therefore be much larger than physical address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address spaces to be shared by several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for more efficient process cre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memory can be implemented v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mand pag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mand seg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Allocation of Fram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26920" y="142524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process need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inim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umber of p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 IBM 370 – 6 pages to handle SS MOVE instruc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 is 6 bytes, might span 2 p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pages to hand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pages to hand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major allocation sche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xed al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ority al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Fixed Alloca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01440" y="1298520"/>
            <a:ext cx="7551720" cy="38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al allocation – For example, if there are 100 frames and 5 processes, give each process 20 fra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ortional allocation – Allocate according to the size of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4"/>
              <p:cNvSpPr txBox="1"/>
              <p:nvPr/>
            </p:nvSpPr>
            <p:spPr>
              <a:xfrm>
                <a:off x="1625760" y="2313000"/>
                <a:ext cx="2857320" cy="16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size of process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total number of frames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allocation for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×</m:t>
                        </m:r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9" name="Line 5"/>
          <p:cNvSpPr/>
          <p:nvPr/>
        </p:nvSpPr>
        <p:spPr>
          <a:xfrm>
            <a:off x="1447920" y="248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6"/>
          <p:cNvSpPr/>
          <p:nvPr/>
        </p:nvSpPr>
        <p:spPr>
          <a:xfrm>
            <a:off x="1447920" y="2790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7"/>
          <p:cNvSpPr/>
          <p:nvPr/>
        </p:nvSpPr>
        <p:spPr>
          <a:xfrm>
            <a:off x="1447920" y="315756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8"/>
          <p:cNvSpPr/>
          <p:nvPr/>
        </p:nvSpPr>
        <p:spPr>
          <a:xfrm>
            <a:off x="1447920" y="36576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Object 9"/>
              <p:cNvSpPr txBox="1"/>
              <p:nvPr/>
            </p:nvSpPr>
            <p:spPr>
              <a:xfrm>
                <a:off x="2324160" y="4000680"/>
                <a:ext cx="1841400" cy="22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7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37</m:t>
                            </m:r>
                          </m:den>
                        </m:f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≈</m:t>
                        </m:r>
                        <m:r>
                          <m:t xml:space="preserve">5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37</m:t>
                            </m:r>
                          </m:den>
                        </m:f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≈</m:t>
                        </m:r>
                        <m:r>
                          <m:rPr>
                            <m:lit/>
                            <m:nor/>
                          </m:rPr>
                          <m:t xml:space="preserve">5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riority Alloca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26920" y="1353960"/>
            <a:ext cx="6532560" cy="43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a proportional allocation scheme using priorities rather than siz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proces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enerates a page faul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for replacement one of its fr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for replacement a frame from a process with lower priority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Global vs. Local Alloca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26920" y="1382760"/>
            <a:ext cx="654696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obal replace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process selects a replacement frame from the set of all frames; one process can take a frame from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replace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each process selects from only its own set of allocated fr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Thrash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12520" y="1410840"/>
            <a:ext cx="73515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process does not have “enough” pages, the page-fault rate is very high.  This lea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 CPU uti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 system thinks that it needs to increase the degree of multiprogram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process added to the system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ash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process is busy swapping pages in and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2738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Thrashing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271" name="Picture 6" descr=""/>
          <p:cNvPicPr/>
          <p:nvPr/>
        </p:nvPicPr>
        <p:blipFill>
          <a:blip r:embed="rId1"/>
          <a:srcRect l="417" t="12083" r="856" b="12083"/>
          <a:stretch/>
        </p:blipFill>
        <p:spPr>
          <a:xfrm>
            <a:off x="1503360" y="1768320"/>
            <a:ext cx="5962680" cy="34354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28320" y="228240"/>
            <a:ext cx="72738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Demand Paging and Thrashing 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90720" y="1523520"/>
            <a:ext cx="7029360" cy="21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y does demand paging work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cality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 migrates from one locality to an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calities may overl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y does thrashing occur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ize of locality &gt; total memory si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Locality In A Memory-Reference Pattern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275" name="Picture 4" descr=""/>
          <p:cNvPicPr/>
          <p:nvPr/>
        </p:nvPicPr>
        <p:blipFill>
          <a:blip r:embed="rId1"/>
          <a:srcRect l="21248" t="660" r="21252" b="1009"/>
          <a:stretch/>
        </p:blipFill>
        <p:spPr>
          <a:xfrm>
            <a:off x="2382840" y="1065240"/>
            <a:ext cx="4154400" cy="53290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Working-Set Model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26560" y="1282680"/>
            <a:ext cx="67662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ing-set window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fixed number of page 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 10,000 i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SS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working set of Proces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number of pages referenced in the most recen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varies in ti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o small will not encompass entire loc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o large will encompass several loca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ll encompass entir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SS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tal demand fram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ras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icy 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gt; m, then suspend one of the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Working-set model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279" name="Picture 4" descr=""/>
          <p:cNvPicPr/>
          <p:nvPr/>
        </p:nvPicPr>
        <p:blipFill>
          <a:blip r:embed="rId1"/>
          <a:srcRect l="450" t="34951" r="687" b="35552"/>
          <a:stretch/>
        </p:blipFill>
        <p:spPr>
          <a:xfrm>
            <a:off x="920880" y="2133720"/>
            <a:ext cx="7426080" cy="166212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09720" y="0"/>
            <a:ext cx="8161200" cy="84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Virtual Memory That is Larger Than Physical Memory</a:t>
            </a:r>
            <a:endParaRPr b="1" lang="en-US" sz="2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4390200" y="324648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rcRect l="3514" t="1009" r="3751" b="1043"/>
          <a:stretch/>
        </p:blipFill>
        <p:spPr>
          <a:xfrm>
            <a:off x="1922400" y="1282680"/>
            <a:ext cx="5653080" cy="447840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Keeping Track of the Working Se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ximate with interval timer + a reference 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r interrupts after every 5000 time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ep in memory 2 bits for each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ever a timer interrupts copy and sets the values of all reference bits to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one of the bits in memory = 1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ge in working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this not completely accura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 = 10 bits and interrupt every 1000 time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age-Fault Frequency Schem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62120" y="1328760"/>
            <a:ext cx="702936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blish “acceptable” page-fault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ctual rate too low, process loses 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ctual rate too high, process gains 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6" descr=""/>
          <p:cNvPicPr/>
          <p:nvPr/>
        </p:nvPicPr>
        <p:blipFill>
          <a:blip r:embed="rId1"/>
          <a:srcRect l="901" t="16351" r="1137" b="16666"/>
          <a:stretch/>
        </p:blipFill>
        <p:spPr>
          <a:xfrm>
            <a:off x="1530360" y="2933640"/>
            <a:ext cx="5886360" cy="30178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Memory-Mapped Fil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-mapped file I/O allows file I/O to be treated as routine memory access b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pp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disk block to a page in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ile is initially read using demand paging. A page-sized portion of the file is read from the file system into a physical page. Subsequent reads/writes to/from the file are treated as ordinary memory acc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ifies file access by treating file I/O through memory rather tha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ad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rite(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ystem c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 allows several processes to map the same file allowing the pages in memory to be sha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Memory Mapped Fil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288" name="Picture 4" descr=""/>
          <p:cNvPicPr/>
          <p:nvPr/>
        </p:nvPicPr>
        <p:blipFill>
          <a:blip r:embed="rId1"/>
          <a:srcRect l="4374" t="640" r="4120" b="640"/>
          <a:stretch/>
        </p:blipFill>
        <p:spPr>
          <a:xfrm>
            <a:off x="998640" y="1108080"/>
            <a:ext cx="6383160" cy="516420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Memory-Mapped Shared Memory in Window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290" name="Picture 4" descr=""/>
          <p:cNvPicPr/>
          <p:nvPr/>
        </p:nvPicPr>
        <p:blipFill>
          <a:blip r:embed="rId1"/>
          <a:srcRect l="657" t="23119" r="916" b="22838"/>
          <a:stretch/>
        </p:blipFill>
        <p:spPr>
          <a:xfrm>
            <a:off x="378000" y="2008080"/>
            <a:ext cx="8207280" cy="338004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Allocating Kernel Memory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ated differently from user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allocated from a free-memory p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 requests memory for structures of varying siz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kernel memory needs to be contigu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Buddy System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cates memory from fixed-size segment consisting of physically-contiguous p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 allocated using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wer-of-2 alloc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tisfies requests in units sized as power of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 rounded up to next highest power of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smaller allocation needed than is available, current chunk split into two buddies of next-lower power of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e until appropriate sized chunk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Buddy System Allocator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296" name="Picture 4" descr=""/>
          <p:cNvPicPr/>
          <p:nvPr/>
        </p:nvPicPr>
        <p:blipFill>
          <a:blip r:embed="rId1"/>
          <a:srcRect l="7867" t="1496" r="7863" b="1496"/>
          <a:stretch/>
        </p:blipFill>
        <p:spPr>
          <a:xfrm>
            <a:off x="1914480" y="1657440"/>
            <a:ext cx="5151600" cy="444816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lab Allocator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ernat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a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one or more physically contiguous p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c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nsists of one or more sla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cache for each unique kernel data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cache filled with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instantiations of the data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cache created, filled with objects marked a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structures stored, objects marked a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slab is full of used objects, next object allocated from empty s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no empty slabs, new slab alloc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efits include no fragmentation, fast memory request satisf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lab Alloca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300" name="Picture 4" descr=""/>
          <p:cNvPicPr/>
          <p:nvPr/>
        </p:nvPicPr>
        <p:blipFill>
          <a:blip r:embed="rId1"/>
          <a:srcRect l="746" t="3943" r="720" b="3632"/>
          <a:stretch/>
        </p:blipFill>
        <p:spPr>
          <a:xfrm>
            <a:off x="1417680" y="1601640"/>
            <a:ext cx="6130800" cy="431352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Virtual-address Spac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rcRect l="34627" t="615" r="34844" b="615"/>
          <a:stretch/>
        </p:blipFill>
        <p:spPr>
          <a:xfrm>
            <a:off x="3313080" y="1046160"/>
            <a:ext cx="2106720" cy="511164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Other Issues -- Prepag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26920" y="1447560"/>
            <a:ext cx="7523280" cy="49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pag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reduce the large number of page faults that occurs at process start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page all or some of the pages a process will need, before they are referen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if prepaged pages are unused, I/O and memory was wa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ges are prepaged and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the pages is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cost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 *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 pages faults &gt; or &lt; than the cost of prepaging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 * (1-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necessary page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ar zero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epaging lo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Other Issues – Page Siz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26560" y="1358640"/>
            <a:ext cx="6512040" cy="41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size selection must take into consider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g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 siz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/O over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Other Issues – TLB Reach 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26560" y="1469520"/>
            <a:ext cx="6804360" cy="441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LB Reach - The amount of memory accessible from the TL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LB Reach = (TLB Size) X (Page Siz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lly, the working set of each process is stored in the TL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wise there is a high degree of page fa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the Page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may lead to an increase in fragmentation as not all applications require a large page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Multiple Page Siz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allows applications that require larger page sizes the opportunity to use them without an increase in frag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Other Issues – Program Structur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26560" y="1282320"/>
            <a:ext cx="7548840" cy="49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3319560"/>
                <a:tab algn="l" pos="3651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3319560"/>
                <a:tab algn="l" pos="3651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128,128] dat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3319560"/>
                <a:tab algn="l" pos="3651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row is stored in one 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3319560"/>
                <a:tab algn="l" pos="3651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 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3319560"/>
                <a:tab algn="l" pos="3651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j = 0; j &lt;128; j++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for (i = 0; i &lt; 128; i++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data[i,j] = 0;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3319560"/>
                <a:tab algn="l" pos="3651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8 x 128 = 16,384 page faults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3319560"/>
                <a:tab algn="l" pos="3651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 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3319560"/>
                <a:tab algn="l" pos="3651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 = 0; i &lt; 128; i++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for (j = 0; j &lt; 128; j++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data[i,j]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3319560"/>
                <a:tab algn="l" pos="3651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8 page fa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Other Issues – I/O interlock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26920" y="1409400"/>
            <a:ext cx="626616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/O Interlo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Pages must sometimes be locked into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I/O - Pages that are used for copying a file from a device must be locked from being selected for eviction by a page replacement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73000" y="0"/>
            <a:ext cx="8134560" cy="84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Reason Why Frames Used For I/O Must Be In Memory</a:t>
            </a:r>
            <a:endParaRPr b="1" lang="en-US" sz="24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312" name="Picture 4" descr=""/>
          <p:cNvPicPr/>
          <p:nvPr/>
        </p:nvPicPr>
        <p:blipFill>
          <a:blip r:embed="rId1"/>
          <a:srcRect l="18480" t="1176" r="18480" b="1452"/>
          <a:stretch/>
        </p:blipFill>
        <p:spPr>
          <a:xfrm>
            <a:off x="2556000" y="1762200"/>
            <a:ext cx="3797280" cy="439884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Operating System Exampl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26920" y="143460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 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ar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Windows XP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demand paging with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uster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Clustering brings in pages surrounding the faulting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es are assigne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ing set minim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ing set maxim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ing set minimum is the minimum number of pages the process is guaranteed to have in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rocess may be assigned as many pages up to its working set maxim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he amount of free memory in the system falls below a threshold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matic working set trimm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performed to restore the amount of free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ing set trimming removes pages from processes that have pages in excess of their working set minim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olaris 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tains a list of free pages to assign faulting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tsfre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threshold parameter (amount of free memory) to begin pa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sfre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threshold parameter to increasing pa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infre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threshold parameter to being swa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ing is performed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geo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out scans pages using modified clock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canr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rate at which pages are scanned. This ranges 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lowsc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asts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out is called more frequently depending upon the amount of free memory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olaris 2 Page Scanner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320" name="Picture 4" descr=""/>
          <p:cNvPicPr/>
          <p:nvPr/>
        </p:nvPicPr>
        <p:blipFill>
          <a:blip r:embed="rId1"/>
          <a:srcRect l="923" t="6059" r="923" b="6059"/>
          <a:stretch/>
        </p:blipFill>
        <p:spPr>
          <a:xfrm>
            <a:off x="1666800" y="2003400"/>
            <a:ext cx="5545080" cy="372420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hared Library Using Virtual Memory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rcRect l="701" t="6817" r="1163" b="6817"/>
          <a:stretch/>
        </p:blipFill>
        <p:spPr>
          <a:xfrm>
            <a:off x="1652760" y="1949400"/>
            <a:ext cx="5667120" cy="374004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Demand Pag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ng a page into memory only when it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s I/O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s memory need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er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user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is needed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ference to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 referenc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b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-in-memory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ring to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zy swapp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never swaps a page into memory unless page will be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apper that deals with pages is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93360" y="0"/>
            <a:ext cx="8350200" cy="84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Transfer of a Paged Memory to Contiguous Disk Space</a:t>
            </a:r>
            <a:endParaRPr b="1" lang="en-US" sz="24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1"/>
          <a:srcRect l="9653" t="709" r="9934" b="1413"/>
          <a:stretch/>
        </p:blipFill>
        <p:spPr>
          <a:xfrm>
            <a:off x="2620800" y="1600200"/>
            <a:ext cx="4575240" cy="417672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03T15:41:59Z</dcterms:created>
  <dc:creator/>
  <dc:description/>
  <dc:language>en-US</dc:language>
  <cp:lastModifiedBy>LOVE GOEL</cp:lastModifiedBy>
  <cp:lastPrinted>2001-06-15T13:47:43Z</cp:lastPrinted>
  <dcterms:modified xsi:type="dcterms:W3CDTF">2008-08-09T10:14:15Z</dcterms:modified>
  <cp:revision>0</cp:revision>
  <dc:subject/>
  <dc:title/>
</cp:coreProperties>
</file>