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9.</a:t>
            </a:r>
            <a:fld id="{54BCCE07-2F19-4AE0-A98E-9C5A78D3BD89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4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2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9:  Virtu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alid-Invalid Bi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1960" y="1282320"/>
            <a:ext cx="7245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each page table entry a valid–invalid bit is associa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-memory,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ot-in-mem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ly valid–invalid bit is set to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all e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 of a page table snapshot: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ring address translation, if valid–invalid bit in page table en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ge fa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951280" y="2867040"/>
            <a:ext cx="1877760" cy="26668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901960" y="31510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6"/>
          <p:cNvSpPr/>
          <p:nvPr/>
        </p:nvSpPr>
        <p:spPr>
          <a:xfrm>
            <a:off x="2901960" y="34560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7"/>
          <p:cNvSpPr/>
          <p:nvPr/>
        </p:nvSpPr>
        <p:spPr>
          <a:xfrm>
            <a:off x="2901960" y="3760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901960" y="4065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2901960" y="437040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1"/>
          <p:cNvSpPr/>
          <p:nvPr/>
        </p:nvSpPr>
        <p:spPr>
          <a:xfrm>
            <a:off x="2901960" y="49276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2"/>
          <p:cNvSpPr/>
          <p:nvPr/>
        </p:nvSpPr>
        <p:spPr>
          <a:xfrm>
            <a:off x="2901960" y="5208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3"/>
          <p:cNvSpPr/>
          <p:nvPr/>
        </p:nvSpPr>
        <p:spPr>
          <a:xfrm>
            <a:off x="4349880" y="25416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4"/>
          <p:cNvSpPr/>
          <p:nvPr/>
        </p:nvSpPr>
        <p:spPr>
          <a:xfrm>
            <a:off x="4428000" y="281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4429440" y="3117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6"/>
          <p:cNvSpPr/>
          <p:nvPr/>
        </p:nvSpPr>
        <p:spPr>
          <a:xfrm>
            <a:off x="4428000" y="3417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7"/>
          <p:cNvSpPr/>
          <p:nvPr/>
        </p:nvSpPr>
        <p:spPr>
          <a:xfrm>
            <a:off x="4429440" y="3745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8"/>
          <p:cNvSpPr/>
          <p:nvPr/>
        </p:nvSpPr>
        <p:spPr>
          <a:xfrm>
            <a:off x="4458960" y="4064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9"/>
          <p:cNvSpPr/>
          <p:nvPr/>
        </p:nvSpPr>
        <p:spPr>
          <a:xfrm>
            <a:off x="4458960" y="49032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0"/>
          <p:cNvSpPr/>
          <p:nvPr/>
        </p:nvSpPr>
        <p:spPr>
          <a:xfrm>
            <a:off x="4458960" y="52077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1"/>
          <p:cNvSpPr/>
          <p:nvPr/>
        </p:nvSpPr>
        <p:spPr>
          <a:xfrm>
            <a:off x="3404880" y="444600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2"/>
          <p:cNvSpPr/>
          <p:nvPr/>
        </p:nvSpPr>
        <p:spPr>
          <a:xfrm>
            <a:off x="3257280" y="25405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3"/>
          <p:cNvSpPr/>
          <p:nvPr/>
        </p:nvSpPr>
        <p:spPr>
          <a:xfrm>
            <a:off x="4371480" y="2540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id-invalid b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4"/>
          <p:cNvSpPr/>
          <p:nvPr/>
        </p:nvSpPr>
        <p:spPr>
          <a:xfrm>
            <a:off x="3451320" y="5512320"/>
            <a:ext cx="101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46200" y="0"/>
            <a:ext cx="83613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Page Table When Some Pages Are Not in Main Memory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rcRect l="11794" t="635" r="12020" b="1299"/>
          <a:stretch/>
        </p:blipFill>
        <p:spPr>
          <a:xfrm>
            <a:off x="2332080" y="1569960"/>
            <a:ext cx="4829040" cy="4662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Faul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1960" y="1396800"/>
            <a:ext cx="644832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is a reference to a page, first reference to that page will trap to operating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looks at another table to dec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not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empty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 page into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t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validation bit =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instruction that caused the page fa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Faul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1600" y="1282320"/>
            <a:ext cx="68799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tart instr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 mov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 increment/decrement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3381480" y="213192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3895560" y="255276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6"/>
          <p:cNvSpPr/>
          <p:nvPr/>
        </p:nvSpPr>
        <p:spPr>
          <a:xfrm>
            <a:off x="4289400" y="1965240"/>
            <a:ext cx="533520" cy="533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eps in Handling a Page Faul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rcRect l="5667" t="600" r="6113" b="911"/>
          <a:stretch/>
        </p:blipFill>
        <p:spPr>
          <a:xfrm>
            <a:off x="1619280" y="1060560"/>
            <a:ext cx="6307200" cy="5279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erformance of Demand P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Fault Rate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0 no page faul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, every reference is a faul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Access Time (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memor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age faul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swap pag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swap page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 restart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16540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mand Paging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ccess time = 200 nano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age-fault service time = 8 milliseco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– p) x 200 + p (8 millisecond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(1 – p  x 200 + p x 8,000,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00 + p x 7,999,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access out of 1,000 causes a page fault,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8.2 micro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774800"/>
                <a:tab algn="l" pos="2279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slowdown by a factor of 40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allows other benefits during process creatio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py-on-Wri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emory-Mapped Files (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py-on-Writ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-on-Write (COW) allows both parent and child processes to initiall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same pages in memor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ither process modifies a shared page, only then is the page co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W allows more efficient process creation as only modified pages are cop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 pages are allocated from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o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zeroed-out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efore Process 1 Modifies Page 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rcRect l="676" t="23744" r="783" b="23330"/>
          <a:stretch/>
        </p:blipFill>
        <p:spPr>
          <a:xfrm>
            <a:off x="399960" y="2241720"/>
            <a:ext cx="8248680" cy="3524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9:  Virtu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1600" y="12823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-on-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ng Kerne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-System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fter Process 1 Modifies Page 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676" t="23808" r="886" b="23808"/>
          <a:stretch/>
        </p:blipFill>
        <p:spPr>
          <a:xfrm>
            <a:off x="422280" y="1724040"/>
            <a:ext cx="8116920" cy="3240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What happens if there is no free frame?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1425600"/>
            <a:ext cx="66834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 – find some page in memory, but not really in use, swap i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– want an algorithm which will result in minimum number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page may be brought into memory several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over-allocation of memory by modifying page-fault service routine to include page replace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y (dirty) bit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overhead of page transfers – only modified pages are written to di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placement completes separation between logical memory and physical memory – large virtual memory can be provided on a smaller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ed For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701" t="2161" r="701" b="2161"/>
          <a:stretch/>
        </p:blipFill>
        <p:spPr>
          <a:xfrm>
            <a:off x="782640" y="1119240"/>
            <a:ext cx="6958080" cy="5062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ic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1600" y="1440000"/>
            <a:ext cx="632916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location of the desired page on dis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a free fra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If there is a free frame, use 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If there is no free frame, use a page replaceme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gorithm to select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ct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 the desired page into the (newly) free frame; update the page and frame tab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art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rcRect l="694" t="1536" r="694" b="1536"/>
          <a:stretch/>
        </p:blipFill>
        <p:spPr>
          <a:xfrm>
            <a:off x="1514520" y="1668600"/>
            <a:ext cx="5932440" cy="4373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 Replacement Algorith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560" y="1396800"/>
            <a:ext cx="5769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 lowest page-faul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algorithm by running it on a particular string of memory references (reference string) and computing the number of page faults on that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all our examples, the reference string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ctr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, 2, 3, 4, 1, 2, 5, 1, 2, 3, 4,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Graph of Page Faults Versus The Number of Frames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495" t="11266" r="1244" b="11611"/>
          <a:stretch/>
        </p:blipFill>
        <p:spPr>
          <a:xfrm>
            <a:off x="1386000" y="1897200"/>
            <a:ext cx="6060960" cy="3566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rst-In-First-Out (FIFO)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1960" y="1153800"/>
            <a:ext cx="702936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tring: 1, 2, 3, 4, 1, 2, 5, 1, 2, 3, 4,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frames (3 pages can be in memory at a time per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frames</a:t>
            </a: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lady’s Anomaly: more fram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re page fa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3441600" y="22255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3441600" y="26827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441600" y="31399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056400" y="225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056400" y="270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056400" y="317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900960" y="229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900960" y="273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3900960" y="321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4281840" y="2296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4281840" y="2739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281840" y="321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4739760" y="27392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3409920" y="394956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3409920" y="440676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3409920" y="486396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3024360" y="398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024360" y="442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4360" y="490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3"/>
          <p:cNvSpPr/>
          <p:nvPr/>
        </p:nvSpPr>
        <p:spPr>
          <a:xfrm>
            <a:off x="3868920" y="402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3868920" y="446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25"/>
          <p:cNvSpPr/>
          <p:nvPr/>
        </p:nvSpPr>
        <p:spPr>
          <a:xfrm>
            <a:off x="3868920" y="4939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26"/>
          <p:cNvSpPr/>
          <p:nvPr/>
        </p:nvSpPr>
        <p:spPr>
          <a:xfrm>
            <a:off x="4250160" y="4020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8"/>
          <p:cNvSpPr/>
          <p:nvPr/>
        </p:nvSpPr>
        <p:spPr>
          <a:xfrm>
            <a:off x="4250160" y="4482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4644720" y="44632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0"/>
          <p:cNvSpPr/>
          <p:nvPr/>
        </p:nvSpPr>
        <p:spPr>
          <a:xfrm>
            <a:off x="3409920" y="532116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1"/>
          <p:cNvSpPr/>
          <p:nvPr/>
        </p:nvSpPr>
        <p:spPr>
          <a:xfrm>
            <a:off x="3030840" y="539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3868920" y="5396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FO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rcRect l="653" t="32362" r="450" b="32362"/>
          <a:stretch/>
        </p:blipFill>
        <p:spPr>
          <a:xfrm>
            <a:off x="244440" y="2166840"/>
            <a:ext cx="8659800" cy="2316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benefits of a virtual memory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concepts of demand paging, page-replacement algorithms, and allocation of page fram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principle of the working-se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FO Illustrating Belady’s Anomal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rcRect l="1104" t="7934" r="1104" b="8520"/>
          <a:stretch/>
        </p:blipFill>
        <p:spPr>
          <a:xfrm>
            <a:off x="1411200" y="1827360"/>
            <a:ext cx="6195960" cy="3970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timal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ce page that will not be used for longest period of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frames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2, 3, 4, 1, 2, 5, 1, 2, 3, 4, 5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do you know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90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for measuring how well your algorithm per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3560760" y="261144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3560760" y="306864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3560760" y="352584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4297320" y="268200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110200" y="312516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3560760" y="3983040"/>
            <a:ext cx="38088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019760" y="405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timal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rcRect l="473" t="32077" r="783" b="32077"/>
          <a:stretch/>
        </p:blipFill>
        <p:spPr>
          <a:xfrm>
            <a:off x="436680" y="1990800"/>
            <a:ext cx="8342280" cy="2271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east Recently Used (LRU)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1966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string:  1, 2, 3, 4, 1, 2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1, 2,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5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er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age entry has a counter; every time page is referenced through this entry, copy the clock into the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age needs to be changed, look at the counters to determine which are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0"/>
          <p:cNvSpPr/>
          <p:nvPr/>
        </p:nvSpPr>
        <p:spPr>
          <a:xfrm>
            <a:off x="4638600" y="17287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4638600" y="21859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2"/>
          <p:cNvSpPr/>
          <p:nvPr/>
        </p:nvSpPr>
        <p:spPr>
          <a:xfrm>
            <a:off x="4638600" y="26431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3"/>
          <p:cNvSpPr/>
          <p:nvPr/>
        </p:nvSpPr>
        <p:spPr>
          <a:xfrm>
            <a:off x="4638600" y="310032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4"/>
          <p:cNvSpPr/>
          <p:nvPr/>
        </p:nvSpPr>
        <p:spPr>
          <a:xfrm>
            <a:off x="2620800" y="17272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5"/>
          <p:cNvSpPr/>
          <p:nvPr/>
        </p:nvSpPr>
        <p:spPr>
          <a:xfrm>
            <a:off x="2620800" y="21844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6"/>
          <p:cNvSpPr/>
          <p:nvPr/>
        </p:nvSpPr>
        <p:spPr>
          <a:xfrm>
            <a:off x="2620800" y="26416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7"/>
          <p:cNvSpPr/>
          <p:nvPr/>
        </p:nvSpPr>
        <p:spPr>
          <a:xfrm>
            <a:off x="2620800" y="30988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8"/>
          <p:cNvSpPr/>
          <p:nvPr/>
        </p:nvSpPr>
        <p:spPr>
          <a:xfrm>
            <a:off x="3124080" y="17352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9"/>
          <p:cNvSpPr/>
          <p:nvPr/>
        </p:nvSpPr>
        <p:spPr>
          <a:xfrm>
            <a:off x="3124080" y="21924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0"/>
          <p:cNvSpPr/>
          <p:nvPr/>
        </p:nvSpPr>
        <p:spPr>
          <a:xfrm>
            <a:off x="3124080" y="26496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1"/>
          <p:cNvSpPr/>
          <p:nvPr/>
        </p:nvSpPr>
        <p:spPr>
          <a:xfrm>
            <a:off x="3124080" y="31068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3643200" y="17146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3"/>
          <p:cNvSpPr/>
          <p:nvPr/>
        </p:nvSpPr>
        <p:spPr>
          <a:xfrm>
            <a:off x="3643200" y="21718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4"/>
          <p:cNvSpPr/>
          <p:nvPr/>
        </p:nvSpPr>
        <p:spPr>
          <a:xfrm>
            <a:off x="3643200" y="26290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5"/>
          <p:cNvSpPr/>
          <p:nvPr/>
        </p:nvSpPr>
        <p:spPr>
          <a:xfrm>
            <a:off x="3643200" y="308628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6"/>
          <p:cNvSpPr/>
          <p:nvPr/>
        </p:nvSpPr>
        <p:spPr>
          <a:xfrm>
            <a:off x="4146480" y="17226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7"/>
          <p:cNvSpPr/>
          <p:nvPr/>
        </p:nvSpPr>
        <p:spPr>
          <a:xfrm>
            <a:off x="4146480" y="21798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8"/>
          <p:cNvSpPr/>
          <p:nvPr/>
        </p:nvSpPr>
        <p:spPr>
          <a:xfrm>
            <a:off x="4146480" y="26370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69"/>
          <p:cNvSpPr/>
          <p:nvPr/>
        </p:nvSpPr>
        <p:spPr>
          <a:xfrm>
            <a:off x="4146480" y="3094200"/>
            <a:ext cx="38124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RU Page Replac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rcRect l="808" t="32879" r="790" b="32362"/>
          <a:stretch/>
        </p:blipFill>
        <p:spPr>
          <a:xfrm>
            <a:off x="911160" y="1755720"/>
            <a:ext cx="7286760" cy="1930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RU Algorith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 implementation – keep a stack of page numbers in a double link for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referenc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 it to th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6 pointers to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earch for re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3300"/>
                </a:solidFill>
                <a:latin typeface="Arial"/>
              </a:rPr>
              <a:t>Use Of A Stack to Record The Most Recent Page References</a:t>
            </a:r>
            <a:endParaRPr b="1" lang="en-US" sz="20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rcRect l="616" t="4622" r="831" b="4622"/>
          <a:stretch/>
        </p:blipFill>
        <p:spPr>
          <a:xfrm>
            <a:off x="1581120" y="1914480"/>
            <a:ext cx="5845320" cy="4037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RU Approximation Algorith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4880" y="1282680"/>
            <a:ext cx="658476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each page associate a bit, initially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page is referenced bit set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the one which is 0 (if one exis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do not know the order, howe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ch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reference b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 replac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page to be replaced (in clock order) has reference bit = 1 th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t reference bit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ve page in 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3800" indent="-22392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 next page (in clock order), subject to same ru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8720" y="0"/>
            <a:ext cx="82677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Second-Chance (clock) Page-Replacement Algorithm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rcRect l="8767" t="984" r="8767" b="984"/>
          <a:stretch/>
        </p:blipFill>
        <p:spPr>
          <a:xfrm>
            <a:off x="1609560" y="1065240"/>
            <a:ext cx="5845320" cy="5210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unting Algorith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67662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counter of the number of references that have been made to each pa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FU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replaces page with smallest cou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FU Algorith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based on the argument that the page with the smallest count was probably just brought in and has yet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1600" y="12823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paration of user logical memory from physical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part of the program needs to be in memory for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space can therefore be much larger than phys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address spaces to be shared by several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for more efficient process cre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can be implemented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pa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location of Fram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6920" y="142524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nee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im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 of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IBM 370 – 6 pages to handle SS MOVE instruc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ction is 6 bytes, might span 2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pages to hand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major allocation sche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xed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01440" y="1298520"/>
            <a:ext cx="7551720" cy="38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allocation – For example, if there are 100 frames and 5 processes, give each process 20 fra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ortional allocation – Allocate according to the size of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1625760" y="2313000"/>
                <a:ext cx="285732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size of process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total number of frames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allocation for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9" name="Line 5"/>
          <p:cNvSpPr/>
          <p:nvPr/>
        </p:nvSpPr>
        <p:spPr>
          <a:xfrm>
            <a:off x="1447920" y="248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1447920" y="2790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1447920" y="315756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"/>
          <p:cNvSpPr/>
          <p:nvPr/>
        </p:nvSpPr>
        <p:spPr>
          <a:xfrm>
            <a:off x="1447920" y="3657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9"/>
              <p:cNvSpPr txBox="1"/>
              <p:nvPr/>
            </p:nvSpPr>
            <p:spPr>
              <a:xfrm>
                <a:off x="2324160" y="4000680"/>
                <a:ext cx="1841400" cy="22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7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≈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2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37</m:t>
                            </m:r>
                          </m:den>
                        </m:f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iority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6920" y="1353960"/>
            <a:ext cx="65325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proportional allocation scheme using priorities rather than siz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nerates a page faul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replacement one of its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for replacement a frame from a process with lower priorit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lobal vs. Local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26920" y="1382760"/>
            <a:ext cx="654696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 replac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ess selects a replacement frame from the set of all frames; one process can take a frame from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replace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ach process selects from only its own set of allocated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ash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12520" y="1410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does not have “enough” pages, the page-fault rate is very high.  This lea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CPU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thinks that it needs to increase the degree of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process added to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ash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process is busy swapping pages in an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27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ash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1" name="Picture 6" descr=""/>
          <p:cNvPicPr/>
          <p:nvPr/>
        </p:nvPicPr>
        <p:blipFill>
          <a:blip r:embed="rId1"/>
          <a:srcRect l="417" t="12083" r="856" b="12083"/>
          <a:stretch/>
        </p:blipFill>
        <p:spPr>
          <a:xfrm>
            <a:off x="1503360" y="1768320"/>
            <a:ext cx="5962680" cy="3435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28320" y="228240"/>
            <a:ext cx="72738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mand Paging and Thrashing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029360" cy="21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es demand paging work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ity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migrates from one locality to an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lities may overl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y does thrashing occur?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ize of locality &gt; total memory si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Locality In A Memory-Reference Patter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rcRect l="21248" t="660" r="21252" b="1009"/>
          <a:stretch/>
        </p:blipFill>
        <p:spPr>
          <a:xfrm>
            <a:off x="2382840" y="1065240"/>
            <a:ext cx="4154400" cy="5329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orking-Set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6766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-set window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ixed number of page 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10,000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working set of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pages referenced in the most recen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varies in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 small will not encompass entire 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o large will encompass several loc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encompass entir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S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tal demand fram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as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m, then suspend one of th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orking-set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rcRect l="450" t="34951" r="687" b="35552"/>
          <a:stretch/>
        </p:blipFill>
        <p:spPr>
          <a:xfrm>
            <a:off x="920880" y="2133720"/>
            <a:ext cx="7426080" cy="1662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0"/>
            <a:ext cx="81612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Virtual Memory That is Larger Than Physical Memory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4390200" y="324648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3514" t="1009" r="3751" b="1043"/>
          <a:stretch/>
        </p:blipFill>
        <p:spPr>
          <a:xfrm>
            <a:off x="1922400" y="1282680"/>
            <a:ext cx="5653080" cy="4478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eping Track of the Working Se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e with interval timer + a reference 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 interrupts after every 5000 tim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in memory 2 bits for each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ever a timer interrupts copy and sets the values of all reference bits to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of the bits in memory = 1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 in work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is this not completely accurat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ment = 10 bits and interrupt every 1000 tim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e-Fault Frequency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62120" y="1328760"/>
            <a:ext cx="7029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“acceptable” page-faul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ctual rate too low, process loses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ctual rate too high, process gains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"/>
          <p:cNvPicPr/>
          <p:nvPr/>
        </p:nvPicPr>
        <p:blipFill>
          <a:blip r:embed="rId1"/>
          <a:srcRect l="901" t="16351" r="1137" b="16666"/>
          <a:stretch/>
        </p:blipFill>
        <p:spPr>
          <a:xfrm>
            <a:off x="1530360" y="2933640"/>
            <a:ext cx="5886360" cy="3017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-Mapped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pped file I/O allows file I/O to be treated as routine memory access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disk block to a pag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is initially read using demand paging. A page-sized portion of the file is read from the file system into a physical page. Subsequent reads/writes to/from the file are treated as ordinary memory ac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es file access by treating file I/O through memory rather th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ad(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rit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allows several processes to map the same file allowing the pages in memory to be sh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Mapped Fi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rcRect l="4374" t="640" r="4120" b="640"/>
          <a:stretch/>
        </p:blipFill>
        <p:spPr>
          <a:xfrm>
            <a:off x="998640" y="1108080"/>
            <a:ext cx="6383160" cy="5164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emory-Mapped Shared Memory in Window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rcRect l="657" t="23119" r="916" b="22838"/>
          <a:stretch/>
        </p:blipFill>
        <p:spPr>
          <a:xfrm>
            <a:off x="378000" y="2008080"/>
            <a:ext cx="8207280" cy="3380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locating Kerne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eated differently from user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 allocated from a free-memory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requests memory for structures of varying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kernel memory needs to be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ddy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es memory from fixed-size segment consisting of physically-contiguou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llocated 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-of-2 alloc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ies requests in units sized as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rounded up to next highest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maller allocation needed than is available, current chunk split into two buddies of next-lower powe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until appropriate sized chunk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ddy System Allocato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6" name="Picture 4" descr=""/>
          <p:cNvPicPr/>
          <p:nvPr/>
        </p:nvPicPr>
        <p:blipFill>
          <a:blip r:embed="rId1"/>
          <a:srcRect l="7867" t="1496" r="7863" b="1496"/>
          <a:stretch/>
        </p:blipFill>
        <p:spPr>
          <a:xfrm>
            <a:off x="1914480" y="1657440"/>
            <a:ext cx="5151600" cy="4448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lab Allocato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ernate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e or more physically contiguous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sists of one or more sla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cache for each unique kernel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ache filled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nstantiations of the data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ache created, filled with objects mark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tructures stored, objects mark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lab is full of used objects, next object allocated from empty s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empty slabs, new slab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 include no fragmentation, fast memory request satisf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lab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rcRect l="746" t="3943" r="720" b="3632"/>
          <a:stretch/>
        </p:blipFill>
        <p:spPr>
          <a:xfrm>
            <a:off x="1417680" y="1601640"/>
            <a:ext cx="6130800" cy="4313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-address Sp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rcRect l="34627" t="615" r="34844" b="615"/>
          <a:stretch/>
        </p:blipFill>
        <p:spPr>
          <a:xfrm>
            <a:off x="3313080" y="1046160"/>
            <a:ext cx="2106720" cy="5111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-- Prep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26920" y="1447560"/>
            <a:ext cx="75232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duce the large number of page faults that occurs at process star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page all or some of the pages a process will need, before they are refere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if prepaged pages are unused, I/O and memory was was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 are prepaged and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pages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os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*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pages faults &gt; or &lt; than the cost of prepaging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* (1-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necessary page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zer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epaging lo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– Page Siz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26560" y="1358640"/>
            <a:ext cx="651204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size selection must take into consid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le s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– TLB Reach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26560" y="1469520"/>
            <a:ext cx="680436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Reach - The amount of memory accessible from the 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B Reach = (TLB Size) X (Page Si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ly, the working set of each process is stored in the TL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there is a high degree of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th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ay lead to an increase in fragmentation as not all applications require a large pag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Multiple Page Si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llows applications that require larger page sizes the opportunity to use them without an increase in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– Program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7548840" cy="49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[128,128] da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is stored in one 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j = 0; j &lt;128; j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for (i = 0; i &lt; 128; i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data[i,j] = 0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x 128 = 16,384 page fault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(i = 0; i &lt; 128; i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for (j = 0; j &lt; 128; j++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data[i,j]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3319560"/>
                <a:tab algn="l" pos="3651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8 page fa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ther Issues – I/O interlock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26920" y="1409400"/>
            <a:ext cx="626616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/O Inter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ages must sometimes be locked in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I/O - Pages that are used for copying a file from a device must be locked from being selected for eviction by a page replacement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73000" y="0"/>
            <a:ext cx="813456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Reason Why Frames Used For I/O Must Be In Memory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rcRect l="18480" t="1176" r="18480" b="1452"/>
          <a:stretch/>
        </p:blipFill>
        <p:spPr>
          <a:xfrm>
            <a:off x="2556000" y="1762200"/>
            <a:ext cx="3797280" cy="4398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Examp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26920" y="14346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indows X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demand paging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ust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ustering brings in pages surrounding the faulting p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assign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set minim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 set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t minimum is the minimum number of pages the process is guaranteed to hav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may be assigned as many pages up to its working set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amount of free memory in the system falls below a threshold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working set trim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performed to restore the amount of free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ing set trimming removes pages from processes that have pages in excess of their working set min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ains a list of free pages to assign faul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ts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(amount of free memory) to begin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s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to increasing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inf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hreshold parameter to being 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is perform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ge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out scans pages using modified clock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an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rate at which pages are scanned. This ranges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owsc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sts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out is called more frequently depending upon the amount of free memory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2 Page Scann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rcRect l="923" t="6059" r="923" b="6059"/>
          <a:stretch/>
        </p:blipFill>
        <p:spPr>
          <a:xfrm>
            <a:off x="1666800" y="2003400"/>
            <a:ext cx="5545080" cy="3724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Library Using Virtu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701" t="6817" r="1163" b="6817"/>
          <a:stretch/>
        </p:blipFill>
        <p:spPr>
          <a:xfrm>
            <a:off x="1652760" y="1949400"/>
            <a:ext cx="5667120" cy="3740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mand P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ng a page into memory only when it i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I/O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memory nee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er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us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is neede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ence 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 referenc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-in-memor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ring to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zy sw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never swaps a page into memory unless page will be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er that deals with pages i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93360" y="0"/>
            <a:ext cx="83502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Transfer of a Paged Memory to Contiguous Disk Space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rcRect l="9653" t="709" r="9934" b="1413"/>
          <a:stretch/>
        </p:blipFill>
        <p:spPr>
          <a:xfrm>
            <a:off x="2620800" y="1600200"/>
            <a:ext cx="4575240" cy="4176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3T15:41:59Z</dcterms:created>
  <dc:creator/>
  <dc:description/>
  <dc:language>en-US</dc:language>
  <cp:lastModifiedBy>LOVE GOEL</cp:lastModifiedBy>
  <cp:lastPrinted>2001-06-15T13:47:43Z</cp:lastPrinted>
  <dcterms:modified xsi:type="dcterms:W3CDTF">2008-08-09T10:14:15Z</dcterms:modified>
  <cp:revision>0</cp:revision>
  <dc:subject/>
  <dc:title/>
</cp:coreProperties>
</file>