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31280" y="66135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A.</a:t>
            </a:r>
            <a:fld id="{645D5FB4-1280-4FEB-BDE9-6D6A156FD2BC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120" y="6613560"/>
            <a:ext cx="344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–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11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ppendix A:  UnixBS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Manipu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 sequence of bytes; the kernel does not impose a structure on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organized in tree-structu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files that contain information on how to find other 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identifies a file by specifying a path through the directory structure to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olute path names start at root of 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e path names start at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for basic file manipulation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reate, open, read, write, close, unlink, tru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Typical UNIX Directory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9" name="Picture 1029" descr=""/>
          <p:cNvPicPr/>
          <p:nvPr/>
        </p:nvPicPr>
        <p:blipFill>
          <a:blip r:embed="rId1"/>
          <a:srcRect l="24364" t="1132" r="24789" b="566"/>
          <a:stretch/>
        </p:blipFill>
        <p:spPr>
          <a:xfrm>
            <a:off x="2887560" y="1285920"/>
            <a:ext cx="3429000" cy="4971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5852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s a program i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are identified by their process identifier, an inte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a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used after a fork to replace on of the two processes’s virtual memory space with a new pro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 terminates a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may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child process to terminate;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the process id of a terminated child so that the parent can tell which child termin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it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s the parent to collect performance statistics about th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ombi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results when the parent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un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ild process exits before the terminated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llustration of Process Control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rcRect l="425" t="32397" r="635" b="32958"/>
          <a:stretch/>
        </p:blipFill>
        <p:spPr>
          <a:xfrm>
            <a:off x="846000" y="1285920"/>
            <a:ext cx="7805880" cy="2049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ommunicate via pipes; queues of bytes between two processes that are accessed by a file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user processes are descendants of one original proces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ks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et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: initializes terminal line parameters and passes the user’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 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s the numeric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process to that of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e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hich forks subprocesses for user comm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it sets the effective user identifier of the process to the user identifier of the owner of the file, and leave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 user identifi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 it w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cheme allows certain processes to have more than ordinary privileges while still being executable by ordinary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igna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31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ility for handling exceptional conditions similar to software interru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gnal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I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s used to stop a command before that command completes (usually produced by ^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 use has expanded beyond dealing with exceptional ev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and stop subprocesses on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WIN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orms a process that the window in which output is being displayed has changed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 urgent data from network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Group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related processes that cooperate to accomplish a common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one process group may use a terminal device for I/O at any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ground job has the attention of the user on the termi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ground jobs – nonattached jobs that perform their function without user inte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to the terminal is controlled by process group sig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Group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job inherits a controlling terminal from its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process group of the controlling terminal matches the group of a process, that process is in the fore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TT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background process that attempts to perform I/O; if the user foregrounds that process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CO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dicates that the process can now perform I/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IGS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reezes a foregroun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formation Manipul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o set and return an interval timer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itmer/setit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s to set and return the current tim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timeofday/settimeof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ask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process identifier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p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group identifier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g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ame of the machine on which they are executing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ethost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odule A:  The FreeBSD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Interf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ibrary Routin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-call interface to UNIX is supported and augmented by a large collection of library rout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er files provide the definition of complex data structures used in system cal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tional library support is provided for mathematical functions, network access, data conversion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ser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mers and users mainly deal with already existing systems programs: the needed system calls are embedded within the program and do not need to be obvious to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common systems programs are file or directory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: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kdir, rmdir, cd, pw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: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s, cp, mv, 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programs relate to edito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acs, v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text formatters (e.g.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off, TE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and other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ells and Command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el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the user process which executes programs (also called command interpre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ed a shell, because it surrounds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indicates its readiness to accept another command by typing a prompt, and the user types a command on a single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ypical command is an executable binary objec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travels through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rch 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find the command file, which is then loaded and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rectori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almost always in the search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hells and Command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search path on a BSD system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/home/prof/avi/bin /usr/local/bin /usr/ucb/bin /usr/b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ell usually suspends its own execution until the command compl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I/O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cesses expect three file descriptors to be open when they star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in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read what the use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outpu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gram can send output to user’s sc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ndard err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error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programs can also accept a file (rather than a terminal) for standard input and standard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mmon shells have a simple syntax for changing what files are open for the standard I/O streams of a process — I/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tandard I/O Redirec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1"/>
          <a:srcRect l="613" t="24457" r="1019" b="25004"/>
          <a:stretch/>
        </p:blipFill>
        <p:spPr>
          <a:xfrm>
            <a:off x="846000" y="1285920"/>
            <a:ext cx="7526520" cy="2900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ipelines, Filters, and Shell Scrip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coalesce individual commands via a vertical bar that tells the shell to pass the previous command’s output as input to the following command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% ls | pr | l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ter – a command such as pr that passes its standard input to its standard output, performing some processing on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ing a new shell with a different syntax and semantics would change the user view, but not change the kernel or programm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Window System is a widely accepted iconic interface for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2406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esentation of processes is a major design problem for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is distinct from other systems in that multiple processes can be created and manipulated with 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processes are represented in UNIX by various contro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blocks associated with a process are stored in the ker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in these control blocks is used by the kernel for process control and CPU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45640" y="1285920"/>
            <a:ext cx="702972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basic data structure associated with processes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que process ident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ing information (e.g., prio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s to other control bloc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address sp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a user process is divided into text (program code), data, and stack seg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with sharable text has a pointer form its process structure to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resident in main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how many processes are using the text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rds were the page table for the text segment can be found on disk when it is sw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Data Seg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rdinary work is done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system calls are performed 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ystem and user phases of a process never execute 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el st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rather than the user stack) is used for a process  executing in system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stack and the user structure together compos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dat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gment for the proc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Hist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7080" y="1285920"/>
            <a:ext cx="7510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veloped in 1969 by Ken Thompson and Dennis Ritchie of the Research Group at Bell Laboratories; incorporated features of other operating systems, especially MUL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hird version was written in C, which was developed at Bell Labs specifically to support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influential of the non-Bell Labs and non-AT&amp;T UNIX development groups — University of California at Berkeley (Berkeley Software Distributions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SD UNIX resulted from DARPA funding to develop a standard UNIX system for government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d for the VAX, 4.3BSD is one of the most influential versions, and has been ported to many other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tandardization projects seek to consolidate the variant flavors of UNIX leading to one programming interface to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1920" y="119160"/>
            <a:ext cx="7972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00"/>
                </a:solidFill>
                <a:latin typeface="Arial"/>
              </a:rPr>
              <a:t>Finding parts of a process using process structure </a:t>
            </a:r>
            <a:endParaRPr b="1" lang="en-US" sz="24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rcRect l="413" t="1929" r="1034" b="2205"/>
          <a:stretch/>
        </p:blipFill>
        <p:spPr>
          <a:xfrm>
            <a:off x="1138320" y="1243080"/>
            <a:ext cx="6815160" cy="4971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llocating a New Process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k allocates a new process structure for the child process, and copies the user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age table is constru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main memory is allocated for the data and stack segments of the chil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ying the user structure preserves open file descriptors, user and group identifiers, signal handling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22040" y="146160"/>
            <a:ext cx="77216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Allocating a New Process Structure (Cont.)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py the data and stack to t he new process; the new process simply shares the page table of the old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user structure and a new process structure are still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ly used by a shell to execute a command and to wait for its comple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rent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child process; the child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hange its virtual address space, so there is no need for a copy of the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a large parent process saves CPU time, but can be dangerous since any memory change occurs in both processes unti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cc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xec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s no new process or user structure; rather the text and data of the process ar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process ha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ing prior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ociated with it; larger numbers indicate lower pri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 feedback in CPU scheduling makes it difficult for a single process to take all the CPU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ging is employed to prevent sta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process chooses to relinquish the CPU, it goes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that event occurs, the system process that knows about it call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ake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the address corresponding to the event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 that had done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lee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the same address are put in the ready queue to be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itial memory management schemes were constrained in size by the relatively small memory resources of the PDP machines on which UNIX was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 3BSD system use swapping exclusively to handle memory contention among processes:  If there is too much contention, processes are swapped out until enough memory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cation of both main memory and swap space is done first-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emory Management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able text segments do not need to be swapped; results in less swap traffic and reduces the amount of main memory required for multiple processes using the same text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wapp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decides which processes to swap in or out, considering such factors as time idle, time in or out of main memory, size, e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aging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keley UNIX systems depend primarily on paging for memory-contention management, and depend only secondarily on sw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mand pag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When a process needs a page and the page is not there, a page fault tot he kernel occurs, a frame of main memory is allocated, and the proper disk page is read into th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agedaem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uses a modified second-chance page-replacement algorithm to keep enough free frames to support the execu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cheduler decides that the paging system is overloaded, processes will be swapped out whole until the overload is relie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file system supports two main objects: files and directori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just files with a special format, so the representation of a file is the basic UNIX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s and Fragmen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of the file system is taken up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us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lock sized for files which have no indirect block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the blocks of a file are of a larg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 (such as 8K), except the 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st block is an appropriate multiple of a small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ragment siz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.e., 1024) to fill out th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 file of size 18,000 bytes would have two 8K blocks and one 2K fragment (which would not be filled complete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s and Fragment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zes are set during file-system creation according to the intended use of the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many small files are expected, the fragment size should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repeated transfers of large files are expected, the basic block size should be 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block-to-fragment ratio is 8 : 1; the minimum block size is 4K (typical choices are 4096 : 512 and 8192 : 10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History of UNIX Vers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rcRect l="18683" t="1147" r="18683" b="1147"/>
          <a:stretch/>
        </p:blipFill>
        <p:spPr>
          <a:xfrm>
            <a:off x="2460600" y="1285920"/>
            <a:ext cx="4371840" cy="51148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od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ile is represented by a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 record that stores information about a specific file on the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also contains 15 pointer to the disk blocks containing the file’s data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12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three point t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indirect block pointer is the address of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indirect blo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n index block containing the addresses of blocks that do contai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is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uble-indirect-bloc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er, the address of a block that contains the addresses of blocks that contain pointer to the actual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ple indir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inter is not needed; files with as many as 232 bytes will use only double in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i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 type field distinguishes between plain files an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entries are of variable length; each entry contains first the length of the entry, then the file name and the in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refers to a file by a path name,whereas the file system uses the inode as its definition of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has to map the supplied user path name to an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ies are used for this m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ori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determine the starting directo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first character is “/”, the starting directory is the roo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ny other starting character, the starting directory is the current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rch process continues until the end of the path name is reached and the desired inode is retur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the inode is found, a file structure is allocated to point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mproved file system performance by adding a directory name cache to hold recent directory-to-inode trans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5240" y="393840"/>
            <a:ext cx="72374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pping of a File Descriptor to an Inode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that refer to open files indicate the file is passing a file descriptor as an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le descriptor is used by the kernel to index a table of open files for the curr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entry of the table contains a pointer to a file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file structure in turn points to the i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open file table has a fixed length which is only setable at boot time, there is a fixed limit on the number of concurrently open files i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File-System Control Block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5" name="Picture 5" descr=""/>
          <p:cNvPicPr/>
          <p:nvPr/>
        </p:nvPicPr>
        <p:blipFill>
          <a:blip r:embed="rId1"/>
          <a:srcRect l="1082" t="23055" r="1082" b="23055"/>
          <a:stretch/>
        </p:blipFill>
        <p:spPr>
          <a:xfrm>
            <a:off x="846000" y="1285920"/>
            <a:ext cx="7506000" cy="31003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tructur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ne file system that a user ordinarily sees may actually consist of several physical file systems, each on a different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tioning a physical device into multiple file systems has several benef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file systems can support different 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iability is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mprove efficiency by varying file-syste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s one program form using all available space for a large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s up searches on backup tapes and restoring partitions from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sk Structure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ot fi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is always available on a driv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ile systems may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unt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i.e., integrated into the directory hierarchy of the root file syste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llowing figure illustrates how a directory structure is partitioned into file systems, which are mapped onto logical devices, which are partitions of physic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127080"/>
            <a:ext cx="71866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Mapping File System to Physical Devic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rcRect l="7091" t="576" r="7520" b="861"/>
          <a:stretch/>
        </p:blipFill>
        <p:spPr>
          <a:xfrm>
            <a:off x="1862280" y="1285920"/>
            <a:ext cx="5676840" cy="4914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7076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ser interface to the file system is simple and well defined, allowing the implementation of the file system itself to be changed without significant effect on the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Version 7, the size of inodes doubled, the maximum file and file system sized increased, and the details of free-list handling and superblock information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0BSD, the size of blocks used in the file system was increased form 512 bytes to 1024 bytes — increased internal fragmentation, but doubled through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2BSD added the Berkeley Fast File System, which increased speed, and included new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irectory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run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File System found in most implementations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Layout and Allocation Polic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kernel uses a &lt;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gical device number, inode numb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pair to identify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gical device number defines the file system in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odes in the file system are numbered in 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introduc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ylinder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allows localization of the blocks in a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ylinder group occupies one or more consecutive cylinders of the disk, so that disk accesses within the cylinder group require minimal disk head m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 cylinder group has a superblock, a cylinder block, an array of inodes, and some data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arly Advantages of UNIX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in a high-level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buted in source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d powerful operating-system primitives on an inexpensive 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size, modular, clean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3BSD Cylinder Group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rcRect l="27314" t="1196" r="27760" b="1196"/>
          <a:stretch/>
        </p:blipFill>
        <p:spPr>
          <a:xfrm>
            <a:off x="2863800" y="1285920"/>
            <a:ext cx="3252960" cy="5300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/O Syst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/O system hides the peculiarities of I/O devices from the bulk of the ker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s of a buffer caching system, general device driver code, and drivers for specific hardware de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the device driver knows the peculiarities of a specific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3 BSD Kernel I/O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01" name="Picture 4" descr=""/>
          <p:cNvPicPr/>
          <p:nvPr/>
        </p:nvPicPr>
        <p:blipFill>
          <a:blip r:embed="rId1"/>
          <a:srcRect l="598" t="27588" r="997" b="27854"/>
          <a:stretch/>
        </p:blipFill>
        <p:spPr>
          <a:xfrm>
            <a:off x="846000" y="1285920"/>
            <a:ext cx="7909200" cy="26859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Buffer Cach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ist of buffer headers, each of which can point to a piece of physical memory, as well as to a device number and a block number on the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uffer headers for blocks not currently in use are kept in several linked list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recently used, linked in LRU order (LRU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s not recently used, or without valid contents (AGE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TY buffers with no associated physical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block is wanted from a device, the cache is sear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block is found it is used, and no I/O transfer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it is not found, a buffer is chosen from the AGE list, or the LRU list if AGE is 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lock Buffer Cache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cache size effects system performance; if it is large enough,  the percentage of cache hits can be high and the number of actual I/O transfers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written to a disk file are buffered in the cache, and the disk driver sorts its output queue according to disk address — these actions allow the disk driver to minimize disk head seeks and to write data at times optimized for disk r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aw Device Interfac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every block device has a character interface, 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de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— unlike the block interface, it bypasses the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disk driver maintains a queue of pending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ecord in the queue specifi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ther it is a read or a wr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main memory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address for th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rans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simple to map the information from a block buffer to what is required for this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-Lis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l drivers use a character buffering system which involves keeping small blocks of characters in link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to a terminal enqueues characters on a list for the device. An initial transfer is started, and interrupts cause dequeueing of characters and further trans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 is similarly interrupt dri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also possible to have the device driver bypass the canonical queue and return characters directly form the raw queue —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w m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used by full-screen editors and other programs that need to react to every keystro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PC mechanism most characteristic of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its a reliable unidirectional byte stream between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nefit of pipes small size is that pipe data are seldom written to disk; they usually are kept in memory by the normal block buffer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4.3BSD, pipes are implemented as a special case of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chanism which provides a general interface not only to facilities such as pipes, which are local to one machine, but also to networking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mechanism can be used by unrelated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an endpont of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in-use socket it usually bound with an address; the nature of the address depends on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dom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haracteristic property of a domain is that processes communication in the same domain use the sa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socket can communicate in only one domain — the three domains currently implemented in 4.3BSD a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NIX domain (AF_UNI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net domain (AF_IN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XEROX Network Service (NS) domain (AF_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Typ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678800" cy="48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re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reliable, duplex, sequenced data streams.  Supported in Internet domain by the TCP protocol.  In UNIX domain, pipes are implemented as a pair of communicating stream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quenced packet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vide similar data streams, except that record boundaries are provi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in XEROX AF_NS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gram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of variable size in either direction.  Supported in Internet domain by UDP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ly delivered message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ansfer messages that are guaranteed to arrive (Currently unsuppor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w so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direct access by processes to the protocols that support the other socket types; e.g., in the Internet domain, it is possible to reach TCP, IP beneath that, or a deeper Ethernet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for developing new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UNIX Design Principl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gned to be a time-shar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a simple standard user interface (shell) that can be repl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system with multilevel tree-structured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s are supported by the kernel as unstructured sequences of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multiple processes; a process can easily create new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priority given to making system interactive, and providing facilities for program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45640" y="1285560"/>
            <a:ext cx="7705800" cy="51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creates a socket; takes as arguments specifications of the communication domain, socket type, and protocol to be used and returns a small integer called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cke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ame is bound to a socket by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is used to initiate a 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rver process 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oc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create a socket and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i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ind the well-known address of its service to that s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ist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ell the kernel that it is ready to accept connections from 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 individual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produce a new process after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ce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service the client while the original server process continues to listen for more conn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System Call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implest way to terminate a connection and to destroy the associated socket is to use 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lo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on its socket 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an be used to multiplex data transfers on several file descriptors and /or socket descrip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Network Suppor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ing support is one of the most important features in 4.3B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concept provides the programming mechanism to access other processes, even across a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 provide an interface to several sets of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all current UNIX systems support UU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3BSD supports the DARPA Internet protocols UDP, TCP, IP, and ICMP on a wide range of Ethernet, token-ring, and ARPANET 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4.3BSD networking implementation, and to a certain extent the socket facility, is more oriented toward the ARPANET Reference Model (A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00160" y="128520"/>
            <a:ext cx="735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Network Reference models and Layering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rcRect l="594" t="18265" r="993" b="18531"/>
          <a:stretch/>
        </p:blipFill>
        <p:spPr>
          <a:xfrm>
            <a:off x="846000" y="1285920"/>
            <a:ext cx="7734600" cy="3725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grammer Interfac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2000" y="184932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:  everything below the system-call interface and above the physical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file system, CPU scheduling, memory management, and other OS functions through system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programs:  use the kernel-supported system calls to provide useful functions, such as compilation and file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845640" y="1285200"/>
            <a:ext cx="700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ost computer systems, UNIX consists of two separable par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4.4BSD Layer Structur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986" t="7629" r="986" b="7107"/>
          <a:stretch/>
        </p:blipFill>
        <p:spPr>
          <a:xfrm>
            <a:off x="1182600" y="1285920"/>
            <a:ext cx="7096320" cy="4629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stem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46000" y="128556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s define the programmer interface to UNI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of systems programs commonly available defines the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grammer and user interface define the context that the kernel must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ly three categories of system calls in 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manipulation (same system calls also support device manip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mani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8:18:06Z</dcterms:created>
  <dc:creator/>
  <dc:description/>
  <dc:language>en-US</dc:language>
  <cp:lastModifiedBy>LOVE GOEL</cp:lastModifiedBy>
  <cp:lastPrinted>2001-07-05T21:27:27Z</cp:lastPrinted>
  <dcterms:modified xsi:type="dcterms:W3CDTF">2008-08-09T10:19:56Z</dcterms:modified>
  <cp:revision>0</cp:revision>
  <dc:subject/>
  <dc:title/>
</cp:coreProperties>
</file>