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31280" y="66135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A.</a:t>
            </a:r>
            <a:fld id="{61E1F698-3FF1-412E-94CE-0F522C3B01EE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1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endix A:  UnixBS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Manipu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quence of bytes; the kernel does not impose a structure 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organized in tree-structu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files that contain information on how to find 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dentifies a file by specifying a path through the directory structure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path names start at root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 names start at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basic file manipulation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read, write, close, unlink, 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ypical UNIX Directory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Picture 1029" descr=""/>
          <p:cNvPicPr/>
          <p:nvPr/>
        </p:nvPicPr>
        <p:blipFill>
          <a:blip r:embed="rId1"/>
          <a:srcRect l="24364" t="1132" r="24789" b="566"/>
          <a:stretch/>
        </p:blipFill>
        <p:spPr>
          <a:xfrm>
            <a:off x="2887560" y="1285920"/>
            <a:ext cx="3429000" cy="4971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585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identified by their process identifier, an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fter a fork to replace on of the two processes’s virtual memory space with a new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erminate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m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hild process to terminat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process id of a terminated child so that the parent can tell which child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parent to collect performance statistics about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m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sults when the par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u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process exits before the terminated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llustration of Process Control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425" t="32397" r="635" b="32958"/>
          <a:stretch/>
        </p:blipFill>
        <p:spPr>
          <a:xfrm>
            <a:off x="846000" y="1285920"/>
            <a:ext cx="7805880" cy="204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mmunicate via pipes; queues of bytes between two processes that are accessed by a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 processes are descendants of one original proc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k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: initializes terminal line parameters and passes the us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he numer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cess to that of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forks subprocesses for user comm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sets the effective user identifier of the process to the user identifier of the owner of the file, and leav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allows certain processes to have more than ordinary privileges while still being executable by ordinar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gna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31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y for handling exceptional conditions similar to soft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used to stop a command before that command completes (usually produced by ^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use has expanded beyond dealing with exception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subprocess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WI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s a process that the window in which output is being displayed has chang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urgent data from network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Grou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elated processes that cooperate to accomplish a comm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rocess group may use a terminal device for I/O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ground job has the attention of the user on th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jobs – nonattached jobs that perform their function without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terminal is controlled by process group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Group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job inherits a controlling terminal from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cess group of the controlling terminal matches the group of a process, that process is in the fore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background process that attempts to perform I/O; if the user foregrounds that proces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rocess can now perfor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foregrou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formation Manipu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set and return an interval tim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itmer/setit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set and return the current ti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/s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ask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process identifi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roup identifier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machine on which they are execut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 A:  The FreeBSD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brary Routin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-call interface to UNIX is supported and augmented by a large collection of library rout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files provide the definition of complex data structures used in system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ibrary support is provided for mathematical functions, network access, data conversion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and users mainly deal with already existing systems programs: the needed system calls are embedded within the program and do not need to be obvious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systems programs are file or directory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, rmdir, cd, p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, cp, mv,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grams relate to edito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cs,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ext formatte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off, 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othe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ells and Comman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he user process which executes programs (also called command interpr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shell, because it surrounds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indicates its readiness to accept another command by typing a prompt, and the user types a command on a singl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command is an executable binary objec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travels 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d the command file, which is then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most always in the sear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ells and Command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search path on a BSD syste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home/prof/avi/bin /usr/local/bin /usr/ucb/bin 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usually suspends its own execution until the command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cesses expect three file descriptors to be open when they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read what the use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send output to user’s sc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r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s can also accept a file (rather than a terminal) for standard input and 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on shells have a simple syntax for changing what files are open for the standard I/O streams of a process — I/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I/O Redir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rcRect l="613" t="24457" r="1019" b="25004"/>
          <a:stretch/>
        </p:blipFill>
        <p:spPr>
          <a:xfrm>
            <a:off x="846000" y="1285920"/>
            <a:ext cx="7526520" cy="2900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ipelines, Filters, and Shell Scri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alesce individual commands via a vertical bar that tells the shell to pass the previous command’s output as input to the following comm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s | pr | l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– a command such as pr that passes its standard input to its standard output, performing some processing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new shell with a different syntax and semantics would change the user view, but not change the kernel or programm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Window System is a widely accepted iconic interface for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on of processes is a major design problem for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distinct from other systems in that multiple processes can be created and manipulated with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represented in UNIX by various contro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locks associated with a process are stored 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n these control blocks is used by the kernel for process control and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data structure associated with process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proce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formation (e.g.,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other control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user process is divided into text (program code), data, and st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with sharable text has a pointer form its process structure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residen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how many processes are using the tex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ere the page table for the text segment can be found on disk when it is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Data Seg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rdinary work is don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ystem calls are perform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and user phases of a process never execu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ther than the user stack) is used for a process  executing in 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tack and the user structure together compo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gment for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His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7080" y="128592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in 1969 by Ken Thompson and Dennis Ritchie of the Research Group at Bell Laboratories; incorporated features of other operating systems, especially MUL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ersion was written in C, which was developed at Bell Labs specifically to support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nfluential of the non-Bell Labs and non-AT&amp;T UNIX development groups — University of California at Berkeley (Berkeley Software Distributions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SD UNIX resulted from DARPA funding to develop a standard UNIX system for governm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the VAX, 4.3BSD is one of the most influential versions, and has been ported to many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tandardization projects seek to consolidate the variant flavors of UNIX leading to one programming interface to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1920" y="119160"/>
            <a:ext cx="7972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Finding parts of a process using process structure 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413" t="1929" r="1034" b="2205"/>
          <a:stretch/>
        </p:blipFill>
        <p:spPr>
          <a:xfrm>
            <a:off x="1138320" y="1243080"/>
            <a:ext cx="6815160" cy="4971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ng a New Proces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allocates a new process structure for the child process, and copies the use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age table is 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in memory is allocated for the data and stack segments of the chil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the user structure preserves open file descriptors, user and group identifiers, signal handl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2040" y="14616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llocating a New Process Structure (Cont.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 the data and stack to t he new process; the new process simply shares the page table of the ol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structure and a new process structure are still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by a shell to execute a command and to wait for its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child process; the child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hange its virtual address space, so there is no need for a copy of th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large parent process saves CPU time, but can be dangerous since any memory change occurs in both processes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no new process or user structure; rather the text and data of the process ar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d with it; larger numbers indicate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eedback in CPU scheduling makes it difficult for a single process to take all the CPU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ging is employed to prevent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chooses to relinquish the CPU, it go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at event occurs, the system process that knows about it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ddress corresponding to the even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that had do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address are put in the ready queue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memory management schemes were constrained in size by the relatively small memory resources of the PDP machines on which UNIX was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3BSD system use swapping exclusively to handle memory contention among processes:  If there is too much contention, processes are swapped out until enough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oth main memory and swap space is done 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able text segments do not need to be swapped; results in less swap traffic and reduces the amount of main memory required for multiple processes using the same tex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ides which processes to swap in or out, considering such factors as time idle, time in or out of main memory, siz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UNIX systems depend primarily on paging for memory-contention management, and depend only secondarily on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a process needs a page and the page is not there, a page fault tot he kernel occurs, a frame of main memory is allocated, and the proper disk page is read into th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gedaem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uses a modified second-chance page-replacement algorithm to keep enough free frames to support the execu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cheduler decides that the paging system is overloaded, processes will be swapped out whole until the overload is r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supports two main objects: files and directo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just files with a special format, so the representation of a file is the basic UNIX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s and Fragmen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file system is taken 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sized for files which have no indirect blo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locks of a file are of a l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(such as 8K), except th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lock is an appropriate multiple of a smal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gmen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1024) to fill 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file of size 18,000 bytes would have two 8K blocks and one 2K fragment (which would not be filled complet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s and Fragmen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s are set during file-system creation according to the intended use of the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small files are expected, the fragment size 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eated transfers of large files are expected, the basic block size should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block-to-fragment ratio is 8 : 1; the minimum block size is 4K (typical choices are 4096 : 512 and 8192 : 1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 of UNIX Vers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8683" t="1147" r="18683" b="1147"/>
          <a:stretch/>
        </p:blipFill>
        <p:spPr>
          <a:xfrm>
            <a:off x="2460600" y="1285920"/>
            <a:ext cx="4371840" cy="5114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od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represented by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 record that stores information about a specific fil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also contains 15 pointer to the disk blocks containing the file’s data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12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hree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ndirect block pointer is the address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ndirec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n index block containing the addresses of blocks that do conta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-indirect-b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, the address of a block that contains the addresses of blocks that contain pointer to the actual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 in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er is not needed; files with as many as 232 bytes will use only double 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type field distinguishes between plain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entries are of variable length; each entry contains first the length of the entry, then the file name and the in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refers to a file by a path name,whereas the file system uses the inode as its defini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has to map the supplied user path name to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used for this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i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termine the starting direc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character is “/”, the starting directory is the roo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ther starting character, the starting directory is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process continues until the end of the path name is reached and the desired inode is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inode is found, a file structure is allocated to point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mproved file system performance by adding a directory name cache to hold recent directory-to-inode trans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5240" y="393840"/>
            <a:ext cx="7237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pping of a File Descriptor to an Inod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hat refer to open files indicate the file is passing a file descriptor as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descriptor is used by the kernel to index a table of open files for the 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of the table contains a pointer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le structure in turn points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open file table has a fixed length which is only setable at boot time, there is a fixed limit on the number of concurrently open files i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System Control Blo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1082" t="23055" r="1082" b="23055"/>
          <a:stretch/>
        </p:blipFill>
        <p:spPr>
          <a:xfrm>
            <a:off x="846000" y="1285920"/>
            <a:ext cx="7506000" cy="3100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file system that a user ordinarily sees may actually consist of several physical file systems, each on a differe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 physical device into multiple file systems has several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ile systems can support different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i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rove efficiency by varying file-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one program form using all available space for a lar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searches on backup tapes and restoring partitions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tructur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lways available on a 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ile system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integrated into the directory hierarchy of the root fil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how a directory structure is partitioned into file systems, which are mapped onto logical devices, which are partitions of phys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127080"/>
            <a:ext cx="7186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pping File System to Physical Devic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7091" t="576" r="7520" b="861"/>
          <a:stretch/>
        </p:blipFill>
        <p:spPr>
          <a:xfrm>
            <a:off x="1862280" y="1285920"/>
            <a:ext cx="5676840" cy="4914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7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nterface to the file system is simple and well defined, allowing the implementation of the file system itself to be changed without significant effect on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ersion 7, the size of inodes doubled, the maximum file and file system sized increased, and the details of free-list handling and superblock information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0BSD, the size of blocks used in the file system was increased form 512 bytes to 1024 bytes — increased internal fragmentation, but double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added the Berkeley Fast File System, which increased speed, and included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ile System found in most implementation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out and Allocation Poli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uses a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device number, i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 to identify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device number defines the file system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s in the file system are numbered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ntroduc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lin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llows localization of the blocks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ylinder group occupies one or more consecutive cylinders of the disk, so that disk accesses within the cylinder group require minimal disk head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ylinder group has a superblock, a cylinder block, an array of inodes, and som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arly Advantages of UN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a high-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 sourc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powerful operating-system primitives on an inexpensiv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, modular, clea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3BSD Cylinder Grou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27314" t="1196" r="27760" b="1196"/>
          <a:stretch/>
        </p:blipFill>
        <p:spPr>
          <a:xfrm>
            <a:off x="2863800" y="1285920"/>
            <a:ext cx="3252960" cy="5300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system hides the peculiarities of I/O devices from the bulk of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a buffer caching system, general device driver code, and drivers for specific hardwar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evice driver knows the peculiarities of a specific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3 BSD Kernel I/O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598" t="27588" r="997" b="27854"/>
          <a:stretch/>
        </p:blipFill>
        <p:spPr>
          <a:xfrm>
            <a:off x="846000" y="1285920"/>
            <a:ext cx="7909200" cy="2685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buffer headers, each of which can point to a piece of physical memory, as well as to a device number and a block number on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ffer headers for blocks not currently in use are kept in several linked li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recently used, linked in LRU order (LR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not recently used, or without valid contents (AG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ffers with no associat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lock is wanted from a device, the cache is sea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lock is found it is used, and no I/O transfer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 found, a buffer is chosen from the AGE list, or the LRU list if AGE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Buffer Cach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ache size effects system performance; if it is large enough,  the percentage of cache hits can be high and the number of actual I/O transfer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ritten to a disk file are buffered in the cache, and the disk driver sorts its output queue according to disk address — these actions allow the disk driver to minimize disk head seeks and to write data at times optimized for disk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w Device Interfa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every block device has a character interface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unlike the block interface, it bypasses the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sk driver maintains a queue of pending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cord in the queue 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it is a read or a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in memory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imple to map the information from a block buffer to what is required for this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-Lis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rivers use a character buffering system which involves keeping small blocks of characters in link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to a terminal enqueues characters on a list for the device. An initial transfer is started, and interrupts cause dequeueing of characters and further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s similarly interrup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possible to have the device driver bypass the canonical queue and return characters directly form the raw queue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d by full-screen editors and other programs that need to react to every keystro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PC mechanism most characteristic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a reliable unidirectional byte stream between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nefit of pipes small size is that pipe data are seldom written to disk; they usually are kept in memory by the normal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3BSD, pipes are implemented as a special c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which provides a general interface not only to facilities such as pipes, which are local to one machine, but also to network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mechanism can be used by unrel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n endpont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-use socket it usually bound with an address; the nature of the address depends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istic property of a domain is that processes communication in the same domain use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socket can communicate in only one domain — the three domains currently implemented in 4.3BS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domain (AF_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domain (AF_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EROX Network Service (NS) domain (AF_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Typ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78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reliable, duplex, sequenced data streams.  Supported in Internet domain by the TCP protocol.  In UNIX domain, pipes are implemented as a pair of communicating stream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d packet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similar data streams, except that record boundaries ar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XEROX AF_N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of variable size in either direction.  Supported in Internet domain by UDP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delivered message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that are guaranteed to arrive (Currently unsuppor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direct access by processes to the protocols that support the other socket types; e.g., in the Internet domain, it is possible to reach TCP, IP beneath that, or a deeper Eth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veloping new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Design Princi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to be a time-sha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simple standard user interface (shell) that can b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with multilevel tree-structur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supported by the kernel as unstructured sequences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ltiple processes; a process can easily create new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iority given to making system interactive, and providing facilities for progr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058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reates a socket; takes as arguments specifications of the communication domain, socket type, and protocol to be used and returns a small integ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me is bound to a socket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is used to initiate 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reate a socket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ind the well-known address of its service to that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ll the kernel that it is ready to accept connections from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 individu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new process afte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rvice the client while the original server process continues to listen for mo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System Call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st way to terminate a connection and to destroy the associated socket is to 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on its socke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an be used to multiplex data transfers on several file descriptors and /or socket descri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uppor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support is one of the most important features in 4.3B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concept provides the programming mechanism to access other processes, even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 provide an interface to several sets of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current UNIX systems support UU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supports the DARPA Internet protocols UDP, TCP, IP, and ICMP on a wide range of Ethernet, token-ring, and ARPANE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.3BSD networking implementation, and to a certain extent the socket facility, is more oriented toward the ARPANET Reference Model (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00160" y="128520"/>
            <a:ext cx="735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etwork Reference models and Layer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rcRect l="594" t="18265" r="993" b="18531"/>
          <a:stretch/>
        </p:blipFill>
        <p:spPr>
          <a:xfrm>
            <a:off x="846000" y="1285920"/>
            <a:ext cx="7734600" cy="3725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mer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2000" y="18493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: 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ile system, CPU scheduling, memory management, and other OS functions through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:  use the kernel-supported system calls to provide useful functions, such as compilation and 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45640" y="128520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computer systems, UNIX consists of two separable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4BSD Layer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986" t="7629" r="986" b="7107"/>
          <a:stretch/>
        </p:blipFill>
        <p:spPr>
          <a:xfrm>
            <a:off x="1182600" y="1285920"/>
            <a:ext cx="7096320" cy="4629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define the programmer interface to 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systems programs commonly available defines th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and user interface define the context that the kernel mus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three categories of system cal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(same system calls also support device mani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18:06Z</dcterms:created>
  <dc:creator/>
  <dc:description/>
  <dc:language>en-US</dc:language>
  <cp:lastModifiedBy>LOVE GOEL</cp:lastModifiedBy>
  <cp:lastPrinted>2001-07-05T21:27:27Z</cp:lastPrinted>
  <dcterms:modified xsi:type="dcterms:W3CDTF">2008-08-09T10:19:56Z</dcterms:modified>
  <cp:revision>0</cp:revision>
  <dc:subject/>
  <dc:title/>
</cp:coreProperties>
</file>