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C31B4-8403-4B00-AD93-7F7717AB6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29C0-7955-4FD6-B0AF-480A57DF0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A0AA-FCA1-410E-9930-F20D3A4C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BC5B-F7A9-457C-994D-A40A19D1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FA82-E8BC-4D0A-9ADE-3E16B56C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160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68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160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68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B5F-1A59-4932-AEB3-2693B8B58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6060-E56F-426C-8126-A8387C28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23EA-8ACE-415D-B6D6-27A825AC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1C79-355A-4B28-8835-AE5F8911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F8EA-F70A-41F0-A605-2EE0EA16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F796-2058-4851-B737-5F4C6936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EE6B-69F4-4649-9322-6CDA747A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5297-41EF-419A-9C9C-6A2AFB2B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C76-8A62-4ACA-9A42-DFA1B8E2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618C-1980-4E93-A875-8B9565B1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C18A-E263-4587-8F97-2C44FDA0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4F3C-49CC-4376-A30B-3ADBC4F2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D8FC-DF98-48FC-A7E2-74121E52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160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2680" y="167652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52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160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2680" y="3984840"/>
            <a:ext cx="265788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9413-7B77-4715-9870-DE90A2D2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4FD-6339-44C3-8BA6-4B8E7BDE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FBC9-C8CD-48F0-9836-DDD10D9B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025F-06A5-4FD9-9B49-A4B76D02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641C-A144-4421-AF2F-4B147751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4A6B-97E2-4ACB-AB38-092BC8DA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0880" y="398484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A861-6336-4C25-B551-161DF0BA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0880" y="1676520"/>
            <a:ext cx="4028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3984840"/>
            <a:ext cx="8255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45A-2A78-4679-9A23-9EE7E7DC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D853-102B-4568-96E1-FA2087F34B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AF58-0DDA-4A01-9636-C6FB8CB89F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http://images.google.com/imgres?imgurl=wetpc.com.au/html/Assets/jpg/general/WetPC1.jpg&amp;imgrefurl=http://wetpc.com.au/html/newsroom/&amp;h=2774&amp;w=1813&amp;prev=/images%3Fq%3Dwearable%2Bcomputer%26start%3D20%26svnum%3D10%26hl%3Den%26lr%3D%26ie%3DUTF-8%26oe%3DUTF-8%26sa%3DN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3149640" y="622944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6603840" y="6229440"/>
            <a:ext cx="18288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B44C-7755-4F89-93DD-5D47BFA376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 of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ng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00200" y="350496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432C-2DC6-4FB7-A1B8-97B5A3F86A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perating System Spectru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s and Small Ker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purpose and embedded systems, real-time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and multiprogram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ha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kstations, servers, minicomputers, time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BF74-6A42-4107-931D-53B268822C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rly Systems - Bare Machine (1950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 machines run from cons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user system, Programmer/User as oper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per tape or punched ca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mblers, compilers, linkers, loaders, device drivers, libraries of common subrouti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execu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 use of expensive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 CPU utilization, high setup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5DCB-052F-47DB-A9C2-C4F7CCF4A3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Batch Systems (1960’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setup time by batching jobs with similar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a card reader, Hire an op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s NOT the ope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job sequenc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s a rudimentary 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dent Monit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lds initial control, control transfers to job and then back to monit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istinguish job from job and data from progra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30BD-B775-4084-BE5C-4F17629677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ervisor/Operat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e monitor that controls job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pecial cards indicate what to 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program prevented from performing I/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user from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submits card de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ds put on ta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pe processed by opera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utput written to tap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pe printed on pri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ng turnaround time - up to 2 DAYS!!!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 CPU util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/O and CPU could not overlap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 mechanical devic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1C37-BA98-48EF-8791-62D3EC67A8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tch Systems -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s to speed up I/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ffline 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ad jobs into memory from tapes, card reading and line printing are done offl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ool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disk (random access device) as large storage for reading as many input files as  possible and storing output files until output devices are ready to accept them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overlap -  I/O of one job with computation of anot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oduces notion of a job pool that allows OS choose next job to run so as to increase CPU utilization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1307-D680-4D8A-B11D-8780BC6D8C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eding up I/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4" name="Picture 4" descr="img9"/>
          <p:cNvPicPr/>
          <p:nvPr/>
        </p:nvPicPr>
        <p:blipFill>
          <a:blip r:embed="rId1"/>
          <a:stretch/>
        </p:blipFill>
        <p:spPr>
          <a:xfrm>
            <a:off x="2590920" y="1905120"/>
            <a:ext cx="3930480" cy="4171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FEF2-9C8A-44F5-8A73-92660819DB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tch Systems - I/O comple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do we know that I/O is complet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ice sets a flag when it is bus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 tests the flag in a loop waiting for completion of I/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rup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completion of I/O, device forces CPU to jump to a specific instruction address that contains the interrupt service rout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the interrupt has been processed, CPU returns to code it was executing prior to servicing the interrup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24A6-AE51-49A5-A32B-ACA81E717E4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rogram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interrupts to run multiple programs simultane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a program performs I/O, instead of polling, execute another program till interrupt is receiv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secure memory, I/O for each progra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tervention if program loops indefinite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CPU scheduling to choose the next job to ru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98A4-7E30-467B-BB83-D0A756BFBF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sha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s queued for execution in FIFO ord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ke multiprogramming, but timer device interrupts after a quantum (timeslice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rupted program is returned to end of FI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 program is taken from head of FI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card interpreter replaced by command language interpret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7E91-7FA4-4A4D-A4AE-E1AA75F815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sharing (cont.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(action/respons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OS finishes execution of one command, it seeks the next control statement from us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ine filesystem is required for users to access data and cod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ob is swapped in  and out of memory to dis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F6D6-33C4-4032-8963-BD6C08A88EA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n operating syst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Opera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Batch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grammed Batch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shar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 and Distributed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55AA-5FBD-4D26-92B3-56561B7CA3C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sonal Computing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systems, por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 - keyboards, mice, display screens, small print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tops and palmtops, Smart cards, Wireless devi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systems may not need advanced CPU utilization or protection featu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convenience, responsiveness, ubiquit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15AB-4368-4A31-9BFF-933F5A69B8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llel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cessor systems with more than one CPU in close communic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Throughput, economical, increased reliabil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in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ector and pipelin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mmetric and asymmetric multiprocess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memory vs. shared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mode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ghtly coupled vs. loosely coupled ,message-based vs. shared vari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8C10-2B60-4AD6-9863-700072633B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tributed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computation among many process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sely coupled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shared memory, various communication lin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/server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ource shar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ation speed-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 - e.g. e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- digital libraries, digital multi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836F-9A01-4194-B790-A8C460624B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-time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 system function depends on timeli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/control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sors and actu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real-time systems 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if response time too lo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ary storage is limi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 real-time systems -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accurate if response time is too lo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ful in applications such as multimedia, virtual realit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B43B9-8689-4B8A-98C1-204E471623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mmary of l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an operating system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Operat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Batch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grammed Batch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-shar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llel and Distributed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E606-8ADD-418F-9FBC-D7950D4455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n Operating System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S is a program that acts an intermediary between the user of a computer and computer hard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cost of general purpose computing is softwar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 simplifies and manages the complexity of running application programs efficientl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C6A1-A832-4D27-BB84-0326393E27B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als of an Operating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y the execution of user programs and make solving user problems easi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omputer hardware efficientl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sharing of hardware and software resourc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application software portable and versati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solation, security and protection among user progra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overall system reliabili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 confinement, fault tolerance, reconfigur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F8C4-A684-49C8-840C-E6794B17BC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should I study Operating Systems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understand interaction between the hardware and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applications, new hardware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understand basic principles in the design of computer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icient resource management, security, flexi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ing need for specialized operating systems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embedded operating systems for devices - cell phones, sensors and controll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-time operating systems - aircraft control, multimedia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7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8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544D-CA49-4CFC-A970-E8CE8237E63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2" descr="Tadiran Communications' products address every echelon, from the individual fighting soldier through the squad and platoon up to the division and corps level."/>
          <p:cNvPicPr/>
          <p:nvPr/>
        </p:nvPicPr>
        <p:blipFill>
          <a:blip r:embed="rId1"/>
          <a:stretch/>
        </p:blipFill>
        <p:spPr>
          <a:xfrm>
            <a:off x="2743200" y="152280"/>
            <a:ext cx="2819520" cy="2013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1896"/>
          <p:cNvPicPr/>
          <p:nvPr/>
        </p:nvPicPr>
        <p:blipFill>
          <a:blip r:embed="rId2"/>
          <a:stretch/>
        </p:blipFill>
        <p:spPr>
          <a:xfrm>
            <a:off x="0" y="3962520"/>
            <a:ext cx="2158920" cy="2590560"/>
          </a:xfrm>
          <a:prstGeom prst="rect">
            <a:avLst/>
          </a:prstGeom>
          <a:ln w="0">
            <a:noFill/>
          </a:ln>
        </p:spPr>
      </p:pic>
      <p:grpSp>
        <p:nvGrpSpPr>
          <p:cNvPr id="115" name="Group 4"/>
          <p:cNvGrpSpPr/>
          <p:nvPr/>
        </p:nvGrpSpPr>
        <p:grpSpPr>
          <a:xfrm>
            <a:off x="2209680" y="4724280"/>
            <a:ext cx="3581280" cy="1904760"/>
            <a:chOff x="2209680" y="4724280"/>
            <a:chExt cx="3581280" cy="1904760"/>
          </a:xfrm>
        </p:grpSpPr>
        <p:pic>
          <p:nvPicPr>
            <p:cNvPr id="116" name="Picture 5" descr="diagram of underwater computer with chording hand controller "/>
            <p:cNvPicPr/>
            <p:nvPr/>
          </p:nvPicPr>
          <p:blipFill>
            <a:blip r:embed="rId3"/>
            <a:stretch/>
          </p:blipFill>
          <p:spPr>
            <a:xfrm>
              <a:off x="2209680" y="4810680"/>
              <a:ext cx="3300120" cy="164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6" descr="WetPC1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4698720" y="4724280"/>
              <a:ext cx="1092240" cy="1904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Picture 8" descr="3gphone"/>
          <p:cNvPicPr/>
          <p:nvPr/>
        </p:nvPicPr>
        <p:blipFill>
          <a:blip r:embed="rId6"/>
          <a:srcRect l="0" t="3710" r="3695" b="0"/>
          <a:stretch/>
        </p:blipFill>
        <p:spPr>
          <a:xfrm>
            <a:off x="228600" y="2362320"/>
            <a:ext cx="1206360" cy="1447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The image “http://darla.mit.edu/~mountain/images/reserach/field/field_iPAQ_laser_survey.jpg” cannot be displayed, because it contains errors."/>
          <p:cNvPicPr/>
          <p:nvPr/>
        </p:nvPicPr>
        <p:blipFill>
          <a:blip r:embed="rId7"/>
          <a:stretch/>
        </p:blipFill>
        <p:spPr>
          <a:xfrm>
            <a:off x="5791320" y="0"/>
            <a:ext cx="2909880" cy="21859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0" name="Picture 10" descr="The image “http://www.kontron.com/images/militaryApps.jpg” cannot be displayed, because it contains errors."/>
          <p:cNvPicPr/>
          <p:nvPr/>
        </p:nvPicPr>
        <p:blipFill>
          <a:blip r:embed="rId8"/>
          <a:stretch/>
        </p:blipFill>
        <p:spPr>
          <a:xfrm>
            <a:off x="609480" y="0"/>
            <a:ext cx="1649520" cy="220968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1" name="Picture 12" descr="The image “http://www.mmt-kmi.com/images/ThisIssue/7_3_art6.jpg” cannot be displayed, because it contains errors."/>
          <p:cNvPicPr/>
          <p:nvPr/>
        </p:nvPicPr>
        <p:blipFill>
          <a:blip r:embed="rId9"/>
          <a:stretch/>
        </p:blipFill>
        <p:spPr>
          <a:xfrm>
            <a:off x="2138400" y="2271600"/>
            <a:ext cx="3516120" cy="2184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"/>
          <p:cNvPicPr/>
          <p:nvPr/>
        </p:nvPicPr>
        <p:blipFill>
          <a:blip r:embed="rId10"/>
          <a:stretch/>
        </p:blipFill>
        <p:spPr>
          <a:xfrm>
            <a:off x="6858000" y="5181480"/>
            <a:ext cx="1347840" cy="951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123" name="Picture 15" descr=""/>
          <p:cNvPicPr/>
          <p:nvPr/>
        </p:nvPicPr>
        <p:blipFill>
          <a:blip r:embed="rId11"/>
          <a:stretch/>
        </p:blipFill>
        <p:spPr>
          <a:xfrm>
            <a:off x="5722920" y="2514600"/>
            <a:ext cx="342108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7A8EB-3E5F-4D66-8442-50DB3D0067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uter System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vides basic computing resources (CPU, memory, I/O devices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s and coordinates the use of hardware among application program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lve computing problems of users (compilers, database systems, video games, business programs such as banking software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eople, machines, other comput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8BF5-2271-4917-9574-8ABFC3ACA78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View of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1523880" y="3276720"/>
            <a:ext cx="5867640" cy="121896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 and Application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2971800" y="4114800"/>
            <a:ext cx="2971800" cy="9144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733920" y="4800600"/>
            <a:ext cx="1447560" cy="9144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t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1752480" y="2057400"/>
            <a:ext cx="60984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2971800" y="2133720"/>
            <a:ext cx="6094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267080" y="2133720"/>
            <a:ext cx="60984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6705720" y="2133720"/>
            <a:ext cx="6094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e574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213372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2"/>
          <p:cNvSpPr/>
          <p:nvPr/>
        </p:nvSpPr>
        <p:spPr>
          <a:xfrm>
            <a:off x="33526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3"/>
          <p:cNvSpPr/>
          <p:nvPr/>
        </p:nvSpPr>
        <p:spPr>
          <a:xfrm>
            <a:off x="464832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708660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9"/>
          <p:cNvSpPr/>
          <p:nvPr/>
        </p:nvSpPr>
        <p:spPr>
          <a:xfrm>
            <a:off x="1587600" y="331308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2806920" y="331308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1"/>
          <p:cNvSpPr/>
          <p:nvPr/>
        </p:nvSpPr>
        <p:spPr>
          <a:xfrm>
            <a:off x="4270680" y="335268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"/>
          <p:cNvSpPr/>
          <p:nvPr/>
        </p:nvSpPr>
        <p:spPr>
          <a:xfrm>
            <a:off x="6464880" y="3313080"/>
            <a:ext cx="73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5624640" y="22510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8C32-6CBE-401D-AEA7-B0E9021F18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ng System View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255160" cy="44193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allo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allocate resources (software and hardware) of the computer system and manage them efficien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s execution of user programs and operation of I/O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rn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program that executes forever (everything else is an application with respect to the kernel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3T21:19:15Z</dcterms:created>
  <dc:creator/>
  <dc:description/>
  <dc:language>en-US</dc:language>
  <cp:lastModifiedBy>LOVE GOEL</cp:lastModifiedBy>
  <cp:lastPrinted>2000-01-11T22:58:03Z</cp:lastPrinted>
  <dcterms:modified xsi:type="dcterms:W3CDTF">2008-08-09T10:01:57Z</dcterms:modified>
  <cp:revision>0</cp:revision>
  <dc:subject/>
  <dc:title/>
</cp:coreProperties>
</file>