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78BC-E5FD-4F38-9B1A-956F13D7C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03EC-2100-47D8-81B2-23799B907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4D95-9F4C-44B8-9E3D-6D7E7A7B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3984840"/>
            <a:ext cx="8255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CF61-0663-4E68-B069-9D92E7E0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1088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98484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10880" y="398484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3053-C59A-4146-91FE-CD389691C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1600" y="167652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680" y="167652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398484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1600" y="398484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680" y="398484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110B-6947-4159-B00C-A7EC4B0D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F838-B384-460C-BE82-F9F6A5AB6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CE93-ECE1-48E6-A20A-A0C55881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0D60-B3C5-4252-958F-F5A3E53F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8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0880" y="1676520"/>
            <a:ext cx="4028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11E5-C60A-4D09-A92F-80DB3F75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DCBF-96C4-4F3E-82DB-3672ACA7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C5BE-CC33-4D58-A230-6EF10DA9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0880" y="1676520"/>
            <a:ext cx="4028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398484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ED41-3036-4E50-9209-57B65AC7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4DA3-5B3A-4EAF-B837-0F74D142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8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088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10880" y="398484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4C3B-6E69-410A-980B-5E2622AC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088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3984840"/>
            <a:ext cx="8255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280E-5382-4DF7-8B57-600CFC07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520" y="3984840"/>
            <a:ext cx="8255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F77D-CAB7-40F7-8E10-BAE0531B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088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520" y="398484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10880" y="398484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7B26-3A50-479E-AA19-650A4AB67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1600" y="167652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2680" y="167652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520" y="398484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1600" y="398484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2680" y="398484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319B-11DE-46A2-8986-8D63109E6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FFA7-70A8-488F-AAD3-D3C7649D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8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10880" y="1676520"/>
            <a:ext cx="4028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3C92-27D1-42F7-81AD-4D88FD9E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7145-1B76-40D8-A002-2799A6B9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229A-2FF6-4142-A2D2-EF30D921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10880" y="1676520"/>
            <a:ext cx="4028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398484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61D9-65B3-4BB9-8349-82524736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8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1088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10880" y="398484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B3DF-6AB8-4850-BD5C-D43C3E7E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1088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984840"/>
            <a:ext cx="8255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73E5-2998-40F9-AE21-F1DFF2AE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C617-BFB0-4F42-95A4-4B7B8E1E20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C413-9B39-4BA7-B72B-741098DC228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hyperlink" Target="http://images.google.com/imgres?imgurl=wetpc.com.au/html/Assets/jpg/general/WetPC1.jpg&amp;imgrefurl=http://wetpc.com.au/html/newsroom/&amp;h=2774&amp;w=1813&amp;prev=/images%3Fq%3Dwearable%2Bcomputer%26start%3D20%26svnum%3D10%26hl%3Den%26lr%3D%26ie%3DUTF-8%26oe%3DUTF-8%26sa%3DN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660384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EB12-8FC2-4115-8A30-2004086F0E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 of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ng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600200" y="35049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A043-BC36-4F35-9A2D-5F8845DFC2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perating System Spectru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s and Small Ker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purpose and embedded systems, real-time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and multiprogram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ha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rkstations, servers, minicomputers, time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6A5B-EE93-476D-B4BF-E64DCECAEB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arly Systems - Bare Machine (1950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rge machines run from cons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user system, Programmer/User as oper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per tape or punched ca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emblers, compilers, linkers, loaders, device drivers, libraries of common subrouti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execu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 use of expensive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 CPU utilization, high setup ti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4806-EC1E-49C2-AD99-E679ED569F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Batch Systems (1960’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setup time by batching jobs with similar requir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card reader, Hire an ope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s NOT the ope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job sequenc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s a rudimentary 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dent Monit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lds initial control, control transfers to job and then back to monit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istinguish job from job and data from progra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D53B-4287-4C73-AF7D-361AACDA68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ervisor/Operat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 fontScale="94000"/>
          </a:bodyPr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e monitor that controls job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ecial cards indicate what to d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 program prevented from performing I/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user from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 submits card de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rds put on tap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pe processed by operat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written to tap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pe printed on print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ng turnaround time - up to 2 DAYS!!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w CPU utiliz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/O and CPU could not overlap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low mechanical devic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16F6-8FC4-44E3-A006-D0F2295D02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tch Systems -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s to speed up I/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fline Process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ad jobs into memory from tapes, card reading and line printing are done offl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ool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 disk (random access device) as large storage for reading as many input files as  possible and storing output files until output devices are ready to accept the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overlap -  I/O of one job with computation of anoth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roduces notion of a job pool that allows OS choose next job to run so as to increase CPU utilizatio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C30F-9245-4FED-B7CF-02ED7F70D3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eding up I/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4" name="Picture 4" descr="img9"/>
          <p:cNvPicPr/>
          <p:nvPr/>
        </p:nvPicPr>
        <p:blipFill>
          <a:blip r:embed="rId1"/>
          <a:stretch/>
        </p:blipFill>
        <p:spPr>
          <a:xfrm>
            <a:off x="2590920" y="1905120"/>
            <a:ext cx="3930480" cy="4171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5BFE-F1CF-4362-B18B-24AE57F918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tch Systems - I/O comple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 we know that I/O is complet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ice sets a flag when it is bus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 tests the flag in a loop waiting for completion of I/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rup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 completion of I/O, device forces CPU to jump to a specific instruction address that contains the interrupt service routi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the interrupt has been processed, CPU returns to code it was executing prior to servicing the interrup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F9C7-9E82-428F-BD80-E9E24D6DC8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rogram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interrupts to run multiple programs simultane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a program performs I/O, instead of polling, execute another program till interrupt is receiv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secure memory, I/O for each progra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tervention if program loops indefinite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CPU scheduling to choose the next job to ru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46F5-D34D-4A9B-8EB2-0324DA97EB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sha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s queued for execution in FIFO ord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ke multiprogramming, but timer device interrupts after a quantum (timeslice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rupted program is returned to end of FI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 program is taken from head of FI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card interpreter replaced by command language interpre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2313-A752-417B-AE53-7906BB3F40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sharing (cont.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(action/respons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OS finishes execution of one command, it seeks the next control statement from us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 syste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ine filesystem is required for users to access data and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mem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b is swapped in  and out of memory to dis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98DB-0FB2-47A9-8A16-2E5BC6B64D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an operating syste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Operat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Batch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grammed Batch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-shar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llel and Distributed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C6C0-1C3A-46A9-B410-08C6838FBF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sonal Computing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systems, port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 - keyboards, mice, display screens, small print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tops and palmtops, Smart cards, Wireless devi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systems may not need advanced CPU utilization or protection featu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convenience, responsiveness, ubiquit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BEF7-B748-41A6-B5D8-23B5CBC225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llel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cessor systems with more than one CPU in close communic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Throughput, economical, increased reliabil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ind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ector and pipelin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mmetric and asymmetric multiprocess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memory vs. shared mem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model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ghtly coupled vs. loosely coupled ,message-based vs. shared vari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D4D9-1EE8-45EF-BFBE-754830A1DC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tributed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computation among many processo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sely coupled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shared memory, various communication lin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/server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ource shar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utation speed-u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unication - e.g. ema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- digital libraries, digital multi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436F-6990-4303-B816-FB9F5A78F4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-time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 system function depends on timeli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/control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sors and actu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real-time systems 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if response time too lo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ary storage is limi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 real-time systems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accurate if response time is too lo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ful in applications such as multimedia, virtual reali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E7D1-BAE2-4B9E-BE65-A5C94B84BD1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mmary of l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an operating syste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Operat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Batch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grammed Batch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-shar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llel and Distributed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3CD7-B4EC-4C26-B3D8-B4B2AE0A08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an Operating System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S is a program that acts an intermediary between the user of a computer and computer hard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jor cost of general purpose computing is soft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 simplifies and manages the complexity of running application programs effici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241D-F3FD-4D33-81F1-465F95B608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als of an Operating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y the execution of user programs and make solving user problems easi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omputer hardware efficient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sharing of hardware and software resour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application software portable and versati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solation, security and protection among user progra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overall system reliabilit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ror confinement, fault tolerance, reconfigur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A237-B79D-41E0-AD65-3C9AA00EDB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should I study Operating System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understand interaction between the hardware and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applications, new hardware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understand basic principles in the design of computer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fficient resource management, security, flexi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ing need for specialized operating system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embedded operating systems for devices - cell phones, sensors and controll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l-time operating systems - aircraft control, multimedia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7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8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235C-D51D-4E3C-A1A3-2B213CC4E9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2" descr="Tadiran Communications' products address every echelon, from the individual fighting soldier through the squad and platoon up to the division and corps level."/>
          <p:cNvPicPr/>
          <p:nvPr/>
        </p:nvPicPr>
        <p:blipFill>
          <a:blip r:embed="rId1"/>
          <a:stretch/>
        </p:blipFill>
        <p:spPr>
          <a:xfrm>
            <a:off x="2743200" y="152280"/>
            <a:ext cx="2819520" cy="2013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1896"/>
          <p:cNvPicPr/>
          <p:nvPr/>
        </p:nvPicPr>
        <p:blipFill>
          <a:blip r:embed="rId2"/>
          <a:stretch/>
        </p:blipFill>
        <p:spPr>
          <a:xfrm>
            <a:off x="0" y="3962520"/>
            <a:ext cx="2158920" cy="2590560"/>
          </a:xfrm>
          <a:prstGeom prst="rect">
            <a:avLst/>
          </a:prstGeom>
          <a:ln w="0">
            <a:noFill/>
          </a:ln>
        </p:spPr>
      </p:pic>
      <p:grpSp>
        <p:nvGrpSpPr>
          <p:cNvPr id="115" name="Group 4"/>
          <p:cNvGrpSpPr/>
          <p:nvPr/>
        </p:nvGrpSpPr>
        <p:grpSpPr>
          <a:xfrm>
            <a:off x="2209680" y="4724280"/>
            <a:ext cx="3581280" cy="1904760"/>
            <a:chOff x="2209680" y="4724280"/>
            <a:chExt cx="3581280" cy="1904760"/>
          </a:xfrm>
        </p:grpSpPr>
        <p:pic>
          <p:nvPicPr>
            <p:cNvPr id="116" name="Picture 5" descr="diagram of underwater computer with chording hand controller "/>
            <p:cNvPicPr/>
            <p:nvPr/>
          </p:nvPicPr>
          <p:blipFill>
            <a:blip r:embed="rId3"/>
            <a:stretch/>
          </p:blipFill>
          <p:spPr>
            <a:xfrm>
              <a:off x="2209680" y="4810680"/>
              <a:ext cx="3300120" cy="164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6" descr="WetPC1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4698720" y="4724280"/>
              <a:ext cx="1092240" cy="1904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8" name="Picture 8" descr="3gphone"/>
          <p:cNvPicPr/>
          <p:nvPr/>
        </p:nvPicPr>
        <p:blipFill>
          <a:blip r:embed="rId6"/>
          <a:srcRect l="0" t="3710" r="3695" b="0"/>
          <a:stretch/>
        </p:blipFill>
        <p:spPr>
          <a:xfrm>
            <a:off x="228600" y="2362320"/>
            <a:ext cx="1206360" cy="1447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The image “http://darla.mit.edu/~mountain/images/reserach/field/field_iPAQ_laser_survey.jpg” cannot be displayed, because it contains errors."/>
          <p:cNvPicPr/>
          <p:nvPr/>
        </p:nvPicPr>
        <p:blipFill>
          <a:blip r:embed="rId7"/>
          <a:stretch/>
        </p:blipFill>
        <p:spPr>
          <a:xfrm>
            <a:off x="5791320" y="0"/>
            <a:ext cx="2909880" cy="2185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20" name="Picture 10" descr="The image “http://www.kontron.com/images/militaryApps.jpg” cannot be displayed, because it contains errors."/>
          <p:cNvPicPr/>
          <p:nvPr/>
        </p:nvPicPr>
        <p:blipFill>
          <a:blip r:embed="rId8"/>
          <a:stretch/>
        </p:blipFill>
        <p:spPr>
          <a:xfrm>
            <a:off x="609480" y="0"/>
            <a:ext cx="1649520" cy="2209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21" name="Picture 12" descr="The image “http://www.mmt-kmi.com/images/ThisIssue/7_3_art6.jpg” cannot be displayed, because it contains errors."/>
          <p:cNvPicPr/>
          <p:nvPr/>
        </p:nvPicPr>
        <p:blipFill>
          <a:blip r:embed="rId9"/>
          <a:stretch/>
        </p:blipFill>
        <p:spPr>
          <a:xfrm>
            <a:off x="2138400" y="2271600"/>
            <a:ext cx="3516120" cy="2184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"/>
          <p:cNvPicPr/>
          <p:nvPr/>
        </p:nvPicPr>
        <p:blipFill>
          <a:blip r:embed="rId10"/>
          <a:stretch/>
        </p:blipFill>
        <p:spPr>
          <a:xfrm>
            <a:off x="6858000" y="5181480"/>
            <a:ext cx="1347840" cy="951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23" name="Picture 15" descr=""/>
          <p:cNvPicPr/>
          <p:nvPr/>
        </p:nvPicPr>
        <p:blipFill>
          <a:blip r:embed="rId11"/>
          <a:stretch/>
        </p:blipFill>
        <p:spPr>
          <a:xfrm>
            <a:off x="5722920" y="2514600"/>
            <a:ext cx="342108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3973-6852-4708-BFBA-DA94891B37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uter System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vides basic computing resources (CPU, memory, I/O devices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ing Syst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s and coordinates the use of hardware among application program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lve computing problems of users (compilers, database systems, video games, business programs such as banking software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ople, machines, other comput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D998-3D89-4BEC-9559-0569F33C5C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View of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523880" y="3276720"/>
            <a:ext cx="5867640" cy="121896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nd Application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2971800" y="4114800"/>
            <a:ext cx="2971800" cy="9144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ting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3733920" y="4800600"/>
            <a:ext cx="144756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u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752480" y="2057400"/>
            <a:ext cx="60984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2971800" y="2133720"/>
            <a:ext cx="6094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4267080" y="2133720"/>
            <a:ext cx="60984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6705720" y="2133720"/>
            <a:ext cx="6094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213372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335268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464832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4"/>
          <p:cNvSpPr/>
          <p:nvPr/>
        </p:nvSpPr>
        <p:spPr>
          <a:xfrm>
            <a:off x="708660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1587600" y="331308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0"/>
          <p:cNvSpPr/>
          <p:nvPr/>
        </p:nvSpPr>
        <p:spPr>
          <a:xfrm>
            <a:off x="2806920" y="3313080"/>
            <a:ext cx="7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mb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1"/>
          <p:cNvSpPr/>
          <p:nvPr/>
        </p:nvSpPr>
        <p:spPr>
          <a:xfrm>
            <a:off x="4270680" y="335268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 ed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6464880" y="3313080"/>
            <a:ext cx="73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5624640" y="22510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E104-5851-46F3-967E-2AFBD5B9D2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ng System View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allo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allocate resources (software and hardware) of the computer system and manage them efficient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s execution of user programs and operation of I/O devi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rn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ogram that executes forever (everything else is an application with respect to the kernel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3T21:19:15Z</dcterms:created>
  <dc:creator/>
  <dc:description/>
  <dc:language>en-US</dc:language>
  <cp:lastModifiedBy>LOVE GOEL</cp:lastModifiedBy>
  <cp:lastPrinted>2000-01-11T22:58:03Z</cp:lastPrinted>
  <dcterms:modified xsi:type="dcterms:W3CDTF">2008-08-09T10:01:57Z</dcterms:modified>
  <cp:revision>0</cp:revision>
  <dc:subject/>
  <dc:title/>
</cp:coreProperties>
</file>