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58C5-8D8B-40F0-8C0B-9136FD78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0F43-9191-434D-B593-7FB10F6C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24E-B4F6-4F01-960B-5173AA121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B8B-C934-46A1-9783-F903B1A2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73CE4-98FD-4F39-8D5C-70E7D887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A30-150B-4412-8F43-3FC2C740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F49A-4055-47F5-B7B4-1A6975620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56D7-B5B8-4194-9062-95D5215C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D2F1-CC96-4038-945E-149529792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BE7A-3DF1-4863-A854-B0DBDE08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6729-D782-415A-AD29-53C6F59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C1A9-CC2F-4063-AC94-37CA9A73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2ED-D293-49F7-9D4D-7E1FBF63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D8F2-21E7-45A3-AEA0-30B154D1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AF7D-8AA8-49CF-BF79-64053564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3998-F084-43CB-BA09-AF6AECFF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78746-4573-480B-B2D8-86A4ACD50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A872-BE85-4A03-AFDA-B1D30499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3B0-BB0A-4EB0-98B3-5E6C36D8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4F8-9712-4965-A659-1495F63B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A50-7B1B-45B2-8DE7-C7061C42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45BE-431E-43F9-8112-FD6D69D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678-678A-429A-925D-452CACD4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A58-00C8-4581-8878-E6F1E50E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F65B-7AD8-4FB7-9AA6-CCAFC65F44C6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492B-25C0-4561-8E07-A217DF7A5F3A}" type="slidenum">
              <a:rPr b="0" lang="en-US" sz="24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Principles of  </a:t>
            </a:r>
            <a:br>
              <a:rPr sz="5000"/>
            </a:b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Operating System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orage systems are organized in a hierarchy based 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peed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s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Volatilit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aching - process of copying information into faster storage system; main memory can be viewed as fast cache for secondary storag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Device Hierarch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Picture 3" descr="img13"/>
          <p:cNvPicPr/>
          <p:nvPr/>
        </p:nvPicPr>
        <p:blipFill>
          <a:blip r:embed="rId1"/>
          <a:stretch/>
        </p:blipFill>
        <p:spPr>
          <a:xfrm>
            <a:off x="2057400" y="1600200"/>
            <a:ext cx="531036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dware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ual Mode Op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emory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PU Protec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al-mode op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haring system resources requires operating system to ensure that an incorrect program cannot cause other programs to execute incorrec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vide hardware support to differentiate between at least two modes of operation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1.  User mode  -- execution done on behalf of a user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2.  Monitor mode (supervisor/kernel/system mode) -- execution done on behalf of operating system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ual-mode operation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ode bit added to computer hardware to indicate the current mode: monitor(0) or user(1)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an interrupt or fault occurs, hardware switches to monitor mod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ivileged instructions only in monitor mod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4" name="Oval 5"/>
          <p:cNvSpPr/>
          <p:nvPr/>
        </p:nvSpPr>
        <p:spPr>
          <a:xfrm>
            <a:off x="6095880" y="2666880"/>
            <a:ext cx="838440" cy="838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6"/>
          <p:cNvSpPr/>
          <p:nvPr/>
        </p:nvSpPr>
        <p:spPr>
          <a:xfrm>
            <a:off x="6095880" y="4495680"/>
            <a:ext cx="838440" cy="838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7"/>
          <p:cNvCxnSpPr>
            <a:stCxn id="124" idx="2"/>
            <a:endCxn id="125" idx="2"/>
          </p:cNvCxnSpPr>
          <p:nvPr/>
        </p:nvCxnSpPr>
        <p:spPr>
          <a:xfrm flipH="1" flipV="1" rot="10800000">
            <a:off x="6094800" y="3085920"/>
            <a:ext cx="2520" cy="1829520"/>
          </a:xfrm>
          <a:prstGeom prst="curvedConnector5">
            <a:avLst>
              <a:gd name="adj1" fmla="val -14400000"/>
              <a:gd name="adj2" fmla="val 4999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AutoShape 8"/>
          <p:cNvCxnSpPr>
            <a:stCxn id="125" idx="6"/>
            <a:endCxn id="124" idx="6"/>
          </p:cNvCxnSpPr>
          <p:nvPr/>
        </p:nvCxnSpPr>
        <p:spPr>
          <a:xfrm flipV="1">
            <a:off x="6934320" y="3085920"/>
            <a:ext cx="2160" cy="1829520"/>
          </a:xfrm>
          <a:prstGeom prst="curvedConnector5">
            <a:avLst>
              <a:gd name="adj1" fmla="val 14400000"/>
              <a:gd name="adj2" fmla="val 4999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Text Box 9"/>
          <p:cNvSpPr/>
          <p:nvPr/>
        </p:nvSpPr>
        <p:spPr>
          <a:xfrm>
            <a:off x="7299720" y="3516480"/>
            <a:ext cx="57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5010840" y="3516480"/>
            <a:ext cx="85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rupt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u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/O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ll I/O instructions are privileged instru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ust ensure that a user program could never gain control of the computer in monitor mode, for e.g. a user program that as part of its execution, stores a new address in the interrupt vector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ust provide memory protection at least for the interrupt vector and the interrupt service routine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o provide memory protection, add two registers that determine the range of legal addresses a program may addres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Base Register - holds smallest legal physical memory address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Limit register - contains the size of the range.</a:t>
            </a:r>
            <a:endParaRPr b="0" lang="en-US" sz="1800" spc="-1" strike="noStrike">
              <a:solidFill>
                <a:srgbClr val="cc33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mory outside the defined range is protected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5715000" y="2133720"/>
            <a:ext cx="1523880" cy="36576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5715000" y="2666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5715000" y="32767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715000" y="4038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5715000" y="48006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5243040" y="199224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4707000" y="244944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1"/>
          <p:cNvSpPr/>
          <p:nvPr/>
        </p:nvSpPr>
        <p:spPr>
          <a:xfrm>
            <a:off x="4782960" y="313524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0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2"/>
          <p:cNvSpPr/>
          <p:nvPr/>
        </p:nvSpPr>
        <p:spPr>
          <a:xfrm>
            <a:off x="4783320" y="389736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09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3"/>
          <p:cNvSpPr/>
          <p:nvPr/>
        </p:nvSpPr>
        <p:spPr>
          <a:xfrm>
            <a:off x="4859640" y="4735440"/>
            <a:ext cx="72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8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4"/>
          <p:cNvSpPr/>
          <p:nvPr/>
        </p:nvSpPr>
        <p:spPr>
          <a:xfrm>
            <a:off x="4859280" y="5649840"/>
            <a:ext cx="8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24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7620120" y="32767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0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7620120" y="403848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09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 flipH="1">
            <a:off x="731484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731484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"/>
          <p:cNvSpPr/>
          <p:nvPr/>
        </p:nvSpPr>
        <p:spPr>
          <a:xfrm>
            <a:off x="7451640" y="2982960"/>
            <a:ext cx="11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0"/>
          <p:cNvSpPr/>
          <p:nvPr/>
        </p:nvSpPr>
        <p:spPr>
          <a:xfrm>
            <a:off x="7373160" y="42782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mit regi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1"/>
          <p:cNvSpPr/>
          <p:nvPr/>
        </p:nvSpPr>
        <p:spPr>
          <a:xfrm>
            <a:off x="5774040" y="2297160"/>
            <a:ext cx="74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2"/>
          <p:cNvSpPr/>
          <p:nvPr/>
        </p:nvSpPr>
        <p:spPr>
          <a:xfrm>
            <a:off x="6004080" y="275436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3"/>
          <p:cNvSpPr/>
          <p:nvPr/>
        </p:nvSpPr>
        <p:spPr>
          <a:xfrm>
            <a:off x="6004080" y="35164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6095880" y="5105520"/>
            <a:ext cx="62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6080040" y="42022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ob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5471640" y="21448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ardware Address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8" name="Picture 3" descr="img19"/>
          <p:cNvPicPr/>
          <p:nvPr/>
        </p:nvPicPr>
        <p:blipFill>
          <a:blip r:embed="rId1"/>
          <a:stretch/>
        </p:blipFill>
        <p:spPr>
          <a:xfrm>
            <a:off x="2057400" y="1676520"/>
            <a:ext cx="5486400" cy="42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 Hardware (cont.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When executing in monitor mode, the OS has unrestricted access to both monitor and users’ memor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he load instructions for the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base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imi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registers are privileged instruction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PU Protec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- interrupts computer after specified period to ensure that OS maintains control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Timer is decremented every clock tick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When timer reaches a value of 0, an interrupt occur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is commonly used to implement time sharing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imer is also used to compute the current tim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Load timer is a privileged instruction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Computer System Opera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I/O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age Stru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Storage Hierarchy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Hardware Protection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General System Architecture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System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Given the I/O instructions are privileged, how do users perform I/O?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a system calls - the method used by a process to request action by the operating system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ng System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Componen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Management, Memory Management, Secondary Storage Management, I/O System Management, File Management, Protection System, Networking, Command-Interpreter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Services, System calls, System Progra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Virtual Machine Structure and Organiz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 Structural Approach to Operating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Design and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perating System Ser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rvices that provide user-interfaces to O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gram execution - load program into memory and run i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I/O Operations - since users cannot execute I/O operations directly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System Manipulation - read, write, create, delete file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mmunications - interprocess and intersystem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rror Detection - in hardware, I/O devices, user progra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rvices for providing efficient system oper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Resource Allocation - for simultaneously executing job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ccounting - for account billing and usage statist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tection - ensure access to system resources is controlled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Cal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face between running program and the 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ssembly language instructions (macros and subroutines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me higher level languages allow system calls to be made directly (e.g. C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assing parameters between a running program and OS via registers, memory tables or sta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x has about 32 system ca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read(), write(), open(), close(), fork(), exec(), ioctl(),….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Progra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nvenient environment for program development and execution.  User view of OS is defined by system programs, not system call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ommand Interpreter (sh, csh, ksh) - parses/executes other system program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manipulation - copy (cp), print (lpr), compare(cmp, diff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 modification - editing (ed, vi, emacs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pplication programs - send mail (mail), read news (rn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Programming language support (cc)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tatus information, communic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tc…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and Interpreter System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ommands that are given to the operating system via command statements that execut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creation and deletion, I/O handling,  Secondary Storage Management, Main Memory Management, File System Access, Protection, Networking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btains the next command and executes it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grams that read and interpret control statements also called -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Control card interpreter, command-line interpreter, shell (in UNIX)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cess Management (Chapters 4-7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 - fundamental concept in O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is a program in execu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needs resources - CPU time, memory, files/data and I/O device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 the following process management activitie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suspension and resump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synchronization and interprocess communic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cess interactions - deadlock detection, avoidance and correc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mory Management (Chapters 8-9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is an array of addressable words or bytes that is quickly accessib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is volatil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Allocate and deallocate memory to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Managing multiple processes within memory - keep track of which parts of memory are used by which processes.  Manage the sharing of memory between processes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33"/>
                </a:solidFill>
                <a:latin typeface="Arial"/>
              </a:rPr>
              <a:t>Determining which processes to load when memory becomes available.</a:t>
            </a: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Secondary Storage and I/O Management (Chapter 10)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ince primary storage is expensive and volatile, secondary storage is required for backup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k is the primary form of secondary storage.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OS performs storage allocation, free-space management and disk scheduling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system in the OS consists of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uffer caching and management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evice driver interface that abstracts device detai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rivers for specific hardware device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le System Management (Chapters 11-12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File is a collection of related information defined by creator - represents programs and data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is responsible for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File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rectory creation and dele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upporting primitives for file/directory manipula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pping files to disks (secondary storage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ackup files on archival media (tapes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Archite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1" name="Picture 3" descr="img3"/>
          <p:cNvPicPr/>
          <p:nvPr/>
        </p:nvPicPr>
        <p:blipFill>
          <a:blip r:embed="rId1"/>
          <a:stretch/>
        </p:blipFill>
        <p:spPr>
          <a:xfrm>
            <a:off x="1676520" y="1219320"/>
            <a:ext cx="528624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tection and Security (Chapter 14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tection mechanisms control access of programs and processes to user and system resource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otect user from himself, user from other users,  system from users.</a:t>
            </a:r>
            <a:endParaRPr b="0" lang="en-US" sz="20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Protection mechanisms must: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Distinguish between authorized and unauthorized us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pecify access controls to be imposed on us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vide mechanisms for enforcement of access control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ecurity mechanisms provide trust in system and privacy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authentication, certification, encryption etc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 (Distributed Systems)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istributed System is a collection of processors that do not share memory or a cloc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Processors are connected via a communication network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dvantages: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llows users and system to exchange inform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rovide computational speedup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creased reliability and availability of information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Design and Implem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stablish design goals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User Goa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tem Goal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oftware Engineering -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eparate mechanism from policy. Policies determine what needs to be done, mechanisms determine how they are done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hoose a high-level implementation languag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faster implementation, more compact, easier to debu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ystem Gener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written for a class of machines, must be configured for each specific sit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GEN program obtains info about specific hardware configuration and creates version of OS for hardware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oting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Bootstrap program - loader program loads kernel, kernel loads rest of OS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Bootstrap program stored in ROM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S Structure - Simple Approa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S-DOS  - provides a lot of functionality in little space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Not divided into modules, Interfaces and levels of functionality are not well separated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UNIX - limited structuring, has 2 separable par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ystems programs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Kernel 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everything below system call interface and above physical hardwar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Filesystem, CPU scheduling, memory managemen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UNIX System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94" name="Picture 3" descr="img1"/>
          <p:cNvPicPr/>
          <p:nvPr/>
        </p:nvPicPr>
        <p:blipFill>
          <a:blip r:embed="rId1"/>
          <a:stretch/>
        </p:blipFill>
        <p:spPr>
          <a:xfrm>
            <a:off x="2133720" y="1295280"/>
            <a:ext cx="4862520" cy="48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Layered OS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OS divided into number of layers - bottom layer is hardware, highest layer is the user interface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Each layer uses functions and services of only lower-level layers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"/>
              </a:rPr>
              <a:t>THE Operating System Kernel has successive layers of abstraction.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97" name="Picture 5" descr="img4"/>
          <p:cNvPicPr/>
          <p:nvPr/>
        </p:nvPicPr>
        <p:blipFill>
          <a:blip r:embed="rId1"/>
          <a:stretch/>
        </p:blipFill>
        <p:spPr>
          <a:xfrm>
            <a:off x="762120" y="2514600"/>
            <a:ext cx="327636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Virtual Machin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Logically treats hardware and OS kernel as hardware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vides interface identical to underlying bare hardware.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reates illusion of multiple processes - each with its own processor and virtual memory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62120" y="5257800"/>
            <a:ext cx="3276360" cy="6094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762120" y="4648320"/>
            <a:ext cx="3276360" cy="6094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762120" y="1981080"/>
            <a:ext cx="3276360" cy="26672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>
            <a:off x="762120" y="4114800"/>
            <a:ext cx="32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1752480" y="1981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>
            <a:off x="2819520" y="19810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76212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175248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2819520" y="419112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838080" y="228600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1828800" y="281952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2895480" y="3429000"/>
            <a:ext cx="8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mmary of OS Structur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Concept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Services, System Programs and System call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perating System Design and Implementation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tructuring Operating System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puter System Organiz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/O devices and the CPU execute concurren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Each device controller is in charge of a particular device typ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Each device controller has a local buffer.  I/O is from the device to local buffer of controller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CPU moves data from/to main memory to/from the local buffers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Device controller interrupts CPU on completion of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rup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terrupt transfers control to the interrupt service routine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terrupt Service Routine: Segments of code that determine action to be taken for each type of interrup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Interrupt vector contains the address of service routines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OS preserves the state of the CPU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tores registers and the program counter (address of interrupted instruction)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Trap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software generated interrupt caused either by an error or a user request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rupt Handl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Types of interrupt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Polling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Vectored interrupt system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Incoming interrupts are disabled while another interrupt is being processed to prevent a </a:t>
            </a:r>
            <a:r>
              <a:rPr b="0" i="1" lang="en-US" sz="2600" spc="-1" strike="noStrike">
                <a:solidFill>
                  <a:srgbClr val="003399"/>
                </a:solidFill>
                <a:latin typeface="Arial"/>
              </a:rPr>
              <a:t>lost interrupt</a:t>
            </a: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/O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ynchronous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6633"/>
                </a:solidFill>
                <a:latin typeface="Arial"/>
              </a:rPr>
              <a:t>wait</a:t>
            </a: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 instruction idles CPU until next interrupt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no simultaneous I/O processing, at most one outstanding I/O request at a time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Asynchronous I/O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After I/O is initiated, control returns to user program without waiting for I/O completion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evice Status table - holds type, address and state for each device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OS indexes into I/O device table to determine device status and modify table entry to include interrupt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irect Memory Access (DMA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for high speed I/O devices able to transmit information at close to memory speeds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Device controller transfers blocks of data from buffer storage directly to main memory without CPU intervention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Only one interrupt is generated per block, rather than one per byte (or word).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981080" y="2590920"/>
            <a:ext cx="685800" cy="99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838080" y="4419720"/>
            <a:ext cx="838440" cy="609480"/>
          </a:xfrm>
          <a:prstGeom prst="rect">
            <a:avLst/>
          </a:prstGeom>
          <a:solidFill>
            <a:srgbClr val="3b812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2819520" y="4572000"/>
            <a:ext cx="1295280" cy="60948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/O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1219320" y="44197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1066680" y="3580920"/>
            <a:ext cx="9144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1219320" y="3657600"/>
            <a:ext cx="8380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2743200" y="3657600"/>
            <a:ext cx="533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1"/>
          <p:cNvSpPr/>
          <p:nvPr/>
        </p:nvSpPr>
        <p:spPr>
          <a:xfrm flipH="1" flipV="1">
            <a:off x="2742840" y="3352320"/>
            <a:ext cx="685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752480" y="4800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1739160" y="483696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torage Structur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Main memory - only large storage media that the CPU can access directl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"/>
              </a:rPr>
              <a:t>Secondary storage - extension of main memory that has large nonvolatile storage capacity.</a:t>
            </a:r>
            <a:endParaRPr b="0" lang="en-US" sz="2600" spc="-1" strike="noStrike">
              <a:solidFill>
                <a:srgbClr val="003399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3300"/>
                </a:solidFill>
                <a:latin typeface="Arial"/>
              </a:rPr>
              <a:t>Magnetic disks - rigid metal or glass platters covered with magnetic recording material.</a:t>
            </a:r>
            <a:endParaRPr b="0" lang="en-US" sz="2200" spc="-1" strike="noStrike">
              <a:solidFill>
                <a:srgbClr val="cc33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isk surface is logically divided into tracks, subdivided into sectors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Disk controller determines logical interaction between device and comput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7:32:31Z</dcterms:created>
  <dc:creator/>
  <dc:description/>
  <dc:language>en-US</dc:language>
  <cp:lastModifiedBy>LOVE GOEL</cp:lastModifiedBy>
  <dcterms:modified xsi:type="dcterms:W3CDTF">2008-08-09T10:01:57Z</dcterms:modified>
  <cp:revision>0</cp:revision>
  <dc:subject/>
  <dc:title/>
</cp:coreProperties>
</file>