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E9F8-2D88-4F73-A239-4837B404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B37-34C8-4F1C-9FE6-CAE20BBA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6A7-1EBC-4661-B152-72E6EBBB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F8D7-4FA7-4A52-9C09-E39A90E9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4322-6BD1-4D1C-8F23-3CB36ABA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E446-067A-4712-91F9-0F602CE4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52E2-96A0-4319-9548-EB307EEC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BA2-101A-4AFE-8800-E62B57E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8CB7-354F-42B7-BE59-1A7253FE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9CE1-3481-47E5-A014-F4BF4740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19EB-FF4F-4FDA-B4B4-D83E338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E75-77B4-4804-BC0D-A83DC81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4247-6DDC-480A-A0BC-570C22E0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64C1-9507-4724-9E4B-39E97D0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4BA-7177-4344-9FD9-A5D7AEBC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C60A-9301-44D5-8CAE-A3D75581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72B1-45B9-44C0-9CF0-924D0A4A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9527-0AA8-441A-BB31-A06EC61F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D95-0F60-44DB-9442-956B6D42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45D-474E-4332-BDCC-0C84E503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52FA-55BD-4FAE-8E7B-483F299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632-C617-4ADD-92C2-8587095D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305-7CA8-449A-99C9-94F16A09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837-26BE-4032-A232-6DEC3BCB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57CE-AD56-49C5-A167-C41D65AC8892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2388-805A-49DD-93A4-DD2DBE14DC5A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age systems are organized in a hierarchy based 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Volatilit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ching - process of copying information into faster storage system; main memory can be viewed as fast cache for secondary storag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Device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3" descr="img13"/>
          <p:cNvPicPr/>
          <p:nvPr/>
        </p:nvPicPr>
        <p:blipFill>
          <a:blip r:embed="rId1"/>
          <a:stretch/>
        </p:blipFill>
        <p:spPr>
          <a:xfrm>
            <a:off x="2057400" y="1600200"/>
            <a:ext cx="53103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dware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ual Mode Op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mory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PU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al-mode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aring system resources requires operating system to ensure that an incorrect program cannot cause other programs to execute incorrec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hardware support to differentiate between at least two modes of operatio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1.  User mode  -- execution done on behalf of a user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2.  Monitor mode (supervisor/kernel/system mode) -- execution done on behalf of operating system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al-mode operation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 bit added to computer hardware to indicate the current mode: monitor(0) or user(1)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n interrupt or fault occurs, hardware switches to monitor mod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vileged instructions only in monitor mod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6095880" y="2666880"/>
            <a:ext cx="838440" cy="838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6095880" y="4495680"/>
            <a:ext cx="838440" cy="838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7"/>
          <p:cNvCxnSpPr>
            <a:stCxn id="124" idx="2"/>
            <a:endCxn id="125" idx="2"/>
          </p:cNvCxnSpPr>
          <p:nvPr/>
        </p:nvCxnSpPr>
        <p:spPr>
          <a:xfrm flipH="1" flipV="1" rot="10800000">
            <a:off x="6094800" y="3085920"/>
            <a:ext cx="2520" cy="182952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8"/>
          <p:cNvCxnSpPr>
            <a:stCxn id="125" idx="6"/>
            <a:endCxn id="124" idx="6"/>
          </p:cNvCxnSpPr>
          <p:nvPr/>
        </p:nvCxnSpPr>
        <p:spPr>
          <a:xfrm flipV="1">
            <a:off x="6934320" y="3085920"/>
            <a:ext cx="2160" cy="1829520"/>
          </a:xfrm>
          <a:prstGeom prst="curvedConnector5">
            <a:avLst>
              <a:gd name="adj1" fmla="val 14400000"/>
              <a:gd name="adj2" fmla="val 4999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9"/>
          <p:cNvSpPr/>
          <p:nvPr/>
        </p:nvSpPr>
        <p:spPr>
          <a:xfrm>
            <a:off x="7299720" y="3516480"/>
            <a:ext cx="57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10840" y="3516480"/>
            <a:ext cx="85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rup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/O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I/O instructions are privileged instru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ensure that a user program could never gain control of the computer in monitor mode, for e.g. a user program that as part of its execution, stores a new address in the interrupt vector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ust provide memory protection at least for the interrupt vector and the interrupt service routin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provide memory protection, add two registers that determine the range of legal addresses a program may addres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ase Register - holds smallest legal physical memory address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imit register - contains the size of the range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mory outside the defined range is protecte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715000" y="2133720"/>
            <a:ext cx="1523880" cy="365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571500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71500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71500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715000" y="4800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43040" y="1992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707000" y="244944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782960" y="313524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0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783320" y="389736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09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859640" y="473544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8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859280" y="564984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2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7620120" y="3276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7620120" y="4038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73148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73148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451640" y="2982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373160" y="42782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5774040" y="229716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004080" y="27543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004080" y="35164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095880" y="51055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080040" y="42022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5471640" y="2144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dware Address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3" descr="img19"/>
          <p:cNvPicPr/>
          <p:nvPr/>
        </p:nvPicPr>
        <p:blipFill>
          <a:blip r:embed="rId1"/>
          <a:stretch/>
        </p:blipFill>
        <p:spPr>
          <a:xfrm>
            <a:off x="2057400" y="1676520"/>
            <a:ext cx="54864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 Hardwar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executing in monitor mode, the OS has unrestricted access to both monitor and users’ memor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ad instructions fo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bas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imi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registers are privileged instru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- interrupts computer after specified period to ensure that OS maintains contro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imer is decremented every clock tic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hen timer reaches a value of 0, an interrupt occur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is commonly used to implement time sharing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is also used to compute the current tim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ad timer is a privileged instructi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 System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ag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age Hierarch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dware Pro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System Archite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System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n the I/O instructions are privileged, how do users perform I/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a system calls - the method used by a process to request action by the operating syste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ng System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Com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Management, Memory Management, Secondary Storage Management, I/O System Management, File Management, Protection System, Networking, Command-Interpreter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Services, System calls, System Progr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rtual Machine Structure and Organiz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tructural Approach to Operating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Design and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ng System Ser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rvices that provide user-interfaces to O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gram execution - load program into memory and run i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/O Operations - since users cannot execute I/O operations directly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System Manipulation - read, write, create, delete file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mmunications - interprocess and intersystem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rror Detection - in hardware, I/O devices, user progra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rvices for providing efficient system op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source Allocation - for simultaneously executing job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ccounting - for account billing and usage statist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tection - ensure access to system resources is controlled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Ca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between running program and the 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ssembly language instructions (macros and subroutines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me higher level languages allow system calls to be made directly (e.g. C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ng parameters between a running program and OS via registers, memory tables or sta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x has about 32 system ca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read(), write(), open(), close(), fork(), exec(), ioctl(),….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Progra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nient environment for program development and execution.  User view of OS is defined by system programs, not system call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mmand Interpreter (sh, csh, ksh) - parses/executes other system progra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manipulation - copy (cp), print (lpr), compare(cmp, diff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modification - editing (ed, vi, emacs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pplication programs - send mail (mail), read news (rn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gramming language support (cc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tatus information, communic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tc…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and Interpreter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ands that are given to the operating system via command statements that exec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creation and deletion, I/O handling,  Secondary Storage Management, Main Memory Management, File System Access, Protection, Networking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s the next command and executes i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grams that read and interpret control statements also called -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ntrol card interpreter, command-line interpreter, shell (in UNIX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Management (Chapters 4-7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 - fundamental concept in O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is a program in execu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needs resources - CPU time, memory, files/data and I/O device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 the following process management activiti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suspension and resump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synchronization and interprocess communic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interactions - deadlock detection, avoidance and correc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Management (Chapters 8-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is an array of addressable words or bytes that is quickly accessib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is volati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cate and deallocate memory to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anaging multiple processes within memory - keep track of which parts of memory are used by which processes.  Manage the sharing of memory between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termining which processes to load when memory becomes availab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econdary Storage and I/O Management (Chapter 10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primary storage is expensive and volatile, secondary storage is required for backup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k is the primary form of secondary storage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OS performs storage allocation, free-space management and disk scheduling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system in the OS consists of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uffer caching and managemen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vice driver interface that abstracts device detai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rivers for specific hardware device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ystem Management (Chapters 11-1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le is a collection of related information defined by creator - represents programs and dat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File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rectory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upporting primitives for file/directory manipula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iles to disks (secondary storage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ackup files on archival media (tapes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3" descr="img3"/>
          <p:cNvPicPr/>
          <p:nvPr/>
        </p:nvPicPr>
        <p:blipFill>
          <a:blip r:embed="rId1"/>
          <a:stretch/>
        </p:blipFill>
        <p:spPr>
          <a:xfrm>
            <a:off x="1676520" y="1219320"/>
            <a:ext cx="52862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 and Security (Chapter 14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tection mechanisms control access of programs and processes to user and system resourc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tect user from himself, user from other users,  system from users.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tection mechanisms must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stinguish between authorized and unauthorized us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pecify access controls to be imposed on us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vide mechanisms for enforcement of access control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ecurity mechanisms provide trust in system and privac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uthentication, certification, encryption etc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 (Distributed Systems)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tributed System is a collection of processors that do not share memory or a clo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ors are connected via a communication networ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llows users and system to exchange inform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vide computational speedup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creased reliability and availability of inform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Design and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design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User Goa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tem Goa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ftware Engineering -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eparate mechanism from policy. Policies determine what needs to be done, mechanisms determine how they are don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a high-level implementation langu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faster implementation, more compact, easier to debu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written for a class of machines, must be configured for each specific sit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GEN program obtains info about specific hardware configuration and creates version of OS for hardware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ot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otstrap program - loader program loads kernel, kernel loads rest of 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ootstrap program stored in ROM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S Structure - Simple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S-DOS  - provides a lot of functionality in little spac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t divided into modules, Interfaces and levels of functionality are not well separated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X - limited structuring, has 2 separable pa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tems program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Kernel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verything below system call interface and above physical hardwar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system, CPU scheduling, memory managemen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System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3" descr="img1"/>
          <p:cNvPicPr/>
          <p:nvPr/>
        </p:nvPicPr>
        <p:blipFill>
          <a:blip r:embed="rId1"/>
          <a:stretch/>
        </p:blipFill>
        <p:spPr>
          <a:xfrm>
            <a:off x="2133720" y="1295280"/>
            <a:ext cx="48625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yered OS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S divided into number of layers - bottom layer is hardware, highest layer is the user interfac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layer uses functions and services of only lower-level layer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Operating System Kernel has successive layers of abstract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Picture 5" descr="img4"/>
          <p:cNvPicPr/>
          <p:nvPr/>
        </p:nvPicPr>
        <p:blipFill>
          <a:blip r:embed="rId1"/>
          <a:stretch/>
        </p:blipFill>
        <p:spPr>
          <a:xfrm>
            <a:off x="762120" y="2514600"/>
            <a:ext cx="3276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rtual Mach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gically treats hardware and OS kernel as hardwar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interface identical to underlying bare hardwar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eates illusion of multiple processes - each with its own processor and virtual mem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62120" y="5257800"/>
            <a:ext cx="327636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62120" y="4648320"/>
            <a:ext cx="327636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62120" y="1981080"/>
            <a:ext cx="3276360" cy="2667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762120" y="4114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752480" y="1981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819520" y="1981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6212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75248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81952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838080" y="228600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828800" y="281952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895480" y="342900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 of OS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Concep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Services, System Programs and System ca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Design and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ing Operating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devices and the CPU execute concurren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device controller is in charge of a particular device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ach device controller has a local buffer.  I/O is from the device to local buffer of controller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PU moves data from/to main memory to/from the local buff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ce controller interrupts CPU on completion of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rupt transfers control to the interrupt service rout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terrupt Service Routine: Segments of code that determine action to be taken for each type of interrup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terrupt vector contains the address of service routine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preserves the state of the CPU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tores registers and the program counter (address of interrupted instruction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ra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ftware generated interrupt caused either by an error or a user reques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rupt Hand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interrup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ollin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Vectored interrupt system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oming interrupts are disabled while another interrupt is being processed to prevent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st interrup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/O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nchronous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instruction idles CPU until next interrup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no simultaneous I/O processing, at most one outstanding I/O request at a tim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ynchronous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fter I/O is initiated, control returns to user program without waiting for I/O comple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vice Status table - holds type, address and state for each devic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OS indexes into I/O device table to determine device status and modify table entry to include interrupt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Memory Access (DM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high speed I/O devices able to transmit information at close to memory speed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vice controller transfers blocks of data from buffer storage directly to main memory without CPU interventio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one interrupt is generated per block, rather than one per byte (or word)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2590920"/>
            <a:ext cx="685800" cy="99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38080" y="4419720"/>
            <a:ext cx="838440" cy="6094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819520" y="4572000"/>
            <a:ext cx="129528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12193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1066680" y="35809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1219320" y="36576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743200" y="36576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 flipV="1">
            <a:off x="2742840" y="3352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752480" y="4800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739160" y="483696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- only large storage media that the CPU can access direc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ary storage - extension of main memory that has large nonvolatile storage capac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gnetic disks - rigid metal or glass platters covered with magnetic recording material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isk surface is logically divided into tracks, subdivided into sectors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isk controller determines logical interaction between device and comput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