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1B4E-2979-4A2C-99B8-9BE52CC3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C15-5866-4197-BEBC-83F86E2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5ED-A0C1-468D-AFDE-3EEF8732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4C7-E36D-4B66-A84B-DA1397D1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D21-41AF-4299-8A08-67D372964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BD90-F485-442F-98E4-54A50AD6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D18D-DA15-4F98-B9B3-E05A1273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B4EC2-94F1-4A81-B1BD-8F026671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3E8-BE6E-4228-8C95-817815A0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53EB-F390-4CF1-AD6A-B9F134E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F454-1C34-4E2B-9B2A-2DBA867C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5CA-2984-4FD2-B335-BF974BC8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AB9D-8F92-4A9F-826C-30EE461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D15A-368F-4174-B3E4-3BCC5B2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4CD0-5E7D-4101-9A85-400375E8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EAFA-4765-4478-BAB4-7866C744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59B0-E10A-4822-8931-06BC5FFF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741-9135-4EF0-B99F-296E5F79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DC5-A1CB-4ED9-A9DC-27595FC6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CC3-56B6-4BBD-AFB4-34AC00B3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D92-DCC6-4F6A-AE40-42110E30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D978-294C-481B-B72F-525D0B61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A02-E6D6-4065-A1C1-0487B436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DEF-0366-4961-9BB7-1EA928AE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0BB7-A1FC-4048-9079-A723DFF87F04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8EC6-F87D-4A74-8B6E-7A5B1E576134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ng-term scheduler (or job scheduler)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which processes should be brought into the ready que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d very infrequently (seconds, minutes); may be s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e degree of multi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rt term scheduler (or CPU scheduler)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which process should execute next and allocates C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d very frequently (milliseconds) - must be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dium Term Schedul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s out process tempor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s load for bett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um Term (Time-sharing) Schedu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3" descr="img16"/>
          <p:cNvPicPr/>
          <p:nvPr/>
        </p:nvPicPr>
        <p:blipFill>
          <a:blip r:embed="rId1"/>
          <a:stretch/>
        </p:blipFill>
        <p:spPr>
          <a:xfrm>
            <a:off x="1371600" y="2133720"/>
            <a:ext cx="6838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Prof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bound proces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s more time in I/O,  short CPU bursts, CPU underut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bound proces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s more time doing computations; few very long CPU bursts, I/O underut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ight job mix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scheduler - admits jobs to keep load balanced between I/O and CPU bou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ext Swit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sk that switches CPU from one process to another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PU must save the PCB state of the old process and load the saved PCB state of the new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witch time is overhead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does no useful work while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come a bottle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for context switch is dependent on hardware support ( 1- 1000 microseconds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es are created and deleted dynam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which creates another process is called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aren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rocess; the created process is called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hil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ult is a tree of proc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.g. UNIX - processes have dependencies and form a hierarchy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required when creating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PU time, files, memory, I/O devices etc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Process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3" descr="img17"/>
          <p:cNvPicPr/>
          <p:nvPr/>
        </p:nvPicPr>
        <p:blipFill>
          <a:blip r:embed="rId1"/>
          <a:stretch/>
        </p:blipFill>
        <p:spPr>
          <a:xfrm>
            <a:off x="1828800" y="2057400"/>
            <a:ext cx="62960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shar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ren share all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share subset of parent’s resources - prevents many processes from overloading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ren share no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 execute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waits until child has term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ress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process is duplicate of parent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process has a program loaded in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k system call creates new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ve system call is used after a fork to replace the processes memory space with a new progra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Ter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executes last statement and asks the operating system to delete it (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exi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 from child to parent (via wa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’ resources are deallocated by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ent may terminate execution of child process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has exceeded allocated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assigned to child is no longer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is ex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does not allow child to continue if parent 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es do not share resources wel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ntext switchin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thread (or lightweight process)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unit of CPU utilization; i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, register set and stac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 thread shares the following with peer threads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section, data section and OS resources (open files, sign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llectively called a task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vyweight process is a task with one threa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Concep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erations on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operating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process Commun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and Multithreaded Proces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391" t="11749" r="391" b="11749"/>
          <a:stretch/>
        </p:blipFill>
        <p:spPr>
          <a:xfrm>
            <a:off x="1116000" y="1652760"/>
            <a:ext cx="7132680" cy="4125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0200" y="636480"/>
            <a:ext cx="72932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ponsiveness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Sharing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y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tilization of MP Archite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22360" y="165240"/>
            <a:ext cx="31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multiple threaded task, while one server thread is blocked and waiting, a second thread in the same task can ru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operation of multiple threads in the same job confers higher throughput and improved performan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pplications that require sharing a common buffer (i.e. producer-consumer) benefit from thread utilization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 provide a mechanism that allows sequential processes to make blocking system calls while also achieving parallelis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context switch still requires a register set switch, but no memory management related work!!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state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ready, blocked, running, terminated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 share CPU and only one thread can run at a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 protection among thread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rnel-supported threads (Mach and OS/2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-lev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approach implements both user-level and kernel-supported threads (Solaris 2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r 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ad management done by user-level threads librar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rted above the kernel, via a set of library calls at the user level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reads do not need to call OS and cause interrupts to kernel - fas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sadv: If kernel is single threaded, system call from any thread can block the entire tas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 thread librari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OSIX P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in32 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Java 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rnel 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pported by the Kernel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indows XP/2000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u64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c OS 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ch, OS/2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threading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-to-One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e-to-One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-to-Man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user-level threads mapped to single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Green Thread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NU Portable Thread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O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2680" t="1206" r="12680" b="1211"/>
          <a:stretch/>
        </p:blipFill>
        <p:spPr>
          <a:xfrm>
            <a:off x="2233440" y="1592280"/>
            <a:ext cx="4475160" cy="438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once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operating system executes a variety of progra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atch systems - job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ime-shared systems - user programs or task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job and program used interchangeabl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- a program in exec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execution proceeds in a sequential fash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ontai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gram counter, stack and data sec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e-to-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user-level thread maps to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indows NT/XP/2000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9 and later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e-to-o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362" t="25422" r="539" b="25181"/>
          <a:stretch/>
        </p:blipFill>
        <p:spPr>
          <a:xfrm>
            <a:off x="1314360" y="2057400"/>
            <a:ext cx="6577200" cy="2459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Many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574640"/>
            <a:ext cx="68947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s many user level threads to be mapped to many kern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s the  operating system to create a sufficient number of kern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aris prior to version 9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indows NT/2000 with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readFib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ack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Many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rcRect l="6704" t="837" r="6914" b="837"/>
          <a:stretch/>
        </p:blipFill>
        <p:spPr>
          <a:xfrm>
            <a:off x="2128680" y="1727280"/>
            <a:ext cx="4714920" cy="4024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 Support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aris 2 is a version of UNIX with support f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and user level threads, symmetric multiprocessing and real-time schedu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ghtweight Processes (LWP)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between user and kernel level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WP is connected to exactly one kernel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3" descr="img20"/>
          <p:cNvPicPr/>
          <p:nvPr/>
        </p:nvPicPr>
        <p:blipFill>
          <a:blip r:embed="rId1"/>
          <a:stretch/>
        </p:blipFill>
        <p:spPr>
          <a:xfrm>
            <a:off x="1600200" y="2209680"/>
            <a:ext cx="6076800" cy="3537000"/>
          </a:xfrm>
          <a:prstGeom prst="rect">
            <a:avLst/>
          </a:prstGeom>
          <a:ln w="0">
            <a:noFill/>
          </a:ln>
        </p:spPr>
      </p:pic>
      <p:sp>
        <p:nvSpPr>
          <p:cNvPr id="180" name="Line 4"/>
          <p:cNvSpPr/>
          <p:nvPr/>
        </p:nvSpPr>
        <p:spPr>
          <a:xfrm flipH="1">
            <a:off x="579132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 flipH="1">
            <a:off x="5867280" y="3276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1752480" y="3886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requirements of thread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Kernel Thread: small data structure and stack; thread switching does not require changing memory access information - relatively fas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ghtweight Process: PCB with register data, accounting and memory information - switching between LWP is relatively slow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User-level thread: only needs stack and program counter; no kernel involvement means fast switching. Kernel only sees the LWPs that support user-level thread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-leve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560" y="1447920"/>
            <a:ext cx="65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ilar to M:M, except that it allows a user thread to be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boun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to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R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P-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u64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8 and earlier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-leve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716" t="5734" r="240" b="5414"/>
          <a:stretch/>
        </p:blipFill>
        <p:spPr>
          <a:xfrm>
            <a:off x="1649520" y="1757520"/>
            <a:ext cx="5587920" cy="376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ing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8120" y="1485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mantics of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fork()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exec()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system ca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cancel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gnal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poo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specific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er activ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t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hanges state as it execut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447920" y="2819520"/>
            <a:ext cx="914400" cy="3808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895480" y="3886200"/>
            <a:ext cx="9144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4800600" y="3809880"/>
            <a:ext cx="91440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3962520" y="5486400"/>
            <a:ext cx="91440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6095880" y="2895480"/>
            <a:ext cx="91440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9"/>
          <p:cNvCxnSpPr>
            <a:stCxn id="94" idx="6"/>
            <a:endCxn id="95" idx="0"/>
          </p:cNvCxnSpPr>
          <p:nvPr/>
        </p:nvCxnSpPr>
        <p:spPr>
          <a:xfrm>
            <a:off x="2361960" y="3009960"/>
            <a:ext cx="99108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10"/>
          <p:cNvCxnSpPr>
            <a:stCxn id="96" idx="0"/>
            <a:endCxn id="95" idx="7"/>
          </p:cNvCxnSpPr>
          <p:nvPr/>
        </p:nvCxnSpPr>
        <p:spPr>
          <a:xfrm rot="5400000">
            <a:off x="4400640" y="308520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11"/>
          <p:cNvCxnSpPr>
            <a:stCxn id="96" idx="0"/>
            <a:endCxn id="98" idx="2"/>
          </p:cNvCxnSpPr>
          <p:nvPr/>
        </p:nvCxnSpPr>
        <p:spPr>
          <a:xfrm flipH="1" flipV="1" rot="5400000">
            <a:off x="5314680" y="302868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2"/>
          <p:cNvCxnSpPr>
            <a:stCxn id="95" idx="4"/>
            <a:endCxn id="96" idx="3"/>
          </p:cNvCxnSpPr>
          <p:nvPr/>
        </p:nvCxnSpPr>
        <p:spPr>
          <a:xfrm flipH="1" flipV="1" rot="5400000">
            <a:off x="4077000" y="341028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3"/>
          <p:cNvCxnSpPr>
            <a:stCxn id="97" idx="2"/>
            <a:endCxn id="95" idx="3"/>
          </p:cNvCxnSpPr>
          <p:nvPr/>
        </p:nvCxnSpPr>
        <p:spPr>
          <a:xfrm rot="10800000">
            <a:off x="3028320" y="4210920"/>
            <a:ext cx="934200" cy="14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4"/>
          <p:cNvCxnSpPr>
            <a:stCxn id="96" idx="4"/>
            <a:endCxn id="97" idx="6"/>
          </p:cNvCxnSpPr>
          <p:nvPr/>
        </p:nvCxnSpPr>
        <p:spPr>
          <a:xfrm rot="5400000">
            <a:off x="4323960" y="4743360"/>
            <a:ext cx="148644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15"/>
          <p:cNvSpPr/>
          <p:nvPr/>
        </p:nvSpPr>
        <p:spPr>
          <a:xfrm>
            <a:off x="2729160" y="285588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101120" y="33894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057400" y="4572000"/>
            <a:ext cx="9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872160" y="44560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320800" y="468468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396760" y="3008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126600" y="39625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952160" y="38862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6098040" y="29718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r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 flipH="1">
            <a:off x="4038480" y="556272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process Communication (IP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 for processes to communicate and synchronize their a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Messaging system - processes communicate without resorting to shared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ssaging system and shared memory not mutually exclusive -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simultaneously within a single OS or a singl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PC facility provides two opera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 message size can be fixed o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using IP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981360" indent="-336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ducer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n item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nsumer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 item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operating Processes via Message Pass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processes P and Q wish to communicate, they need 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communication link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xed vs. Variable size mess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message size - straightforward physical implementation, programming task is difficult due to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message size - simpler programming, more complex physical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are links established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a link be associated with more than 2 process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many links can there be between every pair of communicating process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hat is the capacity of a link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xed or variable size messag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nidirectional or bidirectional link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Commun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nder and Receiver processes must name each other explicitly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send a message to process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receive a message from process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perties of communication link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are establish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 one link between each 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may be unidirectional, usually bidirectiona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rect Commun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ssages are directed to and received from mailboxes (also called 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ID for every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/* se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ilbo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* receiv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ailbo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perties of communication lin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can be associated with many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may be unidirectional or b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rect Communication using mailbox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4" name="Picture 3" descr="img21"/>
          <p:cNvPicPr/>
          <p:nvPr/>
        </p:nvPicPr>
        <p:blipFill>
          <a:blip r:embed="rId1"/>
          <a:stretch/>
        </p:blipFill>
        <p:spPr>
          <a:xfrm>
            <a:off x="1828800" y="1851120"/>
            <a:ext cx="60721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ilboxe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/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sue: Mailbox sha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 P2 and P3 share mailbox 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sends message, P2 and P3 receive… who gets message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sible Solu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llow links between more than 2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ystem to arbitrarily select receiver and then notify s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Buffer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nk has some capacity - determine the number of messages that can reside temporarily in it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Queue of messages attached to lin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-capacity Queues: 0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waits for receiver (synchronization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ndezv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ed capacity Queues: Finite leng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waits if link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 capacity Queues: Infinite queu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Problems - Exception Cond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:  P(sender) terminates, Q(receiver) blocks forev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rminates 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notifies Q that P has termin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 has an internal mechanism(timer) that determines how long   to wait for a message from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: P(sender) sends message, Q(receiver) terminates. In automatic buffering, P sends message until buffer is full or forever. In no-buffering scheme, P blocks forev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notifie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rminate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and Q use acknowledgement with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t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w - The process is being creat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nning - Instructions are being execut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iting - Waiting for some event to occu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y - Waiting to be assigned to a process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rminated - Process has finished executio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Problems - Exception Cond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st Mess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guarantees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s responsible for detecting it using time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gets a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ambled Mess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rives from sender P to receiver Q, but information in message is corrupted due to noise in communication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rror detection mechanism, e.g.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rror correction mechanism, e.g.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operating Proces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urrent Processes can b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affect or be affected by the execution of anothe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ffect or be affected by the execution of anothe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antages of process cooperatio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(e.g. editing, printing, compi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urrent execution requi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unication and process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adigm for cooperating processes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oducer process produces information that is consumed by a consumer proc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 need buffer of items that can be filled by producer and emptied by consume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-buffer places no practical limit on the size of the buffer. Consumer may wait, producer never w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ed-buffer assumes that there is a fixed buffer size. Consumer waits for new item, producer waits if buffer is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oducer and Consumer must synchroniz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8" name="Picture 3" descr="img18"/>
          <p:cNvPicPr/>
          <p:nvPr/>
        </p:nvPicPr>
        <p:blipFill>
          <a:blip r:embed="rId1"/>
          <a:stretch/>
        </p:blipFill>
        <p:spPr>
          <a:xfrm>
            <a:off x="1828800" y="1447920"/>
            <a:ext cx="54957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-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are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..n-1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0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0; /* shared buffer = circular array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Buffer empty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Buffer full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‘do nothing’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 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er process - creates filled buff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an item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[in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+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 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umer process - Empties filled buff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[ou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 the next item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ontrol Bloc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ains information associated with each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tate - e.g. new, ready, runn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 - address of next instruction to be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registers - general purpose registers, stack pointer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scheduling information - process priority,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 information - base/limi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information - time limits, proce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Status information - list of I/O devic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cheduling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Job Queue - set of all processes in the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y Queue - set of all processes residing in main memory, ready and waiting to execut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ce Queues - set of processes waiting for an I/O devic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 migration between the various queu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eue Structures - typically linked list, circular list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3" descr="img14"/>
          <p:cNvPicPr/>
          <p:nvPr/>
        </p:nvPicPr>
        <p:blipFill>
          <a:blip r:embed="rId1"/>
          <a:stretch/>
        </p:blipFill>
        <p:spPr>
          <a:xfrm>
            <a:off x="1981080" y="2057400"/>
            <a:ext cx="5419800" cy="4210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1981080" y="1828800"/>
            <a:ext cx="76536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905840" y="4191120"/>
            <a:ext cx="676080" cy="52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cheduling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Picture 3" descr="img15"/>
          <p:cNvPicPr/>
          <p:nvPr/>
        </p:nvPicPr>
        <p:blipFill>
          <a:blip r:embed="rId1"/>
          <a:stretch/>
        </p:blipFill>
        <p:spPr>
          <a:xfrm>
            <a:off x="2133720" y="1600200"/>
            <a:ext cx="4976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