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FB14-5F40-4D1B-B238-5372F43F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DA0F-8B4F-4D5E-98ED-4DF6DDA4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EB20-4C72-47F9-93F7-27D9722E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A04-72A0-433F-88D5-84707284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48D4-2551-4350-9028-CAD48F43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02C1-888F-44E4-91C0-93425B05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06D9-0F52-4F65-A8C4-9B2928E7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E0AAF-3A19-433A-B9AE-AF11613D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DEDD-5D13-49CC-84F8-69120B9A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AE5D-F413-4D0D-AB11-1467B3705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2D18-12C9-464A-AEA3-073D3FC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2FE3-A453-413D-9EEC-58C79D68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20BA-C9A0-4AD6-AD96-7E551EED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8C885-57A9-42C5-BECF-AFD3E192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80877-3B21-42AB-8E30-73AF05D5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7C2E-3BF8-48CF-9C12-B5EBA3CF9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A302-ED75-4EF6-9C2A-6DF87FD3F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AB6-CCD2-4632-B9D9-01B2259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51F2-6E96-4CD4-8A1A-3AF54061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0D3-99C3-4CB9-8029-78834DCF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F412-88A4-4AAE-A1D3-03BA4EAB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D153-47CA-429F-A29E-C54FC31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63F-B0A7-44D5-AD1C-C48A5595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DFEE-BAD6-45B7-B485-AC056AB5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931CF-B0E2-4855-9303-9932C8230B38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59A6-640F-43EA-B9CE-62AF91AAB8D6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edul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ng-term scheduler (or job scheduler)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which processes should be brought into the ready queu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d very infrequently (seconds, minutes); may be s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s the degree of multiprogram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ort term scheduler (or CPU scheduler) -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s which process should execute next and allocates CP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ked very frequently (milliseconds) - must be very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edium Term Scheduler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aps out process temporar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lances load for better 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um Term (Time-sharing) Schedul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Picture 3" descr="img16"/>
          <p:cNvPicPr/>
          <p:nvPr/>
        </p:nvPicPr>
        <p:blipFill>
          <a:blip r:embed="rId1"/>
          <a:stretch/>
        </p:blipFill>
        <p:spPr>
          <a:xfrm>
            <a:off x="1371600" y="2133720"/>
            <a:ext cx="68389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Profil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bound proces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s more time in I/O,  short CPU bursts, CPU underut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PU bound proces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nds more time doing computations; few very long CPU bursts, I/O underutil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e right job mix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erm scheduler - admits jobs to keep load balanced between I/O and CPU bound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text Swit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ask that switches CPU from one process to another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PU must save the PCB state of the old process and load the saved PCB state of the new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ext-switch time is overhead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does no useful work while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come a bottlen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ime for context switch is dependent on hardware support ( 1- 1000 microseconds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es are created and deleted dynamicall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which creates another process is called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paren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rocess; the created process is called a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chil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roces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ult is a tree of processes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e.g. UNIX - processes have dependencies and form a hierarchy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s required when creating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PU time, files, memory, I/O devices etc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Process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Picture 3" descr="img17"/>
          <p:cNvPicPr/>
          <p:nvPr/>
        </p:nvPicPr>
        <p:blipFill>
          <a:blip r:embed="rId1"/>
          <a:stretch/>
        </p:blipFill>
        <p:spPr>
          <a:xfrm>
            <a:off x="1828800" y="2057400"/>
            <a:ext cx="629604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shar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ren share all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ren share subset of parent’s resources - prevents many processes from overloading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ren share no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and child execute concurr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waits until child has termin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ddress Spac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process is duplicate of parent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process has a program loaded into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Process Cre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rk system call creates new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ecve system call is used after a fork to replace the processes memory space with a new progra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Termin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executes last statement and asks the operating system to delete it (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exit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data from child to parent (via wai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’ resources are deallocated by opera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ent may terminate execution of child process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ld has exceeded allocated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 assigned to child is no longer requ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ent is exi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does not allow child to continue if parent ter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ter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es do not share resources well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context switching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thread (or lightweight process) 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unit of CPU utilization; it consists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, register set and stack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 thread shares the following with peer threads: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 section, data section and OS resources (open files, signa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llectively called a task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eavyweight process is a task with one threa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ut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Concep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Schedu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perations on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operating Process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terprocess Communic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ingle and Multithreaded Proces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391" t="11749" r="391" b="11749"/>
          <a:stretch/>
        </p:blipFill>
        <p:spPr>
          <a:xfrm>
            <a:off x="1116000" y="1652760"/>
            <a:ext cx="7132680" cy="4125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0200" y="636480"/>
            <a:ext cx="7293240" cy="6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enefi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ponsiveness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Sharing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conomy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tilization of MP Architectur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22360" y="165240"/>
            <a:ext cx="31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n a multiple threaded task, while one server thread is blocked and waiting, a second thread in the same task can ru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operation of multiple threads in the same job confers higher throughput and improved performanc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pplications that require sharing a common buffer (i.e. producer-consumer) benefit from thread utilization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 provide a mechanism that allows sequential processes to make blocking system calls while also achieving parallelism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context switch still requires a register set switch, but no memory management related work!!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states -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6633"/>
                </a:solidFill>
                <a:latin typeface="Arial"/>
              </a:rPr>
              <a:t>ready, blocked, running, terminated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s share CPU and only one thread can run at a time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o protection among thread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Kernel-supported threads (Mach and OS/2)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User-lev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ybrid approach implements both user-level and kernel-supported threads (Solaris 2)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ser 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read management done by user-level threads library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upported above the kernel, via a set of library calls at the user level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hreads do not need to call OS and cause interrupts to kernel - fas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sadv: If kernel is single threaded, system call from any thread can block the entire tas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xample thread librari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OSIX P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in32 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Java thread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rnel Threa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upported by the Kernel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indows XP/2000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u64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c OS 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Mach, OS/2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ultithreading Mode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-to-One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One-to-One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-to-Man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Many user-level threads mapped to single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Green Thread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GNU Portable Threads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O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2680" t="1206" r="12680" b="1211"/>
          <a:stretch/>
        </p:blipFill>
        <p:spPr>
          <a:xfrm>
            <a:off x="2233440" y="1592280"/>
            <a:ext cx="4475160" cy="438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oncep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n operating system executes a variety of program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batch systems - job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time-shared systems - user programs or tasks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job and program used interchangeably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cess - a program in execu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cess execution proceeds in a sequential fash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ontai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gram counter, stack and data section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e-to-O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ach user-level thread maps to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indows NT/XP/2000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Lin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9 and later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ne-to-one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rcRect l="362" t="25422" r="539" b="25181"/>
          <a:stretch/>
        </p:blipFill>
        <p:spPr>
          <a:xfrm>
            <a:off x="1314360" y="2057400"/>
            <a:ext cx="6577200" cy="2459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Many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574640"/>
            <a:ext cx="68947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s many user level threads to be mapped to many kern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llows the  operating system to create a sufficient number of kernel thread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aris prior to version 9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indows NT/2000 with the </a:t>
            </a:r>
            <a:r>
              <a:rPr b="0" i="1" lang="en-US" sz="3000" spc="-1" strike="noStrike">
                <a:solidFill>
                  <a:srgbClr val="003399"/>
                </a:solidFill>
                <a:latin typeface="Arial"/>
              </a:rPr>
              <a:t>ThreadFiber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pack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ny-to-Many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rcRect l="6704" t="837" r="6914" b="837"/>
          <a:stretch/>
        </p:blipFill>
        <p:spPr>
          <a:xfrm>
            <a:off x="2128680" y="1727280"/>
            <a:ext cx="4714920" cy="4024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 Support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olaris 2 is a version of UNIX with support for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and user level threads, symmetric multiprocessing and real-time schedu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ghtweight Processes (LWP)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mediate between user and kernel level thre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LWP is connected to exactly one kernel th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9" name="Picture 3" descr="img20"/>
          <p:cNvPicPr/>
          <p:nvPr/>
        </p:nvPicPr>
        <p:blipFill>
          <a:blip r:embed="rId1"/>
          <a:stretch/>
        </p:blipFill>
        <p:spPr>
          <a:xfrm>
            <a:off x="1600200" y="2209680"/>
            <a:ext cx="6076800" cy="3537000"/>
          </a:xfrm>
          <a:prstGeom prst="rect">
            <a:avLst/>
          </a:prstGeom>
          <a:ln w="0">
            <a:noFill/>
          </a:ln>
        </p:spPr>
      </p:pic>
      <p:sp>
        <p:nvSpPr>
          <p:cNvPr id="180" name="Line 4"/>
          <p:cNvSpPr/>
          <p:nvPr/>
        </p:nvSpPr>
        <p:spPr>
          <a:xfrm flipH="1">
            <a:off x="5791320" y="2895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5"/>
          <p:cNvSpPr/>
          <p:nvPr/>
        </p:nvSpPr>
        <p:spPr>
          <a:xfrm flipH="1">
            <a:off x="5867280" y="3276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1752480" y="388620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s in Solaris 2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source requirements of thread typ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Kernel Thread: small data structure and stack; thread switching does not require changing memory access information - relatively fast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Lightweight Process: PCB with register data, accounting and memory information - switching between LWP is relatively slow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User-level thread: only needs stack and program counter; no kernel involvement means fast switching. Kernel only sees the LWPs that support user-level thread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-leve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560" y="1447920"/>
            <a:ext cx="65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milar to M:M, except that it allows a user thread to be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bound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to kernel thread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IR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P-U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Tru64 UNIX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Solaris 8 and earlier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wo-level Mode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rcRect l="716" t="5734" r="240" b="5414"/>
          <a:stretch/>
        </p:blipFill>
        <p:spPr>
          <a:xfrm>
            <a:off x="1649520" y="1757520"/>
            <a:ext cx="5587920" cy="376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reading Iss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8120" y="1485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mantics of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fork()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exec()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system cal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cancell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gnal handling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pool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read specific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heduler activation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tat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A process changes state as it executes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Oval 4"/>
          <p:cNvSpPr/>
          <p:nvPr/>
        </p:nvSpPr>
        <p:spPr>
          <a:xfrm>
            <a:off x="1447920" y="2819520"/>
            <a:ext cx="914400" cy="380880"/>
          </a:xfrm>
          <a:prstGeom prst="ellipse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2895480" y="3886200"/>
            <a:ext cx="914400" cy="3808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>
            <a:off x="4800600" y="3809880"/>
            <a:ext cx="914400" cy="381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>
            <a:off x="3962520" y="5486400"/>
            <a:ext cx="914400" cy="380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6095880" y="2895480"/>
            <a:ext cx="914400" cy="3812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9"/>
          <p:cNvCxnSpPr>
            <a:stCxn id="94" idx="6"/>
            <a:endCxn id="95" idx="0"/>
          </p:cNvCxnSpPr>
          <p:nvPr/>
        </p:nvCxnSpPr>
        <p:spPr>
          <a:xfrm>
            <a:off x="2361960" y="3009960"/>
            <a:ext cx="99108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AutoShape 10"/>
          <p:cNvCxnSpPr>
            <a:stCxn id="96" idx="0"/>
            <a:endCxn id="95" idx="7"/>
          </p:cNvCxnSpPr>
          <p:nvPr/>
        </p:nvCxnSpPr>
        <p:spPr>
          <a:xfrm rot="5400000">
            <a:off x="4400640" y="308520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AutoShape 11"/>
          <p:cNvCxnSpPr>
            <a:stCxn id="96" idx="0"/>
            <a:endCxn id="98" idx="2"/>
          </p:cNvCxnSpPr>
          <p:nvPr/>
        </p:nvCxnSpPr>
        <p:spPr>
          <a:xfrm flipH="1" flipV="1" rot="5400000">
            <a:off x="5314680" y="302868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2"/>
          <p:cNvCxnSpPr>
            <a:stCxn id="95" idx="4"/>
            <a:endCxn id="96" idx="3"/>
          </p:cNvCxnSpPr>
          <p:nvPr/>
        </p:nvCxnSpPr>
        <p:spPr>
          <a:xfrm flipH="1" flipV="1" rot="5400000">
            <a:off x="4077000" y="3410280"/>
            <a:ext cx="132480" cy="1581840"/>
          </a:xfrm>
          <a:prstGeom prst="curvedConnector5">
            <a:avLst>
              <a:gd name="adj1" fmla="val -173297"/>
              <a:gd name="adj2" fmla="val 49988"/>
              <a:gd name="adj3" fmla="val -173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3"/>
          <p:cNvCxnSpPr>
            <a:stCxn id="97" idx="2"/>
            <a:endCxn id="95" idx="3"/>
          </p:cNvCxnSpPr>
          <p:nvPr/>
        </p:nvCxnSpPr>
        <p:spPr>
          <a:xfrm rot="10800000">
            <a:off x="3028320" y="4210920"/>
            <a:ext cx="934200" cy="146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4"/>
          <p:cNvCxnSpPr>
            <a:stCxn id="96" idx="4"/>
            <a:endCxn id="97" idx="6"/>
          </p:cNvCxnSpPr>
          <p:nvPr/>
        </p:nvCxnSpPr>
        <p:spPr>
          <a:xfrm rot="5400000">
            <a:off x="4323960" y="4743360"/>
            <a:ext cx="1486440" cy="381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Text Box 15"/>
          <p:cNvSpPr/>
          <p:nvPr/>
        </p:nvSpPr>
        <p:spPr>
          <a:xfrm>
            <a:off x="2729160" y="285588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101120" y="338940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2057400" y="4572000"/>
            <a:ext cx="965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ple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3872160" y="4456080"/>
            <a:ext cx="833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9"/>
          <p:cNvSpPr/>
          <p:nvPr/>
        </p:nvSpPr>
        <p:spPr>
          <a:xfrm>
            <a:off x="5320800" y="4684680"/>
            <a:ext cx="84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 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t wa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0"/>
          <p:cNvSpPr/>
          <p:nvPr/>
        </p:nvSpPr>
        <p:spPr>
          <a:xfrm>
            <a:off x="5396760" y="30081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3126600" y="3962520"/>
            <a:ext cx="52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2"/>
          <p:cNvSpPr/>
          <p:nvPr/>
        </p:nvSpPr>
        <p:spPr>
          <a:xfrm>
            <a:off x="4952160" y="3886200"/>
            <a:ext cx="70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3"/>
          <p:cNvSpPr/>
          <p:nvPr/>
        </p:nvSpPr>
        <p:spPr>
          <a:xfrm>
            <a:off x="6098040" y="29718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term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4"/>
          <p:cNvSpPr/>
          <p:nvPr/>
        </p:nvSpPr>
        <p:spPr>
          <a:xfrm flipH="1">
            <a:off x="4038480" y="5562720"/>
            <a:ext cx="73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process Communication (IPC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chanism for processes to communicate and synchronize their a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shared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a Messaging system - processes communicate without resorting to shared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ssaging system and shared memory not mutually exclusive -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used simultaneously within a single OS or a singl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PC facility provides two opera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- message size can be fixed or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using IPC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2" marL="981360" indent="-336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Producer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 an item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1360" indent="-33696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Consumer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 item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86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operating Processes via Message Pass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f processes P and Q wish to communicate, they need to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communication link between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xed vs. Variable size messag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message size - straightforward physical implementation, programming task is difficult due to frag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message size - simpler programming, more complex physical implemen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plementation Ques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are links established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Can a link be associated with more than 2 process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How many links can there be between every pair of communicating process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What is the capacity of a link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Fixed or variable size message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Unidirectional or bidirectional links?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……</a:t>
            </a: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Commun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nder and Receiver processes must name each other explicitly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send a message to process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- receive a message from process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perties of communication link: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s are established automatic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ctly one link between each 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 may be unidirectional, usually bidirectional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rect Communic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ssages are directed to and received from mailboxes (also called ports)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ID for every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/* send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mailbo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* receive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om mailbo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perties of communication link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can be associated with many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may be unidirectional or bi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direct Communication using mailbox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4" name="Picture 3" descr="img21"/>
          <p:cNvPicPr/>
          <p:nvPr/>
        </p:nvPicPr>
        <p:blipFill>
          <a:blip r:embed="rId1"/>
          <a:stretch/>
        </p:blipFill>
        <p:spPr>
          <a:xfrm>
            <a:off x="1828800" y="1851120"/>
            <a:ext cx="60721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ailboxes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/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ssue: Mailbox sharing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, P2 and P3 share mailbox 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sends message, P2 and P3 receive… who gets message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ossible Solution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allow links between more than 2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system to arbitrarily select receiver and then notify se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Buffer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ink has some capacity - determine the number of messages that can reside temporarily in it.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Queue of messages attached to link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ero-capacity Queues: 0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waits for receiver (synchronization is calle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ndezvo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ed capacity Queues: Finite length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waits if link is f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 capacity Queues: Infinite queue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64280" indent="-3362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Problems - Exception Cond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cess Termination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:  P(sender) terminates, Q(receiver) blocks forev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rminates 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notifies Q that P has termin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 has an internal mechanism(timer) that determines how long   to wait for a message from 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blem: P(sender) sends message, Q(receiver) terminates. In automatic buffering, P sends message until buffer is full or forever. In no-buffering scheme, P blocks forev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3" marL="1339920" indent="-316080">
              <a:spcBef>
                <a:spcPts val="400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notifie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terminates 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00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 and Q use acknowledgement with time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tat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New - The process is being creat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unning - Instructions are being executed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aiting - Waiting for some event to occu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Ready - Waiting to be assigned to a processo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erminated - Process has finished execution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ssage Problems - Exception Condi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Lost Mess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guarantees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s responsible for detecting it using time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gets an 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crambled Message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rives from sender P to receiver Q, but information in message is corrupted due to noise in communication chann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rror detection mechanism, e.g. CHECKS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error correction mechanism, e.g. re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operating Process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urrent Processes can be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affect or be affected by the execution of anothe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ffect or be affected by the execution of another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antages of process cooperatio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(e.g. editing, printing, compi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current execution require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lnSpc>
                <a:spcPct val="90000"/>
              </a:lnSpc>
              <a:spcBef>
                <a:spcPts val="4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mmunication and process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aradigm for cooperating processes;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oducer process produces information that is consumed by a consumer process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  <a:p>
            <a:pPr marL="339480" indent="-3394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 need buffer of items that can be filled by producer and emptied by consumer.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bounded-buffer places no practical limit on the size of the buffer. Consumer may wait, producer never wa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6240" indent="-31284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ed-buffer assumes that there is a fixed buffer size. Consumer waits for new item, producer waits if buffer is fu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3300"/>
                </a:solidFill>
                <a:latin typeface="Arial"/>
              </a:rPr>
              <a:t>Producer and Consumer must synchronize.</a:t>
            </a:r>
            <a:endParaRPr b="0" lang="en-US" sz="26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ducer-Consumer Probl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18" name="Picture 3" descr="img18"/>
          <p:cNvPicPr/>
          <p:nvPr/>
        </p:nvPicPr>
        <p:blipFill>
          <a:blip r:embed="rId1"/>
          <a:stretch/>
        </p:blipFill>
        <p:spPr>
          <a:xfrm>
            <a:off x="1828800" y="1447920"/>
            <a:ext cx="549576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-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hared data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…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0..n-1]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0..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0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0; /* shared buffer = circular array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Buffer empty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Buffer full if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) 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*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ans ‘do nothing’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 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Producer process - creates filled buff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 an item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[in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+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Bounded Buffer - Shared Memory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sumer process - Empties filled buffer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uffer[out]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e the next item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x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Control Bloc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ntains information associated with each process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State - e.g. new, ready, running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Counter - address of next instruction to be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registers - general purpose registers, stack pointer et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U scheduling information - process priority, poi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Management information - base/limi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information - time limits, process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/O Status information - list of I/O devices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cheduling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Job Queue - set of all processes in the system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Ready Queue - set of all processes residing in main memory, ready and waiting to execut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ce Queues - set of processes waiting for an I/O devic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 migration between the various queu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Queue Structures - typically linked list, circular list etc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Picture 3" descr="img14"/>
          <p:cNvPicPr/>
          <p:nvPr/>
        </p:nvPicPr>
        <p:blipFill>
          <a:blip r:embed="rId1"/>
          <a:stretch/>
        </p:blipFill>
        <p:spPr>
          <a:xfrm>
            <a:off x="1981080" y="2057400"/>
            <a:ext cx="5419800" cy="42102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1981080" y="1828800"/>
            <a:ext cx="765360" cy="5202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905840" y="4191120"/>
            <a:ext cx="676080" cy="5202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Scheduling Queu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6" name="Picture 3" descr="img15"/>
          <p:cNvPicPr/>
          <p:nvPr/>
        </p:nvPicPr>
        <p:blipFill>
          <a:blip r:embed="rId1"/>
          <a:stretch/>
        </p:blipFill>
        <p:spPr>
          <a:xfrm>
            <a:off x="2133720" y="1600200"/>
            <a:ext cx="497664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