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7564-1324-49C2-808C-D95B3045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378B-7C86-4996-865C-82C7B63A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E8D-09F3-410C-9A9F-26923D10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19EB-F987-4C52-B2AD-F34C8D1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4938F-8CE6-4C66-BEB0-04CC1423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2944-9F54-43AA-8E34-B4889D27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5029-31BD-49EC-BA43-73DEBEA4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E927-9BE2-45B0-BC97-27100EC4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D685-1394-4066-B88B-F12040F5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563D-C2EA-4E19-A1BA-210A60D8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9075-228C-4FE3-A50B-1D3FE018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4DB5-6744-4210-830D-A4B6EBBB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41D1-9FBD-4142-957C-7278D941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34E5-6F54-4660-A78D-7B52C319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64FD-77B0-4C42-87CE-F71627CA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8E7D-C2B5-4E3B-881B-92906F59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98A2-5F95-48BD-90DE-1A5EC512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32C-D1B7-42A7-824C-4A18C376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E42-7E7C-4A9D-B4A4-C98129C0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71AE-3403-4375-B8FA-0C81706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41F2-3029-4063-A7F9-01D73EE3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E578-9ED5-4AD8-B0AA-42AC4EFB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867-DF23-483F-9D76-2C80C64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0E9D-8051-4E59-9260-3542B3F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D7D0-F94E-41F6-9D1B-7361D246D26B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C910-F8F9-4D86-9D6A-5BC67552555E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Scheduling Deci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scheduling decisions may take place when a proces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from running state to wait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from running state to ready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under 1 and 4 is non-preemptiv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other scheduling is preemptiv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scheduling deci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47920" y="2819520"/>
            <a:ext cx="914400" cy="38088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2895480" y="3886200"/>
            <a:ext cx="9144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800600" y="3809880"/>
            <a:ext cx="91440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962520" y="5486400"/>
            <a:ext cx="91440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6095880" y="2895480"/>
            <a:ext cx="91440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9"/>
          <p:cNvCxnSpPr>
            <a:stCxn id="108" idx="6"/>
            <a:endCxn id="109" idx="0"/>
          </p:cNvCxnSpPr>
          <p:nvPr/>
        </p:nvCxnSpPr>
        <p:spPr>
          <a:xfrm>
            <a:off x="2361960" y="3009960"/>
            <a:ext cx="991080" cy="87696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AutoShape 10"/>
          <p:cNvCxnSpPr>
            <a:stCxn id="110" idx="0"/>
            <a:endCxn id="109" idx="7"/>
          </p:cNvCxnSpPr>
          <p:nvPr/>
        </p:nvCxnSpPr>
        <p:spPr>
          <a:xfrm rot="5400000">
            <a:off x="4400640" y="308520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5" name="AutoShape 11"/>
          <p:cNvCxnSpPr>
            <a:stCxn id="110" idx="0"/>
            <a:endCxn id="112" idx="2"/>
          </p:cNvCxnSpPr>
          <p:nvPr/>
        </p:nvCxnSpPr>
        <p:spPr>
          <a:xfrm flipH="1" flipV="1" rot="5400000">
            <a:off x="5314680" y="3028680"/>
            <a:ext cx="724320" cy="838800"/>
          </a:xfrm>
          <a:prstGeom prst="curvedConnector2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6" name="AutoShape 12"/>
          <p:cNvCxnSpPr>
            <a:stCxn id="109" idx="4"/>
            <a:endCxn id="110" idx="3"/>
          </p:cNvCxnSpPr>
          <p:nvPr/>
        </p:nvCxnSpPr>
        <p:spPr>
          <a:xfrm flipH="1" flipV="1" rot="5400000">
            <a:off x="4077000" y="341028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7" name="AutoShape 13"/>
          <p:cNvCxnSpPr>
            <a:stCxn id="111" idx="2"/>
            <a:endCxn id="109" idx="3"/>
          </p:cNvCxnSpPr>
          <p:nvPr/>
        </p:nvCxnSpPr>
        <p:spPr>
          <a:xfrm rot="10800000">
            <a:off x="3028320" y="4210920"/>
            <a:ext cx="934200" cy="1465920"/>
          </a:xfrm>
          <a:prstGeom prst="curvedConnector2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8" name="AutoShape 14"/>
          <p:cNvCxnSpPr>
            <a:stCxn id="110" idx="4"/>
            <a:endCxn id="111" idx="6"/>
          </p:cNvCxnSpPr>
          <p:nvPr/>
        </p:nvCxnSpPr>
        <p:spPr>
          <a:xfrm rot="5400000">
            <a:off x="4323960" y="4743360"/>
            <a:ext cx="1486440" cy="381600"/>
          </a:xfrm>
          <a:prstGeom prst="curvedConnector2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119" name="Text Box 15"/>
          <p:cNvSpPr/>
          <p:nvPr/>
        </p:nvSpPr>
        <p:spPr>
          <a:xfrm>
            <a:off x="2729160" y="285588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101120" y="33894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057400" y="4572000"/>
            <a:ext cx="9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3872160" y="445608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5320800" y="468468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396760" y="30081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126600" y="39625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4952160" y="38862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6098040" y="29718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r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 flipH="1">
            <a:off x="4038480" y="556272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patch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patcher module gives control of the CPU to the process selected by the short-term scheduler.  This involv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patch Latency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ime it takes for the dispatcher to stop one process and start another running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ispatcher must be fas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ing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Utiliz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Keep the CPU and other resources as busy as possibl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oughpu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# of processes that complete their execution per time uni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rnaround ti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time to execute a particular process from its entry tim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ing Criteria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iting ti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time a process has been waiting in the ready queu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ponse Time (in a time-sharing environment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time it takes from when a request was submitted until the first response is produced, NOT outpu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timization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x CPU Utiliz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x Through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 Turnaround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 Waiting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 response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rst Come First Serve (FCFS)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licy: Process that requests the CPU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FIRS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llocated the CPU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FIRS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CFS is a non-preemptive algorithm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plementation - using FIFO que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rocess is added to the tail of the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elected for execution is taken from head of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formance metric - Average waiting time in queu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ntt Charts are used to visualize schedul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rst-Come, First-Served(FCFS)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1066680" y="2438280"/>
          <a:ext cx="1914480" cy="10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19144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ose the arrival order for the processes i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1, P2, P3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iting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1 = 0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2 = 24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3 = 27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erage waiting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0+24+27)/3 = 17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33526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3733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004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581280" y="4952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19062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3526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7350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CFS Scheduling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525680" y="2536920"/>
          <a:ext cx="1912680" cy="100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536920"/>
                    <a:ext cx="19126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ppose the arrival order for the processes i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2, P3, P1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aiting tim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1 = 6; P2 = 0; P3 = 3;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erage waiti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(6+0+3)/3 = 3 , better.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onvoy Effec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process behind long process, e.g. 1 CPU bound process, many I/O bou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47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8288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295280" y="4876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74320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9907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490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hortest-Job-First(SJF)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ssociate with each process the length of its next CPU burst. Use these lengths to schedule the process with the shortest tim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wo Schemes: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cheme 1: Non-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CPU is given to the process it cannot be preempted until it completes its CPU bu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cheme 2: 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ew CPU process arrives with CPU burst length less than remaining time of current executing process, preempt. Also called Shortest-Remaining-Time-First (SRT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JF is optimal - gives minimum average waiting time for a given set of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Obj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s of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Criteri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Algorith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CFS, Shortest Job First, Priority, Round Robin, Multilevel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e Processor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gorithm Evalu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Preemptive SJF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2286000" y="2286000"/>
          <a:ext cx="312408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124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5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286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590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5146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44792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28954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2870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5812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2767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1337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1353240" y="5268960"/>
            <a:ext cx="195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verage waiting tim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+6+3+7)/4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emptive SJF Scheduling(SRTF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2286000" y="2286000"/>
          <a:ext cx="312408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124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5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2286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909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066680" y="4419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28600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98216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28954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>
            <a:off x="33526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2004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21337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1360440" y="524340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verage waiting 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+1+0+2)/4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15238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160020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>
            <a:off x="19810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365760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13716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18288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rmining Length of Next CPU Bur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e can only estimate the length of burs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length of previous CPU bursts and perform exponential averaging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actual length of nth bur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 =predicted value for the next CPU bur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= 0,  0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1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1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onential Averaging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= 0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;   Recent history does not coun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= 1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; Only the actual last CPU burst count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ilarly, expanding the formula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(1-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-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…+                                          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1-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^j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j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…                                                         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1-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^(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+1) </a:t>
            </a: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ccessive term has less weight than its predeces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792400" y="4419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ority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iority value (integer) is associated with each process. Can be based 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to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CPU time used in last X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is allocated to process with the highest priority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n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ority Scheduling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JN is a priority scheme where the priority is the predicted next CPU burst tim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arvation!! - Low priority processes may never execu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lu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ging - as time progresses increase the priority of the proces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nd Robin (RR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process gets a small unit of CPU ti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quantum usually 10-100 milliseco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time has elapsed, the process is preempted and added to the end of the ready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processes, time quantum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cess gets 1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PU time in chunks of at 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units at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cess waits more tha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li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arge - FIF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li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oo small - Overhead of context switch is too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uristic - 70-80% of jobs block within time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nd Robin 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ime Quantum = 20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2666880" y="2362320"/>
          <a:ext cx="2027520" cy="141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362320"/>
                    <a:ext cx="202752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5"/>
          <p:cNvSpPr/>
          <p:nvPr/>
        </p:nvSpPr>
        <p:spPr>
          <a:xfrm>
            <a:off x="990720" y="4343400"/>
            <a:ext cx="419076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286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3808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66680" y="4419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3623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9062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274320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32004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1447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4479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8288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12193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39625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43434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4724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51814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32014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3444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72536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5812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39625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16002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20574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25909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30481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335268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373392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411480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457200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495288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1115280" y="5497560"/>
            <a:ext cx="58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ically, higher average turnaround time than SRTF, but better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Que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y Queue partitioned into separate que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ystem processes, foreground (interactive), background (batch), student process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queue has its own schedul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oreground (RR), background(FC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es assigned to one queue permanen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heduling must be done between the que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- serve all from foreground, then from background. Possibility of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lice - Each queue gets some CPU time that it schedules - e.g. 80% foreground(RR), 20% background (FCF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9" name="Picture 4" descr="img36"/>
          <p:cNvPicPr/>
          <p:nvPr/>
        </p:nvPicPr>
        <p:blipFill>
          <a:blip r:embed="rId1"/>
          <a:stretch/>
        </p:blipFill>
        <p:spPr>
          <a:xfrm>
            <a:off x="1676520" y="1447920"/>
            <a:ext cx="51814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forcement of fairnes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llocating resources to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forcement of prior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best use of available system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ive preference to processes holding key resourc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ive preference to processes exhibiting good behavio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ade gracefully under heavy load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Feedback Que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level Queue with prior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can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mov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between the queu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ing can be implemented this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ameters for a multilevel feedback queue schedule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que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algorithm for each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used to determine when to upgrade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used to determine when to demote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Feedback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: Three Queues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0  - time quantum 8 milliseconds (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 - time quantum 16 milliseconds (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2  - FC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job enters Q0 - When it gains CPU, it receives 8 milliseconds. If job does not finish, move it to Q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Q1, when job gains CPU, it receives 16 more milliseconds.  If job does not complete, it is preempted and moved to queue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Feedback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Picture 3" descr="img37"/>
          <p:cNvPicPr/>
          <p:nvPr/>
        </p:nvPicPr>
        <p:blipFill>
          <a:blip r:embed="rId1"/>
          <a:stretch/>
        </p:blipFill>
        <p:spPr>
          <a:xfrm>
            <a:off x="2209680" y="1371600"/>
            <a:ext cx="5220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ple-Processor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scheduling becomes more complex when multiple CPUs are availabl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Have one ready queue accessed by each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cheduled - each CPU dispatches a job from ready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- one CPU schedules the other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mogeneous processors within multiprocesso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Load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multiprocess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1 CPU runs kernel, others run us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viates need for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l-Time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d Real-time Computing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 complete a critical task within a guaranteed amount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ft Real-time Computing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critical processes receive priority over less fortunate 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real-time Schedul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Schedulers - Fixed Arri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-Driven Schedulers - Variable Arri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ine Schedulers - Priority determined by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sues in Real-time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patch Lat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- Need to keep dispatch latency small, OS may enforce process to wait for system call or I/O  to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 - Make system calls preemptible, determine safe criteria such that kernel can be interru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iority Inversion and Inherit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Priorit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riority Process needs kernel resource currently being used by another lower priority process..higher priority process must wa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iority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iority process now inherits high priority until it has completed use of the resource in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l-time Scheduling - Dispatch Laten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3" name="Picture 3" descr="img42"/>
          <p:cNvPicPr/>
          <p:nvPr/>
        </p:nvPicPr>
        <p:blipFill>
          <a:blip r:embed="rId1"/>
          <a:stretch/>
        </p:blipFill>
        <p:spPr>
          <a:xfrm>
            <a:off x="2514600" y="1600200"/>
            <a:ext cx="3848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gorithm Eval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stic Model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 particular predetermined workload and defines the performance of each algorithm for that workload.  Too specific, requires exact knowledge to be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euing Models and Queuing The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istributions of CPU and I/O bursts.  Knowing arrival and service rates - can compute utilization, average queue length, average wait time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’s formula  - n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where n is the average queue length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vg. arrival rate and W is the avg. waiting time in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techniques: Simulations, Imple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 Behavior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/O boundedn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hort burst of CPU before blocking for I/O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boundedn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xtensive use of CPU before blocking for I/O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rgency and Prior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emp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execution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ime shar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execution time process has already receiv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Conce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ximum CPU utilization obtained with multiprogramming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-I/O Burst Cy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cess execution consists of a cycle of CPU execution and I/O wai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Burst Distrib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3" descr="img1"/>
          <p:cNvPicPr/>
          <p:nvPr/>
        </p:nvPicPr>
        <p:blipFill>
          <a:blip r:embed="rId1"/>
          <a:stretch/>
        </p:blipFill>
        <p:spPr>
          <a:xfrm>
            <a:off x="2590920" y="1600200"/>
            <a:ext cx="39114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vels of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gh Level Scheduling or Job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lects jobs allowed to compete for CPU and other system resourc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 Level Scheduling or Medium Term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lects which jobs to temporarily suspend/resume to smooth fluctuations in system loa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w Level (CPU) Scheduling or Dispatc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lects the ready process that will be assigned the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ady Queue contains PCBs of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vels of Scheduling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3" descr="img2"/>
          <p:cNvPicPr/>
          <p:nvPr/>
        </p:nvPicPr>
        <p:blipFill>
          <a:blip r:embed="rId1"/>
          <a:stretch/>
        </p:blipFill>
        <p:spPr>
          <a:xfrm>
            <a:off x="2057400" y="1219320"/>
            <a:ext cx="448632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Schedul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s from among the processes in memory that are ready to execute, and allocates the CPU to one of them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n-preemptive Scheduling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nce CPU has been allocated to a process, the process keeps the CPU until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exits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witches to wait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eemptive Scheduling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cess can be interrupted and must release the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ordinate access to shar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