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5FAC-4FC8-4455-ABC0-1B870F49C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ABA-714A-4E64-9008-B1DEAAD4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2155-9681-49A9-83ED-6943BEB2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A645-ECB4-4AE3-8671-D9377078D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017B-F710-4B47-9285-B8402D59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A44B-1620-4842-AB5F-CEC2141ED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BE6E-EAC7-427B-9325-7F45765D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2DE1-C725-444D-97C2-1B50E9CB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9714-7D01-4625-8331-62099432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ED9E-6BF9-47A1-AA67-1FEC276A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EFFC-4B62-4FC8-992A-E6FCE310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8EDB-C2FB-4F11-B99F-CD0198B2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F003-C708-4CEC-B9D6-FF51FF99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3B56E-9314-441F-9A98-E0DF20DD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AE32-2300-4EC9-8683-09EFB675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5B196-6F76-4698-AAEF-9BBE3C0A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DC30-B869-42F4-866E-A97E11ED2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A0B-41A8-424A-9D51-EF78CEA6D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7985-71A9-4178-B9FB-6067168F4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DDC-8E11-4B6C-9005-D200FD45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3740-EAD4-404D-8F16-84B16203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F29C-BF51-469D-AD38-C920143B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981-1A15-45B3-80E9-C8DF80ED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EAD-5800-4FB0-8060-8A441D3F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28865-B5CC-4A8B-B2F6-EC77A8163A2B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C7085-1459-4540-AB11-75F6CD88DF23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inciples of 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Operating System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4760" y="396252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PU Scheduling Deci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PU scheduling decisions may take place when a proces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from running state to waiting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from running state to ready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es from waiting to re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heduling under 1 and 4 is non-preemptiv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 other scheduling is preemptiv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PU scheduling deci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1447920" y="2819520"/>
            <a:ext cx="914400" cy="380880"/>
          </a:xfrm>
          <a:prstGeom prst="ellipse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5"/>
          <p:cNvSpPr/>
          <p:nvPr/>
        </p:nvSpPr>
        <p:spPr>
          <a:xfrm>
            <a:off x="2895480" y="3886200"/>
            <a:ext cx="91440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6"/>
          <p:cNvSpPr/>
          <p:nvPr/>
        </p:nvSpPr>
        <p:spPr>
          <a:xfrm>
            <a:off x="4800600" y="3809880"/>
            <a:ext cx="91440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7"/>
          <p:cNvSpPr/>
          <p:nvPr/>
        </p:nvSpPr>
        <p:spPr>
          <a:xfrm>
            <a:off x="3962520" y="5486400"/>
            <a:ext cx="914400" cy="380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6095880" y="2895480"/>
            <a:ext cx="914400" cy="381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9"/>
          <p:cNvCxnSpPr>
            <a:stCxn id="108" idx="6"/>
            <a:endCxn id="109" idx="0"/>
          </p:cNvCxnSpPr>
          <p:nvPr/>
        </p:nvCxnSpPr>
        <p:spPr>
          <a:xfrm>
            <a:off x="2361960" y="3009960"/>
            <a:ext cx="991080" cy="876960"/>
          </a:xfrm>
          <a:prstGeom prst="curved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4" name="AutoShape 10"/>
          <p:cNvCxnSpPr>
            <a:stCxn id="110" idx="0"/>
            <a:endCxn id="109" idx="7"/>
          </p:cNvCxnSpPr>
          <p:nvPr/>
        </p:nvCxnSpPr>
        <p:spPr>
          <a:xfrm rot="5400000">
            <a:off x="4400640" y="3085200"/>
            <a:ext cx="132480" cy="1581840"/>
          </a:xfrm>
          <a:prstGeom prst="curvedConnector5">
            <a:avLst>
              <a:gd name="adj1" fmla="val -173297"/>
              <a:gd name="adj2" fmla="val 49988"/>
              <a:gd name="adj3" fmla="val -173297"/>
            </a:avLst>
          </a:prstGeom>
          <a:ln w="2844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115" name="AutoShape 11"/>
          <p:cNvCxnSpPr>
            <a:stCxn id="110" idx="0"/>
            <a:endCxn id="112" idx="2"/>
          </p:cNvCxnSpPr>
          <p:nvPr/>
        </p:nvCxnSpPr>
        <p:spPr>
          <a:xfrm flipH="1" flipV="1" rot="5400000">
            <a:off x="5314680" y="3028680"/>
            <a:ext cx="724320" cy="838800"/>
          </a:xfrm>
          <a:prstGeom prst="curvedConnector2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116" name="AutoShape 12"/>
          <p:cNvCxnSpPr>
            <a:stCxn id="109" idx="4"/>
            <a:endCxn id="110" idx="3"/>
          </p:cNvCxnSpPr>
          <p:nvPr/>
        </p:nvCxnSpPr>
        <p:spPr>
          <a:xfrm flipH="1" flipV="1" rot="5400000">
            <a:off x="4077000" y="3410280"/>
            <a:ext cx="132480" cy="1581840"/>
          </a:xfrm>
          <a:prstGeom prst="curvedConnector5">
            <a:avLst>
              <a:gd name="adj1" fmla="val -173297"/>
              <a:gd name="adj2" fmla="val 49988"/>
              <a:gd name="adj3" fmla="val -17329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17" name="AutoShape 13"/>
          <p:cNvCxnSpPr>
            <a:stCxn id="111" idx="2"/>
            <a:endCxn id="109" idx="3"/>
          </p:cNvCxnSpPr>
          <p:nvPr/>
        </p:nvCxnSpPr>
        <p:spPr>
          <a:xfrm rot="10800000">
            <a:off x="3028320" y="4210920"/>
            <a:ext cx="934200" cy="1465920"/>
          </a:xfrm>
          <a:prstGeom prst="curvedConnector2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118" name="AutoShape 14"/>
          <p:cNvCxnSpPr>
            <a:stCxn id="110" idx="4"/>
            <a:endCxn id="111" idx="6"/>
          </p:cNvCxnSpPr>
          <p:nvPr/>
        </p:nvCxnSpPr>
        <p:spPr>
          <a:xfrm rot="5400000">
            <a:off x="4323960" y="4743360"/>
            <a:ext cx="1486440" cy="381600"/>
          </a:xfrm>
          <a:prstGeom prst="curvedConnector2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119" name="Text Box 15"/>
          <p:cNvSpPr/>
          <p:nvPr/>
        </p:nvSpPr>
        <p:spPr>
          <a:xfrm>
            <a:off x="2729160" y="285588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101120" y="338940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057400" y="4572000"/>
            <a:ext cx="96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/O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l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3872160" y="4456080"/>
            <a:ext cx="83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5320800" y="468468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/O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t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0"/>
          <p:cNvSpPr/>
          <p:nvPr/>
        </p:nvSpPr>
        <p:spPr>
          <a:xfrm>
            <a:off x="5396760" y="300816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1"/>
          <p:cNvSpPr/>
          <p:nvPr/>
        </p:nvSpPr>
        <p:spPr>
          <a:xfrm>
            <a:off x="3126600" y="39625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2"/>
          <p:cNvSpPr/>
          <p:nvPr/>
        </p:nvSpPr>
        <p:spPr>
          <a:xfrm>
            <a:off x="4952160" y="388620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3"/>
          <p:cNvSpPr/>
          <p:nvPr/>
        </p:nvSpPr>
        <p:spPr>
          <a:xfrm>
            <a:off x="6098040" y="29718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er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 flipH="1">
            <a:off x="4038480" y="5562720"/>
            <a:ext cx="73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spatch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patcher module gives control of the CPU to the process selected by the short-term scheduler.  This involv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ing con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ing to user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mping to the proper location in the user program to restart tha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patch Latency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ime it takes for the dispatcher to stop one process and start another running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Dispatcher must be fast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duling Crit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PU Utilization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Keep the CPU and other resources as busy as possibl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oughput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# of processes that complete their execution per time unit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urnaround ti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mount of time to execute a particular process from its entry tim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duling Criteria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iting time 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mount of time a process has been waiting in the ready queu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ponse Time (in a time-sharing environment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mount of time it takes from when a request was submitted until the first response is produced, NOT output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timization Crit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x CPU Utiliz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x Throughpu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 Turnaround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 Waiting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in response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rst Come First Serve (FCFS)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olicy: Process that requests the CPU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FIRST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is allocated the CPU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FIRST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CFS is a non-preemptive algorithm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mplementation - using FIFO queu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ming process is added to the tail of the que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selected for execution is taken from head of que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erformance metric - Average waiting time in queu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antt Charts are used to visualize schedule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rst-Come, First-Served(FCFS)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1066680" y="2438280"/>
          <a:ext cx="1914480" cy="102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438280"/>
                    <a:ext cx="1914480" cy="10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ose the arrival order for the processes i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1, P2, P3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aiting tim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1 = 0;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2 = 24;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3 = 27;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verage waiting tim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(0+24+27)/3 = 17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990720" y="4343400"/>
            <a:ext cx="3200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9907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33526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9"/>
          <p:cNvSpPr/>
          <p:nvPr/>
        </p:nvSpPr>
        <p:spPr>
          <a:xfrm>
            <a:off x="37339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914400" y="48769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320040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3581280" y="495288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396252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4"/>
          <p:cNvSpPr/>
          <p:nvPr/>
        </p:nvSpPr>
        <p:spPr>
          <a:xfrm>
            <a:off x="4191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190620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3352680" y="441972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373500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987840" y="3962520"/>
            <a:ext cx="21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ntt Chart for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CFS Scheduling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ampl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525680" y="2536920"/>
          <a:ext cx="1912680" cy="100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536920"/>
                    <a:ext cx="19126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Suppose the arrival order for the processes is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2, P3, P1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Waiting time 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1 = 6; P2 = 0; P3 = 3;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Average waiting tim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(6+0+3)/3 = 3 , better.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99"/>
                </a:solidFill>
                <a:latin typeface="Arial"/>
              </a:rPr>
              <a:t>Convoy Effect</a:t>
            </a: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ort process behind long process, e.g. 1 CPU bound process, many I/O bou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990720" y="4343400"/>
            <a:ext cx="3200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9907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14479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18288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914400" y="48769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295280" y="48769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7652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396252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4191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2743200" y="4419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990720" y="4419720"/>
            <a:ext cx="3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44900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987840" y="3962520"/>
            <a:ext cx="21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ntt Chart for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hortest-Job-First(SJF)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Associate with each process the length of its next CPU burst. Use these lengths to schedule the process with the shortest time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Two Schemes: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cheme 1: Non-preemptiv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CPU is given to the process it cannot be preempted until it completes its CPU bur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cheme 2: Preemptiv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new CPU process arrives with CPU burst length less than remaining time of current executing process, preempt. Also called Shortest-Remaining-Time-First (SRT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JF is optimal - gives minimum average waiting time for a given set of process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heduling Objectiv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evels of Schedu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heduling Criteri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heduling Algorith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FCFS, Shortest Job First, Priority, Round Robin, Multilevel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ple Processor Schedu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l-time Schedu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gorithm Evalu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on-Preemptive SJF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amp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2286000" y="2286000"/>
          <a:ext cx="3124080" cy="152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3124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Rectangle 5"/>
          <p:cNvSpPr/>
          <p:nvPr/>
        </p:nvSpPr>
        <p:spPr>
          <a:xfrm>
            <a:off x="990720" y="4343400"/>
            <a:ext cx="3200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9907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22860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5909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914400" y="48769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51460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396252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4191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1447920" y="4419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2895480" y="441972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5"/>
          <p:cNvSpPr/>
          <p:nvPr/>
        </p:nvSpPr>
        <p:spPr>
          <a:xfrm>
            <a:off x="228708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987840" y="3962520"/>
            <a:ext cx="21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ntt Chart for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3581280" y="441972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8"/>
          <p:cNvSpPr/>
          <p:nvPr/>
        </p:nvSpPr>
        <p:spPr>
          <a:xfrm>
            <a:off x="34290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327672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213372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1"/>
          <p:cNvSpPr/>
          <p:nvPr/>
        </p:nvSpPr>
        <p:spPr>
          <a:xfrm>
            <a:off x="1353240" y="5268960"/>
            <a:ext cx="195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verage waiting time 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0+6+3+7)/4 =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eemptive SJF Scheduling(SRTF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amp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2286000" y="2286000"/>
          <a:ext cx="3124080" cy="152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31240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Rectangle 5"/>
          <p:cNvSpPr/>
          <p:nvPr/>
        </p:nvSpPr>
        <p:spPr>
          <a:xfrm>
            <a:off x="990720" y="4343400"/>
            <a:ext cx="32004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6"/>
          <p:cNvSpPr/>
          <p:nvPr/>
        </p:nvSpPr>
        <p:spPr>
          <a:xfrm>
            <a:off x="9907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7"/>
          <p:cNvSpPr/>
          <p:nvPr/>
        </p:nvSpPr>
        <p:spPr>
          <a:xfrm>
            <a:off x="22860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>
            <a:off x="27432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914400" y="48769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"/>
          <p:cNvSpPr/>
          <p:nvPr/>
        </p:nvSpPr>
        <p:spPr>
          <a:xfrm>
            <a:off x="259092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"/>
          <p:cNvSpPr/>
          <p:nvPr/>
        </p:nvSpPr>
        <p:spPr>
          <a:xfrm>
            <a:off x="3962520" y="495288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4191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066680" y="44197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2286000" y="4419720"/>
            <a:ext cx="3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198216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987840" y="3962520"/>
            <a:ext cx="21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ntt Chart for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2895480" y="441972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8"/>
          <p:cNvSpPr/>
          <p:nvPr/>
        </p:nvSpPr>
        <p:spPr>
          <a:xfrm>
            <a:off x="33526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320040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0"/>
          <p:cNvSpPr/>
          <p:nvPr/>
        </p:nvSpPr>
        <p:spPr>
          <a:xfrm>
            <a:off x="213372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1360440" y="5243400"/>
            <a:ext cx="21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verage waiting time 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9+1+0+2)/4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2"/>
          <p:cNvSpPr/>
          <p:nvPr/>
        </p:nvSpPr>
        <p:spPr>
          <a:xfrm>
            <a:off x="15238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1600200" y="4419720"/>
            <a:ext cx="3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4"/>
          <p:cNvSpPr/>
          <p:nvPr/>
        </p:nvSpPr>
        <p:spPr>
          <a:xfrm>
            <a:off x="19810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3657600" y="44197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1371600" y="48769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1828800" y="48769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termining Length of Next CPU Bur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e can only estimate the length of burst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 the length of previous CPU bursts and perform exponential averaging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= actual length of nth burst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+1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 =predicted value for the next CPU burst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= 0,  0 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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1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Defin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10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(1-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ponential Averaging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= 0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+1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= </a:t>
            </a:r>
            <a:r>
              <a:rPr b="0" lang="en-US" sz="31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;   Recent history does not count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Symbol"/>
                <a:ea typeface="Symbol"/>
              </a:rPr>
              <a:t>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= 1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lnSpc>
                <a:spcPct val="10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+1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= t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; Only the actual last CPU burst count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ilarly, expanding the formula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11960" indent="-347400">
              <a:lnSpc>
                <a:spcPct val="10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+1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= 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+ (1-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) 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-1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+ …+                                          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(1-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)^j 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-</a:t>
            </a:r>
            <a:r>
              <a:rPr b="0" i="1" lang="en-US" sz="1500" spc="-1" strike="noStrike">
                <a:solidFill>
                  <a:srgbClr val="006633"/>
                </a:solidFill>
                <a:latin typeface="Arial"/>
              </a:rPr>
              <a:t>j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+ …                                                          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(1-</a:t>
            </a:r>
            <a:r>
              <a:rPr b="0" lang="en-US" sz="2200" spc="-1" strike="noStrike">
                <a:solidFill>
                  <a:srgbClr val="006633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)^(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+1) </a:t>
            </a:r>
            <a:r>
              <a:rPr b="0" lang="en-US" sz="3100" spc="-1" strike="noStrike">
                <a:solidFill>
                  <a:srgbClr val="006633"/>
                </a:solidFill>
                <a:latin typeface="Symbol"/>
                <a:ea typeface="Symbol"/>
              </a:rPr>
              <a:t>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6633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uccessive term has less weight than its predecess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5792400" y="44197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iority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riority value (integer) is associated with each process. Can be based 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to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ce to u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CPU time used in last X hou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PU is allocated to process with the highest priority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reemptiv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Nonpreemptive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iority Scheduling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JN is a priority scheme where the priority is the predicted next CPU burst tim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blem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tarvation!! - Low priority processes may never execut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lu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ging - as time progresses increase the priority of the proces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ound Robin (RR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process gets a small unit of CPU time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quantum usually 10-100 millisecon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this time has elapsed, the process is preempted and added to the end of the ready que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 processes, time quantum = </a:t>
            </a: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q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rocess gets 1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PU time in chunks of at mo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 units at a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rocess waits more than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sli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large - FIFO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sli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oo small - Overhead of context switch is too expen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uristic - 70-80% of jobs block within times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ound Robin  Examp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ime Quantum = 20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238" name="Object 4"/>
          <p:cNvGraphicFramePr/>
          <p:nvPr/>
        </p:nvGraphicFramePr>
        <p:xfrm>
          <a:off x="2666880" y="2362320"/>
          <a:ext cx="2027520" cy="141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362320"/>
                    <a:ext cx="2027520" cy="14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Rectangle 5"/>
          <p:cNvSpPr/>
          <p:nvPr/>
        </p:nvSpPr>
        <p:spPr>
          <a:xfrm>
            <a:off x="990720" y="4343400"/>
            <a:ext cx="419076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9907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22860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27432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838080" y="48769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066680" y="4419720"/>
            <a:ext cx="38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2362320" y="4419720"/>
            <a:ext cx="3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190620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987840" y="3962520"/>
            <a:ext cx="212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Gantt Chart for Schedu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2743200" y="4419720"/>
            <a:ext cx="3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5"/>
          <p:cNvSpPr/>
          <p:nvPr/>
        </p:nvSpPr>
        <p:spPr>
          <a:xfrm>
            <a:off x="32004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14479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7"/>
          <p:cNvSpPr/>
          <p:nvPr/>
        </p:nvSpPr>
        <p:spPr>
          <a:xfrm>
            <a:off x="1447920" y="4419720"/>
            <a:ext cx="3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18288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121932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"/>
          <p:cNvSpPr/>
          <p:nvPr/>
        </p:nvSpPr>
        <p:spPr>
          <a:xfrm>
            <a:off x="396252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1"/>
          <p:cNvSpPr/>
          <p:nvPr/>
        </p:nvSpPr>
        <p:spPr>
          <a:xfrm>
            <a:off x="434340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2"/>
          <p:cNvSpPr/>
          <p:nvPr/>
        </p:nvSpPr>
        <p:spPr>
          <a:xfrm>
            <a:off x="47242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3"/>
          <p:cNvSpPr/>
          <p:nvPr/>
        </p:nvSpPr>
        <p:spPr>
          <a:xfrm>
            <a:off x="51814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4"/>
          <p:cNvSpPr/>
          <p:nvPr/>
        </p:nvSpPr>
        <p:spPr>
          <a:xfrm>
            <a:off x="35812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5"/>
          <p:cNvSpPr/>
          <p:nvPr/>
        </p:nvSpPr>
        <p:spPr>
          <a:xfrm>
            <a:off x="320148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6"/>
          <p:cNvSpPr/>
          <p:nvPr/>
        </p:nvSpPr>
        <p:spPr>
          <a:xfrm>
            <a:off x="434448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4725360" y="44197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8"/>
          <p:cNvSpPr/>
          <p:nvPr/>
        </p:nvSpPr>
        <p:spPr>
          <a:xfrm>
            <a:off x="3581280" y="4419720"/>
            <a:ext cx="3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9"/>
          <p:cNvSpPr/>
          <p:nvPr/>
        </p:nvSpPr>
        <p:spPr>
          <a:xfrm>
            <a:off x="3962520" y="4419720"/>
            <a:ext cx="3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0"/>
          <p:cNvSpPr/>
          <p:nvPr/>
        </p:nvSpPr>
        <p:spPr>
          <a:xfrm>
            <a:off x="160020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1"/>
          <p:cNvSpPr/>
          <p:nvPr/>
        </p:nvSpPr>
        <p:spPr>
          <a:xfrm>
            <a:off x="205740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2"/>
          <p:cNvSpPr/>
          <p:nvPr/>
        </p:nvSpPr>
        <p:spPr>
          <a:xfrm>
            <a:off x="259092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3"/>
          <p:cNvSpPr/>
          <p:nvPr/>
        </p:nvSpPr>
        <p:spPr>
          <a:xfrm>
            <a:off x="3048120" y="487692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3352680" y="4876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35"/>
          <p:cNvSpPr/>
          <p:nvPr/>
        </p:nvSpPr>
        <p:spPr>
          <a:xfrm>
            <a:off x="3733920" y="4876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6"/>
          <p:cNvSpPr/>
          <p:nvPr/>
        </p:nvSpPr>
        <p:spPr>
          <a:xfrm>
            <a:off x="4114800" y="4876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7"/>
          <p:cNvSpPr/>
          <p:nvPr/>
        </p:nvSpPr>
        <p:spPr>
          <a:xfrm>
            <a:off x="4572000" y="4876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8"/>
          <p:cNvSpPr/>
          <p:nvPr/>
        </p:nvSpPr>
        <p:spPr>
          <a:xfrm>
            <a:off x="4952880" y="487692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9"/>
          <p:cNvSpPr/>
          <p:nvPr/>
        </p:nvSpPr>
        <p:spPr>
          <a:xfrm>
            <a:off x="1115280" y="5497560"/>
            <a:ext cx="588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ypically, higher average turnaround time than SRTF, but better respo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level Queu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y Queue partitioned into separate que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system processes, foreground (interactive), background (batch), student processes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queue has its own scheduling algorith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foreground (RR), background(FC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cesses assigned to one queue permanentl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cheduling must be done between the queu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priority - serve all from foreground, then from background. Possibility of star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lice - Each queue gets some CPU time that it schedules - e.g. 80% foreground(RR), 20% background (FCF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level Que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-36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39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79" name="Picture 4" descr="img36"/>
          <p:cNvPicPr/>
          <p:nvPr/>
        </p:nvPicPr>
        <p:blipFill>
          <a:blip r:embed="rId1"/>
          <a:stretch/>
        </p:blipFill>
        <p:spPr>
          <a:xfrm>
            <a:off x="1676520" y="1447920"/>
            <a:ext cx="518148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duling Objectiv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forcement of fairnes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allocating resources to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nforcement of prior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ke best use of available system resourc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ive preference to processes holding key resource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ive preference to processes exhibiting good behavior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egrade gracefully under heavy load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level Feedback Queu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ultilevel Queue with prior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rocess can </a:t>
            </a:r>
            <a:r>
              <a:rPr b="0" i="1" lang="en-US" sz="3000" spc="-1" strike="noStrike">
                <a:solidFill>
                  <a:srgbClr val="cc9900"/>
                </a:solidFill>
                <a:latin typeface="Arial"/>
              </a:rPr>
              <a:t>move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between the queue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ing can be implemented this 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ameters for a multilevel feedback queue scheduler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que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ing algorithm for each que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used to determine when to upgrade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used to determine when to demote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used to determine which queue a process will enter when that process needs servi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level Feedback Que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ample: Three Queues -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0  - time quantum 8 milliseconds (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1  - time quantum 16 milliseconds (R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2  - FC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hedu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job enters Q0 - When it gains CPU, it receives 8 milliseconds. If job does not finish, move it to Q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Q1, when job gains CPU, it receives 16 more milliseconds.  If job does not complete, it is preempted and moved to queue Q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level Feedback Que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85" name="Picture 3" descr="img37"/>
          <p:cNvPicPr/>
          <p:nvPr/>
        </p:nvPicPr>
        <p:blipFill>
          <a:blip r:embed="rId1"/>
          <a:stretch/>
        </p:blipFill>
        <p:spPr>
          <a:xfrm>
            <a:off x="2209680" y="1371600"/>
            <a:ext cx="522000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ple-Processor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PU scheduling becomes more complex when multiple CPUs are availabl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Have one ready queue accessed by each CPU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 scheduled - each CPU dispatches a job from ready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ter-Slave - one CPU schedules the other C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omogeneous processors within multiprocessor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s Load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symmetric multiprocess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1 CPU runs kernel, others run us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eviates need for data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al-Time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d Real-time Computing -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to complete a critical task within a guaranteed amount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ft Real-time Computing -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that critical processes receive priority over less fortunate 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ypes of real-time Schedul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iodic Schedulers - Fixed Arrival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-Driven Schedulers - Variable Arrival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dline Schedulers - Priority determined by d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ssues in Real-time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Dispatch Latenc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- Need to keep dispatch latency small, OS may enforce process to wait for system call or I/O  to comple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 - Make system calls preemptible, determine safe criteria such that kernel can be interrup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iority Inversion and Inheritan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Priorit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riority Process needs kernel resource currently being used by another lower priority process..higher priority process must wait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Priority Inher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riority process now inherits high priority until it has completed use of the resource in ques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al-time Scheduling - Dispatch Laten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93" name="Picture 3" descr="img42"/>
          <p:cNvPicPr/>
          <p:nvPr/>
        </p:nvPicPr>
        <p:blipFill>
          <a:blip r:embed="rId1"/>
          <a:stretch/>
        </p:blipFill>
        <p:spPr>
          <a:xfrm>
            <a:off x="2514600" y="1600200"/>
            <a:ext cx="3848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lgorithm Evalu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terministic Model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es a particular predetermined workload and defines the performance of each algorithm for that workload.  Too specific, requires exact knowledge to be use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euing Models and Queuing Theory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istributions of CPU and I/O bursts.  Knowing arrival and service rates - can compute utilization, average queue length, average wait time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’s formula  - n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 where n is the average queue length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avg. arrival rate and W is the avg. waiting time in que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ther techniques: Simulations, Imple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gram Behavior Iss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/O boundedn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hort burst of CPU before blocking for I/O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PU boundedn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extensive use of CPU before blocking for I/O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rgency and Prioriti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requency of preemp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 execution tim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ime sharing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mount of execution time process has already received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asic Concep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ximum CPU utilization obtained with multiprogramming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PU-I/O Burst Cycl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rocess execution consists of a cycle of CPU execution and I/O wait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PU Burst Distrib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Picture 3" descr="img1"/>
          <p:cNvPicPr/>
          <p:nvPr/>
        </p:nvPicPr>
        <p:blipFill>
          <a:blip r:embed="rId1"/>
          <a:stretch/>
        </p:blipFill>
        <p:spPr>
          <a:xfrm>
            <a:off x="2590920" y="1600200"/>
            <a:ext cx="391140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vels of Schedu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igh Level Scheduling or Job Schedu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elects jobs allowed to compete for CPU and other system resourc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mediate Level Scheduling or Medium Term Schedu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elects which jobs to temporarily suspend/resume to smooth fluctuations in system load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w Level (CPU) Scheduling or Dispatch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Selects the ready process that will be assigned the CPU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Ready Queue contains PCBs of process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evels of Scheduling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3" descr="img2"/>
          <p:cNvPicPr/>
          <p:nvPr/>
        </p:nvPicPr>
        <p:blipFill>
          <a:blip r:embed="rId1"/>
          <a:stretch/>
        </p:blipFill>
        <p:spPr>
          <a:xfrm>
            <a:off x="2057400" y="1219320"/>
            <a:ext cx="4486320" cy="47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PU Schedul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lects from among the processes in memory that are ready to execute, and allocates the CPU to one of them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Non-preemptive Scheduling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Once CPU has been allocated to a process, the process keeps the CPU until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exits 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switches to waiting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Preemptive Scheduling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rocess can be interrupted and must release the CPU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coordinate access to shar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7:32:31Z</dcterms:created>
  <dc:creator/>
  <dc:description/>
  <dc:language>en-US</dc:language>
  <cp:lastModifiedBy>LOVE GOEL</cp:lastModifiedBy>
  <dcterms:modified xsi:type="dcterms:W3CDTF">2008-08-09T10:01:57Z</dcterms:modified>
  <cp:revision>0</cp:revision>
  <dc:subject/>
  <dc:title/>
</cp:coreProperties>
</file>