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67C4-3E04-4AFA-8891-36BF3AA1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A98F-ACA5-4881-B56B-2DF08331E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112B-0F3F-4938-A2F8-6DFCFC091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85F-E4D4-4927-9789-C41F6883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A19E-45AE-4F4C-B7EC-B076B5B63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0A80-65F6-4C02-93B5-4C65F6792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52EB-FB09-45F2-A02F-242449644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3CFD-3FF3-4E3E-8AD4-30F6B97A9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7ED-BE3A-49FE-8E34-AA88FD7F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F465-1ACA-4BC4-A2D0-7D23F6E0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2BE2-DF6E-4BC5-9C89-15B920AB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E919-5A2D-4A94-A538-397D9D2B0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5099-F473-4A92-8C4D-AC0D659B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D7C2-E445-4617-A18B-F5EA660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11EA-B4DC-40FA-899B-5B6174332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9FF6A-D41D-4CBC-BE55-D3667D4D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1E98-706B-4FBD-A76D-B3BB4C73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FD80-CDB4-450C-88D2-DDE80B79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958A-8DF8-4C63-B628-80C3A5AD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517-43C6-4AF2-9D2C-04657A57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E9C-401E-4FC7-9999-D4484BBF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B09-0B55-4D52-81B7-63FDFA1A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411D-77A8-40B4-9E2C-7D7B73F8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83EC-AD82-4F82-AAE6-D785CA26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1219-81EE-44D3-BBAC-34EF4BF536DD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7D5E-33E2-4060-AFEF-57CBBF088903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 Allocation Grap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type with 4 instan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i requests instance of Rj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i is holding an instance of Rj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Oval 4"/>
          <p:cNvSpPr/>
          <p:nvPr/>
        </p:nvSpPr>
        <p:spPr>
          <a:xfrm>
            <a:off x="2514600" y="23623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2819520" y="335268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28954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7"/>
          <p:cNvSpPr/>
          <p:nvPr/>
        </p:nvSpPr>
        <p:spPr>
          <a:xfrm>
            <a:off x="3276720" y="3429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8"/>
          <p:cNvSpPr/>
          <p:nvPr/>
        </p:nvSpPr>
        <p:spPr>
          <a:xfrm>
            <a:off x="28954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9"/>
          <p:cNvSpPr/>
          <p:nvPr/>
        </p:nvSpPr>
        <p:spPr>
          <a:xfrm>
            <a:off x="3276720" y="3657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"/>
          <p:cNvSpPr/>
          <p:nvPr/>
        </p:nvSpPr>
        <p:spPr>
          <a:xfrm>
            <a:off x="2590920" y="56386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1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2"/>
          <p:cNvSpPr/>
          <p:nvPr/>
        </p:nvSpPr>
        <p:spPr>
          <a:xfrm>
            <a:off x="4114800" y="55627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3"/>
          <p:cNvSpPr/>
          <p:nvPr/>
        </p:nvSpPr>
        <p:spPr>
          <a:xfrm>
            <a:off x="419112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4"/>
          <p:cNvSpPr/>
          <p:nvPr/>
        </p:nvSpPr>
        <p:spPr>
          <a:xfrm>
            <a:off x="45720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5"/>
          <p:cNvSpPr/>
          <p:nvPr/>
        </p:nvSpPr>
        <p:spPr>
          <a:xfrm>
            <a:off x="419112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6"/>
          <p:cNvSpPr/>
          <p:nvPr/>
        </p:nvSpPr>
        <p:spPr>
          <a:xfrm>
            <a:off x="4572000" y="5867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7"/>
          <p:cNvSpPr/>
          <p:nvPr/>
        </p:nvSpPr>
        <p:spPr>
          <a:xfrm>
            <a:off x="3429000" y="43434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8"/>
          <p:cNvSpPr/>
          <p:nvPr/>
        </p:nvSpPr>
        <p:spPr>
          <a:xfrm>
            <a:off x="350532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9"/>
          <p:cNvSpPr/>
          <p:nvPr/>
        </p:nvSpPr>
        <p:spPr>
          <a:xfrm>
            <a:off x="3886200" y="4419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350532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1"/>
          <p:cNvSpPr/>
          <p:nvPr/>
        </p:nvSpPr>
        <p:spPr>
          <a:xfrm>
            <a:off x="3886200" y="46483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743200" y="4572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3"/>
          <p:cNvSpPr/>
          <p:nvPr/>
        </p:nvSpPr>
        <p:spPr>
          <a:xfrm flipH="1">
            <a:off x="2895120" y="5638680"/>
            <a:ext cx="12956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 with no cyc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28600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26708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1981080" y="3581280"/>
            <a:ext cx="38124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8"/>
          <p:cNvSpPr/>
          <p:nvPr/>
        </p:nvSpPr>
        <p:spPr>
          <a:xfrm>
            <a:off x="3429000" y="3581280"/>
            <a:ext cx="38088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9"/>
          <p:cNvSpPr/>
          <p:nvPr/>
        </p:nvSpPr>
        <p:spPr>
          <a:xfrm>
            <a:off x="5105520" y="3505320"/>
            <a:ext cx="3808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438280" y="449568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4191120" y="464832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3"/>
          <p:cNvSpPr/>
          <p:nvPr/>
        </p:nvSpPr>
        <p:spPr>
          <a:xfrm>
            <a:off x="4419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4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5"/>
          <p:cNvSpPr/>
          <p:nvPr/>
        </p:nvSpPr>
        <p:spPr>
          <a:xfrm>
            <a:off x="44197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16"/>
          <p:cNvSpPr/>
          <p:nvPr/>
        </p:nvSpPr>
        <p:spPr>
          <a:xfrm>
            <a:off x="26668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7"/>
          <p:cNvSpPr/>
          <p:nvPr/>
        </p:nvSpPr>
        <p:spPr>
          <a:xfrm flipV="1">
            <a:off x="2133720" y="2819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2666880" y="259092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3733920" y="2819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"/>
          <p:cNvSpPr/>
          <p:nvPr/>
        </p:nvSpPr>
        <p:spPr>
          <a:xfrm>
            <a:off x="4572000" y="26668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1"/>
          <p:cNvSpPr/>
          <p:nvPr/>
        </p:nvSpPr>
        <p:spPr>
          <a:xfrm flipH="1" flipV="1">
            <a:off x="2133360" y="3962520"/>
            <a:ext cx="533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2"/>
          <p:cNvSpPr/>
          <p:nvPr/>
        </p:nvSpPr>
        <p:spPr>
          <a:xfrm flipV="1">
            <a:off x="2743200" y="3962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4267080" y="56386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34340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236232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6"/>
          <p:cNvSpPr/>
          <p:nvPr/>
        </p:nvSpPr>
        <p:spPr>
          <a:xfrm>
            <a:off x="2514600" y="5562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144792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8"/>
          <p:cNvSpPr/>
          <p:nvPr/>
        </p:nvSpPr>
        <p:spPr>
          <a:xfrm>
            <a:off x="289548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9"/>
          <p:cNvSpPr/>
          <p:nvPr/>
        </p:nvSpPr>
        <p:spPr>
          <a:xfrm>
            <a:off x="4495680" y="3581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 with cyc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429000" y="396252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"/>
          <p:cNvSpPr/>
          <p:nvPr/>
        </p:nvSpPr>
        <p:spPr>
          <a:xfrm>
            <a:off x="36576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5"/>
          <p:cNvSpPr/>
          <p:nvPr/>
        </p:nvSpPr>
        <p:spPr>
          <a:xfrm>
            <a:off x="365760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3429000" y="198108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657600" y="25909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8"/>
          <p:cNvSpPr/>
          <p:nvPr/>
        </p:nvSpPr>
        <p:spPr>
          <a:xfrm>
            <a:off x="3657600" y="2209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"/>
          <p:cNvSpPr/>
          <p:nvPr/>
        </p:nvSpPr>
        <p:spPr>
          <a:xfrm>
            <a:off x="5410080" y="4267080"/>
            <a:ext cx="38124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0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1"/>
          <p:cNvSpPr/>
          <p:nvPr/>
        </p:nvSpPr>
        <p:spPr>
          <a:xfrm>
            <a:off x="5410080" y="2057400"/>
            <a:ext cx="38124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2"/>
          <p:cNvSpPr/>
          <p:nvPr/>
        </p:nvSpPr>
        <p:spPr>
          <a:xfrm>
            <a:off x="5486400" y="3200400"/>
            <a:ext cx="3808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2743200" y="19810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1371600" y="32004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2819520" y="42670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6095880" y="20574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6095880" y="32004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6095880" y="42670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9"/>
          <p:cNvSpPr/>
          <p:nvPr/>
        </p:nvSpPr>
        <p:spPr>
          <a:xfrm flipV="1">
            <a:off x="2286000" y="251424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 flipH="1" flipV="1">
            <a:off x="2362320" y="3505320"/>
            <a:ext cx="12952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1"/>
          <p:cNvSpPr/>
          <p:nvPr/>
        </p:nvSpPr>
        <p:spPr>
          <a:xfrm>
            <a:off x="380988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2"/>
          <p:cNvSpPr/>
          <p:nvPr/>
        </p:nvSpPr>
        <p:spPr>
          <a:xfrm>
            <a:off x="3809880" y="2666880"/>
            <a:ext cx="1676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"/>
          <p:cNvSpPr/>
          <p:nvPr/>
        </p:nvSpPr>
        <p:spPr>
          <a:xfrm flipV="1">
            <a:off x="3733920" y="4495680"/>
            <a:ext cx="16761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4"/>
          <p:cNvSpPr/>
          <p:nvPr/>
        </p:nvSpPr>
        <p:spPr>
          <a:xfrm flipH="1">
            <a:off x="4114800" y="34290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raph with cycles and deadloc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228600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4"/>
          <p:cNvSpPr/>
          <p:nvPr/>
        </p:nvSpPr>
        <p:spPr>
          <a:xfrm>
            <a:off x="2514600" y="2514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4267080" y="2362320"/>
            <a:ext cx="6858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6"/>
          <p:cNvSpPr/>
          <p:nvPr/>
        </p:nvSpPr>
        <p:spPr>
          <a:xfrm>
            <a:off x="4495680" y="2514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7"/>
          <p:cNvSpPr/>
          <p:nvPr/>
        </p:nvSpPr>
        <p:spPr>
          <a:xfrm>
            <a:off x="1981080" y="3581280"/>
            <a:ext cx="38124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8"/>
          <p:cNvSpPr/>
          <p:nvPr/>
        </p:nvSpPr>
        <p:spPr>
          <a:xfrm>
            <a:off x="3429000" y="3581280"/>
            <a:ext cx="38088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105520" y="3505320"/>
            <a:ext cx="380880" cy="3808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2438280" y="449568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2666880" y="51055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4191120" y="4648320"/>
            <a:ext cx="6858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4419720" y="5334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4"/>
          <p:cNvSpPr/>
          <p:nvPr/>
        </p:nvSpPr>
        <p:spPr>
          <a:xfrm>
            <a:off x="4419720" y="50292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5"/>
          <p:cNvSpPr/>
          <p:nvPr/>
        </p:nvSpPr>
        <p:spPr>
          <a:xfrm>
            <a:off x="441972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6"/>
          <p:cNvSpPr/>
          <p:nvPr/>
        </p:nvSpPr>
        <p:spPr>
          <a:xfrm>
            <a:off x="2666880" y="47242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 flipV="1">
            <a:off x="2133720" y="2819520"/>
            <a:ext cx="3045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66880" y="2590920"/>
            <a:ext cx="8384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V="1">
            <a:off x="3733920" y="2819520"/>
            <a:ext cx="6858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4572000" y="26668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2133360" y="3962520"/>
            <a:ext cx="5331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 flipV="1">
            <a:off x="2743200" y="3962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3"/>
          <p:cNvSpPr/>
          <p:nvPr/>
        </p:nvSpPr>
        <p:spPr>
          <a:xfrm>
            <a:off x="4267080" y="56386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34340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2362320" y="19051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6"/>
          <p:cNvSpPr/>
          <p:nvPr/>
        </p:nvSpPr>
        <p:spPr>
          <a:xfrm>
            <a:off x="2514600" y="556272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7"/>
          <p:cNvSpPr/>
          <p:nvPr/>
        </p:nvSpPr>
        <p:spPr>
          <a:xfrm>
            <a:off x="144792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8"/>
          <p:cNvSpPr/>
          <p:nvPr/>
        </p:nvSpPr>
        <p:spPr>
          <a:xfrm>
            <a:off x="2895480" y="365760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9"/>
          <p:cNvSpPr/>
          <p:nvPr/>
        </p:nvSpPr>
        <p:spPr>
          <a:xfrm>
            <a:off x="4495680" y="358128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30"/>
          <p:cNvSpPr/>
          <p:nvPr/>
        </p:nvSpPr>
        <p:spPr>
          <a:xfrm flipH="1">
            <a:off x="3124080" y="3809880"/>
            <a:ext cx="198144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F:\extralink\classes\cs323uiuc\Lectures\7\talk\deadlock.gif"/>
          <p:cNvPicPr/>
          <p:nvPr/>
        </p:nvPicPr>
        <p:blipFill>
          <a:blip r:embed="rId1"/>
          <a:stretch/>
        </p:blipFill>
        <p:spPr>
          <a:xfrm>
            <a:off x="1981080" y="152280"/>
            <a:ext cx="590580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sic 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raph contains no cyc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 DEADLOCK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graph contains a cy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only one instance per resource type, then deadlock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several instances per resource type, possibility of deadlock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thods for handling deadlock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sure that the system will never enter a deadlock stat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the system to potentially enter a deadlock state, detect it and then recov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gnore the problem and pretend that deadlocks never occur in the system;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Used by many operating systems, e.g. UN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even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the system in such a way that deadlocks can never occ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voidance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se less stringent conditions than for prevention, allowing the possibility of deadlock but sidestepping it as it occ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tec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possibility of deadlock, determine if deadlock has occurred and which processes and resources are inv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Recovery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detection, clear the problem, allow processes to complete and resources to be reused. May involve destroying and restarting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Preven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any one of the conditions for deadlock (with reusable resources) is denied, deadlock is impossibl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Restrain ways in which requests can be mad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utual Exclusion  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issue for sharable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deny this for non-sharable resources (import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Hold and Wait - guarantee that when a process requests a resource, it does not hold other resourc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ce each process to acquire all the required resources at once.  Process cannot proceed until all resources have been ac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esource utilization, starvation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Prevention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 Preemption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process that is holding some resources requests another resource that cannot be immediately allocated to it, the process releases the resources currently being h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empted resources are added to the list of resources for which the process is wai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will be restarted only when it can regain its old resources as well as the new ones that it is reque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ircular Wai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se a total ordering of all resource typ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 that processes request resources in increasing order of enumeration; if a resource of type N is held, process can only request resources of types &gt; 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ystem Mod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Characteriz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thods for handling dead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Preven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Avoid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adlock Det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very from Deadloc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ined Approach to Deadlock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Avoid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457200" y="1886040"/>
            <a:ext cx="817884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t of resources, set of customers, bank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ustomer tells banker maximum number of resources it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borrows resources from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returns resources to bank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eventually pays back lo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nker only lends resources if the system will be in a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safe stat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fter the loa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Avoid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quires that the system has some additional apriori information availabl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st and most useful model requires that each process declare the maximum number of resources of each type that it may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adlock-avoidance algorithm dynamically examines the resource-allocation state to ensure that there can never be a circular-wait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allocation state is defined by the number of available and allocated resources, and the maximum demands of the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fe sta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hen a process requests an available resource, system must decide if immediate allocation leaves the system in a safe stat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ystem is in safe state if there exists a safe sequence of all processes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equence &lt;P1, P2, …Pn&gt; is safe, if for each Pi, the resources that Pi can still request can be satisfied by currently available resources + resources held by Pj with j&lt;i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i resource needs are not available, Pi can wait until all Pj have finis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j is finished, Pi can obtain needed resources, execute, return allocated resources, and termin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i terminates, Pi+1 can obtain its needed resourc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sic Fac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a system is in a safe state 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no deadlocks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a system is in unsafe state 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ossibility of deadlock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voidance 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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ensure that a system will never reach an unsafe state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 Allocation Graph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d for deadlock avoidance when there is only one instance of each resource type.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 edge: 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j indicates that process Pi may request resource Rj; represented by a dashed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 edge converts to request edge when a process requests a re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resource is released by a process, assignment edge reconverts to claim ed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must be claimed a priori in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f request assignment does not result in the formation of a cycle in the resource allocation graph - safe state, else unsafe sta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im 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3"/>
          <p:cNvSpPr/>
          <p:nvPr/>
        </p:nvSpPr>
        <p:spPr>
          <a:xfrm>
            <a:off x="1981080" y="24382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7080" y="22860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5"/>
          <p:cNvSpPr/>
          <p:nvPr/>
        </p:nvSpPr>
        <p:spPr>
          <a:xfrm>
            <a:off x="4572000" y="2438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6"/>
          <p:cNvSpPr/>
          <p:nvPr/>
        </p:nvSpPr>
        <p:spPr>
          <a:xfrm>
            <a:off x="1981080" y="320040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7080" y="30481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8"/>
          <p:cNvSpPr/>
          <p:nvPr/>
        </p:nvSpPr>
        <p:spPr>
          <a:xfrm>
            <a:off x="4572000" y="3200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9"/>
          <p:cNvSpPr/>
          <p:nvPr/>
        </p:nvSpPr>
        <p:spPr>
          <a:xfrm>
            <a:off x="2286000" y="33526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0"/>
          <p:cNvSpPr/>
          <p:nvPr/>
        </p:nvSpPr>
        <p:spPr>
          <a:xfrm>
            <a:off x="1981080" y="40384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4267080" y="38862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2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2286000" y="419112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4"/>
          <p:cNvSpPr/>
          <p:nvPr/>
        </p:nvSpPr>
        <p:spPr>
          <a:xfrm>
            <a:off x="1981080" y="480060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4267080" y="46483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6"/>
          <p:cNvSpPr/>
          <p:nvPr/>
        </p:nvSpPr>
        <p:spPr>
          <a:xfrm>
            <a:off x="4572000" y="48006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7"/>
          <p:cNvSpPr/>
          <p:nvPr/>
        </p:nvSpPr>
        <p:spPr>
          <a:xfrm>
            <a:off x="2286000" y="49528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8"/>
          <p:cNvSpPr/>
          <p:nvPr/>
        </p:nvSpPr>
        <p:spPr>
          <a:xfrm>
            <a:off x="1981080" y="55627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267080" y="541008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0"/>
          <p:cNvSpPr/>
          <p:nvPr/>
        </p:nvSpPr>
        <p:spPr>
          <a:xfrm>
            <a:off x="4572000" y="55627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5247360" y="3110040"/>
            <a:ext cx="22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claims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5263560" y="3886200"/>
            <a:ext cx="239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requests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3"/>
          <p:cNvSpPr/>
          <p:nvPr/>
        </p:nvSpPr>
        <p:spPr>
          <a:xfrm>
            <a:off x="5263200" y="4724280"/>
            <a:ext cx="259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is assigned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5415840" y="5486400"/>
            <a:ext cx="23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ss releases re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im Graph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"/>
          <p:cNvSpPr/>
          <p:nvPr/>
        </p:nvSpPr>
        <p:spPr>
          <a:xfrm>
            <a:off x="4114800" y="24382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5105520" y="182880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5"/>
          <p:cNvSpPr/>
          <p:nvPr/>
        </p:nvSpPr>
        <p:spPr>
          <a:xfrm>
            <a:off x="5410080" y="1981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6477120" y="2362320"/>
            <a:ext cx="30456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105520" y="281952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5410080" y="2971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9"/>
          <p:cNvSpPr/>
          <p:nvPr/>
        </p:nvSpPr>
        <p:spPr>
          <a:xfrm flipV="1">
            <a:off x="4343400" y="20574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0"/>
          <p:cNvSpPr/>
          <p:nvPr/>
        </p:nvSpPr>
        <p:spPr>
          <a:xfrm>
            <a:off x="4343400" y="2743200"/>
            <a:ext cx="762120" cy="3049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1"/>
          <p:cNvSpPr/>
          <p:nvPr/>
        </p:nvSpPr>
        <p:spPr>
          <a:xfrm flipH="1" flipV="1">
            <a:off x="5866920" y="213336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2"/>
          <p:cNvSpPr/>
          <p:nvPr/>
        </p:nvSpPr>
        <p:spPr>
          <a:xfrm flipH="1">
            <a:off x="5866920" y="26668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3"/>
          <p:cNvSpPr/>
          <p:nvPr/>
        </p:nvSpPr>
        <p:spPr>
          <a:xfrm>
            <a:off x="6019920" y="40384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010280" y="34290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5"/>
          <p:cNvSpPr/>
          <p:nvPr/>
        </p:nvSpPr>
        <p:spPr>
          <a:xfrm>
            <a:off x="7315200" y="35812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6"/>
          <p:cNvSpPr/>
          <p:nvPr/>
        </p:nvSpPr>
        <p:spPr>
          <a:xfrm>
            <a:off x="8381880" y="39625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7"/>
          <p:cNvSpPr/>
          <p:nvPr/>
        </p:nvSpPr>
        <p:spPr>
          <a:xfrm>
            <a:off x="7010280" y="44197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8"/>
          <p:cNvSpPr/>
          <p:nvPr/>
        </p:nvSpPr>
        <p:spPr>
          <a:xfrm>
            <a:off x="7315200" y="4572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9"/>
          <p:cNvSpPr/>
          <p:nvPr/>
        </p:nvSpPr>
        <p:spPr>
          <a:xfrm flipV="1">
            <a:off x="6248520" y="365760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0"/>
          <p:cNvSpPr/>
          <p:nvPr/>
        </p:nvSpPr>
        <p:spPr>
          <a:xfrm>
            <a:off x="6248520" y="434340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1"/>
          <p:cNvSpPr/>
          <p:nvPr/>
        </p:nvSpPr>
        <p:spPr>
          <a:xfrm flipH="1" flipV="1">
            <a:off x="7772040" y="373356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2"/>
          <p:cNvSpPr/>
          <p:nvPr/>
        </p:nvSpPr>
        <p:spPr>
          <a:xfrm flipH="1">
            <a:off x="7772040" y="42670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3"/>
          <p:cNvSpPr/>
          <p:nvPr/>
        </p:nvSpPr>
        <p:spPr>
          <a:xfrm>
            <a:off x="3886200" y="525780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4876920" y="464832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5"/>
          <p:cNvSpPr/>
          <p:nvPr/>
        </p:nvSpPr>
        <p:spPr>
          <a:xfrm>
            <a:off x="5181480" y="4800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6"/>
          <p:cNvSpPr/>
          <p:nvPr/>
        </p:nvSpPr>
        <p:spPr>
          <a:xfrm>
            <a:off x="6248520" y="51814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7"/>
          <p:cNvSpPr/>
          <p:nvPr/>
        </p:nvSpPr>
        <p:spPr>
          <a:xfrm>
            <a:off x="4876920" y="5638680"/>
            <a:ext cx="76176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28"/>
          <p:cNvSpPr/>
          <p:nvPr/>
        </p:nvSpPr>
        <p:spPr>
          <a:xfrm>
            <a:off x="5181480" y="579132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9"/>
          <p:cNvSpPr/>
          <p:nvPr/>
        </p:nvSpPr>
        <p:spPr>
          <a:xfrm flipV="1">
            <a:off x="4114800" y="48769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30"/>
          <p:cNvSpPr/>
          <p:nvPr/>
        </p:nvSpPr>
        <p:spPr>
          <a:xfrm>
            <a:off x="4114800" y="5562720"/>
            <a:ext cx="7621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31"/>
          <p:cNvSpPr/>
          <p:nvPr/>
        </p:nvSpPr>
        <p:spPr>
          <a:xfrm flipH="1" flipV="1">
            <a:off x="5638320" y="49525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32"/>
          <p:cNvSpPr/>
          <p:nvPr/>
        </p:nvSpPr>
        <p:spPr>
          <a:xfrm flipH="1">
            <a:off x="5638320" y="548640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33"/>
          <p:cNvSpPr/>
          <p:nvPr/>
        </p:nvSpPr>
        <p:spPr>
          <a:xfrm>
            <a:off x="533520" y="472428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4"/>
          <p:cNvSpPr/>
          <p:nvPr/>
        </p:nvSpPr>
        <p:spPr>
          <a:xfrm>
            <a:off x="1523880" y="411480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35"/>
          <p:cNvSpPr/>
          <p:nvPr/>
        </p:nvSpPr>
        <p:spPr>
          <a:xfrm>
            <a:off x="1828800" y="4267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36"/>
          <p:cNvSpPr/>
          <p:nvPr/>
        </p:nvSpPr>
        <p:spPr>
          <a:xfrm>
            <a:off x="2895480" y="4648320"/>
            <a:ext cx="304920" cy="3045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7"/>
          <p:cNvSpPr/>
          <p:nvPr/>
        </p:nvSpPr>
        <p:spPr>
          <a:xfrm>
            <a:off x="1523880" y="51055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38"/>
          <p:cNvSpPr/>
          <p:nvPr/>
        </p:nvSpPr>
        <p:spPr>
          <a:xfrm>
            <a:off x="1828800" y="52578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39"/>
          <p:cNvSpPr/>
          <p:nvPr/>
        </p:nvSpPr>
        <p:spPr>
          <a:xfrm flipV="1">
            <a:off x="762120" y="434340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0"/>
          <p:cNvSpPr/>
          <p:nvPr/>
        </p:nvSpPr>
        <p:spPr>
          <a:xfrm>
            <a:off x="762120" y="5029200"/>
            <a:ext cx="7617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41"/>
          <p:cNvSpPr/>
          <p:nvPr/>
        </p:nvSpPr>
        <p:spPr>
          <a:xfrm flipH="1" flipV="1">
            <a:off x="2285640" y="441936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42"/>
          <p:cNvSpPr/>
          <p:nvPr/>
        </p:nvSpPr>
        <p:spPr>
          <a:xfrm flipH="1">
            <a:off x="2285640" y="4952880"/>
            <a:ext cx="685800" cy="381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43"/>
          <p:cNvSpPr/>
          <p:nvPr/>
        </p:nvSpPr>
        <p:spPr>
          <a:xfrm>
            <a:off x="762120" y="2514600"/>
            <a:ext cx="30456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4"/>
          <p:cNvSpPr/>
          <p:nvPr/>
        </p:nvSpPr>
        <p:spPr>
          <a:xfrm>
            <a:off x="1752480" y="190512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45"/>
          <p:cNvSpPr/>
          <p:nvPr/>
        </p:nvSpPr>
        <p:spPr>
          <a:xfrm>
            <a:off x="2057400" y="20574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46"/>
          <p:cNvSpPr/>
          <p:nvPr/>
        </p:nvSpPr>
        <p:spPr>
          <a:xfrm>
            <a:off x="3124080" y="2438280"/>
            <a:ext cx="304920" cy="3049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47"/>
          <p:cNvSpPr/>
          <p:nvPr/>
        </p:nvSpPr>
        <p:spPr>
          <a:xfrm>
            <a:off x="1752480" y="2895480"/>
            <a:ext cx="76212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48"/>
          <p:cNvSpPr/>
          <p:nvPr/>
        </p:nvSpPr>
        <p:spPr>
          <a:xfrm>
            <a:off x="2057400" y="3048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49"/>
          <p:cNvSpPr/>
          <p:nvPr/>
        </p:nvSpPr>
        <p:spPr>
          <a:xfrm flipV="1">
            <a:off x="990720" y="213372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50"/>
          <p:cNvSpPr/>
          <p:nvPr/>
        </p:nvSpPr>
        <p:spPr>
          <a:xfrm>
            <a:off x="990720" y="2819520"/>
            <a:ext cx="761760" cy="30456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1"/>
          <p:cNvSpPr/>
          <p:nvPr/>
        </p:nvSpPr>
        <p:spPr>
          <a:xfrm flipH="1" flipV="1">
            <a:off x="2514240" y="220932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2"/>
          <p:cNvSpPr/>
          <p:nvPr/>
        </p:nvSpPr>
        <p:spPr>
          <a:xfrm flipH="1">
            <a:off x="2514240" y="2743200"/>
            <a:ext cx="685800" cy="380880"/>
          </a:xfrm>
          <a:prstGeom prst="line">
            <a:avLst/>
          </a:prstGeom>
          <a:ln w="2844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3"/>
          <p:cNvSpPr/>
          <p:nvPr/>
        </p:nvSpPr>
        <p:spPr>
          <a:xfrm>
            <a:off x="1967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4"/>
          <p:cNvSpPr/>
          <p:nvPr/>
        </p:nvSpPr>
        <p:spPr>
          <a:xfrm>
            <a:off x="5396040" y="2327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5"/>
          <p:cNvSpPr/>
          <p:nvPr/>
        </p:nvSpPr>
        <p:spPr>
          <a:xfrm>
            <a:off x="7377120" y="392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6"/>
          <p:cNvSpPr/>
          <p:nvPr/>
        </p:nvSpPr>
        <p:spPr>
          <a:xfrm>
            <a:off x="5243760" y="507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7"/>
          <p:cNvSpPr/>
          <p:nvPr/>
        </p:nvSpPr>
        <p:spPr>
          <a:xfrm>
            <a:off x="1662120" y="4537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58"/>
          <p:cNvSpPr/>
          <p:nvPr/>
        </p:nvSpPr>
        <p:spPr>
          <a:xfrm>
            <a:off x="350532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59"/>
          <p:cNvSpPr/>
          <p:nvPr/>
        </p:nvSpPr>
        <p:spPr>
          <a:xfrm>
            <a:off x="6934320" y="27432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0"/>
          <p:cNvSpPr/>
          <p:nvPr/>
        </p:nvSpPr>
        <p:spPr>
          <a:xfrm flipH="1">
            <a:off x="6781680" y="50292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1"/>
          <p:cNvSpPr/>
          <p:nvPr/>
        </p:nvSpPr>
        <p:spPr>
          <a:xfrm flipH="1" flipV="1">
            <a:off x="3429000" y="4724280"/>
            <a:ext cx="9907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2"/>
          <p:cNvSpPr/>
          <p:nvPr/>
        </p:nvSpPr>
        <p:spPr>
          <a:xfrm>
            <a:off x="822240" y="5624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3"/>
          <p:cNvSpPr/>
          <p:nvPr/>
        </p:nvSpPr>
        <p:spPr>
          <a:xfrm>
            <a:off x="1279440" y="369900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ssible Deadlock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nker’s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d for multiple instances of each resource typ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process must a priori claim maximum use of each resource typ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a process requests a resource it may have to wai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hen a process gets all its resources it must return them in a finite amount of tim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ata Structures for the Banker’s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t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= number of processes and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= number of resource typ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ector of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request at 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urrently alloca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ne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mplete its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]  =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] -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llocation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afety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et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be vectors of length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respectively.  Initializ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2,…,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Find an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 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i.e. process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 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 such that both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u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go to step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: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Allocation_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rue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for all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then the system is in a safe sta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Deadlock 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et of blocked processes each holding a resource and waiting to acquire a resource held by another process in the se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ample 1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has 2 tape drives.  P1 and P2 each hold one tape drive and each needs the other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xample 2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phores A and B each initialized to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P0                            P1    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    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(A) 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11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   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B</a:t>
            </a:r>
            <a:r>
              <a:rPr b="0" lang="en-US" sz="1500" spc="-1" strike="noStrike">
                <a:solidFill>
                  <a:srgbClr val="cc3300"/>
                </a:solidFill>
                <a:latin typeface="Arial"/>
              </a:rPr>
              <a:t>)                      </a:t>
            </a:r>
            <a:r>
              <a:rPr b="0" i="1" lang="en-US" sz="1500" spc="-1" strike="noStrike">
                <a:solidFill>
                  <a:srgbClr val="cc3300"/>
                </a:solidFill>
                <a:latin typeface="Arial"/>
              </a:rPr>
              <a:t>wait(A)</a:t>
            </a:r>
            <a:endParaRPr b="0" lang="en-US" sz="15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-Request Algorithm for Process </a:t>
            </a:r>
            <a:r>
              <a:rPr b="0" i="1" lang="en-US" sz="4200" spc="-1" strike="noStrike">
                <a:solidFill>
                  <a:srgbClr val="006633"/>
                </a:solidFill>
                <a:latin typeface="Garamond"/>
              </a:rPr>
              <a:t>P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quest_i = request vector for process Pi.  If Request_i[j] = k, then process Pi wants k instances of resource type Rj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go to step 2. Otherwise, raise error condition, since process has exceeded its maximum clai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: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o to step 3. Otherwise, Pi must wait since resources are not avail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Pretend to allocate requested resources to Pi by modifying the state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vailabl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:= Alloc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+ 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= Ne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resources are allocate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unsaf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wait and the old resource-allocation state is resto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of Banker’s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5 processes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0 - P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3 resource types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(10 instances), B (5 instances), C (7 instanc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napshot at time T0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2664000" y="3987720"/>
          <a:ext cx="3422520" cy="165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3987720"/>
                    <a:ext cx="342252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content of the matrix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e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defined to b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Max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-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Allocatio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system is in a safe state since the sequence &lt;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1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3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4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2,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0&gt; satisfies safety criteria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43" name="Object 4"/>
          <p:cNvGraphicFramePr/>
          <p:nvPr/>
        </p:nvGraphicFramePr>
        <p:xfrm>
          <a:off x="2666880" y="3962520"/>
          <a:ext cx="1567080" cy="165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962520"/>
                    <a:ext cx="156708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: P1 requests (1,0,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heck to see that Request </a:t>
            </a: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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vailabl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(1,0,2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3,3,2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2590920" y="3048120"/>
          <a:ext cx="3870360" cy="235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3048120"/>
                    <a:ext cx="387036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ng the safety algorithm shows that sequence &lt;P1, P3, P4, P0, P2&gt; satisfies safety requiremen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est for (3,3,0) by P4 be granted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an request for (0,2,0) by P0 be granted?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De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 system to enter deadlock stat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tection Algorith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very Sche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gle Instance of each resource ty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intain wait-for graph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des are process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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j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is waiting for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j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iodically invoke an algorithm that searches for a cycle in the grap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algorithm to detect a cycle in a graph requires an order of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^2 operations, wher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the number of vertices in the graph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veral instances of a resource typ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ata Struc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ector of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urrently allocat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indicates the current request of each process.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proce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request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re instances of resource typ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j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Detection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1: Let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be vectors of length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  respectively.  Initializ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,2,…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therwi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2: Find an index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uch that both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 su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go to step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adlock Detection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3: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: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Work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Allocation(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ep 4: 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alse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for some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1 </a:t>
            </a:r>
            <a:r>
              <a:rPr b="1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then the system is in a deadlock state.  Moreover, if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alse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, then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is deadlock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lgorithm requires an order of m </a:t>
            </a:r>
            <a:r>
              <a:rPr b="1" lang="en-US" sz="2600" spc="-1" strike="noStrike">
                <a:solidFill>
                  <a:srgbClr val="cc3300"/>
                </a:solidFill>
                <a:latin typeface="Symbol"/>
                <a:ea typeface="Symbol"/>
              </a:rPr>
              <a:t></a:t>
            </a:r>
            <a:r>
              <a:rPr b="1" lang="en-US" sz="26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(n^2) operations to detect whether the system is in a deadlocked stat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fin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is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deadlocked</a:t>
            </a: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it is waiting for an event that will never occu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ypically, more than one process will be involved in a deadlock (the deadly embrace)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is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indefinitely postpone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f it is delayed repeatedly over a long period of time while the attention of the system is given to other processes,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.e. the process is ready to proceed but never gets the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of Detection Algorith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5 processes -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0 -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4;  3 resource types  -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7  instances),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2 instances),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6 instances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napshot at time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T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0: &lt;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0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2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3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1,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4&gt; will result in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Finish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[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] = true for all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4"/>
          <p:cNvGraphicFramePr/>
          <p:nvPr/>
        </p:nvGraphicFramePr>
        <p:xfrm>
          <a:off x="2819520" y="3505320"/>
          <a:ext cx="3870360" cy="235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3505320"/>
                    <a:ext cx="3870360" cy="23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2 requests an additional instance of type C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ate of system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reclaim resources held by process P0, but insufficient resources to fulfill other processes’ req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ock exists, consist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Object 4"/>
          <p:cNvGraphicFramePr/>
          <p:nvPr/>
        </p:nvGraphicFramePr>
        <p:xfrm>
          <a:off x="3124080" y="3200400"/>
          <a:ext cx="248616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00400"/>
                    <a:ext cx="248616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ection-Algorithm Us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When, and how often to invoke depends on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How often a deadlock is likely to occur?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How many processes will need to be rolled back?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each disjoint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How often -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very time a request for allocation cannot be granted immediately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us to detect set of deadlocked processes and process that “caused” deadlock.  Extra over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hour or whenever CPU utilization drop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ith arbitrary invocation there may be many cycles in the resource graph and we would not be able to tell which of the many deadlocked processes “caused” the deadlock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very from Deadlock: Process Ter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bort all deadlocked processe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bort one process at a time until the deadlock cycle is eliminated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n which order should we choose to abort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y of th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ong the process has computed, and how much longer to comple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the process has u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process needs to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processes will need to be term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process interactive or bat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very from Deadlock: Resource Preemp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ing a victim - minimize cos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ollback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turn to some safe state, restart process from that sta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arv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ame process may always be picked as victim; include number of rollback in cost factor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bined approach to deadlock hand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bine the three basic approach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even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voidanc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etec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lowing the use of the optimal approach for each class of resources in the system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tition resources into hierarchically ordered class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Use most appropriate technique for handling deadlocks within each cla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- Bridge Cross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ssume traffic in one direction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ach section of the bridge is viewed as a resourc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a deadlock occurs, it can be resolved only if one car backs up (preempt resources and rollback)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veral cars may have to be backed up if a deadlock occur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arvation is possibl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Line 4"/>
          <p:cNvSpPr/>
          <p:nvPr/>
        </p:nvSpPr>
        <p:spPr>
          <a:xfrm>
            <a:off x="1600200" y="2362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124080" y="23623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3505320" y="2666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 flipV="1">
            <a:off x="4800600" y="2362320"/>
            <a:ext cx="38088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181480" y="2362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1600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V="1">
            <a:off x="3048120" y="312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>
            <a:off x="3505320" y="3124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4800600" y="312408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5181480" y="3429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>
            <a:off x="16002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52578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514600" y="3048120"/>
            <a:ext cx="38088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3581280" y="2819520"/>
            <a:ext cx="381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8"/>
          <p:cNvSpPr/>
          <p:nvPr/>
        </p:nvSpPr>
        <p:spPr>
          <a:xfrm>
            <a:off x="5410080" y="2514600"/>
            <a:ext cx="38124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9"/>
          <p:cNvSpPr/>
          <p:nvPr/>
        </p:nvSpPr>
        <p:spPr>
          <a:xfrm>
            <a:off x="6019920" y="2514600"/>
            <a:ext cx="38088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0"/>
          <p:cNvSpPr/>
          <p:nvPr/>
        </p:nvSpPr>
        <p:spPr>
          <a:xfrm>
            <a:off x="4343400" y="2819520"/>
            <a:ext cx="380880" cy="228600"/>
          </a:xfrm>
          <a:prstGeom prst="rect">
            <a:avLst/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mmodity required by a process to execut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can be of several typ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rially Reusable Resources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cycles, memory space, I/O devices,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 -&gt; use -&gt;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nsumable Resourc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d by a process, needed by a process - e.g. Messages, buffers of information, interru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-&gt;acquire -&gt;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 ceases to exist after it has been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typ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en-US" sz="17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, 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en-US" sz="17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,….</a:t>
            </a:r>
            <a:r>
              <a:rPr b="0" i="1" lang="en-US" sz="26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0" i="1" lang="en-US" sz="1700" spc="-1" strike="noStrike">
                <a:solidFill>
                  <a:srgbClr val="cc3300"/>
                </a:solidFill>
                <a:latin typeface="Arial"/>
              </a:rPr>
              <a:t>m</a:t>
            </a:r>
            <a:endParaRPr b="0" lang="en-US" sz="17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resource typ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R</a:t>
            </a: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s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W</a:t>
            </a:r>
            <a:r>
              <a:rPr b="0" i="1" lang="en-US" sz="1900" spc="-1" strike="noStrike">
                <a:solidFill>
                  <a:srgbClr val="003399"/>
                </a:solidFill>
                <a:latin typeface="Arial"/>
              </a:rPr>
              <a:t>i</a:t>
            </a:r>
            <a:r>
              <a:rPr b="0" lang="en-US" sz="1900" spc="-1" strike="noStrike">
                <a:solidFill>
                  <a:srgbClr val="003399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stan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sume serially reusable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quest -&gt; use -&gt; releas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ditions for Deadloc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e following 4 conditions are necessary and sufficient for deadlock (must hold simultaneously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utual Exclusion: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ce process at a time can use the resour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Hold and Wait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hold resources already allocated to them while waiting for other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 preemption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 are released by processes holding them only after that process has completed its ta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ircular wait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ircular chain of processes exists in which each process waits for one or more resources held by the next proces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set of vertices V and a set of edges 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V is partitioned into 2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 = {P1, P2,…,Pn} - the set of processes in the system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 = {R1, R2,…,Rn} - the set of resource types in the syste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wo kinds of ed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quest edge  - Directed edge  Pi  ---&gt; Rj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ssignment edge - Directed edge  Rj ----&gt; Pi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source Allocation Grap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