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654-9D92-48E0-9A66-C7820415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0C05-A347-4ABE-9D84-9430C2D4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1A6-0964-4CD5-84D7-A41CC593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1F7-91A7-4BEB-8A83-E32146BAC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0483-242D-4445-9303-4797E406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CB4F-A4B3-49B6-B2D1-2E69AC4F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041E-C529-4253-BDAF-6C882EC8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3F98-F575-4B6A-B688-0BE49DBC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73B2-2350-4EDE-824F-F73FEEC8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2F86-F7BF-4138-AE0B-86D90581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E955-97DB-4E3D-A940-3D45195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9CF-37F1-4955-B89F-A7A17C11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F7DF-4684-4AA2-90CC-84C41FEC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8331-9AB2-4194-9A6D-14093EE5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A583-2CA6-421D-B951-214F7C52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E907-2A49-4623-A85F-0CB67D1D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B3BE-BA56-44CC-A460-3354EF95E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7BBA-7ABE-4962-89FF-2EE3C9F8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80C-EFDB-43DE-89E1-043E42BC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8A68-0046-40D3-9280-FD49C38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AE7-3AFD-4BB5-B69A-B53C010F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FD3-8395-4808-8841-7180B3AD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ECA-27F0-4F77-8256-D17C5E44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76A2-4676-471B-BF79-3DCD8DA8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8AB4-7EF1-42D4-831C-8110D1C27938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2DAC-109E-4C30-BE29-48BD29EB44D4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inciples of 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perating Syste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ource Allocation Grap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type with 4 instan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i requests instance of Rj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i is holding an instance of Rj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2514600" y="2362320"/>
            <a:ext cx="30492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819520" y="3352680"/>
            <a:ext cx="7617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8954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327672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28954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32767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2590920" y="5638680"/>
            <a:ext cx="30456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114800" y="55627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19112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45720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41911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457200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3429000" y="434340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8"/>
          <p:cNvSpPr/>
          <p:nvPr/>
        </p:nvSpPr>
        <p:spPr>
          <a:xfrm>
            <a:off x="350532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9"/>
          <p:cNvSpPr/>
          <p:nvPr/>
        </p:nvSpPr>
        <p:spPr>
          <a:xfrm>
            <a:off x="38862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35053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1"/>
          <p:cNvSpPr/>
          <p:nvPr/>
        </p:nvSpPr>
        <p:spPr>
          <a:xfrm>
            <a:off x="38862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274320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3"/>
          <p:cNvSpPr/>
          <p:nvPr/>
        </p:nvSpPr>
        <p:spPr>
          <a:xfrm flipH="1">
            <a:off x="2895120" y="5638680"/>
            <a:ext cx="1295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 with no cyc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0" y="2362320"/>
            <a:ext cx="6858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25146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267080" y="2362320"/>
            <a:ext cx="6858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1981080" y="3581280"/>
            <a:ext cx="38124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3429000" y="3581280"/>
            <a:ext cx="38088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5105520" y="3505320"/>
            <a:ext cx="38088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438280" y="449568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266688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4191120" y="464832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44197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44197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5"/>
          <p:cNvSpPr/>
          <p:nvPr/>
        </p:nvSpPr>
        <p:spPr>
          <a:xfrm>
            <a:off x="44197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6"/>
          <p:cNvSpPr/>
          <p:nvPr/>
        </p:nvSpPr>
        <p:spPr>
          <a:xfrm>
            <a:off x="26668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2133720" y="2819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2666880" y="259092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3733920" y="2819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4572000" y="26668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 flipH="1" flipV="1">
            <a:off x="2133360" y="3962520"/>
            <a:ext cx="5331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 flipV="1">
            <a:off x="2743200" y="3962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4267080" y="56386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343400" y="19051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2362320" y="19051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2514600" y="5562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1447920" y="36576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2895480" y="36576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4495680" y="35812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 with cyc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429000" y="396252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36576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365760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29000" y="198108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6576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65760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5410080" y="4267080"/>
            <a:ext cx="38124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1981080" y="3200400"/>
            <a:ext cx="38124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5410080" y="2057400"/>
            <a:ext cx="38124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5486400" y="3200400"/>
            <a:ext cx="38088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743200" y="19810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371600" y="32004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2819520" y="42670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6095880" y="20574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095880" y="32004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6095880" y="42670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 flipV="1">
            <a:off x="2286000" y="25142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 flipH="1" flipV="1">
            <a:off x="2362320" y="3505320"/>
            <a:ext cx="1295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3809880" y="2286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2"/>
          <p:cNvSpPr/>
          <p:nvPr/>
        </p:nvSpPr>
        <p:spPr>
          <a:xfrm>
            <a:off x="3809880" y="26668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"/>
          <p:cNvSpPr/>
          <p:nvPr/>
        </p:nvSpPr>
        <p:spPr>
          <a:xfrm flipV="1">
            <a:off x="3733920" y="4495680"/>
            <a:ext cx="1676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4"/>
          <p:cNvSpPr/>
          <p:nvPr/>
        </p:nvSpPr>
        <p:spPr>
          <a:xfrm flipH="1">
            <a:off x="4114800" y="34290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 with cycles and deadloc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286000" y="2362320"/>
            <a:ext cx="6858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5146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267080" y="2362320"/>
            <a:ext cx="6858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1981080" y="3581280"/>
            <a:ext cx="38124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3429000" y="3581280"/>
            <a:ext cx="38088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105520" y="3505320"/>
            <a:ext cx="38088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438280" y="449568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266688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4191120" y="464832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4197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44197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44197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6"/>
          <p:cNvSpPr/>
          <p:nvPr/>
        </p:nvSpPr>
        <p:spPr>
          <a:xfrm>
            <a:off x="26668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 flipV="1">
            <a:off x="2133720" y="2819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66880" y="259092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V="1">
            <a:off x="3733920" y="2819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4572000" y="26668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2133360" y="3962520"/>
            <a:ext cx="5331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 flipV="1">
            <a:off x="2743200" y="3962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4267080" y="56386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343400" y="19051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362320" y="19051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514600" y="5562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1447920" y="36576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2895480" y="36576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9"/>
          <p:cNvSpPr/>
          <p:nvPr/>
        </p:nvSpPr>
        <p:spPr>
          <a:xfrm>
            <a:off x="4495680" y="35812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0"/>
          <p:cNvSpPr/>
          <p:nvPr/>
        </p:nvSpPr>
        <p:spPr>
          <a:xfrm flipH="1">
            <a:off x="3124080" y="38098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F:\extralink\classes\cs323uiuc\Lectures\7\talk\deadlock.gif"/>
          <p:cNvPicPr/>
          <p:nvPr/>
        </p:nvPicPr>
        <p:blipFill>
          <a:blip r:embed="rId1"/>
          <a:stretch/>
        </p:blipFill>
        <p:spPr>
          <a:xfrm>
            <a:off x="1981080" y="152280"/>
            <a:ext cx="5905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sic fa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raph contains no cyc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O DEADLOCK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raph contains a cy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f only one instance per resource type, then deadlock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f several instances per resource type, possibility of deadlock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thods for handling deadlock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sure that the system will never enter a deadlock stat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the system to potentially enter a deadlock state, detect it and then reco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gnore the problem and pretend that deadlocks never occur in the system;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Used by many operating systems, e.g. UNI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Manag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even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the system in such a way that deadlocks can never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voidance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 less stringent conditions than for prevention, allowing the possibility of deadlock but sidestepping it as it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etec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possibility of deadlock, determine if deadlock has occurred and which processes and resources are inv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Recovery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detection, clear the problem, allow processes to complete and resources to be reused. May involve destroying and restarting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Preven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f any one of the conditions for deadlock (with reusable resources) is denied, deadlock is impossible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Restrain ways in which requests can be mad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Mutual Exclusion  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issue for shara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deny this for non-sharable resources (impor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Hold and Wait - guarantee that when a process requests a resource, it does not hold other resourc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each process to acquire all the required resources at once.  Process cannot proceed until all resources have been ac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esource utilization, starva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Prevention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o Preemption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rocess that is holding some resources requests another resource that cannot be immediately allocated to it, the process releases the resources currently being h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empted resources are added to the list of resources for which the process is wa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will be restarted only when it can regain its old resources as well as the new ones that it is requ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ircular Wai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e a total ordering of all resource typ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that processes request resources in increasing order of enumeration; if a resource of type N is held, process can only request resources of types &gt;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ystem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adlock Characteriz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 for handling dead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adlock Preven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adlock Avoid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adlock Det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very from Deadloc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ined Approach to Deadlock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Avoid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 of resources, set of customers, ban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ustomer tells banker maximum number of resources it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borrows resources from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returns resources to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eventually pays back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nker only lends resources if the system will be in a </a:t>
            </a:r>
            <a:r>
              <a:rPr b="0" i="1" lang="en-US" sz="3000" spc="-1" strike="noStrike">
                <a:solidFill>
                  <a:srgbClr val="cc9900"/>
                </a:solidFill>
                <a:latin typeface="Arial"/>
              </a:rPr>
              <a:t>safe stat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fter the lo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Avoid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s that the system has some additional apriori information availabl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 and most useful model requires that each process declare the maximum number of resources of each type that it may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adlock-avoidance algorithm dynamically examines the resource-allocation state to ensure that there can never be a circular-wait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allocation state is defined by the number of available and allocated resources, and the maximum demands of the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afe sta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When a process requests an available resource, system must decide if immediate allocation leaves the system in a safe state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ystem is in safe state if there exists a safe sequence of all processes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equence &lt;P1, P2, …Pn&gt; is safe, if for each Pi, the resources that Pi can still request can be satisfied by currently available resources + resources held by Pj with j&lt;i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i resource needs are not available, Pi can wait until all Pj have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j is finished, Pi can obtain needed resources, execute, return allocated resources, and termi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i terminates, Pi+1 can obtain its needed resour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sic Fa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a system is in a safe state  </a:t>
            </a: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no deadlocks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a system is in unsafe state  </a:t>
            </a: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possibility of deadlock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ance  </a:t>
            </a: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ensure that a system will never reach an unsafe state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ource Allocation Graph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d for deadlock avoidance when there is only one instance of each resource type.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 edge: 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j indicates that process Pi may request resource Rj; represented by a dashed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 edge converts to request edge when a process requests a re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esource is released by a process, assignment edge reconverts to claim 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must be claimed a priori in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If request assignment does not result in the formation of a cycle in the resource allocation graph - safe state, else unsafe stat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im Grap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"/>
          <p:cNvSpPr/>
          <p:nvPr/>
        </p:nvSpPr>
        <p:spPr>
          <a:xfrm>
            <a:off x="1981080" y="243828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67080" y="228600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457200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1981080" y="320040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267080" y="30481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4572000" y="32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2286000" y="33526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1981080" y="403848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267080" y="388620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2286000" y="41911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981080" y="480060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4267080" y="46483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457200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228600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8"/>
          <p:cNvSpPr/>
          <p:nvPr/>
        </p:nvSpPr>
        <p:spPr>
          <a:xfrm>
            <a:off x="1981080" y="5562720"/>
            <a:ext cx="30492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267080" y="541008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0"/>
          <p:cNvSpPr/>
          <p:nvPr/>
        </p:nvSpPr>
        <p:spPr>
          <a:xfrm>
            <a:off x="45720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5247360" y="31100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 claims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5263560" y="3886200"/>
            <a:ext cx="23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 requests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3"/>
          <p:cNvSpPr/>
          <p:nvPr/>
        </p:nvSpPr>
        <p:spPr>
          <a:xfrm>
            <a:off x="5263200" y="472428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 is assigned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5415840" y="5486400"/>
            <a:ext cx="23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 releases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im Grap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"/>
          <p:cNvSpPr/>
          <p:nvPr/>
        </p:nvSpPr>
        <p:spPr>
          <a:xfrm>
            <a:off x="4114800" y="243828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105520" y="1828800"/>
            <a:ext cx="7617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5410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6477120" y="2362320"/>
            <a:ext cx="30456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105520" y="2819520"/>
            <a:ext cx="7617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54100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 flipV="1">
            <a:off x="4343400" y="20574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4343400" y="2743200"/>
            <a:ext cx="762120" cy="3049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 flipH="1" flipV="1">
            <a:off x="5866920" y="213336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 flipH="1">
            <a:off x="5866920" y="266688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6019920" y="4038480"/>
            <a:ext cx="30456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010280" y="342900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8381880" y="3962520"/>
            <a:ext cx="30492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7010280" y="44197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73152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 flipV="1">
            <a:off x="6248520" y="3657600"/>
            <a:ext cx="7617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6248520" y="4343400"/>
            <a:ext cx="761760" cy="3049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 flipH="1" flipV="1">
            <a:off x="7772040" y="373356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 flipH="1">
            <a:off x="7772040" y="426708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3886200" y="525780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4876920" y="4648320"/>
            <a:ext cx="7617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1814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876920" y="5638680"/>
            <a:ext cx="7617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5181480" y="5791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9"/>
          <p:cNvSpPr/>
          <p:nvPr/>
        </p:nvSpPr>
        <p:spPr>
          <a:xfrm flipV="1">
            <a:off x="4114800" y="487692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0"/>
          <p:cNvSpPr/>
          <p:nvPr/>
        </p:nvSpPr>
        <p:spPr>
          <a:xfrm>
            <a:off x="4114800" y="5562720"/>
            <a:ext cx="7621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1"/>
          <p:cNvSpPr/>
          <p:nvPr/>
        </p:nvSpPr>
        <p:spPr>
          <a:xfrm flipH="1" flipV="1">
            <a:off x="5638320" y="495252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2"/>
          <p:cNvSpPr/>
          <p:nvPr/>
        </p:nvSpPr>
        <p:spPr>
          <a:xfrm flipH="1">
            <a:off x="5638320" y="548640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533520" y="4724280"/>
            <a:ext cx="30456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4"/>
          <p:cNvSpPr/>
          <p:nvPr/>
        </p:nvSpPr>
        <p:spPr>
          <a:xfrm>
            <a:off x="1523880" y="411480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2895480" y="4648320"/>
            <a:ext cx="30492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7"/>
          <p:cNvSpPr/>
          <p:nvPr/>
        </p:nvSpPr>
        <p:spPr>
          <a:xfrm>
            <a:off x="1523880" y="51055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82880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 flipV="1">
            <a:off x="762120" y="4343400"/>
            <a:ext cx="76176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0"/>
          <p:cNvSpPr/>
          <p:nvPr/>
        </p:nvSpPr>
        <p:spPr>
          <a:xfrm>
            <a:off x="762120" y="5029200"/>
            <a:ext cx="761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1"/>
          <p:cNvSpPr/>
          <p:nvPr/>
        </p:nvSpPr>
        <p:spPr>
          <a:xfrm flipH="1" flipV="1">
            <a:off x="2285640" y="441936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2"/>
          <p:cNvSpPr/>
          <p:nvPr/>
        </p:nvSpPr>
        <p:spPr>
          <a:xfrm flipH="1">
            <a:off x="2285640" y="495288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762120" y="2514600"/>
            <a:ext cx="30456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1752480" y="19051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205740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3124080" y="243828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1752480" y="289548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20574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9"/>
          <p:cNvSpPr/>
          <p:nvPr/>
        </p:nvSpPr>
        <p:spPr>
          <a:xfrm flipV="1">
            <a:off x="990720" y="2133720"/>
            <a:ext cx="761760" cy="38088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0"/>
          <p:cNvSpPr/>
          <p:nvPr/>
        </p:nvSpPr>
        <p:spPr>
          <a:xfrm>
            <a:off x="990720" y="2819520"/>
            <a:ext cx="761760" cy="3045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1"/>
          <p:cNvSpPr/>
          <p:nvPr/>
        </p:nvSpPr>
        <p:spPr>
          <a:xfrm flipH="1" flipV="1">
            <a:off x="2514240" y="220932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2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3"/>
          <p:cNvSpPr/>
          <p:nvPr/>
        </p:nvSpPr>
        <p:spPr>
          <a:xfrm>
            <a:off x="1967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4"/>
          <p:cNvSpPr/>
          <p:nvPr/>
        </p:nvSpPr>
        <p:spPr>
          <a:xfrm>
            <a:off x="5396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5"/>
          <p:cNvSpPr/>
          <p:nvPr/>
        </p:nvSpPr>
        <p:spPr>
          <a:xfrm>
            <a:off x="7377120" y="392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6"/>
          <p:cNvSpPr/>
          <p:nvPr/>
        </p:nvSpPr>
        <p:spPr>
          <a:xfrm>
            <a:off x="524376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7"/>
          <p:cNvSpPr/>
          <p:nvPr/>
        </p:nvSpPr>
        <p:spPr>
          <a:xfrm>
            <a:off x="16621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8"/>
          <p:cNvSpPr/>
          <p:nvPr/>
        </p:nvSpPr>
        <p:spPr>
          <a:xfrm>
            <a:off x="35053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9"/>
          <p:cNvSpPr/>
          <p:nvPr/>
        </p:nvSpPr>
        <p:spPr>
          <a:xfrm>
            <a:off x="6934320" y="2743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0"/>
          <p:cNvSpPr/>
          <p:nvPr/>
        </p:nvSpPr>
        <p:spPr>
          <a:xfrm flipH="1">
            <a:off x="6781680" y="5029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1"/>
          <p:cNvSpPr/>
          <p:nvPr/>
        </p:nvSpPr>
        <p:spPr>
          <a:xfrm flipH="1" flipV="1">
            <a:off x="3429000" y="4724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2"/>
          <p:cNvSpPr/>
          <p:nvPr/>
        </p:nvSpPr>
        <p:spPr>
          <a:xfrm>
            <a:off x="822240" y="5624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3"/>
          <p:cNvSpPr/>
          <p:nvPr/>
        </p:nvSpPr>
        <p:spPr>
          <a:xfrm>
            <a:off x="1279440" y="369900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ssible Deadlock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nker’s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d for multiple instances of each resource typ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process must a priori claim maximum use of each resource typ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a process requests a resource it may have to wai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a process gets all its resources it must return them in a finite amount of tim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a Structures for the Banker’s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= number of processes 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= number of resource typ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ector of 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request at mo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urrently alloca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re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mplete its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]  =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] -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afety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et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be vectors of length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respectively.  Initializ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2,…,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Find an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 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i.e. process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 P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) such that both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u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go to step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: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+ Allocation_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] 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true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for all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then the system is in a safe stat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Deadlock Probl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et of blocked processes each holding a resource and waiting to acquire a resource held by another process in the se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Example 1 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has 2 tape drives.  P1 and P2 each hold one tape drive and each needs the other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Example 2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phores A and B each initialized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P0                            P1    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                        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wait(A) 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                    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wait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                       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wait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)                      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wait(A)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ource-Request Algorithm for Process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P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quest_i = request vector for process Pi.  If Request_i[j] = k, then process Pi wants k instances of resource type Rj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go to step 2. Otherwise, raise error condition, since process has exceeded its maximum cla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o to step 3. Otherwise, Pi must wait since resources are not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Pretend to allocate requested resources to Pi by modifying the stat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ail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ail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:= 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Requ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= Ne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Requ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af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sources are alloc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nsaf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wait and the old resource-allocation state is rest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of Banker’s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5 processes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0 - P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3 resource types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(10 instances), B (5 instances), C (7 inst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napshot at time T0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339" name="Object 4"/>
          <p:cNvGraphicFramePr/>
          <p:nvPr/>
        </p:nvGraphicFramePr>
        <p:xfrm>
          <a:off x="2664000" y="3987720"/>
          <a:ext cx="3422520" cy="165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00" y="3987720"/>
                    <a:ext cx="342252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tent of the matrix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e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defined to b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Max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-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llocation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ystem is in a safe state since the sequence &lt;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1,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3,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4,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2,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0&gt; satisfies safety criteria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2666880" y="3962520"/>
          <a:ext cx="1567080" cy="165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962520"/>
                    <a:ext cx="156708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: P1 requests (1,0,2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 to see that Request </a:t>
            </a: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vailab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1,0,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3,3,2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2590920" y="3048120"/>
          <a:ext cx="3870360" cy="235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048120"/>
                    <a:ext cx="3870360" cy="23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ng the safety algorithm shows that sequence &lt;P1, P3, P4, P0, P2&gt; satisfies safety requiremen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est for (3,3,0) by P4 be granted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est for (0,2,0) by P0 be granted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De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system to enter deadlock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ction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very Sche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gle Instance of each resource typ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tain wait-for grap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odes are processe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j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if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is waiting for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j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iodically invoke an algorithm that searches for a cycle in the grap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lgorithm to detect a cycle in a graph requires an order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^2 operations, wher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number of vertices in the grap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veral instances of a resource typ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ta Struc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ector of 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urrently alloca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indicates the current request of each process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reques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re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Detection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ep 1: Let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be vectors of length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  respectively.  Initializ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2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therwi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ep 2: Find an index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uch that both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u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go to step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Detection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ep 3: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: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+ Allocation(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ep 4: If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] 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alse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for some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1 </a:t>
            </a:r>
            <a:r>
              <a:rPr b="1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then the system is in a deadlock state.  Moreover, if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] 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alse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then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is deadlocke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lgorithm requires an order of m </a:t>
            </a:r>
            <a:r>
              <a:rPr b="1" lang="en-US" sz="26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(n^2) operations to detect whether the system is in a deadlocked state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ocess is </a:t>
            </a:r>
            <a:r>
              <a:rPr b="0" i="1" lang="en-US" sz="3000" spc="-1" strike="noStrike">
                <a:solidFill>
                  <a:srgbClr val="cc9900"/>
                </a:solidFill>
                <a:latin typeface="Arial"/>
              </a:rPr>
              <a:t>deadlocked</a:t>
            </a: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it is waiting for an event that will never occu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ypically, more than one process will be involved in a deadlock (the deadly embrace)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ocess is </a:t>
            </a:r>
            <a:r>
              <a:rPr b="0" i="1" lang="en-US" sz="3000" spc="-1" strike="noStrike">
                <a:solidFill>
                  <a:srgbClr val="cc9900"/>
                </a:solidFill>
                <a:latin typeface="Arial"/>
              </a:rPr>
              <a:t>indefinitely postpon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f it is delayed repeatedly over a long period of time while the attention of the system is given to other processes,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i.e. the process is ready to proceed but never gets the CPU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of Detection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5 processes -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0 -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4;  3 resource types  -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7  instances),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2 instances),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6 instances)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napshot at time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0: &lt;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0,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2,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3,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1,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4&gt; will result in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] = true for all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4"/>
          <p:cNvGraphicFramePr/>
          <p:nvPr/>
        </p:nvGraphicFramePr>
        <p:xfrm>
          <a:off x="2819520" y="3505320"/>
          <a:ext cx="3870360" cy="235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505320"/>
                    <a:ext cx="3870360" cy="23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2 requests an additional instance of type C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ate of system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claim resources held by process P0, but insufficient resources to fulfill other processes’ req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ock exists, consist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4"/>
          <p:cNvGraphicFramePr/>
          <p:nvPr/>
        </p:nvGraphicFramePr>
        <p:xfrm>
          <a:off x="3124080" y="3200400"/>
          <a:ext cx="2486160" cy="26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00400"/>
                    <a:ext cx="24861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ection-Algorithm U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When, and how often to invoke depends on: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How often a deadlock is likely to occur?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How many processes will need to be rolled back?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each disjoi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How often --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very time a request for allocation cannot be granted immediately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 to detect set of deadlocked processes and process that “caused” deadlock.  Extra over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hour or whenever CPU utilization drop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With arbitrary invocation there may be many cycles in the resource graph and we would not be able to tell which of the many deadlocked processes “caused” the deadlock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very from Deadlock: Process Ter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bort all deadlocked processe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bort one process at a time until the deadlock cycle is eliminated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n which order should we choose to abort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of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the process has computed, and how much longer to comp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the process ha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process needs to comp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processes will need to be termin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rocess interactive or bat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very from Deadlock: Resource Preem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ing a victim - minimize cos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turn to some safe state, restart process from that stat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ar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ame process may always be picked as victim; include number of rollback in cost factor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bined approach to deadlock hand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ine the three basic approach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even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voidanc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etec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llowing the use of the optimal approach for each class of resources in the system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ition resources into hierarchically ordered class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Use most appropriate technique for handling deadlocks within each clas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- Bridge Cross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ssume traffic in one direction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ach section of the bridge is viewed as a resourc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f a deadlock occurs, it can be resolved only if one car backs up (preempt resources and rollback)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everal cars may have to be backed up if a deadlock occur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arvation is possibl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1600200" y="2362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124080" y="23623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50532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V="1">
            <a:off x="4800600" y="23623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181480" y="2362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600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V="1">
            <a:off x="3048120" y="3123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350532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480060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518148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6002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5257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514600" y="3048120"/>
            <a:ext cx="38088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3581280" y="2819520"/>
            <a:ext cx="381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410080" y="2514600"/>
            <a:ext cx="381240" cy="2286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6019920" y="2514600"/>
            <a:ext cx="380880" cy="2286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4343400" y="2819520"/>
            <a:ext cx="380880" cy="2286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mmodity required by a process to execut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of several typ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erially Reusable Resources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cycles, memory space, I/O devices,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e -&gt; use -&gt;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nsumable Resource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d by a process, needed by a process - e.g. Messages, buffers of information,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-&gt;acquire -&gt;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ceases to exist after it has been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typ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i="1" lang="en-US" sz="17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i="1" lang="en-US" sz="17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,….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i="1" lang="en-US" sz="1700" spc="-1" strike="noStrike">
                <a:solidFill>
                  <a:srgbClr val="cc33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resource typ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i="1" lang="en-US" sz="1900" spc="-1" strike="noStrike">
                <a:solidFill>
                  <a:srgbClr val="003399"/>
                </a:solidFill>
                <a:latin typeface="Arial"/>
              </a:rPr>
              <a:t>i</a:t>
            </a: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i="1" lang="en-US" sz="1900" spc="-1" strike="noStrike">
                <a:solidFill>
                  <a:srgbClr val="003399"/>
                </a:solidFill>
                <a:latin typeface="Arial"/>
              </a:rPr>
              <a:t>i</a:t>
            </a: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sume serially reusable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quest -&gt; use -&gt; releas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ditions for Deadloc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he following 4 conditions are necessary and sufficient for deadlock (must hold simultaneously)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Mutual Exclusion: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ce process at a time can use the re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Hold and Wait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hold resources already allocated to them while waiting for other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o preemption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are released by processes holding them only after that process has completed its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ircular wait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ircular chain of processes exists in which each process waits for one or more resources held by the next proces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et of vertices V and a set of edges 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 is partitioned into 2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 = {P1, P2,…,Pn} - the set of processes in the system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 = {R1, R2,…,Rn} - the set of resource types in the system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kinds of ed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quest edge  - Directed edge  Pi  ---&gt; Rj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ssignment edge - Directed edge  Rj ----&gt; Pi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ource Allocation Grap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2:31Z</dcterms:created>
  <dc:creator/>
  <dc:description/>
  <dc:language>en-US</dc:language>
  <cp:lastModifiedBy>LOVE GOEL</cp:lastModifiedBy>
  <dcterms:modified xsi:type="dcterms:W3CDTF">2008-08-09T10:01:57Z</dcterms:modified>
  <cp:revision>0</cp:revision>
  <dc:subject/>
  <dc:title/>
</cp:coreProperties>
</file>