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A075-3E4B-411C-9E32-350D1F06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AF6A-4721-49D7-B096-65637DB3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A772-FF36-4AE3-AA9B-5228B4386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1DC9-CAC2-4062-9693-9D3E71F2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B6C8-6287-488A-8743-55CA3710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D263-3602-42A2-B9E0-B6C322DC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15212-1468-402D-BBC8-C4E66807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BE7F-465E-4CFE-99F6-506F10D7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0668-C92A-420E-8E73-221D89B9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05B7-DF39-4EA8-A29A-B1C518BA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E6A1C-6C62-47DE-BAAC-7595B1868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AC4-7EEF-4FC4-8C34-B52F0BBEE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523E-ADA1-4966-823E-7B24A401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4A531-FC76-4263-921F-1A0C72FF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0D38-DD48-4407-BDA3-6E900E20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FE2-D191-4D9D-837C-5613183B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007E-F397-4409-BD69-409CCB4C7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DDBD-E7D4-4DC6-AECE-3F8D5CCD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CD4-1AFB-40FB-B9BD-55DD5923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B2D6-E42B-4E54-804F-7240175F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B075-003D-4F29-9573-6FC76671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7B9F-2A03-48D9-8158-FAC9FD1C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5A46-AA80-4109-AB9C-9A1C9CC8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929-3D75-4FAE-AD34-85C7BEE2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8C9C-6B6E-4473-81A4-74BD20387BB9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40F4-780F-4A2A-9180-E32D1365C01F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388620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ons Performed on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arch for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reate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lete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st a directory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Rename a fi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raverse the filesystem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ogical Directory Organization -- Go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fficiency - locating a file quick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aming - convenient to us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wo users can have the same name for different fil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he same file can have several different nam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roup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ogical grouping of files by properties (e.g. all Pascal programs, all games…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gle Level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 single directory for all user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aming Problem and Grouping Proble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umber of files increases, difficult to remember unique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the number of users increase, users must have unique na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F:\extralink\classes\cs323uiuc\Lectures\10\talk\img1.gif"/>
          <p:cNvPicPr/>
          <p:nvPr/>
        </p:nvPicPr>
        <p:blipFill>
          <a:blip r:embed="rId1"/>
          <a:stretch/>
        </p:blipFill>
        <p:spPr>
          <a:xfrm>
            <a:off x="2362320" y="3505320"/>
            <a:ext cx="44193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 Level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roduced to remove naming problem between us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rst Level contains list of user directori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econd Level contains user fil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eed to specify Path 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an have same file names for different user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ystem files kept in separate directory or Level 1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Efficient searching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 Level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3" descr="F:\extralink\classes\cs323uiuc\Lectures\10\talk\img2.gif"/>
          <p:cNvPicPr/>
          <p:nvPr/>
        </p:nvPicPr>
        <p:blipFill>
          <a:blip r:embed="rId1"/>
          <a:stretch/>
        </p:blipFill>
        <p:spPr>
          <a:xfrm>
            <a:off x="914400" y="2057400"/>
            <a:ext cx="7524720" cy="33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e structured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3" descr="F:\extralink\classes\cs323uiuc\Lectures\10\talk\img3.gif"/>
          <p:cNvPicPr/>
          <p:nvPr/>
        </p:nvPicPr>
        <p:blipFill>
          <a:blip r:embed="rId1"/>
          <a:stretch/>
        </p:blipFill>
        <p:spPr>
          <a:xfrm>
            <a:off x="990720" y="2133720"/>
            <a:ext cx="729612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e Structured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rbitrary depth of director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eaf nodes are files, interior nodes are directori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fficient Searc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rouping Capabilit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urrent Directory (working directory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d /spell/mail/prog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ype li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S-DOS uses a tree structured directo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ree Structured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bsolute or relative path 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from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ve paths from current working directory poi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reating a new file is done in current directory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reating a new subdirectory is done in current 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irectory, e.g. mkdir &lt;dir-name&gt;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lete a file , e.g. rm file-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letion of directory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ption 1 : Only delete if directory is empty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ption 2: delete all files and subdirectories under directory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yclic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Picture 3" descr="F:\extralink\classes\cs323uiuc\Lectures\10\talk\img4.gif"/>
          <p:cNvPicPr/>
          <p:nvPr/>
        </p:nvPicPr>
        <p:blipFill>
          <a:blip r:embed="rId1"/>
          <a:stretch/>
        </p:blipFill>
        <p:spPr>
          <a:xfrm>
            <a:off x="1523880" y="1905120"/>
            <a:ext cx="650088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yclic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yclic graphs allow shar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plementation by lin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inks are pointers to other files or subdirectori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ymbolic links or relative path name 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ory entry is marked as a link and name of real file/directory is given. Need to resolve link to locat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plementation by shared fi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uplicate information in sharing directori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riginal and copy indistinguishabl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eed to maintain consistency if one of them is modifi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Concept and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ory Struc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Organiz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ccess 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t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yclic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aming : File may have multiple absolute path name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wo different names for the same file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raversal 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that shared data structures are traversed only o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moving file when someone deletes it may leave dangling pointers.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eserve file until all references to it are deleted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list of all references to a file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 of the number of references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ference cou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ount = 0, file can be dele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Graph Director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9" name="Picture 3" descr="F:\extralink\classes\cs323uiuc\Lectures\10\talk\img5.gif"/>
          <p:cNvPicPr/>
          <p:nvPr/>
        </p:nvPicPr>
        <p:blipFill>
          <a:blip r:embed="rId1"/>
          <a:stretch/>
        </p:blipFill>
        <p:spPr>
          <a:xfrm>
            <a:off x="1828800" y="2057400"/>
            <a:ext cx="62676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Graph Directorie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ow do we guarantee no cycles in a tree structured directory?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 only links to file not sub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a new link is added use a cycle detection algorithm to determine whether it is 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f links to directories are allowed, we have a simple graph structur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nsure that components are not traversed twice both for correctness and for performance, e.g. search can be non-termin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Deletion - reference count can be non-zero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garbage collection mechanism to determine if file can be dele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cess Metho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quential Ac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ad after last write (rewr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 Access ( n = relative block number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on to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n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equential File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Picture 4" descr="F:\extralink\classes\cs323uiuc\Lectures\10\talk\img6.gif"/>
          <p:cNvPicPr/>
          <p:nvPr/>
        </p:nvPicPr>
        <p:blipFill>
          <a:blip r:embed="rId1"/>
          <a:stretch/>
        </p:blipFill>
        <p:spPr>
          <a:xfrm>
            <a:off x="1905120" y="2362320"/>
            <a:ext cx="5529240" cy="21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Sequential or Indexed File Organiz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9" name="Picture 4" descr="F:\extralink\classes\cs323uiuc\Lectures\10\talk\img7.gif"/>
          <p:cNvPicPr/>
          <p:nvPr/>
        </p:nvPicPr>
        <p:blipFill>
          <a:blip r:embed="rId1"/>
          <a:stretch/>
        </p:blipFill>
        <p:spPr>
          <a:xfrm>
            <a:off x="2133720" y="2666880"/>
            <a:ext cx="5257800" cy="28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Access File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42" name="Picture 4" descr="F:\extralink\classes\cs323uiuc\Lectures\10\talk\img8.gif"/>
          <p:cNvPicPr/>
          <p:nvPr/>
        </p:nvPicPr>
        <p:blipFill>
          <a:blip r:embed="rId1"/>
          <a:stretch/>
        </p:blipFill>
        <p:spPr>
          <a:xfrm>
            <a:off x="1905120" y="2514600"/>
            <a:ext cx="50529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owner/creator should be able to contro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what can be don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y who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ac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cess lists and grou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ssociate each file/directory with access lis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 - length of access list.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olution - condensed version of lis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ode of access: read, write, execut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hree classes of user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ner access - user who created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access  - set of users who are sharing the file and need simila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 access - all oth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In UNIX, 3 fields of length 3 bits are used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lds are user, group, others(u,g,o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s are read, write, execute (r,w,x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hmod go+rw file ,  chmod 761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-System Implem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ystem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cation Metho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e-Space Managemen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rectory Implement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fficiency and Perform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cover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Conce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ntiguous logical address spac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abstracts from the physical properties of its storage device to define a logical storage unit called fil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maps files to physical devic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yp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ata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eric, character, bi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, object (load im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ocument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-System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ogical Storage Unit with collection of related informa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System resides on secondary storage (disks)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o improve I/O efficiency, I/O transfers between memory and disk are performed in block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/Write/Modify/Access each block on d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ystem  organized into layer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File control block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- storage structure consisting of information about a fil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System Mount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le System must be mounted before it can be available to process on the syst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he OS is given the name of the device and the mount point (location within file structure at which files attach)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verifies that the device contains a valid file system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S notes in its directory structure that a file system is mounted at the specified mount poin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location of Disk Spa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w level access methods depend upon the disk allocation scheme used to store file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ntiguous Al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ked List Al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lock Al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guous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Each file occupies a set of contiguous blocks on the disk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- only starting location (block #) and length (number of blocks) are requir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its sequential or direct a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(very little head movement) and easy to recover in the event of system cra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ful of space (dynamic storage-allocation problem). Use first fit or best fit.  Leads to external fragmentation on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annot grow - expanding file requires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tend to overestimate space - internal fragmen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pping from logical to physical - &lt;Q,R&gt; 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o be accessed = Q + starting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into block = 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iguous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3" descr="F:\extralink\classes\ics143\winter99\lectures\11\talk\img1.gif"/>
          <p:cNvPicPr/>
          <p:nvPr/>
        </p:nvPicPr>
        <p:blipFill>
          <a:blip r:embed="rId1"/>
          <a:stretch/>
        </p:blipFill>
        <p:spPr>
          <a:xfrm>
            <a:off x="1066680" y="1752480"/>
            <a:ext cx="7077240" cy="42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file is a linked list of disk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locks may be scattered anywhere on the disk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ach node in list can be  a fixed size physical block or a contiguous collection of block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locate as needed and then link together via pointer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k space used to store pointers, if disk block is 512 bytes, and pointer (disk address) requires 4 bytes, user sees 508 bytes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ointers in list not accessible to user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962520" y="5029200"/>
            <a:ext cx="9144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3962520" y="5334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4041360" y="50292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973960" y="5257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lock =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040280" y="54864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3" descr="F:\extralink\classes\cs323uiuc\Lectures\11\talk\img2.gif"/>
          <p:cNvPicPr/>
          <p:nvPr/>
        </p:nvPicPr>
        <p:blipFill>
          <a:blip r:embed="rId1"/>
          <a:stretch/>
        </p:blipFill>
        <p:spPr>
          <a:xfrm>
            <a:off x="990720" y="2057400"/>
            <a:ext cx="733428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imple - need only starting addre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ree-space management system - space efficient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11960" indent="-3474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an grow in middle and at ends.  No estimation of size necessary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uited for sequential access but not random acce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irectory Table maps files into head of list for a fil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3120" indent="-321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pping -  &lt;Q, R&gt;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to be accessed is the Qth block in the linked chain of blocks representing the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cement into block = R +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inked Allocation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low - defies principle of locality. 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read through linked list nodes sequentially to find the record of inter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t very reliabl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rashes can scramble files being upd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mportant variation on linked allocation method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ile-allocation table (FAT) - disk-space allocation used by MS-DOS and OS/2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rings all pointers together into the index block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gical view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505320" y="3124080"/>
            <a:ext cx="685800" cy="1676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505320" y="3657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3505320" y="3886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3505320" y="4191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505320" y="4495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505320" y="3352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952880" y="266688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4952880" y="32004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952880" y="36576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4952880" y="41148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4952880" y="5029200"/>
            <a:ext cx="30492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6"/>
          <p:cNvSpPr/>
          <p:nvPr/>
        </p:nvSpPr>
        <p:spPr>
          <a:xfrm>
            <a:off x="4191120" y="38098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7"/>
          <p:cNvSpPr/>
          <p:nvPr/>
        </p:nvSpPr>
        <p:spPr>
          <a:xfrm>
            <a:off x="4191120" y="403848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8"/>
          <p:cNvSpPr/>
          <p:nvPr/>
        </p:nvSpPr>
        <p:spPr>
          <a:xfrm>
            <a:off x="4191120" y="434340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9"/>
          <p:cNvSpPr/>
          <p:nvPr/>
        </p:nvSpPr>
        <p:spPr>
          <a:xfrm>
            <a:off x="4191120" y="4648320"/>
            <a:ext cx="7617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0"/>
          <p:cNvSpPr/>
          <p:nvPr/>
        </p:nvSpPr>
        <p:spPr>
          <a:xfrm flipV="1">
            <a:off x="4191120" y="2819520"/>
            <a:ext cx="7617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1"/>
          <p:cNvSpPr/>
          <p:nvPr/>
        </p:nvSpPr>
        <p:spPr>
          <a:xfrm flipV="1">
            <a:off x="4191120" y="3352680"/>
            <a:ext cx="7617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3110760" y="486252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ndex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ne - sequence of words/byt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imple record structur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omplex Structure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ocatable  Load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ho decides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8742-52AA-47AC-B0FF-E774854013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5" name="Picture 3" descr="F:\extralink\classes\cs323uiuc\Lectures\11\talk\img3.gif"/>
          <p:cNvPicPr/>
          <p:nvPr/>
        </p:nvPicPr>
        <p:blipFill>
          <a:blip r:embed="rId1"/>
          <a:stretch/>
        </p:blipFill>
        <p:spPr>
          <a:xfrm>
            <a:off x="1981080" y="990720"/>
            <a:ext cx="5153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Need index tab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orts sequential, direct and indexed acces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ynamic access without external fragmentation,  but have overhead of index bloc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pping from logical to physical in a file of maximum size of 256K words and block size of 512 words.  We need only 1 block for index tabl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Mapping  - &lt;Q,R&gt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- displacement into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- displacement int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 - Mapp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pping from logical to physical in a file of unbounded length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ked scheme - 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ink blocks of index tables (no limit on size)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ultilevel Inde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.g. Two Level Index - first level index block points to a set of second level index blocks, which in turn point to file block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Increase number of levels based on maximum file size desir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aximum size of file is bound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File - Linked Schem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1371600" y="21337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371600" y="2362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5"/>
          <p:cNvSpPr/>
          <p:nvPr/>
        </p:nvSpPr>
        <p:spPr>
          <a:xfrm>
            <a:off x="1371600" y="2514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6"/>
          <p:cNvSpPr/>
          <p:nvPr/>
        </p:nvSpPr>
        <p:spPr>
          <a:xfrm>
            <a:off x="1371600" y="2666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7"/>
          <p:cNvSpPr/>
          <p:nvPr/>
        </p:nvSpPr>
        <p:spPr>
          <a:xfrm>
            <a:off x="1371600" y="2819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8"/>
          <p:cNvSpPr/>
          <p:nvPr/>
        </p:nvSpPr>
        <p:spPr>
          <a:xfrm>
            <a:off x="1371600" y="2971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9"/>
          <p:cNvSpPr/>
          <p:nvPr/>
        </p:nvSpPr>
        <p:spPr>
          <a:xfrm>
            <a:off x="1371600" y="3124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0"/>
          <p:cNvSpPr/>
          <p:nvPr/>
        </p:nvSpPr>
        <p:spPr>
          <a:xfrm>
            <a:off x="137160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"/>
          <p:cNvSpPr/>
          <p:nvPr/>
        </p:nvSpPr>
        <p:spPr>
          <a:xfrm>
            <a:off x="137160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3124080" y="37339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3"/>
          <p:cNvSpPr/>
          <p:nvPr/>
        </p:nvSpPr>
        <p:spPr>
          <a:xfrm>
            <a:off x="3124080" y="3962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4"/>
          <p:cNvSpPr/>
          <p:nvPr/>
        </p:nvSpPr>
        <p:spPr>
          <a:xfrm>
            <a:off x="3124080" y="4114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"/>
          <p:cNvSpPr/>
          <p:nvPr/>
        </p:nvSpPr>
        <p:spPr>
          <a:xfrm>
            <a:off x="3124080" y="4267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31240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7"/>
          <p:cNvSpPr/>
          <p:nvPr/>
        </p:nvSpPr>
        <p:spPr>
          <a:xfrm>
            <a:off x="3124080" y="4572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3124080" y="4724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9"/>
          <p:cNvSpPr/>
          <p:nvPr/>
        </p:nvSpPr>
        <p:spPr>
          <a:xfrm>
            <a:off x="3124080" y="4876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124080" y="5029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1"/>
          <p:cNvSpPr/>
          <p:nvPr/>
        </p:nvSpPr>
        <p:spPr>
          <a:xfrm>
            <a:off x="5791320" y="48769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579132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3"/>
          <p:cNvSpPr/>
          <p:nvPr/>
        </p:nvSpPr>
        <p:spPr>
          <a:xfrm>
            <a:off x="579132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4"/>
          <p:cNvSpPr/>
          <p:nvPr/>
        </p:nvSpPr>
        <p:spPr>
          <a:xfrm>
            <a:off x="579132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25"/>
          <p:cNvSpPr/>
          <p:nvPr/>
        </p:nvSpPr>
        <p:spPr>
          <a:xfrm>
            <a:off x="579132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6"/>
          <p:cNvSpPr/>
          <p:nvPr/>
        </p:nvSpPr>
        <p:spPr>
          <a:xfrm>
            <a:off x="5791320" y="5715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7"/>
          <p:cNvSpPr/>
          <p:nvPr/>
        </p:nvSpPr>
        <p:spPr>
          <a:xfrm>
            <a:off x="5791320" y="5867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8"/>
          <p:cNvSpPr/>
          <p:nvPr/>
        </p:nvSpPr>
        <p:spPr>
          <a:xfrm>
            <a:off x="5791320" y="6019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9"/>
          <p:cNvSpPr/>
          <p:nvPr/>
        </p:nvSpPr>
        <p:spPr>
          <a:xfrm>
            <a:off x="5791320" y="6172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0"/>
          <p:cNvSpPr/>
          <p:nvPr/>
        </p:nvSpPr>
        <p:spPr>
          <a:xfrm>
            <a:off x="4419720" y="1905120"/>
            <a:ext cx="99036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1"/>
          <p:cNvSpPr/>
          <p:nvPr/>
        </p:nvSpPr>
        <p:spPr>
          <a:xfrm>
            <a:off x="4952880" y="2514600"/>
            <a:ext cx="99072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2"/>
          <p:cNvSpPr/>
          <p:nvPr/>
        </p:nvSpPr>
        <p:spPr>
          <a:xfrm>
            <a:off x="6705720" y="2133720"/>
            <a:ext cx="99036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3"/>
          <p:cNvSpPr/>
          <p:nvPr/>
        </p:nvSpPr>
        <p:spPr>
          <a:xfrm>
            <a:off x="7010280" y="2971800"/>
            <a:ext cx="99072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4"/>
          <p:cNvSpPr/>
          <p:nvPr/>
        </p:nvSpPr>
        <p:spPr>
          <a:xfrm flipV="1">
            <a:off x="2895480" y="2057040"/>
            <a:ext cx="1524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5"/>
          <p:cNvSpPr/>
          <p:nvPr/>
        </p:nvSpPr>
        <p:spPr>
          <a:xfrm>
            <a:off x="2971800" y="2438280"/>
            <a:ext cx="1981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36"/>
          <p:cNvSpPr/>
          <p:nvPr/>
        </p:nvSpPr>
        <p:spPr>
          <a:xfrm flipV="1">
            <a:off x="4724280" y="2819160"/>
            <a:ext cx="2057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37"/>
          <p:cNvSpPr/>
          <p:nvPr/>
        </p:nvSpPr>
        <p:spPr>
          <a:xfrm flipV="1">
            <a:off x="4724280" y="3428640"/>
            <a:ext cx="2286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38"/>
          <p:cNvSpPr/>
          <p:nvPr/>
        </p:nvSpPr>
        <p:spPr>
          <a:xfrm>
            <a:off x="1905120" y="3581280"/>
            <a:ext cx="12189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39"/>
          <p:cNvSpPr/>
          <p:nvPr/>
        </p:nvSpPr>
        <p:spPr>
          <a:xfrm>
            <a:off x="4724280" y="5105520"/>
            <a:ext cx="10670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1509120" y="17146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dex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486400" y="167652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l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1966680" y="4229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3"/>
          <p:cNvSpPr/>
          <p:nvPr/>
        </p:nvSpPr>
        <p:spPr>
          <a:xfrm>
            <a:off x="4649760" y="58672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exed Allocation - Multilevel index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1066680" y="30481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106668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"/>
          <p:cNvSpPr/>
          <p:nvPr/>
        </p:nvSpPr>
        <p:spPr>
          <a:xfrm>
            <a:off x="1066680" y="3429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"/>
          <p:cNvSpPr/>
          <p:nvPr/>
        </p:nvSpPr>
        <p:spPr>
          <a:xfrm>
            <a:off x="1066680" y="3581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066680" y="3733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066680" y="3886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>
            <a:off x="106668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066680" y="4191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"/>
          <p:cNvSpPr/>
          <p:nvPr/>
        </p:nvSpPr>
        <p:spPr>
          <a:xfrm>
            <a:off x="106668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2"/>
          <p:cNvSpPr/>
          <p:nvPr/>
        </p:nvSpPr>
        <p:spPr>
          <a:xfrm>
            <a:off x="3352680" y="2057400"/>
            <a:ext cx="160020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3"/>
          <p:cNvSpPr/>
          <p:nvPr/>
        </p:nvSpPr>
        <p:spPr>
          <a:xfrm>
            <a:off x="3352680" y="2286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4"/>
          <p:cNvSpPr/>
          <p:nvPr/>
        </p:nvSpPr>
        <p:spPr>
          <a:xfrm>
            <a:off x="3352680" y="24382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5"/>
          <p:cNvSpPr/>
          <p:nvPr/>
        </p:nvSpPr>
        <p:spPr>
          <a:xfrm>
            <a:off x="335268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6"/>
          <p:cNvSpPr/>
          <p:nvPr/>
        </p:nvSpPr>
        <p:spPr>
          <a:xfrm>
            <a:off x="3352680" y="2743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7"/>
          <p:cNvSpPr/>
          <p:nvPr/>
        </p:nvSpPr>
        <p:spPr>
          <a:xfrm>
            <a:off x="3352680" y="2895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8"/>
          <p:cNvSpPr/>
          <p:nvPr/>
        </p:nvSpPr>
        <p:spPr>
          <a:xfrm>
            <a:off x="3352680" y="30481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9"/>
          <p:cNvSpPr/>
          <p:nvPr/>
        </p:nvSpPr>
        <p:spPr>
          <a:xfrm>
            <a:off x="3352680" y="3200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0"/>
          <p:cNvSpPr/>
          <p:nvPr/>
        </p:nvSpPr>
        <p:spPr>
          <a:xfrm>
            <a:off x="3352680" y="33526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1"/>
          <p:cNvSpPr/>
          <p:nvPr/>
        </p:nvSpPr>
        <p:spPr>
          <a:xfrm>
            <a:off x="3429000" y="4419720"/>
            <a:ext cx="1600200" cy="1447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"/>
          <p:cNvSpPr/>
          <p:nvPr/>
        </p:nvSpPr>
        <p:spPr>
          <a:xfrm>
            <a:off x="3429000" y="4648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3"/>
          <p:cNvSpPr/>
          <p:nvPr/>
        </p:nvSpPr>
        <p:spPr>
          <a:xfrm>
            <a:off x="3429000" y="4800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4"/>
          <p:cNvSpPr/>
          <p:nvPr/>
        </p:nvSpPr>
        <p:spPr>
          <a:xfrm>
            <a:off x="3429000" y="49528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5"/>
          <p:cNvSpPr/>
          <p:nvPr/>
        </p:nvSpPr>
        <p:spPr>
          <a:xfrm>
            <a:off x="34290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6"/>
          <p:cNvSpPr/>
          <p:nvPr/>
        </p:nvSpPr>
        <p:spPr>
          <a:xfrm>
            <a:off x="3429000" y="52578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7"/>
          <p:cNvSpPr/>
          <p:nvPr/>
        </p:nvSpPr>
        <p:spPr>
          <a:xfrm>
            <a:off x="3429000" y="54100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8"/>
          <p:cNvSpPr/>
          <p:nvPr/>
        </p:nvSpPr>
        <p:spPr>
          <a:xfrm>
            <a:off x="3429000" y="5562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9"/>
          <p:cNvSpPr/>
          <p:nvPr/>
        </p:nvSpPr>
        <p:spPr>
          <a:xfrm>
            <a:off x="3429000" y="57150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0"/>
          <p:cNvSpPr/>
          <p:nvPr/>
        </p:nvSpPr>
        <p:spPr>
          <a:xfrm>
            <a:off x="6858000" y="1905120"/>
            <a:ext cx="1371600" cy="761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1"/>
          <p:cNvSpPr/>
          <p:nvPr/>
        </p:nvSpPr>
        <p:spPr>
          <a:xfrm>
            <a:off x="6858000" y="2971800"/>
            <a:ext cx="137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2"/>
          <p:cNvSpPr/>
          <p:nvPr/>
        </p:nvSpPr>
        <p:spPr>
          <a:xfrm>
            <a:off x="6934320" y="4419720"/>
            <a:ext cx="1371600" cy="761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3"/>
          <p:cNvSpPr/>
          <p:nvPr/>
        </p:nvSpPr>
        <p:spPr>
          <a:xfrm>
            <a:off x="6934320" y="5410080"/>
            <a:ext cx="137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4"/>
          <p:cNvSpPr/>
          <p:nvPr/>
        </p:nvSpPr>
        <p:spPr>
          <a:xfrm flipV="1">
            <a:off x="2666880" y="2209680"/>
            <a:ext cx="6858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5"/>
          <p:cNvSpPr/>
          <p:nvPr/>
        </p:nvSpPr>
        <p:spPr>
          <a:xfrm>
            <a:off x="2666880" y="3352680"/>
            <a:ext cx="76212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6"/>
          <p:cNvSpPr/>
          <p:nvPr/>
        </p:nvSpPr>
        <p:spPr>
          <a:xfrm flipV="1">
            <a:off x="4952880" y="2057040"/>
            <a:ext cx="19051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7"/>
          <p:cNvSpPr/>
          <p:nvPr/>
        </p:nvSpPr>
        <p:spPr>
          <a:xfrm>
            <a:off x="4952880" y="23623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8"/>
          <p:cNvSpPr/>
          <p:nvPr/>
        </p:nvSpPr>
        <p:spPr>
          <a:xfrm>
            <a:off x="5029200" y="4495680"/>
            <a:ext cx="19051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9"/>
          <p:cNvSpPr/>
          <p:nvPr/>
        </p:nvSpPr>
        <p:spPr>
          <a:xfrm>
            <a:off x="5029200" y="4724280"/>
            <a:ext cx="1905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0"/>
          <p:cNvSpPr/>
          <p:nvPr/>
        </p:nvSpPr>
        <p:spPr>
          <a:xfrm>
            <a:off x="1128240" y="2629080"/>
            <a:ext cx="12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Index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1"/>
          <p:cNvSpPr/>
          <p:nvPr/>
        </p:nvSpPr>
        <p:spPr>
          <a:xfrm>
            <a:off x="3429000" y="1676520"/>
            <a:ext cx="163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2nd level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2423880" y="453384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5792760" y="40384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8C92D-A4A0-4683-9938-4BABA1619FB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bined Scheme: UNIX (4K bytes per block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1143000" y="1676520"/>
            <a:ext cx="1752480" cy="426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"/>
          <p:cNvSpPr/>
          <p:nvPr/>
        </p:nvSpPr>
        <p:spPr>
          <a:xfrm>
            <a:off x="1143000" y="1981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143000" y="2209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6"/>
          <p:cNvSpPr/>
          <p:nvPr/>
        </p:nvSpPr>
        <p:spPr>
          <a:xfrm>
            <a:off x="1143000" y="24382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1143000" y="26668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8"/>
          <p:cNvSpPr/>
          <p:nvPr/>
        </p:nvSpPr>
        <p:spPr>
          <a:xfrm>
            <a:off x="1143000" y="2895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9"/>
          <p:cNvSpPr/>
          <p:nvPr/>
        </p:nvSpPr>
        <p:spPr>
          <a:xfrm>
            <a:off x="1143000" y="51814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10"/>
          <p:cNvSpPr/>
          <p:nvPr/>
        </p:nvSpPr>
        <p:spPr>
          <a:xfrm>
            <a:off x="1143000" y="54100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"/>
          <p:cNvSpPr/>
          <p:nvPr/>
        </p:nvSpPr>
        <p:spPr>
          <a:xfrm>
            <a:off x="1143000" y="563868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2"/>
          <p:cNvSpPr/>
          <p:nvPr/>
        </p:nvSpPr>
        <p:spPr>
          <a:xfrm>
            <a:off x="1753200" y="16765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3"/>
          <p:cNvSpPr/>
          <p:nvPr/>
        </p:nvSpPr>
        <p:spPr>
          <a:xfrm>
            <a:off x="1599840" y="236232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ze 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1677600" y="1905120"/>
            <a:ext cx="72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wn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1523160" y="213372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imestam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1752840" y="25909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7"/>
          <p:cNvSpPr/>
          <p:nvPr/>
        </p:nvSpPr>
        <p:spPr>
          <a:xfrm>
            <a:off x="1447560" y="3809880"/>
            <a:ext cx="11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8"/>
          <p:cNvSpPr/>
          <p:nvPr/>
        </p:nvSpPr>
        <p:spPr>
          <a:xfrm>
            <a:off x="1445760" y="510552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ngle in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9"/>
          <p:cNvSpPr/>
          <p:nvPr/>
        </p:nvSpPr>
        <p:spPr>
          <a:xfrm>
            <a:off x="1369800" y="533412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uble in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0"/>
          <p:cNvSpPr/>
          <p:nvPr/>
        </p:nvSpPr>
        <p:spPr>
          <a:xfrm>
            <a:off x="1370520" y="563868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iple indir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1"/>
          <p:cNvSpPr/>
          <p:nvPr/>
        </p:nvSpPr>
        <p:spPr>
          <a:xfrm>
            <a:off x="4495680" y="220968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495680" y="22096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3"/>
          <p:cNvSpPr/>
          <p:nvPr/>
        </p:nvSpPr>
        <p:spPr>
          <a:xfrm>
            <a:off x="4267080" y="175248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4"/>
          <p:cNvSpPr/>
          <p:nvPr/>
        </p:nvSpPr>
        <p:spPr>
          <a:xfrm>
            <a:off x="4267080" y="17524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5"/>
          <p:cNvSpPr/>
          <p:nvPr/>
        </p:nvSpPr>
        <p:spPr>
          <a:xfrm>
            <a:off x="4191120" y="2590920"/>
            <a:ext cx="533160" cy="304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6"/>
          <p:cNvSpPr/>
          <p:nvPr/>
        </p:nvSpPr>
        <p:spPr>
          <a:xfrm>
            <a:off x="4191120" y="25909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7"/>
          <p:cNvSpPr/>
          <p:nvPr/>
        </p:nvSpPr>
        <p:spPr>
          <a:xfrm>
            <a:off x="4191120" y="4343400"/>
            <a:ext cx="53316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4191120" y="43434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9"/>
          <p:cNvSpPr/>
          <p:nvPr/>
        </p:nvSpPr>
        <p:spPr>
          <a:xfrm>
            <a:off x="5562720" y="4572000"/>
            <a:ext cx="53316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5562720" y="4572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1"/>
          <p:cNvSpPr/>
          <p:nvPr/>
        </p:nvSpPr>
        <p:spPr>
          <a:xfrm>
            <a:off x="5638680" y="502920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2"/>
          <p:cNvSpPr/>
          <p:nvPr/>
        </p:nvSpPr>
        <p:spPr>
          <a:xfrm>
            <a:off x="5638680" y="50292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7315200" y="472428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4"/>
          <p:cNvSpPr/>
          <p:nvPr/>
        </p:nvSpPr>
        <p:spPr>
          <a:xfrm>
            <a:off x="7315200" y="472428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8229600" y="4876920"/>
            <a:ext cx="533520" cy="304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6"/>
          <p:cNvSpPr/>
          <p:nvPr/>
        </p:nvSpPr>
        <p:spPr>
          <a:xfrm>
            <a:off x="8229600" y="487692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7"/>
          <p:cNvSpPr/>
          <p:nvPr/>
        </p:nvSpPr>
        <p:spPr>
          <a:xfrm>
            <a:off x="7543800" y="5334120"/>
            <a:ext cx="533520" cy="3045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8"/>
          <p:cNvSpPr/>
          <p:nvPr/>
        </p:nvSpPr>
        <p:spPr>
          <a:xfrm>
            <a:off x="7543800" y="52578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9"/>
          <p:cNvSpPr/>
          <p:nvPr/>
        </p:nvSpPr>
        <p:spPr>
          <a:xfrm>
            <a:off x="7238880" y="5715000"/>
            <a:ext cx="533520" cy="3049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0"/>
          <p:cNvSpPr/>
          <p:nvPr/>
        </p:nvSpPr>
        <p:spPr>
          <a:xfrm>
            <a:off x="7238880" y="5715000"/>
            <a:ext cx="5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1"/>
          <p:cNvSpPr/>
          <p:nvPr/>
        </p:nvSpPr>
        <p:spPr>
          <a:xfrm>
            <a:off x="4648320" y="5562720"/>
            <a:ext cx="15228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4038480" y="5181480"/>
            <a:ext cx="15264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43"/>
          <p:cNvSpPr/>
          <p:nvPr/>
        </p:nvSpPr>
        <p:spPr>
          <a:xfrm flipV="1">
            <a:off x="2895480" y="1904760"/>
            <a:ext cx="13716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44"/>
          <p:cNvSpPr/>
          <p:nvPr/>
        </p:nvSpPr>
        <p:spPr>
          <a:xfrm flipV="1">
            <a:off x="2895480" y="23623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45"/>
          <p:cNvSpPr/>
          <p:nvPr/>
        </p:nvSpPr>
        <p:spPr>
          <a:xfrm flipV="1">
            <a:off x="2895480" y="281916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46"/>
          <p:cNvSpPr/>
          <p:nvPr/>
        </p:nvSpPr>
        <p:spPr>
          <a:xfrm flipV="1">
            <a:off x="2895480" y="44956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47"/>
          <p:cNvSpPr/>
          <p:nvPr/>
        </p:nvSpPr>
        <p:spPr>
          <a:xfrm>
            <a:off x="289548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8"/>
          <p:cNvSpPr/>
          <p:nvPr/>
        </p:nvSpPr>
        <p:spPr>
          <a:xfrm>
            <a:off x="2895480" y="5486400"/>
            <a:ext cx="1752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9"/>
          <p:cNvSpPr/>
          <p:nvPr/>
        </p:nvSpPr>
        <p:spPr>
          <a:xfrm flipV="1">
            <a:off x="4191120" y="4724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0"/>
          <p:cNvSpPr/>
          <p:nvPr/>
        </p:nvSpPr>
        <p:spPr>
          <a:xfrm flipV="1">
            <a:off x="4191120" y="5257440"/>
            <a:ext cx="14475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1"/>
          <p:cNvSpPr/>
          <p:nvPr/>
        </p:nvSpPr>
        <p:spPr>
          <a:xfrm>
            <a:off x="5486400" y="5410080"/>
            <a:ext cx="15228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2"/>
          <p:cNvSpPr/>
          <p:nvPr/>
        </p:nvSpPr>
        <p:spPr>
          <a:xfrm>
            <a:off x="5486400" y="5867280"/>
            <a:ext cx="15228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53"/>
          <p:cNvSpPr/>
          <p:nvPr/>
        </p:nvSpPr>
        <p:spPr>
          <a:xfrm flipV="1">
            <a:off x="4800600" y="556236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4"/>
          <p:cNvSpPr/>
          <p:nvPr/>
        </p:nvSpPr>
        <p:spPr>
          <a:xfrm>
            <a:off x="4800600" y="579132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55"/>
          <p:cNvSpPr/>
          <p:nvPr/>
        </p:nvSpPr>
        <p:spPr>
          <a:xfrm flipV="1">
            <a:off x="5638680" y="487656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6"/>
          <p:cNvSpPr/>
          <p:nvPr/>
        </p:nvSpPr>
        <p:spPr>
          <a:xfrm flipV="1">
            <a:off x="5638680" y="5028840"/>
            <a:ext cx="2590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57"/>
          <p:cNvSpPr/>
          <p:nvPr/>
        </p:nvSpPr>
        <p:spPr>
          <a:xfrm flipV="1">
            <a:off x="5638680" y="548640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8"/>
          <p:cNvSpPr/>
          <p:nvPr/>
        </p:nvSpPr>
        <p:spPr>
          <a:xfrm flipV="1">
            <a:off x="5638680" y="59432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Space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it Vector (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n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blocks) - bit map of free block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lock number calcula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umber of bits per word) 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umber of 0-value words)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set of 1st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it map requires extra spac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.  Block size = 2^12 bytes, Disk size   = 2^3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= 2^30/2^12  = 2^18 bits ( or 32K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asy to get contiguous file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11960" indent="-3474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xample: BSD File system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990720" y="2743200"/>
            <a:ext cx="3047760" cy="30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12952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6"/>
          <p:cNvSpPr/>
          <p:nvPr/>
        </p:nvSpPr>
        <p:spPr>
          <a:xfrm>
            <a:off x="16002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7"/>
          <p:cNvSpPr/>
          <p:nvPr/>
        </p:nvSpPr>
        <p:spPr>
          <a:xfrm>
            <a:off x="19051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>
            <a:off x="22096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10"/>
          <p:cNvSpPr/>
          <p:nvPr/>
        </p:nvSpPr>
        <p:spPr>
          <a:xfrm>
            <a:off x="28195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11"/>
          <p:cNvSpPr/>
          <p:nvPr/>
        </p:nvSpPr>
        <p:spPr>
          <a:xfrm>
            <a:off x="312408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12"/>
          <p:cNvSpPr/>
          <p:nvPr/>
        </p:nvSpPr>
        <p:spPr>
          <a:xfrm>
            <a:off x="342900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13"/>
          <p:cNvSpPr/>
          <p:nvPr/>
        </p:nvSpPr>
        <p:spPr>
          <a:xfrm>
            <a:off x="3733920" y="2743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4724280" y="25909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it[i]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5"/>
          <p:cNvSpPr/>
          <p:nvPr/>
        </p:nvSpPr>
        <p:spPr>
          <a:xfrm>
            <a:off x="99180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6"/>
          <p:cNvSpPr/>
          <p:nvPr/>
        </p:nvSpPr>
        <p:spPr>
          <a:xfrm>
            <a:off x="129636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1601280" y="24382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8"/>
          <p:cNvSpPr/>
          <p:nvPr/>
        </p:nvSpPr>
        <p:spPr>
          <a:xfrm>
            <a:off x="3734280" y="2438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5709960" y="2743200"/>
            <a:ext cx="225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implies block[i] occup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711760" y="2438280"/>
            <a:ext cx="187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implies block[i] fre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21"/>
          <p:cNvSpPr/>
          <p:nvPr/>
        </p:nvSpPr>
        <p:spPr>
          <a:xfrm>
            <a:off x="5486400" y="2362320"/>
            <a:ext cx="228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{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Space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inked list (free list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linked list of free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get contiguous space easily, not very efficient because linked list needs travers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ste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inked list of indices - Grouping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linked list of index blocks. Each index block contains addresses of free blocks and a pointer to the next index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find a large number of free blocks contiguou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Counting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of contiguous blocks that are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list node contains pointer and number of free blocks starting from that add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ree Space Manage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ed to protec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ointer to free li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it map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be kept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y in memory and disk may diff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allow for block[i] to have a situation where bit[i] = 1 in memory and bit[i] = 0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it[i] = 1 i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cate block[i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it[i] = 1 in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ory Implem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inear list of file names with pointers to the data block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imple to program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ime-consuming to execute - linear search to find entr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orted list helps - allows binary search and decreases search tim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Hash Table - linear list with hash data structur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ecreases directory search tim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llisions - situations where two file names hash to the same location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ach hash entry can be a linked list - resolve collisions by adding new entry to linked list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Attribu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ame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ic file-name, only information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ype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ystems that support multiple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Location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to a device and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ize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file size, maximal possib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tection -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s who can read, write,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7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ime, Date and user identification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lnSpc>
                <a:spcPct val="7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protection, security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formation about files are kept in the directory structure, maintained on disk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fficiency and Perform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Efficiency dependent on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llocation and directo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data kept in the file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llocation of kerne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erformance improved by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On-board cache - 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or disk controller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Disk Cache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- separate section of main memory for frequently used blocks.  Block replacement mechanis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ee-beh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removes block from buffer as soon as next block is reque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d-ahe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request block and several subsequent blocks are read and c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Improve PC performance by dedicating section of memory as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virtual disk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or RAM </a:t>
            </a: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disk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cover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sure that system failure does not result in loss of data or data inconsistency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istency check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mpares data in directory structure with data blocks on disk and tries to fix inconsistenci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Backup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Use system programs to back up data from disk to another storage device (floppy disk, magnetic tape)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to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cover lost file or disk by restoring data from backup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Ope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 file is an abstract data type. It can be defined by operations: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reate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Write 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ad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position within file - file seek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elete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Truncate a fil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Open(Fi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the directory structure on disk for entry Fi, and move the content of entry to mem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ose(Fi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the content of entry Fi in memory to directory structure on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types - name.extens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9" name="Object 3"/>
          <p:cNvGraphicFramePr/>
          <p:nvPr/>
        </p:nvGraphicFramePr>
        <p:xfrm>
          <a:off x="533520" y="1295280"/>
          <a:ext cx="8159760" cy="520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95280"/>
                    <a:ext cx="8159760" cy="52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ory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umber of files on a system can be extensiv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 file systems into partitions ( treated as a separate storage devi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 information about files within part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evice Directory: A collection of nodes containing information about all files on  a partition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oth the directory structure and files reside on disk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Backups of these two structures are kept on tape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formation in a Device Director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Nam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le Type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ddress or Loc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urrent Length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ximum Length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Date created, Date last accessed (for archival), Date last updated (for dump)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Owner ID (who pays), Protection information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so on a per file, per process basi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osition - read/write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ge 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