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D18F-CE71-4165-B134-86557FB0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CFB-8BC3-448F-A99B-BE990A85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F65F-0061-4E24-BEB1-4ABB23CC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ACF-BC4E-415E-8FBD-926330C4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535B-42CA-45C2-9AAE-B3F04EA3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B20D5-0A91-406F-935D-C3A73458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EDC-ACE6-4B2A-B7D5-6CC5432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8AAC-9D42-4231-B431-408AB5E3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3751-BA0C-4F69-B6A3-99A3F01F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0629-8978-4433-84BA-743166C6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0A7-91EA-4018-8BCC-4841B6EB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502A-AC91-4916-9C8A-38FCD6BC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CE06-A315-49AC-AE4B-455982A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CD99-D5EF-48A5-B299-B6A0D07D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910C-1158-4936-835D-A66C40CB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A053-D54B-4F20-874D-55934FDE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82E3-D7CB-4514-97FA-087500340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3D0-27C1-4FF2-A4DB-F6BB526B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ECAF-50B8-44FD-BCD8-9B195593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E5DD-DC6B-4D5E-B285-CD58B44E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E8C-6628-4884-94F7-E70AEED3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1347-8B85-47F8-B490-437B50DD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1E4-0457-46D4-88B5-581AACE6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B39-28FD-4DB8-97EC-746C4153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31EF-7729-4F4C-B22C-472265C9B44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541-1505-406C-B1A4-C8FAC3A2C5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52600" y="2743200"/>
            <a:ext cx="647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Instructors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Fu-Chiung Cheng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鄭福炯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Associate Profess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Computer Science &amp; Engine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Tatung Institute of Technol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C26-8EE8-40E5-83A9-D4A8E09BB7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3640" y="1743120"/>
            <a:ext cx="811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process ha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text: machine instructions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may be shared by other process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t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may execute either in user mode and in kern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information are stored in two plac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ta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ser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6340-C7E9-4450-AEA0-406ABB3F91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mode and Kernel mo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1000" y="1895400"/>
            <a:ext cx="86619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t any given instant a computer running the Unix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s either executing a process or the kernel itself is ru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computer is in user mode when it is execut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structions in a user process and it is in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it is executing instructions in the ker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uting System call ==&gt; User mode to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erform I/O oper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lock interru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864-75AF-4C04-BE34-9432A7848E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760" y="1676520"/>
            <a:ext cx="846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table: an entry in process table has the follow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form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stat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. running in user mode or 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. Ready in memory or Ready but swapp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C. Sleep in memory or sleep and swapp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ID: process 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UID: user i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cheduling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signals that is sent to the process but not yet handl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 pointer to per-process-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is a single process table for the entir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F20-AFFF-44E0-851C-2CCFE189F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Table (u area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91480" y="1743120"/>
            <a:ext cx="8327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process has only one private user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table contains information that must be accessibl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ile the process is in execution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A pointer to the process table sl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arameters of the current system call, return valu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rror c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descriptors for all open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current directory and current roo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and file size limit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table is an extension of the process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1766-A4B9-42FB-A08B-ADA06B044C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4648320"/>
            <a:ext cx="1676520" cy="7617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 are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14479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iv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505320"/>
            <a:ext cx="8381880" cy="144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3760" y="306216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esid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5080" y="3443400"/>
            <a:ext cx="19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wapp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19810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914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5146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808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33920" y="4648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51814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4114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1905120"/>
            <a:ext cx="838080" cy="22860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1905120"/>
            <a:ext cx="0" cy="281916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4876920"/>
            <a:ext cx="129564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541008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434340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7480" y="594360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67480" y="3809880"/>
            <a:ext cx="129564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629400" y="228600"/>
            <a:ext cx="0" cy="640080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715000" y="419076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4876920"/>
            <a:ext cx="1828800" cy="1371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715000" y="525744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6040" y="152280"/>
            <a:ext cx="15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462480" y="5715000"/>
            <a:ext cx="22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-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2000" y="3886200"/>
            <a:ext cx="138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32080" y="22860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rn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81600" y="22860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p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35D9-3A54-4F0D-ADCA-9E902B69F5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hared Program Text and Software Librar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3280" y="1819440"/>
            <a:ext cx="8449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any programs, such as shell, are often be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uted by several users simultaneously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text (program) part can be sha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order to be shared, a program must be compiled u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special option that arranges the process image so th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variable part(data and stack) and the fixed part (tex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re cleanly separated.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 extension to the idea of sharing text is shar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ibr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ithout shared libraries, all the executing program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ntain their own copi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96F-1F34-4109-B05D-BEC5207DC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312408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Activ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36576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25909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4191120"/>
            <a:ext cx="2286000" cy="53316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057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4648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51814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4114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86600" y="48769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54100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86600" y="43434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86600" y="59436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8098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715000" y="419076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4876920"/>
            <a:ext cx="1828800" cy="1371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5257440"/>
            <a:ext cx="182880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6040" y="152280"/>
            <a:ext cx="15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62480" y="5715000"/>
            <a:ext cx="223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er-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3880" y="0"/>
            <a:ext cx="138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eg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82880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2362320"/>
            <a:ext cx="2057400" cy="5331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1295280"/>
            <a:ext cx="2057400" cy="5335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6600" y="220968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86600" y="27432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86600" y="32767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38280" y="3429000"/>
            <a:ext cx="213372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38280" y="1599840"/>
            <a:ext cx="137160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62720" y="1676520"/>
            <a:ext cx="1981080" cy="236196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86600" y="1143000"/>
            <a:ext cx="1295280" cy="53352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6600" y="1676520"/>
            <a:ext cx="1295280" cy="533160"/>
          </a:xfrm>
          <a:prstGeom prst="rect">
            <a:avLst/>
          </a:prstGeom>
          <a:solidFill>
            <a:srgbClr val="66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562720" y="1981080"/>
            <a:ext cx="1981080" cy="15264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62720" y="1447560"/>
            <a:ext cx="1981080" cy="1143000"/>
          </a:xfrm>
          <a:prstGeom prst="line">
            <a:avLst/>
          </a:prstGeom>
          <a:ln cap="sq" w="38160">
            <a:solidFill>
              <a:srgbClr val="cc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3720" y="377352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eferen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unt =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813-2BFC-4305-9711-430E08DB57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8400" y="1676520"/>
            <a:ext cx="85640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cess accesses system resources through system c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all f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Control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ork: create a new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wait: allow a parent process to synchronize it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ecution with the exit of a child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ec: invoke a new pro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exit: terminate process exec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syste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: open, read, write, lseek, clo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inode: chdir, chown chmod, stat fst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others: pipe dup, mount, unmount, link, unlin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12E-E13F-4237-B0B3-DC4E85CB8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ork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5520" y="1893960"/>
            <a:ext cx="8460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ork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: the only way for a user to create a process in Uni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perating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process that invokes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ork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is called par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d the newly created process is called child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syntax of fork system cal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newpid = fork(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n return from fork system call, the two processes hav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dentical copies of their user-level context except for th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return value pid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parent process, newpid = child process 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child process, newpid = 0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04E-AED8-4F6A-9089-4B2092F74F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25600" y="914400"/>
            <a:ext cx="66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\n", fpid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\n", fpid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\n", fpid);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6120" y="263520"/>
            <a:ext cx="406692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1.c -o fork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70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70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8416-0613-4EC5-923C-92C961D5B5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: 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1520" y="1895400"/>
            <a:ext cx="827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perating System: a system that manages the resour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a compu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sources: CPUs, Memory, I/O devices, Networ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Kernel: the memory resident portion of Unix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 system and process control system are two maj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nents of Unix Kern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A41-2AF2-4101-9BC5-508619E1C9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49120" y="266760"/>
            <a:ext cx="455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2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ystem("ps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ystem("ps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=%d\n", fpid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53600" y="74520"/>
            <a:ext cx="4062240" cy="667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8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7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1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2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0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77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78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   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1 pts/9    0:00 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80 pts/9    0:00 fork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5181480"/>
            <a:ext cx="396252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D9AD-D3BD-4C26-8E27-1935B8500E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zh-TW" sz="4400" spc="-1" strike="noStrike">
                <a:solidFill>
                  <a:srgbClr val="ffcc66"/>
                </a:solidFill>
                <a:latin typeface="Arial"/>
              </a:rPr>
              <a:t>getpid() getppid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9200" y="1971720"/>
            <a:ext cx="851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process has a unique process id (PID)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ID is an integer, typically in the range 0 through 3000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Kernel assigns the PID when a new process is cre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 can obtain their PID by calling getpid(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process has a parent process and a correspo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arent process I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 can obtain their parent’s PID by call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getppid(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E3BA-D4A0-4364-AED5-2DE620A923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90600" y="228600"/>
            <a:ext cx="837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/* pid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pid=%d ppid=%d\n",getpid(), getppid()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4343400"/>
            <a:ext cx="396216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cc pid.c -o p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pi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pid=14935 ppid=1475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B75-3C8B-46D8-B504-F17AE6A9BC7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5880" y="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forkEx3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548-86AE-4F2D-BC5C-E0192D2076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93960" y="1295280"/>
            <a:ext cx="7386120" cy="411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3.c -o fork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42 pid=14941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942 pid=14941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hild Process fpid=0 pid=14942 ppid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pid=14942 ppid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0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5CBE-E950-4D8B-A80B-12D9A6BB79A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ait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360" y="1971720"/>
            <a:ext cx="714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ait system call allows a parent process to wa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r the demise of a child proces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e forkEx4.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9DE-24BC-46F6-9BB3-8EA0704FF4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56040" y="-9540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, statu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(&amp;statu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0593-C13E-425B-8DB3-A11A6F2B53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841320" y="2286000"/>
            <a:ext cx="738612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forkEx4.c -o fork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fork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80 pid=14979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 pid=14980 ppid=1497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0 pid=14980 ppid=1497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After forking fpid=14980 pid=14979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078-7D1A-484D-A863-4624E39377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ec(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3160" y="1971720"/>
            <a:ext cx="8562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() system call invokes another program by repla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current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No new process table entry is created for exec() pro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us, the total number of processes in the system isn’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x different exec func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lp, execvp, execl, execv, execle, execve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see man page for more detail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ec system call allows a process to choose its success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6E3-428C-48F8-9C14-CDA801D66D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79320" y="217440"/>
            <a:ext cx="4929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/* execEx1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printf("Before execing ...\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execl("/bin/date", "date", 0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printf("After exec\n");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4720" y="4800600"/>
            <a:ext cx="51656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execEx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Before execing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Sun May  9 16:39:17 CST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384-FC43-4215-ABFA-191B7EBB10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2057400"/>
            <a:ext cx="4724280" cy="4495680"/>
          </a:xfrm>
          <a:prstGeom prst="ellipse">
            <a:avLst/>
          </a:prstGeom>
          <a:solidFill>
            <a:srgbClr val="ff00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2590920"/>
            <a:ext cx="3581640" cy="3352680"/>
          </a:xfrm>
          <a:prstGeom prst="ellipse">
            <a:avLst/>
          </a:prstGeom>
          <a:solidFill>
            <a:srgbClr val="ff00f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3124080"/>
            <a:ext cx="2590920" cy="2286000"/>
          </a:xfrm>
          <a:prstGeom prst="ellipse">
            <a:avLst/>
          </a:prstGeom>
          <a:solidFill>
            <a:srgbClr val="cc99f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rchitecture of Unix 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3657600"/>
            <a:ext cx="1371600" cy="1219320"/>
          </a:xfrm>
          <a:prstGeom prst="ellipse">
            <a:avLst/>
          </a:prstGeom>
          <a:solidFill>
            <a:srgbClr val="ff9933"/>
          </a:soli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62320" y="32004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7800" y="2666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73960" y="2743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960" y="31240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6240" y="38098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4160" y="44956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6400" y="51055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gre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8120" y="4038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3040" y="541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0400" y="45720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424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4440" y="35053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cp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838080" y="3124080"/>
            <a:ext cx="914400" cy="5335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38080" y="4952880"/>
            <a:ext cx="914400" cy="53352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21337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Times New Roman"/>
              </a:rPr>
              <a:t>ema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10400" y="59436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ap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82800" y="2403360"/>
            <a:ext cx="356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S interacts directly with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hardwa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ch OS is calle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ystem kern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CF44-4FBA-426C-A487-2B5A551E02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9920" y="228600"/>
            <a:ext cx="7381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/* execEx2.c */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unistd.h&gt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int fpid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Before execing ...\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execl("/bin/date", "date", 0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printf("After exec and fpid=%d\n",fpid);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78120" y="1447920"/>
            <a:ext cx="5463000" cy="2226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execEx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Before execing 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After exec and fpid=1490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 Sun May  9 16:47:08 CST 199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7F7-B776-446E-9209-9AF0BA0D9F3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Sig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9200" y="1971720"/>
            <a:ext cx="8440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signal is a message from one process to another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 are sometime called “software interrupt”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s usually occur asynchronous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gnals can be se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by one process to anther (or to itself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y the kernel to a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nix signals are content-free. That is the only thing tha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n be said about a signal is “it has arrived or not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A18-5E40-4181-A0C7-3251DEF877A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ndling Sign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8840" y="1971720"/>
            <a:ext cx="8731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ost signals have predefined meaning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ighup (HangUp): when a terminal is closed,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hangup signal is sent to every process in control termina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igint (interrupt): ask politely a process to termin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sigquit (quit): ask a process to terminate and produce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dedum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sigkill (kill): force a process to termina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ee signEx1.c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275-D716-4903-8E13-5C3396B4F1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0080" y="-76320"/>
            <a:ext cx="83462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unistd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pid, *status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forking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 = fork(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f (fpid == 0)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Child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or(;;); </a:t>
            </a:r>
            <a:r>
              <a:rPr b="1" lang="zh-TW" sz="2400" spc="-1" strike="noStrike">
                <a:solidFill>
                  <a:srgbClr val="cc00cc"/>
                </a:solidFill>
                <a:latin typeface="Arial"/>
              </a:rPr>
              <a:t>/* loop forever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Parent Process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(status); </a:t>
            </a:r>
            <a:r>
              <a:rPr b="1" lang="zh-TW" sz="2400" spc="-1" strike="noStrike">
                <a:solidFill>
                  <a:srgbClr val="cc00cc"/>
                </a:solidFill>
                <a:latin typeface="Arial"/>
              </a:rPr>
              <a:t>/* wait for child process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After forking fpid=%d pid=%d ppid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pid, getpid(), getppid()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AB11-3098-453F-95CB-51F1A29D2CA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7640" y="1143000"/>
            <a:ext cx="7386120" cy="484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sigEx1.c -o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sigEx1 &amp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forking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arent Process fpid=14989 pid=14988 ppid=1475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Child Process fpid=0 pid=14989 ppid=1498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PID TTY      TIME CM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988 pts/9    0:00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759 pts/9    0:01 tc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14989 pts/9    0:09 sig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kill -9 1498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p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587-9CC9-4C2C-822D-FF77EEC96EF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eduling 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2080" y="1971720"/>
            <a:ext cx="8834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 a time sharing system, the kernel allocates the CPU 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process for a period of time (time slice or time quantum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empts the process and schedules another one when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 slice expired, and reschedules the process to contin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ecution at a later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cheduler use round-robin with multilevel feedba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gorithm to choose which process to be executed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Kernel allocates the CPU to a process for a time s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preempts a process that exceeds its time sli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. feeds it back into one of the several priority queu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A40-FC13-4B37-B180-A0997F026B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Priori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81280" y="24382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wapp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27432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Disk I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1280" y="30481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buff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3526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 for i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4876920"/>
            <a:ext cx="1905120" cy="11430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39625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ait for child ex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26708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45720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6019920"/>
            <a:ext cx="1905120" cy="3045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User level 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3657600"/>
            <a:ext cx="1905120" cy="304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6019920"/>
            <a:ext cx="30456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60" idx="3"/>
            <a:endCxn id="272" idx="2"/>
          </p:cNvCxnSpPr>
          <p:nvPr/>
        </p:nvCxnSpPr>
        <p:spPr>
          <a:xfrm>
            <a:off x="5486040" y="259056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3" name=""/>
          <p:cNvCxnSpPr>
            <a:stCxn id="263" idx="3"/>
            <a:endCxn id="274" idx="2"/>
          </p:cNvCxnSpPr>
          <p:nvPr/>
        </p:nvCxnSpPr>
        <p:spPr>
          <a:xfrm>
            <a:off x="5486040" y="350496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5" name=""/>
          <p:cNvCxnSpPr>
            <a:stCxn id="274" idx="6"/>
            <a:endCxn id="276" idx="2"/>
          </p:cNvCxnSpPr>
          <p:nvPr/>
        </p:nvCxnSpPr>
        <p:spPr>
          <a:xfrm>
            <a:off x="6476760" y="350496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77" name=""/>
          <p:cNvCxnSpPr>
            <a:stCxn id="278" idx="6"/>
            <a:endCxn id="279" idx="2"/>
          </p:cNvCxnSpPr>
          <p:nvPr/>
        </p:nvCxnSpPr>
        <p:spPr>
          <a:xfrm>
            <a:off x="6476760" y="472392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0" name=""/>
          <p:cNvCxnSpPr>
            <a:stCxn id="267" idx="3"/>
            <a:endCxn id="278" idx="2"/>
          </p:cNvCxnSpPr>
          <p:nvPr/>
        </p:nvCxnSpPr>
        <p:spPr>
          <a:xfrm>
            <a:off x="5486040" y="472392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1" name=""/>
          <p:cNvCxnSpPr>
            <a:stCxn id="279" idx="6"/>
            <a:endCxn id="282" idx="2"/>
          </p:cNvCxnSpPr>
          <p:nvPr/>
        </p:nvCxnSpPr>
        <p:spPr>
          <a:xfrm>
            <a:off x="7315200" y="4723920"/>
            <a:ext cx="5342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3" name=""/>
          <p:cNvCxnSpPr>
            <a:stCxn id="282" idx="6"/>
            <a:endCxn id="284" idx="2"/>
          </p:cNvCxnSpPr>
          <p:nvPr/>
        </p:nvCxnSpPr>
        <p:spPr>
          <a:xfrm>
            <a:off x="8153280" y="4723920"/>
            <a:ext cx="4579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85" name=""/>
          <p:cNvCxnSpPr>
            <a:stCxn id="268" idx="3"/>
            <a:endCxn id="270" idx="2"/>
          </p:cNvCxnSpPr>
          <p:nvPr/>
        </p:nvCxnSpPr>
        <p:spPr>
          <a:xfrm>
            <a:off x="5486400" y="6171840"/>
            <a:ext cx="9914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617220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01028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848720" y="4572000"/>
            <a:ext cx="30456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10480" y="457200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33526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24382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10280" y="3352680"/>
            <a:ext cx="304920" cy="30492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267080"/>
            <a:ext cx="51055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7760" y="382428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Kernel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400" y="420516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User M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25680" y="190512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95440" y="191916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Priority Lev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291" name=""/>
          <p:cNvCxnSpPr>
            <a:stCxn id="292" idx="6"/>
            <a:endCxn id="293" idx="2"/>
          </p:cNvCxnSpPr>
          <p:nvPr/>
        </p:nvCxnSpPr>
        <p:spPr>
          <a:xfrm>
            <a:off x="6476760" y="4114440"/>
            <a:ext cx="53388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94" name=""/>
          <p:cNvCxnSpPr>
            <a:stCxn id="265" idx="3"/>
            <a:endCxn id="292" idx="2"/>
          </p:cNvCxnSpPr>
          <p:nvPr/>
        </p:nvCxnSpPr>
        <p:spPr>
          <a:xfrm>
            <a:off x="5486040" y="4114440"/>
            <a:ext cx="68652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cxnSp>
        <p:nvCxnSpPr>
          <p:cNvPr id="295" name=""/>
          <p:cNvCxnSpPr>
            <a:stCxn id="293" idx="6"/>
            <a:endCxn id="296" idx="2"/>
          </p:cNvCxnSpPr>
          <p:nvPr/>
        </p:nvCxnSpPr>
        <p:spPr>
          <a:xfrm>
            <a:off x="7315200" y="4114440"/>
            <a:ext cx="534240" cy="1080"/>
          </a:xfrm>
          <a:prstGeom prst="straightConnector1">
            <a:avLst/>
          </a:prstGeom>
          <a:ln cap="sq" w="12600">
            <a:solidFill>
              <a:srgbClr val="ffffcc"/>
            </a:solidFill>
            <a:miter/>
          </a:ln>
        </p:spPr>
      </p:cxnSp>
      <p:sp>
        <p:nvSpPr>
          <p:cNvPr id="292" name=""/>
          <p:cNvSpPr/>
          <p:nvPr/>
        </p:nvSpPr>
        <p:spPr>
          <a:xfrm>
            <a:off x="6172200" y="3962520"/>
            <a:ext cx="30492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10280" y="3962520"/>
            <a:ext cx="30492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3962520"/>
            <a:ext cx="304560" cy="304560"/>
          </a:xfrm>
          <a:prstGeom prst="flowChartConnector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3E2-FEF6-4F7E-B9CE-1EB03DA7298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Scheduling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Unix System V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0680" y="1981080"/>
            <a:ext cx="880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re are 3 processes A, B, C under the follow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ssumptio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they are created simultaneously with initial priority 60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the clock interrupt the system 60 times per seco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these processes make no system ca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No other process are ready to ru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. CPU usage calculation: </a:t>
            </a:r>
            <a:r>
              <a:rPr b="0" lang="zh-TW" sz="2800" spc="-1" strike="noStrike">
                <a:solidFill>
                  <a:srgbClr val="cc0066"/>
                </a:solidFill>
                <a:latin typeface="Arial"/>
              </a:rPr>
              <a:t>CPU = decay(CPU) = CPU/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. Process priority calculation: </a:t>
            </a:r>
            <a:r>
              <a:rPr b="0" lang="zh-TW" sz="2800" spc="-1" strike="noStrike">
                <a:solidFill>
                  <a:srgbClr val="cc0066"/>
                </a:solidFill>
                <a:latin typeface="Arial"/>
              </a:rPr>
              <a:t>priority = CPU/2 + 60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G. Rescheduling Calculation is done once per secon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EAC-0703-4FF5-81AD-A80CAF871C3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 flipH="1">
            <a:off x="380520" y="246384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000" y="45720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48276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159600" y="48276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 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iority  CPU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99920" y="1320840"/>
            <a:ext cx="165600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3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        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6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61280" y="1320840"/>
            <a:ext cx="160560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3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13280" y="1320840"/>
            <a:ext cx="1604160" cy="5214600"/>
          </a:xfrm>
          <a:prstGeom prst="rect">
            <a:avLst/>
          </a:prstGeom>
          <a:noFill/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 </a:t>
            </a: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75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67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456840" y="353052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456840" y="45975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56840" y="57405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1480" y="2147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40040" y="3240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1480" y="4368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040" y="5450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56840" y="1397160"/>
            <a:ext cx="8001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640" y="110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265-581D-4D97-9135-9F7DF79ED63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52600" y="2743200"/>
            <a:ext cx="647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Instructors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Fu-Chiung Cheng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  <a:ea typeface="標楷體"/>
              </a:rPr>
              <a:t>鄭福炯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Associate Professo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Computer Science &amp; Engineer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cc"/>
                </a:solidFill>
                <a:latin typeface="Times New Roman"/>
              </a:rPr>
              <a:t>Tatung Institute of Technol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6D5-FB21-4DAC-BAC3-83F1423DE8D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nix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00" y="1895400"/>
            <a:ext cx="568368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major tasks of kern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rocess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Device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File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additional Services for Kerne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Virtual Mem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Networ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Network File Syste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perimental Kernel Featur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Multiprocessor sup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Monotype Sort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Lightweight process (thread) suppor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363-EA74-494D-B9A3-6147794667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o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4000" y="1971720"/>
            <a:ext cx="8360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the computer is powered on or rebooted, a shor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uilt-in program (maybe store in ROM) read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lock or two of the disk into memory. These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ontain a loader program, which was placed on the dis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disk is format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loader is started. The loader searches the roo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irectory for /unix or /root/unix and load the file into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em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starts to execu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36A6-870D-4743-9630-39189971D47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first 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1120" y="1971720"/>
            <a:ext cx="8573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initializes its internal data structures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t constructs linked list of free inodes, regions, pag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creates u area and initializes slot 0 of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0 is cre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0 forks, invoking the fork algorithm directl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rom the Kernel. Process 1 is creat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 kernel mode, Process 1 creates user-level contex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regions) and copy code (/etc/init)  to the new reg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1 calls exec (executes init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A67-4D84-4912-A484-A222322DCE7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it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5400" y="1971720"/>
            <a:ext cx="8651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init process is a process dispatcher:spawn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es, allow users to log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it reads /etc/inittab and spawns get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hen a user login successfully, getty goes through a log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dure and execs a login shel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it executes the wait system call, monitoring the deat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its child processes and the death of orphaned 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y exiting pare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6E5-DFA8-4DAD-B1A7-B34EAB89FA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7200" y="152280"/>
            <a:ext cx="2743200" cy="114300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it fork/exe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a getty progrm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o manage the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2895480"/>
            <a:ext cx="3353040" cy="175284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Getty print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login:” message an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aits for someo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o lo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4952880"/>
            <a:ext cx="3352680" cy="175284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login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ints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ssword message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ad the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n check the passwor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791320" y="2971800"/>
            <a:ext cx="33526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The shell ru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ograms for th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user unitl th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user logs of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971800" y="1143000"/>
            <a:ext cx="33526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hen the shel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dies, init wakes u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and fork/exec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getty for the l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2"/>
            <a:endCxn id="324" idx="0"/>
          </p:cNvCxnSpPr>
          <p:nvPr/>
        </p:nvCxnSpPr>
        <p:spPr>
          <a:xfrm>
            <a:off x="1828440" y="1294920"/>
            <a:ext cx="1080" cy="160092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29" name=""/>
          <p:cNvCxnSpPr>
            <a:stCxn id="324" idx="4"/>
            <a:endCxn id="325" idx="2"/>
          </p:cNvCxnSpPr>
          <p:nvPr/>
        </p:nvCxnSpPr>
        <p:spPr>
          <a:xfrm>
            <a:off x="1828440" y="4647960"/>
            <a:ext cx="1143720" cy="118188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0" name=""/>
          <p:cNvCxnSpPr>
            <a:stCxn id="325" idx="1"/>
            <a:endCxn id="324" idx="5"/>
          </p:cNvCxnSpPr>
          <p:nvPr/>
        </p:nvCxnSpPr>
        <p:spPr>
          <a:xfrm flipH="1" flipV="1">
            <a:off x="3014280" y="4390560"/>
            <a:ext cx="448560" cy="82008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1" name=""/>
          <p:cNvCxnSpPr>
            <a:stCxn id="325" idx="7"/>
            <a:endCxn id="326" idx="3"/>
          </p:cNvCxnSpPr>
          <p:nvPr/>
        </p:nvCxnSpPr>
        <p:spPr>
          <a:xfrm flipV="1">
            <a:off x="5833800" y="4466880"/>
            <a:ext cx="448200" cy="74376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2" name=""/>
          <p:cNvCxnSpPr>
            <a:stCxn id="326" idx="1"/>
            <a:endCxn id="327" idx="5"/>
          </p:cNvCxnSpPr>
          <p:nvPr/>
        </p:nvCxnSpPr>
        <p:spPr>
          <a:xfrm flipH="1" flipV="1">
            <a:off x="5833440" y="2638080"/>
            <a:ext cx="448200" cy="59112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cxnSp>
        <p:nvCxnSpPr>
          <p:cNvPr id="333" name=""/>
          <p:cNvCxnSpPr>
            <a:stCxn id="327" idx="3"/>
            <a:endCxn id="324" idx="7"/>
          </p:cNvCxnSpPr>
          <p:nvPr/>
        </p:nvCxnSpPr>
        <p:spPr>
          <a:xfrm flipH="1">
            <a:off x="3014280" y="2638080"/>
            <a:ext cx="448560" cy="515160"/>
          </a:xfrm>
          <a:prstGeom prst="straightConnector1">
            <a:avLst/>
          </a:prstGeom>
          <a:ln cap="sq" w="38160">
            <a:solidFill>
              <a:srgbClr val="00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BF2D-FABD-41CF-A9C2-F90F85A9A27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1840" y="1971720"/>
            <a:ext cx="8073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file system is a collection of files and directories 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disk or tape in standard UNIX file system forma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UNIX file system contains four major part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boot block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uperblock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i-node tabl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data block: file storag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D17E-6120-450F-AED5-8190BBDCC76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ystem Layou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1337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0: bootstra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25909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Block 1: super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362320" y="304812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62320" y="411480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54120" y="33526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62320" y="4572000"/>
            <a:ext cx="304776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+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38280" y="5715000"/>
            <a:ext cx="304812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e las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30440" y="4952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792040" y="312408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2 - n:i-no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89880" y="4572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n+1 - last:Fi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A6F-A1C8-4299-997A-868A9E7E936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oot 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1120" y="1971720"/>
            <a:ext cx="7700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oot block may contains several physical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 that a physical block contains 512 byt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or 1K or 2K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oot block contains a short loader program f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oo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t is blank on other file syste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2CA-B285-45F8-A77D-D2F5A5C5E464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uper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" y="1971720"/>
            <a:ext cx="842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perblock contains key information about a fi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perblock informa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ize of a file system and statu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abel: name of this file syst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ize: the number of logic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ate: the last modification date of super bloc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information of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number of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number of free 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information of data block: free data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information of a superblock is loaded into mem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65E-9AB7-4F19-B790-BAA961FFB5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-nod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91480" y="1971720"/>
            <a:ext cx="584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: index node (information nod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list: the list of i-nod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umber: the index of i-lis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ize of an i-node: 64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0 is reserv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1 is the root direct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-node structure: next p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7084-6049-4719-9769-06B422F6C9B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-node structu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8600" y="3808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8600" y="9144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own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14479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8600" y="19810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30481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lock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3581280"/>
            <a:ext cx="2514600" cy="1447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irect bloc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0-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600" y="5562720"/>
            <a:ext cx="2514600" cy="5331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oub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rip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50292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ngle indir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1752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05320" y="2438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05320" y="3581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2057400"/>
            <a:ext cx="990720" cy="175248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514600" y="2666880"/>
            <a:ext cx="990720" cy="14479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514600" y="3886200"/>
            <a:ext cx="990720" cy="9907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9528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71440" y="27669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629400" y="1752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2438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29400" y="35812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ata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95520" y="276696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590920" y="5257440"/>
            <a:ext cx="990360" cy="15228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410080" y="3962160"/>
            <a:ext cx="1219320" cy="144756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334120" y="1980720"/>
            <a:ext cx="1371600" cy="30481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5334120" y="2666880"/>
            <a:ext cx="1371600" cy="243864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5562720"/>
            <a:ext cx="1828800" cy="5331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0920" y="5867280"/>
            <a:ext cx="990360" cy="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5181480"/>
            <a:ext cx="1828800" cy="53352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553080" y="5791320"/>
            <a:ext cx="1828800" cy="53316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Indirec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334120" y="5409720"/>
            <a:ext cx="1295280" cy="22860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943600"/>
            <a:ext cx="1295280" cy="7632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305920" y="5105160"/>
            <a:ext cx="533160" cy="22860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638680"/>
            <a:ext cx="533160" cy="152640"/>
          </a:xfrm>
          <a:prstGeom prst="line">
            <a:avLst/>
          </a:prstGeom>
          <a:ln cap="sq" w="38160">
            <a:solidFill>
              <a:srgbClr val="00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465400" y="495288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2514600"/>
            <a:ext cx="2514600" cy="5335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ference cou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1556-C7C4-405C-85F3-52D7B2F616F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ock Diagram of System Kerne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1981080"/>
            <a:ext cx="5334120" cy="3812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System Call Interfa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666880"/>
            <a:ext cx="2590920" cy="10670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File 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2666880"/>
            <a:ext cx="3962520" cy="2590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48520" y="2743200"/>
            <a:ext cx="1981080" cy="7621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nter-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3581280"/>
            <a:ext cx="1981080" cy="7621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chedul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419720"/>
            <a:ext cx="1981080" cy="76176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8560" y="3033720"/>
            <a:ext cx="17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subsyst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4038480"/>
            <a:ext cx="2590920" cy="9144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Device driv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410080"/>
            <a:ext cx="7696440" cy="38124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hardwar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943600"/>
            <a:ext cx="83822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6095880"/>
            <a:ext cx="7696440" cy="381240"/>
          </a:xfrm>
          <a:prstGeom prst="rect">
            <a:avLst/>
          </a:prstGeom>
          <a:solidFill>
            <a:srgbClr val="00ff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hardware</a:t>
            </a: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276720"/>
            <a:ext cx="1447920" cy="22860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20968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20968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505320"/>
            <a:ext cx="0" cy="76176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800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800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1523880" cy="38088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Libra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914400"/>
            <a:ext cx="2286000" cy="533520"/>
          </a:xfrm>
          <a:prstGeom prst="rect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User Progra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371600"/>
            <a:ext cx="0" cy="76212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828800"/>
            <a:ext cx="8382240" cy="0"/>
          </a:xfrm>
          <a:prstGeom prst="line">
            <a:avLst/>
          </a:prstGeom>
          <a:ln w="381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1523880"/>
            <a:ext cx="0" cy="60984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1143000"/>
            <a:ext cx="761760" cy="152280"/>
          </a:xfrm>
          <a:prstGeom prst="line">
            <a:avLst/>
          </a:prstGeom>
          <a:ln cap="sq" w="38160">
            <a:solidFill>
              <a:srgbClr val="cc0066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7440" y="138600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User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6720" y="1828800"/>
            <a:ext cx="1485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Kernel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7280" y="642456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ardwar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9B3-9D4A-46D8-9F75-42A5FDB5F4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-node struct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8280" y="1971720"/>
            <a:ext cx="8357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de: A. type: file, directory, pipe, symbolic 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B. Access: read/write/execute (owner, group,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wner: who own this I-node (file, directory, ..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stamp: creation, modification, access ti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ze: the number of by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lock count: the number of data 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 blocks: pointers to the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ngle indirect: pointer to a data block which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pointers to the data blocks (128 data block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ouble indirect: (128*128=16384  data bloc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riple indirect: (128*128*128 data block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F3B3-096D-4086-8E96-A95F93746F5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ata Blo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3640" y="1971720"/>
            <a:ext cx="748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ata block has 512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. Some FS has 1K or 2k bytes per bloc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. See blocks size effect (next pag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ata block may contains data of files or data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director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: a stream of byt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rectory format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518148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09680" y="518148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48120" y="518148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5181480"/>
            <a:ext cx="1981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ile na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67280" y="518148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436-DF9D-45DA-8B2D-985E45A98B0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24080" y="2438280"/>
            <a:ext cx="129564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0066"/>
                </a:solidFill>
                <a:latin typeface="Times New Roman"/>
              </a:rPr>
              <a:t>Report.tx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457200"/>
            <a:ext cx="152424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91120" y="1371600"/>
            <a:ext cx="152388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joh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2438280"/>
            <a:ext cx="15242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b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43400" y="3276720"/>
            <a:ext cx="12956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399" idx="4"/>
            <a:endCxn id="404" idx="0"/>
          </p:cNvCxnSpPr>
          <p:nvPr/>
        </p:nvCxnSpPr>
        <p:spPr>
          <a:xfrm flipH="1">
            <a:off x="2042640" y="838080"/>
            <a:ext cx="184392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5" name=""/>
          <p:cNvCxnSpPr>
            <a:stCxn id="399" idx="4"/>
            <a:endCxn id="406" idx="0"/>
          </p:cNvCxnSpPr>
          <p:nvPr/>
        </p:nvCxnSpPr>
        <p:spPr>
          <a:xfrm flipH="1">
            <a:off x="3871440" y="838080"/>
            <a:ext cx="1512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7" name=""/>
          <p:cNvCxnSpPr>
            <a:stCxn id="399" idx="4"/>
            <a:endCxn id="400" idx="0"/>
          </p:cNvCxnSpPr>
          <p:nvPr/>
        </p:nvCxnSpPr>
        <p:spPr>
          <a:xfrm>
            <a:off x="3886200" y="838080"/>
            <a:ext cx="1967760" cy="53424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8" name=""/>
          <p:cNvCxnSpPr>
            <a:stCxn id="401" idx="0"/>
            <a:endCxn id="400" idx="4"/>
          </p:cNvCxnSpPr>
          <p:nvPr/>
        </p:nvCxnSpPr>
        <p:spPr>
          <a:xfrm flipV="1">
            <a:off x="5486040" y="1751760"/>
            <a:ext cx="36756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09" name=""/>
          <p:cNvCxnSpPr>
            <a:stCxn id="410" idx="0"/>
            <a:endCxn id="400" idx="4"/>
          </p:cNvCxnSpPr>
          <p:nvPr/>
        </p:nvCxnSpPr>
        <p:spPr>
          <a:xfrm flipH="1" flipV="1">
            <a:off x="5852880" y="1751760"/>
            <a:ext cx="131040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11" name=""/>
          <p:cNvCxnSpPr>
            <a:stCxn id="400" idx="4"/>
            <a:endCxn id="398" idx="0"/>
          </p:cNvCxnSpPr>
          <p:nvPr/>
        </p:nvCxnSpPr>
        <p:spPr>
          <a:xfrm flipH="1">
            <a:off x="3771360" y="1752120"/>
            <a:ext cx="208188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12" name=""/>
          <p:cNvCxnSpPr>
            <a:stCxn id="401" idx="4"/>
            <a:endCxn id="402" idx="0"/>
          </p:cNvCxnSpPr>
          <p:nvPr/>
        </p:nvCxnSpPr>
        <p:spPr>
          <a:xfrm>
            <a:off x="5486400" y="2819520"/>
            <a:ext cx="40536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04" name=""/>
          <p:cNvSpPr/>
          <p:nvPr/>
        </p:nvSpPr>
        <p:spPr>
          <a:xfrm>
            <a:off x="1281240" y="14479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al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10040" y="14479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jenn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2438280"/>
            <a:ext cx="15238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Times New Roman"/>
              </a:rPr>
              <a:t>no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9880" y="3276720"/>
            <a:ext cx="12956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gr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1" idx="4"/>
            <a:endCxn id="413" idx="0"/>
          </p:cNvCxnSpPr>
          <p:nvPr/>
        </p:nvCxnSpPr>
        <p:spPr>
          <a:xfrm flipH="1">
            <a:off x="4457520" y="2819520"/>
            <a:ext cx="102888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15" name=""/>
          <p:cNvSpPr/>
          <p:nvPr/>
        </p:nvSpPr>
        <p:spPr>
          <a:xfrm>
            <a:off x="380880" y="457200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95480" y="4572000"/>
            <a:ext cx="1981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Repor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8769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3080" y="457200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91520" y="457200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6248520"/>
            <a:ext cx="91440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3372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#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98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6248520"/>
            <a:ext cx="114300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p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29400" y="6248520"/>
            <a:ext cx="83808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67480" y="6248520"/>
            <a:ext cx="838440" cy="4572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6" idx="0"/>
            <a:endCxn id="430" idx="0"/>
          </p:cNvCxnSpPr>
          <p:nvPr/>
        </p:nvCxnSpPr>
        <p:spPr>
          <a:xfrm flipH="1" rot="16200000">
            <a:off x="5218920" y="4420080"/>
            <a:ext cx="2160" cy="3658320"/>
          </a:xfrm>
          <a:prstGeom prst="curvedConnector5">
            <a:avLst>
              <a:gd name="adj1" fmla="val -24000000"/>
              <a:gd name="adj2" fmla="val 49995"/>
              <a:gd name="adj3" fmla="val -24000000"/>
            </a:avLst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433" name=""/>
          <p:cNvCxnSpPr>
            <a:stCxn id="421" idx="2"/>
            <a:endCxn id="425" idx="0"/>
          </p:cNvCxnSpPr>
          <p:nvPr/>
        </p:nvCxnSpPr>
        <p:spPr>
          <a:xfrm flipH="1">
            <a:off x="2552040" y="5028840"/>
            <a:ext cx="4420440" cy="1220040"/>
          </a:xfrm>
          <a:prstGeom prst="straightConnector1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434" name=""/>
          <p:cNvCxnSpPr>
            <a:stCxn id="416" idx="0"/>
            <a:endCxn id="420" idx="0"/>
          </p:cNvCxnSpPr>
          <p:nvPr/>
        </p:nvCxnSpPr>
        <p:spPr>
          <a:xfrm flipH="1" rot="16200000">
            <a:off x="3885480" y="2324520"/>
            <a:ext cx="2160" cy="4496400"/>
          </a:xfrm>
          <a:prstGeom prst="curvedConnector5">
            <a:avLst>
              <a:gd name="adj1" fmla="val -31200000"/>
              <a:gd name="adj2" fmla="val 49995"/>
              <a:gd name="adj3" fmla="val -31200000"/>
            </a:avLst>
          </a:prstGeom>
          <a:ln cap="sq" w="3816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686A-4007-4369-997F-FBA467F0A02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6629400" y="3733920"/>
            <a:ext cx="1600200" cy="2971800"/>
          </a:xfrm>
          <a:prstGeom prst="rect">
            <a:avLst/>
          </a:prstGeom>
          <a:solidFill>
            <a:srgbClr val="cc00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066680"/>
            <a:ext cx="1600200" cy="266724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8960" y="586728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629400" y="152280"/>
            <a:ext cx="1600200" cy="457200"/>
          </a:xfrm>
          <a:prstGeom prst="rect">
            <a:avLst/>
          </a:prstGeom>
          <a:solidFill>
            <a:srgbClr val="5f5f5f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Boot 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629400" y="609480"/>
            <a:ext cx="1600200" cy="457200"/>
          </a:xfrm>
          <a:prstGeom prst="rect">
            <a:avLst/>
          </a:prstGeom>
          <a:solidFill>
            <a:srgbClr val="cc00cc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SuperBlo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629400" y="106668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178452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29400" y="254628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29400" y="3308400"/>
            <a:ext cx="160020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70480" y="19368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170480" y="12193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164360" y="27432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8" idx="3"/>
            <a:endCxn id="449" idx="1"/>
          </p:cNvCxnSpPr>
          <p:nvPr/>
        </p:nvCxnSpPr>
        <p:spPr>
          <a:xfrm>
            <a:off x="1461600" y="5409720"/>
            <a:ext cx="748440" cy="1080"/>
          </a:xfrm>
          <a:prstGeom prst="bentConnector2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</p:cxnSp>
      <p:sp>
        <p:nvSpPr>
          <p:cNvPr id="450" name=""/>
          <p:cNvSpPr/>
          <p:nvPr/>
        </p:nvSpPr>
        <p:spPr>
          <a:xfrm>
            <a:off x="6629400" y="62485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Current Di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629400" y="541008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Times New Roman"/>
              </a:rPr>
              <a:t>Repor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3" idx="3"/>
            <a:endCxn id="450" idx="3"/>
          </p:cNvCxnSpPr>
          <p:nvPr/>
        </p:nvCxnSpPr>
        <p:spPr>
          <a:xfrm>
            <a:off x="8229600" y="3536640"/>
            <a:ext cx="2160" cy="2940480"/>
          </a:xfrm>
          <a:prstGeom prst="bentConnector3">
            <a:avLst>
              <a:gd name="adj1" fmla="val 14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sp>
        <p:nvSpPr>
          <p:cNvPr id="453" name=""/>
          <p:cNvSpPr/>
          <p:nvPr/>
        </p:nvSpPr>
        <p:spPr>
          <a:xfrm>
            <a:off x="6629400" y="46483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ourc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629400" y="3962520"/>
            <a:ext cx="1600200" cy="457200"/>
          </a:xfrm>
          <a:prstGeom prst="rect">
            <a:avLst/>
          </a:prstGeom>
          <a:solidFill>
            <a:srgbClr val="cc00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no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164360" y="40831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64360" y="484488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64360" y="56833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42" idx="3"/>
            <a:endCxn id="451" idx="3"/>
          </p:cNvCxnSpPr>
          <p:nvPr/>
        </p:nvCxnSpPr>
        <p:spPr>
          <a:xfrm>
            <a:off x="8229600" y="2774520"/>
            <a:ext cx="2160" cy="2864520"/>
          </a:xfrm>
          <a:prstGeom prst="bentConnector3">
            <a:avLst>
              <a:gd name="adj1" fmla="val 276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cxnSp>
        <p:nvCxnSpPr>
          <p:cNvPr id="459" name=""/>
          <p:cNvCxnSpPr>
            <a:stCxn id="441" idx="3"/>
            <a:endCxn id="453" idx="3"/>
          </p:cNvCxnSpPr>
          <p:nvPr/>
        </p:nvCxnSpPr>
        <p:spPr>
          <a:xfrm>
            <a:off x="8229600" y="2012760"/>
            <a:ext cx="2160" cy="2864520"/>
          </a:xfrm>
          <a:prstGeom prst="bentConnector3">
            <a:avLst>
              <a:gd name="adj1" fmla="val 38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cxnSp>
        <p:nvCxnSpPr>
          <p:cNvPr id="460" name=""/>
          <p:cNvCxnSpPr>
            <a:stCxn id="440" idx="3"/>
            <a:endCxn id="454" idx="3"/>
          </p:cNvCxnSpPr>
          <p:nvPr/>
        </p:nvCxnSpPr>
        <p:spPr>
          <a:xfrm>
            <a:off x="8229600" y="1295280"/>
            <a:ext cx="2160" cy="2896560"/>
          </a:xfrm>
          <a:prstGeom prst="bentConnector3">
            <a:avLst>
              <a:gd name="adj1" fmla="val 50400000"/>
            </a:avLst>
          </a:prstGeom>
          <a:ln cap="sq" w="38160">
            <a:solidFill>
              <a:srgbClr val="ffff00"/>
            </a:solidFill>
            <a:miter/>
            <a:tailEnd len="sm" type="triangle" w="sm"/>
          </a:ln>
        </p:spPr>
      </p:cxnSp>
      <p:sp>
        <p:nvSpPr>
          <p:cNvPr id="461" name=""/>
          <p:cNvSpPr/>
          <p:nvPr/>
        </p:nvSpPr>
        <p:spPr>
          <a:xfrm>
            <a:off x="7164360" y="3429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5080" y="10810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i-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60680" y="5880240"/>
            <a:ext cx="134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Data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Block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2209680"/>
            <a:ext cx="1295280" cy="38124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Report.tx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0200" y="22860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71600" y="1143000"/>
            <a:ext cx="152424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k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05120" y="2209680"/>
            <a:ext cx="152388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sourc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4240" y="3048120"/>
            <a:ext cx="12952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fi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69" name=""/>
          <p:cNvCxnSpPr>
            <a:stCxn id="465" idx="4"/>
            <a:endCxn id="470" idx="0"/>
          </p:cNvCxnSpPr>
          <p:nvPr/>
        </p:nvCxnSpPr>
        <p:spPr>
          <a:xfrm flipH="1">
            <a:off x="1052280" y="609480"/>
            <a:ext cx="1310400" cy="61056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1" name=""/>
          <p:cNvCxnSpPr>
            <a:stCxn id="465" idx="4"/>
            <a:endCxn id="466" idx="0"/>
          </p:cNvCxnSpPr>
          <p:nvPr/>
        </p:nvCxnSpPr>
        <p:spPr>
          <a:xfrm>
            <a:off x="2361960" y="609480"/>
            <a:ext cx="672120" cy="53424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2" name=""/>
          <p:cNvCxnSpPr>
            <a:stCxn id="467" idx="0"/>
            <a:endCxn id="466" idx="4"/>
          </p:cNvCxnSpPr>
          <p:nvPr/>
        </p:nvCxnSpPr>
        <p:spPr>
          <a:xfrm flipV="1">
            <a:off x="2666520" y="1523160"/>
            <a:ext cx="36756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3" name=""/>
          <p:cNvCxnSpPr>
            <a:stCxn id="474" idx="0"/>
            <a:endCxn id="466" idx="4"/>
          </p:cNvCxnSpPr>
          <p:nvPr/>
        </p:nvCxnSpPr>
        <p:spPr>
          <a:xfrm flipH="1" flipV="1">
            <a:off x="3033360" y="1523160"/>
            <a:ext cx="131040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5" name=""/>
          <p:cNvCxnSpPr>
            <a:stCxn id="466" idx="4"/>
            <a:endCxn id="464" idx="0"/>
          </p:cNvCxnSpPr>
          <p:nvPr/>
        </p:nvCxnSpPr>
        <p:spPr>
          <a:xfrm flipH="1">
            <a:off x="951840" y="1523520"/>
            <a:ext cx="2081880" cy="6865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cxnSp>
        <p:nvCxnSpPr>
          <p:cNvPr id="476" name=""/>
          <p:cNvCxnSpPr>
            <a:stCxn id="467" idx="4"/>
            <a:endCxn id="468" idx="0"/>
          </p:cNvCxnSpPr>
          <p:nvPr/>
        </p:nvCxnSpPr>
        <p:spPr>
          <a:xfrm>
            <a:off x="2666520" y="2590920"/>
            <a:ext cx="40572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290520" y="1219320"/>
            <a:ext cx="1523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alex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581280" y="2209680"/>
            <a:ext cx="1524240" cy="3812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not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90720" y="3048120"/>
            <a:ext cx="12952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8000"/>
                </a:solidFill>
                <a:latin typeface="Times New Roman"/>
              </a:rPr>
              <a:t>gre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67" idx="4"/>
            <a:endCxn id="477" idx="0"/>
          </p:cNvCxnSpPr>
          <p:nvPr/>
        </p:nvCxnSpPr>
        <p:spPr>
          <a:xfrm flipH="1">
            <a:off x="1638000" y="2590920"/>
            <a:ext cx="1028880" cy="457920"/>
          </a:xfrm>
          <a:prstGeom prst="straightConnector1">
            <a:avLst/>
          </a:prstGeom>
          <a:ln w="38160">
            <a:solidFill>
              <a:srgbClr val="ffffcc"/>
            </a:solidFill>
            <a:miter/>
          </a:ln>
        </p:spPr>
      </p:cxnSp>
      <p:sp>
        <p:nvSpPr>
          <p:cNvPr id="479" name=""/>
          <p:cNvSpPr/>
          <p:nvPr/>
        </p:nvSpPr>
        <p:spPr>
          <a:xfrm>
            <a:off x="318960" y="449568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3581280"/>
            <a:ext cx="2362320" cy="2514600"/>
          </a:xfrm>
          <a:prstGeom prst="irregularSeal1">
            <a:avLst/>
          </a:prstGeom>
          <a:solidFill>
            <a:srgbClr val="66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Device driver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8960" y="4952880"/>
            <a:ext cx="1143000" cy="9144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directo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80" idx="3"/>
            <a:endCxn id="443" idx="1"/>
          </p:cNvCxnSpPr>
          <p:nvPr/>
        </p:nvCxnSpPr>
        <p:spPr>
          <a:xfrm flipV="1">
            <a:off x="6248520" y="3536280"/>
            <a:ext cx="381600" cy="1593000"/>
          </a:xfrm>
          <a:prstGeom prst="bentConnector3">
            <a:avLst>
              <a:gd name="adj1" fmla="val 49952"/>
            </a:avLst>
          </a:prstGeom>
          <a:ln cap="sq" w="38160">
            <a:solidFill>
              <a:srgbClr val="00ccff"/>
            </a:solidFill>
            <a:miter/>
            <a:headEnd len="sm" type="triangle" w="sm"/>
            <a:tailEnd len="sm" type="triangle" w="sm"/>
          </a:ln>
        </p:spPr>
      </p:cxnSp>
      <p:sp>
        <p:nvSpPr>
          <p:cNvPr id="482" name=""/>
          <p:cNvSpPr/>
          <p:nvPr/>
        </p:nvSpPr>
        <p:spPr>
          <a:xfrm>
            <a:off x="230400" y="3976560"/>
            <a:ext cx="12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209680" y="4495680"/>
            <a:ext cx="1219320" cy="187344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09680" y="4495680"/>
            <a:ext cx="1219320" cy="38124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09680" y="5181480"/>
            <a:ext cx="121932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09680" y="5943600"/>
            <a:ext cx="1219320" cy="4572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-nod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52480" y="45720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46360" y="537840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cc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49" idx="3"/>
            <a:endCxn id="480" idx="1"/>
          </p:cNvCxnSpPr>
          <p:nvPr/>
        </p:nvCxnSpPr>
        <p:spPr>
          <a:xfrm flipV="1">
            <a:off x="3429000" y="4583880"/>
            <a:ext cx="457920" cy="826200"/>
          </a:xfrm>
          <a:prstGeom prst="bentConnector3">
            <a:avLst>
              <a:gd name="adj1" fmla="val 49960"/>
            </a:avLst>
          </a:prstGeom>
          <a:ln cap="sq" w="38160">
            <a:solidFill>
              <a:srgbClr val="00ccff"/>
            </a:solidFill>
            <a:miter/>
            <a:headEnd len="sm" type="triangle" w="sm"/>
            <a:tailEnd len="sm" type="triangle" w="sm"/>
          </a:ln>
        </p:spPr>
      </p:cxnSp>
      <p:sp>
        <p:nvSpPr>
          <p:cNvPr id="489" name=""/>
          <p:cNvSpPr/>
          <p:nvPr/>
        </p:nvSpPr>
        <p:spPr>
          <a:xfrm>
            <a:off x="2189880" y="3581280"/>
            <a:ext cx="14655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ff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4BA-D6A1-4F77-927B-1B27B234FD9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-core inod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3280" y="1895400"/>
            <a:ext cx="8566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NIX system keeps regular files and directories on bl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evices such as disk or tap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uch disk space are called physical device address spa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deals on a logical level with file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(logical device address space) rather than with dis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isk driver can transfer logical addresses into phys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evice address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-core (memory resident) inode table stores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information in kernel spac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2B8-1260-45BD-8B13-FF62AB8B182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In-core inod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" y="1895400"/>
            <a:ext cx="6918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n in-core inode contai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all the information of inode in disk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tatus of in-core ino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is locked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ode data chang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ile data chang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the logic device number of the file syste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inode numb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. reference coun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5F2-927C-4D35-80E5-59021D87C19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93640" y="1895400"/>
            <a:ext cx="846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have a global data structure, called file table,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o store information of file ac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ach entry in file table contain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a pointer to in-core inod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the offset of  next read or write in the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access rights (r/w) allowed to the opening proces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. reference c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175-572A-4B1C-9FE7-69F46A3E33C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ser File Descriptor tabl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1480" y="1895400"/>
            <a:ext cx="825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process has a user file descriptor table to identify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opened fi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entry in user file descriptor table pointer to an ent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f kernel’s global file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0: standard in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1: standard outpu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try 2: error output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0C2-206B-45D3-B049-851820402CA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op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3280" y="1819440"/>
            <a:ext cx="8457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pen: A process may open a existing file to read or 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open(pathname, mod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 is the filename to be open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mode: read/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90E0-249F-40F1-9CD2-FCB66766C24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567360" y="1066680"/>
            <a:ext cx="7672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Before open ...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./openEx1.c", O_WR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3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fd2=%d  fd3=%d \n", fd1, fd2, fd3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802400" y="1130400"/>
            <a:ext cx="410796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1.c -o open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Before open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fd2=4  fd3=5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4E6-071B-41A4-A066-6F590EB25FD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 Control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1360" y="2048040"/>
            <a:ext cx="478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Process Synchroniz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Memory management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cheduler: process schedul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  <a:ea typeface="新細明體"/>
              </a:rPr>
              <a:t>(allocate CPU to Process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65B-1586-41DB-AAC4-C9215E65F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NT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./openEx2.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inter 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 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683240" y="1873080"/>
            <a:ext cx="1447560" cy="39182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26" idx="3"/>
            <a:endCxn id="505" idx="1"/>
          </p:cNvCxnSpPr>
          <p:nvPr/>
        </p:nvCxnSpPr>
        <p:spPr>
          <a:xfrm>
            <a:off x="6130800" y="3733560"/>
            <a:ext cx="915120" cy="11055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4" name=""/>
          <p:cNvCxnSpPr>
            <a:endCxn id="504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5" name=""/>
          <p:cNvCxnSpPr>
            <a:stCxn id="528" idx="3"/>
            <a:endCxn id="504" idx="1"/>
          </p:cNvCxnSpPr>
          <p:nvPr/>
        </p:nvCxnSpPr>
        <p:spPr>
          <a:xfrm flipV="1">
            <a:off x="6130800" y="3047400"/>
            <a:ext cx="915120" cy="2515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6" name=""/>
          <p:cNvCxnSpPr>
            <a:stCxn id="516" idx="3"/>
            <a:endCxn id="526" idx="1"/>
          </p:cNvCxnSpPr>
          <p:nvPr/>
        </p:nvCxnSpPr>
        <p:spPr>
          <a:xfrm>
            <a:off x="3692520" y="3543120"/>
            <a:ext cx="991440" cy="1911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7" name=""/>
          <p:cNvCxnSpPr>
            <a:stCxn id="517" idx="3"/>
            <a:endCxn id="528" idx="1"/>
          </p:cNvCxnSpPr>
          <p:nvPr/>
        </p:nvCxnSpPr>
        <p:spPr>
          <a:xfrm>
            <a:off x="3692520" y="3924000"/>
            <a:ext cx="991440" cy="163908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38" name=""/>
          <p:cNvCxnSpPr>
            <a:stCxn id="515" idx="3"/>
            <a:endCxn id="525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328-E4C8-415D-9F28-331854C4295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rea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95080" y="1819440"/>
            <a:ext cx="6104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read: A process may read an opened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read(fd, buffer, count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uffer: data to be stored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count: the number (count) of by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EFB-ABD7-4DA2-BDF8-E0958A1CC73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01680" y="117360"/>
            <a:ext cx="61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2=%s \n",fd1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15880" y="339840"/>
            <a:ext cx="483948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2.c -o open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2=er:/:/sbin/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daem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472B-7EAE-418D-9810-B7AD0DB9072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301680" y="117360"/>
            <a:ext cx="615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2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 buf2=%s \n",fd2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15160" y="339840"/>
            <a:ext cx="492480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3.c -o open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 buf2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BE5-6384-4DCC-B4B1-6D44FEE588EE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83240" y="1873080"/>
            <a:ext cx="1447560" cy="39182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1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576" name=""/>
          <p:cNvCxnSpPr>
            <a:endCxn id="547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7" name=""/>
          <p:cNvCxnSpPr>
            <a:stCxn id="571" idx="3"/>
            <a:endCxn id="547" idx="1"/>
          </p:cNvCxnSpPr>
          <p:nvPr/>
        </p:nvCxnSpPr>
        <p:spPr>
          <a:xfrm flipV="1">
            <a:off x="6130800" y="3047400"/>
            <a:ext cx="915120" cy="2515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8" name=""/>
          <p:cNvCxnSpPr>
            <a:stCxn id="559" idx="3"/>
            <a:endCxn id="571" idx="1"/>
          </p:cNvCxnSpPr>
          <p:nvPr/>
        </p:nvCxnSpPr>
        <p:spPr>
          <a:xfrm>
            <a:off x="3692520" y="3543120"/>
            <a:ext cx="991440" cy="201996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579" name=""/>
          <p:cNvCxnSpPr>
            <a:stCxn id="558" idx="3"/>
            <a:endCxn id="568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D26-70DC-4FD3-94BD-DFA5A780E832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dup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91120" y="1819440"/>
            <a:ext cx="8196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dup: copy a file descriptor into the first free slot of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user file descriptor tab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newfd = dup(fd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032-0EA5-4FDD-8F38-E0A39FAE18C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97360" y="76320"/>
            <a:ext cx="67827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1[19]='\0'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buf2[19]='\0'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dup(fd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1, buf1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read(fd2, buf2, 19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 buf2=%s \n",fd2, buf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   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5160" y="339840"/>
            <a:ext cx="4924800" cy="302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openEx4.c -o open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openEx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root:x:0:1:Super-U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 buf2=er:/:/sbin/s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daem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1EC-39A6-4508-8645-D5E951844FC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045200" y="1873080"/>
            <a:ext cx="1752840" cy="4527720"/>
          </a:xfrm>
          <a:prstGeom prst="rect">
            <a:avLst/>
          </a:prstGeom>
          <a:solidFill>
            <a:srgbClr val="00cc00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45200" y="1873080"/>
            <a:ext cx="1752840" cy="870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045200" y="2666880"/>
            <a:ext cx="1752840" cy="7621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CNT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Arial"/>
              </a:rPr>
              <a:t>/etc/passw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045200" y="4343400"/>
            <a:ext cx="1752840" cy="99072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23680" y="762120"/>
            <a:ext cx="146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-cor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cc00"/>
                </a:solidFill>
                <a:latin typeface="Arial"/>
              </a:rPr>
              <a:t>i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09480" y="25909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script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09480" y="32767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2000" y="1219320"/>
            <a:ext cx="12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U are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09480" y="1905120"/>
            <a:ext cx="1143000" cy="68580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531880" y="380880"/>
            <a:ext cx="1845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User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descriptor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01800" y="1828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701800" y="2209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701800" y="2590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701800" y="2971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01800" y="3352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01800" y="373392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01800" y="4114800"/>
            <a:ext cx="990720" cy="38088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701800" y="4495680"/>
            <a:ext cx="990720" cy="3812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701800" y="4876920"/>
            <a:ext cx="990720" cy="16002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635120" y="2057040"/>
            <a:ext cx="1066680" cy="762120"/>
          </a:xfrm>
          <a:prstGeom prst="line">
            <a:avLst/>
          </a:prstGeom>
          <a:ln cap="sq" w="3816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045200" y="5334120"/>
            <a:ext cx="1752840" cy="106668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683240" y="1873080"/>
            <a:ext cx="1447560" cy="460404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683240" y="1873080"/>
            <a:ext cx="1447560" cy="71784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683240" y="25909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CNT=2 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683240" y="35053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683240" y="3962520"/>
            <a:ext cx="1447560" cy="13716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83240" y="5334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4680" y="115740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file t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683240" y="5791320"/>
            <a:ext cx="1447560" cy="6858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83240" y="3048120"/>
            <a:ext cx="1447560" cy="457200"/>
          </a:xfrm>
          <a:prstGeom prst="rect">
            <a:avLst/>
          </a:prstGeom>
          <a:solidFill>
            <a:srgbClr val="ffff66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45200" y="3429000"/>
            <a:ext cx="1752840" cy="914400"/>
          </a:xfrm>
          <a:prstGeom prst="rect">
            <a:avLst/>
          </a:prstGeom>
          <a:solidFill>
            <a:srgbClr val="00cc00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615" name=""/>
          <p:cNvCxnSpPr>
            <a:endCxn id="586" idx="1"/>
          </p:cNvCxnSpPr>
          <p:nvPr/>
        </p:nvCxnSpPr>
        <p:spPr>
          <a:xfrm>
            <a:off x="6130800" y="2819160"/>
            <a:ext cx="915120" cy="22932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616" name=""/>
          <p:cNvCxnSpPr>
            <a:stCxn id="598" idx="3"/>
            <a:endCxn id="607" idx="1"/>
          </p:cNvCxnSpPr>
          <p:nvPr/>
        </p:nvCxnSpPr>
        <p:spPr>
          <a:xfrm flipV="1">
            <a:off x="3692520" y="2818800"/>
            <a:ext cx="991440" cy="72468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cxnSp>
        <p:nvCxnSpPr>
          <p:cNvPr id="617" name=""/>
          <p:cNvCxnSpPr>
            <a:stCxn id="597" idx="3"/>
            <a:endCxn id="607" idx="1"/>
          </p:cNvCxnSpPr>
          <p:nvPr/>
        </p:nvCxnSpPr>
        <p:spPr>
          <a:xfrm flipV="1">
            <a:off x="3692520" y="2819160"/>
            <a:ext cx="991440" cy="343440"/>
          </a:xfrm>
          <a:prstGeom prst="straightConnector1">
            <a:avLst/>
          </a:prstGeom>
          <a:ln cap="sq" w="38160">
            <a:solidFill>
              <a:srgbClr val="66ffff"/>
            </a:solidFill>
            <a:miter/>
            <a:tailEnd len="sm" type="triangle" w="sm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F92-07F8-4166-B786-B32AE1F071D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cre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6160" y="1819440"/>
            <a:ext cx="8189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reat: A process may create a new file by creat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write(pathname, mod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mode: read/wri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99B-EBA0-47AB-9203-DFCA037E6C1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clo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93640" y="1819440"/>
            <a:ext cx="7475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lose: A process may close a file by close system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al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close(fd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009-511A-442A-82DB-C4C4C3803D2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e subsyst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840" y="1971720"/>
            <a:ext cx="8073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file system is a collection of files and directories 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disk or tape in standard UNIX file system format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Kernel’s file sybsystem regulates data flow betwee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the kernel and secondary storage device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B1B-7E08-42B7-9980-2EFEBCEEA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wri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94720" y="1819440"/>
            <a:ext cx="7387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write: A process may write data to an opened fi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fd = write(fd, buffer, count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buffer: data to be stored 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count: the number (count) of byt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AE6-B90D-4ACA-B0E2-A5858EFF895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215720" y="152280"/>
            <a:ext cx="6449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creat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*buf1="I am a string\n"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*buf2="second line\n"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creat("./testCreat.txt", O_WR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rite(fd1, buf1, 20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write(fd1, buf2, 30)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 buf1=%s \n",fd1, buf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lose(fd1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mod("./testCreat.txt", 0666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DF0-42F4-4BE5-AD86-E51469EA0B1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63800" y="1676520"/>
            <a:ext cx="8989560" cy="3751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creatEx1.c -o cre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re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 buf1=I am a str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ls -l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-rw-rw-rw-   1 cheng    staff         50 May 10 20:37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more testCreat.tx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7B2-5578-4910-B8A2-D14773F8A87C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stat/fst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31360" y="1819440"/>
            <a:ext cx="8686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tat/fstat: A process may query the status of a file (lock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ile type, file owner, access permission. file size, numb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links, inode number, access tim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stat(pathname, statbuffer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f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stat(fd, statbuffer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B. statbuffer: read in da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. fd: file descript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D0A-7B5B-4D9E-B99E-600D066DFB2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27000" y="152280"/>
            <a:ext cx="9198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/* statEx1.c */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#include &lt;sys/stat.h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int fd1, fd2, fd3;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struct stat bufStat1, bufStat2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char buf1[20], buf2[20]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 = open("/etc/passwd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 = open("./statEx1", O_RDONLY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stat(fd1, &amp;bufStat1);    fstat(fd2, &amp;bufStat2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1=%d inode no=%d block size=%d blocks=%d\n"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1, bufStat1.st_ino,bufStat1.st_blksize, bufStat1.st_block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fd2=%d inode no=%d block size=%d blocks=%d\n"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fd2, bufStat2.st_ino,bufStat2.st_blksize, bufStat2.st_blocks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printf("======\n")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D3B-2FFD-418D-ACC7-C0B905A56AC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763200" y="1752480"/>
            <a:ext cx="715896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cc statEx1.c -o st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$ statEx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1=3 inode no=21954 block size=8192 blocks=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fd2=4 inode no=190611 block size=8192 blocks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======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9933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093-381B-4FBA-A0DB-669E0A4DFC3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ystem Call: link/unl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" y="1819440"/>
            <a:ext cx="821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ink: hardlink a file to another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link(sourceFile, targetFil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unlink(f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sourceFile targetFile, fil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Lab exercise: write a c program which use link/unlin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stem call. Use ls -l to see the reference cou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4B8-E4AF-40DC-A835-D45119FDCF8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Times New Roman"/>
              </a:rPr>
              <a:t>System Call: chdi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93640" y="1819440"/>
            <a:ext cx="768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chdir: A process may change the current directory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of a process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syntax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chdir(pathname);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. pathname: file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4504-5CD4-4E8A-975A-30155B1A569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919440" y="1905120"/>
            <a:ext cx="4074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sys/types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#include &lt;fcntl.h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chdir("/usr/bin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system("ls -l")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639760" y="1981080"/>
            <a:ext cx="2474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 ls -l /usr/bi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339933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9CB-AB43-49FA-9286-53F28839482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1296000" y="2378160"/>
            <a:ext cx="650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End of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33"/>
                </a:solidFill>
                <a:latin typeface="Times New Roman"/>
              </a:rPr>
              <a:t>System Kernel Lecture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B391-481F-41B9-B480-3F84070D82A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ardware Contro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7080" y="2124000"/>
            <a:ext cx="821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rdware control is responsible for handling interrup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d for communicating with the machin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vices such as disks or terminals may interrupt th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PU while a process is executing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kernel may resume execution of the interrupte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cess after servicing the interrup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1A4-47B7-4CDB-932C-274552202E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s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2920" y="1743120"/>
            <a:ext cx="7934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gram is an executable f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A process is an instance of the program in execu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TW" sz="2800" spc="-1" strike="noStrike">
                <a:solidFill>
                  <a:srgbClr val="ffffcc"/>
                </a:solidFill>
                <a:latin typeface="Times New Roman"/>
              </a:rPr>
              <a:t>For example: create two active proces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1800" y="3124080"/>
            <a:ext cx="408204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emacs &amp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emacs &amp;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 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PID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  TTY   TIME CM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893  pts/4 0:00 tcs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581  pts/4 0:01 ema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12582  pts/4 0:01 ema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9900"/>
                </a:solidFill>
                <a:latin typeface="Arial"/>
              </a:rPr>
              <a:t>$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E2E-9CFF-4B27-90F0-4723496EDA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3T04:29:41Z</dcterms:created>
  <dc:creator>cheng</dc:creator>
  <dc:description/>
  <dc:language>en-US</dc:language>
  <cp:lastModifiedBy>TSC</cp:lastModifiedBy>
  <cp:lastPrinted>1999-05-11T00:14:04Z</cp:lastPrinted>
  <dcterms:modified xsi:type="dcterms:W3CDTF">1999-05-11T06:46:11Z</dcterms:modified>
  <cp:revision>104</cp:revision>
  <dc:subject/>
  <dc:title>Architecture of Unix System</dc:title>
</cp:coreProperties>
</file>