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6A1-92E0-4B54-84FD-A87DFFFB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859E-2587-43CE-AD8D-B98F2BB5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517C-CA4E-495E-83C5-C2C0A3B3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619-F557-4461-8F1F-3D973440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469E-67A7-4E86-A95E-90F849A3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2636-A168-436E-B1DC-590F926A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2FFF-DB06-411E-8B09-BCBC5A90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15F1-71B2-46AE-B6CE-1099A208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ED0A-0862-4C68-B2CA-087EF0F3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9714-CB2C-4199-A565-9B1EFAE2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6EBF-E6EE-41AB-A0B0-58F24818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F77-BD35-430A-8782-CC313F93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2EA9-13B9-4536-9906-C840197A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C6C8-852B-417D-BAE3-1FA62B9C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6797-83EB-470D-95B7-56FB47DF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6170-795A-4568-B9DE-91E73471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1FA6-72B6-4E94-8E37-A9224C10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0A2-6280-470F-9649-76303B80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B86-E3E2-457E-A42E-A8A21ACC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AF7-1655-41ED-9022-345EE107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25D-7DAE-4FE7-8A0F-38BA5B97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EE8-A76D-437A-9E9F-4057D645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BA4-BD66-40AF-990A-B674B295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40C-9C06-4C9C-B8A1-F325B86A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CE42-D5D7-406F-9243-76C22DDC38E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928C-8478-4B4F-8A09-F1A5950CD22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x System Kern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52600" y="2743200"/>
            <a:ext cx="647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Instructors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Fu-Chiung Cheng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鄭福炯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Associate Professo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Computer Science &amp; Engineer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Tatung Institute of Technolog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40B-37D0-48F8-9182-2A9D74A5AB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640" y="1743120"/>
            <a:ext cx="811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process ha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text: machine instructions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(may be shared by other processe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sta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cess may execute either in user mode and in kern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d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cess information are stored in two plac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rocess tabl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User 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E11-7CBD-4658-BDC3-56FA359B3C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r mode and Kernel m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1000" y="1895400"/>
            <a:ext cx="8661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t any given instant a computer running the Unix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s either executing a process or the kernel itself is run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computer is in user mode when it is execut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structions in a user process and it is in kernel mo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when it is executing instructions in the kerne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ecuting System call ==&gt; User mode to Kernel mo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erform I/O oper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stem clock interrup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1FC9-B44E-45A6-B66B-5A81ACE8DA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 Tabl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760" y="1676520"/>
            <a:ext cx="846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cess table: an entry in process table has the follow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forma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rocess stat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A. running in user mode or kernel mo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B. Ready in memory or Ready but swapp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C. Sleep in memory or sleep and swappe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ID: process 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UID: user i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scheduling inform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signals that is sent to the process but not yet handl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a pointer to per-process-region 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 is a single process table for the entire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A5F-5876-46F4-AB14-2BA36DF725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r Table (u area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1480" y="1743120"/>
            <a:ext cx="8327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ch process has only one private user tab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r table contains information that must be accessibl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ile the process is in executio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A pointer to the process table slo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arameters of the current system call, return val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error co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file descriptors for all open fi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current directory and current roo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rocess and file size limit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r table is an extension of the process tab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F0BA-30AD-4430-A34F-FF95C3165F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71600" y="4648320"/>
            <a:ext cx="1676520" cy="7617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u ar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1447920"/>
            <a:ext cx="2286000" cy="53316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ctive 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505320"/>
            <a:ext cx="8381880" cy="1440"/>
          </a:xfrm>
          <a:prstGeom prst="line">
            <a:avLst/>
          </a:prstGeom>
          <a:ln w="381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3760" y="306216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sid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5080" y="3443400"/>
            <a:ext cx="19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wapp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1981080"/>
            <a:ext cx="2286000" cy="5335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914400"/>
            <a:ext cx="2286000" cy="5335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514600"/>
            <a:ext cx="2286000" cy="5335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380880"/>
            <a:ext cx="2286000" cy="5335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4648320"/>
            <a:ext cx="2057400" cy="5331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5181480"/>
            <a:ext cx="2057400" cy="5335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4114800"/>
            <a:ext cx="2057400" cy="5335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1905120"/>
            <a:ext cx="838080" cy="228600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1905120"/>
            <a:ext cx="0" cy="281916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4876920"/>
            <a:ext cx="1295640" cy="53316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5410080"/>
            <a:ext cx="129564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4343400"/>
            <a:ext cx="129564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67480" y="5943600"/>
            <a:ext cx="129564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67480" y="3809880"/>
            <a:ext cx="129564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629400" y="228600"/>
            <a:ext cx="0" cy="6400800"/>
          </a:xfrm>
          <a:prstGeom prst="line">
            <a:avLst/>
          </a:prstGeom>
          <a:ln w="381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715000" y="4190760"/>
            <a:ext cx="1828800" cy="22860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4876920"/>
            <a:ext cx="1828800" cy="137160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715000" y="5257440"/>
            <a:ext cx="1828800" cy="22860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6040" y="152280"/>
            <a:ext cx="156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62480" y="5715000"/>
            <a:ext cx="223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r-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gion 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52000" y="3886200"/>
            <a:ext cx="138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g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32080" y="228600"/>
            <a:ext cx="154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ern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p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81600" y="228600"/>
            <a:ext cx="154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p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7B6-E0E2-4828-9AF7-659547EF9F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hared Program Text and Software Libra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3280" y="1819440"/>
            <a:ext cx="8449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Many programs, such as shell, are often be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ecuted by several users simultaneously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text (program) part can be shar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 order to be shared, a program must be compiled us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 special option that arranges the process image so th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variable part(data and stack) and the fixed part (tex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re cleanly separated.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n extension to the idea of sharing text is shar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libra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Without shared libraries, all the executing program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ontain their own copie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A37-05AE-4440-867C-565AAC74E6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3124080"/>
            <a:ext cx="2286000" cy="5335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ctive 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3657600"/>
            <a:ext cx="2286000" cy="5335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2590920"/>
            <a:ext cx="2286000" cy="53316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4191120"/>
            <a:ext cx="2286000" cy="53316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2057400"/>
            <a:ext cx="2286000" cy="5335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4648320"/>
            <a:ext cx="2057400" cy="5331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5181480"/>
            <a:ext cx="2057400" cy="5335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4114800"/>
            <a:ext cx="2057400" cy="5335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86600" y="4876920"/>
            <a:ext cx="1295280" cy="53316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5410080"/>
            <a:ext cx="129528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86600" y="4343400"/>
            <a:ext cx="129528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86600" y="5943600"/>
            <a:ext cx="129528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3809880"/>
            <a:ext cx="129528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715000" y="4190760"/>
            <a:ext cx="1828800" cy="22860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15000" y="4876920"/>
            <a:ext cx="1828800" cy="137160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715000" y="5257440"/>
            <a:ext cx="1828800" cy="22860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6040" y="152280"/>
            <a:ext cx="156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62480" y="5715000"/>
            <a:ext cx="223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r-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gion 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3880" y="0"/>
            <a:ext cx="138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g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1828800"/>
            <a:ext cx="2057400" cy="5335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2362320"/>
            <a:ext cx="2057400" cy="5331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1295280"/>
            <a:ext cx="2057400" cy="5335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86600" y="2209680"/>
            <a:ext cx="129528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2743200"/>
            <a:ext cx="129528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86600" y="3276720"/>
            <a:ext cx="1295280" cy="53316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3429000"/>
            <a:ext cx="2133720" cy="76212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38280" y="1599840"/>
            <a:ext cx="1371600" cy="76212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62720" y="1676520"/>
            <a:ext cx="1981080" cy="236196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86600" y="1143000"/>
            <a:ext cx="129528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86600" y="1676520"/>
            <a:ext cx="1295280" cy="53316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562720" y="1981080"/>
            <a:ext cx="1981080" cy="15264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562720" y="1447560"/>
            <a:ext cx="1981080" cy="114300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3720" y="3773520"/>
            <a:ext cx="165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fere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unt =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180B-60FC-41AB-A2F9-E7341C5288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400" y="1676520"/>
            <a:ext cx="8564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 process accesses system resources through system ca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stem call f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rocess Control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fork: create a new 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wait: allow a parent process to synchronize it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execution with the exit of a child proc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exec: invoke a new progra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exit: terminate process execu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File system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File: open, read, write, lseek, clo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inode: chdir, chown chmod, stat fst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others: pipe dup, mount, unmount, link, unlink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E93-CA3D-4419-ABCC-CDA692A74D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: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ork(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5520" y="1893960"/>
            <a:ext cx="846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fork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: the only way for a user to create a process in Uni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operating syste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process that invokes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fork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is called parent 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nd the newly created process is called child proc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syntax of fork system cal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newpid = fork(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On return from fork system call, the two processes hav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dentical copies of their user-level context except for th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return value pid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 parent process, newpid = child process 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 child process, newpid = 0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FD1-4232-40B8-8E7B-E221EA8B81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25600" y="914400"/>
            <a:ext cx="6653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/* forkEx1.c *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pid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Before forking ...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 = fork(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f (fpid == 0) 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Child Process fpid=%d\n", fpid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Parent Process fpid=%d\n", fpid)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After forking fpid=%d\n", fpid);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6120" y="263520"/>
            <a:ext cx="4066920" cy="302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forkEx1.c -o fork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fork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Before forking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Child Process fpid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After forking fpid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arent Process fpid=1470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After forking fpid=1470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DC6-425B-48AC-9240-3ADF0E5803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x: Introdu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1520" y="1895400"/>
            <a:ext cx="8277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perating System: a system that manages the resour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f a compu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ources: CPUs, Memory, I/O devices, Networ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ernel: the memory resident portion of Unix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le system and process control system are two maj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nents of Unix Kerne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CB31-09B5-4960-8183-36D4E397A8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49120" y="266760"/>
            <a:ext cx="455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/* forkEx2.c *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pid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Before forking ...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system("ps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 = fork(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system("ps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After fork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=%d\n", fpid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3600" y="74520"/>
            <a:ext cx="4062240" cy="667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forkEx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Before forking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ID TTY      TIME CM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59 pts/9    0:00 tc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78 pts/9    0:00 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77 pts/9    0:00 forkEx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ID TTY      TIME CM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81 pts/9    0:00 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59 pts/9    0:00 tc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82 pts/9    0:00 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80 pts/9    0:00 forkEx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77 pts/9    0:00 forkEx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After forking fpid=1478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   PID TTY      TIME CM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81 pts/9    0:00 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59 pts/9    0:00 tc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80 pts/9    0:00 forkEx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After forking fpid=0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5181480"/>
            <a:ext cx="39625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ID TTY      TIME CM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59 pts/9    0:00 tc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9F1-0866-4767-B28F-06F10E9BE0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System Call: </a:t>
            </a:r>
            <a:r>
              <a:rPr b="0" lang="zh-TW" sz="4400" spc="-1" strike="noStrike">
                <a:solidFill>
                  <a:srgbClr val="ffcc66"/>
                </a:solidFill>
                <a:latin typeface="Arial"/>
              </a:rPr>
              <a:t>getpid() getppid(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9200" y="1971720"/>
            <a:ext cx="851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ach process has a unique process id (PID)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ID is an integer, typically in the range 0 through 30000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Kernel assigns the PID when a new process is creat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rocesses can obtain their PID by calling getpid(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ach process has a parent process and a correspond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arent process I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rocesses can obtain their parent’s PID by call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getppid(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279-A046-44B0-AA01-0F2AF500F0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90600" y="228600"/>
            <a:ext cx="837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/* pid.c */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#include &lt;unistd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printf("pid=%d ppid=%d\n",getpid(), getppid()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343400"/>
            <a:ext cx="396216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33"/>
                </a:solidFill>
                <a:latin typeface="Arial"/>
              </a:rPr>
              <a:t>$ cc pid.c -o p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33"/>
                </a:solidFill>
                <a:latin typeface="Arial"/>
              </a:rPr>
              <a:t>$ p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33"/>
                </a:solidFill>
                <a:latin typeface="Arial"/>
              </a:rPr>
              <a:t>pid=14935 ppid=1475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46D6-7B81-46E1-B265-0D9BF06B1D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25880" y="0"/>
            <a:ext cx="83462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/* forkEx3.c *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unistd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pid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Before forking ...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 = fork(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f (fpid == 0) 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Child Process fpid=%d pid=%d ppid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, getpid(), getppid()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Parent Process fpid=%d pid=%d ppid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, getpid(), getppid()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After forking fpid=%d pid=%d ppid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, getpid(), getppid()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D66C-F406-477E-97AC-1C45C31172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93960" y="1295280"/>
            <a:ext cx="7386120" cy="411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forkEx3.c -o forkEx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forkEx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Before forking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arent Process fpid=14942 pid=14941 ppid=1475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After forking fpid=14942 pid=14941 ppid=1475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hild Process fpid=0 pid=14942 ppid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After forking fpid=0 pid=14942 ppid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p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ID TTY      TIME CM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59 pts/9    0:00 tc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4F1-027E-4C0A-9C96-6F7A59A30F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: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it(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360" y="1971720"/>
            <a:ext cx="714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ait system call allows a parent process to wa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the demise of a child proces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e forkEx4.c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63C6-178A-4BAF-A79F-39183B30BB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56040" y="-95400"/>
            <a:ext cx="83462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unistd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pid, status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Before forking ...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 = fork(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f (fpid == 0) 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Child Process fpid=%d pid=%d ppid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, getpid(), getppid()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Parent Process fpid=%d pid=%d ppid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, getpid(), getppid()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wait(&amp;status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After forking fpid=%d pid=%d ppid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, getpid(), getppid()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277-0AB9-4A08-9963-CCCC8C2691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41320" y="2286000"/>
            <a:ext cx="7386120" cy="302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forkEx4.c -o forkEx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forkEx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Before forking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arent Process fpid=14980 pid=14979 ppid=1475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Child Process fpid=0 pid=14980 ppid=1497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After forking fpid=0 pid=14980 ppid=1497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After forking fpid=14980 pid=14979 ppid=1475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2630-881D-4A3B-8C25-1AD4BE7A30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: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ec(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3160" y="1971720"/>
            <a:ext cx="8562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ec() system call invokes another program by replac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current 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No new process table entry is created for exec() progra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us, the total number of processes in the system isn’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hang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ix different exec function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eclp, execvp, execl, execv, execle, execve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(see man page for more detail.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ec system call allows a process to choose its success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6E5-CECE-41BF-8488-59E15AF1DD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79320" y="217440"/>
            <a:ext cx="4929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/* execEx1.c */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#include &lt;unistd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printf("Before execing ...\n"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execl("/bin/date", "date", 0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printf("After exec\n");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4720" y="4800600"/>
            <a:ext cx="516564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9933"/>
                </a:solidFill>
                <a:latin typeface="Arial"/>
              </a:rPr>
              <a:t>$ execEx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9933"/>
                </a:solidFill>
                <a:latin typeface="Arial"/>
              </a:rPr>
              <a:t>Before execing 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9933"/>
                </a:solidFill>
                <a:latin typeface="Arial"/>
              </a:rPr>
              <a:t>Sun May  9 16:39:17 CST 199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660-6BF4-423D-A358-A0D96D39ECC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2057400"/>
            <a:ext cx="4724280" cy="4495680"/>
          </a:xfrm>
          <a:prstGeom prst="ellipse">
            <a:avLst/>
          </a:prstGeom>
          <a:solidFill>
            <a:srgbClr val="ff0000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2590920"/>
            <a:ext cx="3581640" cy="3352680"/>
          </a:xfrm>
          <a:prstGeom prst="ellipse">
            <a:avLst/>
          </a:prstGeom>
          <a:solidFill>
            <a:srgbClr val="ff00ff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3124080"/>
            <a:ext cx="2590920" cy="2286000"/>
          </a:xfrm>
          <a:prstGeom prst="ellipse">
            <a:avLst/>
          </a:prstGeom>
          <a:solidFill>
            <a:srgbClr val="cc99ff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rchitecture of Unix 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3657600"/>
            <a:ext cx="1371600" cy="1219320"/>
          </a:xfrm>
          <a:prstGeom prst="ellipse">
            <a:avLst/>
          </a:prstGeom>
          <a:solidFill>
            <a:srgbClr val="ff9933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32004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7800" y="26668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3960" y="27432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960" y="31240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6240" y="38098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4160" y="4495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6400" y="51055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gre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8120" y="4038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3040" y="5410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20400" y="4572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240" y="4114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4440" y="35053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cp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838080" y="3124080"/>
            <a:ext cx="914400" cy="53352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38080" y="4952880"/>
            <a:ext cx="914400" cy="53352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21337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ema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0400" y="59436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ap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2800" y="2403360"/>
            <a:ext cx="356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S interacts directly wit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ardwa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ch OS is call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ystem kern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E4E-3E68-43C5-BD2C-8D8EBD6AF2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79920" y="228600"/>
            <a:ext cx="7381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/* execEx2.c */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#include &lt;unistd.h&gt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int fpid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printf("Before execing ...\n"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fpid = fork(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if (fpid == 0) {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execl("/bin/date", "date", 0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printf("After exec and fpid=%d\n",fpid);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78120" y="1447920"/>
            <a:ext cx="5463000" cy="22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9933"/>
                </a:solidFill>
                <a:latin typeface="Arial"/>
              </a:rPr>
              <a:t>$ execEx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9933"/>
                </a:solidFill>
                <a:latin typeface="Arial"/>
              </a:rPr>
              <a:t>Before execing 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9933"/>
                </a:solidFill>
                <a:latin typeface="Arial"/>
              </a:rPr>
              <a:t>After exec and fpid=1490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9933"/>
                </a:solidFill>
                <a:latin typeface="Arial"/>
              </a:rPr>
              <a:t>$ Sun May  9 16:47:08 CST 199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BD3D-C5D8-456F-9FEE-A785AE2AFB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ndling Sig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9200" y="1971720"/>
            <a:ext cx="8440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 signal is a message from one process to another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ignal are sometime called “software interrupt”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ignals usually occur asynchronous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ignals can be sen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by one process to anther (or to itself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by the kernel to a proc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Unix signals are content-free. That is the only thing tha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an be said about a signal is “it has arrived or not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F88-BCEA-4DC1-BC17-2C14017DD2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ndling Sig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8840" y="1971720"/>
            <a:ext cx="8731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Most signals have predefined meanings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sighup (HangUp): when a terminal is closed, th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hangup signal is sent to every process in control termin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sigint (interrupt): ask politely a process to termina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. sigquit (quit): ask a process to terminate and produce 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odedum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. sigkill (kill): force a process to termina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ee signEx1.c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FEAA-CF74-4A75-BA4A-E44FAD2259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0080" y="-76320"/>
            <a:ext cx="83462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unistd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 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pid, *status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Before forking ...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 = fork(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f (fpid == 0) 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Child Process fpid=%d pid=%d ppid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, getpid(), getppid()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or(;;); </a:t>
            </a:r>
            <a:r>
              <a:rPr b="1" lang="zh-TW" sz="2400" spc="-1" strike="noStrike">
                <a:solidFill>
                  <a:srgbClr val="cc00cc"/>
                </a:solidFill>
                <a:latin typeface="Arial"/>
              </a:rPr>
              <a:t>/* loop forever *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Parent Process fpid=%d pid=%d ppid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, getpid(), getppid()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wait(status); </a:t>
            </a:r>
            <a:r>
              <a:rPr b="1" lang="zh-TW" sz="2400" spc="-1" strike="noStrike">
                <a:solidFill>
                  <a:srgbClr val="cc00cc"/>
                </a:solidFill>
                <a:latin typeface="Arial"/>
              </a:rPr>
              <a:t>/* wait for child process *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After forking fpid=%d pid=%d ppid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, getpid(), getppid()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03A-5E83-4C5D-B2D3-256943D0D11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17640" y="1143000"/>
            <a:ext cx="7386120" cy="484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sigEx1.c -o sig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sigEx1 &amp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Before forking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arent Process fpid=14989 pid=14988 ppid=1475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Child Process fpid=0 pid=14989 ppid=1498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ID TTY      TIME CM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988 pts/9    0:00 sig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59 pts/9    0:01 tc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989 pts/9    0:09 sig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kill -9 1498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p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D2A-AA2F-40A4-9A67-8205DCC14A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heduling 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2080" y="1971720"/>
            <a:ext cx="8834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n a time sharing system, the kernel allocates the CPU t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process for a period of time (time slice or time quantum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eempts the process and schedules another one whe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me slice expired, and reschedules the process to contin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ecution at a later tim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cheduler use round-robin with multilevel feedba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gorithm to choose which process to be executed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Kernel allocates the CPU to a process for a time sli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 preempts a process that exceeds its time sli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. feeds it back into one of the several priority queue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E3A-B4DA-4D19-8C19-8FBC77F4C6D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 Prio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2438280"/>
            <a:ext cx="1905120" cy="3049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wapp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2743200"/>
            <a:ext cx="1905120" cy="3049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ait for Disk 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81280" y="3048120"/>
            <a:ext cx="1905120" cy="30456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ait for buff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3352680"/>
            <a:ext cx="1905120" cy="3049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wait for in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4876920"/>
            <a:ext cx="1905120" cy="11430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81280" y="3962520"/>
            <a:ext cx="1905120" cy="30456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ait for child ex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4267080"/>
            <a:ext cx="1905120" cy="3049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ser level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4572000"/>
            <a:ext cx="1905120" cy="3049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ser level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6019920"/>
            <a:ext cx="1905120" cy="30456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ser level 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3657600"/>
            <a:ext cx="1905120" cy="3049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6019920"/>
            <a:ext cx="304560" cy="30456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60" idx="3"/>
            <a:endCxn id="272" idx="2"/>
          </p:cNvCxnSpPr>
          <p:nvPr/>
        </p:nvCxnSpPr>
        <p:spPr>
          <a:xfrm>
            <a:off x="5486040" y="2590560"/>
            <a:ext cx="68652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cxnSp>
        <p:nvCxnSpPr>
          <p:cNvPr id="273" name=""/>
          <p:cNvCxnSpPr>
            <a:stCxn id="263" idx="3"/>
            <a:endCxn id="274" idx="2"/>
          </p:cNvCxnSpPr>
          <p:nvPr/>
        </p:nvCxnSpPr>
        <p:spPr>
          <a:xfrm>
            <a:off x="5486040" y="3504960"/>
            <a:ext cx="68652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cxnSp>
        <p:nvCxnSpPr>
          <p:cNvPr id="275" name=""/>
          <p:cNvCxnSpPr>
            <a:stCxn id="274" idx="6"/>
            <a:endCxn id="276" idx="2"/>
          </p:cNvCxnSpPr>
          <p:nvPr/>
        </p:nvCxnSpPr>
        <p:spPr>
          <a:xfrm>
            <a:off x="6476760" y="3504960"/>
            <a:ext cx="53388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cxnSp>
        <p:nvCxnSpPr>
          <p:cNvPr id="277" name=""/>
          <p:cNvCxnSpPr>
            <a:stCxn id="278" idx="6"/>
            <a:endCxn id="279" idx="2"/>
          </p:cNvCxnSpPr>
          <p:nvPr/>
        </p:nvCxnSpPr>
        <p:spPr>
          <a:xfrm>
            <a:off x="6476760" y="4723920"/>
            <a:ext cx="53388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cxnSp>
        <p:nvCxnSpPr>
          <p:cNvPr id="280" name=""/>
          <p:cNvCxnSpPr>
            <a:stCxn id="267" idx="3"/>
            <a:endCxn id="278" idx="2"/>
          </p:cNvCxnSpPr>
          <p:nvPr/>
        </p:nvCxnSpPr>
        <p:spPr>
          <a:xfrm>
            <a:off x="5486040" y="4723920"/>
            <a:ext cx="68652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cxnSp>
        <p:nvCxnSpPr>
          <p:cNvPr id="281" name=""/>
          <p:cNvCxnSpPr>
            <a:stCxn id="279" idx="6"/>
            <a:endCxn id="282" idx="2"/>
          </p:cNvCxnSpPr>
          <p:nvPr/>
        </p:nvCxnSpPr>
        <p:spPr>
          <a:xfrm>
            <a:off x="7315200" y="4723920"/>
            <a:ext cx="53424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cxnSp>
        <p:nvCxnSpPr>
          <p:cNvPr id="283" name=""/>
          <p:cNvCxnSpPr>
            <a:stCxn id="282" idx="6"/>
            <a:endCxn id="284" idx="2"/>
          </p:cNvCxnSpPr>
          <p:nvPr/>
        </p:nvCxnSpPr>
        <p:spPr>
          <a:xfrm>
            <a:off x="8153280" y="4723920"/>
            <a:ext cx="45792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cxnSp>
        <p:nvCxnSpPr>
          <p:cNvPr id="285" name=""/>
          <p:cNvCxnSpPr>
            <a:stCxn id="268" idx="3"/>
            <a:endCxn id="270" idx="2"/>
          </p:cNvCxnSpPr>
          <p:nvPr/>
        </p:nvCxnSpPr>
        <p:spPr>
          <a:xfrm>
            <a:off x="5486400" y="6171840"/>
            <a:ext cx="99144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172200" y="4572000"/>
            <a:ext cx="304920" cy="30492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10280" y="4572000"/>
            <a:ext cx="304920" cy="30492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48720" y="4572000"/>
            <a:ext cx="304560" cy="30492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10480" y="4572000"/>
            <a:ext cx="304920" cy="30492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72200" y="3352680"/>
            <a:ext cx="304920" cy="30492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2438280"/>
            <a:ext cx="304920" cy="30492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3352680"/>
            <a:ext cx="304920" cy="30492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4267080"/>
            <a:ext cx="51055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7760" y="382428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Kernel Mo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400" y="420516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User Mo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25680" y="190512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Proces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95440" y="1919160"/>
            <a:ext cx="24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Priority Leve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92" idx="6"/>
            <a:endCxn id="293" idx="2"/>
          </p:cNvCxnSpPr>
          <p:nvPr/>
        </p:nvCxnSpPr>
        <p:spPr>
          <a:xfrm>
            <a:off x="6476760" y="4114440"/>
            <a:ext cx="53388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cxnSp>
        <p:nvCxnSpPr>
          <p:cNvPr id="294" name=""/>
          <p:cNvCxnSpPr>
            <a:stCxn id="265" idx="3"/>
            <a:endCxn id="292" idx="2"/>
          </p:cNvCxnSpPr>
          <p:nvPr/>
        </p:nvCxnSpPr>
        <p:spPr>
          <a:xfrm>
            <a:off x="5486040" y="4114440"/>
            <a:ext cx="68652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cxnSp>
        <p:nvCxnSpPr>
          <p:cNvPr id="295" name=""/>
          <p:cNvCxnSpPr>
            <a:stCxn id="293" idx="6"/>
            <a:endCxn id="296" idx="2"/>
          </p:cNvCxnSpPr>
          <p:nvPr/>
        </p:nvCxnSpPr>
        <p:spPr>
          <a:xfrm>
            <a:off x="7315200" y="4114440"/>
            <a:ext cx="53424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sp>
        <p:nvSpPr>
          <p:cNvPr id="292" name=""/>
          <p:cNvSpPr/>
          <p:nvPr/>
        </p:nvSpPr>
        <p:spPr>
          <a:xfrm>
            <a:off x="6172200" y="3962520"/>
            <a:ext cx="304920" cy="30456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10280" y="3962520"/>
            <a:ext cx="304920" cy="30456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48720" y="3962520"/>
            <a:ext cx="304560" cy="30456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FC7-0AD0-4AA2-B74C-97DEEE1C9F7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 Scheduling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Unix System V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0680" y="1981080"/>
            <a:ext cx="880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re are 3 processes A, B, C under the follow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they are created simultaneously with initial priority 60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the clock interrupt the system 60 times per secon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. these processes make no system ca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. No other process are ready to ru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. CPU usage calculation: </a:t>
            </a:r>
            <a:r>
              <a:rPr b="0" lang="zh-TW" sz="2800" spc="-1" strike="noStrike">
                <a:solidFill>
                  <a:srgbClr val="cc0066"/>
                </a:solidFill>
                <a:latin typeface="Arial"/>
              </a:rPr>
              <a:t>CPU = decay(CPU) = CPU/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F. Process priority calculation: </a:t>
            </a:r>
            <a:r>
              <a:rPr b="0" lang="zh-TW" sz="2800" spc="-1" strike="noStrike">
                <a:solidFill>
                  <a:srgbClr val="cc0066"/>
                </a:solidFill>
                <a:latin typeface="Arial"/>
              </a:rPr>
              <a:t>priority = CPU/2 + 60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G. Rescheduling Calculation is done once per secon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BD85-4D5C-4BBA-8211-2AA1902DD3A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 flipH="1">
            <a:off x="380520" y="2463840"/>
            <a:ext cx="8001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6000" y="457200"/>
            <a:ext cx="30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Process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Priority  CPU cou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482760"/>
            <a:ext cx="30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Priority  CPU cou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59600" y="482760"/>
            <a:ext cx="30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Process 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Priority  CPU cou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99920" y="1320840"/>
            <a:ext cx="1656000" cy="5214600"/>
          </a:xfrm>
          <a:prstGeom prst="rect">
            <a:avLst/>
          </a:prstGeom>
          <a:noFill/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60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75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3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67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63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 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        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6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76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3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61280" y="1320840"/>
            <a:ext cx="1605600" cy="5214600"/>
          </a:xfrm>
          <a:prstGeom prst="rect">
            <a:avLst/>
          </a:prstGeom>
          <a:noFill/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60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0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60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75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3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67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63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13280" y="1320840"/>
            <a:ext cx="1604160" cy="5214600"/>
          </a:xfrm>
          <a:prstGeom prst="rect">
            <a:avLst/>
          </a:prstGeom>
          <a:noFill/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60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60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60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75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3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67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56840" y="3530520"/>
            <a:ext cx="8001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456840" y="4597560"/>
            <a:ext cx="8001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56840" y="5740560"/>
            <a:ext cx="8001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1480" y="2147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0040" y="3240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1480" y="4368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040" y="5450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56840" y="1397160"/>
            <a:ext cx="8001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640" y="110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151-A4D3-4503-AE7D-D01855F976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x System Kern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52600" y="2743200"/>
            <a:ext cx="647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Instructors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Fu-Chiung Cheng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鄭福炯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Associate Professo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Computer Science &amp; Engineer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Tatung Institute of Technolog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95E7-6F8E-47C0-A97C-4CC8349F90C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x System Kern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2600" y="1895400"/>
            <a:ext cx="5683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ree major tasks of kerne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rocess Mana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Device Mana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File Mana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ree additional Services for Kerne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Virtual Memo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Networ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Network File Syste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perimental Kernel Featur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Multiprocessor suppo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Lightweight process (thread) suppo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487-FF63-45C3-B0E4-2E78F9D09E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oo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000" y="1971720"/>
            <a:ext cx="8360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When the computer is powered on or rebooted, a shor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uilt-in program (maybe store in ROM) reads the firs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lock or two of the disk into memory. These bloc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ontain a loader program, which was placed on the dis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when disk is formatt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loader is started. The loader searches the roo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irectory for /unix or /root/unix and load the file int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mem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kernel starts to execu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7F19-EB82-44E2-93C4-210C35CD9D9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rst 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1120" y="1971720"/>
            <a:ext cx="8573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kernel initializes its internal data structures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t constructs linked list of free inodes, regions, page 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kernel creates u area and initializes slot 0 of 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rocess 0 is crea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rocess 0 forks, invoking the fork algorithm directl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from the Kernel. Process 1 is creat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 kernel mode, Process 1 creates user-level contex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(regions) and copy code (/etc/init)  to the new reg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rocess 1 calls exec (executes init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833C-DA0D-41E9-8813-FA04AAD96E0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init pro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5400" y="1971720"/>
            <a:ext cx="865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init process is a process dispatcher:spawn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rocesses, allow users to log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it reads /etc/inittab and spawns get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when a user login successfully, getty goes through a log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rocedure and execs a login she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it executes the wait system call, monitoring the death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of its child processes and the death of orphaned proces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y exiting pare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903E-5046-46E8-B097-4B563DAA87C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57200" y="152280"/>
            <a:ext cx="2743200" cy="114300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it fork/exe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a getty progrm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to manage the 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280" y="2895480"/>
            <a:ext cx="3353040" cy="1752840"/>
          </a:xfrm>
          <a:prstGeom prst="ellipse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Getty print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login:” message a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waits for some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to log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4952880"/>
            <a:ext cx="3352680" cy="1752840"/>
          </a:xfrm>
          <a:prstGeom prst="ellipse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login 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ints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ssword message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ad the passwo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n check the passwo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91320" y="2971800"/>
            <a:ext cx="3352680" cy="1752480"/>
          </a:xfrm>
          <a:prstGeom prst="ellipse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The shell ru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ograms for th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user unitl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user logs of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1143000"/>
            <a:ext cx="3352680" cy="1752480"/>
          </a:xfrm>
          <a:prstGeom prst="ellipse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When the shel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dies, init wakes u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and fork/exec 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getty for the 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2"/>
            <a:endCxn id="324" idx="0"/>
          </p:cNvCxnSpPr>
          <p:nvPr/>
        </p:nvCxnSpPr>
        <p:spPr>
          <a:xfrm>
            <a:off x="1828440" y="1294920"/>
            <a:ext cx="1080" cy="1600920"/>
          </a:xfrm>
          <a:prstGeom prst="straightConnector1">
            <a:avLst/>
          </a:prstGeom>
          <a:ln cap="sq" w="38160">
            <a:solidFill>
              <a:srgbClr val="00ffff"/>
            </a:solidFill>
            <a:miter/>
            <a:tailEnd len="sm" type="triangle" w="sm"/>
          </a:ln>
        </p:spPr>
      </p:cxnSp>
      <p:cxnSp>
        <p:nvCxnSpPr>
          <p:cNvPr id="329" name=""/>
          <p:cNvCxnSpPr>
            <a:stCxn id="324" idx="4"/>
            <a:endCxn id="325" idx="2"/>
          </p:cNvCxnSpPr>
          <p:nvPr/>
        </p:nvCxnSpPr>
        <p:spPr>
          <a:xfrm>
            <a:off x="1828440" y="4647960"/>
            <a:ext cx="1143720" cy="1181880"/>
          </a:xfrm>
          <a:prstGeom prst="straightConnector1">
            <a:avLst/>
          </a:prstGeom>
          <a:ln cap="sq" w="38160">
            <a:solidFill>
              <a:srgbClr val="00ffff"/>
            </a:solidFill>
            <a:miter/>
            <a:tailEnd len="sm" type="triangle" w="sm"/>
          </a:ln>
        </p:spPr>
      </p:cxnSp>
      <p:cxnSp>
        <p:nvCxnSpPr>
          <p:cNvPr id="330" name=""/>
          <p:cNvCxnSpPr>
            <a:stCxn id="325" idx="1"/>
            <a:endCxn id="324" idx="5"/>
          </p:cNvCxnSpPr>
          <p:nvPr/>
        </p:nvCxnSpPr>
        <p:spPr>
          <a:xfrm flipH="1" flipV="1">
            <a:off x="3014280" y="4390560"/>
            <a:ext cx="448560" cy="820080"/>
          </a:xfrm>
          <a:prstGeom prst="straightConnector1">
            <a:avLst/>
          </a:prstGeom>
          <a:ln cap="sq" w="38160">
            <a:solidFill>
              <a:srgbClr val="00ffff"/>
            </a:solidFill>
            <a:miter/>
            <a:tailEnd len="sm" type="triangle" w="sm"/>
          </a:ln>
        </p:spPr>
      </p:cxnSp>
      <p:cxnSp>
        <p:nvCxnSpPr>
          <p:cNvPr id="331" name=""/>
          <p:cNvCxnSpPr>
            <a:stCxn id="325" idx="7"/>
            <a:endCxn id="326" idx="3"/>
          </p:cNvCxnSpPr>
          <p:nvPr/>
        </p:nvCxnSpPr>
        <p:spPr>
          <a:xfrm flipV="1">
            <a:off x="5833800" y="4466880"/>
            <a:ext cx="448200" cy="743760"/>
          </a:xfrm>
          <a:prstGeom prst="straightConnector1">
            <a:avLst/>
          </a:prstGeom>
          <a:ln cap="sq" w="38160">
            <a:solidFill>
              <a:srgbClr val="00ffff"/>
            </a:solidFill>
            <a:miter/>
            <a:tailEnd len="sm" type="triangle" w="sm"/>
          </a:ln>
        </p:spPr>
      </p:cxnSp>
      <p:cxnSp>
        <p:nvCxnSpPr>
          <p:cNvPr id="332" name=""/>
          <p:cNvCxnSpPr>
            <a:stCxn id="326" idx="1"/>
            <a:endCxn id="327" idx="5"/>
          </p:cNvCxnSpPr>
          <p:nvPr/>
        </p:nvCxnSpPr>
        <p:spPr>
          <a:xfrm flipH="1" flipV="1">
            <a:off x="5833440" y="2638080"/>
            <a:ext cx="448200" cy="591120"/>
          </a:xfrm>
          <a:prstGeom prst="straightConnector1">
            <a:avLst/>
          </a:prstGeom>
          <a:ln cap="sq" w="38160">
            <a:solidFill>
              <a:srgbClr val="00ffff"/>
            </a:solidFill>
            <a:miter/>
            <a:tailEnd len="sm" type="triangle" w="sm"/>
          </a:ln>
        </p:spPr>
      </p:cxnSp>
      <p:cxnSp>
        <p:nvCxnSpPr>
          <p:cNvPr id="333" name=""/>
          <p:cNvCxnSpPr>
            <a:stCxn id="327" idx="3"/>
            <a:endCxn id="324" idx="7"/>
          </p:cNvCxnSpPr>
          <p:nvPr/>
        </p:nvCxnSpPr>
        <p:spPr>
          <a:xfrm flipH="1">
            <a:off x="3014280" y="2638080"/>
            <a:ext cx="448560" cy="515160"/>
          </a:xfrm>
          <a:prstGeom prst="straightConnector1">
            <a:avLst/>
          </a:prstGeom>
          <a:ln cap="sq" w="38160">
            <a:solidFill>
              <a:srgbClr val="00ffff"/>
            </a:solidFill>
            <a:miter/>
            <a:tailEnd len="sm" type="triangle" w="sm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EBA-DBE6-4FA8-BDBC-959E79368B9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 Sub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1840" y="1971720"/>
            <a:ext cx="8073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 file system is a collection of files and directories 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 disk or tape in standard UNIX file system format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ach UNIX file system contains four major part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boot block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superblock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. i-node tabl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. data block: file storag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3EC-B92C-4F23-8C3E-A0EA2E1C02A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 System Layou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62320" y="2133720"/>
            <a:ext cx="304776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lock 0: bootstra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62320" y="2590920"/>
            <a:ext cx="304776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Block 1: super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62320" y="3048120"/>
            <a:ext cx="304776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lock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62320" y="4114800"/>
            <a:ext cx="304776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lock 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354120" y="33526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62320" y="4572000"/>
            <a:ext cx="304776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lock n+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38280" y="5715000"/>
            <a:ext cx="304812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last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30440" y="49528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2040" y="312408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lock 2 - n:i-no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89880" y="45720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lock n+1 - last:Fi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371-EABC-4164-B33A-3814191DADD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oot Blo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1120" y="1971720"/>
            <a:ext cx="7700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boot block may contains several physical block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e that a physical block contains 512 byt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(or 1K or 2KB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boot block contains a short loader program fo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boo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is blank on other file syste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9AB-710C-4CC2-8EED-7878F419DC9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Superblo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" y="1971720"/>
            <a:ext cx="842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uperblock contains key information about a file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uperblock informa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Size of a file system and statu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label: name of this file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ize: the number of logic bloc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ate: the last modification date of super block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information of i-no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number of i-no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number of free i-no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. information of data block: free data block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information of a superblock is loaded into memo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463C-4C3E-49B5-9B78-8AD674F3C53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-no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1480" y="1971720"/>
            <a:ext cx="584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-node: index node (information nod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-list: the list of i-nod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-number: the index of i-lis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ize of an i-node: 64 byte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-node 0 is reserv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-node 1 is the root directo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-node structure: next p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01BC-79F5-4EB3-8408-3911D2E732F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I-node structu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" y="380880"/>
            <a:ext cx="2514600" cy="5335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" y="914400"/>
            <a:ext cx="2514600" cy="5335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1447920"/>
            <a:ext cx="2514600" cy="53316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1981080"/>
            <a:ext cx="2514600" cy="5335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3048120"/>
            <a:ext cx="2514600" cy="53316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lock cou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3581280"/>
            <a:ext cx="2514600" cy="14479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irect bloc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0-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5562720"/>
            <a:ext cx="2514600" cy="53316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ouble indir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6095880"/>
            <a:ext cx="2514600" cy="5335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riple indir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5029200"/>
            <a:ext cx="2514600" cy="5335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ngle indir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05320" y="1752480"/>
            <a:ext cx="1828800" cy="533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Data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5320" y="2438280"/>
            <a:ext cx="1828800" cy="533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Data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05320" y="3581280"/>
            <a:ext cx="1828800" cy="533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Data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2057400"/>
            <a:ext cx="990720" cy="175248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514600" y="2666880"/>
            <a:ext cx="990720" cy="144792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514600" y="3886200"/>
            <a:ext cx="990720" cy="99072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952880"/>
            <a:ext cx="1828800" cy="533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Indirect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71440" y="276696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29400" y="1752480"/>
            <a:ext cx="1828800" cy="533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Data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29400" y="2438280"/>
            <a:ext cx="1828800" cy="533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Data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629400" y="3581280"/>
            <a:ext cx="1828800" cy="533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Data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95520" y="276696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590920" y="5257440"/>
            <a:ext cx="990360" cy="15228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5410080" y="3962160"/>
            <a:ext cx="1219320" cy="144756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334120" y="1980720"/>
            <a:ext cx="1371600" cy="304812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334120" y="2666880"/>
            <a:ext cx="1371600" cy="243864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81280" y="5562720"/>
            <a:ext cx="1828800" cy="53316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Indirect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90920" y="5867280"/>
            <a:ext cx="990360" cy="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5181480"/>
            <a:ext cx="1828800" cy="533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Indirect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5791320"/>
            <a:ext cx="1828800" cy="53316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Indirect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334120" y="5409720"/>
            <a:ext cx="1295280" cy="22860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5943600"/>
            <a:ext cx="1295280" cy="7632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8305920" y="5105160"/>
            <a:ext cx="533160" cy="22860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5638680"/>
            <a:ext cx="533160" cy="15264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465400" y="49528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" y="2514600"/>
            <a:ext cx="2514600" cy="5335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ference cou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279B-BC64-4D0A-A056-E9FB19901F5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lock Diagram of System Kern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1981080"/>
            <a:ext cx="5334120" cy="38124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System Call Interfa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2666880"/>
            <a:ext cx="2590920" cy="106704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File Sub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2666880"/>
            <a:ext cx="3962520" cy="25909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2743200"/>
            <a:ext cx="1981080" cy="7621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ter-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3581280"/>
            <a:ext cx="1981080" cy="7621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chedul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419720"/>
            <a:ext cx="1981080" cy="76176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8560" y="3033720"/>
            <a:ext cx="17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sub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4038480"/>
            <a:ext cx="2590920" cy="9144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Device driv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5410080"/>
            <a:ext cx="7696440" cy="38124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hardware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943600"/>
            <a:ext cx="8382240" cy="0"/>
          </a:xfrm>
          <a:prstGeom prst="line">
            <a:avLst/>
          </a:prstGeom>
          <a:ln w="381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6095880"/>
            <a:ext cx="7696440" cy="38124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hardware</a:t>
            </a: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276720"/>
            <a:ext cx="1447920" cy="22860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2209680"/>
            <a:ext cx="0" cy="76212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2209680"/>
            <a:ext cx="0" cy="76212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3505320"/>
            <a:ext cx="0" cy="76176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4800600"/>
            <a:ext cx="0" cy="76212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4800600"/>
            <a:ext cx="0" cy="76212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1219320"/>
            <a:ext cx="1523880" cy="38088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Libra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914400"/>
            <a:ext cx="2286000" cy="5335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User Progra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1371600"/>
            <a:ext cx="0" cy="76212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828800"/>
            <a:ext cx="8382240" cy="0"/>
          </a:xfrm>
          <a:prstGeom prst="line">
            <a:avLst/>
          </a:prstGeom>
          <a:ln w="381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1523880"/>
            <a:ext cx="0" cy="60984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1143000"/>
            <a:ext cx="761760" cy="15228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7440" y="138600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er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6720" y="1828800"/>
            <a:ext cx="14853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ernel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7280" y="642456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ardwar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8FB-9FAA-4F2B-BC3C-F7048AFA3C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-node struc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68280" y="1971720"/>
            <a:ext cx="8357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de: A. type: file, directory, pipe, symbolic lin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B. Access: read/write/execute (owner, group,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wner: who own this I-node (file, directory, ...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mestamp: creation, modification, access ti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ze: the number of by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lock count: the number of data bloc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rect blocks: pointers to the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ngle indirect: pointer to a data block which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ointers to the data blocks (128 data blocks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uble indirect: (128*128=16384  data block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iple indirect: (128*128*128 data block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5EE-92E6-4416-BB71-6B1A46D4120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 Blo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3640" y="1971720"/>
            <a:ext cx="748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data block has 512 byte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Some FS has 1K or 2k bytes per block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 See blocks size effect (next pag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data block may contains data of files or data o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directo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le: a stream of byte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rectory format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518148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-#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09680" y="5181480"/>
            <a:ext cx="83844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8120" y="518148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5181480"/>
            <a:ext cx="1981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ile na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67280" y="5181480"/>
            <a:ext cx="83844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27F-D49E-433D-AE41-2DCD26EAA80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124080" y="2438280"/>
            <a:ext cx="1295640" cy="381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0066"/>
                </a:solidFill>
                <a:latin typeface="Times New Roman"/>
              </a:rPr>
              <a:t>Report.tx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457200"/>
            <a:ext cx="1524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91120" y="1371600"/>
            <a:ext cx="1523880" cy="380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joh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2438280"/>
            <a:ext cx="152424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b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43400" y="3276720"/>
            <a:ext cx="129564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i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399" idx="4"/>
            <a:endCxn id="404" idx="0"/>
          </p:cNvCxnSpPr>
          <p:nvPr/>
        </p:nvCxnSpPr>
        <p:spPr>
          <a:xfrm flipH="1">
            <a:off x="2042640" y="838080"/>
            <a:ext cx="1843920" cy="61056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05" name=""/>
          <p:cNvCxnSpPr>
            <a:stCxn id="399" idx="4"/>
            <a:endCxn id="406" idx="0"/>
          </p:cNvCxnSpPr>
          <p:nvPr/>
        </p:nvCxnSpPr>
        <p:spPr>
          <a:xfrm flipH="1">
            <a:off x="3871440" y="838080"/>
            <a:ext cx="15120" cy="61056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07" name=""/>
          <p:cNvCxnSpPr>
            <a:stCxn id="399" idx="4"/>
            <a:endCxn id="400" idx="0"/>
          </p:cNvCxnSpPr>
          <p:nvPr/>
        </p:nvCxnSpPr>
        <p:spPr>
          <a:xfrm>
            <a:off x="3886200" y="838080"/>
            <a:ext cx="1967760" cy="53424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08" name=""/>
          <p:cNvCxnSpPr>
            <a:stCxn id="401" idx="0"/>
            <a:endCxn id="400" idx="4"/>
          </p:cNvCxnSpPr>
          <p:nvPr/>
        </p:nvCxnSpPr>
        <p:spPr>
          <a:xfrm flipV="1">
            <a:off x="5486040" y="1751760"/>
            <a:ext cx="367560" cy="6865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09" name=""/>
          <p:cNvCxnSpPr>
            <a:stCxn id="410" idx="0"/>
            <a:endCxn id="400" idx="4"/>
          </p:cNvCxnSpPr>
          <p:nvPr/>
        </p:nvCxnSpPr>
        <p:spPr>
          <a:xfrm flipH="1" flipV="1">
            <a:off x="5852880" y="1751760"/>
            <a:ext cx="1310400" cy="6865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11" name=""/>
          <p:cNvCxnSpPr>
            <a:stCxn id="400" idx="4"/>
            <a:endCxn id="398" idx="0"/>
          </p:cNvCxnSpPr>
          <p:nvPr/>
        </p:nvCxnSpPr>
        <p:spPr>
          <a:xfrm flipH="1">
            <a:off x="3771360" y="1752120"/>
            <a:ext cx="2081880" cy="6865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12" name=""/>
          <p:cNvCxnSpPr>
            <a:stCxn id="401" idx="4"/>
            <a:endCxn id="402" idx="0"/>
          </p:cNvCxnSpPr>
          <p:nvPr/>
        </p:nvCxnSpPr>
        <p:spPr>
          <a:xfrm>
            <a:off x="5486400" y="2819520"/>
            <a:ext cx="405360" cy="4579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sp>
        <p:nvSpPr>
          <p:cNvPr id="404" name=""/>
          <p:cNvSpPr/>
          <p:nvPr/>
        </p:nvSpPr>
        <p:spPr>
          <a:xfrm>
            <a:off x="1281240" y="1447920"/>
            <a:ext cx="1523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Times New Roman"/>
              </a:rPr>
              <a:t>ale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10040" y="1447920"/>
            <a:ext cx="1523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jenn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00800" y="2438280"/>
            <a:ext cx="15238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not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9880" y="3276720"/>
            <a:ext cx="129564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Times New Roman"/>
              </a:rPr>
              <a:t>gre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1" idx="4"/>
            <a:endCxn id="413" idx="0"/>
          </p:cNvCxnSpPr>
          <p:nvPr/>
        </p:nvCxnSpPr>
        <p:spPr>
          <a:xfrm flipH="1">
            <a:off x="4457520" y="2819520"/>
            <a:ext cx="1028880" cy="4579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380880" y="4572000"/>
            <a:ext cx="83844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-#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19320" y="457200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57400" y="457200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95480" y="4572000"/>
            <a:ext cx="198144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Report.t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76920" y="457200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457200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-#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553080" y="4572000"/>
            <a:ext cx="83844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91520" y="457200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0880" y="6248520"/>
            <a:ext cx="91440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95280" y="6248520"/>
            <a:ext cx="83844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133720" y="624852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-#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71800" y="624852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09880" y="6248520"/>
            <a:ext cx="83844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6248520"/>
            <a:ext cx="114300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91320" y="624852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624852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467480" y="6248520"/>
            <a:ext cx="83844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26" idx="0"/>
            <a:endCxn id="430" idx="0"/>
          </p:cNvCxnSpPr>
          <p:nvPr/>
        </p:nvCxnSpPr>
        <p:spPr>
          <a:xfrm flipH="1" rot="16200000">
            <a:off x="5218920" y="4420080"/>
            <a:ext cx="2160" cy="3658320"/>
          </a:xfrm>
          <a:prstGeom prst="curvedConnector5">
            <a:avLst>
              <a:gd name="adj1" fmla="val -24000000"/>
              <a:gd name="adj2" fmla="val 49995"/>
              <a:gd name="adj3" fmla="val -24000000"/>
            </a:avLst>
          </a:prstGeom>
          <a:ln cap="sq" w="381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433" name=""/>
          <p:cNvCxnSpPr>
            <a:stCxn id="421" idx="2"/>
            <a:endCxn id="425" idx="0"/>
          </p:cNvCxnSpPr>
          <p:nvPr/>
        </p:nvCxnSpPr>
        <p:spPr>
          <a:xfrm flipH="1">
            <a:off x="2552040" y="5028840"/>
            <a:ext cx="4420440" cy="122004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434" name=""/>
          <p:cNvCxnSpPr>
            <a:stCxn id="416" idx="0"/>
            <a:endCxn id="420" idx="0"/>
          </p:cNvCxnSpPr>
          <p:nvPr/>
        </p:nvCxnSpPr>
        <p:spPr>
          <a:xfrm flipH="1" rot="16200000">
            <a:off x="3885480" y="2324520"/>
            <a:ext cx="2160" cy="4496400"/>
          </a:xfrm>
          <a:prstGeom prst="curvedConnector5">
            <a:avLst>
              <a:gd name="adj1" fmla="val -31200000"/>
              <a:gd name="adj2" fmla="val 49995"/>
              <a:gd name="adj3" fmla="val -31200000"/>
            </a:avLst>
          </a:prstGeom>
          <a:ln cap="sq" w="3816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04E-304B-47DE-A840-D2C9371E549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629400" y="3733920"/>
            <a:ext cx="1600200" cy="2971800"/>
          </a:xfrm>
          <a:prstGeom prst="rect">
            <a:avLst/>
          </a:prstGeom>
          <a:solidFill>
            <a:srgbClr val="cc0000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066680"/>
            <a:ext cx="1600200" cy="2667240"/>
          </a:xfrm>
          <a:prstGeom prst="rect">
            <a:avLst/>
          </a:prstGeom>
          <a:solidFill>
            <a:srgbClr val="00cc00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8960" y="586728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629400" y="152280"/>
            <a:ext cx="1600200" cy="457200"/>
          </a:xfrm>
          <a:prstGeom prst="rect">
            <a:avLst/>
          </a:prstGeom>
          <a:solidFill>
            <a:srgbClr val="5f5f5f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oot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629400" y="609480"/>
            <a:ext cx="1600200" cy="457200"/>
          </a:xfrm>
          <a:prstGeom prst="rect">
            <a:avLst/>
          </a:prstGeom>
          <a:solidFill>
            <a:srgbClr val="cc00cc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Super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629400" y="1066680"/>
            <a:ext cx="1600200" cy="4572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-n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29400" y="1784520"/>
            <a:ext cx="1600200" cy="4572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-n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29400" y="2546280"/>
            <a:ext cx="1600200" cy="4572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-n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29400" y="3308400"/>
            <a:ext cx="1600200" cy="4572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-n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170480" y="19368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170480" y="121932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164360" y="27432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47" name=""/>
          <p:cNvCxnSpPr>
            <a:stCxn id="448" idx="3"/>
            <a:endCxn id="449" idx="1"/>
          </p:cNvCxnSpPr>
          <p:nvPr/>
        </p:nvCxnSpPr>
        <p:spPr>
          <a:xfrm>
            <a:off x="1461600" y="5409720"/>
            <a:ext cx="748440" cy="1080"/>
          </a:xfrm>
          <a:prstGeom prst="bentConnector2">
            <a:avLst/>
          </a:prstGeom>
          <a:ln cap="sq" w="38160">
            <a:solidFill>
              <a:srgbClr val="00ccff"/>
            </a:solidFill>
            <a:miter/>
            <a:tailEnd len="sm" type="triangle" w="sm"/>
          </a:ln>
        </p:spPr>
      </p:cxnSp>
      <p:sp>
        <p:nvSpPr>
          <p:cNvPr id="450" name=""/>
          <p:cNvSpPr/>
          <p:nvPr/>
        </p:nvSpPr>
        <p:spPr>
          <a:xfrm>
            <a:off x="6629400" y="6248520"/>
            <a:ext cx="1600200" cy="457200"/>
          </a:xfrm>
          <a:prstGeom prst="rect">
            <a:avLst/>
          </a:prstGeom>
          <a:solidFill>
            <a:srgbClr val="cc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Current Di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29400" y="5410080"/>
            <a:ext cx="1600200" cy="457200"/>
          </a:xfrm>
          <a:prstGeom prst="rect">
            <a:avLst/>
          </a:prstGeom>
          <a:solidFill>
            <a:srgbClr val="cc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Report.t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43" idx="3"/>
            <a:endCxn id="450" idx="3"/>
          </p:cNvCxnSpPr>
          <p:nvPr/>
        </p:nvCxnSpPr>
        <p:spPr>
          <a:xfrm>
            <a:off x="8229600" y="3536640"/>
            <a:ext cx="2160" cy="2940480"/>
          </a:xfrm>
          <a:prstGeom prst="bentConnector3">
            <a:avLst>
              <a:gd name="adj1" fmla="val 14400000"/>
            </a:avLst>
          </a:prstGeom>
          <a:ln cap="sq" w="38160">
            <a:solidFill>
              <a:srgbClr val="ffff00"/>
            </a:solidFill>
            <a:miter/>
            <a:tailEnd len="sm" type="triangle" w="sm"/>
          </a:ln>
        </p:spPr>
      </p:cxnSp>
      <p:sp>
        <p:nvSpPr>
          <p:cNvPr id="453" name=""/>
          <p:cNvSpPr/>
          <p:nvPr/>
        </p:nvSpPr>
        <p:spPr>
          <a:xfrm>
            <a:off x="6629400" y="4648320"/>
            <a:ext cx="1600200" cy="457200"/>
          </a:xfrm>
          <a:prstGeom prst="rect">
            <a:avLst/>
          </a:prstGeom>
          <a:solidFill>
            <a:srgbClr val="cc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29400" y="3962520"/>
            <a:ext cx="1600200" cy="457200"/>
          </a:xfrm>
          <a:prstGeom prst="rect">
            <a:avLst/>
          </a:prstGeom>
          <a:solidFill>
            <a:srgbClr val="cc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164360" y="408312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164360" y="48448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4360" y="568332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42" idx="3"/>
            <a:endCxn id="451" idx="3"/>
          </p:cNvCxnSpPr>
          <p:nvPr/>
        </p:nvCxnSpPr>
        <p:spPr>
          <a:xfrm>
            <a:off x="8229600" y="2774520"/>
            <a:ext cx="2160" cy="2864520"/>
          </a:xfrm>
          <a:prstGeom prst="bentConnector3">
            <a:avLst>
              <a:gd name="adj1" fmla="val 27600000"/>
            </a:avLst>
          </a:prstGeom>
          <a:ln cap="sq" w="38160">
            <a:solidFill>
              <a:srgbClr val="ffff00"/>
            </a:solidFill>
            <a:miter/>
            <a:tailEnd len="sm" type="triangle" w="sm"/>
          </a:ln>
        </p:spPr>
      </p:cxnSp>
      <p:cxnSp>
        <p:nvCxnSpPr>
          <p:cNvPr id="459" name=""/>
          <p:cNvCxnSpPr>
            <a:stCxn id="441" idx="3"/>
            <a:endCxn id="453" idx="3"/>
          </p:cNvCxnSpPr>
          <p:nvPr/>
        </p:nvCxnSpPr>
        <p:spPr>
          <a:xfrm>
            <a:off x="8229600" y="2012760"/>
            <a:ext cx="2160" cy="2864520"/>
          </a:xfrm>
          <a:prstGeom prst="bentConnector3">
            <a:avLst>
              <a:gd name="adj1" fmla="val 38400000"/>
            </a:avLst>
          </a:prstGeom>
          <a:ln cap="sq" w="38160">
            <a:solidFill>
              <a:srgbClr val="ffff00"/>
            </a:solidFill>
            <a:miter/>
            <a:tailEnd len="sm" type="triangle" w="sm"/>
          </a:ln>
        </p:spPr>
      </p:cxnSp>
      <p:cxnSp>
        <p:nvCxnSpPr>
          <p:cNvPr id="460" name=""/>
          <p:cNvCxnSpPr>
            <a:stCxn id="440" idx="3"/>
            <a:endCxn id="454" idx="3"/>
          </p:cNvCxnSpPr>
          <p:nvPr/>
        </p:nvCxnSpPr>
        <p:spPr>
          <a:xfrm>
            <a:off x="8229600" y="1295280"/>
            <a:ext cx="2160" cy="2896560"/>
          </a:xfrm>
          <a:prstGeom prst="bentConnector3">
            <a:avLst>
              <a:gd name="adj1" fmla="val 50400000"/>
            </a:avLst>
          </a:prstGeom>
          <a:ln cap="sq" w="38160">
            <a:solidFill>
              <a:srgbClr val="ffff00"/>
            </a:solidFill>
            <a:miter/>
            <a:tailEnd len="sm" type="triangle" w="sm"/>
          </a:ln>
        </p:spPr>
      </p:cxnSp>
      <p:sp>
        <p:nvSpPr>
          <p:cNvPr id="461" name=""/>
          <p:cNvSpPr/>
          <p:nvPr/>
        </p:nvSpPr>
        <p:spPr>
          <a:xfrm>
            <a:off x="7164360" y="34290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5080" y="108108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-no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60680" y="588024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at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Bloc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2209680"/>
            <a:ext cx="1295280" cy="381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Times New Roman"/>
              </a:rPr>
              <a:t>Report.tx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00200" y="228600"/>
            <a:ext cx="1523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71600" y="1143000"/>
            <a:ext cx="1524240" cy="380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Times New Roman"/>
              </a:rPr>
              <a:t>k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05120" y="2209680"/>
            <a:ext cx="15238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24240" y="3048120"/>
            <a:ext cx="12952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i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69" name=""/>
          <p:cNvCxnSpPr>
            <a:stCxn id="465" idx="4"/>
            <a:endCxn id="470" idx="0"/>
          </p:cNvCxnSpPr>
          <p:nvPr/>
        </p:nvCxnSpPr>
        <p:spPr>
          <a:xfrm flipH="1">
            <a:off x="1052280" y="609480"/>
            <a:ext cx="1310400" cy="61056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71" name=""/>
          <p:cNvCxnSpPr>
            <a:stCxn id="465" idx="4"/>
            <a:endCxn id="466" idx="0"/>
          </p:cNvCxnSpPr>
          <p:nvPr/>
        </p:nvCxnSpPr>
        <p:spPr>
          <a:xfrm>
            <a:off x="2361960" y="609480"/>
            <a:ext cx="672120" cy="53424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72" name=""/>
          <p:cNvCxnSpPr>
            <a:stCxn id="467" idx="0"/>
            <a:endCxn id="466" idx="4"/>
          </p:cNvCxnSpPr>
          <p:nvPr/>
        </p:nvCxnSpPr>
        <p:spPr>
          <a:xfrm flipV="1">
            <a:off x="2666520" y="1523160"/>
            <a:ext cx="367560" cy="6865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73" name=""/>
          <p:cNvCxnSpPr>
            <a:stCxn id="474" idx="0"/>
            <a:endCxn id="466" idx="4"/>
          </p:cNvCxnSpPr>
          <p:nvPr/>
        </p:nvCxnSpPr>
        <p:spPr>
          <a:xfrm flipH="1" flipV="1">
            <a:off x="3033360" y="1523160"/>
            <a:ext cx="1310400" cy="6865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75" name=""/>
          <p:cNvCxnSpPr>
            <a:stCxn id="466" idx="4"/>
            <a:endCxn id="464" idx="0"/>
          </p:cNvCxnSpPr>
          <p:nvPr/>
        </p:nvCxnSpPr>
        <p:spPr>
          <a:xfrm flipH="1">
            <a:off x="951840" y="1523520"/>
            <a:ext cx="2081880" cy="6865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76" name=""/>
          <p:cNvCxnSpPr>
            <a:stCxn id="467" idx="4"/>
            <a:endCxn id="468" idx="0"/>
          </p:cNvCxnSpPr>
          <p:nvPr/>
        </p:nvCxnSpPr>
        <p:spPr>
          <a:xfrm>
            <a:off x="2666520" y="2590920"/>
            <a:ext cx="405720" cy="4579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290520" y="1219320"/>
            <a:ext cx="1523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Times New Roman"/>
              </a:rPr>
              <a:t>ale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81280" y="2209680"/>
            <a:ext cx="152424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ot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90720" y="3048120"/>
            <a:ext cx="12952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Times New Roman"/>
              </a:rPr>
              <a:t>gre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67" idx="4"/>
            <a:endCxn id="477" idx="0"/>
          </p:cNvCxnSpPr>
          <p:nvPr/>
        </p:nvCxnSpPr>
        <p:spPr>
          <a:xfrm flipH="1">
            <a:off x="1638000" y="2590920"/>
            <a:ext cx="1028880" cy="4579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318960" y="449568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86200" y="3581280"/>
            <a:ext cx="2362320" cy="2514600"/>
          </a:xfrm>
          <a:prstGeom prst="irregularSeal1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Device driv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8960" y="4952880"/>
            <a:ext cx="1143000" cy="9144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Curr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directo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0" idx="3"/>
            <a:endCxn id="443" idx="1"/>
          </p:cNvCxnSpPr>
          <p:nvPr/>
        </p:nvCxnSpPr>
        <p:spPr>
          <a:xfrm flipV="1">
            <a:off x="6248520" y="3536280"/>
            <a:ext cx="381600" cy="1593000"/>
          </a:xfrm>
          <a:prstGeom prst="bentConnector3">
            <a:avLst>
              <a:gd name="adj1" fmla="val 49952"/>
            </a:avLst>
          </a:prstGeom>
          <a:ln cap="sq" w="38160">
            <a:solidFill>
              <a:srgbClr val="00ccff"/>
            </a:solidFill>
            <a:miter/>
            <a:headEnd len="sm" type="triangle" w="sm"/>
            <a:tailEnd len="sm" type="triangle" w="sm"/>
          </a:ln>
        </p:spPr>
      </p:cxnSp>
      <p:sp>
        <p:nvSpPr>
          <p:cNvPr id="482" name=""/>
          <p:cNvSpPr/>
          <p:nvPr/>
        </p:nvSpPr>
        <p:spPr>
          <a:xfrm>
            <a:off x="230400" y="39765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u are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09680" y="4495680"/>
            <a:ext cx="1219320" cy="1873440"/>
          </a:xfrm>
          <a:prstGeom prst="rect">
            <a:avLst/>
          </a:prstGeom>
          <a:solidFill>
            <a:srgbClr val="00cc00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09680" y="4495680"/>
            <a:ext cx="1219320" cy="38124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-n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09680" y="5181480"/>
            <a:ext cx="1219320" cy="4572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-n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09680" y="5943600"/>
            <a:ext cx="1219320" cy="4572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-n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52480" y="45720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646360" y="53784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49" idx="3"/>
            <a:endCxn id="480" idx="1"/>
          </p:cNvCxnSpPr>
          <p:nvPr/>
        </p:nvCxnSpPr>
        <p:spPr>
          <a:xfrm flipV="1">
            <a:off x="3429000" y="4583880"/>
            <a:ext cx="457920" cy="826200"/>
          </a:xfrm>
          <a:prstGeom prst="bentConnector3">
            <a:avLst>
              <a:gd name="adj1" fmla="val 49960"/>
            </a:avLst>
          </a:prstGeom>
          <a:ln cap="sq" w="38160">
            <a:solidFill>
              <a:srgbClr val="00ccff"/>
            </a:solidFill>
            <a:miter/>
            <a:headEnd len="sm" type="triangle" w="sm"/>
            <a:tailEnd len="sm" type="triangle" w="sm"/>
          </a:ln>
        </p:spPr>
      </p:cxnSp>
      <p:sp>
        <p:nvSpPr>
          <p:cNvPr id="489" name=""/>
          <p:cNvSpPr/>
          <p:nvPr/>
        </p:nvSpPr>
        <p:spPr>
          <a:xfrm>
            <a:off x="2189880" y="3581280"/>
            <a:ext cx="14655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ff00"/>
                </a:solidFill>
                <a:latin typeface="Arial"/>
              </a:rPr>
              <a:t>In-cor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ff00"/>
                </a:solidFill>
                <a:latin typeface="Arial"/>
              </a:rPr>
              <a:t>ino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D24-78B7-4B7A-BF4F-B85F86122EC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In-core inode tabl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3280" y="1895400"/>
            <a:ext cx="8566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UNIX system keeps regular files and directories on blo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evices such as disk or tape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uch disk space are called physical device address spa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kernel deals on a logical level with file system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(logical device address space) rather than with disk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isk driver can transfer logical addresses into physic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evice address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-core (memory resident) inode table stores th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ode information in kernel spa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9C1-445D-4B74-A983-56842D2F6CB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In-core inode tabl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94360" y="1895400"/>
            <a:ext cx="6918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n in-core inode co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all the information of inode in disk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status of in-core ino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ode is locked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ode data chang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file data chang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. the logic device number of the file syste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. inode numb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. reference coun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25A-45B4-4767-956E-8F181F7A4FF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 tabl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3640" y="1895400"/>
            <a:ext cx="846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kernel have a global data structure, called file table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o store information of file acc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ach entry in file table contain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a pointer to in-core inode 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the offset of  next read or write in the fi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. access rights (r/w) allowed to the opening proc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. reference cou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BF5-B33D-41C4-A960-5A34B48B777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r File Descriptor tabl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1480" y="1895400"/>
            <a:ext cx="825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ch process has a user file descriptor table to identif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opened fi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 entry in user file descriptor table pointer to an ent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f kernel’s global file tab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try 0: standard in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try 1: standard out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try 2: error output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B53-7CBB-409F-9AF4-2EDAA5671C7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: op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3280" y="1819440"/>
            <a:ext cx="8457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open: A process may open a existing file to read or wr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fd = open(pathname, mode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pathname is the filename to be open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mode: read/wr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871-6DFB-4618-A9CB-897B341E27D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567360" y="1066680"/>
            <a:ext cx="7672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fcntl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d1, fd2, fd3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Before open ...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1 = open("/etc/passwd", O_RD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2 = open("./openEx1.c", O_WR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3 = open("/etc/passwd", O_RD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1=%d  fd2=%d  fd3=%d \n", fd1, fd2, fd3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02400" y="1130400"/>
            <a:ext cx="410796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openEx1.c -o open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open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Before open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1=3  fd2=4  fd3=5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B475-9FEF-41E7-8538-15ECF5A5112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 Control Sub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1360" y="2048040"/>
            <a:ext cx="478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rocess Synchroniz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terprocess commun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Memory management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cheduler: process schedul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(allocate CPU to Processe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F2A-C534-440D-8DA8-9B39B5F76E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7045200" y="1873080"/>
            <a:ext cx="1752840" cy="4527720"/>
          </a:xfrm>
          <a:prstGeom prst="rect">
            <a:avLst/>
          </a:prstGeom>
          <a:solidFill>
            <a:srgbClr val="00cc00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45200" y="1873080"/>
            <a:ext cx="1752840" cy="87012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45200" y="2666880"/>
            <a:ext cx="1752840" cy="76212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</a:rPr>
              <a:t>CNT=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</a:rPr>
              <a:t>/etc/passw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045200" y="4343400"/>
            <a:ext cx="1752840" cy="99072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NT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/openEx2.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123680" y="762120"/>
            <a:ext cx="146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cc00"/>
                </a:solidFill>
                <a:latin typeface="Arial"/>
              </a:rPr>
              <a:t>in-cor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cc00"/>
                </a:solidFill>
                <a:latin typeface="Arial"/>
              </a:rPr>
              <a:t>ino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59092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inter 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escriptor t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327672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2000" y="121932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U are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90512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531880" y="380880"/>
            <a:ext cx="184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User fi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descripto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701800" y="182880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01800" y="2209680"/>
            <a:ext cx="990720" cy="3812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701800" y="259092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01800" y="297180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01800" y="3352680"/>
            <a:ext cx="990720" cy="3812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01800" y="373392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01800" y="411480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01800" y="4495680"/>
            <a:ext cx="990720" cy="3812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701800" y="4876920"/>
            <a:ext cx="990720" cy="160020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35120" y="2057040"/>
            <a:ext cx="1066680" cy="762120"/>
          </a:xfrm>
          <a:prstGeom prst="line">
            <a:avLst/>
          </a:prstGeom>
          <a:ln cap="sq" w="38160">
            <a:solidFill>
              <a:srgbClr val="00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45200" y="5334120"/>
            <a:ext cx="1752840" cy="106668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683240" y="1873080"/>
            <a:ext cx="1447560" cy="3918240"/>
          </a:xfrm>
          <a:prstGeom prst="rect">
            <a:avLst/>
          </a:prstGeom>
          <a:solidFill>
            <a:srgbClr val="ffff66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683240" y="1873080"/>
            <a:ext cx="1447560" cy="71784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683240" y="25909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NT=1 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683240" y="35053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NT=1 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683240" y="3962520"/>
            <a:ext cx="1447560" cy="13716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683240" y="53341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NT=1 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84680" y="115740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ile 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83240" y="5791320"/>
            <a:ext cx="14475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683240" y="30481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045200" y="3429000"/>
            <a:ext cx="1752840" cy="9144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26" idx="3"/>
            <a:endCxn id="505" idx="1"/>
          </p:cNvCxnSpPr>
          <p:nvPr/>
        </p:nvCxnSpPr>
        <p:spPr>
          <a:xfrm>
            <a:off x="6130800" y="3733560"/>
            <a:ext cx="915120" cy="110556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534" name=""/>
          <p:cNvCxnSpPr>
            <a:endCxn id="504" idx="1"/>
          </p:cNvCxnSpPr>
          <p:nvPr/>
        </p:nvCxnSpPr>
        <p:spPr>
          <a:xfrm>
            <a:off x="6130800" y="2819160"/>
            <a:ext cx="915120" cy="22932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535" name=""/>
          <p:cNvCxnSpPr>
            <a:stCxn id="528" idx="3"/>
            <a:endCxn id="504" idx="1"/>
          </p:cNvCxnSpPr>
          <p:nvPr/>
        </p:nvCxnSpPr>
        <p:spPr>
          <a:xfrm flipV="1">
            <a:off x="6130800" y="3047400"/>
            <a:ext cx="915120" cy="251532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536" name=""/>
          <p:cNvCxnSpPr>
            <a:stCxn id="516" idx="3"/>
            <a:endCxn id="526" idx="1"/>
          </p:cNvCxnSpPr>
          <p:nvPr/>
        </p:nvCxnSpPr>
        <p:spPr>
          <a:xfrm>
            <a:off x="3692520" y="3543120"/>
            <a:ext cx="991440" cy="19116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537" name=""/>
          <p:cNvCxnSpPr>
            <a:stCxn id="517" idx="3"/>
            <a:endCxn id="528" idx="1"/>
          </p:cNvCxnSpPr>
          <p:nvPr/>
        </p:nvCxnSpPr>
        <p:spPr>
          <a:xfrm>
            <a:off x="3692520" y="3924000"/>
            <a:ext cx="991440" cy="163908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538" name=""/>
          <p:cNvCxnSpPr>
            <a:stCxn id="515" idx="3"/>
            <a:endCxn id="525" idx="1"/>
          </p:cNvCxnSpPr>
          <p:nvPr/>
        </p:nvCxnSpPr>
        <p:spPr>
          <a:xfrm flipV="1">
            <a:off x="3692520" y="2819160"/>
            <a:ext cx="991440" cy="34344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E21-6596-4528-AA1C-10D6F69AE11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: rea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95080" y="1819440"/>
            <a:ext cx="610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read: A process may read an opened fi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fd = read(fd, buffer, count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fd: file descrip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buffer: data to be stored 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. count: the number (count) of by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64C-FAFD-48CC-B6A8-302FBAE3CE2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01680" y="117360"/>
            <a:ext cx="6156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fcntl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d1, fd2, fd3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char buf1[20], buf2[20]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buf1[19]='\0'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buf2[19]='\0'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=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1 = open("/etc/passwd", O_RD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read(fd1, buf1, 19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1=%d  buf1=%s \n",fd1, buf1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read(fd1, buf2, 19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1=%d  buf2=%s \n",fd1, buf2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=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15880" y="339840"/>
            <a:ext cx="4839480" cy="302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openEx2.c -o openEx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openEx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1=3  buf1=root:x:0:1:Super-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1=3  buf2=er:/:/sbin/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daem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068-1762-4CCE-ABA9-4732306F79E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301680" y="117360"/>
            <a:ext cx="6156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fcntl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d1, fd2, fd3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char buf1[20], buf2[20]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buf1[19]='\0'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buf2[19]='\0'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1 = open("/etc/passwd", O_RD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2 = open("/etc/passwd", O_RD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read(fd1, buf1, 19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1=%d  buf1=%s \n",fd1, buf1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read(fd2, buf2, 19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2=%d  buf2=%s \n",fd2, buf2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15160" y="339840"/>
            <a:ext cx="4924800" cy="265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openEx3.c -o openEx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openEx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1=3  buf1=root:x:0:1:Super-U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2=4  buf2=root:x:0:1:Super-U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623-8768-47A4-852A-500568EBBF0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7045200" y="1873080"/>
            <a:ext cx="1752840" cy="4527720"/>
          </a:xfrm>
          <a:prstGeom prst="rect">
            <a:avLst/>
          </a:prstGeom>
          <a:solidFill>
            <a:srgbClr val="00cc00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045200" y="1873080"/>
            <a:ext cx="1752840" cy="87012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045200" y="2666880"/>
            <a:ext cx="1752840" cy="76212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</a:rPr>
              <a:t>CNT=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</a:rPr>
              <a:t>/etc/passw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45200" y="4343400"/>
            <a:ext cx="1752840" cy="99072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123680" y="762120"/>
            <a:ext cx="146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cc00"/>
                </a:solidFill>
                <a:latin typeface="Arial"/>
              </a:rPr>
              <a:t>in-cor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cc00"/>
                </a:solidFill>
                <a:latin typeface="Arial"/>
              </a:rPr>
              <a:t>ino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9480" y="259092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escript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9480" y="327672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12000" y="121932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U are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190512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31880" y="380880"/>
            <a:ext cx="184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User fi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descripto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01800" y="182880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01800" y="2209680"/>
            <a:ext cx="990720" cy="3812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01800" y="259092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01800" y="297180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01800" y="3352680"/>
            <a:ext cx="990720" cy="3812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01800" y="373392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701800" y="411480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701800" y="4495680"/>
            <a:ext cx="990720" cy="3812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01800" y="4876920"/>
            <a:ext cx="990720" cy="160020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1635120" y="2057040"/>
            <a:ext cx="1066680" cy="762120"/>
          </a:xfrm>
          <a:prstGeom prst="line">
            <a:avLst/>
          </a:prstGeom>
          <a:ln cap="sq" w="38160">
            <a:solidFill>
              <a:srgbClr val="00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045200" y="5334120"/>
            <a:ext cx="1752840" cy="106668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83240" y="1873080"/>
            <a:ext cx="1447560" cy="3918240"/>
          </a:xfrm>
          <a:prstGeom prst="rect">
            <a:avLst/>
          </a:prstGeom>
          <a:solidFill>
            <a:srgbClr val="ffff66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83240" y="1873080"/>
            <a:ext cx="1447560" cy="71784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83240" y="25909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NT=1 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683240" y="35053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83240" y="3962520"/>
            <a:ext cx="1447560" cy="13716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83240" y="53341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NT=1 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84680" y="115740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ile 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83240" y="5791320"/>
            <a:ext cx="14475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683240" y="30481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45200" y="3429000"/>
            <a:ext cx="1752840" cy="9144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76" name=""/>
          <p:cNvCxnSpPr>
            <a:endCxn id="547" idx="1"/>
          </p:cNvCxnSpPr>
          <p:nvPr/>
        </p:nvCxnSpPr>
        <p:spPr>
          <a:xfrm>
            <a:off x="6130800" y="2819160"/>
            <a:ext cx="915120" cy="22932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577" name=""/>
          <p:cNvCxnSpPr>
            <a:stCxn id="571" idx="3"/>
            <a:endCxn id="547" idx="1"/>
          </p:cNvCxnSpPr>
          <p:nvPr/>
        </p:nvCxnSpPr>
        <p:spPr>
          <a:xfrm flipV="1">
            <a:off x="6130800" y="3047400"/>
            <a:ext cx="915120" cy="251532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578" name=""/>
          <p:cNvCxnSpPr>
            <a:stCxn id="559" idx="3"/>
            <a:endCxn id="571" idx="1"/>
          </p:cNvCxnSpPr>
          <p:nvPr/>
        </p:nvCxnSpPr>
        <p:spPr>
          <a:xfrm>
            <a:off x="3692520" y="3543120"/>
            <a:ext cx="991440" cy="201996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579" name=""/>
          <p:cNvCxnSpPr>
            <a:stCxn id="558" idx="3"/>
            <a:endCxn id="568" idx="1"/>
          </p:cNvCxnSpPr>
          <p:nvPr/>
        </p:nvCxnSpPr>
        <p:spPr>
          <a:xfrm flipV="1">
            <a:off x="3692520" y="2819160"/>
            <a:ext cx="991440" cy="34344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6C36-42E3-43E9-A477-A10BD56CD1B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System Call: du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91120" y="1819440"/>
            <a:ext cx="8196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up: copy a file descriptor into the first free slot of th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user file descriptor tab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newfd = dup(fd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fd: file descrip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6F0-7402-424A-87A5-42CE2069D77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297360" y="76320"/>
            <a:ext cx="67827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fcntl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d1, fd2, fd3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char buf1[20], buf2[20]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buf1[19]='\0'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buf2[19]='\0'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1 = open("/etc/passwd", O_RD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2 = dup(fd1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read(fd1, buf1, 19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1=%d  buf1=%s \n",fd1, buf1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read(fd2, buf2, 19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2=%d  buf2=%s \n",fd2, buf2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\n");   char buf1[20], buf2[20]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5160" y="339840"/>
            <a:ext cx="4924800" cy="302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openEx4.c -o openEx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openEx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1=3  buf1=root:x:0:1:Super-U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2=4  buf2=er:/:/sbin/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daem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870-AD15-4500-8510-4E6DCD1D6F4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7045200" y="1873080"/>
            <a:ext cx="1752840" cy="4527720"/>
          </a:xfrm>
          <a:prstGeom prst="rect">
            <a:avLst/>
          </a:prstGeom>
          <a:solidFill>
            <a:srgbClr val="00cc00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045200" y="1873080"/>
            <a:ext cx="1752840" cy="87012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045200" y="2666880"/>
            <a:ext cx="1752840" cy="76212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</a:rPr>
              <a:t>CNT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</a:rPr>
              <a:t>/etc/passw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045200" y="4343400"/>
            <a:ext cx="1752840" cy="99072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123680" y="762120"/>
            <a:ext cx="146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cc00"/>
                </a:solidFill>
                <a:latin typeface="Arial"/>
              </a:rPr>
              <a:t>in-cor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cc00"/>
                </a:solidFill>
                <a:latin typeface="Arial"/>
              </a:rPr>
              <a:t>ino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9480" y="259092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escript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9480" y="327672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12000" y="121932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U are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9480" y="190512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31880" y="380880"/>
            <a:ext cx="184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User fi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descripto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701800" y="182880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01800" y="2209680"/>
            <a:ext cx="990720" cy="3812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01800" y="259092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01800" y="297180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01800" y="3352680"/>
            <a:ext cx="990720" cy="3812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01800" y="373392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701800" y="411480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01800" y="4495680"/>
            <a:ext cx="990720" cy="3812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701800" y="4876920"/>
            <a:ext cx="990720" cy="160020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635120" y="2057040"/>
            <a:ext cx="1066680" cy="762120"/>
          </a:xfrm>
          <a:prstGeom prst="line">
            <a:avLst/>
          </a:prstGeom>
          <a:ln cap="sq" w="38160">
            <a:solidFill>
              <a:srgbClr val="00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045200" y="5334120"/>
            <a:ext cx="1752840" cy="106668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683240" y="1873080"/>
            <a:ext cx="1447560" cy="4604040"/>
          </a:xfrm>
          <a:prstGeom prst="rect">
            <a:avLst/>
          </a:prstGeom>
          <a:solidFill>
            <a:srgbClr val="ffff66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83240" y="1873080"/>
            <a:ext cx="1447560" cy="71784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683240" y="25909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NT=2 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83240" y="35053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683240" y="3962520"/>
            <a:ext cx="1447560" cy="13716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83240" y="53341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84680" y="115740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ile 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683240" y="5791320"/>
            <a:ext cx="14475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683240" y="30481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045200" y="3429000"/>
            <a:ext cx="1752840" cy="9144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615" name=""/>
          <p:cNvCxnSpPr>
            <a:endCxn id="586" idx="1"/>
          </p:cNvCxnSpPr>
          <p:nvPr/>
        </p:nvCxnSpPr>
        <p:spPr>
          <a:xfrm>
            <a:off x="6130800" y="2819160"/>
            <a:ext cx="915120" cy="22932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616" name=""/>
          <p:cNvCxnSpPr>
            <a:stCxn id="598" idx="3"/>
            <a:endCxn id="607" idx="1"/>
          </p:cNvCxnSpPr>
          <p:nvPr/>
        </p:nvCxnSpPr>
        <p:spPr>
          <a:xfrm flipV="1">
            <a:off x="3692520" y="2818800"/>
            <a:ext cx="991440" cy="72468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617" name=""/>
          <p:cNvCxnSpPr>
            <a:stCxn id="597" idx="3"/>
            <a:endCxn id="607" idx="1"/>
          </p:cNvCxnSpPr>
          <p:nvPr/>
        </p:nvCxnSpPr>
        <p:spPr>
          <a:xfrm flipV="1">
            <a:off x="3692520" y="2819160"/>
            <a:ext cx="991440" cy="34344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9C0-149D-4E52-A4A0-604F6F9A00C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System Call: cre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96160" y="1819440"/>
            <a:ext cx="8189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reat: A process may create a new file by creat system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a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fd = write(pathname, mode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pathname: file na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mode: read/wr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D544-A5AB-4578-AD23-F5BF46E84FE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: clo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3640" y="1819440"/>
            <a:ext cx="7475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lose: A process may close a file by close system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a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close(fd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fd: file descrip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F27-FC8A-485D-81DD-27719868060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 sub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1840" y="1971720"/>
            <a:ext cx="807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 file system is a collection of files and directories 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 disk or tape in standard UNIX file system format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Kernel’s file sybsystem regulates data flow betwe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kernel and secondary storage device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2DD-43F3-48EB-ACA6-BB6ED09A2D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: wri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94720" y="1819440"/>
            <a:ext cx="7387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write: A process may write data to an opened fi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fd = write(fd, buffer, count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fd: file descrip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buffer: data to be stored 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. count: the number (count) of by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E043-46FA-4E1E-996C-D2E73CF6859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215720" y="152280"/>
            <a:ext cx="6449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/* creatEx1.c *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fcntl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d1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char *buf1="I am a string\n"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char *buf2="second line\n"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1 = creat("./testCreat.txt", O_WR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write(fd1, buf1, 20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write(fd1, buf2, 30)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1=%d  buf1=%s \n",fd1, buf1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close(fd1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chmod("./testCreat.txt", 0666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5C9-6A86-4D69-B299-F05A4B7BE9F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63800" y="1676520"/>
            <a:ext cx="8989560" cy="375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creatEx1.c -o creat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reat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1=3  buf1=I am a str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ls -l testCreat.t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-rw-rw-rw-   1 cheng    staff         50 May 10 20:37 testCreat.t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more testCreat.t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169-8C06-4C65-BDCB-D3F1324F805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System Call: stat/fst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1360" y="1819440"/>
            <a:ext cx="8686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tat/fstat: A process may query the status of a file (locke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file type, file owner, access permission. file size, numb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of links, inode number, access tim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stat(pathname, statbuffer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f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stat(fd, statbuffer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pathname: file na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statbuffer: read in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. fd: file descrip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064-3E88-4BCE-9F6E-B5BCF42140F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27000" y="152280"/>
            <a:ext cx="9198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/* statEx1.c *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ys/stat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d1, fd2, fd3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struct stat bufStat1, bufStat2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char buf1[20], buf2[20]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1 = open("/etc/passwd", O_RD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2 = open("./statEx1", O_RD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stat(fd1, &amp;bufStat1);    fstat(fd2, &amp;bufStat2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1=%d inode no=%d block size=%d blocks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1, bufStat1.st_ino,bufStat1.st_blksize, bufStat1.st_blocks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2=%d inode no=%d block size=%d blocks=%d\n"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2, bufStat2.st_ino,bufStat2.st_blksize, bufStat2.st_blocks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DA5-ADB9-4A36-B419-4C8310008C8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763200" y="1752480"/>
            <a:ext cx="7158960" cy="265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statEx1.c -o stat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stat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1=3 inode no=21954 block size=8192 blocks=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2=4 inode no=190611 block size=8192 blocks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147-C36B-4520-8C7B-58EDF0D163E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: link/unli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94360" y="1819440"/>
            <a:ext cx="8212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link: hardlink a file to another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link(sourceFile, targetFile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unlink(fil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sourceFile targetFile, file: file na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Lab exercise: write a c program which use link/unlin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stem call. Use ls -l to see the reference cou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74E-379C-4808-8101-8215046A383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System Call: chdi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93640" y="1819440"/>
            <a:ext cx="768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hdir: A process may change the current directory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of a process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chdir(pathname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pathname: file na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6E4-8A45-4BE9-8428-C756BE3D499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919440" y="1905120"/>
            <a:ext cx="4074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#include &lt;fcntl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chdir("/usr/bin"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system("ls -l"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39760" y="1981080"/>
            <a:ext cx="247428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33"/>
                </a:solidFill>
                <a:latin typeface="Arial"/>
              </a:rPr>
              <a:t>$ ls -l /usr/b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6AC-7071-4E86-936D-AA43D2AE391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1296000" y="2378160"/>
            <a:ext cx="650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Times New Roman"/>
              </a:rPr>
              <a:t>End of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Times New Roman"/>
              </a:rPr>
              <a:t>System Kernel Lec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F3A-BC2B-487B-9A66-7EB404D873A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dware Contr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7080" y="2124000"/>
            <a:ext cx="821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rdware control is responsible for handling interrup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d for communicating with the machin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vices such as disks or terminals may interrupt th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PU while a process is execut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kernel may resume execution of the interrupte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cess after servicing the interrup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1C9-8540-490B-B157-B4D96FC2E9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2920" y="1743120"/>
            <a:ext cx="793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 program is an executable fi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 process is an instance of the program in execu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For example: create two active proces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1800" y="3124080"/>
            <a:ext cx="4082040" cy="350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$ emacs &amp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$ emacs &amp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$ 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PID</a:t>
            </a: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  TTY   TIME CM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12893  pts/4 0:00 tcs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12581  pts/4 0:01 emac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12582  pts/4 0:01 emac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00F-601B-4652-B6F1-19D59738B8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3T04:29:41Z</dcterms:created>
  <dc:creator>cheng</dc:creator>
  <dc:description/>
  <dc:language>en-US</dc:language>
  <cp:lastModifiedBy>TSC</cp:lastModifiedBy>
  <cp:lastPrinted>1999-05-11T00:14:04Z</cp:lastPrinted>
  <dcterms:modified xsi:type="dcterms:W3CDTF">1999-05-11T06:46:11Z</dcterms:modified>
  <cp:revision>104</cp:revision>
  <dc:subject/>
  <dc:title>Architecture of Unix System</dc:title>
</cp:coreProperties>
</file>