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447840" y="176040"/>
            <a:ext cx="5975280" cy="448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6720" y="8669160"/>
            <a:ext cx="540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atabase Administration Fundamentals I   A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fld id="{0707AD46-57CA-4AF9-800B-1DD131AF184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77720" y="4821120"/>
            <a:ext cx="59277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77720" y="654120"/>
            <a:ext cx="592776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286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s to Create a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7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six steps to creating a useable database: three steps to create the database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7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e additional steps to make it us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the operating system environment variable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/Create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s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arameter fi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 in SQL*Plu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requir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a tablespace for user data and any other tablespaces that might be required to meet the needs of the datab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6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contents of this document are written with the assumption that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4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has been installed in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Installation of 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4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covered in this appendi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77720" y="735120"/>
            <a:ext cx="5927760" cy="803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ting the Environ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fore a database is created, the UNIX environment must be configured and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must have already been install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 environment variables must be set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the full path to the top directory in which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installed. The directory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hould be supplied by the person who installed the server, usually the UNIX administrator or the DB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a user-definable name assigned to an instance of a database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system identifier) is used by the operating system to distinguish different database instances running on the machin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fines the directories the operating system searches to find executables, such as SQL*Plus.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xecutables are located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b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must be added to th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fines the directories in which required library files are stor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rne or Korn shell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ACLE_HOME=/u01/oracle9i/product/9.0.1; export ORACLE_HOM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ACLE_SID=db01; export ORACLE_SI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TH=/usr/bin:/usr/ccs/bin:$ORACLE_HOME/bin; export PATH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LD_LIBRARY_PATH=/usr/lib:$ORACLE_HOME/lib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xport LD_LIBRARY_PA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 shell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ORACLE_HOME /u01/oracle9i/product/9.0.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ORACLE_SID 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PATH $PATH:$ORACLE_HOME/bi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LD_LIBRARY_PATH /usr/lib:$ORACLE_HOME/lib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77720" y="779040"/>
            <a:ext cx="5927760" cy="803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i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/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, a user-configured text file, is read each time the database starts. The parameters in the file initialize the database settings. The parameter settings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affect not only the database at startup but also how the database is created. Prior to creating the database,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must be configur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installed, a s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is placed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db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Keep this file as a backup and do not modify it. Create a copy of the file containing the name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d $ORACLE_HOME/db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p init.ora initdb01.or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has many comments containing suggestions for parameter setting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arameters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eed not be in any order. However, if a parameter is listed more than once, the last setting is the one used.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ference suggests placing the parameters in alphabetical order to prevent duplic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ollowing parameters must be configured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rol_fil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ground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re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_manage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ground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re_dump_de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arameters are set to the full path locations where trace files are to be plac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652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re_dump_de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ins core dumps generated by the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652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_dump_de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ins user trace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652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ground_dump_de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ins trace files for the backgro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es and the alert.log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the name of the database, which is used for a purpose different from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the name that is used to designate an instance of the database. Many times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the same but it is not a requirement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ust be identical (case sensitive) to the name of the database that is used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 when the database is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rol_fil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itialization parameter designates the full path and filename of each control file for the database. For the creation of the database, it identifies the control files that must be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_manage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itialization parameter determines whether the Oracle server automatically or the DBA manually handles undo data. Se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_manage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initialization fil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 the end of Appendix A is an ex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db01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 the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setting the environment and configuring th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database can be created. An Oracle database is created by executing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BA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, specifies the number and location of the log files, the location and size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space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space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space, and the character set for the database (this is not an exhaustive list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Oracle utility SQL*Plus is used when creating the database. The UNIX executable for SQL*Plus is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creating a database,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only aware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ser and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DB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role. To create a database, you must connect to SQL*Plus as the us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the ro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DB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This can be accomplished in one of two method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UNIX user who usually connects to SQL*Plus is part of the administrator’s group, defined during the installation of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, then the following syntax can be us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 '/ as sysdba 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/nolo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nect / as sysdb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UNIX user who connects to SQL*Plus is not part of the administrator’s group, then a password file must be created for the database by an administrator, and the password assigned to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password file must be used. The following syntax assumes the password assigned to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password file 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'sys/oracle as sysdba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/nolo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nect sys/oracle as sysbd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eps to create and execute the SQL statement ar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a SQL script that contains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. (At the end of Appendix A is a sample create database script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 to SQL*Plus a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 AS SYSDB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one of the two methods shown abov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up the database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MOU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od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 the SQL scrip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 the Database (continu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'sys/oracle as sysdba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tartup nomou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ACLE instance start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Total System Global Area   21790532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Fixed Size                   278340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Variable Size              16777216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atabase Buffers            4194304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Redo Buffers                 540672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crdbdb01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CREATE DATABASE 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     LOG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       GROUP 1 ('$HOME/ORADATA/u03/log_01_01_db01.rdo') SIZ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M,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       GROUP 2 ('$HOME/ORADATA/u03/log_02_01_db01.rdo') SIZ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5     DATAFILE '$HOME/ORADATA/u01/system_01_db01.dbf' SIZE 10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 AUTOEXTEND ON NEXT 5M MAXSIZE 150M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7     DEFAULT TEMPORARY TABLESPACE te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8        TEMPFILE '$HOME/ORADATA/u02/temp_01_db01.dbf' SIZE 15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9        AUTOEXTEND ON NEXT 5M MAXSIZE 3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     CHARACTER SET WE8ISO8859P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1     NATIONAL CHARACTER SET AL16UTF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2  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tatement process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ipts that are located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rdbms/adm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must be run after the database is created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 creates the data dictionary views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reates the packages and procedures required to use PL/SQ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h scripts must be run as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Before executing the scripts, make sure the database is ope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/nolo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NECT / AS SYSDB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$ORACLE_HOME/rdbms/admin/catalog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$ORACLE_HOME/rdbms/admin/catproc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 a system that is not busy, the total time for both scripts to complete is between 35 and 65 minut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these scripts have run, verify that the objects are valid. The following query returns any invalid objec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LECT  owner,object_name,object_typ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FROM     dba_objec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WHERE    status = 'INVALID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DER BY owner,object_type,object_name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 that is located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sqlplus/adm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creates the Product User Profile table and related procedures. Running this script, among other purposes, prevents a warning message each time a user connects to SQL*Plus. The script must be run as us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system/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$ORACLE_HOME/sqlplus/admin/pupbld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 Tablespa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the other tablespaces that are required for the instal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a database installation, the following tablespaces are usually created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o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s created by the us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should be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reate tablespace US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atafile '$HOME/ORADATA/u03/users_01_db01.dbf' SIZE 25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XTENT MANAGEMENT LOCAL UNIFORM SIZE 128K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GMENT SPACE MANAGEMENT auto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the tablespaces that are required for the datab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db01.o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background_dump_dest=$HOME/ADMIN/BDU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mpatible=9.0.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trol_files=$HOME/ORADATA/u01/ctrl_01_sid.ct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re_dump_dest=$HOME/ADMIN/CDU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block_size=409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cache_size=4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domain=worl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name=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global_names=TR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nstance_name=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ax_dump_file_size=1024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remote_login_passwordfile=exclusiv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rvice_names=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hared_pool_size=8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ndo_management=AUT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er_dump_dest=$HOME/ADMIN/UDU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ple Script to a Create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REATE DATABASE 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LOG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GROUP 1 ('$HOME/ORADATA/u03/log_01_01_db01.rdo') SIZE 10M,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GROUP 2 ('$HOME/ORADATA/u03/log_02_01_db01.rdo') SIZE 1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ATAFILE '$HOME/ORADATA/u01/system_01_db01.dbf' SIZE 10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AUTOEXTEND ON NEXT 5M MAXSIZE 150M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EFAULT TEMPORARY TABLESPACE te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TEMPFILE '$HOME/ORADATA/u02/temp_01_db01.dbf' SIZE 15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AUTOEXTEND ON NEXT 5M MAXSIZE 3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RACTER SET WE8ISO8859P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NATIONAL CHARACTER SET AL16UTF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430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3" name="Slide_Page_Number"/>
          <p:cNvSpPr/>
          <p:nvPr/>
        </p:nvSpPr>
        <p:spPr>
          <a:xfrm>
            <a:off x="457200" y="6654960"/>
            <a:ext cx="965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-</a:t>
            </a:r>
            <a:fld id="{9F9FBF2D-1DAE-447E-A850-A1A31D2F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_Gray_Number"/>
          <p:cNvSpPr/>
          <p:nvPr/>
        </p:nvSpPr>
        <p:spPr>
          <a:xfrm>
            <a:off x="939960" y="952560"/>
            <a:ext cx="730224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7700" spc="-1" strike="noStrike">
                <a:solidFill>
                  <a:srgbClr val="cccccc"/>
                </a:solidFill>
                <a:latin typeface="Times New Roman"/>
              </a:rPr>
              <a:t>A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44" name="Titl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58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1440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Create an Oracle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atabase in a UNIX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Internal Systems</cp:lastModifiedBy>
  <cp:lastPrinted>2002-09-07T13:09:42Z</cp:lastPrinted>
  <dcterms:modified xsi:type="dcterms:W3CDTF">2002-09-25T22:39:16Z</dcterms:modified>
  <cp:revision>748</cp:revision>
  <dc:subject/>
  <dc:title>Jerry Held</dc:title>
</cp:coreProperties>
</file>