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447840" y="176040"/>
            <a:ext cx="5975280" cy="448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6720" y="8669160"/>
            <a:ext cx="540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9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atabase Administration Fundamentals I   A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fld id="{3C65F4CA-BD59-464D-9827-6A9256D088B7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77720" y="4821120"/>
            <a:ext cx="592776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477720" y="654120"/>
            <a:ext cx="5927760" cy="374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marL="22860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ps to Create a Datab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7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 are six steps to creating a useable database: three steps to create the database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7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ree additional steps to make it usabl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20560" indent="-228600">
              <a:lnSpc>
                <a:spcPct val="87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the operating system environment variable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HOME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SID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D_LIBRARY_PAT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52056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it/Create a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</a:t>
            </a:r>
            <a:r>
              <a:rPr b="1" i="1" lang="en-US" sz="1200" spc="-1" strike="noStrike">
                <a:solidFill>
                  <a:srgbClr val="000000"/>
                </a:solidFill>
                <a:latin typeface="Courier New"/>
              </a:rPr>
              <a:t>s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or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arameter fil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2056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ute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REATE DATABAS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ommand in SQL*Plu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2056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n the require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talog.sq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tproc.sq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cript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2056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n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pbld.sq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crip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52056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te a tablespace for user data and any other tablespaces that might be required to meet the needs of the databas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6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 contents of this document are written with the assumption that the Oracle9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4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er has been installed in a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HOM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Installation of  the Oracle9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erver i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4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 covered in this appendix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77720" y="735120"/>
            <a:ext cx="5927760" cy="803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ting the Environme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fore a database is created, the UNIX environment must be configured and the Oracle9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erver must have already been install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ur environment variables must be set: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HOM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SI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D_LIBRARY_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HOM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s the full path to the top directory in which the Oracle9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erver is installed. The directory fo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HOM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hould be supplied by the person who installed the server, usually the UNIX administrator or the DBA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SI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s a user-definable name assigned to an instance of a database.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SI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(system identifier) is used by the operating system to distinguish different database instances running on the machin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efines the directories the operating system searches to find executables, such as SQL*Plus. The Oracle9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xecutables are located i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ORACLE_HOME/bi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must be added to the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variabl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D_LIBRARY_PA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defines the directories in which required library files are stor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urne or Korn shell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RACLE_HOME=/u01/oracle9i/product/9.0.1; export ORACLE_HOM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RACLE_SID=db01; export ORACLE_SI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PATH=/usr/bin:/usr/ccs/bin:$ORACLE_HOME/bin; export PATH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LD_LIBRARY_PATH=/usr/lib:$ORACLE_HOME/lib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export LD_LIBRARY_PAT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 shell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etenv ORACLE_HOME /u01/oracle9i/product/9.0.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etenv ORACLE_SID db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etenv PATH $PATH:$ORACLE_HOME/bin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etenv LD_LIBRARY_PATH /usr/lib:$ORACLE_HOME/lib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477720" y="779040"/>
            <a:ext cx="5927760" cy="803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iting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sid.or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it/Creat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sid.or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sid.or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ile, a user-configured text file, is read each time the database starts. The parameters in the file initialize the database settings. The parameter settings in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sid.or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ile affect not only the database at startup but also how the database is created. Prior to creating the database,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sid.or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ile must be configur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the Oracle9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erver is installed, a samp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.or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ile is placed i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ORACLE_HOME/db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Keep this file as a backup and do not modify it. Create a copy of the file containing the name of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SI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d $ORACLE_HOME/db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p init.ora initdb01.ora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amp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.or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ile has many comments containing suggestions for parameter setting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parameters in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sid.or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need not be in any order. However, if a parameter is listed more than once, the last setting is the one used. Oracle9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Reference suggests placing the parameters in alphabetical order to prevent duplic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following parameters must be configured: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b_na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trol_file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ckground_dump_des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er_dump_des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re_dump_des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do_manageme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ckground_dump_des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er_dump_des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re_dump_de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arameters are set to the full path locations where trace files are to be placed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16524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re_dump_des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ains core dumps generated by the datab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16524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er_dump_de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ains user trace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16524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ackground_dump_de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ains trace files for the backgrou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es and the alert.log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b_nam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s the name of the database, which is used for a purpose different from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SI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SI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s the name that is used to designate an instance of the database. Many times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b_nam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SI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re the same but it is not a requirement.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b_nam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sid.or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must be identical (case sensitive) to the name of the database that is used in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REATE DATABAS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ommand when the database is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trol_file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nitialization parameter designates the full path and filename of each control file for the database. For the creation of the database, it identifies the control files that must be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do_manageme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nitialization parameter determines whether the Oracle server automatically or the DBA manually handles undo data. Se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do_manageme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UT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n the initialization file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 the end of Appendix A is an examp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db01.or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il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477720" y="525600"/>
            <a:ext cx="5927760" cy="803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ting the Datab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ter setting the environment and configuring the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nitsid.or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he database can be created. An Oracle database is created by executing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REATE DATABAS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ommand.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REATE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BAS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ommand, specifies the number and location of the log files, the location and size of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space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D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space,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tablespace, and the character set for the database (this is not an exhaustive list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Oracle utility SQL*Plus is used when creating the database. The UNIX executable for SQL*Plus is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plu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creating a database, the Oracle9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erver is only aware of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Y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user and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YSDB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role. To create a database, you must connect to SQL*Plus as the use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Y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the ro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YSDB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This can be accomplished in one of two method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e UNIX user who usually connects to SQL*Plus is part of the administrator’s group, defined during the installation of the Oracle9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erver, then the following syntax can be used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plus  '/ as sysdba '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plus /nolog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&gt;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onnect / as sysdba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the UNIX user who connects to SQL*Plus is not part of the administrator’s group, then a password file must be created for the database by an administrator, and the password assigned to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Y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n the password file must be used. The following syntax assumes the password assigned to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Y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n the password file i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plus 'sys/oracle as sysdba'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plus /nolog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&gt;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onnect sys/oracle as sysbda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steps to create and execute the SQL statement ar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te a SQL script that contains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REATE DATABAS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ommand. (At the end of Appendix A is a sample create database script.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nect to SQL*Plus as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YS AS SYSDB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in one of the two methods shown abov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up the database i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MOU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mod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ute the SQL scrip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477720" y="525600"/>
            <a:ext cx="5927760" cy="803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ting the Database (continu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plus 'sys/oracle as sysdba'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&gt;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tartup nomou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RACLE instance starte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Total System Global Area   21790532 byt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Fixed Size                   278340 byt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Variable Size              16777216 byt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Database Buffers            4194304 byt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Redo Buffers                 540672 byte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&gt;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@crdbdb01.sq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&gt; CREATE DATABASE db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2     LOGFIL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3       GROUP 1 ('$HOME/ORADATA/u03/log_01_01_db01.rdo') SIZE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M,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4       GROUP 2 ('$HOME/ORADATA/u03/log_02_01_db01.rdo') SIZE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5     DATAFILE '$HOME/ORADATA/u01/system_01_db01.dbf' SIZE 100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6        AUTOEXTEND ON NEXT 5M MAXSIZE 150M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7     DEFAULT TEMPORARY TABLESPACE temp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8        TEMPFILE '$HOME/ORADATA/u02/temp_01_db01.dbf' SIZE 15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9        AUTOEXTEND ON NEXT 5M MAXSIZE 30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     CHARACTER SET WE8ISO8859P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1     NATIONAL CHARACTER SET AL16UTF1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2  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tatement processe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77720" y="525600"/>
            <a:ext cx="5927760" cy="803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talog.sq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tproc.sql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ripts that are located i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ORACLE_HOME/rdbms/admi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must be run after the database is created.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talog.sq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cript creates the data dictionary views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tproc.sq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reates the packages and procedures required to use PL/SQL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th scripts must be run as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Y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Before executing the scripts, make sure the database is ope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plus /nolog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&gt;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ONNECT / AS SYSDBA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&gt;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@$ORACLE_HOME/rdbms/admin/catalog.sq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&gt;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@$ORACLE_HOME/rdbms/admin/catproc.sq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 a system that is not busy, the total time for both scripts to complete is between 35 and 65 minut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fter these scripts have run, verify that the objects are valid. The following query returns any invalid object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&gt;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ELECT  owner,object_name,object_typ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2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FROM     dba_object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WHERE    status = 'INVALID'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4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ORDER BY owner,object_type,object_name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nning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pbld.sq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pbld.sq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cript that is located in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ORACLE_HOME/sqlplus/adm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y creates the Product User Profile table and related procedures. Running this script, among other purposes, prevents a warning message each time a user connects to SQL*Plus. The script must be run as use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$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plus system/manag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&gt;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@$ORACLE_HOME/sqlplus/admin/pupbld.sq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77720" y="525600"/>
            <a:ext cx="5927760" cy="80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ting Tablespac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te the other tablespaces that are required for the instal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a database installation, the following tablespaces are usually created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Courier New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ser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Courier New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ool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jects created by the user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(optional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should be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QL&gt;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reate tablespace USER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2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datafile '$HOME/ORADATA/u03/users_01_db01.dbf' SIZE 25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PERMANE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4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EXTENT MANAGEMENT LOCAL UNIFORM SIZE 128K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5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EGMENT SPACE MANAGEMENT auto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HO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RACLE_SI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T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D_LIBRARY_PAT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it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sid.or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ute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REATE DATABAS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n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talog.sq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tproc.sq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cript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n th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pbld.sq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scrip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228600">
              <a:lnSpc>
                <a:spcPct val="87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te the tablespaces that are required for the database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77720" y="525600"/>
            <a:ext cx="5927760" cy="80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mpl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db01.or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background_dump_dest=$HOME/ADMIN/BDUMP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ompatible=9.0.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ontrol_files=$HOME/ORADATA/u01/ctrl_01_sid.ct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ore_dump_dest=$HOME/ADMIN/CDUMP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db_block_size=409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db_cache_size=4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db_domain=world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db_name=db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global_names=TRU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nstance_name=db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ax_dump_file_size=10240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remote_login_passwordfile=exclusiv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ervice_names=db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shared_pool_size=8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undo_management=AUTO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user_dump_dest=$HOME/ADMIN/UDUMP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499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mple Script to a Create Datab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REATE DATABASE db0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LOGFILE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GROUP 1 ('$HOME/ORADATA/u03/log_01_01_db01.rdo') SIZE 10M,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GROUP 2 ('$HOME/ORADATA/u03/log_02_01_db01.rdo') SIZE 10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DATAFILE '$HOME/ORADATA/u01/system_01_db01.dbf' SIZE 100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AUTOEXTEND ON NEXT 5M MAXSIZE 150M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DEFAULT TEMPORARY TABLESPACE temp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TEMPFILE '$HOME/ORADATA/u02/temp_01_db01.dbf' SIZE 15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AUTOEXTEND ON NEXT 5M MAXSIZE 30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CHARACTER SET WE8ISO8859P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NATIONAL CHARACTER SET AL16UTF1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lnSpc>
                <a:spcPct val="87000"/>
              </a:lnSpc>
              <a:spcBef>
                <a:spcPts val="550"/>
              </a:spcBef>
              <a:buNone/>
              <a:tabLst>
                <a:tab algn="l" pos="0"/>
                <a:tab algn="l" pos="985680"/>
                <a:tab algn="l" pos="1971720"/>
                <a:tab algn="l" pos="2957400"/>
                <a:tab algn="l" pos="3943440"/>
                <a:tab algn="l" pos="4929120"/>
                <a:tab algn="l" pos="5915160"/>
                <a:tab algn="l" pos="6900840"/>
                <a:tab algn="l" pos="7886880"/>
                <a:tab algn="l" pos="8872560"/>
                <a:tab algn="l" pos="9858240"/>
                <a:tab algn="l" pos="1084428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63280" y="327348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52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376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4460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6328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376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4460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533520"/>
            <a:ext cx="731520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52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63280" y="327348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52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376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44600" y="181584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6328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376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44600" y="3273480"/>
            <a:ext cx="237168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533520"/>
            <a:ext cx="731520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520" y="327348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328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520" y="1815840"/>
            <a:ext cx="359424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63280" y="3273480"/>
            <a:ext cx="7365960" cy="13309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315200" cy="87624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63280" y="1815840"/>
            <a:ext cx="7365960" cy="279072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9144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430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1430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1430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Oracle_banner" descr=""/>
          <p:cNvPicPr/>
          <p:nvPr/>
        </p:nvPicPr>
        <p:blipFill>
          <a:blip r:embed="rId2"/>
          <a:stretch/>
        </p:blipFill>
        <p:spPr>
          <a:xfrm>
            <a:off x="0" y="6370560"/>
            <a:ext cx="9182160" cy="309600"/>
          </a:xfrm>
          <a:prstGeom prst="rect">
            <a:avLst/>
          </a:prstGeom>
          <a:ln w="0">
            <a:noFill/>
          </a:ln>
        </p:spPr>
      </p:pic>
      <p:sp>
        <p:nvSpPr>
          <p:cNvPr id="3" name="Slide_Page_Number"/>
          <p:cNvSpPr/>
          <p:nvPr/>
        </p:nvSpPr>
        <p:spPr>
          <a:xfrm>
            <a:off x="457200" y="6654960"/>
            <a:ext cx="965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-</a:t>
            </a:r>
            <a:fld id="{BB4CA5F6-54B4-4D36-8608-C5DA250ED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Slide_Copyright"/>
          <p:cNvSpPr/>
          <p:nvPr/>
        </p:nvSpPr>
        <p:spPr>
          <a:xfrm>
            <a:off x="2527200" y="6654960"/>
            <a:ext cx="41022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Oracle Corporation, 2002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_Gray_Number"/>
          <p:cNvSpPr/>
          <p:nvPr/>
        </p:nvSpPr>
        <p:spPr>
          <a:xfrm>
            <a:off x="939960" y="952560"/>
            <a:ext cx="7302240" cy="43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" rIns="12600" tIns="12600" bIns="12600" anchor="ctr">
            <a:no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7700" spc="-1" strike="noStrike">
                <a:solidFill>
                  <a:srgbClr val="cccccc"/>
                </a:solidFill>
                <a:latin typeface="Times New Roman"/>
              </a:rPr>
              <a:t>A</a:t>
            </a:r>
            <a:endParaRPr b="0" lang="en-US" sz="27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315200" cy="11811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racle_banner" descr=""/>
          <p:cNvPicPr/>
          <p:nvPr/>
        </p:nvPicPr>
        <p:blipFill>
          <a:blip r:embed="rId2"/>
          <a:stretch/>
        </p:blipFill>
        <p:spPr>
          <a:xfrm>
            <a:off x="0" y="6370560"/>
            <a:ext cx="9182160" cy="309600"/>
          </a:xfrm>
          <a:prstGeom prst="rect">
            <a:avLst/>
          </a:prstGeom>
          <a:ln w="0">
            <a:noFill/>
          </a:ln>
        </p:spPr>
      </p:pic>
      <p:sp>
        <p:nvSpPr>
          <p:cNvPr id="44" name="Title_Copyright"/>
          <p:cNvSpPr/>
          <p:nvPr/>
        </p:nvSpPr>
        <p:spPr>
          <a:xfrm>
            <a:off x="2527200" y="6654960"/>
            <a:ext cx="410220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© Oracle Corporation, 2002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 algn="ctr"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45720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580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914400" algn="ctr">
              <a:buClr>
                <a:srgbClr val="000000"/>
              </a:buClr>
              <a:buFont typeface="Arial"/>
              <a:buChar char="»"/>
              <a:tabLst>
                <a:tab algn="l" pos="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666520"/>
            <a:ext cx="7315200" cy="1181160"/>
          </a:xfrm>
          <a:prstGeom prst="rect">
            <a:avLst/>
          </a:prstGeom>
          <a:noFill/>
          <a:ln w="0">
            <a:noFill/>
          </a:ln>
        </p:spPr>
        <p:txBody>
          <a:bodyPr lIns="12600" rIns="12600" tIns="12600" bIns="12600" anchor="t">
            <a:noAutofit/>
          </a:bodyPr>
          <a:p>
            <a:pPr indent="0" algn="ctr"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to Create an Oracle9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atabase in a UNIX Environ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06T19:19:12Z</dcterms:created>
  <dc:creator>Analyst Day</dc:creator>
  <dc:description/>
  <dc:language>en-US</dc:language>
  <cp:lastModifiedBy>Internal Systems</cp:lastModifiedBy>
  <cp:lastPrinted>2002-09-07T13:09:42Z</cp:lastPrinted>
  <dcterms:modified xsi:type="dcterms:W3CDTF">2002-09-25T22:39:16Z</dcterms:modified>
  <cp:revision>748</cp:revision>
  <dc:subject/>
  <dc:title>Jerry Held</dc:title>
</cp:coreProperties>
</file>