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7315200" cy="9601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C2C15-E6A1-41CD-A1CD-7AA52ABEC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49360" y="2773080"/>
            <a:ext cx="621648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49360" y="5782320"/>
            <a:ext cx="621648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905D3-D409-4528-86EF-A9F02B11A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4936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73464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49360" y="578232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734640" y="578232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A7CD7-AAE0-4E4C-9763-BE26E9612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49360" y="277308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651400" y="277308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753440" y="277308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49360" y="578232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651400" y="578232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753440" y="578232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04BAE-61BC-434D-9046-9139FEB9E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49360" y="2773080"/>
            <a:ext cx="621648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A337A-B27B-4302-8414-A597DE84A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49360" y="2773080"/>
            <a:ext cx="621648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7287E-4937-4F62-9222-75EDB4C69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49360" y="2773080"/>
            <a:ext cx="303336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734640" y="2773080"/>
            <a:ext cx="303336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B8459-48FC-4C2D-852D-AF23D5D7B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52F0B-4C82-4B25-966C-3C391C65A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853560"/>
            <a:ext cx="621648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75D84-F136-4173-83C1-9F7343109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4936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734640" y="2773080"/>
            <a:ext cx="303336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49360" y="578232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CFA68-C86A-434D-8EE4-4CE6314FB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49360" y="2773080"/>
            <a:ext cx="303336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73464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734640" y="578232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40ABD-9686-4471-9E43-C6944DDE7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4936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73464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49360" y="5782320"/>
            <a:ext cx="621648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59B50-29AB-446F-9C24-0A444ADD8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49360" y="2773080"/>
            <a:ext cx="621648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49000" y="8746920"/>
            <a:ext cx="1523880" cy="6411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98760" y="8746920"/>
            <a:ext cx="2317680" cy="641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241600" y="8746920"/>
            <a:ext cx="1523880" cy="6411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DCCF-B729-4E59-8E60-5A85A53340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8120" y="3809880"/>
            <a:ext cx="3631680" cy="1127160"/>
            <a:chOff x="3048120" y="3809880"/>
            <a:chExt cx="3631680" cy="1127160"/>
          </a:xfrm>
        </p:grpSpPr>
        <p:sp>
          <p:nvSpPr>
            <p:cNvPr id="42" name=""/>
            <p:cNvSpPr/>
            <p:nvPr/>
          </p:nvSpPr>
          <p:spPr>
            <a:xfrm>
              <a:off x="3048120" y="3809880"/>
              <a:ext cx="3631680" cy="0"/>
            </a:xfrm>
            <a:prstGeom prst="line">
              <a:avLst/>
            </a:prstGeom>
            <a:ln w="12600">
              <a:solidFill>
                <a:srgbClr val="4141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3048120" y="4937040"/>
              <a:ext cx="3631680" cy="0"/>
            </a:xfrm>
            <a:prstGeom prst="line">
              <a:avLst/>
            </a:prstGeom>
            <a:ln w="12600">
              <a:solidFill>
                <a:srgbClr val="41414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 name=""/>
          <p:cNvSpPr/>
          <p:nvPr/>
        </p:nvSpPr>
        <p:spPr>
          <a:xfrm>
            <a:off x="3048120" y="3886200"/>
            <a:ext cx="3657600" cy="883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cle9</a:t>
            </a:r>
            <a:r>
              <a:rPr b="1" i="1" lang="en-US" sz="1600" spc="-1" strike="noStrike">
                <a:solidFill>
                  <a:srgbClr val="000000"/>
                </a:solidFill>
                <a:latin typeface="Times New Roman"/>
              </a:rPr>
              <a:t>i</a:t>
            </a:r>
            <a:r>
              <a:rPr b="1" lang="en-US" sz="1600" spc="-1" strike="noStrike">
                <a:solidFill>
                  <a:srgbClr val="000000"/>
                </a:solidFill>
                <a:latin typeface="Arial"/>
              </a:rPr>
              <a:t> Database Administration Fundamentals 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ume 1 • Student Guid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531800" y="8677440"/>
            <a:ext cx="1278000" cy="164880"/>
          </a:xfrm>
          <a:prstGeom prst="rect">
            <a:avLst/>
          </a:prstGeom>
          <a:ln w="0">
            <a:noFill/>
          </a:ln>
        </p:spPr>
      </p:pic>
      <p:sp>
        <p:nvSpPr>
          <p:cNvPr id="46" name=""/>
          <p:cNvSpPr/>
          <p:nvPr/>
        </p:nvSpPr>
        <p:spPr>
          <a:xfrm>
            <a:off x="1447200" y="7683480"/>
            <a:ext cx="1117800" cy="70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11321GC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ion 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 20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XXXXX</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17400" y="431640"/>
            <a:ext cx="1519200" cy="4890600"/>
          </a:xfrm>
          <a:prstGeom prst="rect">
            <a:avLst/>
          </a:prstGeom>
          <a:noFill/>
          <a:ln w="0">
            <a:noFill/>
          </a:ln>
        </p:spPr>
        <p:style>
          <a:lnRef idx="0"/>
          <a:fillRef idx="0"/>
          <a:effectRef idx="0"/>
          <a:fontRef idx="minor"/>
        </p:style>
        <p:txBody>
          <a:bodyPr lIns="92160" rIns="92160" tIns="46080" bIns="46080" anchor="t">
            <a:spAutoFit/>
          </a:bodyPr>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100" spc="-1" strike="noStrike">
                <a:solidFill>
                  <a:srgbClr val="000000"/>
                </a:solidFill>
                <a:latin typeface="Times New Roman"/>
              </a:rPr>
              <a:t>Author</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Marie St. Gelais</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100" spc="-1" strike="noStrike">
                <a:solidFill>
                  <a:srgbClr val="000000"/>
                </a:solidFill>
                <a:latin typeface="Times New Roman"/>
              </a:rPr>
              <a:t>Technical Reviewers</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Louise Beijer </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Dairy Chan</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Trevor Davies</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Donna Hamby</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Lutz Hartmann</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Kuljit Jassar</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Patricia Mesa</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Sabiha Miri</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Howard Ostrow</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Caroline Pereda</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Andreas Reinhardt</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Ajai Sahni</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Jaco Verheul</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100" spc="-1" strike="noStrike">
                <a:solidFill>
                  <a:srgbClr val="000000"/>
                </a:solidFill>
                <a:latin typeface="Times New Roman"/>
              </a:rPr>
              <a:t>Publisher</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Shane Mattimoe</a:t>
            </a:r>
            <a:endParaRPr b="0" lang="en-US" sz="1100" spc="-1" strike="noStrike">
              <a:solidFill>
                <a:srgbClr val="000000"/>
              </a:solidFill>
              <a:latin typeface="Times New Roman"/>
            </a:endParaRPr>
          </a:p>
        </p:txBody>
      </p:sp>
      <p:sp>
        <p:nvSpPr>
          <p:cNvPr id="48" name=""/>
          <p:cNvSpPr/>
          <p:nvPr/>
        </p:nvSpPr>
        <p:spPr>
          <a:xfrm>
            <a:off x="2346480" y="436680"/>
            <a:ext cx="3911400" cy="4752720"/>
          </a:xfrm>
          <a:prstGeom prst="rect">
            <a:avLst/>
          </a:prstGeom>
          <a:noFill/>
          <a:ln w="0">
            <a:noFill/>
          </a:ln>
        </p:spPr>
        <p:style>
          <a:lnRef idx="0"/>
          <a:fillRef idx="0"/>
          <a:effectRef idx="0"/>
          <a:fontRef idx="minor"/>
        </p:style>
        <p:txBody>
          <a:bodyPr lIns="92160" rIns="92160" tIns="46080" bIns="46080" anchor="t">
            <a:spAutoFit/>
          </a:bodyPr>
          <a:p>
            <a:pPr>
              <a:lnSpc>
                <a:spcPts val="998"/>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800" spc="-1" strike="noStrike">
                <a:solidFill>
                  <a:srgbClr val="000000"/>
                </a:solidFill>
                <a:latin typeface="Arial"/>
              </a:rPr>
              <a:t>Copyright © Oracle Corporation, 2002. All rights reserved.</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This documentation contains proprietary information of Oracle Corporation. It is provided under a license agreement containing restrictions on use and disclosure and is also protected by copyright law. Reverse engineering of the software is prohibited. If this documentation is delivered to a U.S. Government Agency of the Department of Defense, then it is delivered with Restricted Rights and the following legend is applicable:</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800" spc="-1" strike="noStrike">
                <a:solidFill>
                  <a:srgbClr val="000000"/>
                </a:solidFill>
                <a:latin typeface="Arial"/>
              </a:rPr>
              <a:t>Restricted Rights Legend</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Use, duplication or disclosure by the Government is subject to restrictions for commercial computer software and shall be deemed to be Restricted Rights software under Federal law, as set forth in subparagraph (c)(1)(ii) of DFARS 252.227-7013, Rights in Technical Data and Computer Software (October 1988).</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This material or any portion of it may not be copied in any form or by any means without the express prior written permission of Oracle Corporation. Any other copying is a violation of copyright law and may result in civil and/or criminal penalties.</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If this documentation is delivered to a U.S. Government Agency not within the Department of Defense, then it is delivered with “Restricted Rights,” as defined in FAR 52.227-14, Rights in Data-General, including Alternate III (June 1987).</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The information in this document is subject to change without notice. If you find any problems in the documentation, please report them in writing to Education Products, Oracle Corporation, 500 Oracle Parkway, Box SB-6, Redwood Shores, CA 94065. Oracle Corporation does not warrant that this document is error-free.</a:t>
            </a:r>
            <a:endParaRPr b="0" lang="en-US" sz="800" spc="-1" strike="noStrike">
              <a:solidFill>
                <a:srgbClr val="000000"/>
              </a:solidFill>
              <a:latin typeface="Times New Roman"/>
            </a:endParaRPr>
          </a:p>
          <a:p>
            <a:pPr algn="just">
              <a:lnSpc>
                <a:spcPct val="100000"/>
              </a:lnSpc>
              <a:spcBef>
                <a:spcPts val="150"/>
              </a:spcBef>
              <a:spcAft>
                <a:spcPts val="55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SQL*Loader, SQL*Net, SQL*Plus, Net8, Oracle Call Interface, Oracle7, Oracle8, Oracle 8i, Developer/2000, Developer/2000 Forms, Designer/2000, Oracle Enterprise Manager, Oracle Parallel Server, PL/SQL, Pro*C, Pro*C/C++, and Trusted Oracle are trademarks or registered trademarks of Oracle Corporation.</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All other products or company names are used for identification purposes only, and may be trademarks of their respective owners.</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7T02:39:43Z</dcterms:created>
  <dc:creator>Shane</dc:creator>
  <dc:description/>
  <dc:language>en-US</dc:language>
  <cp:lastModifiedBy>Internal Systems</cp:lastModifiedBy>
  <cp:lastPrinted>2002-09-16T22:22:28Z</cp:lastPrinted>
  <dcterms:modified xsi:type="dcterms:W3CDTF">2002-09-30T21:27:29Z</dcterms:modified>
  <cp:revision>22</cp:revision>
  <dc:subject/>
  <dc:title>PowerPoint Presentation</dc:title>
</cp:coreProperties>
</file>