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315200" cy="960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91DC1F-836F-4F39-9F4D-109915378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49360" y="277308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49360" y="578232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07E9B-0D6F-4B0E-8735-A7B93A109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4936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73464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6B731-5EF7-4FBA-8DE4-46C6D7A3D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4936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65140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75344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4936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65140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75344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502121-74FA-4754-861E-4749A3072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49360" y="2773080"/>
            <a:ext cx="621648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49CA3-8809-4212-9258-2FD4C0649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49360" y="2773080"/>
            <a:ext cx="621648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11025-2054-4758-8017-F01E128CC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4936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73464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8AC7E-5719-41BE-B68D-9D43BEBA9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D6AA0-E506-4512-9A05-27E96501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853560"/>
            <a:ext cx="621648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C5424-78F8-4A35-978C-24C56D6D8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73464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4936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831AB-98BD-46CA-9691-874464883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4936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73464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328A4-A32E-4CC3-84F7-D130AD881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49360" y="578232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FE57B-7D05-47F8-A202-2AB9FDA09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49360" y="2773080"/>
            <a:ext cx="621648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49000" y="8746920"/>
            <a:ext cx="1523880" cy="6411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98760" y="8746920"/>
            <a:ext cx="2317680" cy="641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241600" y="8746920"/>
            <a:ext cx="1523880" cy="64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BD99-7C97-491A-BF16-0A74749FC8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8120" y="3809880"/>
            <a:ext cx="3631680" cy="1127160"/>
            <a:chOff x="3048120" y="3809880"/>
            <a:chExt cx="3631680" cy="1127160"/>
          </a:xfrm>
        </p:grpSpPr>
        <p:sp>
          <p:nvSpPr>
            <p:cNvPr id="42" name=""/>
            <p:cNvSpPr/>
            <p:nvPr/>
          </p:nvSpPr>
          <p:spPr>
            <a:xfrm>
              <a:off x="3048120" y="3809880"/>
              <a:ext cx="363168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048120" y="4937040"/>
              <a:ext cx="363168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 name=""/>
          <p:cNvSpPr/>
          <p:nvPr/>
        </p:nvSpPr>
        <p:spPr>
          <a:xfrm>
            <a:off x="3048120" y="3886200"/>
            <a:ext cx="3657600" cy="883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9</a:t>
            </a:r>
            <a:r>
              <a:rPr b="1" i="1" lang="en-US" sz="1600" spc="-1" strike="noStrike">
                <a:solidFill>
                  <a:srgbClr val="000000"/>
                </a:solidFill>
                <a:latin typeface="Times New Roman"/>
              </a:rPr>
              <a:t>i</a:t>
            </a:r>
            <a:r>
              <a:rPr b="1" lang="en-US" sz="1600" spc="-1" strike="noStrike">
                <a:solidFill>
                  <a:srgbClr val="000000"/>
                </a:solidFill>
                <a:latin typeface="Arial"/>
              </a:rPr>
              <a:t> Database Administration Fundamentals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 1 • Student Guid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531800" y="8677440"/>
            <a:ext cx="1278000" cy="164880"/>
          </a:xfrm>
          <a:prstGeom prst="rect">
            <a:avLst/>
          </a:prstGeom>
          <a:ln w="0">
            <a:noFill/>
          </a:ln>
        </p:spPr>
      </p:pic>
      <p:sp>
        <p:nvSpPr>
          <p:cNvPr id="46" name=""/>
          <p:cNvSpPr/>
          <p:nvPr/>
        </p:nvSpPr>
        <p:spPr>
          <a:xfrm>
            <a:off x="1447200" y="7683480"/>
            <a:ext cx="11178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1321GC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XXXXX</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7400" y="431640"/>
            <a:ext cx="1519200" cy="4890600"/>
          </a:xfrm>
          <a:prstGeom prst="rect">
            <a:avLst/>
          </a:prstGeom>
          <a:noFill/>
          <a:ln w="0">
            <a:noFill/>
          </a:ln>
        </p:spPr>
        <p:style>
          <a:lnRef idx="0"/>
          <a:fillRef idx="0"/>
          <a:effectRef idx="0"/>
          <a:fontRef idx="minor"/>
        </p:style>
        <p:txBody>
          <a:bodyPr lIns="92160" rIns="92160" tIns="46080" bIns="46080" anchor="t">
            <a:spAutoFit/>
          </a:bodyPr>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Autho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Marie St. Gelai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Technical Reviewer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Louise Beijer </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Dairy Chan</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Trevor Davie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Donna Hamby</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Lutz Hartmann</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Kuljit Jassa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Patricia Mesa</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Sabiha Miri</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Howard Ostrow</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Caroline Pereda</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Andreas Reinhardt</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Ajai Sahni</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Jaco Verheul</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Publishe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Shane Mattimoe</a:t>
            </a:r>
            <a:endParaRPr b="0" lang="en-US" sz="1100" spc="-1" strike="noStrike">
              <a:solidFill>
                <a:srgbClr val="000000"/>
              </a:solidFill>
              <a:latin typeface="Times New Roman"/>
            </a:endParaRPr>
          </a:p>
        </p:txBody>
      </p:sp>
      <p:sp>
        <p:nvSpPr>
          <p:cNvPr id="48" name=""/>
          <p:cNvSpPr/>
          <p:nvPr/>
        </p:nvSpPr>
        <p:spPr>
          <a:xfrm>
            <a:off x="2346480" y="436680"/>
            <a:ext cx="3911400" cy="475272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800" spc="-1" strike="noStrike">
                <a:solidFill>
                  <a:srgbClr val="000000"/>
                </a:solidFill>
                <a:latin typeface="Arial"/>
              </a:rPr>
              <a:t>Copyright © Oracle Corporation, 2002. All rights reserve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800" spc="-1" strike="noStrike">
                <a:solidFill>
                  <a:srgbClr val="000000"/>
                </a:solidFill>
                <a:latin typeface="Arial"/>
              </a:rPr>
              <a:t>Restricted Rights Legen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000000"/>
              </a:solidFill>
              <a:latin typeface="Times New Roman"/>
            </a:endParaRPr>
          </a:p>
          <a:p>
            <a:pPr algn="just">
              <a:lnSpc>
                <a:spcPct val="100000"/>
              </a:lnSpc>
              <a:spcBef>
                <a:spcPts val="150"/>
              </a:spcBef>
              <a:spcAft>
                <a:spcPts val="55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SQL*Loader, SQL*Net, SQL*Plus, Net8, Oracle Call Interface, Oracle7, Oracle8, Oracle 8i, Developer/2000, Developer/2000 Forms, Designer/2000, Oracle Enterprise Manager, Oracle Parallel Server, PL/SQL, Pro*C, Pro*C/C++, and Trusted Oracle are trademarks or registered trademarks of Oracle Corporation.</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02:39:43Z</dcterms:created>
  <dc:creator>Shane</dc:creator>
  <dc:description/>
  <dc:language>en-US</dc:language>
  <cp:lastModifiedBy>Internal Systems</cp:lastModifiedBy>
  <cp:lastPrinted>2002-09-16T22:22:28Z</cp:lastPrinted>
  <dcterms:modified xsi:type="dcterms:W3CDTF">2002-09-30T21:27:29Z</dcterms:modified>
  <cp:revision>22</cp:revision>
  <dc:subject/>
  <dc:title>PowerPoint Presentation</dc:title>
</cp:coreProperties>
</file>