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315200" cy="960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FC6E1-BE96-4FD9-B7B3-182AADE3D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49360" y="277308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49360" y="578232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7FC2A-80F2-437F-93EB-9587C0CC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4936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73464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B7B72-C2A7-4A23-AFBC-28CC0854E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4936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65140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75344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4936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65140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75344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88A98-A69C-481D-B820-0EB81D69C5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49360" y="2773080"/>
            <a:ext cx="621648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F3C3-C93E-4B4B-AF57-142596922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49360" y="2773080"/>
            <a:ext cx="621648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35A57-6E89-4D9E-A14E-E4B2A9B40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4936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73464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5F33E-BE34-4F24-ABAD-261756D0B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81860-0379-40BE-A8B4-A109DAEE1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853560"/>
            <a:ext cx="621648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A620-4009-4248-9186-531940B48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73464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4936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E4027-A445-4CB9-B00F-5E553A3B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4936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73464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81486-ABF1-409C-8EE4-A780A8FBF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49360" y="578232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57FBB-1075-42F1-8F18-9038D4641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49360" y="2773080"/>
            <a:ext cx="621648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49000" y="8746920"/>
            <a:ext cx="1523880" cy="6411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98760" y="8746920"/>
            <a:ext cx="2317680" cy="641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241600" y="8746920"/>
            <a:ext cx="1523880" cy="64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24F88-6088-46C4-B8A2-72D34814C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8120" y="3809880"/>
            <a:ext cx="3631680" cy="1127160"/>
            <a:chOff x="3048120" y="3809880"/>
            <a:chExt cx="3631680" cy="1127160"/>
          </a:xfrm>
        </p:grpSpPr>
        <p:sp>
          <p:nvSpPr>
            <p:cNvPr id="42" name=""/>
            <p:cNvSpPr/>
            <p:nvPr/>
          </p:nvSpPr>
          <p:spPr>
            <a:xfrm>
              <a:off x="3048120" y="3809880"/>
              <a:ext cx="363168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048120" y="4937040"/>
              <a:ext cx="363168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
          <p:cNvSpPr/>
          <p:nvPr/>
        </p:nvSpPr>
        <p:spPr>
          <a:xfrm>
            <a:off x="3048120" y="3886200"/>
            <a:ext cx="3657600" cy="883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Database Administration Fundamentals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 2 • Student Guid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531800" y="8677440"/>
            <a:ext cx="1278000" cy="164880"/>
          </a:xfrm>
          <a:prstGeom prst="rect">
            <a:avLst/>
          </a:prstGeom>
          <a:ln w="0">
            <a:noFill/>
          </a:ln>
        </p:spPr>
      </p:pic>
      <p:sp>
        <p:nvSpPr>
          <p:cNvPr id="46" name=""/>
          <p:cNvSpPr/>
          <p:nvPr/>
        </p:nvSpPr>
        <p:spPr>
          <a:xfrm>
            <a:off x="1447200" y="7683480"/>
            <a:ext cx="11178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321GC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XXXXX</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7400" y="431640"/>
            <a:ext cx="1519200" cy="4890600"/>
          </a:xfrm>
          <a:prstGeom prst="rect">
            <a:avLst/>
          </a:prstGeom>
          <a:noFill/>
          <a:ln w="0">
            <a:noFill/>
          </a:ln>
        </p:spPr>
        <p:style>
          <a:lnRef idx="0"/>
          <a:fillRef idx="0"/>
          <a:effectRef idx="0"/>
          <a:fontRef idx="minor"/>
        </p:style>
        <p:txBody>
          <a:bodyPr lIns="92160" rIns="92160" tIns="46080" bIns="46080" anchor="t">
            <a:spAutoFit/>
          </a:bodyPr>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Autho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Marie St. Gelai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Technical Reviewer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Louise Beijer </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Dairy Chan</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Trevor Davie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Donna Hamby</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Lutz Hartmann</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Kuljit Jassa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Patricia Mesa</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Sabiha Miri</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Howard Ostrow</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Caroline Pereda</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Andreas Reinhardt</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Ajai Sahni</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Jaco Verheul</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Publishe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Shane Mattimoe</a:t>
            </a:r>
            <a:endParaRPr b="0" lang="en-US" sz="1100" spc="-1" strike="noStrike">
              <a:solidFill>
                <a:srgbClr val="000000"/>
              </a:solidFill>
              <a:latin typeface="Times New Roman"/>
            </a:endParaRPr>
          </a:p>
        </p:txBody>
      </p:sp>
      <p:sp>
        <p:nvSpPr>
          <p:cNvPr id="48" name=""/>
          <p:cNvSpPr/>
          <p:nvPr/>
        </p:nvSpPr>
        <p:spPr>
          <a:xfrm>
            <a:off x="2346480" y="436680"/>
            <a:ext cx="3911400" cy="475272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800" spc="-1" strike="noStrike">
                <a:solidFill>
                  <a:srgbClr val="000000"/>
                </a:solidFill>
                <a:latin typeface="Arial"/>
              </a:rPr>
              <a:t>Copyright © Oracle Corporation, 2002. All rights reserve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800" spc="-1" strike="noStrike">
                <a:solidFill>
                  <a:srgbClr val="000000"/>
                </a:solidFill>
                <a:latin typeface="Arial"/>
              </a:rPr>
              <a:t>Restricted Rights Legen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000000"/>
              </a:solidFill>
              <a:latin typeface="Times New Roman"/>
            </a:endParaRPr>
          </a:p>
          <a:p>
            <a:pPr algn="just">
              <a:lnSpc>
                <a:spcPct val="100000"/>
              </a:lnSpc>
              <a:spcBef>
                <a:spcPts val="150"/>
              </a:spcBef>
              <a:spcAft>
                <a:spcPts val="55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SQL*Loader, SQL*Net, SQL*Plus, Net8, Oracle Call Interface, Oracle7, Oracle8, Oracle 8i, Developer/2000, Developer/2000 Forms, Designer/2000, Oracle Enterprise Manager, Oracle Parallel Server, PL/SQL, Pro*C, Pro*C/C++, and Trusted Oracle are trademarks or registered trademarks of Oracle Corporation.</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02:39:43Z</dcterms:created>
  <dc:creator>Shane</dc:creator>
  <dc:description/>
  <dc:language>en-US</dc:language>
  <cp:lastModifiedBy>Internal Systems</cp:lastModifiedBy>
  <cp:lastPrinted>2002-09-16T22:22:28Z</cp:lastPrinted>
  <dcterms:modified xsi:type="dcterms:W3CDTF">2002-10-04T22:05:08Z</dcterms:modified>
  <cp:revision>23</cp:revision>
  <dc:subject/>
  <dc:title>PowerPoint Presentation</dc:title>
</cp:coreProperties>
</file>