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772400" cy="100584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1120" y="531180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808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2608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1140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112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2608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1140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808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cf4ea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7931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fac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Architectural Compon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1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of Primary Components  1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Server  1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Instance  1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ablishing a Connection and Creating a Session  1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Database  1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ysical Structure  1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mory Structure  1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Global Area  1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d Pool  1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rary Cache  1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Dictionary Cache  1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Buffer Cache  1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o Log Buffer  1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 Pool  1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Java Pool  1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gram Global Area  1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 Structure  1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r Process  1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rver Process  1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kground Processes  1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Writer (DBWn)  1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 Writer (LGWR)  1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Monitor (SMON)  1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 Monitor (PMON)  1-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point (CKPT)  1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chiver (ARCn)  1-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cal Structure 1-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ing SQL Statements 1-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1-4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 Overview 1-4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tting Started with the Oracle Serv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2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Administration Tools  2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Universal Installer  2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ing the Universal Installer  2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n-Interactive Installation Using Response Files  2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Database Configuration Assistant  2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Administrator Users  2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QL*Plus 2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Enterprise Manager  2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130400" y="69516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760" bIns="507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QL*Loader Control File  19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 File Syntax Considerations  19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put Data and Data Files  19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cal Records  19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ading Methods  19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ring Direct and Conventional Path Loads  19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allel Direct Path Load  9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Conversion  19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arded or Rejected Records  19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 File Contents  19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QL*Loader Guidelines  19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19-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9 Overview  19-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20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ing Globalization Suppor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20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lobalization Support Features  20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coding Schemes  20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Character Sets and National Character Sets  20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for Choosing an Oracle Database Character Set  20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for Choosing an Oracle National Character Set  20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oosing a Unicode Solution:Unicode Database  20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oosing a Unicode Solution:Unicode Data Type  20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fying Language-Dependent Behavior  20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fying Language-Dependent Behavior for the Server  20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pendent Language and Territory Default Values  20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fying Language-Dependent Behavior for the Session  20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nguistic Sorting  20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LS Sorting  20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NLS Parameters in SQL Functions 20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nguistic Index Support  20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port and Loading Data Using NLS  20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NLS Parameters in SQL Functions  20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Character Set Information  20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NLS Settings Information  20-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20-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20 Overview  20-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46160" y="9212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A: How to Create an Oracle9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in a UNIX Environm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B: Manually Managing Undo Data (Rollback Segments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C: Practice Solutions for SQL*Plu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D: Practice Solutions for Oracle Enterprise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4580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74580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Enterprise Manager: Architecture  2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ole  2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2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2 Overview  2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an Oracle Instanc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3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itialization Parameter Files  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FIL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3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PFILE  3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FILE Example  3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FIL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pfileSID.or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3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n SPFILE  3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FILE Example  3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difying Parameters in SPFILE  3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TARTU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mmand Behavior  3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ing Up a Databas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NOMOU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3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ing Up a Databas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MOU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3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ing Up a Databas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3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TARTUP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mmand  3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ALTER DATABA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mmand  3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ning a Database in Restricted Mode  3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ning a Database in Read-Only Mode  3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utting Down the Database  3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utdown Options  3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an Instance Using Diagnostic Files  3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ert Log File  3-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kground Trace Files  3-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r Trace Files  3-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or Disabling User Tracing  3-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3-4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3 Overview  3-4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ing a Databas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4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nning and Organizing a Database  4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mal Flexible Architecture (OFA)  4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Software and File Locations  4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on Prerequisites  4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hentication Methods for Database Administrators  4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Password File Authentication  4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Database  4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System Environment  4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Configuration Assistant  4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Database Using Database Configuration Assistant  4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Database Manually  4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Database Using Oracle Managed Files (OMF)  4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10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Command  4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oubleshooting  4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fter Database Creation  4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4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4 Overview  4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ing Data Dictionary and Dynamic Performance View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5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ilt-In Database Objects  5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Dictionary  5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Tables and Data Dictionary Views  5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Data Dictionary Views  5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Dictionary Contents  5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he Data Dictionary Is Used  5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Dictionary View Categories  5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Dictionary Examples  5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namic Performance Tables  5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namic Performance Examples  5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ministrative Script Naming Conventions  5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5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5 Overview  5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6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ntaining the Control Fi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6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 File   6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 File Contents   6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xing the Control File   6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xing the Control File When Using SPFILE  6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xing the Control File When Using PFILE  6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ing Control Files with OMF  6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Control File Information  6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6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6 Overview  6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64880" y="9212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13431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148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ntaining Online Redo Log Fi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  7-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Online Redo Log Files  7-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Online Redo Log Files  7-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How Online Redo Log Files Work  7-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orcing Log Switches and Checkpoints  7-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dding Online Redo Log File Groups  7-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dding Online Redo Log File Members  7-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ropping Online Redo Log File Groups  7-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ropping Online Redo Log File Members  7-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locating or Renaming Online Redo Log Files  7-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learing Online Redo Log Files  7-1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nline Redo Log File Configuration  7-1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Online Redo Log Files with OMF  7-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ing Group and Member Information  7-2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rchived Redo Log Files   7-2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 7-2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7 Overview  7-2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7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Tablespaces and Data Fi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  8-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ablespaces and Data Files  8-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of Tablespaces  8-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Tablespaces  8-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ace Management in Tablespaces  8-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ocally Managed Tablespaces  8-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ctionary-Managed Tablespaces  8-12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igrating a Dictionary-Manage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Tablespace  8-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ndo Tablespace  8-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emporary Tablespaces  8-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efault Temporary Tablespace  8-1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Default Temporary Tablespace  8-1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strictions on Default Temporary Tablespace  8-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ad-Only Tablespaces  8-2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aking a Tablespace Offline   8-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Storage Settings  8-2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sizing a Tablespace   8-3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nabling Automatic Extension of Data Files  8-3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ly Resizing a Data File  8-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286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dding Data Files to a Tablespace  8-3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6488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148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s for Moving Data Files  8-3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ropping Tablespaces   8-4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Tablespaces Using OMF  8-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ing Tablespace Information  8-4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 8-4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8 Overview  8-4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orage Structure and Relationship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  9-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orage and Relationship Structure  9-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of Segments  9-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orage Clause Precedence  9-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Extent Allocation and Deallocation  9-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ed and Free Extents  9-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 Block  9-1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Block Size Support  9-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 Block Size  9-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nstandard Block Size  9-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Nonstandard Block Size Tablespaces  9-1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Block Sizing Rules  9-1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atabase Block Contents  9-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lock Space  Utilization Parameters  9-2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ata Block Management  9-2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Segment-Space Management  9-2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nfiguring Automatic Segment-Space Management  9-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 Data Block Management  9-2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Block Space Usage  9-2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ing Storage Information  9-2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 9-3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9 Overview  9-3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Undo Da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  10-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naging Undo Data  10-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ndo Segment  10-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ndo Segments: Purpose  10-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ad Consistency  10-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ypes of Undo Segments  10-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Concepts  10-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64880" y="9212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148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Configuration  10-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Initialization Parameters  10-1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D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Tablespace  10-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Altering an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D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Tablespace  10-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Switch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D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Tablespaces  10-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Dropping an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D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Tablespace  10-1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Other Parameters  10-2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ndo Data Statistics  10-2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Sizing an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DO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Tablespace  10-2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ic Undo Management: Undo Quota  10-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ing Undo Segment Information  10-2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  10-2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10 Overview  10-3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Tab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jectives  11-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oring User Data  11-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 Built-in Data Types  11-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WI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Format  11-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cture of a Row  11-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Table  11-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a Table: Guidelines  11-1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ng Temporary Tables  11-1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ett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CTFRE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CTUS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11-1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ow Migration and Chaining  11-2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Storage and Block Utilization Parameters  11-2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ly Allocating Extents  11-2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npartitioned Table Reorganization  11-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Truncating a Table  11-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ropping a Table  11-2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ropping a Column  11-2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Renaming a Column  11-3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US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Option  11-3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ing Table Information  11-3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y  11-3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ractice 11 Overview  11-3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Index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12-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ssification of Indexes 12-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9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-Tree Index 12-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6488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itmap Indexes  12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ring B-Tree and Bitmap Indexes  12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B-Tree Indexes  12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Indexes: Guidelines  12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Bitmap Indexes  12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nging Storage Parameters for Indexes  12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locating and Deallocating Index Space  12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building Indexes  12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building Indexes Online  12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alescing Indexes  12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ing Index Validity 12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opping Indexes  12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ifying Unused Indexes  12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Index Information  12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12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2 Overview  12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13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ntaining Data Integrit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13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Integrity  1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ypes of Constraints  13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traint States  13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traint Checking  13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ing Constraints Immediate or Deferred  13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mary and Unique Key Enforcement  13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eign Key Considerations  13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ing Constraints While Creating a Table  13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for Defining Constraints  13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Constraints  13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naming Constraints  13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EXCEPTION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able  13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Constraint Information  13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13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3 Overview  13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14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Password Security and Resourc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14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files  14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word Management  14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Password Management  14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word Account Locking  14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word Expiration and Aging  14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word History  14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4616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word Verification  14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r-Provided Password Function  14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ssword Verification Function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ERIFY_FUNC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14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Profile: Password Settings  14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tering a Profile: Password Setting  14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opping a Profile: Password Setting  14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ource Management  14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Resource Limits  14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ting Resource Limits at Session Level  14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ting Resource Limits at Call Level  14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Profile: Resource Limit  14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ing Resources Using the Database Resource Manager  14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ource Plan Directives  14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Password and Resource Limit Information 14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14-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4 Overview  14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15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Us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15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rs and Security  15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Schema  15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list for Creating Users  15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New User: Database Authentication  15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New User: Operating System Authentication  15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nging User Quota on Tablespaces  15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opping a User  15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User Information  15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15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5 Overview  15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16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Privileg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16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ing Privileges 16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Privileges  16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Privileges: Examples  16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nting System Privileges  16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DB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OP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rivileges  16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Privilege Restrictions  16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oking System Privileges  16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oking System Privileges with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ADMIN OP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16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 Privileges  16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nting Object Privileges  16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oking Object Privileges  16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oking Object Privileges with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GRANT OP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16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46160" y="9212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Privileges Information  16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16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6 Overview  16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17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Rol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17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les  1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nefits of Roles  1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Roles  17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edefined Roles  17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difying Roles  17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igning Roles  17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ablishing Default Roles  17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lication Roles  17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and Disabling Roles  17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oking Roles from Users  17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moving Roles  17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for Creating Roles  17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for Using Passwords and Default Roles  17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Role Information  17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17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7 Overview  17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18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diting  18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diting Guidelines  18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diting Categories  18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Auditing  18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diting Options  18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diting User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18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Auditing Information  18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Audit Records Information  18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18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actice 18 Overview  18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AutoNum type="arabicPlain" startAt="19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ading Data into a Databas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19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Loading Methods 19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rect Load  19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rial Direct Load  19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allel Direct Load  19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QL*Loader  19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SQL*Loader  19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4616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0T19:33:44Z</dcterms:created>
  <dc:creator>Education Products</dc:creator>
  <dc:description/>
  <dc:language>en-US</dc:language>
  <cp:lastModifiedBy>Internal Systems</cp:lastModifiedBy>
  <cp:lastPrinted>1997-01-23T23:37:35Z</cp:lastPrinted>
  <dcterms:modified xsi:type="dcterms:W3CDTF">2002-10-04T21:24:10Z</dcterms:modified>
  <cp:revision>73</cp:revision>
  <dc:subject>Edition 1-97</dc:subject>
  <dc:title>Table of Contents</dc:title>
</cp:coreProperties>
</file>