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502920" y="154080"/>
            <a:ext cx="5979960" cy="448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20840" y="4844520"/>
            <a:ext cx="6148080" cy="3813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880" y="8737560"/>
            <a:ext cx="5403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Preface </a:t>
            </a:r>
            <a:r>
              <a:rPr b="1" lang="en-US" sz="1000" spc="-1" strike="noStrike">
                <a:solidFill>
                  <a:srgbClr val="ffffcc"/>
                </a:solidFill>
                <a:latin typeface="Times New Roman"/>
              </a:rPr>
              <a:t>- </a:t>
            </a:r>
            <a:fld id="{84C4FCC1-632E-429B-87DE-009806B91556}" type="slidenum">
              <a:rPr b="1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56040" y="1244520"/>
            <a:ext cx="1036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0" bIns="39600" anchor="t">
            <a:noAutofit/>
          </a:bodyPr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a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846680" y="900000"/>
            <a:ext cx="1055520" cy="1044720"/>
            <a:chOff x="4846680" y="900000"/>
            <a:chExt cx="1055520" cy="1044720"/>
          </a:xfrm>
        </p:grpSpPr>
        <p:sp>
          <p:nvSpPr>
            <p:cNvPr id="92" name=""/>
            <p:cNvSpPr/>
            <p:nvPr/>
          </p:nvSpPr>
          <p:spPr>
            <a:xfrm>
              <a:off x="4862520" y="900000"/>
              <a:ext cx="1039680" cy="0"/>
            </a:xfrm>
            <a:prstGeom prst="line">
              <a:avLst/>
            </a:prstGeom>
            <a:ln w="12600">
              <a:solidFill>
                <a:srgbClr val="4141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46680" y="1944720"/>
              <a:ext cx="1055520" cy="0"/>
            </a:xfrm>
            <a:prstGeom prst="line">
              <a:avLst/>
            </a:prstGeom>
            <a:ln w="12600">
              <a:solidFill>
                <a:srgbClr val="41414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efore you begin this course, you should have the following qualifications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nowledge of SQL and basic OS commands (Unix or NT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requisites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ion Fundamentals I (D11321GC20) (inClass)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w This Course Is Organize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ion Fundamentals II is an instructor-led course featuring lecture and hands-on exercises. Online demonstrations and written practice sessions reinforce the concepts and skills introduc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20840" y="276120"/>
            <a:ext cx="6148080" cy="83822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lated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rt Numb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Backup and Recovery Concep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19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Administrator'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Concept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4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Error Messag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25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New Featur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3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36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Database Utiliti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52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Administrato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Concept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4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Enterprise Manager Configuration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673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Net Services Administrato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8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Net Services Reference Gui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81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Recovery Manager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65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Recovery Manager User’s Guid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66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QL Referenc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40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User-Managed Backup and Recovery Guide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96572-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7360"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dditional Publicatio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ystem release bulletin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stallation and user’s guid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read.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fi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Oracle User’s Group (IOUG) articl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22120"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Oracle Magazin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0">
              <a:spcBef>
                <a:spcPts val="414"/>
              </a:spcBef>
              <a:buNone/>
              <a:tabLst>
                <a:tab algn="l" pos="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  <a:tab algn="l" pos="88678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422280"/>
                <a:tab algn="l" pos="844560"/>
                <a:tab algn="l" pos="1266840"/>
                <a:tab algn="l" pos="1689120"/>
                <a:tab algn="l" pos="2111400"/>
                <a:tab algn="l" pos="2533680"/>
                <a:tab algn="l" pos="2955960"/>
                <a:tab algn="l" pos="3378240"/>
                <a:tab algn="l" pos="3800520"/>
                <a:tab algn="l" pos="4222800"/>
                <a:tab algn="l" pos="4645080"/>
                <a:tab algn="l" pos="5067360"/>
                <a:tab algn="l" pos="5489640"/>
                <a:tab algn="l" pos="5911920"/>
                <a:tab algn="l" pos="6334200"/>
                <a:tab algn="l" pos="6756480"/>
                <a:tab algn="l" pos="7178760"/>
                <a:tab algn="l" pos="7601040"/>
                <a:tab algn="l" pos="8023320"/>
                <a:tab algn="l" pos="84456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225"/>
              </a:spcBef>
              <a:buNone/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736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54680" y="181440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040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736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54680" y="3831120"/>
            <a:ext cx="23778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2320" y="529920"/>
            <a:ext cx="729936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345960"/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386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720" y="383112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040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720" y="1814400"/>
            <a:ext cx="360360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0400" y="3831120"/>
            <a:ext cx="7385040" cy="18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1225"/>
              </a:spcBef>
              <a:buNone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0400" y="1814400"/>
            <a:ext cx="7385040" cy="386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rmAutofit/>
          </a:bodyPr>
          <a:p>
            <a:pPr marL="404640" indent="-40464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SzPct val="125000"/>
              <a:buFont typeface="Arial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19080" indent="-399960">
              <a:lnSpc>
                <a:spcPct val="95000"/>
              </a:lnSpc>
              <a:spcBef>
                <a:spcPts val="1225"/>
              </a:spcBef>
              <a:buClr>
                <a:srgbClr val="66ffff"/>
              </a:buClr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319040" indent="-285480">
              <a:lnSpc>
                <a:spcPct val="95000"/>
              </a:lnSpc>
              <a:spcBef>
                <a:spcPts val="1225"/>
              </a:spcBef>
              <a:buClr>
                <a:srgbClr val="7beaea"/>
              </a:buClr>
              <a:buSzPct val="90000"/>
              <a:buFont typeface="Arial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6212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–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1225"/>
              </a:spcBef>
              <a:buClr>
                <a:srgbClr val="ffffcc"/>
              </a:buClr>
              <a:buFont typeface="Times New Roman"/>
              <a:buChar char="•"/>
              <a:tabLst>
                <a:tab algn="l" pos="692280"/>
                <a:tab algn="l" pos="1038240"/>
                <a:tab algn="l" pos="1384200"/>
                <a:tab algn="l" pos="1730520"/>
                <a:tab algn="l" pos="2076480"/>
                <a:tab algn="l" pos="2422440"/>
                <a:tab algn="l" pos="2768760"/>
                <a:tab algn="l" pos="3114720"/>
                <a:tab algn="l" pos="3460680"/>
                <a:tab algn="l" pos="3807000"/>
                <a:tab algn="l" pos="4152960"/>
                <a:tab algn="l" pos="4498920"/>
                <a:tab algn="l" pos="4844880"/>
                <a:tab algn="l" pos="5191200"/>
                <a:tab algn="l" pos="5537160"/>
                <a:tab algn="l" pos="5883120"/>
                <a:tab algn="l" pos="6229440"/>
                <a:tab algn="l" pos="6575400"/>
                <a:tab algn="l" pos="6921360"/>
                <a:tab algn="l" pos="726768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7680" y="6294600"/>
            <a:ext cx="1154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cf4ea"/>
                </a:solidFill>
                <a:latin typeface="Arial"/>
              </a:rPr>
              <a:t>1-</a:t>
            </a:r>
            <a:fld id="{2D0A7B5C-AB44-4BC2-911A-6897DA824F0B}" type="slidenum">
              <a:rPr b="0" lang="en-US" sz="1400" spc="-1" strike="noStrike">
                <a:solidFill>
                  <a:srgbClr val="8cf4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30440" cy="2034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21000" y="6311880"/>
            <a:ext cx="410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618ffd"/>
                </a:solidFill>
                <a:latin typeface="Times New Roman"/>
              </a:rPr>
              <a:t>Ó</a:t>
            </a: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6634080" y="6335640"/>
            <a:ext cx="1630440" cy="203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21000" y="6311880"/>
            <a:ext cx="4101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Copyright </a:t>
            </a:r>
            <a:r>
              <a:rPr b="0" lang="en-US" sz="1200" spc="-1" strike="noStrike">
                <a:solidFill>
                  <a:srgbClr val="618ffd"/>
                </a:solidFill>
                <a:latin typeface="Times New Roman"/>
              </a:rPr>
              <a:t>Ó</a:t>
            </a:r>
            <a:r>
              <a:rPr b="0" lang="en-US" sz="1200" spc="-1" strike="noStrike">
                <a:solidFill>
                  <a:srgbClr val="618ffd"/>
                </a:solidFill>
                <a:latin typeface="Arial"/>
              </a:rPr>
              <a:t> Oracle Corporation, 1998. All rights reserv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27000" y="622440"/>
            <a:ext cx="7290000" cy="5592600"/>
          </a:xfrm>
          <a:prstGeom prst="rect">
            <a:avLst/>
          </a:prstGeom>
          <a:noFill/>
          <a:ln w="255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6640" y="2666520"/>
            <a:ext cx="7302600" cy="1181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4040" y="1104840"/>
            <a:ext cx="1028520" cy="1028880"/>
          </a:xfrm>
          <a:prstGeom prst="rect">
            <a:avLst/>
          </a:prstGeom>
          <a:gradFill rotWithShape="0">
            <a:gsLst>
              <a:gs pos="0">
                <a:srgbClr val="181898"/>
              </a:gs>
              <a:gs pos="100000">
                <a:srgbClr val="2323dc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6000" spc="-1" strike="noStrike">
                <a:solidFill>
                  <a:srgbClr val="66ffff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2320" y="529920"/>
            <a:ext cx="7299360" cy="8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66"/>
            </a:outerShdw>
          </a:effectLst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ff"/>
                </a:solidFill>
                <a:latin typeface="Arial"/>
              </a:rPr>
              <a:t>Full Notes Page for Prefac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Print or View Notes Pages (not Slides)</a:t>
            </a:r>
            <a:br>
              <a:rPr sz="3200"/>
            </a:b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ulie Rose</dc:creator>
  <dc:description/>
  <dc:language>en-US</dc:language>
  <cp:lastModifiedBy>Internal Systems</cp:lastModifiedBy>
  <cp:lastPrinted>2002-08-15T18:45:41Z</cp:lastPrinted>
  <dcterms:modified xsi:type="dcterms:W3CDTF">2002-08-15T18:47:04Z</dcterms:modified>
  <cp:revision>106</cp:revision>
  <dc:subject/>
  <dc:title>&lt;Lesson Title&gt;</dc:title>
</cp:coreProperties>
</file>