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502920" y="154080"/>
            <a:ext cx="5979960" cy="4481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20840" y="4844520"/>
            <a:ext cx="6148080" cy="3813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1880" y="8737560"/>
            <a:ext cx="5403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Preface </a:t>
            </a: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- </a:t>
            </a:r>
            <a:fld id="{7ACB3012-4E7B-4DB5-906E-1C689256AEAB}" type="slidenum">
              <a:rPr b="1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856040" y="1244520"/>
            <a:ext cx="10368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9600" bIns="39600" anchor="t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fac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846680" y="900000"/>
            <a:ext cx="1055520" cy="1044720"/>
            <a:chOff x="4846680" y="900000"/>
            <a:chExt cx="1055520" cy="1044720"/>
          </a:xfrm>
        </p:grpSpPr>
        <p:sp>
          <p:nvSpPr>
            <p:cNvPr id="92" name=""/>
            <p:cNvSpPr/>
            <p:nvPr/>
          </p:nvSpPr>
          <p:spPr>
            <a:xfrm>
              <a:off x="4862520" y="900000"/>
              <a:ext cx="1039680" cy="0"/>
            </a:xfrm>
            <a:prstGeom prst="line">
              <a:avLst/>
            </a:prstGeom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846680" y="1944720"/>
              <a:ext cx="1055520" cy="0"/>
            </a:xfrm>
            <a:prstGeom prst="line">
              <a:avLst/>
            </a:prstGeom>
            <a:ln w="12600">
              <a:solidFill>
                <a:srgbClr val="41414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20840" y="276120"/>
            <a:ext cx="6148080" cy="8382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lvl="2" marL="461880" indent="0">
              <a:spcBef>
                <a:spcPts val="414"/>
              </a:spcBef>
              <a:buNone/>
              <a:tabLst>
                <a:tab algn="l" pos="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Bef>
                <a:spcPts val="414"/>
              </a:spcBef>
              <a:buNone/>
              <a:tabLst>
                <a:tab algn="l" pos="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Bef>
                <a:spcPts val="414"/>
              </a:spcBef>
              <a:buNone/>
              <a:tabLst>
                <a:tab algn="l" pos="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Bef>
                <a:spcPts val="414"/>
              </a:spcBef>
              <a:buNone/>
              <a:tabLst>
                <a:tab algn="l" pos="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420840" y="276120"/>
            <a:ext cx="6148080" cy="8382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fore You Begin This Cours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fore you begin this course, you should have the following qualifications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22120"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nowledge of SQL and basic OS commands (Unix or NT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erequisites 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22120"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 9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Database Administration Fundamentals I (D11321GC20) (inClass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ow This Course Is Organized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 9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Database Administration Fundamentals II is an instructor-led course featuring lecture and hands-on exercises. Online demonstrations and written practice sessions reinforce the concepts and skills introduced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Bef>
                <a:spcPts val="414"/>
              </a:spcBef>
              <a:buNone/>
              <a:tabLst>
                <a:tab algn="l" pos="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Bef>
                <a:spcPts val="414"/>
              </a:spcBef>
              <a:buNone/>
              <a:tabLst>
                <a:tab algn="l" pos="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Bef>
                <a:spcPts val="414"/>
              </a:spcBef>
              <a:buNone/>
              <a:tabLst>
                <a:tab algn="l" pos="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Bef>
                <a:spcPts val="414"/>
              </a:spcBef>
              <a:buNone/>
              <a:tabLst>
                <a:tab algn="l" pos="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420840" y="276120"/>
            <a:ext cx="6148080" cy="8382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lated Publication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 Publication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rt Number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9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Backup and Recovery Concept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96519-0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9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Database Administrator's Gui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96521-0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9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Database Concept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96524-0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9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Database Error Message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96525-0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9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Database New Feature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96531-0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9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Database Referenc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96536-0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9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Database Utilitie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96652-0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9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Enterprise Manager Administrator’s Gui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96670-0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9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Enterprise Manager Concepts Gui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96674-0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9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Enterprise Manager Configuration Gui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96673-0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9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Net Services Administrator’s Gui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96580-0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9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Net Services Reference Guide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96581-0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9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Recovery Manager Referenc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96565-0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9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Recovery Manager User’s Gui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96566-0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9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SQL Referenc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96540-0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9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User-Managed Backup and Recovery Guide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96572-0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ditional Publication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22120"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ystem release bulletin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22120"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stallation and user’s guid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22120"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read.m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fil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22120"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ternational Oracle User’s Group (IOUG) articl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22120"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Oracle Magazin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Bef>
                <a:spcPts val="414"/>
              </a:spcBef>
              <a:buNone/>
              <a:tabLst>
                <a:tab algn="l" pos="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Bef>
                <a:spcPts val="414"/>
              </a:spcBef>
              <a:buNone/>
              <a:tabLst>
                <a:tab algn="l" pos="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Bef>
                <a:spcPts val="414"/>
              </a:spcBef>
              <a:buNone/>
              <a:tabLst>
                <a:tab algn="l" pos="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738504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60400" y="3831120"/>
            <a:ext cx="738504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4720" y="181440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60400" y="383112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4720" y="383112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7360" y="181440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54680" y="181440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60400" y="383112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7360" y="383112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54680" y="383112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60400" y="1814400"/>
            <a:ext cx="738504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738504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360360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4720" y="1814400"/>
            <a:ext cx="360360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22320" y="529920"/>
            <a:ext cx="729936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720" y="1814400"/>
            <a:ext cx="360360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60400" y="383112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60400" y="1814400"/>
            <a:ext cx="738504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360360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720" y="181440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4720" y="383112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720" y="181440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60400" y="3831120"/>
            <a:ext cx="738504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738504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60400" y="3831120"/>
            <a:ext cx="738504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81440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60400" y="383112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4720" y="383112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57360" y="181440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54680" y="181440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60400" y="383112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57360" y="383112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54680" y="383112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738504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360360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4720" y="1814400"/>
            <a:ext cx="360360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22320" y="529920"/>
            <a:ext cx="729936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4720" y="1814400"/>
            <a:ext cx="360360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60400" y="383112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360360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720" y="181440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4720" y="383112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720" y="181440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60400" y="3831120"/>
            <a:ext cx="738504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/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0400" y="1814400"/>
            <a:ext cx="7385040" cy="3860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/>
            </a:outerShdw>
          </a:effectLst>
        </p:spPr>
        <p:txBody>
          <a:bodyPr lIns="92160" rIns="92160" tIns="46080" bIns="46080" anchor="t">
            <a:normAutofit/>
          </a:bodyPr>
          <a:p>
            <a:pPr marL="404640" indent="-404640">
              <a:lnSpc>
                <a:spcPct val="95000"/>
              </a:lnSpc>
              <a:spcBef>
                <a:spcPts val="1225"/>
              </a:spcBef>
              <a:buClr>
                <a:srgbClr val="66ffff"/>
              </a:buClr>
              <a:buSzPct val="125000"/>
              <a:buFont typeface="Arial"/>
              <a:buChar char="•"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19080" indent="-399960">
              <a:lnSpc>
                <a:spcPct val="95000"/>
              </a:lnSpc>
              <a:spcBef>
                <a:spcPts val="1225"/>
              </a:spcBef>
              <a:buClr>
                <a:srgbClr val="66ffff"/>
              </a:buClr>
              <a:buFont typeface="Arial"/>
              <a:buChar char="–"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319040" indent="-285480">
              <a:lnSpc>
                <a:spcPct val="95000"/>
              </a:lnSpc>
              <a:spcBef>
                <a:spcPts val="1225"/>
              </a:spcBef>
              <a:buClr>
                <a:srgbClr val="7beaea"/>
              </a:buClr>
              <a:buSzPct val="90000"/>
              <a:buFont typeface="Arial"/>
              <a:buChar char="–"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62120" indent="-228600">
              <a:lnSpc>
                <a:spcPct val="95000"/>
              </a:lnSpc>
              <a:spcBef>
                <a:spcPts val="1225"/>
              </a:spcBef>
              <a:buClr>
                <a:srgbClr val="ffffcc"/>
              </a:buClr>
              <a:buFont typeface="Times New Roman"/>
              <a:buChar char="–"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225"/>
              </a:spcBef>
              <a:buClr>
                <a:srgbClr val="ffffcc"/>
              </a:buClr>
              <a:buFont typeface="Times New Roman"/>
              <a:buChar char="•"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225"/>
              </a:spcBef>
              <a:buClr>
                <a:srgbClr val="ffffcc"/>
              </a:buClr>
              <a:buFont typeface="Times New Roman"/>
              <a:buChar char="•"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225"/>
              </a:spcBef>
              <a:buClr>
                <a:srgbClr val="ffffcc"/>
              </a:buClr>
              <a:buFont typeface="Times New Roman"/>
              <a:buChar char="•"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17680" y="6294600"/>
            <a:ext cx="1154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cf4ea"/>
                </a:solidFill>
                <a:latin typeface="Arial"/>
              </a:rPr>
              <a:t>1-</a:t>
            </a:r>
            <a:fld id="{DE6C0D18-B289-40FE-852E-877066C3B76E}" type="slidenum">
              <a:rPr b="0" lang="en-US" sz="1400" spc="-1" strike="noStrike">
                <a:solidFill>
                  <a:srgbClr val="8cf4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6634080" y="6335640"/>
            <a:ext cx="1630440" cy="203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421000" y="6311880"/>
            <a:ext cx="4101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Copyright </a:t>
            </a:r>
            <a:r>
              <a:rPr b="0" lang="en-US" sz="1200" spc="-1" strike="noStrike">
                <a:solidFill>
                  <a:srgbClr val="618ffd"/>
                </a:solidFill>
                <a:latin typeface="Times New Roman"/>
              </a:rPr>
              <a:t>Ó</a:t>
            </a: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 Oracle Corporation, 1998. All rights reserv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6634080" y="6335640"/>
            <a:ext cx="1630440" cy="203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21000" y="6311880"/>
            <a:ext cx="4101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Copyright </a:t>
            </a:r>
            <a:r>
              <a:rPr b="0" lang="en-US" sz="1200" spc="-1" strike="noStrike">
                <a:solidFill>
                  <a:srgbClr val="618ffd"/>
                </a:solidFill>
                <a:latin typeface="Times New Roman"/>
              </a:rPr>
              <a:t>Ó</a:t>
            </a: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 Oracle Corporation, 1998. All rights reserv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27000" y="622440"/>
            <a:ext cx="7290000" cy="5592600"/>
          </a:xfrm>
          <a:prstGeom prst="rect">
            <a:avLst/>
          </a:prstGeom>
          <a:noFill/>
          <a:ln w="255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26640" y="2666520"/>
            <a:ext cx="7302600" cy="1181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/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4040" y="1104840"/>
            <a:ext cx="1028520" cy="1028880"/>
          </a:xfrm>
          <a:prstGeom prst="rect">
            <a:avLst/>
          </a:prstGeom>
          <a:gradFill rotWithShape="0">
            <a:gsLst>
              <a:gs pos="0">
                <a:srgbClr val="181898"/>
              </a:gs>
              <a:gs pos="100000">
                <a:srgbClr val="2323dc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6000" spc="-1" strike="noStrike">
                <a:solidFill>
                  <a:srgbClr val="66ffff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/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Arial"/>
              </a:rPr>
              <a:t>Full Notes Page for Preface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Print or View Notes Pages (not Slides)</a:t>
            </a:r>
            <a:br>
              <a:rPr sz="3200"/>
            </a:b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/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Arial"/>
              </a:rPr>
              <a:t>Full Notes Page for Preface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Print or View Notes Pages (not Slides)</a:t>
            </a:r>
            <a:br>
              <a:rPr sz="3200"/>
            </a:b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/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Arial"/>
              </a:rPr>
              <a:t>Full Notes Page for Preface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Print or View Notes Pages (not Slides)</a:t>
            </a:r>
            <a:br>
              <a:rPr sz="3200"/>
            </a:b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/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Arial"/>
              </a:rPr>
              <a:t>Full Notes Page for Preface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Print or View Notes Pages (not Slides)</a:t>
            </a:r>
            <a:br>
              <a:rPr sz="3200"/>
            </a:b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Julie Rose</dc:creator>
  <dc:description/>
  <dc:language>en-US</dc:language>
  <cp:lastModifiedBy>Internal Systems</cp:lastModifiedBy>
  <cp:lastPrinted>2002-08-15T18:45:41Z</cp:lastPrinted>
  <dcterms:modified xsi:type="dcterms:W3CDTF">2002-08-15T18:47:04Z</dcterms:modified>
  <cp:revision>106</cp:revision>
  <dc:subject/>
  <dc:title>&lt;Lesson Title&gt;</dc:title>
</cp:coreProperties>
</file>