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7772400" cy="100584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cf4e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41120" y="1364760"/>
            <a:ext cx="557532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41120" y="5311800"/>
            <a:ext cx="557532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cf4e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1120" y="1364760"/>
            <a:ext cx="272052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98080" y="1364760"/>
            <a:ext cx="272052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41120" y="5311800"/>
            <a:ext cx="272052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898080" y="5311800"/>
            <a:ext cx="272052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cf4e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1120" y="1364760"/>
            <a:ext cx="179496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26080" y="1364760"/>
            <a:ext cx="179496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11400" y="1364760"/>
            <a:ext cx="179496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41120" y="5311800"/>
            <a:ext cx="179496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926080" y="5311800"/>
            <a:ext cx="179496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811400" y="5311800"/>
            <a:ext cx="179496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cf4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41120" y="1364760"/>
            <a:ext cx="5575320" cy="755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cf4ea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41120" y="1364760"/>
            <a:ext cx="5575320" cy="7556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cf4e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41120" y="1364760"/>
            <a:ext cx="2720520" cy="7556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898080" y="1364760"/>
            <a:ext cx="2720520" cy="7556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cf4e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8440" y="401040"/>
            <a:ext cx="6994800" cy="77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cf4e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1120" y="1364760"/>
            <a:ext cx="272052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898080" y="1364760"/>
            <a:ext cx="2720520" cy="7556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41120" y="5311800"/>
            <a:ext cx="272052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cf4e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41120" y="1364760"/>
            <a:ext cx="2720520" cy="7556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8080" y="1364760"/>
            <a:ext cx="272052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98080" y="5311800"/>
            <a:ext cx="272052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cf4e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41120" y="1364760"/>
            <a:ext cx="272052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98080" y="1364760"/>
            <a:ext cx="272052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41120" y="5311800"/>
            <a:ext cx="557532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41120" y="1364760"/>
            <a:ext cx="5575320" cy="7556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26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26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26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26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26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cf4ea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8cf4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/>
          </p:nvPr>
        </p:nvSpPr>
        <p:spPr>
          <a:xfrm>
            <a:off x="1041120" y="1364760"/>
            <a:ext cx="5575320" cy="7931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114480" indent="0">
              <a:spcBef>
                <a:spcPts val="1125"/>
              </a:spcBef>
              <a:buNone/>
              <a:tabLst>
                <a:tab algn="l" pos="0"/>
                <a:tab algn="l" pos="114480"/>
                <a:tab algn="l" pos="2286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fa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spcBef>
                <a:spcPts val="1125"/>
              </a:spcBef>
              <a:buNone/>
              <a:tabLst>
                <a:tab algn="l" pos="0"/>
                <a:tab algn="l" pos="114480"/>
                <a:tab algn="l" pos="2286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ing Overvi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"/>
              </a:spcBef>
              <a:buNone/>
              <a:tabLst>
                <a:tab algn="l" pos="0"/>
                <a:tab algn="l" pos="114480"/>
                <a:tab algn="l" pos="2286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   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"/>
              </a:spcBef>
              <a:buNone/>
              <a:tabLst>
                <a:tab algn="l" pos="0"/>
                <a:tab algn="l" pos="114480"/>
                <a:tab algn="l" pos="2286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Environment Challenges   1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"/>
              </a:spcBef>
              <a:buNone/>
              <a:tabLst>
                <a:tab algn="l" pos="0"/>
                <a:tab algn="l" pos="114480"/>
                <a:tab algn="l" pos="2286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Network: Two-Tier   1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"/>
              </a:spcBef>
              <a:buNone/>
              <a:tabLst>
                <a:tab algn="l" pos="0"/>
                <a:tab algn="l" pos="114480"/>
                <a:tab algn="l" pos="2286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to Complex Network: N-Tier   1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"/>
              </a:spcBef>
              <a:buNone/>
              <a:tabLst>
                <a:tab algn="l" pos="0"/>
                <a:tab algn="l" pos="114480"/>
                <a:tab algn="l" pos="2286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 Network   1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"/>
              </a:spcBef>
              <a:buNone/>
              <a:tabLst>
                <a:tab algn="l" pos="0"/>
                <a:tab algn="l" pos="114480"/>
                <a:tab algn="l" pos="2286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cle9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etworking Solutions   1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"/>
              </a:spcBef>
              <a:buNone/>
              <a:tabLst>
                <a:tab algn="l" pos="0"/>
                <a:tab algn="l" pos="114480"/>
                <a:tab algn="l" pos="2286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vity: Key Features of Oracle Net Services    1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"/>
              </a:spcBef>
              <a:buNone/>
              <a:tabLst>
                <a:tab algn="l" pos="0"/>
                <a:tab algn="l" pos="114480"/>
                <a:tab algn="l" pos="2286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vity: Oracle Net Services   1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"/>
              </a:spcBef>
              <a:buNone/>
              <a:tabLst>
                <a:tab algn="l" pos="0"/>
                <a:tab algn="l" pos="114480"/>
                <a:tab algn="l" pos="2286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vity: Database Connectivity with HTTP   1-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"/>
              </a:spcBef>
              <a:buNone/>
              <a:tabLst>
                <a:tab algn="l" pos="0"/>
                <a:tab algn="l" pos="114480"/>
                <a:tab algn="l" pos="2286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ory Services: Directory Naming   1-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"/>
              </a:spcBef>
              <a:buNone/>
              <a:tabLst>
                <a:tab algn="l" pos="0"/>
                <a:tab algn="l" pos="114480"/>
                <a:tab algn="l" pos="2286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ory Services: Oracle Internet Directory   1-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"/>
              </a:spcBef>
              <a:buNone/>
              <a:tabLst>
                <a:tab algn="l" pos="0"/>
                <a:tab algn="l" pos="114480"/>
                <a:tab algn="l" pos="2286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ability: Oracle Shared Server   1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"/>
              </a:spcBef>
              <a:buNone/>
              <a:tabLst>
                <a:tab algn="l" pos="0"/>
                <a:tab algn="l" pos="114480"/>
                <a:tab algn="l" pos="2286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ability: Oracle Connection Manager    1-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"/>
              </a:spcBef>
              <a:buNone/>
              <a:tabLst>
                <a:tab algn="l" pos="0"/>
                <a:tab algn="l" pos="114480"/>
                <a:tab algn="l" pos="2286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: Advanced Security   1-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"/>
              </a:spcBef>
              <a:buNone/>
              <a:tabLst>
                <a:tab algn="l" pos="0"/>
                <a:tab algn="l" pos="114480"/>
                <a:tab algn="l" pos="2286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ced Security Encryption   1-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"/>
              </a:spcBef>
              <a:buNone/>
              <a:tabLst>
                <a:tab algn="l" pos="0"/>
                <a:tab algn="l" pos="114480"/>
                <a:tab algn="l" pos="2286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: Oracle Net Services  and Firewalls   1-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"/>
              </a:spcBef>
              <a:buNone/>
              <a:tabLst>
                <a:tab algn="l" pos="0"/>
                <a:tab algn="l" pos="114480"/>
                <a:tab algn="l" pos="2286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ssibility: Heterogeneous Services   1-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"/>
              </a:spcBef>
              <a:buNone/>
              <a:tabLst>
                <a:tab algn="l" pos="0"/>
                <a:tab algn="l" pos="114480"/>
                <a:tab algn="l" pos="2286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ssibility: External Procedures   1-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"/>
              </a:spcBef>
              <a:buNone/>
              <a:tabLst>
                <a:tab algn="l" pos="0"/>
                <a:tab algn="l" pos="114480"/>
                <a:tab algn="l" pos="2286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cle Net Services Configuration and Administration Tools   1-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"/>
              </a:spcBef>
              <a:buNone/>
              <a:tabLst>
                <a:tab algn="l" pos="0"/>
                <a:tab algn="l" pos="114480"/>
                <a:tab algn="l" pos="2286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cle Net Manager   1-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"/>
              </a:spcBef>
              <a:buNone/>
              <a:tabLst>
                <a:tab algn="l" pos="0"/>
                <a:tab algn="l" pos="114480"/>
                <a:tab algn="l" pos="2286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cle Net Configuration Assistant    1-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"/>
              </a:spcBef>
              <a:buNone/>
              <a:tabLst>
                <a:tab algn="l" pos="0"/>
                <a:tab algn="l" pos="114480"/>
                <a:tab algn="l" pos="2286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  1-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>
              <a:spcBef>
                <a:spcPts val="1125"/>
              </a:spcBef>
              <a:buNone/>
              <a:tabLst>
                <a:tab algn="l" pos="0"/>
                <a:tab algn="l" pos="114480"/>
                <a:tab algn="l" pos="2286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acle Net Architectu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"/>
              </a:spcBef>
              <a:buNone/>
              <a:tabLst>
                <a:tab algn="l" pos="0"/>
                <a:tab algn="l" pos="114480"/>
                <a:tab algn="l" pos="2286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   2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"/>
              </a:spcBef>
              <a:buNone/>
              <a:tabLst>
                <a:tab algn="l" pos="0"/>
                <a:tab algn="l" pos="114480"/>
                <a:tab algn="l" pos="2286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cle Net Connections   2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"/>
              </a:spcBef>
              <a:buNone/>
              <a:tabLst>
                <a:tab algn="l" pos="0"/>
                <a:tab algn="l" pos="114480"/>
                <a:tab algn="l" pos="2286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-Server Application Connection   2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"/>
              </a:spcBef>
              <a:buNone/>
              <a:tabLst>
                <a:tab algn="l" pos="0"/>
                <a:tab algn="l" pos="114480"/>
                <a:tab algn="l" pos="2286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Client Application Connections   2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"/>
              </a:spcBef>
              <a:buNone/>
              <a:tabLst>
                <a:tab algn="l" pos="0"/>
                <a:tab algn="l" pos="114480"/>
                <a:tab algn="l" pos="2286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Client Application Connection: Application Web Server Middle-Tier  2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"/>
              </a:spcBef>
              <a:buNone/>
              <a:tabLst>
                <a:tab algn="l" pos="0"/>
                <a:tab algn="l" pos="114480"/>
                <a:tab algn="l" pos="2286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Client Application Connection: Java Application Client   2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"/>
              </a:spcBef>
              <a:buNone/>
              <a:tabLst>
                <a:tab algn="l" pos="0"/>
                <a:tab algn="l" pos="114480"/>
                <a:tab algn="l" pos="2286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Client Application Connection: Java Applet Client   2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"/>
              </a:spcBef>
              <a:buNone/>
              <a:tabLst>
                <a:tab algn="l" pos="0"/>
                <a:tab algn="l" pos="114480"/>
                <a:tab algn="l" pos="2286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Connections Using HTTP   2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"/>
              </a:spcBef>
              <a:buNone/>
              <a:tabLst>
                <a:tab algn="l" pos="0"/>
                <a:tab algn="l" pos="114480"/>
                <a:tab algn="l" pos="2286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Browser Direct Connection   2-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"/>
              </a:spcBef>
              <a:buNone/>
              <a:tabLst>
                <a:tab algn="l" pos="0"/>
                <a:tab algn="l" pos="114480"/>
                <a:tab algn="l" pos="2286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vity Concepts and Terminology   2-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"/>
              </a:spcBef>
              <a:buNone/>
              <a:tabLst>
                <a:tab algn="l" pos="0"/>
                <a:tab algn="l" pos="114480"/>
                <a:tab algn="l" pos="2286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1130400" y="695160"/>
            <a:ext cx="979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0760" bIns="5076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746520" y="9212400"/>
            <a:ext cx="29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041120" y="761760"/>
            <a:ext cx="5575320" cy="8172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 … KEEP Command   16-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loging Archived Redo Log Files and User-Managed Backups   16-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TALOG Command   16-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ataloging RMAN Records    16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 … UNCATALOG Command   16-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  16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16 Overview   16-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09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overy Catalog Creation and Maintena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   17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  17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Catalog Contents   17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Using a Recovery Catalog   17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ng Recovery Catalog   17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ng Using a Recovery Catalog   17-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Catalog Maintenance   17-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log Maintenance   17-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ynchronization of the  Recovery Catalog   17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RESYNC CATALOG  for Resynchronization   17-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tting a Database Incarnation   17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Catalog Reporting   17-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ing the Recovery Catalog   17-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ed Scripts   17-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ript Examples   17-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Scripts   17-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up of Recovery Catalog   17-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ing the Recovery Catalog   17-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  17-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17 Overview   17-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lain" startAt="18"/>
              <a:tabLst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ort and Import Utiliti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   18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cle Export and Import Utilities   18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cle Export and Import Utility Overview   18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s of Invoking the  Export and Import Utilities   18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rt Modes   18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king Export   18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e Export Wizard   18-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-Path Export Concepts   18-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-Path Export Features   18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-Path Export Restrictions   18-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ying Direct-Path Export   18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46160" y="9212400"/>
            <a:ext cx="325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i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41120" y="1378080"/>
            <a:ext cx="5575320" cy="755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the Import Utility for Recovery   18-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Modes   18-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king Import   18-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e Import Wizard   18-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king Import as SYSDBA   18-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Process Sequence   18-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ization Support Considerations    18-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  18-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18 Overview   18-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09520" indent="0">
              <a:spcBef>
                <a:spcPts val="1125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ksho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   19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hop Methodology   19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hop Approach   19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Requirements   19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ing a Database Failure   19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ing a Network Failure   19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able Tracing   19-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race Files   19-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19   19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09520" indent="0">
              <a:spcBef>
                <a:spcPts val="1125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endix A: Practice Solu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09520" indent="0">
              <a:spcBef>
                <a:spcPts val="1125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endix B: Workshop Scenario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09520" indent="0">
              <a:spcBef>
                <a:spcPts val="1125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endix C: Worldwide Support Bulleti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09520" indent="0">
              <a:spcBef>
                <a:spcPts val="1125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endix D: Loading Data into a Datab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45800" y="9212400"/>
            <a:ext cx="360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ii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041120" y="1378080"/>
            <a:ext cx="5575320" cy="755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45800" y="9212400"/>
            <a:ext cx="360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iv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041120" y="761760"/>
            <a:ext cx="5575320" cy="8172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cle Net Configuration Models   2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Naming Methods   2-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cle Net Configuration Files   2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  2-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09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ic Oracle Net Server Side Configu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   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stener Process   3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 Methods   3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wn and Bequeath Connections   3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Hand-Off Connections   3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irected Session   3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nfiguration and Registration   3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c Service Registration: The listener.ora File   3-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c Service Registration: Create a Listener   3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ing Services   3-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ing and Tracing   3-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 Service Registration: Configure Registration   3-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 Service Registration: Registering Information with the Listener 3-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e the Listener for Oracle9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JVM: HTTP   3-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er Control Utility (LSNRCTL)   3-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SNRCTL Commands   3-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SNRCTL SET and SHOW Modifiers   3-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  3-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3 Overview   3-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09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ing Method Configu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   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Naming Methods   4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t Naming   4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t Naming: Client Side   4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t Naming: Server Side   4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t Naming: Example   4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ing Host Naming Using Net Manager   4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Naming   4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ing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nsnames.or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ile Using Net Manager   4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ing the Local Naming Method Using Net Manager   4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d Files: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nsnames.or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4-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d Files: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qlnet.or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4-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ubleshooting the Client Side   4-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  4-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4 Overview   4-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46520" y="9212400"/>
            <a:ext cx="29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041120" y="838080"/>
            <a:ext cx="5575320" cy="809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209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age and Configuration of the Oracle Shared Serv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   5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Configurations   5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dicated Server Processes   5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cle Shared Server   5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Oracle Shared Server   5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Dedicated Server  with Oracle Shared Server   5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ng   5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ing a Request   5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GA and PGA   5-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ing Oracle Shared Server   5-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5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AX_DISPATCH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5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HARED_SERV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5-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AX_SHARED_SERV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5-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IRCUI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5-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HARED_SERVER_SESS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5-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Parameters   5-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fying Setup   5-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 Views   5-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  5-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5 Overview   5-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09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ckup and Recovery Overvi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   6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up and Recovery Issues   6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ies of Failures   6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of Statement Failures   6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utions for Statement Failures   6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of User Process Failures   6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ution of User Process Failures   6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User Errors   6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ution of User Errors   6-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of Instance Failure   6-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of Media Failures    6-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utions for Media Failures   6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ng a Backup and Recovery Strategy   6-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Requirements   6-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al Requirements   6-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cal Considerations   6-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ster Recovery Issues   6-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  6-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46160" y="9212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041120" y="685440"/>
            <a:ext cx="5575320" cy="824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209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tance and Media  Recovery Structures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   7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  7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Pool    7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 Buffer Cache, DBWn,  and Data files   7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o Log Buffer, LGWR,  and Redo Log Files   7-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xed Redo Log Files   7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o Log Files in Enterprise Manager   7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 Checkpoints   7-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Checkpoints   7-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KPT Process   7-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xed Control Files   7-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Files in Enterprise Manager   7-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ocess and Archived Log Files   7-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 Synchronization   7-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 for Instance Recovery    7-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ing Crash and Instance Recovery Performance   7-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ing the Duration of Instance and Crash Recovery    7-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ization Parameters Influencing Checkpoints   7-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ing Instance Crash Recovery Time   7-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$INSTANCE_RECOVE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7-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ing the Phases of  Crash and Instance Recovery   7-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ing the Rolling Forward Phase   7-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ing the Rolling Back Phase   7-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-Start On-Demand Rollback   7-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-Start Parallel Rollback   7-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ing Fast-Start Parallel Rollback   7-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 Parallel Rollback   7-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  7-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7 Overview   7-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09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figuring the Database Archiving Mo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   8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o Log History   8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ARCHIVELOG Mode   8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VELOG Mode   8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ing the Archiving Mode   8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ing the Archiving Mode   8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matic and Manual Archiving   8-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abling Automatic Archiving   8-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ying Multiple ARC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ocesses    8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or Start Additional Archive Processes   8-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46520" y="9212400"/>
            <a:ext cx="29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41120" y="838080"/>
            <a:ext cx="5575320" cy="809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abling Automatic Archiving  at Instance Startup   8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abling Automatic Archiving After Instance Startup    8-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ing Automatic Archiving   8-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ally Archiving Online Redo Log Files   8-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ying the Archive Log Destination   8-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ying Multiple Archive Log Destinations   8-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ARCHIVE_DEST_</a:t>
            </a:r>
            <a:r>
              <a:rPr b="0" i="1" lang="en-US" sz="12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ptions   8-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ying a Minimum Number  of Local Destinations   8-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ing Archiving to a Destination   8-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ying the Filename Format   8-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ing Archive Log Information   8-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  8-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8 Overview   8-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09520" indent="0">
              <a:spcBef>
                <a:spcPts val="1125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acle Recovery Manager Overview and Configu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   9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Manager Features   9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Manager Components   9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e Backup Management Wizards   9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MAN Repository: Using the Control File   9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Allocation   9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matic Channel Allocation   9-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Allocation Using OEM   9-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al Channel Allocation   9-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 Management   9-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Connections with RMAN   9-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ng Without a Recovery Catalog   9-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RMAN Command Line Arguments   9-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Manager Modes   9-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MAN Commands   9-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b Command: Example   9-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MAN Configuration Settings   9-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mand   9-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mand   9-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mand Operations   9-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mand   9-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POR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mand   9-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PORT NEED BACKU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mand   9-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PORT NEED BACKU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Examples   9-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46520" y="9212400"/>
            <a:ext cx="325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041120" y="838080"/>
            <a:ext cx="5575320" cy="809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41904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Manager Packages   9-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MAN Usage Considerations   9-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  9-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9 Overview   9-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1125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-Managed Backup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   10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ology   10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Managed Backup and Recovery  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rying Views to Obtain Database File Information   10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ing Database File Information   10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up Methods   10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stent Whole Database Backup (Closed Database Backup)   10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Making Consistent  Whole Database Backups   10-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a Consistent Whole  Database Backup   10-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Database Backup   10-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Making Open Database Backups   10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Database Backup Requirements   10-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Database Backup Options   10-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a Backup of an Online Tablespace   10-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ing the Online Tablespace Backup   10-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up Status Information   10-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lure During Online Tablespace Backup   10-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ing the Online Backup   10-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-Only Tablespace Backup   10-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-Only Tablespace Backup Issues   10-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up Issues with  LOGGING and NOLOGGING Options   10-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al Control File Backups   10-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ing Up the  Initialization Parameter File   10-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fying Backups  Using the DBVERIFY Utility    10-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VERIFY Command-Line Interface   10-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  10-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10 Overview   10-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1125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MAN Backup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   1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MAN Backup Concepts   11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Manager Backups   11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up Sets   11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Backup Sets   11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46520" y="9212400"/>
            <a:ext cx="360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i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41120" y="837720"/>
            <a:ext cx="5575320" cy="8153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up Piece   11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up Piece Size   11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CKUP Command   11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ng a Backup Set   11-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xed Backup Sets   11-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ization of Backup Sets   11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exed Backup Sets   11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ups of Backup Sets   11-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ved Redo Log File Backups   11-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ved Redo Log Backup Sets   11-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up Constraints   11-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Copies   11-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an Image Copy   11-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ng an Image Copy   11-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Copy: Example   11-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P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mand   11-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Copy Parallelization   11-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ing the Whole Database   11-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Incremental Backups   11-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ial Incremental Backup: Example   11-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up in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ARCHIVELO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ode   11-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File and Server Parameter File Autobackups   11-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ing Up the Server Parameter File   11-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gs for Backups and Image Copies   11-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MAN Dynamic Views   11-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 RMAN Backups   11-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 RMAN Issues   11-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  11-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095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-Managed Complete Recover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   12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 Recovery   12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Steps   12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oration and Datafile Media Recovery with User-Managed Procedures 12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VELOG and NOARCHIVELOG Modes   12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in NOARCHIVELOG Mode   12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in NOARCHIVELOG Mode with Redo Log File Backups   12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in NOARCHIVELOG Mode  Without Redo Log File Backups 12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in ARCHIVELOG Mode    12-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Recovery    12-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Recovery in ARCHIVELOG Mode   12-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46520" y="9212400"/>
            <a:ext cx="29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x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41120" y="838080"/>
            <a:ext cx="5575320" cy="809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ing Which Files Need Recovery   12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Managed Recovery Procedures: RECOVER Command   12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rchived Redo Log Files  During Recovery   12-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oring Datafiles to a New Location with User-Managed Procedures      12-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Recovery Methods   12-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Recovery of a Closed Database   12-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d Database Recovery: Example    12-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Database Recovery When  the Database Is Initially Open   12-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Database Recovery: Example    12-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Database Recovery When the Database Is Initially Closed   12-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Database Recovery: Example    12-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of a Datafile Without a Backup   12-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Creating Lost Datafiles Without Backup   12-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without a Backup: Example    12-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-Only Tablespace Recovery   12-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-Only Tablespace Recovery Issues   12-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Control Files   12-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ing Control Files   12-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  12-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12 Overview   12-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12-1   12-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09520" indent="0">
              <a:spcBef>
                <a:spcPts val="1125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MAN Complete Recover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   1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oration and Datafile Media Recovery Using RMAN   13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RMAN to Recover a Database  in ARCHIVELOG Mode   13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e Recovery Wizard   13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RMAN to Restore Datafiles  to a New Location   13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oring to a New Location   13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RMAN to Recover a Tablespace   13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space Recovery   13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RMAN to Relocate a Tablespace   13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  13-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s 13-1 and 13-2 Overview   13-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13-1   13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13-2   13-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46160" y="9212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41120" y="761760"/>
            <a:ext cx="5575320" cy="81723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209520" indent="0">
              <a:spcBef>
                <a:spcPts val="1125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-Managed Incomplete Recover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   1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omplete Recovery Overview   14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uations Requiring Incomplete Recovery   14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Incomplete Recovery   14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omplete Recovery Guidelines   14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omplete Recovery and the Alert Log   14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Managed Procedures  for Incomplete Recovery    14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 Command Overview   14-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-Based Recovery: Example   14-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TIME Recovery   14-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l-Based Recovery: Example   14-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Backup Control File  During Recovery   14-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Current Redo Log Files   14-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  14-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s 14-1 and 14-2 Overview   14-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14-1   14-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14-2   14-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09520" indent="0">
              <a:spcBef>
                <a:spcPts val="1125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MAN Incomplete Recover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   15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omplete Recovery of a Database Using RMAN   15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ying the Restore Time   15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MAN Incomplete Recovery UNTIL TIME: Example   15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ying the Sequence   15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MAN Incomplete Recovery UNTIL SEQUENCE: Example   15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  15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15 Overview   15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09520" indent="0">
              <a:spcBef>
                <a:spcPts val="1125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MAN Maintena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   16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 Checking Backups and Copies   16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OSSCHECK Command   16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ing Backups and Copies   16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LETE Command   16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ing Backups and Copies   16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ing the Availability of RMAN Backups and Copies   16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ing the Availability Status   16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0">
              <a:spcBef>
                <a:spcPts val="150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mpting a Backup or Copy from the Retention Policy   16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46160" y="9212400"/>
            <a:ext cx="29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20T19:33:44Z</dcterms:created>
  <dc:creator>Education Products</dc:creator>
  <dc:description/>
  <dc:language>en-US</dc:language>
  <cp:lastModifiedBy>Internal Systems</cp:lastModifiedBy>
  <cp:lastPrinted>2002-08-21T23:05:40Z</cp:lastPrinted>
  <dcterms:modified xsi:type="dcterms:W3CDTF">2002-08-21T23:05:44Z</dcterms:modified>
  <cp:revision>101</cp:revision>
  <dc:subject>Edition 1-97</dc:subject>
  <dc:title>Table of Contents</dc:title>
</cp:coreProperties>
</file>