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a:t>
            </a:r>
            <a:fld id="{444A53CA-18FE-4263-B7BC-668F00C5EAA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57200" y="457200"/>
            <a:ext cx="5943600" cy="4457880"/>
          </a:xfrm>
          <a:prstGeom prst="rect">
            <a:avLst/>
          </a:prstGeom>
          <a:ln w="0">
            <a:noFill/>
          </a:ln>
        </p:spPr>
      </p:sp>
      <p:sp>
        <p:nvSpPr>
          <p:cNvPr id="12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Produ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a production database you focus on specific areas that offer the greatest return for your tuning eff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he DBA can resolve problems before they become apparent to users. For example, a company knows that it is going to increase the number of users who access the database. The DBA can start planning the modifications that must take place to prevent a systemwide slowdown due to limited resources. This sort of proactive tuning requires that the DBA be familiar with all aspects of the database, the user base, and the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mmended tuning methodology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fine the problem: Collect feedback from users regarding the scope of the problem. Focus on obtaining factual information. For example, “The end of the month report used to complete in under 8 minutes. For the past two months it has taken 2 hours. This report is started at 9 P.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amine the host system and Oracle statistics: Collect a full set of operating system and database statistics and compare these to your baseline statistics. Examine the differences to determine what has changed on the system—this is likely to be the location of the problem.</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Production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sider some common performance errors: From your list of differences in the collected statistics make a comparison with common performance errors. Determine whether one of these errors has occurred on your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uild a conceptual model: The purpose of this model is to assist you with the overall picture of the database. You are looking for answers to why performance decreased and how to resolve the problem thereby improving performance to within your go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mplement and measure the change: After you have developed the hypothesis make the determined change. It is recommended that only one change be implemented at a time because many changes can confuse the effect of the changes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eck that the bottleneck has been resolved: Collect all the statistics again and compare between the current and the baseline sets. If your hypothesis is correct then the current set of statistics will be a better match with the baseline set than the previous set. This comparison will also inform you whether more tuning is required.</a:t>
            </a:r>
            <a:br>
              <a:rPr sz="1200"/>
            </a:br>
            <a:r>
              <a:rPr b="1" lang="en-US" sz="1200" spc="-1" strike="noStrike">
                <a:solidFill>
                  <a:srgbClr val="000000"/>
                </a:solidFill>
                <a:latin typeface="Arial"/>
              </a:rPr>
              <a:t>If you determine that more tuning is required then return to step two and repeat the proces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57200" y="457200"/>
            <a:ext cx="5943600" cy="4457880"/>
          </a:xfrm>
          <a:prstGeom prst="rect">
            <a:avLst/>
          </a:prstGeom>
          <a:ln w="0">
            <a:noFill/>
          </a:ln>
        </p:spPr>
      </p:sp>
      <p:sp>
        <p:nvSpPr>
          <p:cNvPr id="1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Database Server Tuning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heck the straightforward issues fir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Check the logs for error messages that might give a quick clue to the nature of the problem. Do not overlook application-specific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Make sure that initialization parameter settings make sense for the system. Suggest different settings for different times of day if it hel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Check for CPU and disk queuing, disk utilization, and memory swapping. These are the signs of an overloaded system. If the application is reasonably well tuned, sometimes the best recommendation is to add more hardwar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457200" y="457200"/>
            <a:ext cx="5943600" cy="4457880"/>
          </a:xfrm>
          <a:prstGeom prst="rect">
            <a:avLst/>
          </a:prstGeom>
          <a:ln w="0">
            <a:noFill/>
          </a:ln>
        </p:spPr>
      </p:sp>
      <p:sp>
        <p:nvSpPr>
          <p:cNvPr id="1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Database Server Tuning Method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Each server process is typically in one of three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Idle: Waiting for something to do (sleep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Running code: Using the CPU or in a run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Waiting (block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For some resource to become avail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For a requested activity to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The Oracle server provides a set of “Wait Events” to record the activity of processes that are idle or waiting. The Oracle server can also record CPU utilization for processes that are running.</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457200" y="457200"/>
            <a:ext cx="5943600" cy="4457880"/>
          </a:xfrm>
          <a:prstGeom prst="rect">
            <a:avLst/>
          </a:prstGeom>
          <a:ln w="0">
            <a:noFill/>
          </a:ln>
        </p:spPr>
      </p:sp>
      <p:sp>
        <p:nvSpPr>
          <p:cNvPr id="1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Trade-Of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lways a trade-off between performance and safety. When you increase database performance, often safety is affected adversely. Conversely, the safer the database administrator makes the database, the slower it ru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cision must be made regarding just how safe to make the database and what level of performance is required: how many concurrent users must have access to the database, how many transactions per second must take place, and so on.</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57200" y="457200"/>
            <a:ext cx="5943600" cy="4457880"/>
          </a:xfrm>
          <a:prstGeom prst="rect">
            <a:avLst/>
          </a:prstGeom>
          <a:ln w="0">
            <a:noFill/>
          </a:ln>
        </p:spPr>
      </p:sp>
      <p:sp>
        <p:nvSpPr>
          <p:cNvPr id="1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Ques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 Tu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one involved with the Oracle system (system architects, designers, developers, and database administrators) should think about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problems develop, it is usually the database administrator (DBA) who makes the first attempt at resolving them, thus the DBA should have an accurate overview of all the applications, and their interaction with each other, o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o Tu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st practice in tuning is careful design of systems and applications. The majority of performance gains are realized by tuning the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less likely to encounter performance problems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hardware can meet user dema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Oracle database is carefully desig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application developers write efficient SQL progra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monitored on a regular basis, looking for bottlenecks that affect performanc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Ques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Much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ect of your tuning should be visible to the user base. For this reason there are basically two reasons for tun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peed of a statement by shortening the respons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high throughput scalability at a comparable respons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reasons often have the same go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tain as few Oracle blocks as possible to resolve the user’s de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frequently used items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be tuned in response to an existing problem or because the DBA wants to prevent a problem from occur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examples of items to monitor are critical table growth, changes in the statements that users execute, and I/O distribution across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discusses methods to determine where waits and bottlenecks exist and how to resolve these problem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457200" y="457200"/>
            <a:ext cx="5943600" cy="4457880"/>
          </a:xfrm>
          <a:prstGeom prst="rect">
            <a:avLst/>
          </a:prstGeom>
          <a:ln w="0">
            <a:noFill/>
          </a:ln>
        </p:spPr>
      </p:sp>
      <p:sp>
        <p:nvSpPr>
          <p:cNvPr id="1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Ph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sign and Program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possible, you should start tuning at this level. With a good design, many tuning problems do not occur. For example, although it is typically good practice to fully normalize tables to reduce redundancy, this can result in a high number of table joins. By denormalizing tables the performance of the application can improve dra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monitor hot spots, even on fast disks. You should plan the data configuration to enable faster recovery times and faster data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New Application to an Existing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dding a new application to an existing system, the workload changes. Any major change in the workload should be accompanied by performance 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ools to identify bottlenecks. Examine this data to form a hypothesis about the cause of the bottleneck. From the hypothesis you can develop and implement a solution. Run a test load against the database to determine whether the solution eliminated the bottlenec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457200" y="457200"/>
            <a:ext cx="5943600" cy="4457880"/>
          </a:xfrm>
          <a:prstGeom prst="rect">
            <a:avLst/>
          </a:prstGeom>
          <a:ln w="0">
            <a:noFill/>
          </a:ln>
        </p:spPr>
      </p:sp>
      <p:sp>
        <p:nvSpPr>
          <p:cNvPr id="11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define your tuning goal as follows: “Make sure that users get responses to their statements as quickly as possible.” The goal “as quickly as possible” is not a precise term; the time measure must be quantified in some manner. For example: “Transaction A must complete within 3 minutes” or “Report B must be generated within 30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uning goals arise out of a Service Level Agre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a database environment, the DBA should establish measurable tuning goals. Without them, it will be difficult to determine when enough tuning has been performed. Tuning goals are set in terms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ing the impact of waits and bottleneck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ing the time it takes for a user to receive data from a request (for example, the result set of a query), to update a table, or to generate a re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database avai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memory utilization by reducing paging and swapping that does impact database and operating system performance. Memory utilization may also impact instance hit perce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hit percentages provide a good baseline for determining whether performance has increased or decreased over time, but be careful of using hit percentages as a tuning goal.</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457200" y="457200"/>
            <a:ext cx="5943600" cy="4457880"/>
          </a:xfrm>
          <a:prstGeom prst="rect">
            <a:avLst/>
          </a:prstGeom>
          <a:ln w="0">
            <a:noFill/>
          </a:ln>
        </p:spPr>
      </p:sp>
      <p:sp>
        <p:nvSpPr>
          <p:cNvPr id="1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Performance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Session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related to middleware. An example is a Web page that continually logs on and off a database. This costs the end user time while the logon procedures are fo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Cursor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caused by programming errors and will limit scalability; for example, an application that does not make use of bind variables in the </a:t>
            </a:r>
            <a:r>
              <a:rPr b="1" lang="en-US" sz="1200" spc="-1" strike="noStrike">
                <a:solidFill>
                  <a:srgbClr val="000000"/>
                </a:solidFill>
                <a:latin typeface="Courier New"/>
              </a:rPr>
              <a:t>Where</a:t>
            </a:r>
            <a:r>
              <a:rPr b="1" lang="en-US" sz="1200" spc="-1" strike="noStrike">
                <a:solidFill>
                  <a:srgbClr val="000000"/>
                </a:solidFill>
                <a:latin typeface="Arial"/>
              </a:rPr>
              <a:t> clause. If </a:t>
            </a:r>
            <a:r>
              <a:rPr b="1" lang="en-US" sz="1200" spc="-1" strike="noStrike">
                <a:solidFill>
                  <a:srgbClr val="000000"/>
                </a:solidFill>
                <a:latin typeface="Courier New"/>
              </a:rPr>
              <a:t>CURSOR_SHARING</a:t>
            </a:r>
            <a:r>
              <a:rPr b="1" lang="en-US" sz="1200" spc="-1" strike="noStrike">
                <a:solidFill>
                  <a:srgbClr val="000000"/>
                </a:solidFill>
                <a:latin typeface="Arial"/>
              </a:rPr>
              <a:t> is set to </a:t>
            </a:r>
            <a:r>
              <a:rPr b="1" lang="en-US" sz="1200" spc="-1" strike="noStrike">
                <a:solidFill>
                  <a:srgbClr val="000000"/>
                </a:solidFill>
                <a:latin typeface="Courier New"/>
              </a:rPr>
              <a:t>SIMILAR</a:t>
            </a:r>
            <a:r>
              <a:rPr b="1" lang="en-US" sz="1200" spc="-1" strike="noStrike">
                <a:solidFill>
                  <a:srgbClr val="000000"/>
                </a:solidFill>
                <a:latin typeface="Arial"/>
              </a:rPr>
              <a:t> or </a:t>
            </a:r>
            <a:r>
              <a:rPr b="1" lang="en-US" sz="1200" spc="-1" strike="noStrike">
                <a:solidFill>
                  <a:srgbClr val="000000"/>
                </a:solidFill>
                <a:latin typeface="Courier New"/>
              </a:rPr>
              <a:t>FORCE</a:t>
            </a:r>
            <a:r>
              <a:rPr b="1" lang="en-US" sz="1200" spc="-1" strike="noStrike">
                <a:solidFill>
                  <a:srgbClr val="000000"/>
                </a:solidFill>
                <a:latin typeface="Arial"/>
              </a:rPr>
              <a:t>,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hr.employees WHERE employee_id = 7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hr.employees WHERE employee_id = 736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ll both parse to a single cursor if there is an index on </a:t>
            </a:r>
            <a:r>
              <a:rPr b="1" lang="en-US" sz="1200" spc="-1" strike="noStrike">
                <a:solidFill>
                  <a:srgbClr val="000000"/>
                </a:solidFill>
                <a:latin typeface="Courier New"/>
              </a:rPr>
              <a:t>employee_id</a:t>
            </a:r>
            <a:r>
              <a:rPr b="1" lang="en-US" sz="1200" spc="-1" strike="noStrike">
                <a:solidFill>
                  <a:srgbClr val="000000"/>
                </a:solidFill>
                <a:latin typeface="Arial"/>
              </a:rPr>
              <a:t>, even though the SQL text is differ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Relational Desig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a result of overnormalization. For example, creating many tables could require many table joins to produce output, which could have been obtained from a single tab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457200" y="457200"/>
            <a:ext cx="5943600" cy="4457880"/>
          </a:xfrm>
          <a:prstGeom prst="rect">
            <a:avLst/>
          </a:prstGeom>
          <a:ln w="0">
            <a:noFill/>
          </a:ln>
        </p:spPr>
      </p:sp>
      <p:sp>
        <p:nvSpPr>
          <p:cNvPr id="1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Develop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ning methodology to follow during the development of a new system is different from that which is followed for a production system. For a new system there can be many unknown factors: Therefore the following sequence of steps is recommen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sig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ppli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put/output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ten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ationale for this structure is that improvements early in the sequence can save you from having to deal with problems later. For example, if your application uses many full table scans, this may show up as excessive I/O. However, there is no point in resizing the buffer cache or redistributing disk files if you can rewrite the queries so that they access only four blocks instead of four thous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two steps are typically the responsibility of the system architects and application developers; however, the DBA is often involved in application tuning.</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57200" y="457200"/>
            <a:ext cx="5943600" cy="4457880"/>
          </a:xfrm>
          <a:prstGeom prst="rect">
            <a:avLst/>
          </a:prstGeom>
          <a:ln w="0">
            <a:noFill/>
          </a:ln>
        </p:spPr>
      </p:sp>
      <p:sp>
        <p:nvSpPr>
          <p:cNvPr id="1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a Baseline Set of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production database should have at least one baseline set of statistics stored for reference in case the database performance degrades. Having the set of statistics will assist the DBA in determining whether degradation has in fact occurred or whether it is the users perception that has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egradation is a fact, then the DBA can determine which area of the database has changed and focus the tuning effort there. The DBA can create a hypothesis about what is the cause of the problem and how best to resolv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hypothesis has been developed, it can be tested against the system and a new set of statistics collected and again compared to the base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new set of statistics fulfill the performance goals set for the system, then they can be kept as the new baseline. You should keep previous baseline sets to provide a long-term view of changes on the system.</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B1F54B0F-C338-4135-A8A7-C7E07A4CC2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Oracle9</a:t>
            </a:r>
            <a:r>
              <a:rPr b="1" i="1" lang="en-US" sz="2800" spc="-1" strike="noStrike">
                <a:solidFill>
                  <a:srgbClr val="000000"/>
                </a:solidFill>
                <a:latin typeface="Times New Roman"/>
              </a:rPr>
              <a:t>i</a:t>
            </a:r>
            <a:r>
              <a:rPr b="1" lang="en-US" sz="2800" spc="-1" strike="noStrike">
                <a:solidFill>
                  <a:srgbClr val="000000"/>
                </a:solidFill>
                <a:latin typeface="Arial"/>
              </a:rPr>
              <a:t> Database Performance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teps for a Production Database</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Define the problem.</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Examine the host system and Oracle statistic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onsider some common performance error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Build a conceptual model.</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Implement and measure the chang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Check that the bottleneck has been resolve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Database Server Tuning Methodology</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alert log and trace files for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the parameter file for any diagnostic or inappropriate parameter set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memory, I/O, and CPU usage. Identify processes with resource usage anomal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Identify and tune SQL statements that are heavy consumers of CPU or I/O.</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Database Server Tuning Methodology</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200" spc="-1" strike="noStrike">
                <a:solidFill>
                  <a:srgbClr val="000000"/>
                </a:solidFill>
                <a:latin typeface="Arial"/>
              </a:rPr>
              <a:t>Tune respons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Analyze system performance in terms of work done (CPU or service time) versus time spent waiting for work (wait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Determine which component consumes the greatest amount of th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Drill down to tune that component if appropriat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Versus Safety Trade-Offs</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actors that affec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control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redo log members in a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requent checkpoin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ing up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lock check numb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concurrent users and transactions</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good initial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a tuning methodolog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production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stablish quantifiable goa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un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ide between performance and safety</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roles associated with the database tuning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ependencies between tuning in different development ph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service level agre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uning goa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mmon tun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uning activities during development</a:t>
            </a:r>
            <a:br>
              <a:rPr sz="2200"/>
            </a:br>
            <a:r>
              <a:rPr b="1" lang="en-US" sz="2200" spc="-1" strike="noStrike">
                <a:solidFill>
                  <a:srgbClr val="000000"/>
                </a:solidFill>
                <a:latin typeface="Arial"/>
              </a:rPr>
              <a:t>and produ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lance performance and safety trade-off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Question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 tun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cation design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cation develop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dministrato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stem administrato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at to tu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much tuning?</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Phas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ing can be divided into different ph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ication design and programm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ing a new application to an existin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oubleshooting and tunin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Goals</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360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ing goals are usually specified in terms 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ing or eliminating wai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essing the least number of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ching blocks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ing respons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throughpu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load capabilit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ing recovery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hit percentage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mon Performance Problem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253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session manageme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mits scalability to a point that cannot be exceed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kes the system one or two orders of magnitude slower than it should b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cursor management</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relational desig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necessary table joins perform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ually a result of trying to build an object interface</a:t>
            </a:r>
            <a:br>
              <a:rPr sz="2000"/>
            </a:br>
            <a:r>
              <a:rPr b="1" lang="en-US" sz="2000" spc="-1" strike="noStrike">
                <a:solidFill>
                  <a:srgbClr val="000000"/>
                </a:solidFill>
                <a:latin typeface="Arial"/>
              </a:rPr>
              <a:t>to relational storag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teps During Development</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appl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operating system</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 a Baseline Set of Statistics</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baseline set of statistics is use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set of statistics collected when the system was operating within the bounds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hypothesis about what has changed on</a:t>
            </a:r>
            <a:br>
              <a:rPr sz="2200"/>
            </a:br>
            <a:r>
              <a:rPr b="1" lang="en-US" sz="2200" spc="-1" strike="noStrike">
                <a:solidFill>
                  <a:srgbClr val="000000"/>
                </a:solidFill>
                <a:latin typeface="Arial"/>
              </a:rPr>
              <a:t>the system</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6-17T21:33:54Z</cp:lastPrinted>
  <dcterms:modified xsi:type="dcterms:W3CDTF">2002-09-04T16:07:38Z</dcterms:modified>
  <cp:revision>4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