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772400" cy="100584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2608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11400" y="136476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92608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11400" y="5311800"/>
            <a:ext cx="179496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440" y="401040"/>
            <a:ext cx="6994800" cy="77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98080" y="531180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98080" y="1364760"/>
            <a:ext cx="27205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311800"/>
            <a:ext cx="5575320" cy="3604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41120" y="1364760"/>
            <a:ext cx="5575320" cy="7556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26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8440" y="401040"/>
            <a:ext cx="6994800" cy="167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cf4ea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8cf4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1041120" y="1364760"/>
            <a:ext cx="5575320" cy="7931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verview of Oracle9i Database Performance Tun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Questions   1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Phases   1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Goals   1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on Performance Problems   1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Steps During Development   1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ect a Baseline Set of Statistics   1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Steps for a Production Database   1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Server Tuning Methodology   1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Versus Safety Trade-Offs   1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agnostic and Tuning Tool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2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enance of the Alert Log File   2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Components of the Alert Log File   2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ground Processes Trace Files   2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r Trace Files   2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ews, Utilities, and Tools   2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 Console   2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   2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of Oracle Expert Tuning Methodology   2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Using Oracle Expert   2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spack   2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spack Output   2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ctionary and Special Views   2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playing Systemwide Statistics   2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playing Session-Related Statistics   2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Wait Events   2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event_na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View   2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istics Event Views   2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session_ev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View   2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session_wai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View   2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system_even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View   2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Troubleshooting and Performance Views   2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oubleshooting and Tuning Views   2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tlbsta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tlesta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cripts   2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BA-Developed Tools   2-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vel of Statistics Collection   2-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2-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base Configuration and I/O Issu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3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Processes and Files   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Guidelines   3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130400" y="695160"/>
            <a:ext cx="979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50760" bIns="5076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Resource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8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  18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Resource Management Concepts   18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ub-Plans to Limit CPU Utilization   18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ource Allocation Methods   18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itial Plan: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SYSTEM_PLA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18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ministering the Database Resource Manager   18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: Resource Manager   18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igning the Resource Manager Privilege   18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Database Resource Manager Objects   18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Session Pool   18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Session Pool Mechanism   18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tive Session Pool Parameters   18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ting the Active Session Pool   18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ximum Estimated Execution Time   18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Consumer Group Switching  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do Quota   18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Database Resource Manager Objects   18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igning Users to Consumer Groups   18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ting the Resource Plan for an Instance   18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ging a Consumer Group Within a Session   18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ging Consumer Groups for Sessions   18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Resource Manager Information   18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ource Plan Directives   18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ource Consumer Groups and Privileges   18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rrent Database Resource Manager Settings   18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8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Tuning the Operating Syste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9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ng System Tuning   19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ystem Architectures   19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rtual and Physical Memory   19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ging and Swapping   19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Memory   19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I/O   19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derstanding Different I/O System Calls   19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PU Tuning   19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cess versus Thread   19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9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74616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orkshop Overview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20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roach to Workshop   20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ny Information   20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hysical Workshop Configuration   20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shop Database Configuration   20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shop Procedure   20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oosing a Scenario   20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shop Scenarios   20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ecting Information   20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nerating a Workshop Load   20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ults   20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20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A: Practice Solutions Using SQL Plu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B: Practice Solutions Using Enterprise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C: Tuning Worksho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D: Example of a Statspack Repor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endix E: Redundant Arrays of Inexpensive Disks Technology (RAID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4580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746520" y="919332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tributing Files Across Devices   3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O Topology Support   3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space Usage   3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ally Managed system Tablespace   3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for Checking I/O Statistics   3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filesta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View   3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I/O Statistics   3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/O Statistics   3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le Striping   3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Full Table Scan Operations   3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Scan Statistics   3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Full Table Scan Operations   3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ckpoints   3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ll Checkpoints   3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Response Time   3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gulating the Checkpoint Queue   3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ng and Monitoring Fast Start Checkpointing   3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o Log Groups and Members   3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line Redo Log File Configuration   3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ing the Performance of Archiving   3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  3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3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zing the Shared Poo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4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d Pool Contents   4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d Pool   4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Library Cache   4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portant Shared Pool Latches   4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d Pool and Library Cache Latches   4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the Library Cache   4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rminology   4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for Tuning the Library Cache   4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re Cursors Being Shared?   4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ing Cursors   4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: Library Cache Reloads   4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rary Cache Guidelines Statspack Report   4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validations   4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zing the Library Cache   4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d Pool Advisory   4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 Shared Pool Size Advisor   4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ched Execution Plans   4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ews to Support Cached Execution Plans   4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pport For Cached Execution Plans   4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lobal Space Allocation   4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 Memory Requirements   4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the Shared Pool Reserved Space   4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eping Large Objects   4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nymous PL/SQL Blocks   4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Parameters Affecting the Library Cache   4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The Data Dictionary Cache   4-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for Tuning the Data Dictionary Cache   4-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asuring the Dictionary Cache Statistics   4-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the Data Dictionary Cache   4-4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: Dictionary Cache Misses   4-4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Shared Pool Statistics   4-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GA and Oracle Shared Server   4-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ermining the User Global Area Size   4-4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 Pool   4-4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4-4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zing the Buffer Cach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5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  5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ffer Cache Sizing Parameters   5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Buffer Cache Advisory Parameter   5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ew to Support Buffer Cache Advisory   5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db_cache_adv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View   5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Buffer Cache Advisory   5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the Database Buffer Cache   5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Goals and Techniques   5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  5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   5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ffer Cache Performance Indicators   5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re Buffer Cache Performance Indicators   5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asuring the Cache Hit Ratio   5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Using the Cache Hit Ratio   5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ffer Cache Hit Ratio Isn’t Everything   5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to Increase the Cache Size   5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Multiple Buffer Pools  5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ing Multiple Buffer Pools   5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Multiple Buffer Pools   5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KEEP Buffer Pool Guidelines   5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YCLE Buffer Pool Guidelines   5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lculating the Hit Ratio for Multiple Pools   5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ifying Candidate Pool Segments   5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ctionary Views with Buffer Pool Information   5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ching Tables   5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616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Segment Space Management   5-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-Management of Free Space   5-3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ee Lists   5-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ing Free List Contention   5-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olving Free List Contention   5-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DBWn Processes   5-4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I/O Slaves   5-4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DBWn I/O   5-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5-4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ynamic Instance Resiz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6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SGA Feature   6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t of Allocation in the Dynamic SGA   6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anule   6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ocating Granules at Startup   6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ing Granules to Components   6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Buffer Cache Size Parameters   6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: Increasing the Size of a SGA Component   6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6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zing Other SGA Structur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7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Redo Log Buffer  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zing the Redo Log Buffer  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ing Redo Log Buffer Inefficiency   7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Dynamic Views to Analyze Redo Log Buffer Efficiency   7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   7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o Log Buffer Tuning Guidelines   7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ucing Redo Operations   7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Java Pool Memory   7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zing the SGA for Java   7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7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ning the Oracle Shared Serv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8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  8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Shared Server Characteristics   8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Dispatchers   8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Shared Servers   8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Process Usage   8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red Servers and Memory Usage   8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oubleshooting   8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taining Dictionary Information   8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8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timizing Sort Oper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9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Sort Area Management   9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GA Management Resources   9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 Area Groups and PGA Cache Hit Percentages   9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ermining PGA Workload   9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Views for Work Areas   9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pga_target_adv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9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derstand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pga_target_advi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9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GA Sizing Advisor Output in Oracle Enterprise Manager   9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  9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orting Process   9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rt Area and Parameters   9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Sorts   9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Sorting Process and Temporary Space   9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mporary Space Segments   9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erations Requiring Sorts   9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voiding Sorts   9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  9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s and Guidelines   9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Sorts   9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Temporary Tablespaces   9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mporary Tablespace Configuration   9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9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uning Undo Segmen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0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do Segments: Usage   10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Less Undo Space Per Transaction   10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Less Undo Space   10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Undo Management   10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Undo Management Tablespaces   10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tering an Undo Tablespace   10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witching Undo Tablespaces   10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opping an Undo Tablespace   10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t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UNDO_RETENTION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10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Parameters for Automatic Undo Management   10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Automatic Undo Management   10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v$undosta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10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Rollback/Undo   10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  10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llback Segment Activity   10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llback Segment Header Activity   10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rowth of Rollback Segments   10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46520" y="9212400"/>
            <a:ext cx="325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uning Manually Managed Rollback Segments   10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  10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ing Contention for Manual Rollback Segment Header   10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: Number of Manual Rollback Segments (RBSs)   10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: Sizing Manual Rollback Segments   10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zing Transaction Rollback Data   10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ssible Problems Caused by Small Rollback Segments   10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0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QL Statement Tun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1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  11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mizer Modes   11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ting the Optimizer Mode   11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Hints in a SQL Statement   11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mizer Plan Stability   11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 Equivalence   11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Stored Outlines   11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tored Outlines   11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Private Outlines   11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diting Stored Outlines   11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aining Stored Outlines   11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: Maintaining Stored Outlines   11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view of Diagnostic Tools   11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QL Reports in Statspack   11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Top SQL   11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nerate the Execution Plan   11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lan_tab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able   11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QL Trace and TKPROF   11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and Disabling SQL Trace   11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atting the Trace File with TKPROF   11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KPROF Statistics   11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QL*Plus Autotrace   11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1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naging Statistic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2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Statistics   12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Statistics   12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ecting Segment-Level Statistics   12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ing Segment-Level Statistics   12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Dynamic Sampling   12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Dynamic Sampling   12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ex Statistics   12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46520" y="921240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i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ex Tuning Wizard   12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umn Statistics   12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stograms   12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enerating Histogram Statistics   12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athering Statistic Estimates   12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Statistic Collecting   12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ptimizer Cost Model   12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System Statistics   12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athering System Statistics   12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utomatic Gathering of System Statistics   12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ual Gathering of System Statistics   12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mport System Statistics Example   12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ing Statistics Between Databases   12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: Create the Statistics Table   12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: Copy the Statistics to a Table   12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: Import the Statistics   12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2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Oracle Blocks Efficientl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3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Storage Hierarchy   13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location of Extents   13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voiding Dynamic Allocation   13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ally Managed Extents   13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s and Cons of Large Extents   13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High-Water Mark   13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Statistics   13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ms_spac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ackage   13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vering Space   13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base Block Size   13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_BLOCK_SIZ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arameter   13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mall Block Size: Pros and Cons   13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 Block Size: Pros and Cons   13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CTFRE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CTUS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13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CTFRE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PCTUS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13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igration and Chaining   13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tecting Migration and Chaining   13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lecting Migrated Rows   13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liminating Migrated Rows   13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ex Reorganization   13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Index Space   13-2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ciding Whether to Rebuild or Coalesce an Index   13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Index Usage   13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ifying Unused Indexes   13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608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3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4652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Oracle Data Storage Structures Efficiently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4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Storage Structures   14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lecting the Physical Structure   14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Access Methods   14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usters   14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uster Types   14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tuations Where Clusters Are Useful   14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itioning Methods   14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ange Partitioning Example   14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sh Partitioning Overview   14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Partitioning Example   14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ault Partition for List Partitioning   14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osite Partitioned Table Overview   14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itioned Indexes for Scalable Access   14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artition Pruning   14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tistics Collection for Partitioned Objects   14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4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 Tunin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5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Role of the Database Administrator   15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ving Tables Us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ALTER TABL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15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efining a Table Online   15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-Tree Indexes   15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building Indexes   15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ressed Indexes   15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itmap Indexes   15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nd Maintaining Bitmap Indexes   15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-Tree Indexes and Bitmap Indexes   15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verse Key Index   15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Reverse Key Indexes   15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: Index Management   15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ex-Organized Tables   15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ex-Organized Tables and Heap Tables   15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Index-Organized Tables   15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OT Row Overflow   15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a_tabl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or IOT Information   15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ing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a_indexe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a_segments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or IOT information   15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a Mapping Table   15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intaining a Mapping Table   15-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ANALYZE Statement   15-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acle Enterprise Manager: Collect Statistics   15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LTP Systems   15-2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46160" y="92124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1120" y="1378080"/>
            <a:ext cx="5575320" cy="755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LTP Requirements   15-2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LTP Application Issues   15-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cision Support Systems (Data Warehouses)   15-3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Warehouse Requirements   15-3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rther Data Warehouse Requirements   15-3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Warehouse Application Issues   15-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ybrid Systems   15-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5-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ing Materialized View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6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erialized Views   16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Materialized Views   16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freshing Materialized Views   16-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erialized Views: Manual Refreshing   16-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sted Materialized View Example   16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on All Materialized Views   16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 Rewrite Overview   16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ry Rewrites   16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ating a Materialized View   16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erialized Views and Query Rewrites: Example   16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abling and Controlling Query Rewrites   16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abling Query Rewrites: Example   16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on All Query Rewrite   16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dbms_mview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Package   16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6-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nitoring and Detecting Lock Contentio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jectives   17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king Mechanism   1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 Concurrency   1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Types of Locks   17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ML Locks   17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queue Mechanism   17-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 Lock Modes   17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ually Locking a Table   17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ML Locks in Blocks   17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DL Locks   17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ssible Causes of Lock Contention   17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gnostic Tools for Monitoring Locking Activity   17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uidelines for Resolving Contention   17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formance Manager: Locks   17-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adlocks   17-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>
              <a:lnSpc>
                <a:spcPct val="90000"/>
              </a:lnSpc>
              <a:spcBef>
                <a:spcPts val="139"/>
              </a:spcBef>
              <a:buNone/>
              <a:tabLst>
                <a:tab algn="l" pos="0"/>
                <a:tab algn="l" pos="228600"/>
                <a:tab algn="l" pos="457200"/>
                <a:tab algn="l" pos="1004760"/>
                <a:tab algn="l" pos="2009880"/>
                <a:tab algn="l" pos="3014640"/>
                <a:tab algn="l" pos="4019400"/>
                <a:tab algn="l" pos="5024520"/>
                <a:tab algn="l" pos="6029280"/>
                <a:tab algn="l" pos="7034040"/>
                <a:tab algn="l" pos="8039160"/>
                <a:tab algn="l" pos="9043920"/>
                <a:tab algn="l" pos="10049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ummary   17-2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46160" y="9212400"/>
            <a:ext cx="29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0T19:33:44Z</dcterms:created>
  <dc:creator>Education Products</dc:creator>
  <dc:description/>
  <dc:language>en-US</dc:language>
  <cp:lastModifiedBy>Internal Systems</cp:lastModifiedBy>
  <cp:lastPrinted>1997-01-23T23:37:35Z</cp:lastPrinted>
  <dcterms:modified xsi:type="dcterms:W3CDTF">2002-09-04T16:05:45Z</dcterms:modified>
  <cp:revision>59</cp:revision>
  <dc:subject>Edition 1-97</dc:subject>
  <dc:title>Table of Contents</dc:title>
</cp:coreProperties>
</file>