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477720" y="463680"/>
            <a:ext cx="60357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82480" y="5221440"/>
            <a:ext cx="5826240" cy="346680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Notes_Footer"/>
          <p:cNvSpPr/>
          <p:nvPr/>
        </p:nvSpPr>
        <p:spPr>
          <a:xfrm>
            <a:off x="647640" y="8894880"/>
            <a:ext cx="583884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Performance Tuning   D-</a:t>
            </a:r>
            <a:fld id="{3AFBD705-87D0-4EDD-B7B5-552855F5CFB8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48          948            0.9    0.0     0.06      1.42 36153751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75          115            5.0    0.0     0.05      0.23 13516315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name, c.name from con$ c, user$ o  where c.con# = :1 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owner# = 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54           24           23.1    0.0     0.02      1.24 181907327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wner#,name,namespace,remoteowner,linkname,p_timestamp,p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bj#, d_owner#, nvl(property,0),subname from dependency$,obj$ w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re d_obj#=:1 and p_obj#=obj#(+) order by ord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15          125            4.1    0.0     0.08      0.03 386374283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oe.inventories where  ROW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11           26           19.7    0.0     0.05     14.45 311110329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1$ i_idl_ub1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1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13           24           17.2    0.0     0.02      0.78 40491657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#,columns,types from access$ where d_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90           95            4.1    0.0     0.00      0.06 208563204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intcol#,nvl(pos#,0),col# from ccol$ where con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20           55            4.0    0.0     0.02      0.86 259178502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bj#,type#,ctime,mtime,stime,status,dataobj#,flags,oid$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pare1, spare2 from obj$ where owner#=:1 and name=:2 and namesp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e=:3 and(remoteowner=:4 or remoteowner is null and :4 is null)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d(linkname=:5 or linkname is null and :5 is null)and(subname=: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 subname is null and :6 is nul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81          177            1.0    0.0     0.02      0.03 13750133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oe.order_items set unit_price = :b1   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ID = :b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9           26            5.3    0.0     0.00      0.76 32183562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sb4$ i_idl_sb4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sb4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5           45            3.0    0.0     0.05      0.38 40597143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type#,blocks,extents,minexts,maxexts,extsize,extpct,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iniexts,NVL(lists,65535),NVL(groups,65535),cachehint,hwmincr, 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L(spare1,0) from seg$ where ts#=:1 and file#=:2 and block#=: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7           29            3.0    0.0     0.02      0.14  1892721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owner#,o.name,o.namespace,o.remoteowner,o.linkname,o.s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name,o.dataobj#,o.flags from obj$ o where o.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           26            2.8    0.0     0.00      0.19 14281006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2$ i_idl_ub2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Read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Disk Reads Threshold: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Executions  Reads per Exec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327,038           10      132,703.8   65.4    72.00 ######### 42818573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oltp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44,747          100        9,447.5   46.6    58.55 #########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44,693          100        9,446.9   46.6    58.48 #########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00,549           10       70,054.9   34.5    56.83 #########  8996795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dss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00,532           33       21,228.2   34.5    60.44 ######### 30351762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hipping Quer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cust_last_name, p.prod_name, s.amount_sold, s.quantity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ld   from sh.customers c, sh.products p, sh.sales s   where 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id = s.cust_id   and s.prod_id = p.prod_id   and s.quant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sold = (select MAX(quantity_sold) from sh.sales)   and rownum =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81,590          200        1,908.0   18.8    27.36 #########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51           26            9.7    0.0     0.05     14.45 311110329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1$ i_idl_ub1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1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           24            1.3    0.0     0.02      1.24 181907327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wner#,name,namespace,remoteowner,linkname,p_timestamp,p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bj#, d_owner#, nvl(property,0),subname from dependency$,obj$ w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re d_obj#=:1 and p_obj#=obj#(+) order by ord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Read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Disk Reads Threshold: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Executions  Reads per Exec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8          200            0.1    0.0     0.09    161.84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2          313            0.1    0.0     0.20      4.13 41685851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oe.order_items (order_id, line_item_id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, unit_price, quantity)                   valu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:b5, :b4,                   :b3, 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 26            0.8    0.0     0.00      0.76 32183562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sb4$ i_idl_sb4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sb4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9          160            0.1    0.0     0.36      7.81 191527437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hr.employees (employee_id, last_name, first_name, 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il,                phone_number, hire_date, job_id, salary, 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ssion_pct, manager_id,                department_id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lues (:b11, :b10, :b9, :b8,                :b7, :b6, :b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 :b4,                :b3,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7           55            0.3    0.0     0.02      0.86 259178502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bj#,type#,ctime,mtime,stime,status,dataobj#,flags,oid$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pare1, spare2 from obj$ where owner#=:1 and name=:2 and namesp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e=:3 and(remoteowner=:4 or remoteowner is null and :4 is null)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d(linkname=:5 or linkname is null and :5 is null)and(subname=: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 subname is null and :6 is nul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           24            0.7    0.0     0.02      0.78 40491657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#,columns,types from access$ where d_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           45            0.3    0.0     0.05      0.38 40597143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type#,blocks,extents,minexts,maxexts,extsize,extpct,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iniexts,NVL(lists,65535),NVL(groups,65535),cachehint,hwmincr, 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L(spare1,0) from seg$ where ts#=:1 and file#=:2 and block#=: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Read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Disk Reads Threshold: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Executions  Reads per Exec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           26            0.3    0.0     0.00      0.19 14281006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2$ i_idl_ub2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2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          160            0.0    0.0     0.19      2.40 272978085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hr.employee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  26            0.2    0.0     0.02      0.34  95761626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char$ i_idl_char1) +*/ piece#,length,pie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om idl_char$ where obj#=:1 and part=:2 and version=:3 order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 200            0.0    0.0     0.13    188.80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 517            0.0    0.0     0.22      0.50 393551642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seq$ set increment$=:2,minvalue=:3,maxvalue=:4,cycle#=:5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$=:6,cache=:7,highwater=:8,audit$=:9,flags=:10 where obj#=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          160            0.0    0.0     0.09      0.36 29506584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name, u.name from con$ c, cdef$ cd, user$ u  where c.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# = cd.con# and cd.enabled = :1 and c.owner# = u.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 29            0.1    0.0     0.02      0.14  1892721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owner#,o.name,o.namespace,o.remoteowner,o.linkname,o.s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name,o.dataobj#,o.flags from obj$ o where o.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313            0.0    0.0     0.05      0.37  4676033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(NVL(MAX(line_item_id),0)+1) FROM order_items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Read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Disk Reads Threshold: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Executions  Reads per Exec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 16            0.1    0.0     0.00      0.03  93195628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grantee#,privilege#,nvl(col#,0),max(mod(nvl(option$,0),2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)from objauth$ where obj#=:1 group by grantee#,privilege#,nvl(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#,0) order by grante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115            0.0    0.0     0.05      0.23 13516315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name, c.name from con$ c, user$ o  where c.con# = :1 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owner# = 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 95            0.0    0.0     0.00      0.06 208563204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intcol#,nvl(pos#,0),col# from ccol$ where con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Execution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Executions Threshold:    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per    Elap p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ions   Rows Processed   Rows per Exec    Exec (s)   Exec (s)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--- ---------------- -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48               0              0.0       0.00        0.00 36153751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17             517              1.0       0.00        0.00 393551642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seq$ set increment$=:2,minvalue=:3,maxvalue=:4,cycle#=:5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$=:6,cache=:7,highwater=:8,audit$=:9,flags=:10 where obj#=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3             313              1.0       0.00        0.00  4676033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(NVL(MAX(line_item_id),0)+1) FROM order_items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3             313              1.0       0.00        0.01 41685851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oe.order_items (order_id, line_item_id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, unit_price, quantity)                   valu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:b5, :b4,                   :b3, 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3             313              1.0       0.00        0.00 41704742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oe.order_items where  ROW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0             200              1.0       0.00        0.81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0             200              1.0       0.00        0.60 32477225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employee_id from oe.employees             where employee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0             200              1.0       0.00        0.94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Execution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Executions Threshold:    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per    Elap p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ions   Rows Processed   Rows per Exec    Exec (s)   Exec (s)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--- ---------------- -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0             200              1.0       0.14 ###########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77             177              1.0       0.00        0.00 13750133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oe.order_items set unit_price = :b1   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ID = :b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0               0              0.0       0.00        0.05 191527437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hr.employees (employee_id, last_name, first_name, 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il,                phone_number, hire_date, job_id, salary, 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ssion_pct, manager_id,                department_id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lues (:b11, :b10, :b9, :b8,                :b7, :b6, :b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 :b4,                :b3,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0             160              1.0       0.00        0.02 272978085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hr.employee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0             160              1.0       0.00        0.00 29506584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name, u.name from con$ c, cdef$ cd, user$ u  where c.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# = cd.con# and cd.enabled = :1 and c.owner# = u.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50             150              1.0       0.00        0.00 199465710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sh.customer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50               0              0.0       0.00        0.00 238655290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sh.customers (cust_id, cust_first_name, cust_last_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,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street_address, cust_city, country_id, 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t_credit_limit,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email)                val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 (:b8, :b7, :b6,                :b5, :b4, :b3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Execution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Executions Threshold:    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per    Elap p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ions   Rows Processed   Rows per Exec    Exec (s)   Exec (s)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--- ---------------- -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5             125              1.0       0.00        0.00 386374283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oe.inventories where  ROW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15             115              1.0       0.00        0.00 13516315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name, c.name from con$ c, user$ o  where c.con# = :1 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owner# = 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0              95              1.0       0.59 ###########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0             100              1.0       0.58 ###########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5             100              1.1       0.00        0.00 208563204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intcol#,nvl(pos#,0),col# from ccol$ where con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5              47              0.9       0.00        0.02 259178502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bj#,type#,ctime,mtime,stime,status,dataobj#,flags,oid$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pare1, spare2 from obj$ where owner#=:1 and name=:2 and namesp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e=:3 and(remoteowner=:4 or remoteowner is null and :4 is null)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d(linkname=:5 or linkname is null and :5 is null)and(subname=: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 subname is null and :6 is nul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5              45              1.0       0.00        0.01 40597143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type#,blocks,extents,minexts,maxexts,extsize,extpct,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iniexts,NVL(lists,65535),NVL(groups,65535),cachehint,hwmincr, 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L(spare1,0) from seg$ where ts#=:1 and file#=:2 and block#=: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3              33              1.0       1.83 ########### 30351762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hipping Quer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cust_last_name, p.prod_name, s.amount_sold, s.quantity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ld   from sh.customers c, sh.products p, sh.sales s   where 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id = s.cust_id   and s.prod_id = p.prod_id   and s.quant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sold = (select MAX(quantity_sold) from sh.sales)   and rownum =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Execution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Executions Threshold:    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per    Elap p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ions   Rows Processed   Rows per Exec    Exec (s)   Exec (s)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--- ---------------- -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9              29              1.0       0.00        0.00  1892721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owner#,o.name,o.namespace,o.remoteowner,o.linkname,o.s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name,o.dataobj#,o.flags from obj$ o where o.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    4              0.2       0.00        0.01  95761626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char$ i_idl_char1) +*/ piece#,length,pie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om idl_char$ where obj#=:1 and part=:2 and version=:3 order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    8              0.3       0.00        0.01 14281006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2$ i_idl_ub2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2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  102              3.9       0.00        0.56 311110329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1$ i_idl_ub1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1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SPACK report f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Name         DB Id    Instance     Inst Num Release     Cluster Hos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 ------------ -------- ----------- 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CL           995156390 orcl                1 9.2.0.1.0   NO      EDT3R4P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nap Id     Snap Time      Sessions Curs/Sess Comme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 ------------------ -------- --------- 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Snap:                             1 30-Jul-02 15:14:22        7       5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 Snap:                             2 30-Jul-02 16:01:23        7       5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apsed:                                               47.0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min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Sizes (end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~~~~~~~~~~~~~~~~~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Cache:         4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d Block Size:                                                 4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Size:         8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Buffer:                                                63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ad Profi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~~~~~~~~~~~~                            Per Second       Per Transacti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      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size:                897.28              2,981.4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ical reads:                775.82              2,577.8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lock changes:                  6.52                 21.6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:                718.92              2,388.7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writes:                  5.58                 18.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calls:                  0.21                  0.7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s:                  1.05                  3.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ard parses:                  0.03                  0.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s:                  0.19                  0.6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ons:                  0.01                  0.0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es:                  2.98                  9.8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s:                  0.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Blocks changed per Read:    0.8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cursive Call %:                                            98.3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 per transaction %: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s per Sort:                                          3677.0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Parse Call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Parse Calls Threshold:  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alls  Executions   Parses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17          517    17.53 393551642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seq$ set increment$=:2,minvalue=:3,maxvalue=:4,cycle#=:5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$=:6,cache=:7,highwater=:8,audit$=:9,flags=:10 where obj#=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11          948     7.15 36153751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0          160     5.42 29506584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name, u.name from con$ c, cdef$ cd, user$ u  where c.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# = cd.con# and cd.enabled = :1 and c.owner# = u.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50          150     5.08 238655290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sh.customers (cust_id, cust_first_name, cust_last_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,                cust_street_address, cust_city, country_id, 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t_credit_limit,                cust_email)                val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 (:b8, :b7, :b6,                :b5, :b4, :b3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15          115     3.90 13516315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name, c.name from con$ c, user$ o  where c.con# = :1 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owner# = 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5           45     1.53 40597143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type#,blocks,extents,minexts,maxexts,extsize,extpct,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iniexts,NVL(lists,65535),NVL(groups,65535),cachehint,hwmincr, 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L(spare1,0) from seg$ where ts#=:1 and file#=:2 and block#=: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2           55     1.08 259178502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bj#,type#,ctime,mtime,stime,status,dataobj#,flags,oid$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pare1, spare2 from obj$ where owner#=:1 and name=:2 and namesp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e=:3 and(remoteowner=:4 or remoteowner is null and :4 is null)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d(linkname=:5 or linkname is null and :5 is null)and(subname=: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 subname is null and :6 is nul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26     0.88  95761626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char$ i_idl_char1) +*/ piece#,length,pie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om idl_char$ where obj#=:1 and part=:2 and version=:3 order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Parse Call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Parse Calls Threshold:  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alls  Executions   Parses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26     0.88 14281006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2$ i_idl_ub2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2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26     0.88 311110329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1$ i_idl_ub1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1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26     0.88 32183562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sb4$ i_idl_sb4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sb4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4           24     0.81 181907327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wner#,name,namespace,remoteowner,linkname,p_timestamp,p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bj#, d_owner#, nvl(property,0),subname from dependency$,obj$ w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re d_obj#=:1 and p_obj#=obj#(+) order by ord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4           24     0.81 40491657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#,columns,types from access$ where d_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200     0.68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200     0.68 32477225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employee_id from oe.employees             where employee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200     0.68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Parse Call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Parse Calls Threshold:  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alls  Executions   Parses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200     0.68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4           14     0.47 17058807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file# from file$ where ts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          100     0.44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          100     0.44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           29     0.41  1892721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owner#,o.name,o.namespace,o.remoteowner,o.linkname,o.s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name,o.dataobj#,o.flags from obj$ o where o.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           16     0.41  93195628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grantee#,privilege#,nvl(col#,0),max(mod(nvl(option$,0),2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)from objauth$ where obj#=:1 group by grantee#,privilege#,nvl(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#,0) order by grante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1           20     0.37 238591934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name,intcol#,segcol#,type#,length,nvl(precision#,0),dec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(type#,2,nvl(scale,-127/*MAXSB1MINAL*/),178,scale,179,scale,18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scale,181,scale,182,scale,183,scale,231,scale,0),null$,fixedst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age,nvl(deflength,0),default$,rowid,col#,property, nvl(charset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,0),nvl(charsetform,0),spare1,spare2,nvl(spare3,0) from col$ w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    10     0.34  8996795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dss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Parse Call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Parse Calls Threshold:  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alls  Executions   Parses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   177     0.34 13750133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oe.order_items set unit_price = :b1   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ID = :b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   160     0.34 191527437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hr.employees (employee_id, last_name, first_name, 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il,                phone_number, hire_date, job_id, salary, 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Activity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istic                                      Total     per Second    per Tra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 ------------------ --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used by this session                      15,305            5.4         18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used when call started                    15,305            5.4         18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R blocks created                              4,555            1.6          5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d Commit SCN referenced               1,556,535          551.8      1,833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SCN cached                                 50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buffers scanned                           1,102            0.4          1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checkpoint buffers written                2,049            0.7          2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checkpoints         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free buffers found                        1,039            0.4          1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lru scans                                     6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make free requests                            6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summed scan depth                         1,102            0.4          1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transaction table writes                    430            0.2          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undo block writes                           723            0.3          0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roundtrips to/from client                501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ctive txn count during cleanout               2,806            1.0          3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ackground timeouts                            2,720            1.0          3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is not pinned count                 2,130,206          755.1      2,509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is pinned count                         2,539            0.9          3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ytes received via SQL*Net from c             56,493           20.0         66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ytes sent via SQL*Net to client              65,619           23.3         77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lls to get snapshot scn: kcmgss             29,701           10.5         35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lls to kcmgas                                6,251            2.2          7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lls to kcmgcs                                  160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ange write time                                 31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eanout - number of ktugct calls              2,253            0.8          2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eanouts and rollbacks - consist              1,481            0.5          1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eanouts only - consistent read                 130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uster key scan block gets                      830            0.3      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uster key scans                                478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 failures: block l                  2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 failures: callbac                127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 failures: cannot                   1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s                               2,551            0.9          3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s successfully com              2,421            0.9          2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txn count during cleanout                 243            0.1    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istent changes                            10,340            3.7         12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istent gets                            2,169,211          769.0      2,555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istent gets - examination                 18,811            6.7         22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rent blocks converted for CR                    6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sor authentications                            76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ata blocks consistent reads - un             10,076            3.6         11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Activity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istic                                      Total     per Second    per Tra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 ------------------ --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block changes                              18,384            6.5         21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block gets                                 19,379            6.9         22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ferred (CURRENT) block cleanout              1,229            0.4          1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ty buffers inspected                           55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conversions                            2,507            0.9          3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releases                               8,921            3.2         1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requests                               8,940            3.2         1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timeouts                                  19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waits                                    665            0.2          0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e count                                  8,399            3.0          9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ee buffer inspected                         12,938            4.6         15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ee buffer requested                      2,027,711          718.8      2,388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ot buffers moved to head of LRU                 695            0.3          0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mmediate (CR) block cleanout app              1,611            0.6          1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mmediate (CURRENT) block cleanou                195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 fast full scans (full)                     547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 fetch by key                             2,405            0.9          2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 scans kdiixs1                            2,799            1.0          3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eaf node 90-10 splits                             3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eaf node splits                                  18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ons cumulative                                 2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ssages received                              1,046            0.4          1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ssages sent                                  1,046            0.4          1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o buffer to keep pinned count                    31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o work - consistent read gets             2,125,242          753.4      2,503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pened cursors cumulative                      2,601            0.9          3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ount (hard)                                90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ount (total)                            2,950            1.1          3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time cpu                                    52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time elapsed                             2,468            0.9          2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                           2,028,073          718.9      2,388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direct                          5,585            2.0          6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writes                               15,751            5.6         18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writes direct                        13,586            4.8         16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writes non checkpoint                14,508            5.1         17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nned buffers inspected                      12,860            4.6         15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efetched blocks                          1,703,051          603.7      2,006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efetched blocks aged out before                 3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cess last non-idle time            20,561,129,916    7,288,596.2 ###########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covery blocks read     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cursive calls                               36,164           12.8         42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cursive cpu usage                           15,194            5.4         17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blocks written                            5,545            2.0          6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Activity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istic                                      Total     per Second    per Tra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 ------------------ --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entries                                  10,568            3.8         12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size                                  2,531,236          897.3      2,981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synch time                                  479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synch writes                                175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astage                                 248,460           88.1        292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rite time                                6,413            2.3          7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riter latching time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rites                                      897            0.3    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 changes - undo records a                498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s only - consistent read               3,110            1.1          3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s fetched via callback                        929            0.3    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connect time                  20,561,129,916    7,288,596.2 ###########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logical reads                      2,188,590          775.8      2,577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pga memory       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pga memory max   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uga memory                           295,704          104.8        348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uga memory max                     8,836,212        3,132.3     10,407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hash latch upgrades - no w              2,375            0.8          2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s (disk)                                     140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s (memory)                                   409            0.1          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s (rows)                               2,018,699          715.6      2,377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ummed dirty queue length                        134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witch current to new buffer                      98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fetch by rowid                           3,109            1.1          3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fetch continued row                        174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scan blocks gotten                   2,123,096          752.6      2,50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scan rows gotten                   181,473,409       64,329.5    213,749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scans (long tables)                      2,480            0.9          2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scans (short tables)                     3,352            1.2          4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rollbacks                            162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tables consistent rea                  3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tables consistent rea                257            0.1    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calls                                       602            0.2          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commits                                     849            0.3      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orkarea executions - multipass                  134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orkarea executions - optimal                    595            0.2          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rite clones created in foregroun                 17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space IO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ordered by IOs (Reads + Writes)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spa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      Av     Av                    Av        Buffer Av Bu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ads Reads/s Rd(ms) Blks/Rd       Writes Writes/s      Waits Wt(m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 ------- ------ ------- ------------ -------- 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AMP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8,868     113   90.6     6.3          856        0     36,250   56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,585       2  130.6     1.0       13,586        5          0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TBS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5       0   62.0     1.0        1,161        0          0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76       0   52.0     1.0           22        0         57   2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OL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1       0    9.3     1.0          126        0          0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le IO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ordered by Tablespace, Fi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space               Filenam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      Av     Av                    Av        Buffer Av Bu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ads Reads/s Rd(ms) Blks/Rd       Writes Writes/s      Waits Wt(m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 ------- ------ ------- ------------ -------- 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AMPLE                  E:\ORANT\ORA92\ORADATA\ORCL\EXAMPLE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8,868     113   90.6     6.3          856        0     36,250   56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YSTEM                   E:\ORANT\ORA92\ORADATA\ORCL\SYSTEM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76       0   52.0     1.0           22        0         57   2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EMP                     E:\ORANT\ORA92\ORADATA\ORCL\TEMP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,585       2  130.6     1.0       13,586        5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OLS                    E:\ORANT\ORA92\ORADATA\ORCL\TOOLS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1       0    9.3     1.0          126        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TBS1                 E:\ORANT\ORA92\ORADATA\ORCL\UNDOTBS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5       0   62.0     1.0        1,161        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Pool Statistic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Standard block size Pools  D: default,  K: keep,  R: recyc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Default Pools for other block sizes: 2k, 4k, 8k, 16k, 32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ee    Write  Buff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umber of Cache      Buffer    Physical   Physical  Buffer Complete    Bus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      Buffers Hit %        Gets       Reads     Writes   Waits    Waits   Wai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 ---------- ----- ----------- ----------- ---------- ------- -------- 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979  53.2   4,320,233   2,022,481      2,165       0        0  36,30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Recovery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B: Begin snapshot,  E: End snapsho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rgt Estd                                    Log File   Log Ckpt   Log Ckp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TTR  MTTR   Recovery    Actual     Target      Size     Timeout    Interv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s)   (s)   Estd IOs  Redo Blks  Redo Blks  Redo Blks  Redo Blks  Redo Blk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----- ----- ---------- ---------- ---------- 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    16    12        152        558      18432      184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    16    12        159          0      18432      184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Pool Advisory for DB: ORCL  Instance: orcl  End Snap: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nly rows with estimated physical reads &gt;0 are display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Block Size, Buffers For Estim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for  Size      Buffers for  Est Physical          Estimat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   Estimate (M) Factr         Estimate   Read Factor     Physical Read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 ------------ ----- ---------------- ------------- 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 4   1.0              979          1.00          2,029,87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 8   2.0            1,958          0.89          1,801,95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12   3.0            2,937          0.80          1,620,63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16   4.0            3,916          0.72          1,468,75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20   5.0            4,895          0.65          1,318,3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24   6.0            5,874          0.58          1,184,1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28   7.0            6,853          0.51          1,043,83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32   8.0            7,832          0.43            875,6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36   9.0            8,811          0.36            730,04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40  10.0            9,790          0.29            582,54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44  11.0           10,769          0.20            397,89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48  12.0           11,748          0.07            140,09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52  13.0           12,727          0.01             23,79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56  14.0           13,706          0.01             20,05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60  15.0           14,685          0.01             20,05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64  16.0           15,664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68  17.0           16,643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72  18.0           17,622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76  19.0           18,601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80  20.0           19,580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wait Statistic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wait time desc, waits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 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ass                                                        Waits   Time (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 -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ime (m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ata block                                                  36,172      2,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nd level bmb                                                   20         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2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gment header                                                  90         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st level bmb                                                   25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Aggr Target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B: Begin snap   E: End snap (rows dentified with B or E contain dat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hich is absolute i.e. not diffed over the interva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PGA cache hit % - percentage of W/A (WorkArea) data processed only in-memor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Auto PGA Target - actual workarea memory targe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W/A PGA Used    - amount of memory used for all Workareas (manual + auto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%PGA W/A Mem    - percentage of PGA memory allocated to workarea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%Auto W/A Mem   - percentage of workarea memory controlled by Auto Mem Mgm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%Man W/A Mem    - percentage of workarea memory under manual contro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Cache Hit % W/A MB Processed Extra W/A MB Read/Writte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---- 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6.4              105                        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PGA  %Auto   %M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Aggr  Auto PGA   PGA Mem    W/A PGA    W/A    W/A    W/A   Global M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rget(M) Target(M)  Alloc(M)   Used(M)    Mem    Mem    Mem    Bound(K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--------- --------- ---------- ---------- ------ ------ 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        24        17        8.0        0.0     .0     .0     .0      1,22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        24        17        8.0        0.0     .0     .0     .0      1,22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Efficiency Percentages (Target 100%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~~~~~~~~~~~~~~~~~~~~~~~~~~~~~~~~~~~~~~~~~~~~~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Nowait %:   98.3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NoWait %:                                          10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 Hit   %:    7.5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-memory Sort %:                                           74.5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Hit   %:   97.3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ft Parse %:                                           96.9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e to Parse %:   64.8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Hit %:                                          10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PU to Parse Elapsd %:    2.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Non-Parse CPU:                                           99.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Statistics        Begin   E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mory Usage %:   94.93   95.6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SQL with executions&gt;1:   71.80   87.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Memory for SQL w/exec&gt;1:   48.25   84.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p 5 Timed Eve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~~~~~~~~~~~~~~~~~~                                                     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                                              Waits    Time (s) Ela Tim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 ------------ -----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equential read                           189,111      29,773    50.9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cattered read                            130,326      25,114    42.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busy waits                                  36,307       2,031     3.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                                              724         535      .9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read                                    3,085         325      .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Aggr Target Histogram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ptimal Executions are purely in-memory oper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w    Hig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ptimal Optimal    Total Execs Optimal Execs 1-Pass Execs M-Pass Exec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 ------- -------------- ------------- 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K      8K            456           456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K     16K              8             8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K     32K              2             2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2K     64K            133             1            0          1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4K    128K              1             1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8K    256K              2             0            0    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56K    512K             66            66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M      2M             66            66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Memory Advisory for DB: ORCL  Instance: orcl  End Snap: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When using Auto Memory Mgmt, minimally choose a pga_aggregate_target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here Estd PGA Overalloc Count is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td Extra    Estd PGA   Estd PG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Target    Size           W/A MB   W/A MB Read/      Cache  Overallo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t (MB)   Factr        Processed Written to Disk     Hit %      Cou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 ------- ---------------- ----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     0.5              0.0              0.0      0.0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8     0.8              0.0              0.0      0.0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4     1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9     1.2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4     1.4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8     1.6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3     1.8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8     2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     3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6     4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44     6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92     8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queue stats gathered prior to 9i should not be compared with 9i dat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Wait Time desc, Waits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g Wt         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q     Requests    Succ Gets Failed Gets       Waits   Time (ms)     Time (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 ------------ ------------ ----------- ----------- -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X        2,077        2,058          19         465        964.33          4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M        7,814        7,814           0         200        433.54           8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 Segment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A high value for "Pct Waits" suggests more rollback segments may be requir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RBS stats may not be accurate between begin and end snaps when using Auto Und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anagment, as RBS may be dynamically created and dropped as need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 Table       Pct   Undo Byt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BS No      Gets        Waits     Written        Wraps  Shrinks  Extend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-------------- ------- --------------- -------- --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         10.0    0.00               0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         428.0    0.00          73,508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441.0    0.00          71,700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          464.0    0.00          63,328        1        0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          396.0    0.00          58,240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          437.0    0.00          67,164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 446.0    0.00          67,546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          378.0    0.00          66,198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          481.0    0.00          75,778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          379.0    0.00          54,632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   466.0    0.00         183,916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 Segment Storage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Optimal Size should be larger than Avg Activ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BS No    Segment Size      Avg Active    Optimal Size    Maximum Siz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--------------- --------------- --------------- 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       425,984           6,144                         425,98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        716,800          32,145                         716,8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913,408          22,536                         913,40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       2,093,056         147,845                       2,093,0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         585,728          17,759                         585,72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       1,175,552               0                       1,175,5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716,800          17,759                         716,8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       1,175,552               0                       1,175,5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         651,264          17,759                         651,26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       2,289,664               0                       2,289,66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1,175,552               0                       1,175,5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Segment Summar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Undo segment block stats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uS - unexpired Stolen,   uR - unexpired Released,   uU - unexpired reUs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S - expired   Stolen,   eR - expired   Released,   eU - expired   reUs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          Undo        Num  Max Qry     Max Tx Snapshot Out of uS/uR/u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S#         Blocks      Trans  Len (s)   Concurcy  Too Old  Space eS/eR/e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 -------------- ---------- -------- ---------- -------- ------ 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           811     14,114      660         10 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Segment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Time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     Num Max Qry   Max Tx  Snap   Out of uS/uR/u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 Time           Blocks    Trans Len (s)    Concy Too Old  Space eS/eR/e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 -------- ------- ------ 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58            0        0       0        0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48            5    3,595     399        8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38            5    3,549     660        7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28            4    3,525     453       10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18          797    3,445     219        5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Get Requests", "Pct Get Miss" and "Avg Slps/Miss" are statistics f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lling-t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NoWait Requests", "Pct NoWait Miss" are for n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for both should be very close to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ct    Avg   Wait                 Pc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      Get   Slps   Time       NoWait No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                      Requests      Miss  /Miss    (s)     Requests   Mis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 ------ ------ ------ --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istent RBA                      898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B s.o list latch                  118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memory manager latch              1    0.0             0          892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memory manager worka         60,311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ctive checkpoint queue           1,377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 handles                 6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     6,520,208    0.0    1.0      0    3,787,163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     4,151,271    0.0    1.3      0        2,398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annel handle pool latc             4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annel operations paren          1,853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eckpoint queue latch           62,800    0.0             0        1,731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ild cursor hash table           1,04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ml lock allocation              10,66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ummy allocation                     4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hash chains              21,11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s                          5,205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group latch                    2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le number translation          19,558    0.0    1.0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ash table column usage              35    0.0             0           92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ash table modification               2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ktm global data                       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gwr LWN SCN                      1,271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        57,587    0.0    1.0      0          476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Get Requests", "Pct Get Miss" and "Avg Slps/Miss" are statistics f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lling-t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NoWait Requests", "Pct NoWait Miss" are for n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for both should be very close to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ct    Avg   Wait                 Pc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      Get   Slps   Time       NoWait No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                      Requests      Miss  /Miss    (s)     Requests   Mis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 ------ ------ ------ --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load lock             577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pin                35,875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pin alloca         14,85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 of block allocation             38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ader state object free            684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ngop free list parent             390    0.0             0           98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ssages                          9,781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stly latch-free SCN             1,271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ultiblock read objects         625,480    0.0    1.1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codef allocation latch              46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bject stats modificatio            104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ost/wait queue                   1,809    0.0             0          174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cess allocation                   20    0.0             0           20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cess group creation               4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allocation                  12,734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copy                             4    0.0             0       10,561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riting                      5,047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 cache enqueue latch          13,873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 cache objects                16,402    0.0             0          723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quence cache                    1,085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allocation                5,513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idle bit                  2,40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switching                    46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timer                       957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                     23,586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 partition latch                   0                    0          257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ulator hash latch            269,094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Get Requests", "Pct Get Miss" and "Avg Slps/Miss" are statistics f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lling-t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NoWait Requests", "Pct NoWait Miss" are for n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for both should be very close to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ct    Avg   Wait                 Pc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      Get   Slps   Time       NoWait No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                      Requests      Miss  /Miss    (s)     Requests   Mis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 ------ ------ ------ --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ulator lru latch             144,571    0.0    1.0      0           18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 extent pool                  1,163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ce latch                          1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allocation               5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branch alloc             46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global data                 13,816    0.0             0            1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lock                            8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Sleep breakdown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misses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                        Spin &amp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Name                       Requests      Misses      Sleeps Sleeps 1-&gt;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 -------------- ----------- 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       4,151,271          92         117 0/67/25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ultiblock read objects           625,480          58          66 0/50/8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       6,520,208          18          18 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          57,587          10          10 0/1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le number translation ta         19,558           1           1 0/1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ulator lru latch               144,571           1           1 0/1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Miss Source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nly latches with sleeps are show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name, sleeps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oWait              Wait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Name               Where                       Misses     Sleeps   Sleep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------------ ------- ----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kcbgtcr: kslbegin excl           0         13       1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kcbrls: kslbegin                 0          2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kcbzib: finish free bufs         0          2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kcbzwb                           0          1       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kcbzgb: wait                     0         90       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kcbzar: KSLNBEGIN                0         15      11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kcbzgm                           0         12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le number translation  kftts2a                          0          1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kgldte: child 0                  0          5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kglpnc: child                    0          3        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kglupc: child                    0          2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ultiblock read objects  kcbzib: mbr get                  0         42       4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ultiblock read objects  kcbzib: normal mbr free          0         24       2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ulator lru latch      kcbs_lookup_setid                0          1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ctionary Cache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 should be very low (&lt; 2% in most case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Cache Usage" is the number of cache entries being us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SGA"     is the ratio of usage to allocated size for that cach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Pct    Scan   Pct      Mod      Fin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                        Requests   Miss    Reqs  Miss     Reqs      Us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 ------------ ------ ------- 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free_extents                      9    0.0       0              0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histogram_defs                  212   29.7       0              0         6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object_ids                      924    3.1       0              0        2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objects                         284   19.4       0              0        4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profiles                         20    0.0       0              0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rollback_segments               234    0.0       0              0         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segments                        273   16.5       0              0        1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sequences                       511    0.8       0            511          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tablespaces                     980    0.0       0              0          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user_grants                     200    6.0       0              0         1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usernames                       179    2.8       0              0          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users                         3,425    0.4       0              0         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 should be very low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Pct        P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amespace                                         Requests  Miss    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 ------------ ------ 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ct               Invali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ss     Reloads  d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----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DY                                                   160    6.3            1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0.6  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USTER                                                  7    0.0             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.0  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AREA                                             3,937    2.0         15,5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.3          7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/PROCEDURE                                      1,510    4.3          2,84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.0          3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IGGER                                                 50    4.0             5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0  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Advisory for DB: ORCL  Instance: orcl  End Snap: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ere is often a 1:Many correlation between a single logical objec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 the Library Cache, and the physical number of memory objects associat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th it.  Therefore comparing the number of Lib Cache objects (e.g. 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$librarycache), with the number of Lib Cache Memory Objects is invali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t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   SP       Estd         Estd     Estd Lib LC Tim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for  Size  Lib Cache    Lib Cache   Cache Time   Saved  Estd Lib Cach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tim (M) Factr   Size (M)      Mem Obj    Saved (s)   Factr    Mem Obj Hi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 ----- ---------- ------------ ------------ ------- 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    .5          5        1,527          171     1.0          17,80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   1.0          7        2,481          171     1.0          17,81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   1.5          7        2,481          171     1.0          17,81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   2.0          7        2,481          171     1.0          17,81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GA Memory Summar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GA regions                       Size in Byt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 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atabase Buffers                      4,194,30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xed Size                              452,99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Buffers                            143,3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riable Size                        25,165,82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um                                  29,956,48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GA breakdown difference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ool   Name                                Begin value        End value  % Dif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------------------------------ ---------------- ---------------- 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1M buffer                             2,098,176        2,098,176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Checkpoint queue                        282,304          282,30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FileIdentificatonBlock                  323,292          323,29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FileOpenBlock                           695,504          695,50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GK heap                                  3,756            3,756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GLS heap                             1,573,468        1,102,560  -29.9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QR M PO                                504,860          534,044    5.7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QR S PO                                109,072          117,544    7.7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QR S SO                                  1,280            3,340  160.9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SXR large reply queue                  166,104          166,10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SXR pending messages que               841,036          841,036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SXR receive buffers                  1,033,000        1,033,00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MTTR advisory                             8,352            8,35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L/SQL DIANA                          1,977,180          824,776  -58.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L/SQL MPCODE                           183,432          844,676  360.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LS non-lib hp                            2,068            2,068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character set object                    330,844          330,84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dictionary cache                      1,610,880        1,610,88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enqueue                                 171,860          171,86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errors                                   23,468           23,468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event statistics per sess             1,718,360        1,718,36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fixed allocation callback                   180              18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free memory                           1,275,960        1,085,252  -14.9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joxs heap init                            4,220            4,22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gl simulator                           578,108          603,524    4.4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sm_file2sga region                     148,652          148,65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library cache                         2,828,032        3,009,736    6.4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message pool freequeue                  834,752          834,75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miscellaneous                         3,540,008        4,439,036   25.4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arameters                                7,308            3,880  -46.9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sessions                                410,720          410,72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sim memory hea                           38,108           38,108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sql area                              1,691,548        1,834,540    8.4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table definiti                              840            2,800  233.3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trigger defini                            2,788            1,384  -50.3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trigger inform                            1,076            1,492   38.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trigger source                            1,228              264  -78.5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_cache                          4,194,304        4,194,30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xed_sga                               452,992          452,99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_buffer                              133,120          133,12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it.ora Parameter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ameter Name                Begin value                       (if different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 --------------------------------- 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ackground_dump_dest          E:\orant\ora92\admin\ORCL\bdu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patible                    9.2.0.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_files                 E:\orant\ora92\oradata\ORCL\cont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re_dump_dest                E:\orant\ora92\admin\ORCL\cdu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block_size                 40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cache_size                 419430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doma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file_multiblock_read_count 1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keep_cache_size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name                       ORC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recycle_cache_size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ast_start_mttr_target        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ash_join_enabled             TR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_name                 ORC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ava_pool_size    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rge_pool_size   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_buffer                    64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_checkpoint_timeout        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pen_cursors                  3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_aggregate_target          2516582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cesses                     15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query_rewrite_enabled         FAL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mote_login_passwordfile     EXCLUSIV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_pool_reserved_size     1024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_pool_size              838860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_area_size                51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r_transformation_enabled   FAL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imed_statistics              TR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_management               AUT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_retention                108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_tablespace               UNDOTBS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_dump_dest                E:\orant\ora92\admin\ORCL\udu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orkarea_size_policy          MAN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 of Repor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ait Even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s  - sec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cs - centisecond -     100th of a sec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ms - millisecond -    1000th of a sec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us - microsecond - 1000000th of a sec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wait time desc, waits desc (idle events last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Wait   wait    Wai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                              Waits   Timeouts   Time (s)   (ms)     /tx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 ------------ ---------- ---------- 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equential read           189,111          0     29,773    157    222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cattered read            130,326          0     25,114    193    153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busy waits                  36,307          0      2,031     56     42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                              724         19        535    738      0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read                    3,085          0        325    105      3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L/SQL lock timer                     217        216        222   1023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load lock               177         20         86    485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file parallel write               898        760         58     65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 file parallel write           892          0         55     61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parallel write                872        436         39     45  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 file sequential read          406          0         24     59      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pin                     170          0         20    117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write                     280          0         13     48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file sync                         174          0          5     26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 cache lock                         38          0          2     41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free                            213         18          0      1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break/reset to clien           38          0          0      0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message from client           561          0        221    394      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message to client             561          0          0      0      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ackground Wait Even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wait time desc, waits desc (idle events last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Wait   wait    Wai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                              Waits   Timeouts   Time (s)   (ms)     /tx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 ------------ ---------- ---------- 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file parallel write               898        760         58     65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 file parallel write           892          0         55     61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parallel write                872        436         39     45  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 file sequential read          406          0         24     59      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equential read               121          0          5     42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read                      172          0          0      1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cattered read                  2          0          0      7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free                              3          1          0      1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write                      16          0          0      0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file sync                           1          0          0      0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dbms ipc message                   4,137      3,607     17,594   4253      4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mon timer                              9          9      4,591 ######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message from client             1          0        214 ######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message to client               1          0          0      0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460,071           10      146,007.1   66.7    72.00 ######### 42818573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oltp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60,366          100        9,603.7   43.9    58.55 #########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59,410          100        9,594.1   43.8    58.48 #########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5,161           10       72,516.1   33.1    56.83 #########  8996795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dss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4,775           33       21,962.9   33.1    60.44 ######### 30351762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hipping Quer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cust_last_name, p.prod_name, s.amount_sold, s.quantity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ld   from sh.customers c, sh.products p, sh.sales s   where 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id = s.cust_id   and s.prod_id = p.prod_id   and s.quant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sold = (select MAX(quantity_sold) from sh.sales)   and rownum =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36,669          200        2,183.3   20.0    27.36 #########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,536          200           32.7    0.3     0.11    119.93 32477225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employee_id from oe.employees             where employee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,716          200           28.6    0.3     0.13    188.80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,890          200           24.5    0.2     0.09    161.84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,083          313           13.0    0.2     0.20      4.13 41685851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oe.order_items (order_id, line_item_id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, unit_price, quantity)                   valu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:b5, :b4,                   :b3, 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460,071           10      146,007.1   66.7    72.00 ######### 42818573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oltp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60,366          100        9,603.7   43.9    58.55 #########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59,410          100        9,594.1   43.8    58.48 #########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5,161           10       72,516.1   33.1    56.83 #########  8996795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dss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4,775           33       21,962.9   33.1    60.44 ######### 30351762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hipping Quer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cust_last_name, p.prod_name, s.amount_sold, s.quantity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ld   from sh.customers c, sh.products p, sh.sales s   where 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id = s.cust_id   and s.prod_id = p.prod_id   and s.quant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sold = (select MAX(quantity_sold) from sh.sales)   and rownum =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36,669          200        2,183.3   20.0    27.36 #########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,536          200           32.7    0.3     0.11    119.93 32477225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employee_id from oe.employees             where employee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,716          200           28.6    0.3     0.13    188.80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,890          200           24.5    0.2     0.09    161.84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,083          313           13.0    0.2     0.20      4.13 41685851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oe.order_items (order_id, line_item_id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, unit_price, quantity)                   valu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:b5, :b4,                   :b3, 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,041          160           19.0    0.1     0.36      7.81 191527437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hr.employees (employee_id, last_name, first_name, 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il,                phone_number, hire_date, job_id, salary, 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ssion_pct, manager_id,                department_id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lues (:b11, :b10, :b9, :b8,                :b7, :b6, :b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 :b4,                :b3,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992          313            6.4    0.1     0.05      0.37  4676033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(NVL(MAX(line_item_id),0)+1) FROM order_items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790          517            3.5    0.1     0.22      0.50 393551642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seq$ set increment$=:2,minvalue=:3,maxvalue=:4,cycle#=:5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$=:6,cache=:7,highwater=:8,audit$=:9,flags=:10 where obj#=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350          313            4.3    0.1     0.05      0.15 41704742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oe.order_items where  ROW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280          160            8.0    0.1     0.09      0.36 29506584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name, u.name from con$ c, cdef$ cd, user$ u  where c.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# = cd.con# and cd.enabled = :1 and c.owner# = u.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259          160            7.9    0.1     0.19      2.40 272978085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hr.employee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076          150            7.2    0.0     0.22      0.36 199465710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sh.customer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8884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34308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43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3" name="Slide_Page_Number"/>
          <p:cNvSpPr/>
          <p:nvPr/>
        </p:nvSpPr>
        <p:spPr>
          <a:xfrm>
            <a:off x="457200" y="6654960"/>
            <a:ext cx="965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</a:t>
            </a:r>
            <a:fld id="{15482435-50B7-49B8-83D9-01433909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lid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Oracle Corporation, 2002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_Gray_Number"/>
          <p:cNvSpPr/>
          <p:nvPr/>
        </p:nvSpPr>
        <p:spPr>
          <a:xfrm>
            <a:off x="939960" y="952560"/>
            <a:ext cx="730224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7700" spc="-1" strike="noStrike">
                <a:solidFill>
                  <a:srgbClr val="cccccc"/>
                </a:solidFill>
                <a:latin typeface="Times New Roman"/>
              </a:rPr>
              <a:t>D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44" name="Titl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Oracle Corporation, 2002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286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58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1440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Statspack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26640" y="4419360"/>
            <a:ext cx="7302600" cy="4316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7:11:09Z</dcterms:created>
  <dc:creator>Oracle</dc:creator>
  <dc:description/>
  <dc:language>en-US</dc:language>
  <cp:lastModifiedBy>Internal Systems</cp:lastModifiedBy>
  <cp:lastPrinted>2002-07-18T13:12:32Z</cp:lastPrinted>
  <dcterms:modified xsi:type="dcterms:W3CDTF">2002-09-04T16:06:10Z</dcterms:modified>
  <cp:revision>6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uild_Date">
    <vt:filetime>2001-07-03T07:00:00Z</vt:filetime>
  </property>
  <property fmtid="{D5CDD505-2E9C-101B-9397-08002B2CF9AE}" pid="3" name="Build_Time">
    <vt:lpwstr>10:11:09 AM</vt:lpwstr>
  </property>
  <property fmtid="{D5CDD505-2E9C-101B-9397-08002B2CF9AE}" pid="4" name="Build_version">
    <vt:lpwstr> 111</vt:lpwstr>
  </property>
  <property fmtid="{D5CDD505-2E9C-101B-9397-08002B2CF9AE}" pid="5" name="Install_dir">
    <vt:lpwstr/>
  </property>
  <property fmtid="{D5CDD505-2E9C-101B-9397-08002B2CF9AE}" pid="6" name="Version">
    <vt:lpwstr>1.00</vt:lpwstr>
  </property>
  <property fmtid="{D5CDD505-2E9C-101B-9397-08002B2CF9AE}" pid="7" name="home_page">
    <vt:lpwstr>http://ap337sun.us.oracle.com/powerpoint</vt:lpwstr>
  </property>
</Properties>
</file>