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E-</a:t>
            </a:r>
            <a:fld id="{2AF3D032-B91B-42E3-AB81-4073A11319B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Level 5, Block-Interleaved with Distributed Parity</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5 is similar to RAID 3, except that RAID 5 striping segment sizes are configurable, and RAID 5 distributes parity across all the disks in an array. A RAID 5 striping segment contains either data or par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ttery-backed cache greatly reduces the impact of this overhead for write calls, but its effectiveness is implementation-dependent. Large write-intensive batch jobs generally fill the cache quickly, reducing its ability to offset the write-performance penalty inherent in the RAID 5 defin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tal I/Os per second load applied to a RAID 5 array is calculated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otal I/O per second load on array = (reads/transaction + 4*writes/ transaction) * transactions/seco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rites/transaction figure is multiplied by four because the parity data must be written in a six-step proces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ead the data drive containing the old value of the data to be overwritten. This requires one I/O.</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ad the parity drive. This requires one I/O.</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ubtract the contribution of the old data from the parity val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dd the contribution of the new data to the parity val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Write the new value of the parity requiring one I/O.</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Write the new data value to the data drive. This requires one 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ing up all I/Os in this process yields four I/Os required for each write requested by the application. This is the main reason that RAID 5 is not recommended for storing files with a high I/O performance requirement; the 4 multiplier reduces the effective I/Os-per-second capacity of the arra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 of the drive required i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rive size = [total space required by application /(total number drives - number of arrays)] Rounded up to next drive size.</a:t>
            </a:r>
            <a:endParaRPr b="1" lang="en-US" sz="1200" spc="-1" strike="noStrike">
              <a:solidFill>
                <a:srgbClr val="000000"/>
              </a:solidFill>
              <a:latin typeface="Arial"/>
            </a:endParaRPr>
          </a:p>
        </p:txBody>
      </p:sp>
      <p:pic>
        <p:nvPicPr>
          <p:cNvPr id="122" name="" descr=""/>
          <p:cNvPicPr/>
          <p:nvPr/>
        </p:nvPicPr>
        <p:blipFill>
          <a:blip r:embed="rId1"/>
          <a:stretch/>
        </p:blipFill>
        <p:spPr>
          <a:xfrm>
            <a:off x="2438280" y="1058760"/>
            <a:ext cx="1989360" cy="6177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Level 5, Block-Interleaved with Distributed Parit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figure “number of arrays” is used to account for the space of one drive per array consumed by the parity data. If it is necessary to exceed the maximum recommended array size to meet the I/Os-per-second performance requirement, then multiple arrays are requi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low is a summary of the characteristics of RAID 5 storage array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read performance: Excellent under all concurrency levels if each I/O requests fits within a single striping segment (Using a stripe size that is too small can cause dramatic performance breakdown at high concurrency leve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write performance: Poor; worst at high concurrency levels (The read-modify-write cycle requirement of RAID 5 parity implementation reduces the effective throughput or I/Os-per-second capacity of the array, especially for heavy write I/O files. It should be noted, however, that under light load, response time is not degraded from that provided by a faster array configuration such as RAID 0. This is due to the asynchronous write capabilities provided by most array controllers. With asynchronous write, the application does not have to wait until the storage subsystem has completed the read-modify-write cycle before continuing. Instead, the controller buffers the data in battery-backed RAM, signals the application that the write has completed, then completes the write to disk. (This buffering does nothing to increase throughput, however.)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read performance: Excellent under high concurrency levels if each I/O request fits within a single striping segment; also excellent with fine grain striping under low concurrency leve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write performance: Fair for low concurrency levels, poor for high concurrency levels (See random write perform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frequency: Good; can withstand the loss of any single disk in a given array without incurring an application outage (Multiple simultaneous disk failures causes application outage. The possibility of multiple simultaneous failures increase as the size of the array increa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duration: Good; a single disk failure causes no application outag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ance degradation during outage: Fair; there is no degradation for reads and writes to or from surviving drives in the array (Reads and writes to a failed drive incur a high performance penalty, requiring data from all surviving drives in the array to be read. Reconstruction of the failed drive’s data also degrades perform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quisition cost: Fair (If storage capacity were the only factor, the cost would be g/(g-1) times the cost of the equivalent RAID 0 capacity, where g is the number of disks in the array. However, when factoring I/Os-per-second performance requirement, the cost can meet or exceed the cost of a RAID 0 + 1 implement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al cost: Fair (Training is required to configure striped disk arrays for optimal performanc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king of RAID Levels Against Oracle File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table provides relative rankings for RAID configurations for specific Oracle file types. The rankings range from 1 (best) to 5 (worst). Adapted from Millsap,1996, page 13.</a:t>
            </a:r>
            <a:endParaRPr b="1" lang="en-US" sz="1200" spc="-1" strike="noStrike">
              <a:solidFill>
                <a:srgbClr val="000000"/>
              </a:solidFill>
              <a:latin typeface="Arial"/>
            </a:endParaRPr>
          </a:p>
        </p:txBody>
      </p:sp>
      <p:grpSp>
        <p:nvGrpSpPr>
          <p:cNvPr id="125" name=""/>
          <p:cNvGrpSpPr/>
          <p:nvPr/>
        </p:nvGrpSpPr>
        <p:grpSpPr>
          <a:xfrm>
            <a:off x="695160" y="1592280"/>
            <a:ext cx="5589720" cy="3090960"/>
            <a:chOff x="695160" y="1592280"/>
            <a:chExt cx="5589720" cy="3090960"/>
          </a:xfrm>
        </p:grpSpPr>
        <p:sp>
          <p:nvSpPr>
            <p:cNvPr id="126" name=""/>
            <p:cNvSpPr/>
            <p:nvPr/>
          </p:nvSpPr>
          <p:spPr>
            <a:xfrm>
              <a:off x="695160" y="1592280"/>
              <a:ext cx="2237040" cy="2620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27" name=""/>
            <p:cNvSpPr/>
            <p:nvPr/>
          </p:nvSpPr>
          <p:spPr>
            <a:xfrm>
              <a:off x="695160" y="1854360"/>
              <a:ext cx="223704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file performance</a:t>
              </a:r>
              <a:endParaRPr b="0" lang="en-US" sz="1200" spc="-1" strike="noStrike">
                <a:solidFill>
                  <a:srgbClr val="000000"/>
                </a:solidFill>
                <a:latin typeface="Times New Roman"/>
              </a:endParaRPr>
            </a:p>
          </p:txBody>
        </p:sp>
        <p:sp>
          <p:nvSpPr>
            <p:cNvPr id="128" name=""/>
            <p:cNvSpPr/>
            <p:nvPr/>
          </p:nvSpPr>
          <p:spPr>
            <a:xfrm>
              <a:off x="695160" y="2111400"/>
              <a:ext cx="223704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o log file performance</a:t>
              </a:r>
              <a:endParaRPr b="0" lang="en-US" sz="1200" spc="-1" strike="noStrike">
                <a:solidFill>
                  <a:srgbClr val="000000"/>
                </a:solidFill>
                <a:latin typeface="Times New Roman"/>
              </a:endParaRPr>
            </a:p>
          </p:txBody>
        </p:sp>
        <p:sp>
          <p:nvSpPr>
            <p:cNvPr id="129" name=""/>
            <p:cNvSpPr/>
            <p:nvPr/>
          </p:nvSpPr>
          <p:spPr>
            <a:xfrm>
              <a:off x="695160" y="2368440"/>
              <a:ext cx="223704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tablespace performance</a:t>
              </a:r>
              <a:endParaRPr b="0" lang="en-US" sz="1200" spc="-1" strike="noStrike">
                <a:solidFill>
                  <a:srgbClr val="000000"/>
                </a:solidFill>
                <a:latin typeface="Times New Roman"/>
              </a:endParaRPr>
            </a:p>
          </p:txBody>
        </p:sp>
        <p:sp>
          <p:nvSpPr>
            <p:cNvPr id="130" name=""/>
            <p:cNvSpPr/>
            <p:nvPr/>
          </p:nvSpPr>
          <p:spPr>
            <a:xfrm>
              <a:off x="695160" y="2625840"/>
              <a:ext cx="223704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t segment performance</a:t>
              </a:r>
              <a:endParaRPr b="0" lang="en-US" sz="1200" spc="-1" strike="noStrike">
                <a:solidFill>
                  <a:srgbClr val="000000"/>
                </a:solidFill>
                <a:latin typeface="Times New Roman"/>
              </a:endParaRPr>
            </a:p>
          </p:txBody>
        </p:sp>
        <p:sp>
          <p:nvSpPr>
            <p:cNvPr id="131" name=""/>
            <p:cNvSpPr/>
            <p:nvPr/>
          </p:nvSpPr>
          <p:spPr>
            <a:xfrm>
              <a:off x="695160" y="2882880"/>
              <a:ext cx="223704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lback segment performance</a:t>
              </a:r>
              <a:endParaRPr b="0" lang="en-US" sz="1200" spc="-1" strike="noStrike">
                <a:solidFill>
                  <a:srgbClr val="000000"/>
                </a:solidFill>
                <a:latin typeface="Times New Roman"/>
              </a:endParaRPr>
            </a:p>
          </p:txBody>
        </p:sp>
        <p:sp>
          <p:nvSpPr>
            <p:cNvPr id="132" name=""/>
            <p:cNvSpPr/>
            <p:nvPr/>
          </p:nvSpPr>
          <p:spPr>
            <a:xfrm>
              <a:off x="695160" y="3139920"/>
              <a:ext cx="223704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ed read-only data files</a:t>
              </a:r>
              <a:endParaRPr b="0" lang="en-US" sz="1200" spc="-1" strike="noStrike">
                <a:solidFill>
                  <a:srgbClr val="000000"/>
                </a:solidFill>
                <a:latin typeface="Times New Roman"/>
              </a:endParaRPr>
            </a:p>
          </p:txBody>
        </p:sp>
        <p:sp>
          <p:nvSpPr>
            <p:cNvPr id="133" name=""/>
            <p:cNvSpPr/>
            <p:nvPr/>
          </p:nvSpPr>
          <p:spPr>
            <a:xfrm>
              <a:off x="695160" y="3397320"/>
              <a:ext cx="223704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tial read-only data files</a:t>
              </a:r>
              <a:endParaRPr b="0" lang="en-US" sz="1200" spc="-1" strike="noStrike">
                <a:solidFill>
                  <a:srgbClr val="000000"/>
                </a:solidFill>
                <a:latin typeface="Times New Roman"/>
              </a:endParaRPr>
            </a:p>
          </p:txBody>
        </p:sp>
        <p:sp>
          <p:nvSpPr>
            <p:cNvPr id="134" name=""/>
            <p:cNvSpPr/>
            <p:nvPr/>
          </p:nvSpPr>
          <p:spPr>
            <a:xfrm>
              <a:off x="695160" y="3654360"/>
              <a:ext cx="223704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BWn intensive data files</a:t>
              </a:r>
              <a:endParaRPr b="0" lang="en-US" sz="1200" spc="-1" strike="noStrike">
                <a:solidFill>
                  <a:srgbClr val="000000"/>
                </a:solidFill>
                <a:latin typeface="Times New Roman"/>
              </a:endParaRPr>
            </a:p>
          </p:txBody>
        </p:sp>
        <p:sp>
          <p:nvSpPr>
            <p:cNvPr id="135" name=""/>
            <p:cNvSpPr/>
            <p:nvPr/>
          </p:nvSpPr>
          <p:spPr>
            <a:xfrm>
              <a:off x="695160" y="3911760"/>
              <a:ext cx="223704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d-intensive data files</a:t>
              </a:r>
              <a:endParaRPr b="0" lang="en-US" sz="1200" spc="-1" strike="noStrike">
                <a:solidFill>
                  <a:srgbClr val="000000"/>
                </a:solidFill>
                <a:latin typeface="Times New Roman"/>
              </a:endParaRPr>
            </a:p>
          </p:txBody>
        </p:sp>
        <p:sp>
          <p:nvSpPr>
            <p:cNvPr id="136" name=""/>
            <p:cNvSpPr/>
            <p:nvPr/>
          </p:nvSpPr>
          <p:spPr>
            <a:xfrm>
              <a:off x="695160" y="4168800"/>
              <a:ext cx="223704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otection</a:t>
              </a:r>
              <a:endParaRPr b="0" lang="en-US" sz="1200" spc="-1" strike="noStrike">
                <a:solidFill>
                  <a:srgbClr val="000000"/>
                </a:solidFill>
                <a:latin typeface="Times New Roman"/>
              </a:endParaRPr>
            </a:p>
          </p:txBody>
        </p:sp>
        <p:sp>
          <p:nvSpPr>
            <p:cNvPr id="137" name=""/>
            <p:cNvSpPr/>
            <p:nvPr/>
          </p:nvSpPr>
          <p:spPr>
            <a:xfrm>
              <a:off x="695160" y="4425840"/>
              <a:ext cx="223704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sition and operating costs</a:t>
              </a:r>
              <a:endParaRPr b="0" lang="en-US" sz="1200" spc="-1" strike="noStrike">
                <a:solidFill>
                  <a:srgbClr val="000000"/>
                </a:solidFill>
                <a:latin typeface="Times New Roman"/>
              </a:endParaRPr>
            </a:p>
          </p:txBody>
        </p:sp>
        <p:sp>
          <p:nvSpPr>
            <p:cNvPr id="138" name=""/>
            <p:cNvSpPr/>
            <p:nvPr/>
          </p:nvSpPr>
          <p:spPr>
            <a:xfrm>
              <a:off x="2932200" y="1592280"/>
              <a:ext cx="558720" cy="2620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ne</a:t>
              </a:r>
              <a:endParaRPr b="0" lang="en-US" sz="1200" spc="-1" strike="noStrike">
                <a:solidFill>
                  <a:srgbClr val="000000"/>
                </a:solidFill>
                <a:latin typeface="Times New Roman"/>
              </a:endParaRPr>
            </a:p>
          </p:txBody>
        </p:sp>
        <p:sp>
          <p:nvSpPr>
            <p:cNvPr id="139" name=""/>
            <p:cNvSpPr/>
            <p:nvPr/>
          </p:nvSpPr>
          <p:spPr>
            <a:xfrm>
              <a:off x="2932200" y="18543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40" name=""/>
            <p:cNvSpPr/>
            <p:nvPr/>
          </p:nvSpPr>
          <p:spPr>
            <a:xfrm>
              <a:off x="2932200" y="21114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41" name=""/>
            <p:cNvSpPr/>
            <p:nvPr/>
          </p:nvSpPr>
          <p:spPr>
            <a:xfrm>
              <a:off x="2932200" y="23684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42" name=""/>
            <p:cNvSpPr/>
            <p:nvPr/>
          </p:nvSpPr>
          <p:spPr>
            <a:xfrm>
              <a:off x="2932200" y="262584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43" name=""/>
            <p:cNvSpPr/>
            <p:nvPr/>
          </p:nvSpPr>
          <p:spPr>
            <a:xfrm>
              <a:off x="2932200" y="288288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44" name=""/>
            <p:cNvSpPr/>
            <p:nvPr/>
          </p:nvSpPr>
          <p:spPr>
            <a:xfrm>
              <a:off x="2932200" y="313992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45" name=""/>
            <p:cNvSpPr/>
            <p:nvPr/>
          </p:nvSpPr>
          <p:spPr>
            <a:xfrm>
              <a:off x="2932200" y="339732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46" name=""/>
            <p:cNvSpPr/>
            <p:nvPr/>
          </p:nvSpPr>
          <p:spPr>
            <a:xfrm>
              <a:off x="2932200" y="365436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47" name=""/>
            <p:cNvSpPr/>
            <p:nvPr/>
          </p:nvSpPr>
          <p:spPr>
            <a:xfrm>
              <a:off x="2932200" y="39117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48" name=""/>
            <p:cNvSpPr/>
            <p:nvPr/>
          </p:nvSpPr>
          <p:spPr>
            <a:xfrm>
              <a:off x="2932200" y="41688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49" name=""/>
            <p:cNvSpPr/>
            <p:nvPr/>
          </p:nvSpPr>
          <p:spPr>
            <a:xfrm>
              <a:off x="2932200" y="44258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0" name=""/>
            <p:cNvSpPr/>
            <p:nvPr/>
          </p:nvSpPr>
          <p:spPr>
            <a:xfrm>
              <a:off x="3490920" y="1592280"/>
              <a:ext cx="558720" cy="2620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51" name=""/>
            <p:cNvSpPr/>
            <p:nvPr/>
          </p:nvSpPr>
          <p:spPr>
            <a:xfrm>
              <a:off x="3490920" y="18543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2" name=""/>
            <p:cNvSpPr/>
            <p:nvPr/>
          </p:nvSpPr>
          <p:spPr>
            <a:xfrm>
              <a:off x="3490920" y="21114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3" name=""/>
            <p:cNvSpPr/>
            <p:nvPr/>
          </p:nvSpPr>
          <p:spPr>
            <a:xfrm>
              <a:off x="3490920" y="23684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4" name=""/>
            <p:cNvSpPr/>
            <p:nvPr/>
          </p:nvSpPr>
          <p:spPr>
            <a:xfrm>
              <a:off x="3490920" y="262584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5" name=""/>
            <p:cNvSpPr/>
            <p:nvPr/>
          </p:nvSpPr>
          <p:spPr>
            <a:xfrm>
              <a:off x="3490920" y="288288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6" name=""/>
            <p:cNvSpPr/>
            <p:nvPr/>
          </p:nvSpPr>
          <p:spPr>
            <a:xfrm>
              <a:off x="3490920" y="313992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7" name=""/>
            <p:cNvSpPr/>
            <p:nvPr/>
          </p:nvSpPr>
          <p:spPr>
            <a:xfrm>
              <a:off x="3490920" y="339732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8" name=""/>
            <p:cNvSpPr/>
            <p:nvPr/>
          </p:nvSpPr>
          <p:spPr>
            <a:xfrm>
              <a:off x="3490920" y="365436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9" name=""/>
            <p:cNvSpPr/>
            <p:nvPr/>
          </p:nvSpPr>
          <p:spPr>
            <a:xfrm>
              <a:off x="3490920" y="39117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60" name=""/>
            <p:cNvSpPr/>
            <p:nvPr/>
          </p:nvSpPr>
          <p:spPr>
            <a:xfrm>
              <a:off x="3490920" y="41688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61" name=""/>
            <p:cNvSpPr/>
            <p:nvPr/>
          </p:nvSpPr>
          <p:spPr>
            <a:xfrm>
              <a:off x="3490920" y="44258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62" name=""/>
            <p:cNvSpPr/>
            <p:nvPr/>
          </p:nvSpPr>
          <p:spPr>
            <a:xfrm>
              <a:off x="4049640" y="1592280"/>
              <a:ext cx="558720" cy="2620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63" name=""/>
            <p:cNvSpPr/>
            <p:nvPr/>
          </p:nvSpPr>
          <p:spPr>
            <a:xfrm>
              <a:off x="4049640" y="18543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64" name=""/>
            <p:cNvSpPr/>
            <p:nvPr/>
          </p:nvSpPr>
          <p:spPr>
            <a:xfrm>
              <a:off x="4049640" y="21114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65" name=""/>
            <p:cNvSpPr/>
            <p:nvPr/>
          </p:nvSpPr>
          <p:spPr>
            <a:xfrm>
              <a:off x="4049640" y="23684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66" name=""/>
            <p:cNvSpPr/>
            <p:nvPr/>
          </p:nvSpPr>
          <p:spPr>
            <a:xfrm>
              <a:off x="4049640" y="262584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67" name=""/>
            <p:cNvSpPr/>
            <p:nvPr/>
          </p:nvSpPr>
          <p:spPr>
            <a:xfrm>
              <a:off x="4049640" y="288288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68" name=""/>
            <p:cNvSpPr/>
            <p:nvPr/>
          </p:nvSpPr>
          <p:spPr>
            <a:xfrm>
              <a:off x="4049640" y="313992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69" name=""/>
            <p:cNvSpPr/>
            <p:nvPr/>
          </p:nvSpPr>
          <p:spPr>
            <a:xfrm>
              <a:off x="4049640" y="339732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70" name=""/>
            <p:cNvSpPr/>
            <p:nvPr/>
          </p:nvSpPr>
          <p:spPr>
            <a:xfrm>
              <a:off x="4049640" y="365436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71" name=""/>
            <p:cNvSpPr/>
            <p:nvPr/>
          </p:nvSpPr>
          <p:spPr>
            <a:xfrm>
              <a:off x="4049640" y="39117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2" name=""/>
            <p:cNvSpPr/>
            <p:nvPr/>
          </p:nvSpPr>
          <p:spPr>
            <a:xfrm>
              <a:off x="4049640" y="41688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3" name=""/>
            <p:cNvSpPr/>
            <p:nvPr/>
          </p:nvSpPr>
          <p:spPr>
            <a:xfrm>
              <a:off x="4049640" y="44258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74" name=""/>
            <p:cNvSpPr/>
            <p:nvPr/>
          </p:nvSpPr>
          <p:spPr>
            <a:xfrm>
              <a:off x="4608360" y="1592280"/>
              <a:ext cx="559080" cy="2620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175" name=""/>
            <p:cNvSpPr/>
            <p:nvPr/>
          </p:nvSpPr>
          <p:spPr>
            <a:xfrm>
              <a:off x="4608360" y="1854360"/>
              <a:ext cx="55908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6" name=""/>
            <p:cNvSpPr/>
            <p:nvPr/>
          </p:nvSpPr>
          <p:spPr>
            <a:xfrm>
              <a:off x="4608360" y="2111400"/>
              <a:ext cx="55908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7" name=""/>
            <p:cNvSpPr/>
            <p:nvPr/>
          </p:nvSpPr>
          <p:spPr>
            <a:xfrm>
              <a:off x="4608360" y="2368440"/>
              <a:ext cx="55908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8" name=""/>
            <p:cNvSpPr/>
            <p:nvPr/>
          </p:nvSpPr>
          <p:spPr>
            <a:xfrm>
              <a:off x="4608360" y="2625840"/>
              <a:ext cx="55908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9" name=""/>
            <p:cNvSpPr/>
            <p:nvPr/>
          </p:nvSpPr>
          <p:spPr>
            <a:xfrm>
              <a:off x="4608360" y="2882880"/>
              <a:ext cx="55908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0" name=""/>
            <p:cNvSpPr/>
            <p:nvPr/>
          </p:nvSpPr>
          <p:spPr>
            <a:xfrm>
              <a:off x="4608360" y="3139920"/>
              <a:ext cx="55908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1" name=""/>
            <p:cNvSpPr/>
            <p:nvPr/>
          </p:nvSpPr>
          <p:spPr>
            <a:xfrm>
              <a:off x="4608360" y="3397320"/>
              <a:ext cx="55908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2" name=""/>
            <p:cNvSpPr/>
            <p:nvPr/>
          </p:nvSpPr>
          <p:spPr>
            <a:xfrm>
              <a:off x="4608360" y="3654360"/>
              <a:ext cx="55908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3" name=""/>
            <p:cNvSpPr/>
            <p:nvPr/>
          </p:nvSpPr>
          <p:spPr>
            <a:xfrm>
              <a:off x="4608360" y="3911760"/>
              <a:ext cx="55908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4" name=""/>
            <p:cNvSpPr/>
            <p:nvPr/>
          </p:nvSpPr>
          <p:spPr>
            <a:xfrm>
              <a:off x="4608360" y="4168800"/>
              <a:ext cx="55908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5" name=""/>
            <p:cNvSpPr/>
            <p:nvPr/>
          </p:nvSpPr>
          <p:spPr>
            <a:xfrm>
              <a:off x="4608360" y="4425840"/>
              <a:ext cx="55908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86" name=""/>
            <p:cNvSpPr/>
            <p:nvPr/>
          </p:nvSpPr>
          <p:spPr>
            <a:xfrm>
              <a:off x="5167440" y="1592280"/>
              <a:ext cx="558720" cy="2620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87" name=""/>
            <p:cNvSpPr/>
            <p:nvPr/>
          </p:nvSpPr>
          <p:spPr>
            <a:xfrm>
              <a:off x="5167440" y="18543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88" name=""/>
            <p:cNvSpPr/>
            <p:nvPr/>
          </p:nvSpPr>
          <p:spPr>
            <a:xfrm>
              <a:off x="5167440" y="21114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89" name=""/>
            <p:cNvSpPr/>
            <p:nvPr/>
          </p:nvSpPr>
          <p:spPr>
            <a:xfrm>
              <a:off x="5167440" y="23684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90" name=""/>
            <p:cNvSpPr/>
            <p:nvPr/>
          </p:nvSpPr>
          <p:spPr>
            <a:xfrm>
              <a:off x="5167440" y="262584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91" name=""/>
            <p:cNvSpPr/>
            <p:nvPr/>
          </p:nvSpPr>
          <p:spPr>
            <a:xfrm>
              <a:off x="5167440" y="288288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92" name=""/>
            <p:cNvSpPr/>
            <p:nvPr/>
          </p:nvSpPr>
          <p:spPr>
            <a:xfrm>
              <a:off x="5167440" y="313992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93" name=""/>
            <p:cNvSpPr/>
            <p:nvPr/>
          </p:nvSpPr>
          <p:spPr>
            <a:xfrm>
              <a:off x="5167440" y="339732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94" name=""/>
            <p:cNvSpPr/>
            <p:nvPr/>
          </p:nvSpPr>
          <p:spPr>
            <a:xfrm>
              <a:off x="5167440" y="365436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95" name=""/>
            <p:cNvSpPr/>
            <p:nvPr/>
          </p:nvSpPr>
          <p:spPr>
            <a:xfrm>
              <a:off x="5167440" y="39117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96" name=""/>
            <p:cNvSpPr/>
            <p:nvPr/>
          </p:nvSpPr>
          <p:spPr>
            <a:xfrm>
              <a:off x="5167440" y="41688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97" name=""/>
            <p:cNvSpPr/>
            <p:nvPr/>
          </p:nvSpPr>
          <p:spPr>
            <a:xfrm>
              <a:off x="5167440" y="44258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98" name=""/>
            <p:cNvSpPr/>
            <p:nvPr/>
          </p:nvSpPr>
          <p:spPr>
            <a:xfrm>
              <a:off x="5726160" y="1592280"/>
              <a:ext cx="558720" cy="2620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99" name=""/>
            <p:cNvSpPr/>
            <p:nvPr/>
          </p:nvSpPr>
          <p:spPr>
            <a:xfrm>
              <a:off x="5726160" y="18543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00" name=""/>
            <p:cNvSpPr/>
            <p:nvPr/>
          </p:nvSpPr>
          <p:spPr>
            <a:xfrm>
              <a:off x="5726160" y="21114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01" name=""/>
            <p:cNvSpPr/>
            <p:nvPr/>
          </p:nvSpPr>
          <p:spPr>
            <a:xfrm>
              <a:off x="5726160" y="23684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02" name=""/>
            <p:cNvSpPr/>
            <p:nvPr/>
          </p:nvSpPr>
          <p:spPr>
            <a:xfrm>
              <a:off x="5726160" y="262584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03" name=""/>
            <p:cNvSpPr/>
            <p:nvPr/>
          </p:nvSpPr>
          <p:spPr>
            <a:xfrm>
              <a:off x="5726160" y="288288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04" name=""/>
            <p:cNvSpPr/>
            <p:nvPr/>
          </p:nvSpPr>
          <p:spPr>
            <a:xfrm>
              <a:off x="5726160" y="313992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05" name=""/>
            <p:cNvSpPr/>
            <p:nvPr/>
          </p:nvSpPr>
          <p:spPr>
            <a:xfrm>
              <a:off x="5726160" y="339732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06" name=""/>
            <p:cNvSpPr/>
            <p:nvPr/>
          </p:nvSpPr>
          <p:spPr>
            <a:xfrm>
              <a:off x="5726160" y="365436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07" name=""/>
            <p:cNvSpPr/>
            <p:nvPr/>
          </p:nvSpPr>
          <p:spPr>
            <a:xfrm>
              <a:off x="5726160" y="39117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08" name=""/>
            <p:cNvSpPr/>
            <p:nvPr/>
          </p:nvSpPr>
          <p:spPr>
            <a:xfrm>
              <a:off x="5726160" y="41688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09" name=""/>
            <p:cNvSpPr/>
            <p:nvPr/>
          </p:nvSpPr>
          <p:spPr>
            <a:xfrm>
              <a:off x="5726160" y="44258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Hardwar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age Subsystem Detai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age subsystem performance is one of the most important aspects of tuning an Oracle database server for optimal performance. The architecture and design of the storage subsystem must therefore be considered early in the system design process. In performing the storage subsystem design, system requirements such as the required volume of online transaction data, peak transactions per second load, and system availability are transformed into specific storage subsystem design requirements for storage capacity, peak sustainable I/Os per second, and fault tolerance. Values for design parameters in the selected technology are then chosen to meet these specific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ern storage systems offer great flexibility in meeting a wide range of design criteria; technologies such as striping, mirroring, and other fault-tolerant RAID configurations provide the ability to meet these design requirements. Matching the right technology with application I/O characteristics is key to achieving the promised performance and fault tolerance levels; conversely, using the wrong technology for a specific I/O characteristic can lead to I/O bottlenecks and degraded response times. In this section, key parameters in the design of the storage subsystem are described, as well as how they relate to the performance of an Oracl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age Subsystem Design Parameters and Orac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signing a storage subsystem, the available design parameters are weighed against each other until a design solution is achieved that meets or exceeds all design requirements. In the context of an Oracle database server, certain measures are available to specify these requirements. These measures can be categorized under performance, availability, and co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read performance: Important for Oracle indexed or hash-based queries and rollback segment rea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write performance: Important for Oracle DBWn writes; heavy in an OLTP environment, light in a data wareho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read performance: Backups, Oracle full table scans, index creations, parallel queries, temporary segment reads, and recovery from archived redo log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write performance: Oracle LGWR writes, temporary segment writes, direct-path loader writes, tablespace cre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act of concurrenc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ailabil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frequency: Expected number of occurrences of a possible outage per unit of time specified in mean time to failure (MTT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duration: The mean time to repair (MTTR) for a given outage ev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ance degradation during outage: Whether a disk configuration provides service during a fault, and if so, at what level</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age Subsystem Design Parameters and Orac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s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quisition cost: The cost of purchasing, installing, and configuring the storage subsyste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al cost: The cost of running and maintaining the system to meet the system availability and service level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dundant Arrays of Inexpensive Disks (RAID) technologies have been developed for nonmainframe, open system solutions. RAID provides low-cost fault tolerance and improved performance. Several levels of RAID are available and can be mixed within one storage subsystem design. Each level of RAID can be categorized against the measures listed above and its impact on Oracle database performance. Some levels of RAID configurations have been available for many years under different names. Key parameters when configuring a RAID system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ray size: The number of drives in the arra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sk size: The size of each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ripe size: The size of an I/O chunk, written to or read from a contiguous location on a disk (Striping allows data files to be interleaved and spread across the disks in an array in an attempt to parallelize file 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roughput of a storage subsystem, expressed in I/Os per second, determines how many transactions can be processed by the subsystem before queuing delays begin to occur. If the I/Os-per-second requirement of the application is known, broken down into reads per transaction, writes per transaction, and transactions per second, you can determine whether a particular RAID configuration will support the transaction rate applied by an application. To calculate throughput, or total sustainable I/Os-per-second load that a RAID array can support, simply multiply the number of drives in the array times the sustainable I/Os per second of one drive, currently in the approximate range of 35 to 50 I/Os per second. Different RAID configurations, however, add to the I/O load on a disk array applied by the application in order to provide the fault tolerance function. Once the total I/O load on the array is known, the number of drives required to support the load can be found. Simply divide the total I/Os per second load by the random I/O throughput rating for the selected dri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ctions below briefly describe each RAID level and some of its characteristics. For each level, an equation is provided to calculate the total I/Os per second load on a RAID array, to illustrate the impact of the RAID configuration on the array’s capacity. Also provided is an equation for calculating the size of the disk drives required for an array.</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Level 0, Nonredundant Striping</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0 refers to simple data striping of multiple disks into a single logical volume, and has no fault tolerance. When properly configured, it provides excellent response times for high concurrency random I/O and excellent throughput for low concurrency sequential I/O. Selection of the array and stripe sizes requires careful consideration in order to achieve the promised throughput. For RAID 0, the total I/Os-per-second load generated against the array is calculated directly from the application load, because there is no fault tolerance in this configur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tal I/O per second load on array = (reads/transaction + writes/ transaction) * transactions/seco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 of each drive in the array can be calculated from the online volume requirements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rive size = [total space required by application / number of drives in array] Rounded up to next drive siz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low is a summary of RAID 0 characteristic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read performance: Excellent under all concurrency levels if each I/O request fits within a single striping segmen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write performance: Same as random read performanc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read performance: Excellent with fine-grained striping at low concurrency level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write performance: Same as sequential read performanc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frequency: Poor; any single disk failure will cause application outag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duration: Poor; the duration of a RAID 0 outage is the time required to detect the failure, replace the disk drive, and perform Oracle media recove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ance degradation during outage: Poor; any disk failure causes all applications requiring use of the array to crash</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quisition cost: Excellent, because there is no redundancy; you buy only enough for storage and I/Os per second requirement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al cost: Fair to poor; frequent media recoveries increase operational costs and may outweigh the acquisition cost advantage</a:t>
            </a:r>
            <a:endParaRPr b="1" lang="en-US" sz="1200" spc="-1" strike="noStrike">
              <a:solidFill>
                <a:srgbClr val="000000"/>
              </a:solidFill>
              <a:latin typeface="Arial"/>
            </a:endParaRPr>
          </a:p>
        </p:txBody>
      </p:sp>
      <p:pic>
        <p:nvPicPr>
          <p:cNvPr id="113" name="" descr=""/>
          <p:cNvPicPr/>
          <p:nvPr/>
        </p:nvPicPr>
        <p:blipFill>
          <a:blip r:embed="rId1"/>
          <a:stretch/>
        </p:blipFill>
        <p:spPr>
          <a:xfrm>
            <a:off x="2438280" y="838080"/>
            <a:ext cx="1791000" cy="62568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Level 1, Mirroring</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Level 1, or disk mirroring, provides the best fault tolerance of any of the RAID configurations. Each disk drive is backed up by an exact copy of itself on an identical drive. A storage subsystem of mirrored drives can continue at full performance with a multiple disk failure as long as no two drives in a mirrored pair have failed. The total I/Os per load applied to a mirrored pair is calculated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otal I/O per second load on array = (reads/transaction + 2*writes/ transaction) * transactions/seco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e two multiplier of the writes/transaction factor. This is due to the fact that each write request by an application to a mirrored pair actually results in two writes, one to the primary disk and one to the backup disk. The size of the drive required i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rive size = [total space required by application / number of drives in array/2] Rounded up to next drive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implest RAID 1 configuration, the number of drives in the array is two: the primary drive and its backup. The definition of RAID 1, however, includes the ability to expand the array in units of two drives to achieve a striped and mirrored configuration. Striping occurs in an array of four or more disks. Some industry literature (for example, Millsap,1996) refers to striped and mirrored configurations as RAID 0 + 1. The Compaq hardware used as an example configuration in this document supports both configurations. Compaq uses only the RAID 1 term to describe all 100% mirrored configurations in arrays of even-numbered disks. Because the performance of a simple two-drive RAID 1 pair is somewhat different from a striped and mirrored array, the figures for striped and mirrored are presented separately under the RAID 0 + 1 s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low is a summary of characteristics of the two-disk array RAID configur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read performance: Good; if the implementation uses read-optimized RAID 1 controllers, which read from the drive with the smallest I/O setup cost, then slightly better than an independent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write performance: Good (Application write requests are multiplied by two, because the data must be written to two disks. Thus, some of the I/Os-per-second capacity of the two drives is used up by the mirroring function.)</a:t>
            </a:r>
            <a:endParaRPr b="1" lang="en-US" sz="1200" spc="-1" strike="noStrike">
              <a:solidFill>
                <a:srgbClr val="000000"/>
              </a:solidFill>
              <a:latin typeface="Arial"/>
            </a:endParaRPr>
          </a:p>
          <a:p>
            <a:pPr lvl="2" marL="457200" indent="-228600">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read performance: Fair; throughput is limited to the speed of one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write performance: Fair; same factors as are influencing the random write perform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frequency: Excell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duration: Excellent; for “hot swapable” drives, no application outage is encountered by a single failure</a:t>
            </a:r>
            <a:endParaRPr b="1" lang="en-US" sz="1200" spc="-1" strike="noStrike">
              <a:solidFill>
                <a:srgbClr val="000000"/>
              </a:solidFill>
              <a:latin typeface="Arial"/>
            </a:endParaRPr>
          </a:p>
        </p:txBody>
      </p:sp>
      <p:pic>
        <p:nvPicPr>
          <p:cNvPr id="115" name="" descr=""/>
          <p:cNvPicPr/>
          <p:nvPr/>
        </p:nvPicPr>
        <p:blipFill>
          <a:blip r:embed="rId1"/>
          <a:stretch/>
        </p:blipFill>
        <p:spPr>
          <a:xfrm>
            <a:off x="2378160" y="923760"/>
            <a:ext cx="1736640" cy="62568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Level 1, Mirroring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ance degradation during outage: Excellent; there is no degradation during a disk outage (After replacing of the failed drive, the resilvering operation that takes place when the failed disk is replaced will consume some of the available I/Os per second capacity.)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quisition cost: Poor; each RAID 1 pair requires two drives to achieve the storage capacity of on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al cost: Fair; increased complexity of the configuration leads to higher training costs and costs to develop custom software to integrate the mirroring procedures into scheduled maintenance operation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Level 0+1, Striping and Mirroring</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noted in the previous section, the striped and mirrored configuration is an expansion of the RAID 1 configuration from a simple mirrored pair to an array of even-numbered drives. This configuration offers the performance benefits of RAID 0 striping and the fault tolerance of simple RAID 1 mirroring. The striped and mirrored configuration is especially valuable for Oracle data files holding files with high write rates, such as table data files and online and archived redo log files. Unfortunately, it also presents the high costs of simple RAID 1. The equations for the total I/Os per second and disk drive size calculations for RAID 0 + 1 are identical to those presented for RAID 1 above. The Compaq SMART array controller used in the example configuration supports RAID 0 + 1 (RAID 1 in Compaq terminology) in arrays up to 14 drives, providing the effective storage of 7 dr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low is a summary of characteristics of RAID 0 + 1 storage array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read performance: Excellent under all concurrency levels if each I/O requests fits within a single striping segment (Using a stripe size that is too small can cause dramatic performance breakdown at high concurrency leve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write performance: Good (Application write requests are multiplied by two because the data must be written to two disks. Thus, some of the I/Os-per-second capacity of the two drives is used up by the mirroring fun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read performance: Excellent under all concurrency levels if each I/O request fits within a single striping seg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write performance: Goo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frequency: Excellent; same as RAID 1</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duration: Excellent; same as RAID 1</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ance degradation during outage: Excellent; there is no degradation during a disk outage (The resilvering operation that takes place when the failed disk is replaced will consume a significant amount of the available I/Os-per-second capacity.)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quisition cost: Poor; same as RAID 1</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al cost: Fair; same as RAID 1</a:t>
            </a:r>
            <a:endParaRPr b="1" lang="en-US" sz="1200" spc="-1" strike="noStrike">
              <a:solidFill>
                <a:srgbClr val="000000"/>
              </a:solidFill>
              <a:latin typeface="Arial"/>
            </a:endParaRPr>
          </a:p>
        </p:txBody>
      </p:sp>
      <p:pic>
        <p:nvPicPr>
          <p:cNvPr id="118" name="" descr=""/>
          <p:cNvPicPr/>
          <p:nvPr/>
        </p:nvPicPr>
        <p:blipFill>
          <a:blip r:embed="rId1"/>
          <a:stretch/>
        </p:blipFill>
        <p:spPr>
          <a:xfrm>
            <a:off x="2476440" y="922320"/>
            <a:ext cx="1714680" cy="62532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Level 3, Bit Interleaved Parity</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RAID 3 configuration, disks are organized into arrays in which one disk is dedicated to storage of parity data for the other drives in the array. The stripe size in RAID 3 is 1 bit. This enables recovery time to be minimized, because data can be reconstructed with a simple exclusive-OR operation. However, using a stripe size of 1 bit reduces I/O performance. RAID 3 is not recommended for storing any Oracle database files. Also, RAID 3 is not supported by the Compaq SMART array controllers.</a:t>
            </a:r>
            <a:endParaRPr b="1" lang="en-US" sz="1200" spc="-1" strike="noStrike">
              <a:solidFill>
                <a:srgbClr val="000000"/>
              </a:solidFill>
              <a:latin typeface="Arial"/>
            </a:endParaRPr>
          </a:p>
        </p:txBody>
      </p:sp>
      <p:pic>
        <p:nvPicPr>
          <p:cNvPr id="120" name="" descr=""/>
          <p:cNvPicPr/>
          <p:nvPr/>
        </p:nvPicPr>
        <p:blipFill>
          <a:blip r:embed="rId1"/>
          <a:stretch/>
        </p:blipFill>
        <p:spPr>
          <a:xfrm>
            <a:off x="2301840" y="1030320"/>
            <a:ext cx="1812960" cy="67788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fld id="{F893C82A-4A7E-4AB2-B4CB-622BDA7A3E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E</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undant Arrays of</a:t>
            </a:r>
            <a:br>
              <a:rPr sz="2800"/>
            </a:br>
            <a:r>
              <a:rPr b="1" lang="en-US" sz="2800" spc="-1" strike="noStrike">
                <a:solidFill>
                  <a:srgbClr val="000000"/>
                </a:solidFill>
                <a:latin typeface="Arial"/>
              </a:rPr>
              <a:t>Inexpensive Disks Technology (RAID)</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7-18T13:12:32Z</cp:lastPrinted>
  <dcterms:modified xsi:type="dcterms:W3CDTF">2002-08-27T21:05:32Z</dcterms:modified>
  <cp:revision>6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