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439560" y="174600"/>
            <a:ext cx="5981760" cy="44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3480" y="8667720"/>
            <a:ext cx="540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roduction to Oracle9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QL Curriculum Map - </a:t>
            </a:r>
            <a:fld id="{92185BF5-AE79-49AB-8E51-B95E3700D83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76280" y="4822560"/>
            <a:ext cx="5927760" cy="3741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" Target="../slides/slide4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70200" y="826920"/>
            <a:ext cx="228600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160" bIns="47160" anchor="t">
            <a:spAutoFit/>
          </a:bodyPr>
          <a:p>
            <a:pPr marL="412920" indent="-412920" algn="ctr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58248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urriculum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-412920" algn="ctr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58248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724200" y="820800"/>
            <a:ext cx="2192400" cy="842760"/>
            <a:chOff x="3724200" y="820800"/>
            <a:chExt cx="2192400" cy="842760"/>
          </a:xfrm>
        </p:grpSpPr>
        <p:sp>
          <p:nvSpPr>
            <p:cNvPr id="131" name=""/>
            <p:cNvSpPr/>
            <p:nvPr/>
          </p:nvSpPr>
          <p:spPr>
            <a:xfrm>
              <a:off x="3755520" y="820800"/>
              <a:ext cx="2160720" cy="0"/>
            </a:xfrm>
            <a:prstGeom prst="line">
              <a:avLst/>
            </a:prstGeom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24200" y="1663560"/>
              <a:ext cx="2192400" cy="0"/>
            </a:xfrm>
            <a:prstGeom prst="line">
              <a:avLst/>
            </a:prstGeom>
            <a:ln w="12600">
              <a:solidFill>
                <a:srgbClr val="41414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484200" y="196920"/>
            <a:ext cx="5905440" cy="44290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07880" y="4797000"/>
            <a:ext cx="5964480" cy="337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grated Languages Curriculu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22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Introduction to Oracle9i: SQL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sists of two modules,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Introduction to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Oracle9i: SQL Basics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Oracle9i: Advanced SQL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Introduction to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Oracle9i: SQL Basics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covers creating database structures and storing, retrieving, and manipulating data in a relational database.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Oracle9i: Advanced SQL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covers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vanced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atements, Oracle SQL and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QL*Plus Reporting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22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or people who have worked with other relational databases and have knowledge of SQL, another course, called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Introduction to Oracle9i for Experienced SQL Users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is offered. This course covers the SQL statements that are not part of ANSI SQL but are specific to Oracle.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22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Oracle9i: Program with PL/SQL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sists of two modules,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Oracle9i: PL/SQL Fundamentals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Oracle9i: Develop PL/SQL Program Units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Oracle9i: PL/SQL Fundamentals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covers PL/SQL basics including the PL/SQL language structure, flow of execution and interface with SQL.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Oracle9i: Develop PL/SQL Program Units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covers creating stored procedures, functions, packages, and triggers as well as maintaining and debugging PL/SQL program code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224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Oracle9i: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SQL for End User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is directed towards individuals with little programming background and covers basic SQL statements. This course is for end users who need to know some basic SQL programming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224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Oracle9i: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Advanced PL/SQ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is appropriate for individuals who have experience in PL/SQL programming and covers coding efficiency topics, object-oriented programming, working with external code, and the advanced features of the Oracle supplied packages.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439560" y="174600"/>
            <a:ext cx="5981760" cy="44863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07880" y="4851000"/>
            <a:ext cx="5964480" cy="337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grated Languages Curriculu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22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he slide lists various modules and courses that are available in the languages curriculum. The following table lists the modules and courses with their equivalent TBTs.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22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22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Instructor Not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22400" indent="0">
              <a:lnSpc>
                <a:spcPct val="100000"/>
              </a:lnSpc>
              <a:spcBef>
                <a:spcPts val="62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Inform participants what their next course should be and give a brief description of the course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90680" y="5516640"/>
          <a:ext cx="6040440" cy="30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680" y="5516640"/>
                    <a:ext cx="604044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738504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74800" y="3409920"/>
            <a:ext cx="738504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120" y="181404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74800" y="340992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120" y="340992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23778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71760" y="1814040"/>
            <a:ext cx="23778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69080" y="1814040"/>
            <a:ext cx="23778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74800" y="3409920"/>
            <a:ext cx="23778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71760" y="3409920"/>
            <a:ext cx="23778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69080" y="3409920"/>
            <a:ext cx="23778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74800" y="1814040"/>
            <a:ext cx="738504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64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738504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360360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9120" y="1814040"/>
            <a:ext cx="360360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63640" y="529920"/>
            <a:ext cx="74088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64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9120" y="1814040"/>
            <a:ext cx="360360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74800" y="340992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74800" y="1814040"/>
            <a:ext cx="738504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64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360360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9120" y="181404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9120" y="340992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9120" y="181404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4800" y="3409920"/>
            <a:ext cx="738504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738504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74800" y="3409920"/>
            <a:ext cx="738504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9120" y="181404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74800" y="340992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9120" y="340992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23778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71760" y="1814040"/>
            <a:ext cx="23778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69080" y="1814040"/>
            <a:ext cx="23778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74800" y="3409920"/>
            <a:ext cx="23778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71760" y="3409920"/>
            <a:ext cx="23778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69080" y="3409920"/>
            <a:ext cx="23778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738504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360360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120" y="1814040"/>
            <a:ext cx="360360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63640" y="529920"/>
            <a:ext cx="74088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64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120" y="1814040"/>
            <a:ext cx="360360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74800" y="340992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360360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120" y="181404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120" y="340992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120" y="181404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4800" y="3409920"/>
            <a:ext cx="738504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271080" cy="398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74800" y="1814040"/>
            <a:ext cx="738504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lnSpc>
                <a:spcPct val="95000"/>
              </a:lnSpc>
              <a:spcBef>
                <a:spcPts val="964"/>
              </a:spcBef>
              <a:buClr>
                <a:srgbClr val="ff3300"/>
              </a:buClr>
              <a:buSzPct val="125000"/>
              <a:buFont typeface="Arial"/>
              <a:buChar char="•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99960">
              <a:lnSpc>
                <a:spcPct val="95000"/>
              </a:lnSpc>
              <a:spcBef>
                <a:spcPts val="964"/>
              </a:spcBef>
              <a:buClr>
                <a:srgbClr val="ff3300"/>
              </a:buClr>
              <a:buFont typeface="Arial"/>
              <a:buChar char="–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319040" indent="-285480">
              <a:lnSpc>
                <a:spcPct val="95000"/>
              </a:lnSpc>
              <a:spcBef>
                <a:spcPts val="964"/>
              </a:spcBef>
              <a:buClr>
                <a:srgbClr val="ff3300"/>
              </a:buClr>
              <a:buSzPct val="90000"/>
              <a:buFont typeface="Arial"/>
              <a:buChar char="–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62120" indent="-228600">
              <a:lnSpc>
                <a:spcPct val="95000"/>
              </a:lnSpc>
              <a:spcBef>
                <a:spcPts val="964"/>
              </a:spcBef>
              <a:buClr>
                <a:srgbClr val="ff3300"/>
              </a:buClr>
              <a:buSzPct val="90000"/>
              <a:buFont typeface="Arial"/>
              <a:buChar char="–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04840" indent="-228600">
              <a:lnSpc>
                <a:spcPct val="95000"/>
              </a:lnSpc>
              <a:spcBef>
                <a:spcPts val="964"/>
              </a:spcBef>
              <a:buClr>
                <a:srgbClr val="ff3300"/>
              </a:buClr>
              <a:buSzPct val="90000"/>
              <a:buFont typeface="Arial"/>
              <a:buChar char="–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04840" indent="-228600">
              <a:lnSpc>
                <a:spcPct val="95000"/>
              </a:lnSpc>
              <a:spcBef>
                <a:spcPts val="96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04840" indent="-228600">
              <a:lnSpc>
                <a:spcPct val="95000"/>
              </a:lnSpc>
              <a:spcBef>
                <a:spcPts val="96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8360" y="6566040"/>
            <a:ext cx="4100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Oracle Corporation, 2001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58720" y="952560"/>
            <a:ext cx="8026560" cy="43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7700" spc="-1" strike="noStrike">
                <a:solidFill>
                  <a:srgbClr val="969696"/>
                </a:solidFill>
                <a:latin typeface="Times New Roman"/>
              </a:rPr>
              <a:t>12</a:t>
            </a:r>
            <a:endParaRPr b="0" lang="en-US" sz="27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271080" cy="398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2666520"/>
            <a:ext cx="73026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38360" y="6566040"/>
            <a:ext cx="4100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Oracle Corporation, 2001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27000" y="2666880"/>
            <a:ext cx="7302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rriculum 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3999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ages Curriculum for Oracle9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5960" y="4952880"/>
            <a:ext cx="0" cy="3049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13280" y="1339920"/>
            <a:ext cx="2844720" cy="1612800"/>
          </a:xfrm>
          <a:prstGeom prst="rect">
            <a:avLst/>
          </a:prstGeom>
          <a:solidFill>
            <a:srgbClr val="0066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73120" y="1474920"/>
            <a:ext cx="2524680" cy="13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Introduction to Oracle9</a:t>
            </a:r>
            <a:r>
              <a:rPr b="1" i="1" lang="en-US" sz="16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Experienced SQL Us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5257800"/>
            <a:ext cx="2743200" cy="609480"/>
          </a:xfrm>
          <a:prstGeom prst="rect">
            <a:avLst/>
          </a:prstGeom>
          <a:solidFill>
            <a:srgbClr val="0066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6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Advanced PL/SQL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1880" y="2952720"/>
            <a:ext cx="0" cy="3049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1314360"/>
            <a:ext cx="1791000" cy="971640"/>
          </a:xfrm>
          <a:prstGeom prst="rect">
            <a:avLst/>
          </a:prstGeom>
          <a:solidFill>
            <a:srgbClr val="0066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6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QL fo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End User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3581280"/>
            <a:ext cx="4743360" cy="1390680"/>
          </a:xfrm>
          <a:prstGeom prst="rect">
            <a:avLst/>
          </a:prstGeom>
          <a:solidFill>
            <a:srgbClr val="0066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90600" y="3719520"/>
            <a:ext cx="371484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6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: Program with PL/SQ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5320" y="4102200"/>
            <a:ext cx="1917720" cy="527040"/>
          </a:xfrm>
          <a:prstGeom prst="rect">
            <a:avLst/>
          </a:prstGeom>
          <a:gradFill rotWithShape="0">
            <a:gsLst>
              <a:gs pos="0">
                <a:srgbClr val="e488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97280" y="4076640"/>
            <a:ext cx="2451240" cy="571680"/>
          </a:xfrm>
          <a:prstGeom prst="rect">
            <a:avLst/>
          </a:prstGeom>
          <a:gradFill rotWithShape="0">
            <a:gsLst>
              <a:gs pos="0">
                <a:srgbClr val="e488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: Develop PL/SQ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Program Un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38240" y="4114800"/>
            <a:ext cx="163368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: PL/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Fundament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24560" y="2952720"/>
            <a:ext cx="0" cy="3049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71880" y="3257640"/>
            <a:ext cx="335268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55960" y="3257640"/>
            <a:ext cx="0" cy="3045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339920"/>
            <a:ext cx="2971800" cy="1612800"/>
          </a:xfrm>
          <a:prstGeom prst="rect">
            <a:avLst/>
          </a:prstGeom>
          <a:solidFill>
            <a:srgbClr val="0066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240" y="1420920"/>
            <a:ext cx="4136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27000" y="1860480"/>
            <a:ext cx="1206720" cy="755640"/>
          </a:xfrm>
          <a:prstGeom prst="rect">
            <a:avLst/>
          </a:prstGeom>
          <a:gradFill rotWithShape="0">
            <a:gsLst>
              <a:gs pos="0">
                <a:srgbClr val="e488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22640" y="1874880"/>
            <a:ext cx="1282680" cy="743040"/>
          </a:xfrm>
          <a:prstGeom prst="rect">
            <a:avLst/>
          </a:prstGeom>
          <a:gradFill rotWithShape="0">
            <a:gsLst>
              <a:gs pos="0">
                <a:srgbClr val="e488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27000" y="1905120"/>
            <a:ext cx="13176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Introduction to Oracle9</a:t>
            </a:r>
            <a:r>
              <a:rPr b="1" i="1" lang="en-US" sz="1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: SQL Bas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2520" y="1325520"/>
            <a:ext cx="16678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Introduction to 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6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: SQ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1905120"/>
            <a:ext cx="1098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: Advanced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3999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ages Curriculum for Oracle9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55960" y="4952880"/>
            <a:ext cx="0" cy="3049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339920"/>
            <a:ext cx="2971800" cy="1612800"/>
          </a:xfrm>
          <a:prstGeom prst="rect">
            <a:avLst/>
          </a:prstGeom>
          <a:solidFill>
            <a:srgbClr val="0066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13280" y="1339920"/>
            <a:ext cx="2844720" cy="1612800"/>
          </a:xfrm>
          <a:prstGeom prst="rect">
            <a:avLst/>
          </a:prstGeom>
          <a:solidFill>
            <a:srgbClr val="0066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73120" y="1474920"/>
            <a:ext cx="2524680" cy="13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Introduction to Oracle9</a:t>
            </a:r>
            <a:r>
              <a:rPr b="1" i="1" lang="en-US" sz="16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Experienced SQL Us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7240" y="1420920"/>
            <a:ext cx="4136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5257800"/>
            <a:ext cx="2743200" cy="609480"/>
          </a:xfrm>
          <a:prstGeom prst="rect">
            <a:avLst/>
          </a:prstGeom>
          <a:solidFill>
            <a:srgbClr val="0066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6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Advanced PL/SQL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71880" y="2952720"/>
            <a:ext cx="0" cy="3049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1314360"/>
            <a:ext cx="1791000" cy="971640"/>
          </a:xfrm>
          <a:prstGeom prst="rect">
            <a:avLst/>
          </a:prstGeom>
          <a:solidFill>
            <a:srgbClr val="0066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6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QL fo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End User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27000" y="1860480"/>
            <a:ext cx="1206720" cy="755640"/>
          </a:xfrm>
          <a:prstGeom prst="rect">
            <a:avLst/>
          </a:prstGeom>
          <a:gradFill rotWithShape="0">
            <a:gsLst>
              <a:gs pos="0">
                <a:srgbClr val="e488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22640" y="1874880"/>
            <a:ext cx="1282680" cy="743040"/>
          </a:xfrm>
          <a:prstGeom prst="rect">
            <a:avLst/>
          </a:prstGeom>
          <a:gradFill rotWithShape="0">
            <a:gsLst>
              <a:gs pos="0">
                <a:srgbClr val="e488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27000" y="1905120"/>
            <a:ext cx="13176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Introduction to Oracle9</a:t>
            </a:r>
            <a:r>
              <a:rPr b="1" i="1" lang="en-US" sz="1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: SQL Bas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19280" y="3581280"/>
            <a:ext cx="4743360" cy="1390680"/>
          </a:xfrm>
          <a:prstGeom prst="rect">
            <a:avLst/>
          </a:prstGeom>
          <a:solidFill>
            <a:srgbClr val="0066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90600" y="3719520"/>
            <a:ext cx="371484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6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: Program with PL/SQ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95320" y="4102200"/>
            <a:ext cx="1917720" cy="527040"/>
          </a:xfrm>
          <a:prstGeom prst="rect">
            <a:avLst/>
          </a:prstGeom>
          <a:gradFill rotWithShape="0">
            <a:gsLst>
              <a:gs pos="0">
                <a:srgbClr val="e488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97280" y="4076640"/>
            <a:ext cx="2451240" cy="571680"/>
          </a:xfrm>
          <a:prstGeom prst="rect">
            <a:avLst/>
          </a:prstGeom>
          <a:gradFill rotWithShape="0">
            <a:gsLst>
              <a:gs pos="0">
                <a:srgbClr val="e488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: Develop PL/SQ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Program Un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38240" y="4114800"/>
            <a:ext cx="163368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: PL/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Fundament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2520" y="1325520"/>
            <a:ext cx="16678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Introduction to 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6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: SQ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24560" y="2952720"/>
            <a:ext cx="0" cy="3049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71880" y="3257640"/>
            <a:ext cx="335268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55960" y="3257640"/>
            <a:ext cx="0" cy="3045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1905120"/>
            <a:ext cx="1098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: Advanced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6T19:19:12Z</dcterms:created>
  <dc:creator>Analyst Day</dc:creator>
  <dc:description/>
  <dc:language>en-US</dc:language>
  <cp:lastModifiedBy>Nita Brozowski</cp:lastModifiedBy>
  <cp:lastPrinted>2001-03-29T15:40:21Z</cp:lastPrinted>
  <dcterms:modified xsi:type="dcterms:W3CDTF">2001-11-04T13:16:11Z</dcterms:modified>
  <cp:revision>754</cp:revision>
  <dc:subject/>
  <dc:title>Jerry Held</dc:title>
</cp:coreProperties>
</file>