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439560" y="174600"/>
            <a:ext cx="5981760" cy="44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3480" y="8667720"/>
            <a:ext cx="540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11320"/>
                <a:tab algn="l" pos="2222640"/>
                <a:tab algn="l" pos="3333600"/>
                <a:tab algn="l" pos="4444920"/>
                <a:tab algn="l" pos="5556240"/>
                <a:tab algn="l" pos="6667560"/>
                <a:tab algn="l" pos="7778880"/>
                <a:tab algn="l" pos="8889840"/>
                <a:tab algn="l" pos="100011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roduction to Oracle9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QL Curriculum Map - </a:t>
            </a:r>
            <a:fld id="{5265C6E0-283A-4AE6-B9D8-9D6C7DD74D5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76280" y="4822560"/>
            <a:ext cx="5927760" cy="374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1109520"/>
                <a:tab algn="l" pos="2219400"/>
                <a:tab algn="l" pos="3328920"/>
                <a:tab algn="l" pos="4438800"/>
                <a:tab algn="l" pos="5548320"/>
                <a:tab algn="l" pos="6657840"/>
                <a:tab algn="l" pos="7767720"/>
                <a:tab algn="l" pos="8877240"/>
                <a:tab algn="l" pos="99871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" Target="../slides/slide4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70200" y="826920"/>
            <a:ext cx="228600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160" bIns="47160" anchor="t">
            <a:spAutoFit/>
          </a:bodyPr>
          <a:p>
            <a:pPr marL="412920" indent="-41292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58248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urriculum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412920" indent="-412920" algn="ctr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58248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  <a:tab algn="l" pos="810108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724200" y="820800"/>
            <a:ext cx="2192400" cy="842760"/>
            <a:chOff x="3724200" y="820800"/>
            <a:chExt cx="2192400" cy="842760"/>
          </a:xfrm>
        </p:grpSpPr>
        <p:sp>
          <p:nvSpPr>
            <p:cNvPr id="131" name=""/>
            <p:cNvSpPr/>
            <p:nvPr/>
          </p:nvSpPr>
          <p:spPr>
            <a:xfrm>
              <a:off x="3755520" y="820800"/>
              <a:ext cx="216072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24200" y="1663560"/>
              <a:ext cx="2192400" cy="0"/>
            </a:xfrm>
            <a:prstGeom prst="line">
              <a:avLst/>
            </a:prstGeom>
            <a:ln w="12600">
              <a:solidFill>
                <a:srgbClr val="414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484200" y="196920"/>
            <a:ext cx="5905440" cy="4429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07880" y="4797000"/>
            <a:ext cx="5964480" cy="337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grated Languages Curriculu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 Oracle9i: SQL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ists of two modules,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SQL Basic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Advanced SQL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SQL Basic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creating database structures and storing, retrieving, and manipulating data in a relational database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Advanced SQL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vanced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atements, Oracle SQL and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QL*Plus Reporting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people who have worked with other relational databases and have knowledge of SQL, another course, called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Introduction to Oracle9i for Experienced SQL User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is offered. This course covers the SQL statements that are not part of ANSI SQL but are specific to Oracle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Program with PL/SQL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sists of two modules,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PL/SQL Fundamental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Develop PL/SQL Program Unit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PL/SQL Fundamental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PL/SQL basics including the PL/SQL language structure, flow of execution and interface with SQL. 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Develop PL/SQL Program Units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covers creating stored procedures, functions, packages, and triggers as well as maintaining and debugging PL/SQL program cod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SQL for End User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s directed towards individuals with little programming background and covers basic SQL statements. This course is for end users who need to know some basic SQL programming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Times New Roman"/>
              </a:rPr>
              <a:t>Oracle9i: 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dvanced PL/SQ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s appropriate for individuals who have experience in PL/SQL programming and covers coding efficiency topics, object-oriented programming, working with external code, and the advanced features of the Oracle supplied packages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39560" y="174600"/>
            <a:ext cx="5981760" cy="44863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07880" y="4851000"/>
            <a:ext cx="5964480" cy="337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grated Languages Curriculu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lide lists various modules and courses that are available in the languages curriculum. The following table lists the modules and courses with their equivalent TBTs.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Arial"/>
              </a:rPr>
              <a:t>Instructor Not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22400" indent="0">
              <a:lnSpc>
                <a:spcPct val="100000"/>
              </a:lnSpc>
              <a:spcBef>
                <a:spcPts val="62"/>
              </a:spcBef>
              <a:buNone/>
              <a:tabLst>
                <a:tab algn="l" pos="0"/>
                <a:tab algn="l" pos="488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100" spc="-1" strike="noStrike">
                <a:solidFill>
                  <a:srgbClr val="0000ff"/>
                </a:solidFill>
                <a:latin typeface="Times New Roman"/>
              </a:rPr>
              <a:t>Inform participants what their next course should be and give a brief description of the course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90680" y="5516640"/>
          <a:ext cx="6040440" cy="305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0680" y="5516640"/>
                    <a:ext cx="60404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7176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6908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7480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7176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6908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63640" y="529920"/>
            <a:ext cx="7408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7176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869080" y="181404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7480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7176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869080" y="3409920"/>
            <a:ext cx="23778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863640" y="529920"/>
            <a:ext cx="7408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964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120" y="340992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480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120" y="1814040"/>
            <a:ext cx="360360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4800" y="3409920"/>
            <a:ext cx="7385040" cy="145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964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271080" cy="39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63640" y="529920"/>
            <a:ext cx="740880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74800" y="1814040"/>
            <a:ext cx="738504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125000"/>
              <a:buFont typeface="Arial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19080" indent="-39996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319040" indent="-28548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62120" indent="-22860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04840" indent="-228600">
              <a:lnSpc>
                <a:spcPct val="95000"/>
              </a:lnSpc>
              <a:spcBef>
                <a:spcPts val="964"/>
              </a:spcBef>
              <a:buClr>
                <a:srgbClr val="ff3300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04840" indent="-22860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04840" indent="-228600">
              <a:lnSpc>
                <a:spcPct val="95000"/>
              </a:lnSpc>
              <a:spcBef>
                <a:spcPts val="964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8360" y="6566040"/>
            <a:ext cx="410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Oracle Corporation, 2001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558720" y="952560"/>
            <a:ext cx="802656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7700" spc="-1" strike="noStrike">
                <a:solidFill>
                  <a:srgbClr val="969696"/>
                </a:solidFill>
                <a:latin typeface="Times New Roman"/>
              </a:rPr>
              <a:t>12</a:t>
            </a:r>
            <a:endParaRPr b="0" lang="en-US" sz="27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271080" cy="398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38360" y="6566040"/>
            <a:ext cx="4100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© Oracle Corporation, 2001. All rights reserv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27000" y="2666880"/>
            <a:ext cx="7302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iculum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s Curriculum for Oracle9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55960" y="495288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13280" y="1339920"/>
            <a:ext cx="284472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73120" y="1474920"/>
            <a:ext cx="25246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xperienced SQL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5257800"/>
            <a:ext cx="2743200" cy="6094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dvanced PL/SQL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188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1314360"/>
            <a:ext cx="1791000" cy="97164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QL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nd Us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19280" y="3581280"/>
            <a:ext cx="4743360" cy="13906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90600" y="3719520"/>
            <a:ext cx="37148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Program with PL/SQ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5320" y="4102200"/>
            <a:ext cx="1917720" cy="527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7280" y="4076640"/>
            <a:ext cx="2451240" cy="57168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Develop PL/SQ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rogram Un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8240" y="4114800"/>
            <a:ext cx="16336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PL/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undamen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2456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880" y="3257640"/>
            <a:ext cx="335268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55960" y="3257640"/>
            <a:ext cx="0" cy="3045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339920"/>
            <a:ext cx="297180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240" y="1420920"/>
            <a:ext cx="4136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27000" y="1860480"/>
            <a:ext cx="1206720" cy="7556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2640" y="1874880"/>
            <a:ext cx="1282680" cy="743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7000" y="1905120"/>
            <a:ext cx="1317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SQL Bas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42520" y="1325520"/>
            <a:ext cx="16678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SQ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905120"/>
            <a:ext cx="109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Advanced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399960"/>
            <a:ext cx="70866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s Curriculum for Oracle9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55960" y="495288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339920"/>
            <a:ext cx="297180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13280" y="1339920"/>
            <a:ext cx="2844720" cy="161280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73120" y="1474920"/>
            <a:ext cx="2524680" cy="13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xperienced SQL Us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7240" y="1420920"/>
            <a:ext cx="4136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5257800"/>
            <a:ext cx="2743200" cy="6094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Advanced PL/SQL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7188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1314360"/>
            <a:ext cx="1791000" cy="97164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QL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End Use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27000" y="1860480"/>
            <a:ext cx="1206720" cy="7556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22640" y="1874880"/>
            <a:ext cx="1282680" cy="743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7000" y="1905120"/>
            <a:ext cx="131760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Introduction to 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SQL Bas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3581280"/>
            <a:ext cx="4743360" cy="1390680"/>
          </a:xfrm>
          <a:prstGeom prst="rect">
            <a:avLst/>
          </a:prstGeom>
          <a:solidFill>
            <a:srgbClr val="0066cc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90600" y="3719520"/>
            <a:ext cx="371484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Program with PL/SQ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95320" y="4102200"/>
            <a:ext cx="1917720" cy="52704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97280" y="4076640"/>
            <a:ext cx="2451240" cy="571680"/>
          </a:xfrm>
          <a:prstGeom prst="rect">
            <a:avLst/>
          </a:prstGeom>
          <a:gradFill rotWithShape="0">
            <a:gsLst>
              <a:gs pos="0">
                <a:srgbClr val="e48800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Develop PL/SQ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Program Uni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38240" y="4114800"/>
            <a:ext cx="163368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PL/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Fundament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2520" y="1325520"/>
            <a:ext cx="16678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Introduction to </a:t>
            </a:r>
            <a:br>
              <a:rPr sz="1600"/>
            </a:b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: SQ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24560" y="2952720"/>
            <a:ext cx="0" cy="3049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1880" y="3257640"/>
            <a:ext cx="335268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55960" y="3257640"/>
            <a:ext cx="0" cy="3045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1905120"/>
            <a:ext cx="1098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Oracle9</a:t>
            </a:r>
            <a:r>
              <a:rPr b="1" i="1" lang="en-US" sz="14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1400" spc="-1" strike="noStrike">
                <a:solidFill>
                  <a:srgbClr val="ffffcc"/>
                </a:solidFill>
                <a:latin typeface="Arial"/>
              </a:rPr>
              <a:t>: Advanced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Nita Brozowski</cp:lastModifiedBy>
  <cp:lastPrinted>2001-03-29T15:40:21Z</cp:lastPrinted>
  <dcterms:modified xsi:type="dcterms:W3CDTF">2001-11-04T13:16:11Z</dcterms:modified>
  <cp:revision>754</cp:revision>
  <dc:subject/>
  <dc:title>Jerry Held</dc:title>
</cp:coreProperties>
</file>