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5"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0"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8"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6"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9"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2"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3"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4"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182160" cy="30924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1-</a:t>
            </a:r>
            <a:fld id="{B1586720-8E83-4E46-8AE8-81ABB72F91D5}"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1</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182160" cy="30924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457200" y="4870440"/>
            <a:ext cx="1144440" cy="1144440"/>
          </a:xfrm>
          <a:custGeom>
            <a:avLst/>
            <a:gdLst/>
            <a:ahLst/>
            <a:rect l="l" t="t" r="r" b="b"/>
            <a:pathLst>
              <a:path w="721" h="721">
                <a:moveTo>
                  <a:pt x="0" y="0"/>
                </a:moveTo>
                <a:lnTo>
                  <a:pt x="0" y="720"/>
                </a:lnTo>
                <a:lnTo>
                  <a:pt x="720" y="720"/>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543800" y="4870440"/>
            <a:ext cx="1144440" cy="1144440"/>
          </a:xfrm>
          <a:custGeom>
            <a:avLst/>
            <a:gdLst/>
            <a:ahLst/>
            <a:rect l="l" t="t" r="r" b="b"/>
            <a:pathLst>
              <a:path w="721" h="721">
                <a:moveTo>
                  <a:pt x="0" y="720"/>
                </a:moveTo>
                <a:lnTo>
                  <a:pt x="720" y="720"/>
                </a:lnTo>
                <a:lnTo>
                  <a:pt x="720" y="0"/>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543800" y="380880"/>
            <a:ext cx="1144440" cy="1144800"/>
          </a:xfrm>
          <a:custGeom>
            <a:avLst/>
            <a:gdLst/>
            <a:ahLst/>
            <a:rect l="l" t="t" r="r" b="b"/>
            <a:pathLst>
              <a:path w="721" h="721">
                <a:moveTo>
                  <a:pt x="720" y="720"/>
                </a:moveTo>
                <a:lnTo>
                  <a:pt x="720" y="0"/>
                </a:lnTo>
                <a:lnTo>
                  <a:pt x="0" y="0"/>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457200" y="380880"/>
            <a:ext cx="1144440" cy="1144800"/>
          </a:xfrm>
          <a:custGeom>
            <a:avLst/>
            <a:gdLst/>
            <a:ahLst/>
            <a:rect l="l" t="t" r="r" b="b"/>
            <a:pathLst>
              <a:path w="721" h="721">
                <a:moveTo>
                  <a:pt x="720" y="0"/>
                </a:moveTo>
                <a:lnTo>
                  <a:pt x="0" y="0"/>
                </a:lnTo>
                <a:lnTo>
                  <a:pt x="0" y="720"/>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3932280" y="2556000"/>
            <a:ext cx="3825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3932280" y="3606840"/>
            <a:ext cx="3825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4003560" y="2630520"/>
            <a:ext cx="3722760" cy="782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oduction to Oracle9</a:t>
            </a:r>
            <a:r>
              <a:rPr b="1" i="1" lang="en-US" sz="1600" spc="-1" strike="noStrike">
                <a:solidFill>
                  <a:srgbClr val="ffffff"/>
                </a:solidFill>
                <a:latin typeface="Times New Roman"/>
              </a:rPr>
              <a:t>i</a:t>
            </a:r>
            <a:r>
              <a:rPr b="1" lang="en-US" sz="1600" spc="-1" strike="noStrike">
                <a:solidFill>
                  <a:srgbClr val="ffffff"/>
                </a:solidFill>
                <a:latin typeface="Arial"/>
              </a:rPr>
              <a:t>: SQ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lectronic Presentation</a:t>
            </a:r>
            <a:endParaRPr b="0" lang="en-US" sz="1000" spc="-1" strike="noStrike">
              <a:solidFill>
                <a:srgbClr val="ffffff"/>
              </a:solidFill>
              <a:latin typeface="Times New Roman"/>
            </a:endParaRPr>
          </a:p>
        </p:txBody>
      </p:sp>
      <p:pic>
        <p:nvPicPr>
          <p:cNvPr id="88" name="" descr=""/>
          <p:cNvPicPr/>
          <p:nvPr/>
        </p:nvPicPr>
        <p:blipFill>
          <a:blip r:embed="rId1"/>
          <a:stretch/>
        </p:blipFill>
        <p:spPr>
          <a:xfrm>
            <a:off x="1353960" y="5892840"/>
            <a:ext cx="1316160" cy="203040"/>
          </a:xfrm>
          <a:prstGeom prst="rect">
            <a:avLst/>
          </a:prstGeom>
          <a:ln w="0">
            <a:noFill/>
          </a:ln>
        </p:spPr>
      </p:pic>
      <p:sp>
        <p:nvSpPr>
          <p:cNvPr id="89" name=""/>
          <p:cNvSpPr/>
          <p:nvPr/>
        </p:nvSpPr>
        <p:spPr>
          <a:xfrm>
            <a:off x="1275480" y="5111640"/>
            <a:ext cx="999000" cy="70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049GC1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duction 1.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ctober 200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33996</a:t>
            </a:r>
            <a:endParaRPr b="0" lang="en-US" sz="1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2884320" y="306360"/>
            <a:ext cx="4071960" cy="4413240"/>
          </a:xfrm>
          <a:prstGeom prst="rect">
            <a:avLst/>
          </a:prstGeom>
          <a:noFill/>
          <a:ln w="0">
            <a:noFill/>
          </a:ln>
        </p:spPr>
        <p:style>
          <a:lnRef idx="0"/>
          <a:fillRef idx="0"/>
          <a:effectRef idx="0"/>
          <a:fontRef idx="minor"/>
        </p:style>
        <p:txBody>
          <a:bodyPr lIns="92160" rIns="92160" tIns="46080" bIns="46080" anchor="t">
            <a:spAutoFit/>
          </a:bodyPr>
          <a:p>
            <a:pPr>
              <a:lnSpc>
                <a:spcPts val="998"/>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 © Oracle Corporation, 2000, 2001. All rights reserved.</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his documentation contains proprietary information of Oracle Corporation. It is provided under a license agreement containing restrictions on use and disclosure and is also protected by copyright law. Reverse engineering of the software is prohibited. If this documentation is delivered to a U.S. Government Agency of the Department of Defense, then it is delivered with Restricted Rights and the following legend is applicable:</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stricted Rights Legend</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Use, duplication or disclosure by the Government is subject to restrictions for commercial computer software and shall be deemed to be Restricted Rights software under Federal law, as set forth in subparagraph (c)(1)(ii) of DFARS 252.227-7013, Rights in Technical Data and Computer Software (October 1988).</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his material or any portion of it may not be copied in any form or by any means without the express prior written permission of Oracle Corporation. Any other copying is a violation of copyright law and may result in civil and/or criminal penalties.</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f this documentation is delivered to a U.S. Government Agency not within the Department of Defense, then it is delivered with “Restricted Rights,” as defined in FAR 52.227-14, Rights in Data-General, including Alternate III (June 1987).</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he information in this document is subject to change without notice. If you find any problems in the documentation, please report them in writing to Education Products, Oracle Corporation, 500 Oracle Parkway, Box SB-6, Redwood Shores, CA 94065. Oracle Corporation does not warrant that this document is error-free.</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racle and all references to Oracle products are trademarks or registered trademarks of Oracle Corporation.</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ll other products or company names are used for identification purposes only, and may be trademarks of their respective owners.</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91" name=""/>
          <p:cNvSpPr/>
          <p:nvPr/>
        </p:nvSpPr>
        <p:spPr>
          <a:xfrm>
            <a:off x="839880" y="162000"/>
            <a:ext cx="1806480" cy="6130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Authors</a:t>
            </a:r>
            <a:endParaRPr b="0" lang="en-US" sz="1100" spc="-1" strike="noStrike">
              <a:solidFill>
                <a:srgbClr val="ffffff"/>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ancy Greenberg</a:t>
            </a:r>
            <a:endParaRPr b="0" lang="en-US" sz="1000" spc="-1" strike="noStrike">
              <a:solidFill>
                <a:srgbClr val="ffffff"/>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riya Nathan </a:t>
            </a:r>
            <a:endParaRPr b="0" lang="en-US" sz="1000" spc="-1" strike="noStrike">
              <a:solidFill>
                <a:srgbClr val="ffffff"/>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Technical Contributors</a:t>
            </a:r>
            <a:br>
              <a:rPr sz="1100"/>
            </a:br>
            <a:r>
              <a:rPr b="1" lang="en-US" sz="1100" spc="-1" strike="noStrike">
                <a:solidFill>
                  <a:srgbClr val="ffffff"/>
                </a:solidFill>
                <a:latin typeface="Times New Roman"/>
              </a:rPr>
              <a:t>and Reviewers</a:t>
            </a:r>
            <a:endParaRPr b="0" lang="en-US" sz="1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Josephine Turner</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artin Alvarez</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nna Atkinson</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on Bates</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arco Berbeek</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ndrew Brannigan</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aszlo Czinkoczki</a:t>
            </a:r>
            <a:r>
              <a:rPr b="0" lang="en-US" sz="1000" spc="-1" strike="noStrike">
                <a:solidFill>
                  <a:srgbClr val="000000"/>
                </a:solidFill>
                <a:latin typeface="Times New Roman"/>
              </a:rPr>
              <a:t> </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ichael Gerlach</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haron Gray</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Rosita Hanoman</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ozhe Jalali</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arah Jones</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harbel Khouri</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hristopher Lawless</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iana Lorentz</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ina Minchen</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uong Nguyen</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aphne Nougier</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atrick Odell</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aura Pezzini</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tacey Procter</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aribel Renau</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ryan Roberts</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Helen Robertson</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unshine Salmon</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asa Sharif</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ernard Soleillant</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raig Spoonemore</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Ruediger Steffan</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Karla Villasenor</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ndree Wheeley</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achlan Williams</a:t>
            </a:r>
            <a:endParaRPr b="0" lang="en-US" sz="1000" spc="-1" strike="noStrike">
              <a:solidFill>
                <a:srgbClr val="ffffff"/>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Publisher</a:t>
            </a:r>
            <a:endParaRPr b="0" lang="en-US" sz="1100" spc="-1" strike="noStrike">
              <a:solidFill>
                <a:srgbClr val="ffffff"/>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ita Brozowski</a:t>
            </a:r>
            <a:endParaRPr b="0" lang="en-US" sz="1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7-09T16:50:32Z</dcterms:created>
  <dc:creator>Education Products</dc:creator>
  <dc:description/>
  <dc:language>en-US</dc:language>
  <cp:lastModifiedBy>Nita Brozowski</cp:lastModifiedBy>
  <cp:lastPrinted>2001-07-24T17:18:38Z</cp:lastPrinted>
  <dcterms:modified xsi:type="dcterms:W3CDTF">2001-11-04T13:14:22Z</dcterms:modified>
  <cp:revision>37</cp:revision>
  <dc:subject>Edition 1-97</dc:subject>
  <dc:title>Electronic Presentation cover</dc:title>
</cp:coreProperties>
</file>