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4F4B6-BB7A-48B5-8CB9-2B8F020B4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1035F-93D1-4BD3-8EEA-49F235BF7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3DB3AE-C8D3-4ABE-B0D3-F6E94C9F1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9322A7-1865-4040-AC65-D3535A50EC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B5C2FB-CEDB-4F4C-B798-60F683A5D7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96636-F036-4221-8CAC-0954A7F0B1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F9B58-99F3-422C-81F0-AA28EFE007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1EBBA7-59A5-4B1C-B7D4-B854FD06D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DB9457-749B-4817-9EDF-AEFCEA96B0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69D628-92F5-4690-82CF-68A9F26BB5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1718D9-4E94-46FB-B639-A5284118DD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66B759-6E80-4A4B-86A5-5E856878F0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B2C89-2C80-41DE-A036-42A7F4749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12FB8-561F-45FB-B031-BBA6D7B059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18E9F-E161-4E3F-BA0D-9C0ECCA498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60B9B0-0668-41BF-9B62-862439249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7C4F3-C2DF-4B55-BF2B-18C7270AE4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CF390B-FAF6-4564-86D7-09FD29FB32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68107-AEAE-4C26-B9C3-1478A58BD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F6A12-4114-4AF3-A4A9-5747F15A54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DDEEEC-1C16-4DB1-956A-00A880C045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0A6A52-C61D-439D-9352-31E2D6EAF3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FBF542-4111-40F6-86E4-91EB1713B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FF775-CE4B-4510-A898-E412A0656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5C83C3-9EC6-48AE-B001-4D3ADAA532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62902FE-9687-4A83-A09E-77988127DB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7E6A2B-2D0F-4F77-A759-2AD71B885FF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2B21C32-F68D-429E-9B8A-91756585F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DD1CF6-5066-4424-97D8-DF079DDC961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ADC64A-14F0-4D4A-A217-E09AB5D01D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37DA2F-57A2-4CF0-9DD2-C304C72426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B6334A-2C66-4E46-856D-3789D8873E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CC0448-F648-4F13-A428-16BC91E4D4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FB391D-3BF0-427E-B5E2-73B3FEAFE0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8AF47A-8A90-4630-B048-E5A1BC9D92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B693718-5A03-4822-9D7B-27919EED248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7AD185-4F65-444A-9778-661931647F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5301C4-AA87-4FED-AA52-75A95304E40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37804E-1CE3-488A-B535-C508400F36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AB6A4B-DF30-4095-8CDB-EDD4166346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8F301D-5B21-4041-9608-272C708D7F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287C3E3-A8E5-48E6-B8B1-29EF259F35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D662F5-6A07-453E-98CF-8615A90720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348D2-2E4A-4C17-A1D0-81B814D21E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2D6E00-615E-4A91-B3EB-6918C1F366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6D6F6A-E0F3-4316-940B-5703796710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F4AFE5-14F1-4A42-A26F-9F95624B2D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C85D32D-BE9E-4D1F-B8F2-0DBA4B6B3AF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82B613-08E5-466B-BD02-03981D8D2D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969D32-0215-46DA-A8CF-1FAC222326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7ED709-CB64-4D52-AF91-EBD2DA2965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EF35C6-8C95-4F87-845B-C6CE246D2D4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E88114-8440-4CCF-A5D0-A14BBE9F27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AA3076-8F40-4937-B29B-1F9EAF6FD8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847439-270E-4522-AB4A-E73DB464B5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7244DF-14BC-43AC-A3B5-02AD156220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9D105D-6B01-4A82-8151-9BEE81BB16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BCCF73-691D-443E-B394-67C1B7C5EC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4CE5CF-FC72-4810-8CA9-CA47B620E7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8DD1A6-F4C2-43FD-BFB7-E90253C0061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4D26B8-306C-4196-9A61-5E1F37E6AB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146193-BEF1-4D8B-9D23-FC62290E8E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7F96409-F335-4E3C-9221-99A09E4457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446BBF-910E-478A-A379-DDE14A0B85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B9290B-32E7-4F5D-ABB6-9A4E7C1298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82135B-0FE8-489D-84CD-33123CDAEFF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03C94B-7597-48D0-98F5-28C4BECAED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C9FFDF-D2D5-45B0-ABCD-9B4BEC4957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A55EDC-1FED-4D95-84EF-30F2001AC8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2D0FC3-0AFC-4809-B742-2AB0C65AA1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7A6C64-F750-44FD-A783-33B9B6497A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314CA92-FDB2-43D6-A66A-C94E77669B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41C3E3E-99A3-4DBB-8411-4B22BB64AE1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1E06B-6087-4E19-B836-DE03548D3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A7DC7EB-98E7-4446-9693-015CD24B05A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FFE1048-671B-4CB5-8849-074FE22290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0BE709D-C3B1-454D-856D-EFF81F019D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75670D-9CE1-4D5D-A5AD-09D20F4A38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0F02AF-FF65-4206-8650-1C9FBCAC5E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449E0-9709-4BDF-8BB2-6CBF39240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26D990-53CB-4DF0-901F-F14E9BAB526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327D0C-D5BC-4C11-AD99-E717F521D8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C399AA-7308-4833-B833-F4D8BB3D65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687D16-17E9-4791-B46C-C0D7B5E9F7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070604-EFC6-4E8B-9885-E1C0BB8A2C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4A334D4-B0F8-4686-A45F-13DEF280E39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21A0B66-5BFF-4FA7-9C7D-255CE33198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FCC90-5BE1-436A-9584-5CC3BD79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8122F-BBDF-475D-9E36-98B4E78F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1B524-2E0E-4731-9158-CD1CFA234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915FCB-30D2-4E8D-841F-C937317B83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260E17-0D32-41B7-BD23-9B99DD9041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907748-95BA-4A26-9CD5-EB86348124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1AFE15-2E5A-4732-80F0-04BA5C15D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AFD91-F407-4C74-9539-6744B06FD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96C415-DC42-4DAF-901C-DA369864E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FD8759-3B80-42C6-B344-C25EA8330A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CB8C52-0A16-40ED-A041-0F7A6E943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81686-8C75-4058-9E7C-47F146E67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244F-3D3B-4089-99A2-24382BD16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77A97-B4A8-472B-B6F0-786E997C6D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61C3EE-123B-4FDD-8BC2-43996B561E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0110B5-2B07-488A-B060-6075E3F76C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76E0C4-E29A-4DCE-BE92-94BCBDDD34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C1B41E-B33F-41B6-9D52-160C277B71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ED2F94-8D9F-48BD-BF25-943AE1CDB4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68B612-AB52-44D0-8708-DBD0074BCA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F00F9-9F2D-4B5C-B2A0-E4BBC5398C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B5E58-FC13-4C41-BE33-8848B196E5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9CA980-E587-4F60-8DB9-3EF73CE3B8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CE9C-AF84-473D-A3C1-5E416273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C5108-94C6-4D5F-B58A-89A9C32FC6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76C2C-FFEE-439B-B36C-28816B185C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2DE286-EA1F-434F-8D30-572E271006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BBD0DC-693B-4257-8EDC-1EE3C8C838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A0A4B5-2C3D-4D0E-BBF1-0AE0B58CC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954972-98D0-4AFB-A608-A05C62F952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2B308C-C0B1-4141-B12B-7E7682B12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B14F9E-40E5-4B44-9AEF-11C141ED60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83F18-98CF-43C1-BBF8-54D94AB3E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D89EAD-53C8-49FB-BBB5-BFE6A4929B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5AF7A-B2E3-4D7E-863F-2639F4A16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01CF76-0D92-4F34-ABA7-DE6F7C4E8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EC9CF-19E4-49A8-8758-4E881A4D5D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45537-31A9-465B-8577-D900312F7F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15779A-8E64-43F1-8BE9-B8C728851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AE309C-640D-4B01-A107-7318B2AA86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9F68BA-4427-4CF8-96E8-DCD1887D73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22AD4E-B2CF-4FD0-88CE-06B5CB1CBC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5B5DFB-F91A-4A2B-981C-15CE2746E4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A4FE48-5325-499C-9CA8-69093B905E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8B7A96-5A87-4722-BAD2-F2A5DEF4E00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FFCDFD-6B04-4B95-97BE-25926CBA134D}"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2B63FC-E69F-4A01-B9A4-FAD29C9D2A60}"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2"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74CB5-A430-479F-B727-2D40695D87F3}"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467D48-B6A8-40B1-8ED0-337ECCC0BC00}"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37"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53128-3131-4F32-9A3A-196A46A1DB82}"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4D72A-E08B-4011-9EA0-CCA96821B113}"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AFAB68-932D-469B-A939-2891E82370F4}"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904C9-1700-4F43-8517-DF1866B3B0C0}"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82A13-0B18-4E02-95D4-F8DF36CF540C}"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F5814-0F54-4E07-91A9-F2FF2FB82FF2}"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3A956-593C-4A2D-9172-63DC9F83FAFB}"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01761-B82C-4B51-8A3B-FC40C35808D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6A951E-30FF-4E16-9CF5-C04512487E81}"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7175B-CCC3-4620-80C4-BCE2120BA1AA}"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B6D8A-9F68-4CB1-983C-DC5DC91C768D}"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E2F10-2B50-4CE2-A18B-8D4451D46C10}"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7A89A-BBA8-4F5A-8BB2-A847D5AC2ECB}"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15E7C-7CEF-4612-BCE7-EA6394CDBB6B}"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08B66D-6776-4111-AE69-75C30C4C1F68}"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99150-A57D-4B02-B2B5-37B34C9D1B8C}"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7F6E08-EE24-4CFC-BD1D-CE24784E2069}"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03A3C-4D48-4D8A-8BB4-9D1B0168FE4B}"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6B457-46FA-4797-8CD1-8E690275835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5C54F-A398-46D7-B6DB-7340EBEF9BFA}"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20266-C0BD-4478-9D7F-1B10731172D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Object Oriented Analysis</a:t>
            </a:r>
            <a:br>
              <a:rPr sz="4100"/>
            </a:br>
            <a:r>
              <a:rPr b="0" lang="en-US" sz="4100" spc="-1" strike="noStrike">
                <a:solidFill>
                  <a:srgbClr val="174576"/>
                </a:solidFill>
                <a:latin typeface="Corbel"/>
              </a:rPr>
              <a:t>Design and UML</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Engineering College, Tuwa</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Values and Attributes</a:t>
            </a:r>
            <a:endParaRPr b="0" lang="en-US" sz="3800" spc="-1" strike="noStrike">
              <a:solidFill>
                <a:srgbClr val="174576"/>
              </a:solidFill>
              <a:latin typeface="Corbel"/>
            </a:endParaRPr>
          </a:p>
        </p:txBody>
      </p:sp>
      <p:sp>
        <p:nvSpPr>
          <p:cNvPr id="639" name=""/>
          <p:cNvSpPr txBox="1"/>
          <p:nvPr/>
        </p:nvSpPr>
        <p:spPr>
          <a:xfrm>
            <a:off x="779040" y="1949400"/>
            <a:ext cx="7583400" cy="4006800"/>
          </a:xfrm>
          <a:prstGeom prst="rect">
            <a:avLst/>
          </a:prstGeom>
          <a:noFill/>
          <a:ln w="0">
            <a:noFill/>
          </a:ln>
        </p:spPr>
        <p:txBody>
          <a:bodyPr anchor="t">
            <a:normAutofit fontScale="98000"/>
          </a:bodyPr>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 value is a piece of data.</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n attribute is a named property of a class that descries a value held by each object of the clas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Name, birthedate, and weight are attributes of Person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Color, modelYear and weight are attributes of Car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Each attribute has a value for  each object.</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for example: attribute birthdate has value “13 October 1981” for object  JoeSmith</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ttributes and Values</a:t>
            </a:r>
            <a:endParaRPr b="0" lang="en-US" sz="3800" spc="-1" strike="noStrike">
              <a:solidFill>
                <a:srgbClr val="174576"/>
              </a:solidFill>
              <a:latin typeface="Corbel"/>
            </a:endParaRPr>
          </a:p>
        </p:txBody>
      </p:sp>
      <p:sp>
        <p:nvSpPr>
          <p:cNvPr id="64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grpSp>
        <p:nvGrpSpPr>
          <p:cNvPr id="642" name="Rectangle 3"/>
          <p:cNvGrpSpPr/>
          <p:nvPr/>
        </p:nvGrpSpPr>
        <p:grpSpPr>
          <a:xfrm>
            <a:off x="5638680" y="4432320"/>
            <a:ext cx="1079640" cy="1073160"/>
            <a:chOff x="5638680" y="4432320"/>
            <a:chExt cx="1079640" cy="1073160"/>
          </a:xfrm>
        </p:grpSpPr>
        <p:pic>
          <p:nvPicPr>
            <p:cNvPr id="643" name="Rectangle 3" descr=""/>
            <p:cNvPicPr/>
            <p:nvPr/>
          </p:nvPicPr>
          <p:blipFill>
            <a:blip r:embed="rId1"/>
            <a:stretch/>
          </p:blipFill>
          <p:spPr>
            <a:xfrm>
              <a:off x="5638680" y="4432320"/>
              <a:ext cx="1079640" cy="1073160"/>
            </a:xfrm>
            <a:prstGeom prst="rect">
              <a:avLst/>
            </a:prstGeom>
            <a:ln w="0">
              <a:noFill/>
            </a:ln>
          </p:spPr>
        </p:pic>
        <p:sp>
          <p:nvSpPr>
            <p:cNvPr id="644" name=""/>
            <p:cNvSpPr/>
            <p:nvPr/>
          </p:nvSpPr>
          <p:spPr>
            <a:xfrm>
              <a:off x="568152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grpSp>
        <p:nvGrpSpPr>
          <p:cNvPr id="645" name="Rectangle 4"/>
          <p:cNvGrpSpPr/>
          <p:nvPr/>
        </p:nvGrpSpPr>
        <p:grpSpPr>
          <a:xfrm>
            <a:off x="2206800" y="4432320"/>
            <a:ext cx="1079280" cy="1073160"/>
            <a:chOff x="2206800" y="4432320"/>
            <a:chExt cx="1079280" cy="1073160"/>
          </a:xfrm>
        </p:grpSpPr>
        <p:pic>
          <p:nvPicPr>
            <p:cNvPr id="646" name="Rectangle 4" descr=""/>
            <p:cNvPicPr/>
            <p:nvPr/>
          </p:nvPicPr>
          <p:blipFill>
            <a:blip r:embed="rId2"/>
            <a:stretch/>
          </p:blipFill>
          <p:spPr>
            <a:xfrm>
              <a:off x="2206800" y="4432320"/>
              <a:ext cx="1079280" cy="1073160"/>
            </a:xfrm>
            <a:prstGeom prst="rect">
              <a:avLst/>
            </a:prstGeom>
            <a:ln w="0">
              <a:noFill/>
            </a:ln>
          </p:spPr>
        </p:pic>
        <p:sp>
          <p:nvSpPr>
            <p:cNvPr id="647" name=""/>
            <p:cNvSpPr/>
            <p:nvPr/>
          </p:nvSpPr>
          <p:spPr>
            <a:xfrm>
              <a:off x="224784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648" name="Rectangle 5"/>
          <p:cNvSpPr/>
          <p:nvPr/>
        </p:nvSpPr>
        <p:spPr>
          <a:xfrm>
            <a:off x="2247840" y="2693880"/>
            <a:ext cx="2492280" cy="1373400"/>
          </a:xfrm>
          <a:prstGeom prst="rect">
            <a:avLst/>
          </a:prstGeom>
          <a:solidFill>
            <a:srgbClr val="103154"/>
          </a:solidFill>
          <a:ln w="25560">
            <a:solidFill>
              <a:srgbClr val="da5af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Name: string</a:t>
            </a:r>
            <a:endParaRPr b="0" lang="en-US" sz="1800" spc="-1" strike="noStrike">
              <a:solidFill>
                <a:srgbClr val="103154"/>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Birthdate: date</a:t>
            </a:r>
            <a:endParaRPr b="0" lang="en-US" sz="1800" spc="-1" strike="noStrike">
              <a:solidFill>
                <a:srgbClr val="103154"/>
              </a:solidFill>
              <a:latin typeface="Corbel"/>
            </a:endParaRPr>
          </a:p>
        </p:txBody>
      </p:sp>
      <p:sp>
        <p:nvSpPr>
          <p:cNvPr id="649" name="Straight Connector 7"/>
          <p:cNvSpPr/>
          <p:nvPr/>
        </p:nvSpPr>
        <p:spPr>
          <a:xfrm>
            <a:off x="2247840" y="3174840"/>
            <a:ext cx="2492280" cy="0"/>
          </a:xfrm>
          <a:prstGeom prst="line">
            <a:avLst/>
          </a:prstGeom>
          <a:ln w="28440">
            <a:solidFill>
              <a:srgbClr val="ff7f01"/>
            </a:solidFill>
            <a:miter/>
          </a:ln>
        </p:spPr>
        <p:style>
          <a:lnRef idx="0"/>
          <a:fillRef idx="0"/>
          <a:effectRef idx="0"/>
          <a:fontRef idx="minor"/>
        </p:style>
        <p:txBody>
          <a:bodyPr lIns="90000" rIns="90000" tIns="-46800" bIns="-46800" anchor="t">
            <a:noAutofit/>
          </a:bodyPr>
          <a:p>
            <a:endParaRPr b="0" lang="en-US" sz="1800" spc="-1" strike="noStrike">
              <a:solidFill>
                <a:srgbClr val="103154"/>
              </a:solidFill>
              <a:latin typeface="Corbel"/>
            </a:endParaRPr>
          </a:p>
        </p:txBody>
      </p:sp>
      <p:sp>
        <p:nvSpPr>
          <p:cNvPr id="650" name="Straight Connector 8"/>
          <p:cNvSpPr/>
          <p:nvPr/>
        </p:nvSpPr>
        <p:spPr>
          <a:xfrm flipV="1">
            <a:off x="2247840" y="4930560"/>
            <a:ext cx="914400" cy="4680"/>
          </a:xfrm>
          <a:prstGeom prst="line">
            <a:avLst/>
          </a:prstGeom>
          <a:ln w="25560">
            <a:solidFill>
              <a:srgbClr val="ff7f01"/>
            </a:solidFill>
            <a:miter/>
          </a:ln>
        </p:spPr>
        <p:style>
          <a:lnRef idx="0"/>
          <a:fillRef idx="0"/>
          <a:effectRef idx="0"/>
          <a:fontRef idx="minor"/>
        </p:style>
        <p:txBody>
          <a:bodyPr lIns="90000" rIns="90000" tIns="-42120" bIns="-42120" anchor="t">
            <a:noAutofit/>
          </a:bodyPr>
          <a:p>
            <a:endParaRPr b="0" lang="en-US" sz="1800" spc="-1" strike="noStrike">
              <a:solidFill>
                <a:srgbClr val="103154"/>
              </a:solidFill>
              <a:latin typeface="Corbel"/>
            </a:endParaRPr>
          </a:p>
        </p:txBody>
      </p:sp>
      <p:sp>
        <p:nvSpPr>
          <p:cNvPr id="651" name="Straight Connector 11"/>
          <p:cNvSpPr/>
          <p:nvPr/>
        </p:nvSpPr>
        <p:spPr>
          <a:xfrm flipV="1">
            <a:off x="5681520" y="4935240"/>
            <a:ext cx="914400" cy="6120"/>
          </a:xfrm>
          <a:prstGeom prst="line">
            <a:avLst/>
          </a:prstGeom>
          <a:ln w="25560">
            <a:solidFill>
              <a:srgbClr val="ff7f01"/>
            </a:solidFill>
            <a:miter/>
          </a:ln>
        </p:spPr>
        <p:style>
          <a:lnRef idx="0"/>
          <a:fillRef idx="0"/>
          <a:effectRef idx="0"/>
          <a:fontRef idx="minor"/>
        </p:style>
        <p:txBody>
          <a:bodyPr lIns="90000" rIns="90000" tIns="-40680" bIns="-40680" anchor="t">
            <a:noAutofit/>
          </a:bodyPr>
          <a:p>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08" name="Title 1" descr=""/>
          <p:cNvPicPr/>
          <p:nvPr/>
        </p:nvPicPr>
        <p:blipFill>
          <a:blip r:embed="rId1"/>
          <a:stretch/>
        </p:blipFill>
        <p:spPr>
          <a:xfrm>
            <a:off x="774720" y="291960"/>
            <a:ext cx="7594560" cy="1219320"/>
          </a:xfrm>
          <a:prstGeom prst="rect">
            <a:avLst/>
          </a:prstGeom>
          <a:ln w="0">
            <a:noFill/>
          </a:ln>
        </p:spPr>
      </p:pic>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is Object and  Clas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ink and Associ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Generalization and Inheritanc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dvanced Class Modeling</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ggreg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bstract Class metadata</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onstraints</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0" name="Title 1" descr=""/>
          <p:cNvPicPr/>
          <p:nvPr/>
        </p:nvPicPr>
        <p:blipFill>
          <a:blip r:embed="rId1"/>
          <a:stretch/>
        </p:blipFill>
        <p:spPr>
          <a:xfrm>
            <a:off x="774720" y="291960"/>
            <a:ext cx="7594560" cy="1219320"/>
          </a:xfrm>
          <a:prstGeom prst="rect">
            <a:avLst/>
          </a:prstGeom>
          <a:ln w="0">
            <a:noFill/>
          </a:ln>
        </p:spPr>
      </p:pic>
      <p:sp>
        <p:nvSpPr>
          <p:cNvPr id="611" name=""/>
          <p:cNvSpPr txBox="1"/>
          <p:nvPr/>
        </p:nvSpPr>
        <p:spPr>
          <a:xfrm>
            <a:off x="779040" y="1949400"/>
            <a:ext cx="7583400" cy="4400640"/>
          </a:xfrm>
          <a:prstGeom prst="rect">
            <a:avLst/>
          </a:prstGeom>
          <a:noFill/>
          <a:ln w="0">
            <a:noFill/>
          </a:ln>
        </p:spPr>
        <p:txBody>
          <a:bodyPr anchor="t">
            <a:normAutofit fontScale="95000"/>
          </a:bodyPr>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n instance of clas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 concept, abstraction, or thing with identity that has meaning for an applic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s often appear as proper nouns or specific references in problem descriptions and discussions with user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Some objects have real- world counterparts (Albert Einstein and  the General Electric Company) , while others are conceptual entities (simulation run1234 and the formula for solving a quadratic equ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Binary tree 634 and the array bound to variable “a” are introduced fro implementation reasons and have no correspondence to physical reality.</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The choice of objects depends on judgment and the nature of a problem; there can be many correct representation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2" name="Title 1" descr=""/>
          <p:cNvPicPr/>
          <p:nvPr/>
        </p:nvPicPr>
        <p:blipFill>
          <a:blip r:embed="rId1"/>
          <a:stretch/>
        </p:blipFill>
        <p:spPr>
          <a:xfrm>
            <a:off x="774720" y="291960"/>
            <a:ext cx="7594560" cy="1219320"/>
          </a:xfrm>
          <a:prstGeom prst="rect">
            <a:avLst/>
          </a:prstGeom>
          <a:ln w="0">
            <a:noFill/>
          </a:ln>
        </p:spPr>
      </p:pic>
      <p:sp>
        <p:nvSpPr>
          <p:cNvPr id="613" name=""/>
          <p:cNvSpPr txBox="1"/>
          <p:nvPr/>
        </p:nvSpPr>
        <p:spPr>
          <a:xfrm>
            <a:off x="779040" y="1949040"/>
            <a:ext cx="7583400" cy="49086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ll objects have identity and are distinguishabl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wo apples with the same color, shape and texture are still individual apples; a person can eat one and then eat the other. Similarly, identical twins are two distinct persons, even though they may look the sam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term identity means that objects are distinguished by their inherent existence and not be descriptive properties that they may have.</a:t>
            </a: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774720" y="291960"/>
            <a:ext cx="7594560" cy="1219320"/>
          </a:xfrm>
          <a:prstGeom prst="rect">
            <a:avLst/>
          </a:prstGeom>
          <a:ln w="0">
            <a:noFill/>
          </a:ln>
        </p:spPr>
      </p:pic>
      <p:sp>
        <p:nvSpPr>
          <p:cNvPr id="615" name=""/>
          <p:cNvSpPr txBox="1"/>
          <p:nvPr/>
        </p:nvSpPr>
        <p:spPr>
          <a:xfrm>
            <a:off x="779040" y="1949400"/>
            <a:ext cx="7583400" cy="4006800"/>
          </a:xfrm>
          <a:prstGeom prst="rect">
            <a:avLst/>
          </a:prstGeom>
          <a:noFill/>
          <a:ln w="0">
            <a:noFill/>
          </a:ln>
        </p:spPr>
        <p:txBody>
          <a:bodyPr anchor="t">
            <a:normAutofit fontScale="97000"/>
          </a:bodyPr>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 Class describes a group of objects with the same properties attributes), behavior (operations), kind of relationships, and semantic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Person, company, process,  and window are all classe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person has name  and birth date and may work a a job. Each process has an owner, priority, and list of required resource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lasses often appear as common nouns and noun phrases in problem descriptions and discussions with user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The choice of  classes depends on the nature and scope of an application and is a matter of judgmen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6" name="Title 1" descr=""/>
          <p:cNvPicPr/>
          <p:nvPr/>
        </p:nvPicPr>
        <p:blipFill>
          <a:blip r:embed="rId1"/>
          <a:stretch/>
        </p:blipFill>
        <p:spPr>
          <a:xfrm>
            <a:off x="774720" y="291960"/>
            <a:ext cx="7594560" cy="1219320"/>
          </a:xfrm>
          <a:prstGeom prst="rect">
            <a:avLst/>
          </a:prstGeom>
          <a:ln w="0">
            <a:noFill/>
          </a:ln>
        </p:spPr>
      </p:pic>
      <p:sp>
        <p:nvSpPr>
          <p:cNvPr id="617" name=""/>
          <p:cNvSpPr txBox="1"/>
          <p:nvPr/>
        </p:nvSpPr>
        <p:spPr>
          <a:xfrm>
            <a:off x="779040" y="1949400"/>
            <a:ext cx="7583400" cy="4006800"/>
          </a:xfrm>
          <a:prstGeom prst="rect">
            <a:avLst/>
          </a:prstGeom>
          <a:noFill/>
          <a:ln w="0">
            <a:noFill/>
          </a:ln>
        </p:spPr>
        <p:txBody>
          <a:bodyPr anchor="t">
            <a:normAutofit fontScale="99000"/>
          </a:bodyPr>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objects in a class share a common semantic purpose, above and beyond the requirement of common attributes and behavior.</a:t>
            </a:r>
            <a:endParaRPr b="0" lang="en-US" sz="2200" spc="-1" strike="noStrike">
              <a:solidFill>
                <a:srgbClr val="174576"/>
              </a:solidFill>
              <a:latin typeface="Corbel"/>
            </a:endParaRPr>
          </a:p>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r example, a barn and horse may both have cost and an age. If barn and horse were regarded as purely financial assets, they could belong to the same class. If  the developer took into consideration that a person  paints a barn and feeds a horse, they would be modeled as distinct classes. The interpretation of semantics depends on the purpose of each application and is a matter of judgment.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8" name="Title 1" descr=""/>
          <p:cNvPicPr/>
          <p:nvPr/>
        </p:nvPicPr>
        <p:blipFill>
          <a:blip r:embed="rId1"/>
          <a:stretch/>
        </p:blipFill>
        <p:spPr>
          <a:xfrm>
            <a:off x="774720" y="291960"/>
            <a:ext cx="7594560" cy="1219320"/>
          </a:xfrm>
          <a:prstGeom prst="rect">
            <a:avLst/>
          </a:prstGeom>
          <a:ln w="0">
            <a:noFill/>
          </a:ln>
        </p:spPr>
      </p:pic>
      <p:sp>
        <p:nvSpPr>
          <p:cNvPr id="61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Each objects “knows ” its class. Most OO programming languages can determine an object’s class at run time. </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n object’s class is an implicit property of the objec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20" name="Title 1" descr=""/>
          <p:cNvPicPr/>
          <p:nvPr/>
        </p:nvPicPr>
        <p:blipFill>
          <a:blip r:embed="rId1"/>
          <a:stretch/>
        </p:blipFill>
        <p:spPr>
          <a:xfrm>
            <a:off x="774720" y="291960"/>
            <a:ext cx="7594560" cy="1219320"/>
          </a:xfrm>
          <a:prstGeom prst="rect">
            <a:avLst/>
          </a:prstGeom>
          <a:ln w="0">
            <a:noFill/>
          </a:ln>
        </p:spPr>
      </p:pic>
      <p:pic>
        <p:nvPicPr>
          <p:cNvPr id="621" name="Content Placeholder 2" descr=""/>
          <p:cNvPicPr/>
          <p:nvPr/>
        </p:nvPicPr>
        <p:blipFill>
          <a:blip r:embed="rId2"/>
          <a:stretch/>
        </p:blipFill>
        <p:spPr>
          <a:xfrm>
            <a:off x="285840" y="1944720"/>
            <a:ext cx="8083440" cy="4919760"/>
          </a:xfrm>
          <a:prstGeom prst="rect">
            <a:avLst/>
          </a:prstGeom>
          <a:ln w="0">
            <a:noFill/>
          </a:ln>
        </p:spPr>
      </p:pic>
      <p:grpSp>
        <p:nvGrpSpPr>
          <p:cNvPr id="622" name="Rectangle 3"/>
          <p:cNvGrpSpPr/>
          <p:nvPr/>
        </p:nvGrpSpPr>
        <p:grpSpPr>
          <a:xfrm>
            <a:off x="5516640" y="3797280"/>
            <a:ext cx="2987640" cy="1073160"/>
            <a:chOff x="5516640" y="3797280"/>
            <a:chExt cx="2987640" cy="1073160"/>
          </a:xfrm>
        </p:grpSpPr>
        <p:pic>
          <p:nvPicPr>
            <p:cNvPr id="623" name="Rectangle 3" descr=""/>
            <p:cNvPicPr/>
            <p:nvPr/>
          </p:nvPicPr>
          <p:blipFill>
            <a:blip r:embed="rId3"/>
            <a:stretch/>
          </p:blipFill>
          <p:spPr>
            <a:xfrm>
              <a:off x="5516640" y="3797280"/>
              <a:ext cx="2987640" cy="1073160"/>
            </a:xfrm>
            <a:prstGeom prst="rect">
              <a:avLst/>
            </a:prstGeom>
            <a:ln w="0">
              <a:noFill/>
            </a:ln>
          </p:spPr>
        </p:pic>
        <p:sp>
          <p:nvSpPr>
            <p:cNvPr id="624" name=""/>
            <p:cNvSpPr/>
            <p:nvPr/>
          </p:nvSpPr>
          <p:spPr>
            <a:xfrm>
              <a:off x="5576760" y="3843360"/>
              <a:ext cx="2786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03154"/>
                  </a:solidFill>
                  <a:latin typeface="Corbel"/>
                </a:rPr>
                <a:t>Object Diagrams</a:t>
              </a:r>
              <a:endParaRPr b="0" lang="en-US" sz="2800" spc="-1" strike="noStrike">
                <a:solidFill>
                  <a:srgbClr val="103154"/>
                </a:solidFill>
                <a:latin typeface="Corbel"/>
              </a:endParaRPr>
            </a:p>
          </p:txBody>
        </p:sp>
      </p:grpSp>
      <p:grpSp>
        <p:nvGrpSpPr>
          <p:cNvPr id="625" name="Rectangle 4"/>
          <p:cNvGrpSpPr/>
          <p:nvPr/>
        </p:nvGrpSpPr>
        <p:grpSpPr>
          <a:xfrm>
            <a:off x="457200" y="3797280"/>
            <a:ext cx="3029040" cy="1073160"/>
            <a:chOff x="457200" y="3797280"/>
            <a:chExt cx="3029040" cy="1073160"/>
          </a:xfrm>
        </p:grpSpPr>
        <p:pic>
          <p:nvPicPr>
            <p:cNvPr id="626" name="Rectangle 4" descr=""/>
            <p:cNvPicPr/>
            <p:nvPr/>
          </p:nvPicPr>
          <p:blipFill>
            <a:blip r:embed="rId4"/>
            <a:stretch/>
          </p:blipFill>
          <p:spPr>
            <a:xfrm>
              <a:off x="457200" y="3797280"/>
              <a:ext cx="3029040" cy="1073160"/>
            </a:xfrm>
            <a:prstGeom prst="rect">
              <a:avLst/>
            </a:prstGeom>
            <a:ln w="0">
              <a:noFill/>
            </a:ln>
          </p:spPr>
        </p:pic>
        <p:sp>
          <p:nvSpPr>
            <p:cNvPr id="627" name=""/>
            <p:cNvSpPr/>
            <p:nvPr/>
          </p:nvSpPr>
          <p:spPr>
            <a:xfrm>
              <a:off x="514440" y="3843360"/>
              <a:ext cx="2832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103154"/>
                  </a:solidFill>
                  <a:latin typeface="Corbel"/>
                </a:rPr>
                <a:t>Class diagrams</a:t>
              </a:r>
              <a:endParaRPr b="0" lang="en-US" sz="2700" spc="-1" strike="noStrike">
                <a:solidFill>
                  <a:srgbClr val="103154"/>
                </a:solidFill>
                <a:latin typeface="Corbel"/>
              </a:endParaRPr>
            </a:p>
          </p:txBody>
        </p:sp>
      </p:grpSp>
      <p:grpSp>
        <p:nvGrpSpPr>
          <p:cNvPr id="628" name="Process 5"/>
          <p:cNvGrpSpPr/>
          <p:nvPr/>
        </p:nvGrpSpPr>
        <p:grpSpPr>
          <a:xfrm>
            <a:off x="3292560" y="2048040"/>
            <a:ext cx="2644560" cy="1152360"/>
            <a:chOff x="3292560" y="2048040"/>
            <a:chExt cx="2644560" cy="1152360"/>
          </a:xfrm>
        </p:grpSpPr>
        <p:pic>
          <p:nvPicPr>
            <p:cNvPr id="629" name="Process 5" descr=""/>
            <p:cNvPicPr/>
            <p:nvPr/>
          </p:nvPicPr>
          <p:blipFill>
            <a:blip r:embed="rId5"/>
            <a:stretch/>
          </p:blipFill>
          <p:spPr>
            <a:xfrm>
              <a:off x="3292560" y="2048040"/>
              <a:ext cx="2644560" cy="1152360"/>
            </a:xfrm>
            <a:prstGeom prst="rect">
              <a:avLst/>
            </a:prstGeom>
            <a:ln w="0">
              <a:noFill/>
            </a:ln>
          </p:spPr>
        </p:pic>
        <p:sp>
          <p:nvSpPr>
            <p:cNvPr id="630" name=""/>
            <p:cNvSpPr/>
            <p:nvPr/>
          </p:nvSpPr>
          <p:spPr>
            <a:xfrm>
              <a:off x="3346560" y="2095560"/>
              <a:ext cx="24541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3154"/>
                  </a:solidFill>
                  <a:latin typeface="Corbel"/>
                </a:rPr>
                <a:t>Modeling Structure</a:t>
              </a:r>
              <a:endParaRPr b="0" lang="en-US" sz="3200" spc="-1" strike="noStrike">
                <a:solidFill>
                  <a:srgbClr val="103154"/>
                </a:solidFill>
                <a:latin typeface="Corbel"/>
              </a:endParaRPr>
            </a:p>
          </p:txBody>
        </p:sp>
      </p:grpSp>
      <p:cxnSp>
        <p:nvCxnSpPr>
          <p:cNvPr id="631" name="Straight Arrow Connector 7"/>
          <p:cNvCxnSpPr/>
          <p:nvPr/>
        </p:nvCxnSpPr>
        <p:spPr>
          <a:xfrm flipV="1" rot="10800000">
            <a:off x="2075760" y="2625480"/>
            <a:ext cx="1270800" cy="1218240"/>
          </a:xfrm>
          <a:prstGeom prst="bentConnector3">
            <a:avLst>
              <a:gd name="adj1" fmla="val 49985"/>
            </a:avLst>
          </a:prstGeom>
          <a:ln w="25560">
            <a:solidFill>
              <a:srgbClr val="ff7f01"/>
            </a:solidFill>
            <a:miter/>
            <a:tailEnd len="med" type="arrow" w="med"/>
          </a:ln>
        </p:spPr>
      </p:cxnSp>
      <p:cxnSp>
        <p:nvCxnSpPr>
          <p:cNvPr id="632" name="Straight Arrow Connector 9"/>
          <p:cNvCxnSpPr/>
          <p:nvPr/>
        </p:nvCxnSpPr>
        <p:spPr>
          <a:xfrm>
            <a:off x="5800680" y="2625840"/>
            <a:ext cx="1270800" cy="1218240"/>
          </a:xfrm>
          <a:prstGeom prst="bentConnector3">
            <a:avLst>
              <a:gd name="adj1" fmla="val 49985"/>
            </a:avLst>
          </a:prstGeom>
          <a:ln w="25560">
            <a:solidFill>
              <a:srgbClr val="ff7f01"/>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graphicFrame>
        <p:nvGraphicFramePr>
          <p:cNvPr id="634" name=""/>
          <p:cNvGraphicFramePr/>
          <p:nvPr/>
        </p:nvGraphicFramePr>
        <p:xfrm>
          <a:off x="779400" y="1949400"/>
          <a:ext cx="8077320" cy="4640400"/>
        </p:xfrm>
        <a:graphic>
          <a:graphicData uri="http://schemas.openxmlformats.org/drawingml/2006/table">
            <a:tbl>
              <a:tblPr/>
              <a:tblGrid>
                <a:gridCol w="3792600"/>
                <a:gridCol w="4284720"/>
              </a:tblGrid>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Class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Object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s provide a graphic notation for modeling classe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 are useful both for abstract modeling and for designing  actual pro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They are concise, easy to understand, and work well in practice.</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Clas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n object diagram shows individual object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Object diagrams are helpful for documenting test cases and discussing example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 class diagram corresponds to an infinite set of object dia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Object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r>
            </a:tbl>
          </a:graphicData>
        </a:graphic>
      </p:graphicFrame>
      <p:sp>
        <p:nvSpPr>
          <p:cNvPr id="635" name="Rectangle 5"/>
          <p:cNvSpPr/>
          <p:nvPr/>
        </p:nvSpPr>
        <p:spPr>
          <a:xfrm>
            <a:off x="1973160" y="5549760"/>
            <a:ext cx="1236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
        <p:nvSpPr>
          <p:cNvPr id="636" name="Rectangle 7"/>
          <p:cNvSpPr/>
          <p:nvPr/>
        </p:nvSpPr>
        <p:spPr>
          <a:xfrm>
            <a:off x="4719600" y="5549760"/>
            <a:ext cx="205596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MarySharp:Person</a:t>
            </a:r>
            <a:endParaRPr b="0" lang="en-US" sz="1800" spc="-1" strike="noStrike">
              <a:solidFill>
                <a:srgbClr val="103154"/>
              </a:solidFill>
              <a:latin typeface="Corbel"/>
            </a:endParaRPr>
          </a:p>
        </p:txBody>
      </p:sp>
      <p:sp>
        <p:nvSpPr>
          <p:cNvPr id="637" name="Rectangle 8"/>
          <p:cNvSpPr/>
          <p:nvPr/>
        </p:nvSpPr>
        <p:spPr>
          <a:xfrm>
            <a:off x="7180200" y="5549760"/>
            <a:ext cx="1182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09:07:43Z</dcterms:created>
  <dc:creator>Mayur Patel</dc:creator>
  <dc:description/>
  <dc:language>en-US</dc:language>
  <cp:lastModifiedBy>Mayur Patel</cp:lastModifiedBy>
  <dcterms:modified xsi:type="dcterms:W3CDTF">2011-01-18T06:24:34Z</dcterms:modified>
  <cp:revision>5</cp:revision>
  <dc:subject/>
  <dc:title>Object Oriented Analysis Design and UML</dc:title>
</cp:coreProperties>
</file>