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A7E-01C5-459D-B796-C3C0471E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C40-259A-4689-964E-E2FCDC8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BF7-8F2D-47FB-855E-18D35C56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DA4-C235-4DD6-8335-0FEC41C2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0136-4341-4A7D-845D-FA9B27A8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CF70-537E-4ED3-9C62-4A241751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1864-3DDC-4FB4-A61A-CF7FD3A4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CDB6-0387-440B-A07F-364B3A74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3F4C-0F23-406A-A0DF-6F9C020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75A1-33B0-4E2E-90F6-10FB0D84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DE2D-107F-47FE-B31A-E84959A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617-E218-4A95-81BB-1D2F6ECF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4784-405F-4655-9BBC-DA12A53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2173-EEDE-4EBD-B849-E8FD414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7C8-120E-4BEF-B2D6-28766564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5657-4CE5-4F53-AEB5-60694441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EEC3-8DB4-4C0F-B3B3-EE2FFE7B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C38-30A8-4833-84C7-F148C75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E21-5EE6-4636-9B9E-9E5F7FFF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4C8-77E8-453F-9CC2-C8324FC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3F1-68B5-480F-A894-3E3099FF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77C-DE5B-49F4-A8E9-4F5E456B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128-9123-44F7-AAF7-631DE379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9EBD-4738-47A6-9311-96E45CBB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34EF-7882-4856-96E8-E7070F4D6D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3612-A498-475D-B03F-3F0FE5F7D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tat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Internal Transition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The handling of an event without leaving the current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ed to avoid a states entry and exit ac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vent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ctiviti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Ongoing work that an object performs while in a particular state.  The work automatically terminates when the state is ex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do / activit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vities are ongoing operations; actions are instantaneous opera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6DC-6D9D-4CB9-97EB-3D8E25A168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38440" y="2214720"/>
            <a:ext cx="5667120" cy="24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D72-E276-432C-B630-88AD98115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Deferred Ev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n event whose occurrence is responded to at a later tim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event / def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ce an event has been deferred it remains deferred until a state is entered where that particular type of event is not listed as deferred.   The state diagram then responds to the event as if it had just occurr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B5F-D05E-4E14-A031-ED1A2F6118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imple 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contains no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Composite 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contain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ub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is nested inside another stat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allow state diagrams to show different levels of abstrac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may be sequential or concurr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may be nested to any lev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5653-5926-4627-8424-45992AC62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equential 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The most common type of substate. Essentially, a state diagram within a single state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“containing” state becomes an abstract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use of substates simplifies state diagrams by reducing the number of transition li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nested sequential state diagram may have at most one initial state and one final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B52-BD6B-41B2-A4C6-323E7B459A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90520" y="1219320"/>
            <a:ext cx="676296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DE3-77DB-4342-A891-EDD67E6F9A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History Sta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Allows an object to remember which substate was last active when the containing state was ex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pon re-entry to the containing state,  the substate that was last active will be re-entered directly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586728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A75-5CE8-4E18-8D7D-6950ABC7E3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Concurrent 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Used when two or more state diagrams are executing concurrently within a single object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ows an object to be in multiple states simultaneousl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concurrent state diagrams within a “containing” state must begin and end execution simultaneousl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f one concurrent state diagram finishes first, it must wait for the others to complete before exiting the containing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CFE-553D-49A2-978B-3BB91BEE8A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61960" y="1185840"/>
            <a:ext cx="622008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0D2-F045-4762-9FBF-B916892FE0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228240"/>
            <a:ext cx="2514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oncurrent State Diagrams Using OMT Not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0433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B56-1E83-4A78-BC2E-9A829E3A74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machine …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els the behavior of an individual object (statechart diagram) or a society of objects (activity diagram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s a dynamic model of the syst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s event drive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vents trigger activities which, in turn, trigger ac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ons are atomi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ons may cause the return of a value or the change of state of an object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te machines come in two varieties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vity diagram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tatechart diagram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FB6-62C1-4F99-8350-F7F0C94E92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990720"/>
          <a:ext cx="4267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267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343400" y="990720"/>
          <a:ext cx="4800600" cy="58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990720"/>
                    <a:ext cx="4800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tate Diagram for a Phone Lin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C1A3-D976-4ACD-82D1-E209FDD14F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62720" y="152280"/>
            <a:ext cx="3047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vent Trace for an ATM Transacti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88A-E88B-4CA6-9693-E4E8B008C0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ate Diagrams ATM, Bank, and Consortiu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91440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B9D-E138-48CF-8E6C-B3001B9A7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atechart Dia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chart diagram, also known as state diagram, models the dynamic aspects of the system by showing the flow of control from state to state for a particular clas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ry class will have its own statechart diagram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 practice, only classes with interesting or complex internal behavior will be modeled with statechart diagram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techart diagrams are not shared among class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7B5-2617-401B-988E-E0F969C75B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ereas an activity diagram models the flow of control from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activity to activity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, a statechart diagram models the flow of control from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event to ev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chart diagrams show how an object reacts to external events or conditions during the course of its lifetim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EF9-DBBE-4331-8A44-B016DEB8F9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state is a condition or situation during the life of an object in which it satisfies some condition, performs some activity, or waits for some ev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transition is a relationship between two states indicating that an object in the first state will perform certain actions and enter the second state when certain events and conditions have occurred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977D-3C58-4050-8A26-16B9E19751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event is the specification of a significant occurrence that has a location in time and spac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activity is an ongoing non-atomic execution within a state machin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action is an atomic execution within a state machine that results in a change of state or the return of a valu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D95-7984-48DB-B576-9C2FF8A388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2024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38B-46A4-4221-B1C1-74A06D111E5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157400"/>
            <a:ext cx="705816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8FB-2AE6-4E2B-AFF5-B050CFA1477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is a condition or situation during the life of an object in which it satisfies some condition, performs some activity, or waits for some event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may include …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ntry/exit ac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ernal transi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tiviti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- may sequential or concurr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ferred events (infrequently used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0B7-3E45-4F1B-A84B-EEBDEDA9C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te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ecial categories of stat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Initial stat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indicates the initial starting state for for the state machine or a sub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Final stat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indicates the state machine’s execution has comple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al-time state machines frequently do not include a final state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ither initial or final states contain any of the parts found in traditional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189-7F89-43D7-9AD9-E0FD7EF66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7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6BA-795A-452E-B0E1-AED9E5B782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directed relationship between two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flow of control through a statechart diagra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ains five par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urce state - current state before transition fi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vent trigger - external stimulus that has the potential to cause a transition to fire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uard condition - a condition that must be satisfied before a transition can fir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tion - an executable atomic computa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rget state - new state after transition fi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43A-47B4-4BCB-91D2-28B58A63F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04920" y="838080"/>
            <a:ext cx="673416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86D-F8C0-435E-A766-D9E7768314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ntry action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Upon each entry to a state, a specified action is automatically execu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ntry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xit action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Just prior to leaving a state, a specified action is automatically execu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xit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E0F-1713-4E49-8DD7-3586AA743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19:42:34Z</dcterms:created>
  <dc:creator>Don &amp; Holley Evans</dc:creator>
  <dc:description/>
  <dc:language>en-US</dc:language>
  <cp:lastModifiedBy>Don Evans</cp:lastModifiedBy>
  <cp:lastPrinted>2000-01-02T16:02:48Z</cp:lastPrinted>
  <dcterms:modified xsi:type="dcterms:W3CDTF">2001-08-12T20:04:52Z</dcterms:modified>
  <cp:revision>338</cp:revision>
  <dc:subject/>
  <dc:title>The Unified Modeling Language User Guide</dc:title>
</cp:coreProperties>
</file>