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35AC4-E7A3-4954-902C-C42D075B4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A7844-6B48-4490-AC92-CDD0FD3F6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57E12-B6D0-4BF3-A003-A878DB4B8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E046F-8C61-40E8-868D-251A249F1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1FA82-52D8-4B99-A246-3B4980B7D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9E0ED-7FBC-43C5-B693-3EE4D703E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82F40-55BD-437B-8786-DD6864B70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D5433-0768-4F5E-823E-118EB2148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115C0-0AF4-4DB5-AFC7-73D62D35D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1ED5C-70C4-4829-8F10-5A645F5A0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70334-7B46-410F-B651-F07E4FE67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5A7C8-7D84-457F-98E0-3E2F07A43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F352F-BCB9-417B-AC23-A146D8F9E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6967E-E062-40C9-AB38-C27B2D96F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4D4CD-E8BE-4004-B936-5AB6336B6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625AA-1351-4F81-BC45-36F1F2FCD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ED4B2-37A7-4887-A855-4BF75399F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4C7FB-2646-4EFB-A0F0-FE385DEB6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3BE79-4A03-410C-B62E-824ECB28E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CC53E-55FF-40FE-8575-415D16F20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021EF-736C-4745-AEE8-B5916E147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4B289-1E16-4B52-9EA4-688A90F08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A5B86-73B5-4349-8DC2-1870299F2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E2DE2-FDC9-47E4-ABCE-C5917AFC1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DC0CD-B158-4C3F-AF07-15A02E5ADFD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824D9-50CB-4CFE-BA1C-936C95A35CF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Tahoma"/>
              </a:rPr>
              <a:t>States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Tahoma"/>
              </a:rPr>
              <a:t>Terms and Concepts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6960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Advanced States and Transitions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ecff"/>
                </a:solidFill>
                <a:uFillTx/>
                <a:latin typeface="Tahoma"/>
              </a:rPr>
              <a:t>Internal Transitions</a:t>
            </a: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 - The handling of an event without leaving the current state.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Used to avoid a states entry and exit actions.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yntax (to be placed inside the state symbol):                           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          </a:t>
            </a:r>
            <a:r>
              <a:rPr b="1" lang="en-US" sz="2000" spc="-1" strike="noStrike">
                <a:solidFill>
                  <a:srgbClr val="ccecff"/>
                </a:solidFill>
                <a:latin typeface="Tahoma"/>
              </a:rPr>
              <a:t>event / action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ecff"/>
                </a:solidFill>
                <a:uFillTx/>
                <a:latin typeface="Tahoma"/>
              </a:rPr>
              <a:t>Activities</a:t>
            </a: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 - Ongoing work that an object performs while in a particular state.  The work automatically terminates when the state is exited.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yntax (to be placed inside the state symbol):                           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          </a:t>
            </a:r>
            <a:r>
              <a:rPr b="1" lang="en-US" sz="2000" spc="-1" strike="noStrike">
                <a:solidFill>
                  <a:srgbClr val="ccecff"/>
                </a:solidFill>
                <a:latin typeface="Tahoma"/>
              </a:rPr>
              <a:t>do / activity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Activities are ongoing operations; actions are instantaneous operations.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94408-F927-44FC-A16D-13C1DF7CBA8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Tahoma"/>
              </a:rPr>
              <a:t>Terms and Concepts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738440" y="2214720"/>
            <a:ext cx="5667120" cy="2428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764BC-A1C7-472B-9BA7-38682E9BB9F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Tahoma"/>
              </a:rPr>
              <a:t>Terms and Concepts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6960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Advanced States and Transition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ecff"/>
                </a:solidFill>
                <a:uFillTx/>
                <a:latin typeface="Tahoma"/>
              </a:rPr>
              <a:t>Deferred Event</a:t>
            </a: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 - An event whose occurrence is responded to at a later time.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Syntax (to be placed inside the state symbol):                           </a:t>
            </a: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           </a:t>
            </a:r>
            <a:r>
              <a:rPr b="1" lang="en-US" sz="2400" spc="-1" strike="noStrike">
                <a:solidFill>
                  <a:srgbClr val="ccecff"/>
                </a:solidFill>
                <a:latin typeface="Tahoma"/>
              </a:rPr>
              <a:t>event / defer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Once an event has been deferred it remains deferred until a state is entered where that particular type of event is not listed as deferred.   The state diagram then responds to the event as if it had just occurred.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27A97-2EA4-41AE-BBC1-B01697A251E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Tahoma"/>
              </a:rPr>
              <a:t>Terms and Concepts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696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Advanced States and Transition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ecff"/>
                </a:solidFill>
                <a:uFillTx/>
                <a:latin typeface="Tahoma"/>
              </a:rPr>
              <a:t>Simple state</a:t>
            </a: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 - A state that contains no </a:t>
            </a:r>
            <a:r>
              <a:rPr b="0" i="1" lang="en-US" sz="2800" spc="-1" strike="noStrike">
                <a:solidFill>
                  <a:srgbClr val="ccecff"/>
                </a:solidFill>
                <a:latin typeface="Tahoma"/>
              </a:rPr>
              <a:t>substates</a:t>
            </a: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ecff"/>
                </a:solidFill>
                <a:uFillTx/>
                <a:latin typeface="Tahoma"/>
              </a:rPr>
              <a:t>Composite state</a:t>
            </a: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 - A state that contains </a:t>
            </a:r>
            <a:r>
              <a:rPr b="0" i="1" lang="en-US" sz="2800" spc="-1" strike="noStrike">
                <a:solidFill>
                  <a:srgbClr val="ccecff"/>
                </a:solidFill>
                <a:latin typeface="Tahoma"/>
              </a:rPr>
              <a:t>substates</a:t>
            </a: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ecff"/>
                </a:solidFill>
                <a:uFillTx/>
                <a:latin typeface="Tahoma"/>
              </a:rPr>
              <a:t>Substate</a:t>
            </a: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 - A state that is nested inside another state.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Substates allow state diagrams to show different levels of abstraction.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Substates may be sequential or concurrent.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Substates may be nested to any level.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B3911-A780-46BD-9A71-B039D120445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Tahoma"/>
              </a:rPr>
              <a:t>Terms and Concepts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6960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Advanced States and Transition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ecff"/>
                </a:solidFill>
                <a:uFillTx/>
                <a:latin typeface="Tahoma"/>
              </a:rPr>
              <a:t>Sequential Substates</a:t>
            </a: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 - The most common type of substate. Essentially, a state diagram within a single state. 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The “containing” state becomes an abstract state.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The use of substates simplifies state diagrams by reducing the number of transition lines.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A nested sequential state diagram may have at most one initial state and one final state.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3AE13-B7A3-435B-A7BC-D8173B4F39D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Tahoma"/>
              </a:rPr>
              <a:t>Terms and Concepts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190520" y="1219320"/>
            <a:ext cx="6762960" cy="4419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E6031-7F0E-49B7-B57F-4F629BEDFFA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Tahoma"/>
              </a:rPr>
              <a:t>Terms and Concepts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6960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Advanced States and Transitions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ecff"/>
                </a:solidFill>
                <a:uFillTx/>
                <a:latin typeface="Tahoma"/>
              </a:rPr>
              <a:t>History States</a:t>
            </a: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 - Allows an object to remember which substate was last active when the containing state was exited.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Upon re-entry to the containing state,  the substate that was last active will be re-entered directly.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600200" y="3429000"/>
            <a:ext cx="5867280" cy="327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6B6B2-57D8-4287-B589-CB6A71AE98F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Tahoma"/>
              </a:rPr>
              <a:t>Terms and Concepts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696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Advanced States and Transitions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ecff"/>
                </a:solidFill>
                <a:uFillTx/>
                <a:latin typeface="Tahoma"/>
              </a:rPr>
              <a:t>Concurrent Substates</a:t>
            </a: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 - Used when two or more state diagrams are executing concurrently within a single object.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Allows an object to be in multiple states simultaneously.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The concurrent state diagrams within a “containing” state must begin and end execution simultaneously.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If one concurrent state diagram finishes first, it must wait for the others to complete before exiting the containing state.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7455C-B42B-4435-864B-D11B61EE54F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Tahoma"/>
              </a:rPr>
              <a:t>Terms and Concepts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461960" y="1185840"/>
            <a:ext cx="6220080" cy="4486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E2A95-7A21-4EF6-8A09-66423327909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400440" y="228240"/>
            <a:ext cx="25146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Tahoma"/>
              </a:rPr>
              <a:t>Concurrent State Diagrams Using OMT Notatio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6043320" cy="6858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83D23-8C5B-4CC4-9780-DB728D325BB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Tahoma"/>
              </a:rPr>
              <a:t>Introductio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762120"/>
            <a:ext cx="769608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A state machine …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Models the behavior of an individual object (statechart diagram) or a society of objects (activity diagram).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Is a dynamic model of the system.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Is event driven.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Events trigger activities which, in turn, trigger actions.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Actions are atomic.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Actions may cause the return of a value or the change of state of an object.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State machines come in two varieties: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Activity diagrams.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tatechart diagrams.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C7E92-4CFB-4D02-B0FE-8B2F63B09BC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3" name=""/>
          <p:cNvGraphicFramePr/>
          <p:nvPr/>
        </p:nvGraphicFramePr>
        <p:xfrm>
          <a:off x="0" y="990720"/>
          <a:ext cx="4267080" cy="586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90720"/>
                    <a:ext cx="4267080" cy="58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5" name=""/>
          <p:cNvGraphicFramePr/>
          <p:nvPr/>
        </p:nvGraphicFramePr>
        <p:xfrm>
          <a:off x="4343400" y="990720"/>
          <a:ext cx="4800600" cy="5867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43400" y="990720"/>
                    <a:ext cx="4800600" cy="58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Tahoma"/>
              </a:rPr>
              <a:t>State Diagram for a Phone Line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5A6FA-6D97-4690-8379-2C74D864721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562720" y="152280"/>
            <a:ext cx="304776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Tahoma"/>
              </a:rPr>
              <a:t>Event Trace for an ATM Transaction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148360" cy="6858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7298E-E817-4396-B2D8-D0993B6A813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991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Tahoma"/>
              </a:rPr>
              <a:t>State Diagrams ATM, Bank, and Consortium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0" y="914400"/>
          <a:ext cx="9144000" cy="533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14400"/>
                    <a:ext cx="9144000" cy="53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9E042-9005-402C-9434-83263512E34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tatechart Diagram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ccffff"/>
                </a:solidFill>
                <a:uFillTx/>
                <a:latin typeface="Tahoma"/>
              </a:rPr>
              <a:t>Introductio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6960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A statechart diagram, also known as state diagram, models the dynamic aspects of the system by showing the flow of control from state to state for a particular class.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Every class will have its own statechart diagram.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In practice, only classes with interesting or complex internal behavior will be modeled with statechart diagrams.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Statechart diagrams are not shared among classes.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29F6C-54F5-407F-A5A5-7942D08FA97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ccffff"/>
                </a:solidFill>
                <a:uFillTx/>
                <a:latin typeface="Tahoma"/>
              </a:rPr>
              <a:t>Introductio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6960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Whereas an activity diagram models the flow of control from </a:t>
            </a:r>
            <a:r>
              <a:rPr b="0" lang="en-US" sz="2800" spc="-1" strike="noStrike" u="sng">
                <a:solidFill>
                  <a:srgbClr val="ccecff"/>
                </a:solidFill>
                <a:uFillTx/>
                <a:latin typeface="Tahoma"/>
              </a:rPr>
              <a:t>activity to activity</a:t>
            </a: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, a statechart diagram models the flow of control from </a:t>
            </a:r>
            <a:r>
              <a:rPr b="0" lang="en-US" sz="2800" spc="-1" strike="noStrike" u="sng">
                <a:solidFill>
                  <a:srgbClr val="ccecff"/>
                </a:solidFill>
                <a:uFillTx/>
                <a:latin typeface="Tahoma"/>
              </a:rPr>
              <a:t>event to event</a:t>
            </a: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Statechart diagrams show how an object reacts to external events or conditions during the course of its lifetime.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B83BF-1E5F-47D6-9F03-1BEDEDF5D80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ccffff"/>
                </a:solidFill>
                <a:uFillTx/>
                <a:latin typeface="Tahoma"/>
              </a:rPr>
              <a:t>Terms and Concepts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6960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State 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A state is a condition or situation during the life of an object in which it satisfies some condition, performs some activity, or waits for some event.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Transition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A transition is a relationship between two states indicating that an object in the first state will perform certain actions and enter the second state when certain events and conditions have occurred. 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3D6C9-A6E9-4BE2-B170-766A819931E1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ccffff"/>
                </a:solidFill>
                <a:uFillTx/>
                <a:latin typeface="Tahoma"/>
              </a:rPr>
              <a:t>Terms and Concepts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6960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Event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An event is the specification of a significant occurrence that has a location in time and space.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Activity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An activity is an ongoing non-atomic execution within a state machine.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Action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An action is an atomic execution within a state machine that results in a change of state or the return of a value.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16FBD-F332-4302-B60F-EF03177083D7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ccffff"/>
                </a:solidFill>
                <a:uFillTx/>
                <a:latin typeface="Tahoma"/>
              </a:rPr>
              <a:t>Terms and Concepts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838080" y="1143000"/>
            <a:ext cx="7320240" cy="4381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F31BC-219D-4718-806F-D0DF01DF0B47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Tahoma"/>
              </a:rPr>
              <a:t>Introductio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1042920" y="1157400"/>
            <a:ext cx="7058160" cy="4543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E2987-6D64-478C-9958-AE4DEBCA799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Tahoma"/>
              </a:rPr>
              <a:t>Terms and Concepts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837720"/>
            <a:ext cx="76960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States 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A state is a condition or situation during the life of an object in which it satisfies some condition, performs some activity, or waits for some event.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A state may include …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Name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Entry/exit actions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Internal transitions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Activities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Substates - may sequential or concurrent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Deferred events (infrequently used)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DD85D-7517-414F-9A90-A2873CE6EB0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Tahoma"/>
              </a:rPr>
              <a:t>Terms and Concepts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tates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Special categories of states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ecff"/>
                </a:solidFill>
                <a:uFillTx/>
                <a:latin typeface="Tahoma"/>
              </a:rPr>
              <a:t>Initial state</a:t>
            </a: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 - indicates the initial starting state for for the state machine or a substate.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ecff"/>
                </a:solidFill>
                <a:uFillTx/>
                <a:latin typeface="Tahoma"/>
              </a:rPr>
              <a:t>Final state</a:t>
            </a: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 - indicates the state machine’s execution has completed.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ccec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Real-time state machines frequently do not include a final state.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Neither initial or final states contain any of the parts found in traditional states.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6F148-CA1B-41EA-B87A-D3182ED3782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Tahoma"/>
              </a:rPr>
              <a:t>Terms and Concepts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219320" y="1295280"/>
            <a:ext cx="6858000" cy="3762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8342A-EDE7-4851-B683-5A4092FBF48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Tahoma"/>
              </a:rPr>
              <a:t>Terms and Concepts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838080"/>
            <a:ext cx="76960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Transition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A directed relationship between two states.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A flow of control through a statechart diagram.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Contains five parts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Source state - current state before transition fires.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Event trigger - external stimulus that has the potential to cause a transition to fire. 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Guard condition - a condition that must be satisfied before a transition can fire.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Action - an executable atomic computation.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Target state - new state after transition fires.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823FB-FAE2-42A3-8302-C6CEEF09438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Tahoma"/>
              </a:rPr>
              <a:t>Terms and Concepts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204920" y="838080"/>
            <a:ext cx="6734160" cy="5181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15A90-F50B-4DBA-8E0D-11C56155ADC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Tahoma"/>
              </a:rPr>
              <a:t>Terms and Concepts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6960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Advanced States and Transitions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ecff"/>
                </a:solidFill>
                <a:uFillTx/>
                <a:latin typeface="Tahoma"/>
              </a:rPr>
              <a:t>Entry action</a:t>
            </a: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 - Upon each entry to a state, a specified action is automatically executed.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yntax (to be placed inside the state symbol):                           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ccecff"/>
                </a:solidFill>
                <a:latin typeface="Tahoma"/>
              </a:rPr>
              <a:t>entry / action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ecff"/>
                </a:solidFill>
                <a:uFillTx/>
                <a:latin typeface="Tahoma"/>
              </a:rPr>
              <a:t>Exit action</a:t>
            </a: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 - Just prior to leaving a state, a specified action is automatically executed.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yntax (to be placed inside the state symbol):                           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           </a:t>
            </a:r>
            <a:r>
              <a:rPr b="1" lang="en-US" sz="2000" spc="-1" strike="noStrike">
                <a:solidFill>
                  <a:srgbClr val="ccecff"/>
                </a:solidFill>
                <a:latin typeface="Tahoma"/>
              </a:rPr>
              <a:t>exit / action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21D6C-6107-4C18-877F-2CD8F45E756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1T19:42:34Z</dcterms:created>
  <dc:creator>Don &amp; Holley Evans</dc:creator>
  <dc:description/>
  <dc:language>en-US</dc:language>
  <cp:lastModifiedBy>Don Evans</cp:lastModifiedBy>
  <cp:lastPrinted>2000-01-02T16:02:48Z</cp:lastPrinted>
  <dcterms:modified xsi:type="dcterms:W3CDTF">2001-08-12T20:04:52Z</dcterms:modified>
  <cp:revision>338</cp:revision>
  <dc:subject/>
  <dc:title>The Unified Modeling Language User Guide</dc:title>
</cp:coreProperties>
</file>