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586913" cy="7300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5C76-C075-46BF-BF3E-4E72A360A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64B1-E515-46DD-8D5F-A5B1CA2E1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575A-2826-4558-9BBC-90B70C2C3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868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000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868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000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97F7-6056-4B33-8A03-5E83B35F5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69E4-5B1B-4111-81E0-40202CF725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8F48-73F4-43E8-A824-C713B9DF12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84E6-CD8A-4681-BE77-8FCE213538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197C-6593-47B7-8760-BC2032D1F6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A9F01-0957-410D-A11E-BECB799E84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61DE-D9DE-449A-8D48-2AA2E13A94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B12D-9A91-4595-8106-A904622E5B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9528-2CFA-434D-A736-428DAC982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F0DFD-D0F3-4C5F-9944-1B2B03FBA4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4501-98AD-42EF-90B8-73D639A8D5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04BCE-9E5F-4EB9-8CB1-9CF54870A4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13BEA-A8BE-4329-91AB-DC257925B2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868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0000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772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868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0000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0FD7-FEAC-4B4C-9356-584FF0DFA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8BE6-07F0-48AB-9003-19E7739CC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DD56-E7D2-411D-936C-93BF4A238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BA2E-0F56-4F68-8D93-8CBE8DC17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1B99-0EE1-4C2C-9852-63808FA9F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A1F1-8AAB-4AD0-AE2B-CC340BB2D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4AEA-4653-4012-9016-3EBF811B33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2002-C542-47E2-AA4D-34822DA89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5865-DBFE-4320-8905-AFB67B21385A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69A1-0D56-41F8-9C6D-DD56B33541BA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AU" sz="4400" spc="-1" strike="noStrike">
                <a:solidFill>
                  <a:srgbClr val="ff0000"/>
                </a:solidFill>
                <a:latin typeface="Tahoma"/>
              </a:rPr>
              <a:t>Use Case Diagrams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5F43-CBD1-4DB0-87B3-B631E52D76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Arial"/>
              </a:rPr>
              <a:t>Use Case Diagram – Example1 (Library)</a:t>
            </a:r>
            <a:endParaRPr b="0" lang="en-US" sz="40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373920" y="617220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brar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3440" y="1371600"/>
            <a:ext cx="235584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52640" y="1906560"/>
            <a:ext cx="363240" cy="731520"/>
            <a:chOff x="1952640" y="1906560"/>
            <a:chExt cx="363240" cy="731520"/>
          </a:xfrm>
        </p:grpSpPr>
        <p:sp>
          <p:nvSpPr>
            <p:cNvPr id="170" name=""/>
            <p:cNvSpPr/>
            <p:nvPr/>
          </p:nvSpPr>
          <p:spPr>
            <a:xfrm>
              <a:off x="2043000" y="1906560"/>
              <a:ext cx="18216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4080" y="208944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43000" y="2455200"/>
              <a:ext cx="18216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52640" y="2180880"/>
              <a:ext cx="36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939000" y="4351320"/>
            <a:ext cx="361440" cy="731520"/>
            <a:chOff x="6939000" y="4351320"/>
            <a:chExt cx="361440" cy="731520"/>
          </a:xfrm>
        </p:grpSpPr>
        <p:sp>
          <p:nvSpPr>
            <p:cNvPr id="175" name=""/>
            <p:cNvSpPr/>
            <p:nvPr/>
          </p:nvSpPr>
          <p:spPr>
            <a:xfrm>
              <a:off x="7029000" y="4351320"/>
              <a:ext cx="18108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19720" y="453420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29000" y="4899960"/>
              <a:ext cx="18108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9000" y="462564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939000" y="1973160"/>
            <a:ext cx="361440" cy="731520"/>
            <a:chOff x="6939000" y="1973160"/>
            <a:chExt cx="361440" cy="731520"/>
          </a:xfrm>
        </p:grpSpPr>
        <p:sp>
          <p:nvSpPr>
            <p:cNvPr id="180" name=""/>
            <p:cNvSpPr/>
            <p:nvPr/>
          </p:nvSpPr>
          <p:spPr>
            <a:xfrm>
              <a:off x="7029000" y="1973160"/>
              <a:ext cx="18108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19720" y="215604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29000" y="2521800"/>
              <a:ext cx="18108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39000" y="224748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855960" y="2103480"/>
            <a:ext cx="1541520" cy="5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5960" y="3749760"/>
            <a:ext cx="1541520" cy="5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5960" y="4572000"/>
            <a:ext cx="154152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37000" y="2678040"/>
            <a:ext cx="95652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2920" y="2678040"/>
            <a:ext cx="158904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33200" y="5056200"/>
            <a:ext cx="169416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4520" y="1403280"/>
            <a:ext cx="226224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06600" y="2378160"/>
            <a:ext cx="135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06600" y="2468520"/>
            <a:ext cx="1403280" cy="240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487840" y="2378160"/>
            <a:ext cx="127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397120" y="2468520"/>
            <a:ext cx="1360440" cy="15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487840" y="2560680"/>
            <a:ext cx="127008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487840" y="4846680"/>
            <a:ext cx="136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397120" y="4114440"/>
            <a:ext cx="1451160" cy="63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5960" y="2925720"/>
            <a:ext cx="1541520" cy="54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06600" y="2378160"/>
            <a:ext cx="1449360" cy="82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2209680"/>
            <a:ext cx="8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b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89240" y="30481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es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6880" y="388620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Orde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4648320"/>
            <a:ext cx="1541520" cy="5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800600"/>
            <a:ext cx="139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Fine pa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DCF2A-5256-4A9C-BF5D-719751A24D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c0128"/>
                </a:solidFill>
                <a:latin typeface="Tahoma"/>
              </a:rPr>
              <a:t>Use Case Diagram for Student Assessment Management System </a:t>
            </a:r>
            <a:endParaRPr b="0" lang="en-US" sz="40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174840" y="1828800"/>
            <a:ext cx="235584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90520" y="3191040"/>
            <a:ext cx="363240" cy="731160"/>
            <a:chOff x="1190520" y="3191040"/>
            <a:chExt cx="363240" cy="731160"/>
          </a:xfrm>
        </p:grpSpPr>
        <p:sp>
          <p:nvSpPr>
            <p:cNvPr id="208" name=""/>
            <p:cNvSpPr/>
            <p:nvPr/>
          </p:nvSpPr>
          <p:spPr>
            <a:xfrm>
              <a:off x="1280880" y="3191040"/>
              <a:ext cx="18216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1960" y="3373920"/>
              <a:ext cx="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80880" y="3739320"/>
              <a:ext cx="18216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0520" y="3465000"/>
              <a:ext cx="36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710400" y="4808520"/>
            <a:ext cx="361440" cy="731520"/>
            <a:chOff x="6710400" y="4808520"/>
            <a:chExt cx="361440" cy="731520"/>
          </a:xfrm>
        </p:grpSpPr>
        <p:sp>
          <p:nvSpPr>
            <p:cNvPr id="213" name=""/>
            <p:cNvSpPr/>
            <p:nvPr/>
          </p:nvSpPr>
          <p:spPr>
            <a:xfrm>
              <a:off x="6800400" y="4808520"/>
              <a:ext cx="18108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91120" y="499140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00400" y="5357160"/>
              <a:ext cx="18108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10400" y="508284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710400" y="2430360"/>
            <a:ext cx="361440" cy="731520"/>
            <a:chOff x="6710400" y="2430360"/>
            <a:chExt cx="361440" cy="731520"/>
          </a:xfrm>
        </p:grpSpPr>
        <p:sp>
          <p:nvSpPr>
            <p:cNvPr id="218" name=""/>
            <p:cNvSpPr/>
            <p:nvPr/>
          </p:nvSpPr>
          <p:spPr>
            <a:xfrm>
              <a:off x="6800400" y="2430360"/>
              <a:ext cx="18108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91120" y="261324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00400" y="2979000"/>
              <a:ext cx="18108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10400" y="270468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627360" y="2560680"/>
            <a:ext cx="1541520" cy="5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4114800"/>
            <a:ext cx="1523880" cy="669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27360" y="5029200"/>
            <a:ext cx="154152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3440" y="3962520"/>
            <a:ext cx="132660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30880" y="3135240"/>
            <a:ext cx="130536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63520" y="5513400"/>
            <a:ext cx="336888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55920" y="1860480"/>
            <a:ext cx="226224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76520" y="2835360"/>
            <a:ext cx="1860480" cy="82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3657600"/>
            <a:ext cx="19810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257800" y="2835360"/>
            <a:ext cx="1271520" cy="82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257800" y="5303880"/>
            <a:ext cx="1362240" cy="10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181480" y="3733560"/>
            <a:ext cx="1438560" cy="14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27360" y="3382920"/>
            <a:ext cx="1541520" cy="54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3657600"/>
            <a:ext cx="195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2514600"/>
            <a:ext cx="816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ecord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42480" y="35053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iew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70560" y="4143240"/>
            <a:ext cx="13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is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eport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5105520"/>
            <a:ext cx="154152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5257800"/>
            <a:ext cx="155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reate report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4854-C3BD-409D-94DC-E2792EDA5FE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Vs Scenario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ach use case is one or more scenarios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Subject Use Cas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enario 1 : Subject gets added successfu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enario 2 : Adding the subject fails since the subject is already in the datab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roll  Subject Use C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enario 1 : Student is enrolled for the subjec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enario 2 : Enrollment fails since the student is already enrolled in the su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ach scenario has a sequence of steps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AF24-3CB2-4AC1-831D-98480A320E0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Scenario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ach scenario has a sequence of steps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cenario 1 : Student is enrolled for the subjec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Student chooses the “enroll subject” 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Check the student has enrolled in less than 10 su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Check if the subject is val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Assign the subject to the stud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5452B-816E-4B31-B359-6FD028413F9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Scenario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ach scenario has a sequence of steps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cenario 2 : Enrolling fails since the student is already enrolled in 10 sub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Student chooses the “enroll subject” 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Check the student has enrolled in less than 10 su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Return an error message to the stud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FD62-8D52-4D39-A4BA-2452E1F05B7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Diagrams - Relationships  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nclus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lusion enables to reuse one use case's steps inside another use c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tens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lows creating a new use case by adding steps to existing use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Generaliza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lows child use cases to inherit behavior from parent use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12717-3DF2-4D65-AA7C-7B403AF1C30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ahoma"/>
              </a:rPr>
              <a:t>Use Case – Example (self service machine)</a:t>
            </a:r>
            <a:endParaRPr b="0" lang="en-US" sz="40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844640" y="4343400"/>
            <a:ext cx="26668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25320" y="4865760"/>
            <a:ext cx="304560" cy="609120"/>
            <a:chOff x="625320" y="4865760"/>
            <a:chExt cx="304560" cy="609120"/>
          </a:xfrm>
        </p:grpSpPr>
        <p:sp>
          <p:nvSpPr>
            <p:cNvPr id="252" name=""/>
            <p:cNvSpPr/>
            <p:nvPr/>
          </p:nvSpPr>
          <p:spPr>
            <a:xfrm>
              <a:off x="701280" y="486576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7600" y="501804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280" y="53226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320" y="5094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225520" y="5029200"/>
            <a:ext cx="19814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95360" y="508464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6160" y="55576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96920" y="4446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servic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656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20960" y="2209680"/>
            <a:ext cx="266688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01640" y="2732040"/>
            <a:ext cx="304560" cy="609120"/>
            <a:chOff x="701640" y="2732040"/>
            <a:chExt cx="304560" cy="609120"/>
          </a:xfrm>
        </p:grpSpPr>
        <p:sp>
          <p:nvSpPr>
            <p:cNvPr id="263" name=""/>
            <p:cNvSpPr/>
            <p:nvPr/>
          </p:nvSpPr>
          <p:spPr>
            <a:xfrm>
              <a:off x="777600" y="273204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920" y="28843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7600" y="318888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1640" y="2960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301840" y="2895480"/>
            <a:ext cx="19810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12440" y="29512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y a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6000" y="34243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73240" y="23130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servic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82520" y="3124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3048120"/>
            <a:ext cx="26668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87840" y="3664080"/>
            <a:ext cx="1793880" cy="411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95160" y="371484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80120" y="313992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servic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229600" y="3429000"/>
            <a:ext cx="304560" cy="609120"/>
            <a:chOff x="8229600" y="3429000"/>
            <a:chExt cx="304560" cy="609120"/>
          </a:xfrm>
        </p:grpSpPr>
        <p:sp>
          <p:nvSpPr>
            <p:cNvPr id="277" name=""/>
            <p:cNvSpPr/>
            <p:nvPr/>
          </p:nvSpPr>
          <p:spPr>
            <a:xfrm>
              <a:off x="8305560" y="342900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1880" y="35812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05560" y="388584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29600" y="36572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754344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33240" y="4278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7B613-587D-40B7-BD9E-C4C1C847898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Use Case –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xample (self service machine – includes relationship)</a:t>
            </a:r>
            <a:endParaRPr b="0" lang="en-US" sz="3200" spc="-1" strike="noStrike">
              <a:solidFill>
                <a:srgbClr val="fc0128"/>
              </a:solidFill>
              <a:latin typeface="Tahom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917960" y="5684760"/>
            <a:ext cx="2169720" cy="944280"/>
            <a:chOff x="4917960" y="5684760"/>
            <a:chExt cx="2169720" cy="944280"/>
          </a:xfrm>
        </p:grpSpPr>
        <p:sp>
          <p:nvSpPr>
            <p:cNvPr id="285" name=""/>
            <p:cNvSpPr/>
            <p:nvPr/>
          </p:nvSpPr>
          <p:spPr>
            <a:xfrm>
              <a:off x="4917960" y="5684760"/>
              <a:ext cx="2026800" cy="94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91760" y="5968080"/>
              <a:ext cx="209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ose Mach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828800" y="4572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371600" y="2036880"/>
            <a:ext cx="1852560" cy="839160"/>
            <a:chOff x="1371600" y="2036880"/>
            <a:chExt cx="1852560" cy="839160"/>
          </a:xfrm>
        </p:grpSpPr>
        <p:sp>
          <p:nvSpPr>
            <p:cNvPr id="289" name=""/>
            <p:cNvSpPr/>
            <p:nvPr/>
          </p:nvSpPr>
          <p:spPr>
            <a:xfrm>
              <a:off x="1371600" y="2131200"/>
              <a:ext cx="1852560" cy="74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40960" y="2036880"/>
              <a:ext cx="11473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st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994280" y="3170160"/>
            <a:ext cx="2169720" cy="944280"/>
            <a:chOff x="4994280" y="3170160"/>
            <a:chExt cx="2169720" cy="944280"/>
          </a:xfrm>
        </p:grpSpPr>
        <p:sp>
          <p:nvSpPr>
            <p:cNvPr id="292" name=""/>
            <p:cNvSpPr/>
            <p:nvPr/>
          </p:nvSpPr>
          <p:spPr>
            <a:xfrm>
              <a:off x="4994280" y="3170160"/>
              <a:ext cx="2026800" cy="94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68080" y="3453480"/>
              <a:ext cx="209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ose Mach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068800" y="1752480"/>
            <a:ext cx="2169720" cy="944280"/>
            <a:chOff x="5068800" y="1752480"/>
            <a:chExt cx="2169720" cy="944280"/>
          </a:xfrm>
        </p:grpSpPr>
        <p:sp>
          <p:nvSpPr>
            <p:cNvPr id="295" name=""/>
            <p:cNvSpPr/>
            <p:nvPr/>
          </p:nvSpPr>
          <p:spPr>
            <a:xfrm>
              <a:off x="5068800" y="1752480"/>
              <a:ext cx="2026800" cy="94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42600" y="2035800"/>
              <a:ext cx="209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en Mach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V="1">
            <a:off x="3219480" y="2130120"/>
            <a:ext cx="1849320" cy="37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46400" y="2697120"/>
            <a:ext cx="1882800" cy="960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3352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&lt;includes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92920" y="175248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4551480"/>
            <a:ext cx="1852560" cy="839160"/>
            <a:chOff x="1295280" y="4551480"/>
            <a:chExt cx="1852560" cy="839160"/>
          </a:xfrm>
        </p:grpSpPr>
        <p:sp>
          <p:nvSpPr>
            <p:cNvPr id="302" name=""/>
            <p:cNvSpPr/>
            <p:nvPr/>
          </p:nvSpPr>
          <p:spPr>
            <a:xfrm>
              <a:off x="1295280" y="4645800"/>
              <a:ext cx="1852560" cy="74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64640" y="4551480"/>
              <a:ext cx="11473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ll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992840" y="4267080"/>
            <a:ext cx="2169720" cy="944280"/>
            <a:chOff x="4992840" y="4267080"/>
            <a:chExt cx="2169720" cy="944280"/>
          </a:xfrm>
        </p:grpSpPr>
        <p:sp>
          <p:nvSpPr>
            <p:cNvPr id="305" name=""/>
            <p:cNvSpPr/>
            <p:nvPr/>
          </p:nvSpPr>
          <p:spPr>
            <a:xfrm>
              <a:off x="4992840" y="4267080"/>
              <a:ext cx="2026800" cy="94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66640" y="4550400"/>
              <a:ext cx="209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en Mach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V="1">
            <a:off x="3143160" y="4644720"/>
            <a:ext cx="1849680" cy="37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70080" y="5211720"/>
            <a:ext cx="1847880" cy="944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69000" y="577836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16960" y="426708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5B7B-1E17-4011-9B1C-E01AD407C7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Use Case –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xample (self service machine – extends relationship)</a:t>
            </a:r>
            <a:endParaRPr b="0" lang="en-US" sz="3200" spc="-1" strike="noStrike">
              <a:solidFill>
                <a:srgbClr val="fc0128"/>
              </a:solidFill>
              <a:latin typeface="Tahoma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065960" y="1752480"/>
            <a:ext cx="6172560" cy="4038840"/>
            <a:chOff x="1065960" y="1752480"/>
            <a:chExt cx="6172560" cy="4038840"/>
          </a:xfrm>
        </p:grpSpPr>
        <p:sp>
          <p:nvSpPr>
            <p:cNvPr id="313" name=""/>
            <p:cNvSpPr/>
            <p:nvPr/>
          </p:nvSpPr>
          <p:spPr>
            <a:xfrm>
              <a:off x="1828800" y="4572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1371600" y="2036880"/>
              <a:ext cx="1852560" cy="839160"/>
              <a:chOff x="1371600" y="2036880"/>
              <a:chExt cx="1852560" cy="839160"/>
            </a:xfrm>
          </p:grpSpPr>
          <p:sp>
            <p:nvSpPr>
              <p:cNvPr id="315" name=""/>
              <p:cNvSpPr/>
              <p:nvPr/>
            </p:nvSpPr>
            <p:spPr>
              <a:xfrm>
                <a:off x="1371600" y="2131200"/>
                <a:ext cx="1852560" cy="74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40960" y="2036880"/>
                <a:ext cx="114732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stoc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994280" y="3170160"/>
              <a:ext cx="2169720" cy="944280"/>
              <a:chOff x="4994280" y="3170160"/>
              <a:chExt cx="2169720" cy="944280"/>
            </a:xfrm>
          </p:grpSpPr>
          <p:sp>
            <p:nvSpPr>
              <p:cNvPr id="318" name=""/>
              <p:cNvSpPr/>
              <p:nvPr/>
            </p:nvSpPr>
            <p:spPr>
              <a:xfrm>
                <a:off x="4994280" y="3170160"/>
                <a:ext cx="2026800" cy="94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068080" y="3453480"/>
                <a:ext cx="209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lose Mach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068800" y="1752480"/>
              <a:ext cx="2169720" cy="944280"/>
              <a:chOff x="5068800" y="1752480"/>
              <a:chExt cx="2169720" cy="944280"/>
            </a:xfrm>
          </p:grpSpPr>
          <p:sp>
            <p:nvSpPr>
              <p:cNvPr id="321" name=""/>
              <p:cNvSpPr/>
              <p:nvPr/>
            </p:nvSpPr>
            <p:spPr>
              <a:xfrm>
                <a:off x="5068800" y="1752480"/>
                <a:ext cx="2026800" cy="94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42600" y="2035800"/>
                <a:ext cx="209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pen Mach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V="1">
              <a:off x="3219480" y="2130120"/>
              <a:ext cx="1849320" cy="377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46400" y="2697120"/>
              <a:ext cx="1847880" cy="944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45320" y="3263760"/>
              <a:ext cx="160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&lt;includes&gt;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92920" y="1752480"/>
              <a:ext cx="160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&lt;includes&gt;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7920" y="4633920"/>
              <a:ext cx="2895480" cy="11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1920" y="4419720"/>
              <a:ext cx="21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49960" y="4876920"/>
              <a:ext cx="237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stock Accord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514600" y="2819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5960" y="3886200"/>
              <a:ext cx="15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&lt;extends&gt;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9B61-9B3A-4BD4-AD95-0982F8BCE57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se Case –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xample (self service machine – generalize relationship): Actor-to-Actor relationship</a:t>
            </a:r>
            <a:endParaRPr b="0" lang="en-US" sz="2800" spc="-1" strike="noStrike">
              <a:solidFill>
                <a:srgbClr val="fc0128"/>
              </a:solidFill>
              <a:latin typeface="Tahoma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700440" y="1447920"/>
            <a:ext cx="1446480" cy="1827720"/>
            <a:chOff x="3700440" y="1447920"/>
            <a:chExt cx="1446480" cy="1827720"/>
          </a:xfrm>
        </p:grpSpPr>
        <p:sp>
          <p:nvSpPr>
            <p:cNvPr id="334" name=""/>
            <p:cNvSpPr/>
            <p:nvPr/>
          </p:nvSpPr>
          <p:spPr>
            <a:xfrm>
              <a:off x="4061160" y="144792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23680" y="19051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61160" y="281844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0440" y="213300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414440" y="3962520"/>
            <a:ext cx="1446480" cy="1827720"/>
            <a:chOff x="1414440" y="3962520"/>
            <a:chExt cx="1446480" cy="1827720"/>
          </a:xfrm>
        </p:grpSpPr>
        <p:sp>
          <p:nvSpPr>
            <p:cNvPr id="339" name=""/>
            <p:cNvSpPr/>
            <p:nvPr/>
          </p:nvSpPr>
          <p:spPr>
            <a:xfrm>
              <a:off x="1775160" y="396252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7680" y="44197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75160" y="533304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14440" y="464760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367320" y="3809880"/>
            <a:ext cx="1446480" cy="1827720"/>
            <a:chOff x="6367320" y="3809880"/>
            <a:chExt cx="1446480" cy="1827720"/>
          </a:xfrm>
        </p:grpSpPr>
        <p:sp>
          <p:nvSpPr>
            <p:cNvPr id="344" name=""/>
            <p:cNvSpPr/>
            <p:nvPr/>
          </p:nvSpPr>
          <p:spPr>
            <a:xfrm>
              <a:off x="6728040" y="380988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90560" y="426708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28040" y="518040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67320" y="449496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548160" y="3886200"/>
            <a:ext cx="21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29720" y="57546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67320" y="57913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58960" y="3259080"/>
            <a:ext cx="1093320" cy="948600"/>
            <a:chOff x="2658960" y="3259080"/>
            <a:chExt cx="1093320" cy="948600"/>
          </a:xfrm>
        </p:grpSpPr>
        <p:sp>
          <p:nvSpPr>
            <p:cNvPr id="352" name=""/>
            <p:cNvSpPr/>
            <p:nvPr/>
          </p:nvSpPr>
          <p:spPr>
            <a:xfrm flipV="1">
              <a:off x="2658960" y="3681000"/>
              <a:ext cx="607320" cy="52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16160" y="3508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16160" y="3508560"/>
              <a:ext cx="2995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116520" y="3259080"/>
              <a:ext cx="63576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415680" y="3259080"/>
              <a:ext cx="3366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986360" y="3353400"/>
            <a:ext cx="1313280" cy="608040"/>
            <a:chOff x="4986360" y="3353400"/>
            <a:chExt cx="1313280" cy="608040"/>
          </a:xfrm>
        </p:grpSpPr>
        <p:sp>
          <p:nvSpPr>
            <p:cNvPr id="358" name=""/>
            <p:cNvSpPr/>
            <p:nvPr/>
          </p:nvSpPr>
          <p:spPr>
            <a:xfrm flipH="1" flipV="1">
              <a:off x="5570640" y="3623760"/>
              <a:ext cx="729000" cy="3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74520" y="383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474520" y="3416760"/>
              <a:ext cx="1918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4986360" y="3353400"/>
              <a:ext cx="48780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986360" y="3353400"/>
              <a:ext cx="67968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7600" y="2057400"/>
            <a:ext cx="18403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eneralized 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4400" y="4952880"/>
            <a:ext cx="1273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specializ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B7233-8F1E-42D7-8F8D-DA2C3197C77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Getting started is the most difficulty part of any new process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In software modelling, the first thing you need to do is understand what are you going to model and ultimately develop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reating a highest form details about a system--use case diagram--is an almost natural point of origin for the software design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A use case diagram is an excellent way to communicate to management, customers, and other non-development people what a system will do when it is completed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C25E-2566-4012-AE87-97C4B9C2767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se Case –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xample (self service machine – generalize relationship): Actor-to-Actor relationship – example 2</a:t>
            </a:r>
            <a:endParaRPr b="0" lang="en-US" sz="2800" spc="-1" strike="noStrike">
              <a:solidFill>
                <a:srgbClr val="fc0128"/>
              </a:solidFill>
              <a:latin typeface="Tahom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700440" y="1447920"/>
            <a:ext cx="1446480" cy="1827720"/>
            <a:chOff x="3700440" y="1447920"/>
            <a:chExt cx="1446480" cy="1827720"/>
          </a:xfrm>
        </p:grpSpPr>
        <p:sp>
          <p:nvSpPr>
            <p:cNvPr id="367" name=""/>
            <p:cNvSpPr/>
            <p:nvPr/>
          </p:nvSpPr>
          <p:spPr>
            <a:xfrm>
              <a:off x="4061160" y="144792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23680" y="19051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61160" y="281844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00440" y="213300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414440" y="3962520"/>
            <a:ext cx="1446480" cy="1827720"/>
            <a:chOff x="1414440" y="3962520"/>
            <a:chExt cx="1446480" cy="1827720"/>
          </a:xfrm>
        </p:grpSpPr>
        <p:sp>
          <p:nvSpPr>
            <p:cNvPr id="372" name=""/>
            <p:cNvSpPr/>
            <p:nvPr/>
          </p:nvSpPr>
          <p:spPr>
            <a:xfrm>
              <a:off x="1775160" y="396252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37680" y="44197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75160" y="533304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14440" y="464760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367320" y="3809880"/>
            <a:ext cx="1446480" cy="1827720"/>
            <a:chOff x="6367320" y="3809880"/>
            <a:chExt cx="1446480" cy="1827720"/>
          </a:xfrm>
        </p:grpSpPr>
        <p:sp>
          <p:nvSpPr>
            <p:cNvPr id="377" name=""/>
            <p:cNvSpPr/>
            <p:nvPr/>
          </p:nvSpPr>
          <p:spPr>
            <a:xfrm>
              <a:off x="6728040" y="380988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0560" y="426708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28040" y="518040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67320" y="449496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929040" y="358128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373760" y="57546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 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67320" y="5791320"/>
            <a:ext cx="19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her 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658960" y="3259080"/>
            <a:ext cx="1093320" cy="948600"/>
            <a:chOff x="2658960" y="3259080"/>
            <a:chExt cx="1093320" cy="948600"/>
          </a:xfrm>
        </p:grpSpPr>
        <p:sp>
          <p:nvSpPr>
            <p:cNvPr id="385" name=""/>
            <p:cNvSpPr/>
            <p:nvPr/>
          </p:nvSpPr>
          <p:spPr>
            <a:xfrm flipV="1">
              <a:off x="2658960" y="3681000"/>
              <a:ext cx="607320" cy="52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6160" y="3508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6160" y="3508560"/>
              <a:ext cx="2995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116520" y="3259080"/>
              <a:ext cx="63576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415680" y="3259080"/>
              <a:ext cx="3366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986360" y="3353400"/>
            <a:ext cx="1313280" cy="608040"/>
            <a:chOff x="4986360" y="3353400"/>
            <a:chExt cx="1313280" cy="608040"/>
          </a:xfrm>
        </p:grpSpPr>
        <p:sp>
          <p:nvSpPr>
            <p:cNvPr id="391" name=""/>
            <p:cNvSpPr/>
            <p:nvPr/>
          </p:nvSpPr>
          <p:spPr>
            <a:xfrm flipH="1" flipV="1">
              <a:off x="5570640" y="3623760"/>
              <a:ext cx="729000" cy="3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74520" y="383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474520" y="3416760"/>
              <a:ext cx="1918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4986360" y="3353400"/>
              <a:ext cx="48780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4986360" y="3353400"/>
              <a:ext cx="67968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777600" y="2057400"/>
            <a:ext cx="18403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eneralized 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4400" y="4952880"/>
            <a:ext cx="1273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specializ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60901-A57C-4BF6-A880-0C32E7EF26A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371600" y="1523880"/>
            <a:ext cx="7315200" cy="510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ahoma"/>
              </a:rPr>
              <a:t>Use Case – Example (self service machine)</a:t>
            </a:r>
            <a:endParaRPr b="0" lang="en-US" sz="40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5791320"/>
            <a:ext cx="1565280" cy="74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29440" y="601488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06760" y="486576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112920" y="3025800"/>
            <a:ext cx="1592280" cy="609120"/>
            <a:chOff x="3112920" y="3025800"/>
            <a:chExt cx="1592280" cy="609120"/>
          </a:xfrm>
        </p:grpSpPr>
        <p:sp>
          <p:nvSpPr>
            <p:cNvPr id="405" name=""/>
            <p:cNvSpPr/>
            <p:nvPr/>
          </p:nvSpPr>
          <p:spPr>
            <a:xfrm>
              <a:off x="3112920" y="3094200"/>
              <a:ext cx="1592280" cy="54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30440" y="3025800"/>
              <a:ext cx="986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to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224760" y="3848040"/>
            <a:ext cx="1864800" cy="685800"/>
            <a:chOff x="6224760" y="3848040"/>
            <a:chExt cx="1864800" cy="685800"/>
          </a:xfrm>
        </p:grpSpPr>
        <p:sp>
          <p:nvSpPr>
            <p:cNvPr id="408" name=""/>
            <p:cNvSpPr/>
            <p:nvPr/>
          </p:nvSpPr>
          <p:spPr>
            <a:xfrm>
              <a:off x="6224760" y="3848040"/>
              <a:ext cx="174204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8120" y="4053600"/>
              <a:ext cx="18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Mach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289560" y="2819520"/>
            <a:ext cx="1863360" cy="685800"/>
            <a:chOff x="6289560" y="2819520"/>
            <a:chExt cx="1863360" cy="685800"/>
          </a:xfrm>
        </p:grpSpPr>
        <p:sp>
          <p:nvSpPr>
            <p:cNvPr id="411" name=""/>
            <p:cNvSpPr/>
            <p:nvPr/>
          </p:nvSpPr>
          <p:spPr>
            <a:xfrm>
              <a:off x="6289560" y="2819520"/>
              <a:ext cx="17406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52920" y="302508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 Mach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 flipV="1">
            <a:off x="4700520" y="3094200"/>
            <a:ext cx="1589040" cy="27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38600" y="3505320"/>
            <a:ext cx="1616040" cy="696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26040" y="397980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66400" y="285444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048120" y="4849920"/>
            <a:ext cx="1590480" cy="609120"/>
            <a:chOff x="3048120" y="4849920"/>
            <a:chExt cx="1590480" cy="609120"/>
          </a:xfrm>
        </p:grpSpPr>
        <p:sp>
          <p:nvSpPr>
            <p:cNvPr id="418" name=""/>
            <p:cNvSpPr/>
            <p:nvPr/>
          </p:nvSpPr>
          <p:spPr>
            <a:xfrm>
              <a:off x="3048120" y="4918320"/>
              <a:ext cx="1590480" cy="54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65280" y="4849920"/>
              <a:ext cx="98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ll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224760" y="4643280"/>
            <a:ext cx="1863360" cy="685800"/>
            <a:chOff x="6224760" y="4643280"/>
            <a:chExt cx="1863360" cy="685800"/>
          </a:xfrm>
        </p:grpSpPr>
        <p:sp>
          <p:nvSpPr>
            <p:cNvPr id="421" name=""/>
            <p:cNvSpPr/>
            <p:nvPr/>
          </p:nvSpPr>
          <p:spPr>
            <a:xfrm>
              <a:off x="6224760" y="4643280"/>
              <a:ext cx="17406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88120" y="484884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 Mach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 flipV="1">
            <a:off x="4635360" y="4917600"/>
            <a:ext cx="1589400" cy="274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0" y="5329080"/>
            <a:ext cx="158760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74160" y="57754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701240" y="46782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200400" y="1752480"/>
            <a:ext cx="2057040" cy="609480"/>
            <a:chOff x="3200400" y="1752480"/>
            <a:chExt cx="2057040" cy="609480"/>
          </a:xfrm>
        </p:grpSpPr>
        <p:sp>
          <p:nvSpPr>
            <p:cNvPr id="428" name=""/>
            <p:cNvSpPr/>
            <p:nvPr/>
          </p:nvSpPr>
          <p:spPr>
            <a:xfrm>
              <a:off x="3200400" y="1820880"/>
              <a:ext cx="20570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10440" y="1752480"/>
              <a:ext cx="12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uy a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600200" y="4267080"/>
            <a:ext cx="3056040" cy="5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4343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tock according to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048120" y="365724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07880" y="4343400"/>
            <a:ext cx="258840" cy="545760"/>
            <a:chOff x="407880" y="4343400"/>
            <a:chExt cx="258840" cy="545760"/>
          </a:xfrm>
        </p:grpSpPr>
        <p:sp>
          <p:nvSpPr>
            <p:cNvPr id="434" name=""/>
            <p:cNvSpPr/>
            <p:nvPr/>
          </p:nvSpPr>
          <p:spPr>
            <a:xfrm>
              <a:off x="472320" y="4343400"/>
              <a:ext cx="129600" cy="13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7120" y="447984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320" y="4752720"/>
              <a:ext cx="129600" cy="136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7880" y="454788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0" y="5092560"/>
            <a:ext cx="258840" cy="545760"/>
            <a:chOff x="0" y="5092560"/>
            <a:chExt cx="258840" cy="545760"/>
          </a:xfrm>
        </p:grpSpPr>
        <p:sp>
          <p:nvSpPr>
            <p:cNvPr id="439" name=""/>
            <p:cNvSpPr/>
            <p:nvPr/>
          </p:nvSpPr>
          <p:spPr>
            <a:xfrm>
              <a:off x="64440" y="5092560"/>
              <a:ext cx="129600" cy="13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9240" y="522900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440" y="5501880"/>
              <a:ext cx="129600" cy="136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29704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884160" y="5048280"/>
            <a:ext cx="258840" cy="543960"/>
            <a:chOff x="884160" y="5048280"/>
            <a:chExt cx="258840" cy="543960"/>
          </a:xfrm>
        </p:grpSpPr>
        <p:sp>
          <p:nvSpPr>
            <p:cNvPr id="444" name=""/>
            <p:cNvSpPr/>
            <p:nvPr/>
          </p:nvSpPr>
          <p:spPr>
            <a:xfrm>
              <a:off x="948600" y="5048280"/>
              <a:ext cx="129600" cy="13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13400" y="5184360"/>
              <a:ext cx="0" cy="2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48600" y="5456160"/>
              <a:ext cx="129600" cy="136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4160" y="525204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380880" y="5070600"/>
            <a:ext cx="39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22480" y="4939920"/>
            <a:ext cx="195120" cy="169920"/>
            <a:chOff x="222480" y="4939920"/>
            <a:chExt cx="195120" cy="169920"/>
          </a:xfrm>
        </p:grpSpPr>
        <p:sp>
          <p:nvSpPr>
            <p:cNvPr id="450" name=""/>
            <p:cNvSpPr/>
            <p:nvPr/>
          </p:nvSpPr>
          <p:spPr>
            <a:xfrm flipV="1">
              <a:off x="222480" y="5015520"/>
              <a:ext cx="10836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6560" y="496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6560" y="4965120"/>
              <a:ext cx="8820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86560" y="4940280"/>
              <a:ext cx="13104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74760" y="4939920"/>
              <a:ext cx="424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36840" y="4933800"/>
            <a:ext cx="234720" cy="124560"/>
            <a:chOff x="636840" y="4933800"/>
            <a:chExt cx="234720" cy="124560"/>
          </a:xfrm>
        </p:grpSpPr>
        <p:sp>
          <p:nvSpPr>
            <p:cNvPr id="456" name=""/>
            <p:cNvSpPr/>
            <p:nvPr/>
          </p:nvSpPr>
          <p:spPr>
            <a:xfrm flipH="1" flipV="1">
              <a:off x="741240" y="4996080"/>
              <a:ext cx="13032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2800" y="5058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12800" y="4934160"/>
              <a:ext cx="5760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636840" y="4947840"/>
              <a:ext cx="756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36840" y="4933800"/>
              <a:ext cx="1332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 flipV="1">
            <a:off x="838080" y="3428640"/>
            <a:ext cx="22860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14400" y="4572000"/>
            <a:ext cx="21337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33520" y="2209680"/>
            <a:ext cx="258480" cy="545760"/>
            <a:chOff x="533520" y="2209680"/>
            <a:chExt cx="258480" cy="545760"/>
          </a:xfrm>
        </p:grpSpPr>
        <p:sp>
          <p:nvSpPr>
            <p:cNvPr id="464" name=""/>
            <p:cNvSpPr/>
            <p:nvPr/>
          </p:nvSpPr>
          <p:spPr>
            <a:xfrm>
              <a:off x="597960" y="2209680"/>
              <a:ext cx="129240" cy="13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2760" y="234612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7960" y="2619000"/>
              <a:ext cx="129240" cy="136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3520" y="2414160"/>
              <a:ext cx="25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V="1">
            <a:off x="838080" y="2133720"/>
            <a:ext cx="23623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2720" y="30481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-14760" y="592308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80840" y="188280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elf Servic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978C-34F0-43D2-B163-64946AACCDB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ahoma"/>
              </a:rPr>
              <a:t>From Use Case to Classe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5D572-3B4A-4B9B-B23A-B1ED44E6CC8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Identify Classes (Extract Nouns)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fc0128"/>
                </a:solidFill>
                <a:latin typeface="Tahoma"/>
              </a:rPr>
              <a:t>Universit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rd syst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hould keep information about it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tudent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cademic staff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rd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l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university memb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to include their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iven nam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mai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ddres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ate of bir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elephone numbe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and academic staff each have their own unique ID number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tud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tudents),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ad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cademic employee), where N is an integer  (N&gt;0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ddition to the attributes mentioned abov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will also have a list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ubjec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y are enrolled in. A student cannot be enrolled in any more than 10 subject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ademic employees will have a salary, and a list of subjects they teach. An academic can teach no more than 3 su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B2B5E-B939-4D05-B20E-8502B456CD1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Nouns which are potential classe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000" spc="-1" strike="noStrike">
                <a:solidFill>
                  <a:srgbClr val="438e00"/>
                </a:solidFill>
                <a:latin typeface="Tahoma"/>
              </a:rPr>
              <a:t>University record syst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hould keep information about its </a:t>
            </a:r>
            <a:r>
              <a:rPr b="1" i="1" lang="en-US" sz="2000" spc="-1" strike="noStrike">
                <a:solidFill>
                  <a:srgbClr val="438e00"/>
                </a:solidFill>
                <a:latin typeface="Tahoma"/>
              </a:rPr>
              <a:t>student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i="1" lang="en-US" sz="2000" spc="-1" strike="noStrike">
                <a:solidFill>
                  <a:srgbClr val="438e00"/>
                </a:solidFill>
                <a:latin typeface="Tahoma"/>
              </a:rPr>
              <a:t>academic staff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rd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ll </a:t>
            </a:r>
            <a:r>
              <a:rPr b="1" i="1" lang="en-US" sz="2000" spc="-1" strike="noStrike">
                <a:solidFill>
                  <a:srgbClr val="438e00"/>
                </a:solidFill>
                <a:latin typeface="Tahoma"/>
              </a:rPr>
              <a:t>university memb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to include their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iven nam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mai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ddres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ate of bir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elephone numbe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and academic staff each have their own unique ID number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tud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tudents),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ad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cademic employee), where N is an integer  (N&gt;0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ddition to the attributes mentioned abov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will also have a list of </a:t>
            </a:r>
            <a:r>
              <a:rPr b="1" i="1" lang="en-US" sz="1800" spc="-1" strike="noStrike">
                <a:solidFill>
                  <a:srgbClr val="438e00"/>
                </a:solidFill>
                <a:latin typeface="Tahoma"/>
              </a:rPr>
              <a:t>subjects</a:t>
            </a:r>
            <a:r>
              <a:rPr b="0" lang="en-US" sz="1800" spc="-1" strike="noStrike">
                <a:solidFill>
                  <a:srgbClr val="438e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y are enrolled in. A student cannot be enrolled in any more than 10 subject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ademic employees will have a salary, and a list of subjects they teach. An academic can teach no more than 3 su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151C-BB3F-43DF-A0FD-51AB3628FC5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Classes identified in the first pas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UniversityRecordSy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 - 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Academic Sta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University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41BE-5517-4013-AEBE-195FC9C4030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RS - High Level Class Diagram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1523880"/>
            <a:ext cx="22860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67760" y="1752480"/>
            <a:ext cx="18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URS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3352680"/>
            <a:ext cx="22860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University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5334120"/>
            <a:ext cx="22860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cademic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5334120"/>
            <a:ext cx="22860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53080" y="3352680"/>
            <a:ext cx="22860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666880" y="2362320"/>
            <a:ext cx="198144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14200" y="2341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38280" y="2971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430360" y="2971800"/>
            <a:ext cx="3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68280" y="28195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h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733920" y="2895480"/>
            <a:ext cx="3045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957200" y="2362320"/>
            <a:ext cx="2804040" cy="1023120"/>
            <a:chOff x="4957200" y="2362320"/>
            <a:chExt cx="2804040" cy="1023120"/>
          </a:xfrm>
        </p:grpSpPr>
        <p:sp>
          <p:nvSpPr>
            <p:cNvPr id="494" name=""/>
            <p:cNvSpPr/>
            <p:nvPr/>
          </p:nvSpPr>
          <p:spPr>
            <a:xfrm>
              <a:off x="5029560" y="2362320"/>
              <a:ext cx="259056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57200" y="2417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69280" y="30481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68520" y="2417760"/>
              <a:ext cx="51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477120" y="274248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066680" y="4190760"/>
            <a:ext cx="3581280" cy="1143360"/>
            <a:chOff x="1066680" y="4190760"/>
            <a:chExt cx="3581280" cy="1143360"/>
          </a:xfrm>
        </p:grpSpPr>
        <p:sp>
          <p:nvSpPr>
            <p:cNvPr id="500" name=""/>
            <p:cNvSpPr/>
            <p:nvPr/>
          </p:nvSpPr>
          <p:spPr>
            <a:xfrm flipV="1">
              <a:off x="1066680" y="4876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66680" y="4876920"/>
              <a:ext cx="358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47960" y="4876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895480" y="4419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666880" y="41907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95480" y="41911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447920" y="6172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662940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8458200" y="419076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921280" y="6227640"/>
            <a:ext cx="970200" cy="337320"/>
            <a:chOff x="5921280" y="6227640"/>
            <a:chExt cx="970200" cy="337320"/>
          </a:xfrm>
        </p:grpSpPr>
        <p:sp>
          <p:nvSpPr>
            <p:cNvPr id="511" name=""/>
            <p:cNvSpPr/>
            <p:nvPr/>
          </p:nvSpPr>
          <p:spPr>
            <a:xfrm>
              <a:off x="5921280" y="62276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each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6629400" y="6324480"/>
              <a:ext cx="30456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8670960" y="4398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38480" y="43434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0.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528200" y="615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638680" y="4190760"/>
            <a:ext cx="1981080" cy="1600560"/>
            <a:chOff x="5638680" y="4190760"/>
            <a:chExt cx="1981080" cy="1600560"/>
          </a:xfrm>
        </p:grpSpPr>
        <p:sp>
          <p:nvSpPr>
            <p:cNvPr id="517" name=""/>
            <p:cNvSpPr/>
            <p:nvPr/>
          </p:nvSpPr>
          <p:spPr>
            <a:xfrm>
              <a:off x="5638680" y="579132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619760" y="419076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93680" y="5410080"/>
            <a:ext cx="824040" cy="337320"/>
            <a:chOff x="6493680" y="5410080"/>
            <a:chExt cx="824040" cy="337320"/>
          </a:xfrm>
        </p:grpSpPr>
        <p:sp>
          <p:nvSpPr>
            <p:cNvPr id="520" name=""/>
            <p:cNvSpPr/>
            <p:nvPr/>
          </p:nvSpPr>
          <p:spPr>
            <a:xfrm>
              <a:off x="6493680" y="5410080"/>
              <a:ext cx="74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ak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5400000">
              <a:off x="7089120" y="5506920"/>
              <a:ext cx="30456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5645160" y="546588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744960" y="4246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0…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855D-8192-452A-9FD3-5DEA871ADBD7}" type="slidenum">
              <a:t>26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niversity Record System (URS)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 University record system should keep information about its students and academic staff.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cords for all university members are to include their id number, surname, given name, email, address, date of birth, and telephone number. 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nd academic staff each have their own unique ID number: studN (students), acadN (academic employee), where N is an integer  (N&gt;0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addition to the attributes mentioned above: 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will also have a list of subjects they are enrolled in. A student cannot be enrolled in any more than 10 subjec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ademic employees will have a salary, and a list of subjects they teach. An academic can teach no more than 3 su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01C32-3258-4BC4-905E-EC0A15ABB76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Some Actions Supported by UR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system should be able to handle the following commands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and remove university members (students, and academic staf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and Delete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nd Un-assign  subjects to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nd Un-assign subjects to academic staf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FE96B-84C3-446C-ADE4-F7B493D446E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Diagram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Use Case diagrams show the various activities the users can perform on the system.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is something that performs a fun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y model the dynamic aspects of the system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vides a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user’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perspective of the system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76E5-8081-481A-B024-E2450A90E7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Arial"/>
              </a:rPr>
              <a:t>Use Case Diagram  - URS System</a:t>
            </a:r>
            <a:endParaRPr b="0" lang="en-US" sz="40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403440" y="1371600"/>
            <a:ext cx="235584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52640" y="1906560"/>
            <a:ext cx="363240" cy="731520"/>
            <a:chOff x="1952640" y="1906560"/>
            <a:chExt cx="363240" cy="731520"/>
          </a:xfrm>
        </p:grpSpPr>
        <p:sp>
          <p:nvSpPr>
            <p:cNvPr id="91" name=""/>
            <p:cNvSpPr/>
            <p:nvPr/>
          </p:nvSpPr>
          <p:spPr>
            <a:xfrm>
              <a:off x="2043000" y="1906560"/>
              <a:ext cx="18216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34080" y="208944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3000" y="2455200"/>
              <a:ext cx="18216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52640" y="2180880"/>
              <a:ext cx="36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939000" y="1973160"/>
            <a:ext cx="361440" cy="731520"/>
            <a:chOff x="6939000" y="1973160"/>
            <a:chExt cx="361440" cy="731520"/>
          </a:xfrm>
        </p:grpSpPr>
        <p:sp>
          <p:nvSpPr>
            <p:cNvPr id="96" name=""/>
            <p:cNvSpPr/>
            <p:nvPr/>
          </p:nvSpPr>
          <p:spPr>
            <a:xfrm>
              <a:off x="7029000" y="1973160"/>
              <a:ext cx="18108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19720" y="215604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29000" y="2521800"/>
              <a:ext cx="18108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9000" y="224748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809880" y="3048120"/>
            <a:ext cx="154152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4191120"/>
            <a:ext cx="154152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54152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28120" y="2666880"/>
            <a:ext cx="119556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47480" y="3048120"/>
            <a:ext cx="153864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26320" y="5181480"/>
            <a:ext cx="1284120" cy="1193400"/>
            <a:chOff x="6826320" y="5181480"/>
            <a:chExt cx="1284120" cy="1193400"/>
          </a:xfrm>
        </p:grpSpPr>
        <p:grpSp>
          <p:nvGrpSpPr>
            <p:cNvPr id="106" name=""/>
            <p:cNvGrpSpPr/>
            <p:nvPr/>
          </p:nvGrpSpPr>
          <p:grpSpPr>
            <a:xfrm>
              <a:off x="7311960" y="5181480"/>
              <a:ext cx="452160" cy="815760"/>
              <a:chOff x="7311960" y="5181480"/>
              <a:chExt cx="452160" cy="815760"/>
            </a:xfrm>
          </p:grpSpPr>
          <p:sp>
            <p:nvSpPr>
              <p:cNvPr id="107" name=""/>
              <p:cNvSpPr/>
              <p:nvPr/>
            </p:nvSpPr>
            <p:spPr>
              <a:xfrm>
                <a:off x="7424640" y="5181480"/>
                <a:ext cx="226440" cy="204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538040" y="5385600"/>
                <a:ext cx="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424640" y="5793120"/>
                <a:ext cx="226440" cy="2041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11960" y="5487120"/>
                <a:ext cx="45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6826320" y="5915160"/>
              <a:ext cx="1284120" cy="459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114800" y="1523880"/>
            <a:ext cx="114300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06600" y="2378160"/>
            <a:ext cx="135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2438280"/>
            <a:ext cx="1403640" cy="210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10080" y="2286000"/>
            <a:ext cx="15242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3760" y="2514600"/>
            <a:ext cx="16002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154152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2438280"/>
            <a:ext cx="12956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4800600"/>
            <a:ext cx="1541520" cy="5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514600"/>
            <a:ext cx="1541520" cy="411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2590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el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1981080"/>
            <a:ext cx="154152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5960" y="5715000"/>
            <a:ext cx="154152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5410080"/>
            <a:ext cx="1523880" cy="547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6019920"/>
            <a:ext cx="154152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1981080"/>
            <a:ext cx="20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dd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31560" y="31240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dd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7400" y="37339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el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14720" y="434340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ssg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28880" y="4932360"/>
            <a:ext cx="16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unass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000" y="55627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nrol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6172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unenrol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514600"/>
            <a:ext cx="144792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86400" y="5638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86400" y="5638680"/>
            <a:ext cx="18288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C8C2-037A-464D-9286-F9A0D50DC4D9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Diagram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 set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ACTORS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 roles users can play in interacting with the system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ctor is used to represent something that users our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 set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USE CASES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 each describes a possible kind of interaction between an actor and the system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cases are actions that a user takes on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 number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RELATIONSHIPS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between these entities (Actors and Use Cases)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ships are simply illustrated with a line connecting actors to use c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37D5-D8F3-4F79-ABF4-093219291D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Diagrams - Actor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actor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is  a user of the system playing a particular role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or is shown with a stick figure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657600" y="3733920"/>
            <a:ext cx="1827000" cy="1827720"/>
            <a:chOff x="3657600" y="3733920"/>
            <a:chExt cx="1827000" cy="1827720"/>
          </a:xfrm>
        </p:grpSpPr>
        <p:sp>
          <p:nvSpPr>
            <p:cNvPr id="141" name=""/>
            <p:cNvSpPr/>
            <p:nvPr/>
          </p:nvSpPr>
          <p:spPr>
            <a:xfrm>
              <a:off x="4113000" y="3733920"/>
              <a:ext cx="915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0920" y="41911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3000" y="5104440"/>
              <a:ext cx="9154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7600" y="4419000"/>
              <a:ext cx="18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753720" y="57913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19920" y="3657600"/>
            <a:ext cx="1827000" cy="1827720"/>
            <a:chOff x="6019920" y="3657600"/>
            <a:chExt cx="1827000" cy="1827720"/>
          </a:xfrm>
        </p:grpSpPr>
        <p:sp>
          <p:nvSpPr>
            <p:cNvPr id="147" name=""/>
            <p:cNvSpPr/>
            <p:nvPr/>
          </p:nvSpPr>
          <p:spPr>
            <a:xfrm>
              <a:off x="6475320" y="3657600"/>
              <a:ext cx="915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33240" y="41148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75320" y="5028120"/>
              <a:ext cx="9154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4342680"/>
              <a:ext cx="18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388560" y="586728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19320" y="3733920"/>
            <a:ext cx="1827000" cy="1827720"/>
            <a:chOff x="1219320" y="3733920"/>
            <a:chExt cx="1827000" cy="1827720"/>
          </a:xfrm>
        </p:grpSpPr>
        <p:sp>
          <p:nvSpPr>
            <p:cNvPr id="153" name=""/>
            <p:cNvSpPr/>
            <p:nvPr/>
          </p:nvSpPr>
          <p:spPr>
            <a:xfrm>
              <a:off x="1674720" y="3733920"/>
              <a:ext cx="915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2640" y="41911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4720" y="5104440"/>
              <a:ext cx="9154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4419000"/>
              <a:ext cx="18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312920" y="57913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93506-2E7F-4562-86F8-820F047DAB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Diagrams – Use Case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Use case is a particular activity a user can do on the system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s represented by an ellipse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llowing are two use cases for a library system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105520" y="5181480"/>
            <a:ext cx="3276360" cy="914400"/>
            <a:chOff x="5105520" y="5181480"/>
            <a:chExt cx="3276360" cy="914400"/>
          </a:xfrm>
        </p:grpSpPr>
        <p:sp>
          <p:nvSpPr>
            <p:cNvPr id="161" name=""/>
            <p:cNvSpPr/>
            <p:nvPr/>
          </p:nvSpPr>
          <p:spPr>
            <a:xfrm>
              <a:off x="5105520" y="5181480"/>
              <a:ext cx="327636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7240" y="541008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Reser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143000" y="5181480"/>
            <a:ext cx="3276360" cy="914400"/>
            <a:chOff x="1143000" y="5181480"/>
            <a:chExt cx="3276360" cy="914400"/>
          </a:xfrm>
        </p:grpSpPr>
        <p:sp>
          <p:nvSpPr>
            <p:cNvPr id="164" name=""/>
            <p:cNvSpPr/>
            <p:nvPr/>
          </p:nvSpPr>
          <p:spPr>
            <a:xfrm>
              <a:off x="1143000" y="5181480"/>
              <a:ext cx="327636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61440" y="541008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orr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8F46-7206-4D6D-B9DB-EAA3FCD6168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8T10:52:26Z</dcterms:created>
  <dc:creator>Rajkumar Buyya</dc:creator>
  <dc:description/>
  <dc:language>en-US</dc:language>
  <cp:lastModifiedBy>raj</cp:lastModifiedBy>
  <cp:lastPrinted>2009-04-22T19:24:48Z</cp:lastPrinted>
  <dcterms:modified xsi:type="dcterms:W3CDTF">2003-10-13T02:52:36Z</dcterms:modified>
  <cp:revision>187</cp:revision>
  <dc:subject/>
  <dc:title>UML</dc:title>
</cp:coreProperties>
</file>