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586913" cy="7300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01494-0AF6-4693-A5BC-A8CAC4A22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601D-14C8-43D0-8ED1-5F36015F8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BCA4B-2D65-4920-BEF7-30B5AD5BA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868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000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772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868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000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DE89-C76C-4C10-A378-9F1D8ADE7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B84A-6F09-489E-B5FB-E9CF6059C6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501F-C424-4AF1-90CD-5145715132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D2AA5-7289-49A0-9F53-9D602133C4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461B7-2C7D-4EC5-9AE7-9AB9AE2F40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B0CD-4816-4F4A-9CFC-18BA3258E9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CC293-C406-4DF1-BF04-4A5F043C9C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F5D10-DCC1-4A25-9FD5-687B79B9A5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7A59-9264-4C8F-89F8-C5F51C03A9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A640-F3D8-4D58-84BA-D301241E3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614A7-5392-4061-B113-7AFF33C1F7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FA4F1-AE35-4883-83CC-E4D9E1F761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E69BC-D374-4496-99ED-0E731CDE24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868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0000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772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868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0000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2E64-96D4-44E1-B58B-ADB432A57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0385-F3FC-4B06-A800-5126962F6B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F8615-9BBD-4A7D-AE9C-AF2F273702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CC51-EB4E-4566-B7F8-78EEE67D1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0DB4-7D63-44C5-B1F1-40EB126A5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9A32-9D37-41DC-B958-A095680CA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3CCB6-9769-43E2-BEF1-A962B9C84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03AB-9C76-4261-89C4-72FCDB5A6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2883-D41D-4093-93C0-8A4FFB72500C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72E8-2BA1-40EE-A825-B1CC55F0DAB6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AU" sz="4400" spc="-1" strike="noStrike">
                <a:solidFill>
                  <a:srgbClr val="ff0000"/>
                </a:solidFill>
                <a:latin typeface="Tahoma"/>
              </a:rPr>
              <a:t>Use Case Diagrams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22EF-27B3-436D-84BB-BA47EB893F4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Arial"/>
              </a:rPr>
              <a:t>Use Case Diagram – Example1 (Library)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373920" y="617220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brary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03440" y="1371600"/>
            <a:ext cx="235584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52640" y="1906560"/>
            <a:ext cx="363240" cy="731520"/>
            <a:chOff x="1952640" y="1906560"/>
            <a:chExt cx="363240" cy="731520"/>
          </a:xfrm>
        </p:grpSpPr>
        <p:sp>
          <p:nvSpPr>
            <p:cNvPr id="170" name=""/>
            <p:cNvSpPr/>
            <p:nvPr/>
          </p:nvSpPr>
          <p:spPr>
            <a:xfrm>
              <a:off x="2043000" y="1906560"/>
              <a:ext cx="18216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4080" y="20894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43000" y="2455200"/>
              <a:ext cx="18216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52640" y="2180880"/>
              <a:ext cx="36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939000" y="4351320"/>
            <a:ext cx="361440" cy="731520"/>
            <a:chOff x="6939000" y="4351320"/>
            <a:chExt cx="361440" cy="731520"/>
          </a:xfrm>
        </p:grpSpPr>
        <p:sp>
          <p:nvSpPr>
            <p:cNvPr id="175" name=""/>
            <p:cNvSpPr/>
            <p:nvPr/>
          </p:nvSpPr>
          <p:spPr>
            <a:xfrm>
              <a:off x="7029000" y="435132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19720" y="453420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29000" y="489996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9000" y="462564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939000" y="1973160"/>
            <a:ext cx="361440" cy="731520"/>
            <a:chOff x="6939000" y="1973160"/>
            <a:chExt cx="361440" cy="731520"/>
          </a:xfrm>
        </p:grpSpPr>
        <p:sp>
          <p:nvSpPr>
            <p:cNvPr id="180" name=""/>
            <p:cNvSpPr/>
            <p:nvPr/>
          </p:nvSpPr>
          <p:spPr>
            <a:xfrm>
              <a:off x="7029000" y="197316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119720" y="21560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29000" y="252180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39000" y="224748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855960" y="210348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5960" y="374976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5960" y="4572000"/>
            <a:ext cx="154152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37000" y="2678040"/>
            <a:ext cx="95652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2920" y="2678040"/>
            <a:ext cx="158904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33200" y="5056200"/>
            <a:ext cx="169416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84520" y="1403280"/>
            <a:ext cx="226224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06600" y="2378160"/>
            <a:ext cx="135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06600" y="2468520"/>
            <a:ext cx="1403280" cy="240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487840" y="2378160"/>
            <a:ext cx="127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397120" y="2468520"/>
            <a:ext cx="1360440" cy="15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487840" y="2560680"/>
            <a:ext cx="127008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487840" y="4846680"/>
            <a:ext cx="136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397120" y="4114440"/>
            <a:ext cx="1451160" cy="63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5960" y="2925720"/>
            <a:ext cx="1541520" cy="54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06600" y="2378160"/>
            <a:ext cx="144936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67080" y="2209680"/>
            <a:ext cx="8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b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89240" y="30481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es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26880" y="38862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Order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464832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800600"/>
            <a:ext cx="139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Fine pa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9F4E-A221-4ECD-964E-42F553843C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c0128"/>
                </a:solidFill>
                <a:latin typeface="Tahoma"/>
              </a:rPr>
              <a:t>Use Case Diagram for Student Assessment Management System 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174840" y="1828800"/>
            <a:ext cx="2355840" cy="45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190520" y="3191040"/>
            <a:ext cx="363240" cy="731160"/>
            <a:chOff x="1190520" y="3191040"/>
            <a:chExt cx="363240" cy="731160"/>
          </a:xfrm>
        </p:grpSpPr>
        <p:sp>
          <p:nvSpPr>
            <p:cNvPr id="208" name=""/>
            <p:cNvSpPr/>
            <p:nvPr/>
          </p:nvSpPr>
          <p:spPr>
            <a:xfrm>
              <a:off x="1280880" y="3191040"/>
              <a:ext cx="18216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71960" y="3373920"/>
              <a:ext cx="0" cy="36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80880" y="3739320"/>
              <a:ext cx="18216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0520" y="3465000"/>
              <a:ext cx="36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710400" y="4808520"/>
            <a:ext cx="361440" cy="731520"/>
            <a:chOff x="6710400" y="4808520"/>
            <a:chExt cx="361440" cy="731520"/>
          </a:xfrm>
        </p:grpSpPr>
        <p:sp>
          <p:nvSpPr>
            <p:cNvPr id="213" name=""/>
            <p:cNvSpPr/>
            <p:nvPr/>
          </p:nvSpPr>
          <p:spPr>
            <a:xfrm>
              <a:off x="6800400" y="480852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91120" y="499140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800400" y="535716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10400" y="508284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710400" y="2430360"/>
            <a:ext cx="361440" cy="731520"/>
            <a:chOff x="6710400" y="2430360"/>
            <a:chExt cx="361440" cy="731520"/>
          </a:xfrm>
        </p:grpSpPr>
        <p:sp>
          <p:nvSpPr>
            <p:cNvPr id="218" name=""/>
            <p:cNvSpPr/>
            <p:nvPr/>
          </p:nvSpPr>
          <p:spPr>
            <a:xfrm>
              <a:off x="6800400" y="243036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891120" y="26132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00400" y="297900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10400" y="270468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627360" y="256068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4114800"/>
            <a:ext cx="1523880" cy="6699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27360" y="5029200"/>
            <a:ext cx="154152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3440" y="3962520"/>
            <a:ext cx="132660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30880" y="3135240"/>
            <a:ext cx="130536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63520" y="5513400"/>
            <a:ext cx="336888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admini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55920" y="1860480"/>
            <a:ext cx="226224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676520" y="2835360"/>
            <a:ext cx="186048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676520" y="3657600"/>
            <a:ext cx="19810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257800" y="2835360"/>
            <a:ext cx="1271520" cy="82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257800" y="5303880"/>
            <a:ext cx="1362240" cy="106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5181480" y="3733560"/>
            <a:ext cx="1438560" cy="147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27360" y="3382920"/>
            <a:ext cx="1541520" cy="549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3657600"/>
            <a:ext cx="1950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2514600"/>
            <a:ext cx="816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ecord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42480" y="35053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iew gr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70560" y="4143240"/>
            <a:ext cx="13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is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eport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5105520"/>
            <a:ext cx="1541520" cy="8380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5257800"/>
            <a:ext cx="155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reate report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03FD-ADDD-4015-A6C9-DA2CEDA3778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Vs Scenario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ach use case is one or more scenario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Subject Use Case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enario 1 : Subject gets added successfu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enario 2 : Adding the subject fails since the subject is already in the datab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roll  Subject Use C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enario 1 : Student is enrolled for the subjec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cenario 2 : Enrollment fails since the student is already enrolled in the su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ach scenario has a sequence of step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22052-E079-40A0-8925-F9BEB5CB75C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Scenario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ach scenario has a sequence of step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cenario 1 : Student is enrolled for the subjec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Student chooses the “enroll subject” 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Check the student has enrolled in less than 10 su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Check if the subject is val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Assign the subject to the stud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3B52-3B21-4A4B-B169-D375D1FB60F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Scenario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ach scenario has a sequence of step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cenario 2 : Enrolling fails since the student is already enrolled in 10 subj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Student chooses the “enroll subject” a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Check the student has enrolled in less than 10 su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38e00"/>
                </a:solidFill>
                <a:latin typeface="Tahoma"/>
              </a:rPr>
              <a:t>Return an error message to the stud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AFFD-DB49-468B-8C40-354E5DFF6A3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 - Relationships  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nclus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lusion enables to reuse one use case's steps inside another use c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Extens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lows creating a new use case by adding steps to existing us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Generalization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lows child use cases to inherit behavior from parent use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9D5AF-A646-41A8-B4E4-F491FB1A157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ahoma"/>
              </a:rPr>
              <a:t>Use Case – Example (self service machine)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1844640" y="4343400"/>
            <a:ext cx="26668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25320" y="4865760"/>
            <a:ext cx="304560" cy="609120"/>
            <a:chOff x="625320" y="4865760"/>
            <a:chExt cx="304560" cy="609120"/>
          </a:xfrm>
        </p:grpSpPr>
        <p:sp>
          <p:nvSpPr>
            <p:cNvPr id="252" name=""/>
            <p:cNvSpPr/>
            <p:nvPr/>
          </p:nvSpPr>
          <p:spPr>
            <a:xfrm>
              <a:off x="701280" y="486576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77600" y="501804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280" y="532260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5320" y="50940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225520" y="5029200"/>
            <a:ext cx="198144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95360" y="5084640"/>
            <a:ext cx="12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6160" y="55576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96920" y="4446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ervic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656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20960" y="2209680"/>
            <a:ext cx="266688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701640" y="2732040"/>
            <a:ext cx="304560" cy="609120"/>
            <a:chOff x="701640" y="2732040"/>
            <a:chExt cx="304560" cy="609120"/>
          </a:xfrm>
        </p:grpSpPr>
        <p:sp>
          <p:nvSpPr>
            <p:cNvPr id="263" name=""/>
            <p:cNvSpPr/>
            <p:nvPr/>
          </p:nvSpPr>
          <p:spPr>
            <a:xfrm>
              <a:off x="777600" y="273204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53920" y="28843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7600" y="318888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1640" y="29602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2301840" y="2895480"/>
            <a:ext cx="198108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12440" y="295128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y a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6000" y="34243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73240" y="23130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ervic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82520" y="3124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3048120"/>
            <a:ext cx="26668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87840" y="3664080"/>
            <a:ext cx="1793880" cy="411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95160" y="3714840"/>
            <a:ext cx="184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80120" y="313992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ervic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8229600" y="3429000"/>
            <a:ext cx="304560" cy="609120"/>
            <a:chOff x="8229600" y="3429000"/>
            <a:chExt cx="304560" cy="609120"/>
          </a:xfrm>
        </p:grpSpPr>
        <p:sp>
          <p:nvSpPr>
            <p:cNvPr id="277" name=""/>
            <p:cNvSpPr/>
            <p:nvPr/>
          </p:nvSpPr>
          <p:spPr>
            <a:xfrm>
              <a:off x="8305560" y="3429000"/>
              <a:ext cx="152640" cy="152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381880" y="358128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305560" y="3885840"/>
              <a:ext cx="15264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29600" y="36572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7543440" y="3809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833240" y="42782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8A1B8-2000-43D3-93E2-E25F3404C79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Use Case –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xample (self service machine – includes relationship)</a:t>
            </a:r>
            <a:endParaRPr b="0" lang="en-US" sz="3200" spc="-1" strike="noStrike">
              <a:solidFill>
                <a:srgbClr val="fc0128"/>
              </a:solidFill>
              <a:latin typeface="Tahom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4917960" y="5684760"/>
            <a:ext cx="2169720" cy="944280"/>
            <a:chOff x="4917960" y="5684760"/>
            <a:chExt cx="2169720" cy="944280"/>
          </a:xfrm>
        </p:grpSpPr>
        <p:sp>
          <p:nvSpPr>
            <p:cNvPr id="285" name=""/>
            <p:cNvSpPr/>
            <p:nvPr/>
          </p:nvSpPr>
          <p:spPr>
            <a:xfrm>
              <a:off x="4917960" y="5684760"/>
              <a:ext cx="2026800" cy="94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91760" y="5968080"/>
              <a:ext cx="209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ose Mach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828800" y="45720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371600" y="2036880"/>
            <a:ext cx="1852560" cy="839160"/>
            <a:chOff x="1371600" y="2036880"/>
            <a:chExt cx="1852560" cy="839160"/>
          </a:xfrm>
        </p:grpSpPr>
        <p:sp>
          <p:nvSpPr>
            <p:cNvPr id="289" name=""/>
            <p:cNvSpPr/>
            <p:nvPr/>
          </p:nvSpPr>
          <p:spPr>
            <a:xfrm>
              <a:off x="1371600" y="2131200"/>
              <a:ext cx="1852560" cy="74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40960" y="2036880"/>
              <a:ext cx="11473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sto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994280" y="3170160"/>
            <a:ext cx="2169720" cy="944280"/>
            <a:chOff x="4994280" y="3170160"/>
            <a:chExt cx="2169720" cy="944280"/>
          </a:xfrm>
        </p:grpSpPr>
        <p:sp>
          <p:nvSpPr>
            <p:cNvPr id="292" name=""/>
            <p:cNvSpPr/>
            <p:nvPr/>
          </p:nvSpPr>
          <p:spPr>
            <a:xfrm>
              <a:off x="4994280" y="3170160"/>
              <a:ext cx="2026800" cy="94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68080" y="3453480"/>
              <a:ext cx="209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lose Mach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068800" y="1752480"/>
            <a:ext cx="2169720" cy="944280"/>
            <a:chOff x="5068800" y="1752480"/>
            <a:chExt cx="2169720" cy="944280"/>
          </a:xfrm>
        </p:grpSpPr>
        <p:sp>
          <p:nvSpPr>
            <p:cNvPr id="295" name=""/>
            <p:cNvSpPr/>
            <p:nvPr/>
          </p:nvSpPr>
          <p:spPr>
            <a:xfrm>
              <a:off x="5068800" y="1752480"/>
              <a:ext cx="2026800" cy="94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42600" y="2035800"/>
              <a:ext cx="209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en Mach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V="1">
            <a:off x="3219480" y="2130120"/>
            <a:ext cx="1849320" cy="37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46400" y="2697120"/>
            <a:ext cx="1882800" cy="960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66880" y="3352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&lt;&lt;includes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92920" y="175248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295280" y="4551480"/>
            <a:ext cx="1852560" cy="839160"/>
            <a:chOff x="1295280" y="4551480"/>
            <a:chExt cx="1852560" cy="839160"/>
          </a:xfrm>
        </p:grpSpPr>
        <p:sp>
          <p:nvSpPr>
            <p:cNvPr id="302" name=""/>
            <p:cNvSpPr/>
            <p:nvPr/>
          </p:nvSpPr>
          <p:spPr>
            <a:xfrm>
              <a:off x="1295280" y="4645800"/>
              <a:ext cx="1852560" cy="744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64640" y="4551480"/>
              <a:ext cx="114732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lle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992840" y="4267080"/>
            <a:ext cx="2169720" cy="944280"/>
            <a:chOff x="4992840" y="4267080"/>
            <a:chExt cx="2169720" cy="944280"/>
          </a:xfrm>
        </p:grpSpPr>
        <p:sp>
          <p:nvSpPr>
            <p:cNvPr id="305" name=""/>
            <p:cNvSpPr/>
            <p:nvPr/>
          </p:nvSpPr>
          <p:spPr>
            <a:xfrm>
              <a:off x="4992840" y="4267080"/>
              <a:ext cx="2026800" cy="944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66640" y="4550400"/>
              <a:ext cx="209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en Mach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V="1">
            <a:off x="3143160" y="4644720"/>
            <a:ext cx="1849680" cy="377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070080" y="5211720"/>
            <a:ext cx="1847880" cy="944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069000" y="577836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16960" y="4267080"/>
            <a:ext cx="160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19AC-1FFD-4DE1-9063-F6C8B7B54C7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0128"/>
                </a:solidFill>
                <a:latin typeface="Arial"/>
              </a:rPr>
              <a:t>Use Case –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xample (self service machine – extends relationship)</a:t>
            </a:r>
            <a:endParaRPr b="0" lang="en-US" sz="3200" spc="-1" strike="noStrike">
              <a:solidFill>
                <a:srgbClr val="fc0128"/>
              </a:solidFill>
              <a:latin typeface="Tahoma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065960" y="1752480"/>
            <a:ext cx="6172560" cy="4038840"/>
            <a:chOff x="1065960" y="1752480"/>
            <a:chExt cx="6172560" cy="4038840"/>
          </a:xfrm>
        </p:grpSpPr>
        <p:sp>
          <p:nvSpPr>
            <p:cNvPr id="313" name=""/>
            <p:cNvSpPr/>
            <p:nvPr/>
          </p:nvSpPr>
          <p:spPr>
            <a:xfrm>
              <a:off x="1828800" y="4572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1371600" y="2036880"/>
              <a:ext cx="1852560" cy="839160"/>
              <a:chOff x="1371600" y="2036880"/>
              <a:chExt cx="1852560" cy="839160"/>
            </a:xfrm>
          </p:grpSpPr>
          <p:sp>
            <p:nvSpPr>
              <p:cNvPr id="315" name=""/>
              <p:cNvSpPr/>
              <p:nvPr/>
            </p:nvSpPr>
            <p:spPr>
              <a:xfrm>
                <a:off x="1371600" y="2131200"/>
                <a:ext cx="1852560" cy="744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40960" y="2036880"/>
                <a:ext cx="1147320" cy="64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Restoc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994280" y="3170160"/>
              <a:ext cx="2169720" cy="944280"/>
              <a:chOff x="4994280" y="3170160"/>
              <a:chExt cx="2169720" cy="944280"/>
            </a:xfrm>
          </p:grpSpPr>
          <p:sp>
            <p:nvSpPr>
              <p:cNvPr id="318" name=""/>
              <p:cNvSpPr/>
              <p:nvPr/>
            </p:nvSpPr>
            <p:spPr>
              <a:xfrm>
                <a:off x="4994280" y="3170160"/>
                <a:ext cx="2026800" cy="94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068080" y="3453480"/>
                <a:ext cx="209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lose Mach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068800" y="1752480"/>
              <a:ext cx="2169720" cy="944280"/>
              <a:chOff x="5068800" y="1752480"/>
              <a:chExt cx="2169720" cy="944280"/>
            </a:xfrm>
          </p:grpSpPr>
          <p:sp>
            <p:nvSpPr>
              <p:cNvPr id="321" name=""/>
              <p:cNvSpPr/>
              <p:nvPr/>
            </p:nvSpPr>
            <p:spPr>
              <a:xfrm>
                <a:off x="5068800" y="1752480"/>
                <a:ext cx="2026800" cy="944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142600" y="2035800"/>
                <a:ext cx="209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Open Machi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V="1">
              <a:off x="3219480" y="2130120"/>
              <a:ext cx="1849320" cy="377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46400" y="2697120"/>
              <a:ext cx="1847880" cy="944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45320" y="3263760"/>
              <a:ext cx="160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&lt;includes&gt;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92920" y="1752480"/>
              <a:ext cx="160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lt;&lt;includes&gt;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7920" y="4633920"/>
              <a:ext cx="2895480" cy="11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1920" y="4419720"/>
              <a:ext cx="21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49960" y="4876920"/>
              <a:ext cx="237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stock According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 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514600" y="2819520"/>
              <a:ext cx="0" cy="18288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5960" y="3886200"/>
              <a:ext cx="158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&lt;extends&gt;&gt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79ED9-73E7-4113-953C-D7638BF0CB9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se Case –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xample (self service machine – generalize relationship): Actor-to-Actor relationship</a:t>
            </a:r>
            <a:endParaRPr b="0" lang="en-US" sz="2800" spc="-1" strike="noStrike">
              <a:solidFill>
                <a:srgbClr val="fc0128"/>
              </a:solidFill>
              <a:latin typeface="Tahoma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700440" y="1447920"/>
            <a:ext cx="1446480" cy="1827720"/>
            <a:chOff x="3700440" y="1447920"/>
            <a:chExt cx="1446480" cy="1827720"/>
          </a:xfrm>
        </p:grpSpPr>
        <p:sp>
          <p:nvSpPr>
            <p:cNvPr id="334" name=""/>
            <p:cNvSpPr/>
            <p:nvPr/>
          </p:nvSpPr>
          <p:spPr>
            <a:xfrm>
              <a:off x="4061160" y="144792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423680" y="19051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61160" y="281844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0440" y="213300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414440" y="3962520"/>
            <a:ext cx="1446480" cy="1827720"/>
            <a:chOff x="1414440" y="3962520"/>
            <a:chExt cx="1446480" cy="1827720"/>
          </a:xfrm>
        </p:grpSpPr>
        <p:sp>
          <p:nvSpPr>
            <p:cNvPr id="339" name=""/>
            <p:cNvSpPr/>
            <p:nvPr/>
          </p:nvSpPr>
          <p:spPr>
            <a:xfrm>
              <a:off x="1775160" y="396252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7680" y="44197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75160" y="533304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414440" y="464760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6367320" y="3809880"/>
            <a:ext cx="1446480" cy="1827720"/>
            <a:chOff x="6367320" y="3809880"/>
            <a:chExt cx="1446480" cy="1827720"/>
          </a:xfrm>
        </p:grpSpPr>
        <p:sp>
          <p:nvSpPr>
            <p:cNvPr id="344" name=""/>
            <p:cNvSpPr/>
            <p:nvPr/>
          </p:nvSpPr>
          <p:spPr>
            <a:xfrm>
              <a:off x="6728040" y="380988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90560" y="426708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28040" y="518040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367320" y="449496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548160" y="3886200"/>
            <a:ext cx="21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629720" y="57546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367320" y="57913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58960" y="3259080"/>
            <a:ext cx="1093320" cy="948600"/>
            <a:chOff x="2658960" y="3259080"/>
            <a:chExt cx="1093320" cy="948600"/>
          </a:xfrm>
        </p:grpSpPr>
        <p:sp>
          <p:nvSpPr>
            <p:cNvPr id="352" name=""/>
            <p:cNvSpPr/>
            <p:nvPr/>
          </p:nvSpPr>
          <p:spPr>
            <a:xfrm flipV="1">
              <a:off x="2658960" y="3681000"/>
              <a:ext cx="607320" cy="52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16160" y="3508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16160" y="3508560"/>
              <a:ext cx="2995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116520" y="3259080"/>
              <a:ext cx="63576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415680" y="3259080"/>
              <a:ext cx="3366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986360" y="3353400"/>
            <a:ext cx="1313280" cy="608040"/>
            <a:chOff x="4986360" y="3353400"/>
            <a:chExt cx="1313280" cy="608040"/>
          </a:xfrm>
        </p:grpSpPr>
        <p:sp>
          <p:nvSpPr>
            <p:cNvPr id="358" name=""/>
            <p:cNvSpPr/>
            <p:nvPr/>
          </p:nvSpPr>
          <p:spPr>
            <a:xfrm flipH="1" flipV="1">
              <a:off x="5570640" y="3623760"/>
              <a:ext cx="72900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74520" y="383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5474520" y="3416760"/>
              <a:ext cx="1918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4986360" y="3353400"/>
              <a:ext cx="48780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986360" y="3353400"/>
              <a:ext cx="67968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7600" y="2057400"/>
            <a:ext cx="18403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eneralized 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94400" y="4952880"/>
            <a:ext cx="1273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specializ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D7A1-404B-4F96-92B5-AB9C5B6045E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c0128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Getting started is the most difficulty part of any new process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In software modelling, the first thing you need to do is understand what are you going to model and ultimately develop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Creating a highest form details about a system--use case diagram--is an almost natural point of origin for the software design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Tahoma"/>
              </a:rPr>
              <a:t>A use case diagram is an excellent way to communicate to management, customers, and other non-development people what a system will do when it is completed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A73F-2A27-4DCB-ACB0-9897099720D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se Case –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xample (self service machine – generalize relationship): Actor-to-Actor relationship – example 2</a:t>
            </a:r>
            <a:endParaRPr b="0" lang="en-US" sz="2800" spc="-1" strike="noStrike">
              <a:solidFill>
                <a:srgbClr val="fc0128"/>
              </a:solidFill>
              <a:latin typeface="Tahom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700440" y="1447920"/>
            <a:ext cx="1446480" cy="1827720"/>
            <a:chOff x="3700440" y="1447920"/>
            <a:chExt cx="1446480" cy="1827720"/>
          </a:xfrm>
        </p:grpSpPr>
        <p:sp>
          <p:nvSpPr>
            <p:cNvPr id="367" name=""/>
            <p:cNvSpPr/>
            <p:nvPr/>
          </p:nvSpPr>
          <p:spPr>
            <a:xfrm>
              <a:off x="4061160" y="144792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23680" y="19051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61160" y="281844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00440" y="213300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414440" y="3962520"/>
            <a:ext cx="1446480" cy="1827720"/>
            <a:chOff x="1414440" y="3962520"/>
            <a:chExt cx="1446480" cy="1827720"/>
          </a:xfrm>
        </p:grpSpPr>
        <p:sp>
          <p:nvSpPr>
            <p:cNvPr id="372" name=""/>
            <p:cNvSpPr/>
            <p:nvPr/>
          </p:nvSpPr>
          <p:spPr>
            <a:xfrm>
              <a:off x="1775160" y="396252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37680" y="44197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75160" y="533304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14440" y="464760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6367320" y="3809880"/>
            <a:ext cx="1446480" cy="1827720"/>
            <a:chOff x="6367320" y="3809880"/>
            <a:chExt cx="1446480" cy="1827720"/>
          </a:xfrm>
        </p:grpSpPr>
        <p:sp>
          <p:nvSpPr>
            <p:cNvPr id="377" name=""/>
            <p:cNvSpPr/>
            <p:nvPr/>
          </p:nvSpPr>
          <p:spPr>
            <a:xfrm>
              <a:off x="6728040" y="3809880"/>
              <a:ext cx="7246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0560" y="426708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28040" y="5180400"/>
              <a:ext cx="7246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67320" y="4494960"/>
              <a:ext cx="144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3929040" y="358128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373760" y="575460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m 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367320" y="5791320"/>
            <a:ext cx="19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 C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2658960" y="3259080"/>
            <a:ext cx="1093320" cy="948600"/>
            <a:chOff x="2658960" y="3259080"/>
            <a:chExt cx="1093320" cy="948600"/>
          </a:xfrm>
        </p:grpSpPr>
        <p:sp>
          <p:nvSpPr>
            <p:cNvPr id="385" name=""/>
            <p:cNvSpPr/>
            <p:nvPr/>
          </p:nvSpPr>
          <p:spPr>
            <a:xfrm flipV="1">
              <a:off x="2658960" y="3681000"/>
              <a:ext cx="607320" cy="52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16160" y="3508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116160" y="3508560"/>
              <a:ext cx="299520" cy="34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116520" y="3259080"/>
              <a:ext cx="63576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415680" y="3259080"/>
              <a:ext cx="336600" cy="59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986360" y="3353400"/>
            <a:ext cx="1313280" cy="608040"/>
            <a:chOff x="4986360" y="3353400"/>
            <a:chExt cx="1313280" cy="608040"/>
          </a:xfrm>
        </p:grpSpPr>
        <p:sp>
          <p:nvSpPr>
            <p:cNvPr id="391" name=""/>
            <p:cNvSpPr/>
            <p:nvPr/>
          </p:nvSpPr>
          <p:spPr>
            <a:xfrm flipH="1" flipV="1">
              <a:off x="5570640" y="3623760"/>
              <a:ext cx="729000" cy="33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74520" y="383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5474520" y="3416760"/>
              <a:ext cx="1918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4986360" y="3353400"/>
              <a:ext cx="48780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4986360" y="3353400"/>
              <a:ext cx="67968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777600" y="2057400"/>
            <a:ext cx="18403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eneralized 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4400" y="4952880"/>
            <a:ext cx="1273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specializ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1E94-283D-42FB-8937-99E44D85C7F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371600" y="1523880"/>
            <a:ext cx="7315200" cy="510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Tahoma"/>
              </a:rPr>
              <a:t>Use Case – Example (self service machine)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15228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5791320"/>
            <a:ext cx="1565280" cy="742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29440" y="601488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506760" y="486576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112920" y="3025800"/>
            <a:ext cx="1592280" cy="609120"/>
            <a:chOff x="3112920" y="3025800"/>
            <a:chExt cx="1592280" cy="609120"/>
          </a:xfrm>
        </p:grpSpPr>
        <p:sp>
          <p:nvSpPr>
            <p:cNvPr id="405" name=""/>
            <p:cNvSpPr/>
            <p:nvPr/>
          </p:nvSpPr>
          <p:spPr>
            <a:xfrm>
              <a:off x="3112920" y="3094200"/>
              <a:ext cx="1592280" cy="54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30440" y="3025800"/>
              <a:ext cx="986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to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224760" y="3848040"/>
            <a:ext cx="1864800" cy="685800"/>
            <a:chOff x="6224760" y="3848040"/>
            <a:chExt cx="1864800" cy="685800"/>
          </a:xfrm>
        </p:grpSpPr>
        <p:sp>
          <p:nvSpPr>
            <p:cNvPr id="408" name=""/>
            <p:cNvSpPr/>
            <p:nvPr/>
          </p:nvSpPr>
          <p:spPr>
            <a:xfrm>
              <a:off x="6224760" y="3848040"/>
              <a:ext cx="174204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8120" y="4053600"/>
              <a:ext cx="18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ose Mach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289560" y="2819520"/>
            <a:ext cx="1863360" cy="685800"/>
            <a:chOff x="6289560" y="2819520"/>
            <a:chExt cx="1863360" cy="685800"/>
          </a:xfrm>
        </p:grpSpPr>
        <p:sp>
          <p:nvSpPr>
            <p:cNvPr id="411" name=""/>
            <p:cNvSpPr/>
            <p:nvPr/>
          </p:nvSpPr>
          <p:spPr>
            <a:xfrm>
              <a:off x="6289560" y="2819520"/>
              <a:ext cx="17406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52920" y="302508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 Mach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 flipV="1">
            <a:off x="4700520" y="3094200"/>
            <a:ext cx="1589040" cy="2728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638600" y="3505320"/>
            <a:ext cx="1616040" cy="6969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26040" y="397980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766400" y="285444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048120" y="4849920"/>
            <a:ext cx="1590480" cy="609120"/>
            <a:chOff x="3048120" y="4849920"/>
            <a:chExt cx="1590480" cy="609120"/>
          </a:xfrm>
        </p:grpSpPr>
        <p:sp>
          <p:nvSpPr>
            <p:cNvPr id="418" name=""/>
            <p:cNvSpPr/>
            <p:nvPr/>
          </p:nvSpPr>
          <p:spPr>
            <a:xfrm>
              <a:off x="3048120" y="4918320"/>
              <a:ext cx="1590480" cy="54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65280" y="4849920"/>
              <a:ext cx="983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ll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224760" y="4643280"/>
            <a:ext cx="1863360" cy="685800"/>
            <a:chOff x="6224760" y="4643280"/>
            <a:chExt cx="1863360" cy="685800"/>
          </a:xfrm>
        </p:grpSpPr>
        <p:sp>
          <p:nvSpPr>
            <p:cNvPr id="421" name=""/>
            <p:cNvSpPr/>
            <p:nvPr/>
          </p:nvSpPr>
          <p:spPr>
            <a:xfrm>
              <a:off x="6224760" y="4643280"/>
              <a:ext cx="174060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88120" y="4848840"/>
              <a:ext cx="180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pen Mach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 flipV="1">
            <a:off x="4635360" y="4917600"/>
            <a:ext cx="1589400" cy="274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5329080"/>
            <a:ext cx="158760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74160" y="57754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701240" y="46782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200400" y="1752480"/>
            <a:ext cx="2057040" cy="609480"/>
            <a:chOff x="3200400" y="1752480"/>
            <a:chExt cx="2057040" cy="609480"/>
          </a:xfrm>
        </p:grpSpPr>
        <p:sp>
          <p:nvSpPr>
            <p:cNvPr id="428" name=""/>
            <p:cNvSpPr/>
            <p:nvPr/>
          </p:nvSpPr>
          <p:spPr>
            <a:xfrm>
              <a:off x="3200400" y="1820880"/>
              <a:ext cx="20570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10440" y="1752480"/>
              <a:ext cx="1274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uy a 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600200" y="4267080"/>
            <a:ext cx="3056040" cy="5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52480" y="4343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tock according to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3048120" y="365724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07880" y="4343400"/>
            <a:ext cx="258840" cy="545760"/>
            <a:chOff x="407880" y="4343400"/>
            <a:chExt cx="258840" cy="545760"/>
          </a:xfrm>
        </p:grpSpPr>
        <p:sp>
          <p:nvSpPr>
            <p:cNvPr id="434" name=""/>
            <p:cNvSpPr/>
            <p:nvPr/>
          </p:nvSpPr>
          <p:spPr>
            <a:xfrm>
              <a:off x="472320" y="4343400"/>
              <a:ext cx="129600" cy="13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7120" y="447984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2320" y="4752720"/>
              <a:ext cx="129600" cy="136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7880" y="454788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0" y="5092560"/>
            <a:ext cx="258840" cy="545760"/>
            <a:chOff x="0" y="5092560"/>
            <a:chExt cx="258840" cy="545760"/>
          </a:xfrm>
        </p:grpSpPr>
        <p:sp>
          <p:nvSpPr>
            <p:cNvPr id="439" name=""/>
            <p:cNvSpPr/>
            <p:nvPr/>
          </p:nvSpPr>
          <p:spPr>
            <a:xfrm>
              <a:off x="64440" y="5092560"/>
              <a:ext cx="129600" cy="13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9240" y="522900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440" y="5501880"/>
              <a:ext cx="129600" cy="136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2970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884160" y="5048280"/>
            <a:ext cx="258840" cy="543960"/>
            <a:chOff x="884160" y="5048280"/>
            <a:chExt cx="258840" cy="543960"/>
          </a:xfrm>
        </p:grpSpPr>
        <p:sp>
          <p:nvSpPr>
            <p:cNvPr id="444" name=""/>
            <p:cNvSpPr/>
            <p:nvPr/>
          </p:nvSpPr>
          <p:spPr>
            <a:xfrm>
              <a:off x="948600" y="5048280"/>
              <a:ext cx="129600" cy="13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13400" y="5184360"/>
              <a:ext cx="0" cy="2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48600" y="5456160"/>
              <a:ext cx="129600" cy="136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4160" y="52520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380880" y="5070600"/>
            <a:ext cx="39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22480" y="4939920"/>
            <a:ext cx="195120" cy="169920"/>
            <a:chOff x="222480" y="4939920"/>
            <a:chExt cx="195120" cy="169920"/>
          </a:xfrm>
        </p:grpSpPr>
        <p:sp>
          <p:nvSpPr>
            <p:cNvPr id="450" name=""/>
            <p:cNvSpPr/>
            <p:nvPr/>
          </p:nvSpPr>
          <p:spPr>
            <a:xfrm flipV="1">
              <a:off x="222480" y="5015520"/>
              <a:ext cx="108360" cy="9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6560" y="4965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6560" y="4965120"/>
              <a:ext cx="8820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86560" y="4940280"/>
              <a:ext cx="131040" cy="2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74760" y="4939920"/>
              <a:ext cx="424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636840" y="4933800"/>
            <a:ext cx="234720" cy="124560"/>
            <a:chOff x="636840" y="4933800"/>
            <a:chExt cx="234720" cy="124560"/>
          </a:xfrm>
        </p:grpSpPr>
        <p:sp>
          <p:nvSpPr>
            <p:cNvPr id="456" name=""/>
            <p:cNvSpPr/>
            <p:nvPr/>
          </p:nvSpPr>
          <p:spPr>
            <a:xfrm flipH="1" flipV="1">
              <a:off x="741240" y="4996080"/>
              <a:ext cx="13032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2800" y="50583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12800" y="4934160"/>
              <a:ext cx="5760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636840" y="4947840"/>
              <a:ext cx="7560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36840" y="4933800"/>
              <a:ext cx="1332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 flipV="1">
            <a:off x="838080" y="3428640"/>
            <a:ext cx="228600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914400" y="4572000"/>
            <a:ext cx="213372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33520" y="2209680"/>
            <a:ext cx="258480" cy="545760"/>
            <a:chOff x="533520" y="2209680"/>
            <a:chExt cx="258480" cy="545760"/>
          </a:xfrm>
        </p:grpSpPr>
        <p:sp>
          <p:nvSpPr>
            <p:cNvPr id="464" name=""/>
            <p:cNvSpPr/>
            <p:nvPr/>
          </p:nvSpPr>
          <p:spPr>
            <a:xfrm>
              <a:off x="597960" y="2209680"/>
              <a:ext cx="129240" cy="13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2760" y="234612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7960" y="2619000"/>
              <a:ext cx="129240" cy="1364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33520" y="241416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 flipV="1">
            <a:off x="838080" y="2133720"/>
            <a:ext cx="236232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62720" y="30481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-14760" y="5923080"/>
            <a:ext cx="95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80840" y="188280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elf Servic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01D7-EFFF-4683-8783-A4F1AFC5824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7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ahoma"/>
              </a:rPr>
              <a:t>From Use Case to Classes</a:t>
            </a:r>
            <a:endParaRPr b="0" lang="en-US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AC67-C7D7-4A55-9B92-36D54ACA705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Identify Classes (Extract Nouns)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fc0128"/>
                </a:solidFill>
                <a:latin typeface="Tahoma"/>
              </a:rPr>
              <a:t>Universit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rd syst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hould keep information about it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tudent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cademic staff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rd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ll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university memb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to include their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iven nam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mai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ddres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ate of bir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elephone numbe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and academic staff each have their own unique ID number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tud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tudents),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ad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cademic employee), where N is an integer  (N&gt;0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ddition to the attributes mentioned abov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will also have a list of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ubjec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ey are enrolled in. A student cannot be enrolled in any more than 10 subject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ademic employees will have a salary, and a list of subjects they teach. An academic can teach no more than 3 su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3A4D-6619-4096-9F96-F246774A39A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Nouns which are potential classe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-US" sz="2000" spc="-1" strike="noStrike">
                <a:solidFill>
                  <a:srgbClr val="438e00"/>
                </a:solidFill>
                <a:latin typeface="Tahoma"/>
              </a:rPr>
              <a:t>University record syst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hould keep information about its </a:t>
            </a:r>
            <a:r>
              <a:rPr b="1" i="1" lang="en-US" sz="2000" spc="-1" strike="noStrike">
                <a:solidFill>
                  <a:srgbClr val="438e00"/>
                </a:solidFill>
                <a:latin typeface="Tahoma"/>
              </a:rPr>
              <a:t>student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i="1" lang="en-US" sz="2000" spc="-1" strike="noStrike">
                <a:solidFill>
                  <a:srgbClr val="438e00"/>
                </a:solidFill>
                <a:latin typeface="Tahoma"/>
              </a:rPr>
              <a:t>academic staff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cord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ll </a:t>
            </a:r>
            <a:r>
              <a:rPr b="1" i="1" lang="en-US" sz="2000" spc="-1" strike="noStrike">
                <a:solidFill>
                  <a:srgbClr val="438e00"/>
                </a:solidFill>
                <a:latin typeface="Tahoma"/>
              </a:rPr>
              <a:t>university memb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e to include their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surn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iven nam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emai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addres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date of bir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elephone number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and academic staff each have their own unique ID number: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stud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students),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ad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cademic employee), where N is an integer  (N&gt;0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ddition to the attributes mentioned abov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udents will also have a list of </a:t>
            </a:r>
            <a:r>
              <a:rPr b="1" i="1" lang="en-US" sz="1800" spc="-1" strike="noStrike">
                <a:solidFill>
                  <a:srgbClr val="438e00"/>
                </a:solidFill>
                <a:latin typeface="Tahoma"/>
              </a:rPr>
              <a:t>subjects</a:t>
            </a:r>
            <a:r>
              <a:rPr b="0" lang="en-US" sz="1800" spc="-1" strike="noStrike">
                <a:solidFill>
                  <a:srgbClr val="438e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y are enrolled in. A student cannot be enrolled in any more than 10 subject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ademic employees will have a salary, and a list of subjects they teach. An academic can teach no more than 3 su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7B89-DEB9-4915-909F-1B6E455D3F4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Classes identified in the first pas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UniversityRecordSyst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 - 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Academic Sta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University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8e00"/>
                </a:solidFill>
                <a:latin typeface="Tahoma"/>
              </a:rPr>
              <a:t>Sub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7956-A685-4F7C-B226-320A89175B8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RS - High Level Class Diagram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505320" y="1523880"/>
            <a:ext cx="22860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767760" y="1752480"/>
            <a:ext cx="18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URS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52480" y="3352680"/>
            <a:ext cx="22860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University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52280" y="5334120"/>
            <a:ext cx="22860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cademic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5334120"/>
            <a:ext cx="2286000" cy="838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553080" y="3352680"/>
            <a:ext cx="22860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u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666880" y="2362320"/>
            <a:ext cx="1981440" cy="99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814200" y="23414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38280" y="29718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430360" y="2971800"/>
            <a:ext cx="3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68280" y="2819520"/>
            <a:ext cx="57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h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733920" y="2895480"/>
            <a:ext cx="30456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957200" y="2362320"/>
            <a:ext cx="2804040" cy="1023120"/>
            <a:chOff x="4957200" y="2362320"/>
            <a:chExt cx="2804040" cy="1023120"/>
          </a:xfrm>
        </p:grpSpPr>
        <p:sp>
          <p:nvSpPr>
            <p:cNvPr id="494" name=""/>
            <p:cNvSpPr/>
            <p:nvPr/>
          </p:nvSpPr>
          <p:spPr>
            <a:xfrm>
              <a:off x="5029560" y="2362320"/>
              <a:ext cx="259056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57200" y="241776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469280" y="30481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68520" y="2417760"/>
              <a:ext cx="51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477120" y="2742480"/>
              <a:ext cx="30492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1066680" y="4190760"/>
            <a:ext cx="3581280" cy="1143360"/>
            <a:chOff x="1066680" y="4190760"/>
            <a:chExt cx="3581280" cy="1143360"/>
          </a:xfrm>
        </p:grpSpPr>
        <p:sp>
          <p:nvSpPr>
            <p:cNvPr id="500" name=""/>
            <p:cNvSpPr/>
            <p:nvPr/>
          </p:nvSpPr>
          <p:spPr>
            <a:xfrm flipV="1">
              <a:off x="1066680" y="4876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66680" y="4876920"/>
              <a:ext cx="358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47960" y="48769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895480" y="44197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666880" y="41907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95480" y="419112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447920" y="6172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662940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8458200" y="4190760"/>
            <a:ext cx="0" cy="243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921280" y="6227640"/>
            <a:ext cx="970200" cy="337320"/>
            <a:chOff x="5921280" y="6227640"/>
            <a:chExt cx="970200" cy="337320"/>
          </a:xfrm>
        </p:grpSpPr>
        <p:sp>
          <p:nvSpPr>
            <p:cNvPr id="511" name=""/>
            <p:cNvSpPr/>
            <p:nvPr/>
          </p:nvSpPr>
          <p:spPr>
            <a:xfrm>
              <a:off x="5921280" y="62276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each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5400000">
              <a:off x="6629400" y="6324480"/>
              <a:ext cx="304560" cy="1526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670960" y="4398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38480" y="4343400"/>
            <a:ext cx="52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0.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528200" y="615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638680" y="4190760"/>
            <a:ext cx="1981080" cy="1600560"/>
            <a:chOff x="5638680" y="4190760"/>
            <a:chExt cx="1981080" cy="1600560"/>
          </a:xfrm>
        </p:grpSpPr>
        <p:sp>
          <p:nvSpPr>
            <p:cNvPr id="517" name=""/>
            <p:cNvSpPr/>
            <p:nvPr/>
          </p:nvSpPr>
          <p:spPr>
            <a:xfrm>
              <a:off x="5638680" y="579132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619760" y="419076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93680" y="5410080"/>
            <a:ext cx="824040" cy="337320"/>
            <a:chOff x="6493680" y="5410080"/>
            <a:chExt cx="824040" cy="337320"/>
          </a:xfrm>
        </p:grpSpPr>
        <p:sp>
          <p:nvSpPr>
            <p:cNvPr id="520" name=""/>
            <p:cNvSpPr/>
            <p:nvPr/>
          </p:nvSpPr>
          <p:spPr>
            <a:xfrm>
              <a:off x="6493680" y="5410080"/>
              <a:ext cx="74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ak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5400000">
              <a:off x="7089120" y="5506920"/>
              <a:ext cx="304560" cy="1522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5645160" y="546588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744960" y="424656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0…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25B43-172A-442F-9EFF-F638DDAF5B40}" type="slidenum">
              <a:t>26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niversity Record System (URS)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A University record system should keep information about its students and academic staff.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Records for all university members are to include their id number, surname, given name, email, address, date of birth, and telephone number. 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and academic staff each have their own unique ID number: studN (students), acadN (academic employee), where N is an integer  (N&gt;0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</a:rPr>
              <a:t>In addition to the attributes mentioned above: </a:t>
            </a:r>
            <a:endParaRPr b="0" lang="en-US" sz="2400" spc="-1" strike="noStrike">
              <a:solidFill>
                <a:srgbClr val="0000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will also have a list of subjects they are enrolled in. A student cannot be enrolled in any more than 10 subject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ademic employees will have a salary, and a list of subjects they teach. An academic can teach no more than 3 subjec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7165-3B01-45E3-B909-D9D3F620F2B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Some Actions Supported by UR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 system should be able to handle the following commands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and remove university members (students, and academic staf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and Delete su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nd Un-assign  subjects to stud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nd Un-assign subjects to academic staf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48C9-EA3F-4816-9D53-1BBC65BC4D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 Case diagrams show the various activities the users can perform on the system. 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 is something that performs a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They model the dynamic aspects of the system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Provides a </a:t>
            </a:r>
            <a:r>
              <a:rPr b="0" i="1" lang="en-US" sz="3200" spc="-1" strike="noStrike">
                <a:solidFill>
                  <a:srgbClr val="0000ff"/>
                </a:solidFill>
                <a:latin typeface="Tahoma"/>
              </a:rPr>
              <a:t>user’s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perspective of the system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9A75-5A72-4EF1-A193-31D729A764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0128"/>
                </a:solidFill>
                <a:latin typeface="Arial"/>
              </a:rPr>
              <a:t>Use Case Diagram  - URS System</a:t>
            </a:r>
            <a:endParaRPr b="0" lang="en-US" sz="40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403440" y="1371600"/>
            <a:ext cx="235584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952640" y="1906560"/>
            <a:ext cx="363240" cy="731520"/>
            <a:chOff x="1952640" y="1906560"/>
            <a:chExt cx="363240" cy="731520"/>
          </a:xfrm>
        </p:grpSpPr>
        <p:sp>
          <p:nvSpPr>
            <p:cNvPr id="91" name=""/>
            <p:cNvSpPr/>
            <p:nvPr/>
          </p:nvSpPr>
          <p:spPr>
            <a:xfrm>
              <a:off x="2043000" y="1906560"/>
              <a:ext cx="18216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34080" y="20894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3000" y="2455200"/>
              <a:ext cx="18216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52640" y="2180880"/>
              <a:ext cx="363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939000" y="1973160"/>
            <a:ext cx="361440" cy="731520"/>
            <a:chOff x="6939000" y="1973160"/>
            <a:chExt cx="361440" cy="731520"/>
          </a:xfrm>
        </p:grpSpPr>
        <p:sp>
          <p:nvSpPr>
            <p:cNvPr id="96" name=""/>
            <p:cNvSpPr/>
            <p:nvPr/>
          </p:nvSpPr>
          <p:spPr>
            <a:xfrm>
              <a:off x="7029000" y="1973160"/>
              <a:ext cx="181080" cy="182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19720" y="2156040"/>
              <a:ext cx="0" cy="36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29000" y="2521800"/>
              <a:ext cx="181080" cy="182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9000" y="2247480"/>
              <a:ext cx="36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809880" y="3048120"/>
            <a:ext cx="1541520" cy="45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4191120"/>
            <a:ext cx="154152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4800600"/>
            <a:ext cx="154152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28120" y="2666880"/>
            <a:ext cx="119556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47480" y="3048120"/>
            <a:ext cx="153864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26320" y="5181480"/>
            <a:ext cx="1284120" cy="1193400"/>
            <a:chOff x="6826320" y="5181480"/>
            <a:chExt cx="1284120" cy="1193400"/>
          </a:xfrm>
        </p:grpSpPr>
        <p:grpSp>
          <p:nvGrpSpPr>
            <p:cNvPr id="106" name=""/>
            <p:cNvGrpSpPr/>
            <p:nvPr/>
          </p:nvGrpSpPr>
          <p:grpSpPr>
            <a:xfrm>
              <a:off x="7311960" y="5181480"/>
              <a:ext cx="452160" cy="815760"/>
              <a:chOff x="7311960" y="5181480"/>
              <a:chExt cx="452160" cy="815760"/>
            </a:xfrm>
          </p:grpSpPr>
          <p:sp>
            <p:nvSpPr>
              <p:cNvPr id="107" name=""/>
              <p:cNvSpPr/>
              <p:nvPr/>
            </p:nvSpPr>
            <p:spPr>
              <a:xfrm>
                <a:off x="7424640" y="5181480"/>
                <a:ext cx="226440" cy="2041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538040" y="5385600"/>
                <a:ext cx="0" cy="40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424640" y="5793120"/>
                <a:ext cx="226440" cy="20412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96"/>
                    </a:moveTo>
                    <a:lnTo>
                      <a:pt x="48" y="0"/>
                    </a:lnTo>
                    <a:lnTo>
                      <a:pt x="96" y="96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11960" y="5487120"/>
                <a:ext cx="45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6826320" y="5915160"/>
              <a:ext cx="1284120" cy="45972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tu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114800" y="1523880"/>
            <a:ext cx="1143000" cy="398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06600" y="2378160"/>
            <a:ext cx="1359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2438280"/>
            <a:ext cx="1403640" cy="210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410080" y="2286000"/>
            <a:ext cx="152424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3760" y="2514600"/>
            <a:ext cx="160020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154152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2438280"/>
            <a:ext cx="129564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4800600"/>
            <a:ext cx="1541520" cy="547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2514600"/>
            <a:ext cx="1541520" cy="411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2590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el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1981080"/>
            <a:ext cx="1541520" cy="3812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5960" y="5715000"/>
            <a:ext cx="1541520" cy="549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5410080"/>
            <a:ext cx="1523880" cy="547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86200" y="6019920"/>
            <a:ext cx="1541520" cy="533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1981080"/>
            <a:ext cx="20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dd 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31560" y="31240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dd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7400" y="373392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el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14720" y="434340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assg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28880" y="4932360"/>
            <a:ext cx="16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unass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000" y="55627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enrol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6172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unenrol 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2514600"/>
            <a:ext cx="144792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8640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86400" y="5638680"/>
            <a:ext cx="182880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D655E-AEB0-4CD6-B1EF-31351D9A2223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 set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ACTORS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 roles users can play in interacting with the system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ctor is used to represent something that users our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 set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USE CASES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: each describes a possible kind of interaction between an actor and the system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cases are actions that a user takes on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 number of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RELATIONSHIPS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 between these entities (Actors and Use Cases).</a:t>
            </a:r>
            <a:endParaRPr b="0" lang="en-US" sz="2800" spc="-1" strike="noStrike">
              <a:solidFill>
                <a:srgbClr val="0000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ships are simply illustrated with a line connecting actors to use ca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15F5-8D09-4A27-885A-61DF03600BD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 - Actor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actor </a:t>
            </a: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 is  a user of the system playing a particular role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ctor is shown with a stick figure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657600" y="3733920"/>
            <a:ext cx="1827000" cy="1827720"/>
            <a:chOff x="3657600" y="3733920"/>
            <a:chExt cx="1827000" cy="1827720"/>
          </a:xfrm>
        </p:grpSpPr>
        <p:sp>
          <p:nvSpPr>
            <p:cNvPr id="141" name=""/>
            <p:cNvSpPr/>
            <p:nvPr/>
          </p:nvSpPr>
          <p:spPr>
            <a:xfrm>
              <a:off x="4113000" y="3733920"/>
              <a:ext cx="915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0920" y="41911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13000" y="5104440"/>
              <a:ext cx="9154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57600" y="4419000"/>
              <a:ext cx="18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753720" y="57913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019920" y="3657600"/>
            <a:ext cx="1827000" cy="1827720"/>
            <a:chOff x="6019920" y="3657600"/>
            <a:chExt cx="1827000" cy="1827720"/>
          </a:xfrm>
        </p:grpSpPr>
        <p:sp>
          <p:nvSpPr>
            <p:cNvPr id="147" name=""/>
            <p:cNvSpPr/>
            <p:nvPr/>
          </p:nvSpPr>
          <p:spPr>
            <a:xfrm>
              <a:off x="6475320" y="3657600"/>
              <a:ext cx="915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33240" y="411480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75320" y="5028120"/>
              <a:ext cx="9154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4342680"/>
              <a:ext cx="18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388560" y="5867280"/>
            <a:ext cx="9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19320" y="3733920"/>
            <a:ext cx="1827000" cy="1827720"/>
            <a:chOff x="1219320" y="3733920"/>
            <a:chExt cx="1827000" cy="1827720"/>
          </a:xfrm>
        </p:grpSpPr>
        <p:sp>
          <p:nvSpPr>
            <p:cNvPr id="153" name=""/>
            <p:cNvSpPr/>
            <p:nvPr/>
          </p:nvSpPr>
          <p:spPr>
            <a:xfrm>
              <a:off x="1674720" y="3733920"/>
              <a:ext cx="915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32640" y="4191120"/>
              <a:ext cx="0" cy="9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4720" y="5104440"/>
              <a:ext cx="915480" cy="4572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0"/>
                  </a:lnTo>
                  <a:lnTo>
                    <a:pt x="9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4419000"/>
              <a:ext cx="182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1312920" y="579132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lo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19B4-7E90-4A42-B947-C6ADD913E9F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0128"/>
                </a:solidFill>
                <a:latin typeface="Tahoma"/>
              </a:rPr>
              <a:t>Use Case Diagrams – Use Cases</a:t>
            </a:r>
            <a:endParaRPr b="0" lang="en-US" sz="4400" spc="-1" strike="noStrike">
              <a:solidFill>
                <a:srgbClr val="fc012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Use case is a particular activity a user can do on the system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Is represented by an ellipse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Following are two use cases for a library system.</a:t>
            </a: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105520" y="5181480"/>
            <a:ext cx="3276360" cy="914400"/>
            <a:chOff x="5105520" y="5181480"/>
            <a:chExt cx="3276360" cy="914400"/>
          </a:xfrm>
        </p:grpSpPr>
        <p:sp>
          <p:nvSpPr>
            <p:cNvPr id="161" name=""/>
            <p:cNvSpPr/>
            <p:nvPr/>
          </p:nvSpPr>
          <p:spPr>
            <a:xfrm>
              <a:off x="5105520" y="5181480"/>
              <a:ext cx="327636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87240" y="541008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Reser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143000" y="5181480"/>
            <a:ext cx="3276360" cy="914400"/>
            <a:chOff x="1143000" y="5181480"/>
            <a:chExt cx="3276360" cy="914400"/>
          </a:xfrm>
        </p:grpSpPr>
        <p:sp>
          <p:nvSpPr>
            <p:cNvPr id="164" name=""/>
            <p:cNvSpPr/>
            <p:nvPr/>
          </p:nvSpPr>
          <p:spPr>
            <a:xfrm>
              <a:off x="1143000" y="5181480"/>
              <a:ext cx="327636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61440" y="541008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orr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1774-95AB-4583-B5B5-BDDCCB07673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8T10:52:26Z</dcterms:created>
  <dc:creator>Rajkumar Buyya</dc:creator>
  <dc:description/>
  <dc:language>en-US</dc:language>
  <cp:lastModifiedBy>raj</cp:lastModifiedBy>
  <cp:lastPrinted>2009-04-22T19:24:48Z</cp:lastPrinted>
  <dcterms:modified xsi:type="dcterms:W3CDTF">2003-10-13T02:52:36Z</dcterms:modified>
  <cp:revision>187</cp:revision>
  <dc:subject/>
  <dc:title>UML</dc:title>
</cp:coreProperties>
</file>