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82374-C45E-4B12-8F26-806E760D52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45941-B588-49A5-9AB1-192AA1D32D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A925C-64F0-4F25-BE0C-C714E4FE77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6DF29-4147-402D-B9E4-5A0E2EBD8F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8DB35-5FFA-4104-8A9E-0CAE6CD5B0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BFFC3-89FE-4326-A8E0-015E7B9FE3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F489F-611E-4F97-83FC-26086621B5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40869-88B8-4D8C-8712-2AC318AAF8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D2672-D2BC-4025-A73F-AABDBBBC6C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BF8E3-A6D6-435C-B11F-66BA4265BE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93577-F596-4AFB-8CDE-9E0C60D5F8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20DF5-93B9-4B69-85B5-AB97866F02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F353A-323A-433D-AE57-81E69102B6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A9D96-2314-4A68-976E-E039B8FA6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CE65E-A94B-4990-95D5-9624E7B1C1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DC6C3-627F-4AFD-A9F4-76BD8A9238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BFFFA-662A-4C72-9C27-4BC206A778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2A0E8-220A-43E6-B9B1-B09EA30DE7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2A65F-FB43-4CEB-AB61-AF62AAE8EC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ACD8F-38B1-4969-B919-2492A29BA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51EBF-8E54-4A5A-A07A-A4E96A5530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F214D-F504-4822-8BBA-BCD98558F6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67CA2-E74B-4761-B9EE-85FA23C4EA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5D662-B5BC-43F0-AA77-3316284435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29CAC-F180-4D90-A6D6-CA6C05CEE6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9D6F9-1B76-4164-98BC-8EE39D76BC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A097C-DEF0-45A5-BE33-FB5F1B09F5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1BE1F-AA09-4F74-ACAD-F8B4E37F81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D8DA9-CA7A-45C1-AEB6-A0FA3AD9B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14639-A4CA-4B1C-9833-2D22FB9374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83CC7-7758-4FC2-BB12-A461F127C2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DF0B1-54A7-465F-ADD0-8940243634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F294B-0749-4B27-B79A-65A73163EF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001FF-672E-4BE4-BA36-01F4CAEE9C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37970-ECB5-4A44-A086-C49A222C16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F50D4-896D-421F-B7FD-D7BAAB31DF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F7A76-6848-4D62-A4F1-D046F47F8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B50D6-6B45-4DC9-956E-8E4450448F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6840" y="4012200"/>
            <a:ext cx="81788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760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401220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47600" y="401220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22360" y="106668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87880" y="106668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6840" y="401220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22360" y="401220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87880" y="401220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430F-DD2D-43EB-AA38-0A4022653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7E5E-1AD0-450E-A58C-C631F2412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D180-6444-43DF-B6D5-314A71618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39909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7600" y="1066680"/>
            <a:ext cx="39909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BA64-6D70-4043-9110-D7E00B21A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9CE1-2C8C-42FD-B199-93D9B38F7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548D-045D-464B-BCC1-B31E2C512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7600" y="1066680"/>
            <a:ext cx="39909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01220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A86F-EB5D-4606-8517-9254A184B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39909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760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47600" y="401220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BE40-EF7E-4C3B-9E83-7BF04DD60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60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012200"/>
            <a:ext cx="81788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9AEF-1059-47E4-A80D-6DDEED7B3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012200"/>
            <a:ext cx="81788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7821-663F-467A-9E62-D59669979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760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01220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47600" y="401220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52D9-2E7C-4070-9496-FE0889DF8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22360" y="106668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87880" y="106668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01220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22360" y="401220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87880" y="401220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29F8-538C-4A43-94B1-2CDBB40E1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39909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47600" y="1066680"/>
            <a:ext cx="39909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7600" y="1066680"/>
            <a:ext cx="39909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6840" y="401220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39909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760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47600" y="401220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760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012200"/>
            <a:ext cx="81788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dff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808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8080"/>
              </a:buClr>
              <a:buFont typeface="Verdan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808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Line 4"/>
          <p:cNvSpPr/>
          <p:nvPr/>
        </p:nvSpPr>
        <p:spPr>
          <a:xfrm>
            <a:off x="468360" y="981000"/>
            <a:ext cx="8153280" cy="0"/>
          </a:xfrm>
          <a:prstGeom prst="line">
            <a:avLst/>
          </a:prstGeom>
          <a:ln w="763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dff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Line 7"/>
          <p:cNvSpPr/>
          <p:nvPr/>
        </p:nvSpPr>
        <p:spPr>
          <a:xfrm>
            <a:off x="468360" y="2492280"/>
            <a:ext cx="8153280" cy="0"/>
          </a:xfrm>
          <a:prstGeom prst="line">
            <a:avLst/>
          </a:prstGeom>
          <a:ln w="763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808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8080"/>
              </a:buClr>
              <a:buFont typeface="Verdan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808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FC991-215C-485F-BBEC-0FDF6D2544F2}" type="slidenum">
              <a:rPr b="0" lang="en-GB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William Stallings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Computer Organization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and Architecture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8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 Edi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914040" y="3028680"/>
            <a:ext cx="746748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Reduced Instruction Set Comput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ighted Relative Dynamic Frequency of HLL Operations [PATT82a]</a:t>
            </a: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 (CISC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07" name="Group 263"/>
          <p:cNvGrpSpPr/>
          <p:nvPr/>
        </p:nvGrpSpPr>
        <p:grpSpPr>
          <a:xfrm>
            <a:off x="1015920" y="1405080"/>
            <a:ext cx="7034040" cy="5300640"/>
            <a:chOff x="1015920" y="1405080"/>
            <a:chExt cx="7034040" cy="5300640"/>
          </a:xfrm>
        </p:grpSpPr>
        <p:sp>
          <p:nvSpPr>
            <p:cNvPr id="108" name="Rectangle 4"/>
            <p:cNvSpPr/>
            <p:nvPr/>
          </p:nvSpPr>
          <p:spPr>
            <a:xfrm>
              <a:off x="1084320" y="1405080"/>
              <a:ext cx="86832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" name="Group 60"/>
            <p:cNvGrpSpPr/>
            <p:nvPr/>
          </p:nvGrpSpPr>
          <p:grpSpPr>
            <a:xfrm>
              <a:off x="1884240" y="1405080"/>
              <a:ext cx="2146320" cy="822240"/>
              <a:chOff x="1884240" y="1405080"/>
              <a:chExt cx="2146320" cy="822240"/>
            </a:xfrm>
          </p:grpSpPr>
          <p:sp>
            <p:nvSpPr>
              <p:cNvPr id="110" name="Rectangle 59"/>
              <p:cNvSpPr/>
              <p:nvPr/>
            </p:nvSpPr>
            <p:spPr>
              <a:xfrm>
                <a:off x="2020680" y="1405080"/>
                <a:ext cx="2009880" cy="82224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1" name="Group 58"/>
              <p:cNvGrpSpPr/>
              <p:nvPr/>
            </p:nvGrpSpPr>
            <p:grpSpPr>
              <a:xfrm>
                <a:off x="1884240" y="1405080"/>
                <a:ext cx="2009880" cy="822240"/>
                <a:chOff x="1884240" y="1405080"/>
                <a:chExt cx="2009880" cy="822240"/>
              </a:xfrm>
            </p:grpSpPr>
            <p:sp>
              <p:nvSpPr>
                <p:cNvPr id="112" name="Rectangle 5"/>
                <p:cNvSpPr/>
                <p:nvPr/>
              </p:nvSpPr>
              <p:spPr>
                <a:xfrm>
                  <a:off x="2020680" y="1405080"/>
                  <a:ext cx="1805040" cy="82224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ynamic Occurrenc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Relative frequency of Occurrence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Rectangle 57"/>
                <p:cNvSpPr/>
                <p:nvPr/>
              </p:nvSpPr>
              <p:spPr>
                <a:xfrm>
                  <a:off x="1884240" y="1405080"/>
                  <a:ext cx="20098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4" name="Group 64"/>
            <p:cNvGrpSpPr/>
            <p:nvPr/>
          </p:nvGrpSpPr>
          <p:grpSpPr>
            <a:xfrm>
              <a:off x="3894120" y="1405080"/>
              <a:ext cx="2146320" cy="822240"/>
              <a:chOff x="3894120" y="1405080"/>
              <a:chExt cx="2146320" cy="822240"/>
            </a:xfrm>
          </p:grpSpPr>
          <p:sp>
            <p:nvSpPr>
              <p:cNvPr id="115" name="Rectangle 63"/>
              <p:cNvSpPr/>
              <p:nvPr/>
            </p:nvSpPr>
            <p:spPr>
              <a:xfrm>
                <a:off x="3894120" y="1405080"/>
                <a:ext cx="2009880" cy="82224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6" name="Group 62"/>
              <p:cNvGrpSpPr/>
              <p:nvPr/>
            </p:nvGrpSpPr>
            <p:grpSpPr>
              <a:xfrm>
                <a:off x="3962160" y="1405080"/>
                <a:ext cx="2078280" cy="822240"/>
                <a:chOff x="3962160" y="1405080"/>
                <a:chExt cx="2078280" cy="822240"/>
              </a:xfrm>
            </p:grpSpPr>
            <p:sp>
              <p:nvSpPr>
                <p:cNvPr id="117" name="Rectangle 6"/>
                <p:cNvSpPr/>
                <p:nvPr/>
              </p:nvSpPr>
              <p:spPr>
                <a:xfrm>
                  <a:off x="3962160" y="1405080"/>
                  <a:ext cx="1873440" cy="82224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achine-Instruction Weighte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(Surrogate measures of actual time spent executing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Rectangle 61"/>
                <p:cNvSpPr/>
                <p:nvPr/>
              </p:nvSpPr>
              <p:spPr>
                <a:xfrm>
                  <a:off x="4030560" y="1405080"/>
                  <a:ext cx="20098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9" name="Group 68"/>
            <p:cNvGrpSpPr/>
            <p:nvPr/>
          </p:nvGrpSpPr>
          <p:grpSpPr>
            <a:xfrm>
              <a:off x="5904000" y="1405080"/>
              <a:ext cx="2145960" cy="822240"/>
              <a:chOff x="5904000" y="1405080"/>
              <a:chExt cx="2145960" cy="822240"/>
            </a:xfrm>
          </p:grpSpPr>
          <p:sp>
            <p:nvSpPr>
              <p:cNvPr id="120" name="Rectangle 67"/>
              <p:cNvSpPr/>
              <p:nvPr/>
            </p:nvSpPr>
            <p:spPr>
              <a:xfrm>
                <a:off x="5904000" y="1405080"/>
                <a:ext cx="2009520" cy="82224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1" name="Group 66"/>
              <p:cNvGrpSpPr/>
              <p:nvPr/>
            </p:nvGrpSpPr>
            <p:grpSpPr>
              <a:xfrm>
                <a:off x="5904000" y="1405080"/>
                <a:ext cx="2145960" cy="822240"/>
                <a:chOff x="5904000" y="1405080"/>
                <a:chExt cx="2145960" cy="822240"/>
              </a:xfrm>
            </p:grpSpPr>
            <p:sp>
              <p:nvSpPr>
                <p:cNvPr id="122" name="Rectangle 7"/>
                <p:cNvSpPr/>
                <p:nvPr/>
              </p:nvSpPr>
              <p:spPr>
                <a:xfrm>
                  <a:off x="6040440" y="1405080"/>
                  <a:ext cx="2009520" cy="82224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emory-Reference Weighte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(Surrogate measures of actual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time spent referencing memory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Rectangle 65"/>
                <p:cNvSpPr/>
                <p:nvPr/>
              </p:nvSpPr>
              <p:spPr>
                <a:xfrm>
                  <a:off x="5904000" y="1405080"/>
                  <a:ext cx="200952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4" name="Group 70"/>
            <p:cNvGrpSpPr/>
            <p:nvPr/>
          </p:nvGrpSpPr>
          <p:grpSpPr>
            <a:xfrm>
              <a:off x="1015920" y="2227320"/>
              <a:ext cx="1004760" cy="639720"/>
              <a:chOff x="1015920" y="2227320"/>
              <a:chExt cx="1004760" cy="639720"/>
            </a:xfrm>
          </p:grpSpPr>
          <p:sp>
            <p:nvSpPr>
              <p:cNvPr id="125" name="Rectangle 8"/>
              <p:cNvSpPr/>
              <p:nvPr/>
            </p:nvSpPr>
            <p:spPr>
              <a:xfrm>
                <a:off x="1084320" y="2227320"/>
                <a:ext cx="86832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Rectangle 69"/>
              <p:cNvSpPr/>
              <p:nvPr/>
            </p:nvSpPr>
            <p:spPr>
              <a:xfrm>
                <a:off x="1015920" y="2227320"/>
                <a:ext cx="1004760" cy="639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Group 74"/>
            <p:cNvGrpSpPr/>
            <p:nvPr/>
          </p:nvGrpSpPr>
          <p:grpSpPr>
            <a:xfrm>
              <a:off x="2020680" y="2227320"/>
              <a:ext cx="1005120" cy="639720"/>
              <a:chOff x="2020680" y="2227320"/>
              <a:chExt cx="1005120" cy="639720"/>
            </a:xfrm>
          </p:grpSpPr>
          <p:sp>
            <p:nvSpPr>
              <p:cNvPr id="128" name="Rectangle 73"/>
              <p:cNvSpPr/>
              <p:nvPr/>
            </p:nvSpPr>
            <p:spPr>
              <a:xfrm>
                <a:off x="2020680" y="2227320"/>
                <a:ext cx="1005120" cy="6397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9" name="Group 72"/>
              <p:cNvGrpSpPr/>
              <p:nvPr/>
            </p:nvGrpSpPr>
            <p:grpSpPr>
              <a:xfrm>
                <a:off x="2020680" y="2227320"/>
                <a:ext cx="1005120" cy="639720"/>
                <a:chOff x="2020680" y="2227320"/>
                <a:chExt cx="1005120" cy="639720"/>
              </a:xfrm>
            </p:grpSpPr>
            <p:sp>
              <p:nvSpPr>
                <p:cNvPr id="130" name="Rectangle 9"/>
                <p:cNvSpPr/>
                <p:nvPr/>
              </p:nvSpPr>
              <p:spPr>
                <a:xfrm>
                  <a:off x="2089080" y="2227320"/>
                  <a:ext cx="868320" cy="63972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asca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Rectangle 71"/>
                <p:cNvSpPr/>
                <p:nvPr/>
              </p:nvSpPr>
              <p:spPr>
                <a:xfrm>
                  <a:off x="2020680" y="2227320"/>
                  <a:ext cx="10051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2" name="Group 78"/>
            <p:cNvGrpSpPr/>
            <p:nvPr/>
          </p:nvGrpSpPr>
          <p:grpSpPr>
            <a:xfrm>
              <a:off x="3025800" y="2227320"/>
              <a:ext cx="1004760" cy="639720"/>
              <a:chOff x="3025800" y="2227320"/>
              <a:chExt cx="1004760" cy="639720"/>
            </a:xfrm>
          </p:grpSpPr>
          <p:sp>
            <p:nvSpPr>
              <p:cNvPr id="133" name="Rectangle 77"/>
              <p:cNvSpPr/>
              <p:nvPr/>
            </p:nvSpPr>
            <p:spPr>
              <a:xfrm>
                <a:off x="3025800" y="2227320"/>
                <a:ext cx="1004760" cy="6397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4" name="Group 76"/>
              <p:cNvGrpSpPr/>
              <p:nvPr/>
            </p:nvGrpSpPr>
            <p:grpSpPr>
              <a:xfrm>
                <a:off x="3025800" y="2227320"/>
                <a:ext cx="1004760" cy="639720"/>
                <a:chOff x="3025800" y="2227320"/>
                <a:chExt cx="1004760" cy="639720"/>
              </a:xfrm>
            </p:grpSpPr>
            <p:sp>
              <p:nvSpPr>
                <p:cNvPr id="135" name="Rectangle 10"/>
                <p:cNvSpPr/>
                <p:nvPr/>
              </p:nvSpPr>
              <p:spPr>
                <a:xfrm>
                  <a:off x="3093840" y="2227320"/>
                  <a:ext cx="868320" cy="63972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Rectangle 75"/>
                <p:cNvSpPr/>
                <p:nvPr/>
              </p:nvSpPr>
              <p:spPr>
                <a:xfrm>
                  <a:off x="3025800" y="2227320"/>
                  <a:ext cx="10047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7" name="Group 82"/>
            <p:cNvGrpSpPr/>
            <p:nvPr/>
          </p:nvGrpSpPr>
          <p:grpSpPr>
            <a:xfrm>
              <a:off x="4030560" y="2227320"/>
              <a:ext cx="1004760" cy="639720"/>
              <a:chOff x="4030560" y="2227320"/>
              <a:chExt cx="1004760" cy="639720"/>
            </a:xfrm>
          </p:grpSpPr>
          <p:sp>
            <p:nvSpPr>
              <p:cNvPr id="138" name="Rectangle 81"/>
              <p:cNvSpPr/>
              <p:nvPr/>
            </p:nvSpPr>
            <p:spPr>
              <a:xfrm>
                <a:off x="4030560" y="2227320"/>
                <a:ext cx="1004760" cy="6397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9" name="Group 80"/>
              <p:cNvGrpSpPr/>
              <p:nvPr/>
            </p:nvGrpSpPr>
            <p:grpSpPr>
              <a:xfrm>
                <a:off x="4030560" y="2227320"/>
                <a:ext cx="1004760" cy="639720"/>
                <a:chOff x="4030560" y="2227320"/>
                <a:chExt cx="1004760" cy="639720"/>
              </a:xfrm>
            </p:grpSpPr>
            <p:sp>
              <p:nvSpPr>
                <p:cNvPr id="140" name="Rectangle 11"/>
                <p:cNvSpPr/>
                <p:nvPr/>
              </p:nvSpPr>
              <p:spPr>
                <a:xfrm>
                  <a:off x="4098960" y="2227320"/>
                  <a:ext cx="868320" cy="63972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asca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Rectangle 79"/>
                <p:cNvSpPr/>
                <p:nvPr/>
              </p:nvSpPr>
              <p:spPr>
                <a:xfrm>
                  <a:off x="4030560" y="2227320"/>
                  <a:ext cx="10047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2" name="Group 86"/>
            <p:cNvGrpSpPr/>
            <p:nvPr/>
          </p:nvGrpSpPr>
          <p:grpSpPr>
            <a:xfrm>
              <a:off x="5035320" y="2227320"/>
              <a:ext cx="1005120" cy="639720"/>
              <a:chOff x="5035320" y="2227320"/>
              <a:chExt cx="1005120" cy="639720"/>
            </a:xfrm>
          </p:grpSpPr>
          <p:sp>
            <p:nvSpPr>
              <p:cNvPr id="143" name="Rectangle 85"/>
              <p:cNvSpPr/>
              <p:nvPr/>
            </p:nvSpPr>
            <p:spPr>
              <a:xfrm>
                <a:off x="5035320" y="2227320"/>
                <a:ext cx="1005120" cy="6397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4" name="Group 84"/>
              <p:cNvGrpSpPr/>
              <p:nvPr/>
            </p:nvGrpSpPr>
            <p:grpSpPr>
              <a:xfrm>
                <a:off x="5035320" y="2227320"/>
                <a:ext cx="1005120" cy="639720"/>
                <a:chOff x="5035320" y="2227320"/>
                <a:chExt cx="1005120" cy="639720"/>
              </a:xfrm>
            </p:grpSpPr>
            <p:sp>
              <p:nvSpPr>
                <p:cNvPr id="145" name="Rectangle 12"/>
                <p:cNvSpPr/>
                <p:nvPr/>
              </p:nvSpPr>
              <p:spPr>
                <a:xfrm>
                  <a:off x="5103720" y="2227320"/>
                  <a:ext cx="868320" cy="63972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Rectangle 83"/>
                <p:cNvSpPr/>
                <p:nvPr/>
              </p:nvSpPr>
              <p:spPr>
                <a:xfrm>
                  <a:off x="5035320" y="2227320"/>
                  <a:ext cx="10051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7" name="Group 90"/>
            <p:cNvGrpSpPr/>
            <p:nvPr/>
          </p:nvGrpSpPr>
          <p:grpSpPr>
            <a:xfrm>
              <a:off x="6040440" y="2227320"/>
              <a:ext cx="1004760" cy="639720"/>
              <a:chOff x="6040440" y="2227320"/>
              <a:chExt cx="1004760" cy="639720"/>
            </a:xfrm>
          </p:grpSpPr>
          <p:sp>
            <p:nvSpPr>
              <p:cNvPr id="148" name="Rectangle 89"/>
              <p:cNvSpPr/>
              <p:nvPr/>
            </p:nvSpPr>
            <p:spPr>
              <a:xfrm>
                <a:off x="6040440" y="2227320"/>
                <a:ext cx="1004760" cy="6397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9" name="Group 88"/>
              <p:cNvGrpSpPr/>
              <p:nvPr/>
            </p:nvGrpSpPr>
            <p:grpSpPr>
              <a:xfrm>
                <a:off x="6040440" y="2227320"/>
                <a:ext cx="1004760" cy="639720"/>
                <a:chOff x="6040440" y="2227320"/>
                <a:chExt cx="1004760" cy="639720"/>
              </a:xfrm>
            </p:grpSpPr>
            <p:sp>
              <p:nvSpPr>
                <p:cNvPr id="150" name="Rectangle 13"/>
                <p:cNvSpPr/>
                <p:nvPr/>
              </p:nvSpPr>
              <p:spPr>
                <a:xfrm>
                  <a:off x="6108480" y="2227320"/>
                  <a:ext cx="868680" cy="63972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asca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Rectangle 87"/>
                <p:cNvSpPr/>
                <p:nvPr/>
              </p:nvSpPr>
              <p:spPr>
                <a:xfrm>
                  <a:off x="6040440" y="2227320"/>
                  <a:ext cx="10047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2" name="Group 94"/>
            <p:cNvGrpSpPr/>
            <p:nvPr/>
          </p:nvGrpSpPr>
          <p:grpSpPr>
            <a:xfrm>
              <a:off x="7045200" y="2227320"/>
              <a:ext cx="1004760" cy="639720"/>
              <a:chOff x="7045200" y="2227320"/>
              <a:chExt cx="1004760" cy="639720"/>
            </a:xfrm>
          </p:grpSpPr>
          <p:sp>
            <p:nvSpPr>
              <p:cNvPr id="153" name="Rectangle 93"/>
              <p:cNvSpPr/>
              <p:nvPr/>
            </p:nvSpPr>
            <p:spPr>
              <a:xfrm>
                <a:off x="7045200" y="2227320"/>
                <a:ext cx="1004760" cy="6397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4" name="Group 92"/>
              <p:cNvGrpSpPr/>
              <p:nvPr/>
            </p:nvGrpSpPr>
            <p:grpSpPr>
              <a:xfrm>
                <a:off x="7045200" y="2227320"/>
                <a:ext cx="1004760" cy="639720"/>
                <a:chOff x="7045200" y="2227320"/>
                <a:chExt cx="1004760" cy="639720"/>
              </a:xfrm>
            </p:grpSpPr>
            <p:sp>
              <p:nvSpPr>
                <p:cNvPr id="155" name="Rectangle 14"/>
                <p:cNvSpPr/>
                <p:nvPr/>
              </p:nvSpPr>
              <p:spPr>
                <a:xfrm>
                  <a:off x="7113600" y="2227320"/>
                  <a:ext cx="868320" cy="63972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Rectangle 91"/>
                <p:cNvSpPr/>
                <p:nvPr/>
              </p:nvSpPr>
              <p:spPr>
                <a:xfrm>
                  <a:off x="7045200" y="2227320"/>
                  <a:ext cx="10047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7" name="Group 98"/>
            <p:cNvGrpSpPr/>
            <p:nvPr/>
          </p:nvGrpSpPr>
          <p:grpSpPr>
            <a:xfrm>
              <a:off x="1015920" y="2867040"/>
              <a:ext cx="1004760" cy="639720"/>
              <a:chOff x="1015920" y="2867040"/>
              <a:chExt cx="1004760" cy="639720"/>
            </a:xfrm>
          </p:grpSpPr>
          <p:sp>
            <p:nvSpPr>
              <p:cNvPr id="158" name="Rectangle 97"/>
              <p:cNvSpPr/>
              <p:nvPr/>
            </p:nvSpPr>
            <p:spPr>
              <a:xfrm>
                <a:off x="1015920" y="2867040"/>
                <a:ext cx="1004760" cy="6397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9" name="Group 96"/>
              <p:cNvGrpSpPr/>
              <p:nvPr/>
            </p:nvGrpSpPr>
            <p:grpSpPr>
              <a:xfrm>
                <a:off x="1015920" y="2867040"/>
                <a:ext cx="1004760" cy="639720"/>
                <a:chOff x="1015920" y="2867040"/>
                <a:chExt cx="1004760" cy="639720"/>
              </a:xfrm>
            </p:grpSpPr>
            <p:sp>
              <p:nvSpPr>
                <p:cNvPr id="160" name="Rectangle 15"/>
                <p:cNvSpPr/>
                <p:nvPr/>
              </p:nvSpPr>
              <p:spPr>
                <a:xfrm>
                  <a:off x="1084320" y="2867040"/>
                  <a:ext cx="868320" cy="63972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SSIG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Rectangle 95"/>
                <p:cNvSpPr/>
                <p:nvPr/>
              </p:nvSpPr>
              <p:spPr>
                <a:xfrm>
                  <a:off x="1015920" y="2867040"/>
                  <a:ext cx="10047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2" name="Group 102"/>
            <p:cNvGrpSpPr/>
            <p:nvPr/>
          </p:nvGrpSpPr>
          <p:grpSpPr>
            <a:xfrm>
              <a:off x="2020680" y="2867040"/>
              <a:ext cx="1005120" cy="639720"/>
              <a:chOff x="2020680" y="2867040"/>
              <a:chExt cx="1005120" cy="639720"/>
            </a:xfrm>
          </p:grpSpPr>
          <p:sp>
            <p:nvSpPr>
              <p:cNvPr id="163" name="Rectangle 101"/>
              <p:cNvSpPr/>
              <p:nvPr/>
            </p:nvSpPr>
            <p:spPr>
              <a:xfrm>
                <a:off x="2020680" y="2867040"/>
                <a:ext cx="1005120" cy="6397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4" name="Group 100"/>
              <p:cNvGrpSpPr/>
              <p:nvPr/>
            </p:nvGrpSpPr>
            <p:grpSpPr>
              <a:xfrm>
                <a:off x="2020680" y="2867040"/>
                <a:ext cx="1005120" cy="639720"/>
                <a:chOff x="2020680" y="2867040"/>
                <a:chExt cx="1005120" cy="639720"/>
              </a:xfrm>
            </p:grpSpPr>
            <p:sp>
              <p:nvSpPr>
                <p:cNvPr id="165" name="Rectangle 16"/>
                <p:cNvSpPr/>
                <p:nvPr/>
              </p:nvSpPr>
              <p:spPr>
                <a:xfrm>
                  <a:off x="2089080" y="2867040"/>
                  <a:ext cx="868320" cy="63972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5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Rectangle 99"/>
                <p:cNvSpPr/>
                <p:nvPr/>
              </p:nvSpPr>
              <p:spPr>
                <a:xfrm>
                  <a:off x="2020680" y="2867040"/>
                  <a:ext cx="10051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7" name="Group 106"/>
            <p:cNvGrpSpPr/>
            <p:nvPr/>
          </p:nvGrpSpPr>
          <p:grpSpPr>
            <a:xfrm>
              <a:off x="3025800" y="2867040"/>
              <a:ext cx="1004760" cy="639720"/>
              <a:chOff x="3025800" y="2867040"/>
              <a:chExt cx="1004760" cy="639720"/>
            </a:xfrm>
          </p:grpSpPr>
          <p:sp>
            <p:nvSpPr>
              <p:cNvPr id="168" name="Rectangle 105"/>
              <p:cNvSpPr/>
              <p:nvPr/>
            </p:nvSpPr>
            <p:spPr>
              <a:xfrm>
                <a:off x="3025800" y="2867040"/>
                <a:ext cx="1004760" cy="6397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9" name="Group 104"/>
              <p:cNvGrpSpPr/>
              <p:nvPr/>
            </p:nvGrpSpPr>
            <p:grpSpPr>
              <a:xfrm>
                <a:off x="3025800" y="2867040"/>
                <a:ext cx="1004760" cy="639720"/>
                <a:chOff x="3025800" y="2867040"/>
                <a:chExt cx="1004760" cy="639720"/>
              </a:xfrm>
            </p:grpSpPr>
            <p:sp>
              <p:nvSpPr>
                <p:cNvPr id="170" name="Rectangle 17"/>
                <p:cNvSpPr/>
                <p:nvPr/>
              </p:nvSpPr>
              <p:spPr>
                <a:xfrm>
                  <a:off x="3093840" y="2867040"/>
                  <a:ext cx="868320" cy="63972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8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Rectangle 103"/>
                <p:cNvSpPr/>
                <p:nvPr/>
              </p:nvSpPr>
              <p:spPr>
                <a:xfrm>
                  <a:off x="3025800" y="2867040"/>
                  <a:ext cx="10047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2" name="Group 110"/>
            <p:cNvGrpSpPr/>
            <p:nvPr/>
          </p:nvGrpSpPr>
          <p:grpSpPr>
            <a:xfrm>
              <a:off x="4030560" y="2867040"/>
              <a:ext cx="1004760" cy="639720"/>
              <a:chOff x="4030560" y="2867040"/>
              <a:chExt cx="1004760" cy="639720"/>
            </a:xfrm>
          </p:grpSpPr>
          <p:sp>
            <p:nvSpPr>
              <p:cNvPr id="173" name="Rectangle 109"/>
              <p:cNvSpPr/>
              <p:nvPr/>
            </p:nvSpPr>
            <p:spPr>
              <a:xfrm>
                <a:off x="4030560" y="2867040"/>
                <a:ext cx="1004760" cy="6397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4" name="Group 108"/>
              <p:cNvGrpSpPr/>
              <p:nvPr/>
            </p:nvGrpSpPr>
            <p:grpSpPr>
              <a:xfrm>
                <a:off x="4030560" y="2867040"/>
                <a:ext cx="1004760" cy="639720"/>
                <a:chOff x="4030560" y="2867040"/>
                <a:chExt cx="1004760" cy="639720"/>
              </a:xfrm>
            </p:grpSpPr>
            <p:sp>
              <p:nvSpPr>
                <p:cNvPr id="175" name="Rectangle 18"/>
                <p:cNvSpPr/>
                <p:nvPr/>
              </p:nvSpPr>
              <p:spPr>
                <a:xfrm>
                  <a:off x="4098960" y="2867040"/>
                  <a:ext cx="868320" cy="63972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3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Rectangle 107"/>
                <p:cNvSpPr/>
                <p:nvPr/>
              </p:nvSpPr>
              <p:spPr>
                <a:xfrm>
                  <a:off x="4030560" y="2867040"/>
                  <a:ext cx="10047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7" name="Group 114"/>
            <p:cNvGrpSpPr/>
            <p:nvPr/>
          </p:nvGrpSpPr>
          <p:grpSpPr>
            <a:xfrm>
              <a:off x="5035320" y="2867040"/>
              <a:ext cx="1005120" cy="639720"/>
              <a:chOff x="5035320" y="2867040"/>
              <a:chExt cx="1005120" cy="639720"/>
            </a:xfrm>
          </p:grpSpPr>
          <p:sp>
            <p:nvSpPr>
              <p:cNvPr id="178" name="Rectangle 113"/>
              <p:cNvSpPr/>
              <p:nvPr/>
            </p:nvSpPr>
            <p:spPr>
              <a:xfrm>
                <a:off x="5035320" y="2867040"/>
                <a:ext cx="1005120" cy="6397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9" name="Group 112"/>
              <p:cNvGrpSpPr/>
              <p:nvPr/>
            </p:nvGrpSpPr>
            <p:grpSpPr>
              <a:xfrm>
                <a:off x="5035320" y="2867040"/>
                <a:ext cx="1005120" cy="639720"/>
                <a:chOff x="5035320" y="2867040"/>
                <a:chExt cx="1005120" cy="639720"/>
              </a:xfrm>
            </p:grpSpPr>
            <p:sp>
              <p:nvSpPr>
                <p:cNvPr id="180" name="Rectangle 19"/>
                <p:cNvSpPr/>
                <p:nvPr/>
              </p:nvSpPr>
              <p:spPr>
                <a:xfrm>
                  <a:off x="5103720" y="2867040"/>
                  <a:ext cx="868320" cy="63972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3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Rectangle 111"/>
                <p:cNvSpPr/>
                <p:nvPr/>
              </p:nvSpPr>
              <p:spPr>
                <a:xfrm>
                  <a:off x="5035320" y="2867040"/>
                  <a:ext cx="10051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2" name="Group 118"/>
            <p:cNvGrpSpPr/>
            <p:nvPr/>
          </p:nvGrpSpPr>
          <p:grpSpPr>
            <a:xfrm>
              <a:off x="6040440" y="2867040"/>
              <a:ext cx="1004760" cy="639720"/>
              <a:chOff x="6040440" y="2867040"/>
              <a:chExt cx="1004760" cy="639720"/>
            </a:xfrm>
          </p:grpSpPr>
          <p:sp>
            <p:nvSpPr>
              <p:cNvPr id="183" name="Rectangle 117"/>
              <p:cNvSpPr/>
              <p:nvPr/>
            </p:nvSpPr>
            <p:spPr>
              <a:xfrm>
                <a:off x="6040440" y="2867040"/>
                <a:ext cx="1004760" cy="6397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4" name="Group 116"/>
              <p:cNvGrpSpPr/>
              <p:nvPr/>
            </p:nvGrpSpPr>
            <p:grpSpPr>
              <a:xfrm>
                <a:off x="6040440" y="2867040"/>
                <a:ext cx="1004760" cy="639720"/>
                <a:chOff x="6040440" y="2867040"/>
                <a:chExt cx="1004760" cy="639720"/>
              </a:xfrm>
            </p:grpSpPr>
            <p:sp>
              <p:nvSpPr>
                <p:cNvPr id="185" name="Rectangle 20"/>
                <p:cNvSpPr/>
                <p:nvPr/>
              </p:nvSpPr>
              <p:spPr>
                <a:xfrm>
                  <a:off x="6108480" y="2867040"/>
                  <a:ext cx="868680" cy="63972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4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Rectangle 115"/>
                <p:cNvSpPr/>
                <p:nvPr/>
              </p:nvSpPr>
              <p:spPr>
                <a:xfrm>
                  <a:off x="6040440" y="2867040"/>
                  <a:ext cx="10047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7" name="Group 122"/>
            <p:cNvGrpSpPr/>
            <p:nvPr/>
          </p:nvGrpSpPr>
          <p:grpSpPr>
            <a:xfrm>
              <a:off x="7045200" y="2867040"/>
              <a:ext cx="1004760" cy="639720"/>
              <a:chOff x="7045200" y="2867040"/>
              <a:chExt cx="1004760" cy="639720"/>
            </a:xfrm>
          </p:grpSpPr>
          <p:sp>
            <p:nvSpPr>
              <p:cNvPr id="188" name="Rectangle 121"/>
              <p:cNvSpPr/>
              <p:nvPr/>
            </p:nvSpPr>
            <p:spPr>
              <a:xfrm>
                <a:off x="7045200" y="2867040"/>
                <a:ext cx="1004760" cy="6397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9" name="Group 120"/>
              <p:cNvGrpSpPr/>
              <p:nvPr/>
            </p:nvGrpSpPr>
            <p:grpSpPr>
              <a:xfrm>
                <a:off x="7045200" y="2867040"/>
                <a:ext cx="1004760" cy="639720"/>
                <a:chOff x="7045200" y="2867040"/>
                <a:chExt cx="1004760" cy="639720"/>
              </a:xfrm>
            </p:grpSpPr>
            <p:sp>
              <p:nvSpPr>
                <p:cNvPr id="190" name="Rectangle 21"/>
                <p:cNvSpPr/>
                <p:nvPr/>
              </p:nvSpPr>
              <p:spPr>
                <a:xfrm>
                  <a:off x="7113600" y="2867040"/>
                  <a:ext cx="868320" cy="63972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5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Rectangle 119"/>
                <p:cNvSpPr/>
                <p:nvPr/>
              </p:nvSpPr>
              <p:spPr>
                <a:xfrm>
                  <a:off x="7045200" y="2867040"/>
                  <a:ext cx="10047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2" name="Group 126"/>
            <p:cNvGrpSpPr/>
            <p:nvPr/>
          </p:nvGrpSpPr>
          <p:grpSpPr>
            <a:xfrm>
              <a:off x="1015920" y="3506760"/>
              <a:ext cx="1004760" cy="640080"/>
              <a:chOff x="1015920" y="3506760"/>
              <a:chExt cx="1004760" cy="640080"/>
            </a:xfrm>
          </p:grpSpPr>
          <p:sp>
            <p:nvSpPr>
              <p:cNvPr id="193" name="Rectangle 125"/>
              <p:cNvSpPr/>
              <p:nvPr/>
            </p:nvSpPr>
            <p:spPr>
              <a:xfrm>
                <a:off x="1015920" y="3506760"/>
                <a:ext cx="1004760" cy="6400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4" name="Group 124"/>
              <p:cNvGrpSpPr/>
              <p:nvPr/>
            </p:nvGrpSpPr>
            <p:grpSpPr>
              <a:xfrm>
                <a:off x="1015920" y="3506760"/>
                <a:ext cx="1004760" cy="640080"/>
                <a:chOff x="1015920" y="3506760"/>
                <a:chExt cx="1004760" cy="640080"/>
              </a:xfrm>
            </p:grpSpPr>
            <p:sp>
              <p:nvSpPr>
                <p:cNvPr id="195" name="Rectangle 22"/>
                <p:cNvSpPr/>
                <p:nvPr/>
              </p:nvSpPr>
              <p:spPr>
                <a:xfrm>
                  <a:off x="1084320" y="3506760"/>
                  <a:ext cx="868320" cy="64008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OOP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Rectangle 123"/>
                <p:cNvSpPr/>
                <p:nvPr/>
              </p:nvSpPr>
              <p:spPr>
                <a:xfrm>
                  <a:off x="1015920" y="3506760"/>
                  <a:ext cx="100476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7" name="Group 130"/>
            <p:cNvGrpSpPr/>
            <p:nvPr/>
          </p:nvGrpSpPr>
          <p:grpSpPr>
            <a:xfrm>
              <a:off x="2020680" y="3506760"/>
              <a:ext cx="1005120" cy="640080"/>
              <a:chOff x="2020680" y="3506760"/>
              <a:chExt cx="1005120" cy="640080"/>
            </a:xfrm>
          </p:grpSpPr>
          <p:sp>
            <p:nvSpPr>
              <p:cNvPr id="198" name="Rectangle 129"/>
              <p:cNvSpPr/>
              <p:nvPr/>
            </p:nvSpPr>
            <p:spPr>
              <a:xfrm>
                <a:off x="2020680" y="3506760"/>
                <a:ext cx="1005120" cy="6400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9" name="Group 128"/>
              <p:cNvGrpSpPr/>
              <p:nvPr/>
            </p:nvGrpSpPr>
            <p:grpSpPr>
              <a:xfrm>
                <a:off x="2020680" y="3506760"/>
                <a:ext cx="1005120" cy="640080"/>
                <a:chOff x="2020680" y="3506760"/>
                <a:chExt cx="1005120" cy="640080"/>
              </a:xfrm>
            </p:grpSpPr>
            <p:sp>
              <p:nvSpPr>
                <p:cNvPr id="200" name="Rectangle 23"/>
                <p:cNvSpPr/>
                <p:nvPr/>
              </p:nvSpPr>
              <p:spPr>
                <a:xfrm>
                  <a:off x="2089080" y="3506760"/>
                  <a:ext cx="868320" cy="64008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Rectangle 127"/>
                <p:cNvSpPr/>
                <p:nvPr/>
              </p:nvSpPr>
              <p:spPr>
                <a:xfrm>
                  <a:off x="2020680" y="3506760"/>
                  <a:ext cx="100512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2" name="Group 134"/>
            <p:cNvGrpSpPr/>
            <p:nvPr/>
          </p:nvGrpSpPr>
          <p:grpSpPr>
            <a:xfrm>
              <a:off x="3025800" y="3506760"/>
              <a:ext cx="1004760" cy="640080"/>
              <a:chOff x="3025800" y="3506760"/>
              <a:chExt cx="1004760" cy="640080"/>
            </a:xfrm>
          </p:grpSpPr>
          <p:sp>
            <p:nvSpPr>
              <p:cNvPr id="203" name="Rectangle 133"/>
              <p:cNvSpPr/>
              <p:nvPr/>
            </p:nvSpPr>
            <p:spPr>
              <a:xfrm>
                <a:off x="3025800" y="3506760"/>
                <a:ext cx="1004760" cy="6400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4" name="Group 132"/>
              <p:cNvGrpSpPr/>
              <p:nvPr/>
            </p:nvGrpSpPr>
            <p:grpSpPr>
              <a:xfrm>
                <a:off x="3025800" y="3506760"/>
                <a:ext cx="1004760" cy="640080"/>
                <a:chOff x="3025800" y="3506760"/>
                <a:chExt cx="1004760" cy="640080"/>
              </a:xfrm>
            </p:grpSpPr>
            <p:sp>
              <p:nvSpPr>
                <p:cNvPr id="205" name="Rectangle 24"/>
                <p:cNvSpPr/>
                <p:nvPr/>
              </p:nvSpPr>
              <p:spPr>
                <a:xfrm>
                  <a:off x="3093840" y="3506760"/>
                  <a:ext cx="868320" cy="64008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Rectangle 131"/>
                <p:cNvSpPr/>
                <p:nvPr/>
              </p:nvSpPr>
              <p:spPr>
                <a:xfrm>
                  <a:off x="3025800" y="3506760"/>
                  <a:ext cx="100476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7" name="Group 138"/>
            <p:cNvGrpSpPr/>
            <p:nvPr/>
          </p:nvGrpSpPr>
          <p:grpSpPr>
            <a:xfrm>
              <a:off x="4030560" y="3506760"/>
              <a:ext cx="1004760" cy="640080"/>
              <a:chOff x="4030560" y="3506760"/>
              <a:chExt cx="1004760" cy="640080"/>
            </a:xfrm>
          </p:grpSpPr>
          <p:sp>
            <p:nvSpPr>
              <p:cNvPr id="208" name="Rectangle 137"/>
              <p:cNvSpPr/>
              <p:nvPr/>
            </p:nvSpPr>
            <p:spPr>
              <a:xfrm>
                <a:off x="4030560" y="3506760"/>
                <a:ext cx="1004760" cy="6400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9" name="Group 136"/>
              <p:cNvGrpSpPr/>
              <p:nvPr/>
            </p:nvGrpSpPr>
            <p:grpSpPr>
              <a:xfrm>
                <a:off x="4030560" y="3506760"/>
                <a:ext cx="1004760" cy="640080"/>
                <a:chOff x="4030560" y="3506760"/>
                <a:chExt cx="1004760" cy="640080"/>
              </a:xfrm>
            </p:grpSpPr>
            <p:sp>
              <p:nvSpPr>
                <p:cNvPr id="210" name="Rectangle 25"/>
                <p:cNvSpPr/>
                <p:nvPr/>
              </p:nvSpPr>
              <p:spPr>
                <a:xfrm>
                  <a:off x="4098960" y="3506760"/>
                  <a:ext cx="868320" cy="64008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2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Rectangle 135"/>
                <p:cNvSpPr/>
                <p:nvPr/>
              </p:nvSpPr>
              <p:spPr>
                <a:xfrm>
                  <a:off x="4030560" y="3506760"/>
                  <a:ext cx="100476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2" name="Group 142"/>
            <p:cNvGrpSpPr/>
            <p:nvPr/>
          </p:nvGrpSpPr>
          <p:grpSpPr>
            <a:xfrm>
              <a:off x="5035320" y="3506760"/>
              <a:ext cx="1005120" cy="640080"/>
              <a:chOff x="5035320" y="3506760"/>
              <a:chExt cx="1005120" cy="640080"/>
            </a:xfrm>
          </p:grpSpPr>
          <p:sp>
            <p:nvSpPr>
              <p:cNvPr id="213" name="Rectangle 141"/>
              <p:cNvSpPr/>
              <p:nvPr/>
            </p:nvSpPr>
            <p:spPr>
              <a:xfrm>
                <a:off x="5035320" y="3506760"/>
                <a:ext cx="1005120" cy="6400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4" name="Group 140"/>
              <p:cNvGrpSpPr/>
              <p:nvPr/>
            </p:nvGrpSpPr>
            <p:grpSpPr>
              <a:xfrm>
                <a:off x="5035320" y="3506760"/>
                <a:ext cx="1005120" cy="640080"/>
                <a:chOff x="5035320" y="3506760"/>
                <a:chExt cx="1005120" cy="640080"/>
              </a:xfrm>
            </p:grpSpPr>
            <p:sp>
              <p:nvSpPr>
                <p:cNvPr id="215" name="Rectangle 26"/>
                <p:cNvSpPr/>
                <p:nvPr/>
              </p:nvSpPr>
              <p:spPr>
                <a:xfrm>
                  <a:off x="5103720" y="3506760"/>
                  <a:ext cx="868320" cy="64008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2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Rectangle 139"/>
                <p:cNvSpPr/>
                <p:nvPr/>
              </p:nvSpPr>
              <p:spPr>
                <a:xfrm>
                  <a:off x="5035320" y="3506760"/>
                  <a:ext cx="100512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7" name="Group 146"/>
            <p:cNvGrpSpPr/>
            <p:nvPr/>
          </p:nvGrpSpPr>
          <p:grpSpPr>
            <a:xfrm>
              <a:off x="6040440" y="3506760"/>
              <a:ext cx="1004760" cy="640080"/>
              <a:chOff x="6040440" y="3506760"/>
              <a:chExt cx="1004760" cy="640080"/>
            </a:xfrm>
          </p:grpSpPr>
          <p:sp>
            <p:nvSpPr>
              <p:cNvPr id="218" name="Rectangle 145"/>
              <p:cNvSpPr/>
              <p:nvPr/>
            </p:nvSpPr>
            <p:spPr>
              <a:xfrm>
                <a:off x="6040440" y="3506760"/>
                <a:ext cx="1004760" cy="6400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9" name="Group 144"/>
              <p:cNvGrpSpPr/>
              <p:nvPr/>
            </p:nvGrpSpPr>
            <p:grpSpPr>
              <a:xfrm>
                <a:off x="6040440" y="3506760"/>
                <a:ext cx="1004760" cy="640080"/>
                <a:chOff x="6040440" y="3506760"/>
                <a:chExt cx="1004760" cy="640080"/>
              </a:xfrm>
            </p:grpSpPr>
            <p:sp>
              <p:nvSpPr>
                <p:cNvPr id="220" name="Rectangle 27"/>
                <p:cNvSpPr/>
                <p:nvPr/>
              </p:nvSpPr>
              <p:spPr>
                <a:xfrm>
                  <a:off x="6108480" y="3506760"/>
                  <a:ext cx="868680" cy="64008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3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Rectangle 143"/>
                <p:cNvSpPr/>
                <p:nvPr/>
              </p:nvSpPr>
              <p:spPr>
                <a:xfrm>
                  <a:off x="6040440" y="3506760"/>
                  <a:ext cx="100476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2" name="Group 150"/>
            <p:cNvGrpSpPr/>
            <p:nvPr/>
          </p:nvGrpSpPr>
          <p:grpSpPr>
            <a:xfrm>
              <a:off x="7045200" y="3506760"/>
              <a:ext cx="1004760" cy="640080"/>
              <a:chOff x="7045200" y="3506760"/>
              <a:chExt cx="1004760" cy="640080"/>
            </a:xfrm>
          </p:grpSpPr>
          <p:sp>
            <p:nvSpPr>
              <p:cNvPr id="223" name="Rectangle 149"/>
              <p:cNvSpPr/>
              <p:nvPr/>
            </p:nvSpPr>
            <p:spPr>
              <a:xfrm>
                <a:off x="7045200" y="3506760"/>
                <a:ext cx="1004760" cy="6400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4" name="Group 148"/>
              <p:cNvGrpSpPr/>
              <p:nvPr/>
            </p:nvGrpSpPr>
            <p:grpSpPr>
              <a:xfrm>
                <a:off x="7045200" y="3506760"/>
                <a:ext cx="1004760" cy="640080"/>
                <a:chOff x="7045200" y="3506760"/>
                <a:chExt cx="1004760" cy="640080"/>
              </a:xfrm>
            </p:grpSpPr>
            <p:sp>
              <p:nvSpPr>
                <p:cNvPr id="225" name="Rectangle 28"/>
                <p:cNvSpPr/>
                <p:nvPr/>
              </p:nvSpPr>
              <p:spPr>
                <a:xfrm>
                  <a:off x="7113600" y="3506760"/>
                  <a:ext cx="868320" cy="64008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6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Rectangle 147"/>
                <p:cNvSpPr/>
                <p:nvPr/>
              </p:nvSpPr>
              <p:spPr>
                <a:xfrm>
                  <a:off x="7045200" y="3506760"/>
                  <a:ext cx="100476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7" name="Group 154"/>
            <p:cNvGrpSpPr/>
            <p:nvPr/>
          </p:nvGrpSpPr>
          <p:grpSpPr>
            <a:xfrm>
              <a:off x="1015920" y="4146840"/>
              <a:ext cx="1004760" cy="639720"/>
              <a:chOff x="1015920" y="4146840"/>
              <a:chExt cx="1004760" cy="639720"/>
            </a:xfrm>
          </p:grpSpPr>
          <p:sp>
            <p:nvSpPr>
              <p:cNvPr id="228" name="Rectangle 153"/>
              <p:cNvSpPr/>
              <p:nvPr/>
            </p:nvSpPr>
            <p:spPr>
              <a:xfrm>
                <a:off x="1015920" y="4146840"/>
                <a:ext cx="1004760" cy="6397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9" name="Group 152"/>
              <p:cNvGrpSpPr/>
              <p:nvPr/>
            </p:nvGrpSpPr>
            <p:grpSpPr>
              <a:xfrm>
                <a:off x="1015920" y="4146840"/>
                <a:ext cx="1004760" cy="639720"/>
                <a:chOff x="1015920" y="4146840"/>
                <a:chExt cx="1004760" cy="639720"/>
              </a:xfrm>
            </p:grpSpPr>
            <p:sp>
              <p:nvSpPr>
                <p:cNvPr id="230" name="Rectangle 29"/>
                <p:cNvSpPr/>
                <p:nvPr/>
              </p:nvSpPr>
              <p:spPr>
                <a:xfrm>
                  <a:off x="1084320" y="4146840"/>
                  <a:ext cx="868320" cy="63972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L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Rectangle 151"/>
                <p:cNvSpPr/>
                <p:nvPr/>
              </p:nvSpPr>
              <p:spPr>
                <a:xfrm>
                  <a:off x="1015920" y="4146840"/>
                  <a:ext cx="10047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32" name="Group 158"/>
            <p:cNvGrpSpPr/>
            <p:nvPr/>
          </p:nvGrpSpPr>
          <p:grpSpPr>
            <a:xfrm>
              <a:off x="2020680" y="4146840"/>
              <a:ext cx="1005120" cy="639720"/>
              <a:chOff x="2020680" y="4146840"/>
              <a:chExt cx="1005120" cy="639720"/>
            </a:xfrm>
          </p:grpSpPr>
          <p:sp>
            <p:nvSpPr>
              <p:cNvPr id="233" name="Rectangle 157"/>
              <p:cNvSpPr/>
              <p:nvPr/>
            </p:nvSpPr>
            <p:spPr>
              <a:xfrm>
                <a:off x="2020680" y="4146840"/>
                <a:ext cx="1005120" cy="6397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4" name="Group 156"/>
              <p:cNvGrpSpPr/>
              <p:nvPr/>
            </p:nvGrpSpPr>
            <p:grpSpPr>
              <a:xfrm>
                <a:off x="2020680" y="4146840"/>
                <a:ext cx="1005120" cy="639720"/>
                <a:chOff x="2020680" y="4146840"/>
                <a:chExt cx="1005120" cy="639720"/>
              </a:xfrm>
            </p:grpSpPr>
            <p:sp>
              <p:nvSpPr>
                <p:cNvPr id="235" name="Rectangle 30"/>
                <p:cNvSpPr/>
                <p:nvPr/>
              </p:nvSpPr>
              <p:spPr>
                <a:xfrm>
                  <a:off x="2089080" y="4146840"/>
                  <a:ext cx="868320" cy="63972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5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Rectangle 155"/>
                <p:cNvSpPr/>
                <p:nvPr/>
              </p:nvSpPr>
              <p:spPr>
                <a:xfrm>
                  <a:off x="2020680" y="4146840"/>
                  <a:ext cx="10051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37" name="Group 162"/>
            <p:cNvGrpSpPr/>
            <p:nvPr/>
          </p:nvGrpSpPr>
          <p:grpSpPr>
            <a:xfrm>
              <a:off x="3025800" y="4146840"/>
              <a:ext cx="1004760" cy="639720"/>
              <a:chOff x="3025800" y="4146840"/>
              <a:chExt cx="1004760" cy="639720"/>
            </a:xfrm>
          </p:grpSpPr>
          <p:sp>
            <p:nvSpPr>
              <p:cNvPr id="238" name="Rectangle 161"/>
              <p:cNvSpPr/>
              <p:nvPr/>
            </p:nvSpPr>
            <p:spPr>
              <a:xfrm>
                <a:off x="3025800" y="4146840"/>
                <a:ext cx="1004760" cy="6397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9" name="Group 160"/>
              <p:cNvGrpSpPr/>
              <p:nvPr/>
            </p:nvGrpSpPr>
            <p:grpSpPr>
              <a:xfrm>
                <a:off x="3025800" y="4146840"/>
                <a:ext cx="1004760" cy="639720"/>
                <a:chOff x="3025800" y="4146840"/>
                <a:chExt cx="1004760" cy="639720"/>
              </a:xfrm>
            </p:grpSpPr>
            <p:sp>
              <p:nvSpPr>
                <p:cNvPr id="240" name="Rectangle 31"/>
                <p:cNvSpPr/>
                <p:nvPr/>
              </p:nvSpPr>
              <p:spPr>
                <a:xfrm>
                  <a:off x="3093840" y="4146840"/>
                  <a:ext cx="868320" cy="63972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Rectangle 159"/>
                <p:cNvSpPr/>
                <p:nvPr/>
              </p:nvSpPr>
              <p:spPr>
                <a:xfrm>
                  <a:off x="3025800" y="4146840"/>
                  <a:ext cx="10047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42" name="Group 166"/>
            <p:cNvGrpSpPr/>
            <p:nvPr/>
          </p:nvGrpSpPr>
          <p:grpSpPr>
            <a:xfrm>
              <a:off x="4030560" y="4146840"/>
              <a:ext cx="1004760" cy="639720"/>
              <a:chOff x="4030560" y="4146840"/>
              <a:chExt cx="1004760" cy="639720"/>
            </a:xfrm>
          </p:grpSpPr>
          <p:sp>
            <p:nvSpPr>
              <p:cNvPr id="243" name="Rectangle 165"/>
              <p:cNvSpPr/>
              <p:nvPr/>
            </p:nvSpPr>
            <p:spPr>
              <a:xfrm>
                <a:off x="4030560" y="4146840"/>
                <a:ext cx="1004760" cy="6397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4" name="Group 164"/>
              <p:cNvGrpSpPr/>
              <p:nvPr/>
            </p:nvGrpSpPr>
            <p:grpSpPr>
              <a:xfrm>
                <a:off x="4030560" y="4146840"/>
                <a:ext cx="1004760" cy="639720"/>
                <a:chOff x="4030560" y="4146840"/>
                <a:chExt cx="1004760" cy="639720"/>
              </a:xfrm>
            </p:grpSpPr>
            <p:sp>
              <p:nvSpPr>
                <p:cNvPr id="245" name="Rectangle 32"/>
                <p:cNvSpPr/>
                <p:nvPr/>
              </p:nvSpPr>
              <p:spPr>
                <a:xfrm>
                  <a:off x="4098960" y="4146840"/>
                  <a:ext cx="868320" cy="63972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1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Rectangle 163"/>
                <p:cNvSpPr/>
                <p:nvPr/>
              </p:nvSpPr>
              <p:spPr>
                <a:xfrm>
                  <a:off x="4030560" y="4146840"/>
                  <a:ext cx="10047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47" name="Group 170"/>
            <p:cNvGrpSpPr/>
            <p:nvPr/>
          </p:nvGrpSpPr>
          <p:grpSpPr>
            <a:xfrm>
              <a:off x="5035320" y="4146840"/>
              <a:ext cx="1005120" cy="639720"/>
              <a:chOff x="5035320" y="4146840"/>
              <a:chExt cx="1005120" cy="639720"/>
            </a:xfrm>
          </p:grpSpPr>
          <p:sp>
            <p:nvSpPr>
              <p:cNvPr id="248" name="Rectangle 169"/>
              <p:cNvSpPr/>
              <p:nvPr/>
            </p:nvSpPr>
            <p:spPr>
              <a:xfrm>
                <a:off x="5035320" y="4146840"/>
                <a:ext cx="1005120" cy="6397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9" name="Group 168"/>
              <p:cNvGrpSpPr/>
              <p:nvPr/>
            </p:nvGrpSpPr>
            <p:grpSpPr>
              <a:xfrm>
                <a:off x="5035320" y="4146840"/>
                <a:ext cx="1005120" cy="639720"/>
                <a:chOff x="5035320" y="4146840"/>
                <a:chExt cx="1005120" cy="639720"/>
              </a:xfrm>
            </p:grpSpPr>
            <p:sp>
              <p:nvSpPr>
                <p:cNvPr id="250" name="Rectangle 33"/>
                <p:cNvSpPr/>
                <p:nvPr/>
              </p:nvSpPr>
              <p:spPr>
                <a:xfrm>
                  <a:off x="5103720" y="4146840"/>
                  <a:ext cx="868320" cy="63972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3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Rectangle 167"/>
                <p:cNvSpPr/>
                <p:nvPr/>
              </p:nvSpPr>
              <p:spPr>
                <a:xfrm>
                  <a:off x="5035320" y="4146840"/>
                  <a:ext cx="10051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2" name="Group 174"/>
            <p:cNvGrpSpPr/>
            <p:nvPr/>
          </p:nvGrpSpPr>
          <p:grpSpPr>
            <a:xfrm>
              <a:off x="6040440" y="4146840"/>
              <a:ext cx="1004760" cy="639720"/>
              <a:chOff x="6040440" y="4146840"/>
              <a:chExt cx="1004760" cy="639720"/>
            </a:xfrm>
          </p:grpSpPr>
          <p:sp>
            <p:nvSpPr>
              <p:cNvPr id="253" name="Rectangle 173"/>
              <p:cNvSpPr/>
              <p:nvPr/>
            </p:nvSpPr>
            <p:spPr>
              <a:xfrm>
                <a:off x="6040440" y="4146840"/>
                <a:ext cx="1004760" cy="6397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4" name="Group 172"/>
              <p:cNvGrpSpPr/>
              <p:nvPr/>
            </p:nvGrpSpPr>
            <p:grpSpPr>
              <a:xfrm>
                <a:off x="6040440" y="4146840"/>
                <a:ext cx="1004760" cy="639720"/>
                <a:chOff x="6040440" y="4146840"/>
                <a:chExt cx="1004760" cy="639720"/>
              </a:xfrm>
            </p:grpSpPr>
            <p:sp>
              <p:nvSpPr>
                <p:cNvPr id="255" name="Rectangle 34"/>
                <p:cNvSpPr/>
                <p:nvPr/>
              </p:nvSpPr>
              <p:spPr>
                <a:xfrm>
                  <a:off x="6108480" y="4146840"/>
                  <a:ext cx="868680" cy="63972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4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Rectangle 171"/>
                <p:cNvSpPr/>
                <p:nvPr/>
              </p:nvSpPr>
              <p:spPr>
                <a:xfrm>
                  <a:off x="6040440" y="4146840"/>
                  <a:ext cx="10047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7" name="Group 178"/>
            <p:cNvGrpSpPr/>
            <p:nvPr/>
          </p:nvGrpSpPr>
          <p:grpSpPr>
            <a:xfrm>
              <a:off x="7045200" y="4146840"/>
              <a:ext cx="1004760" cy="639720"/>
              <a:chOff x="7045200" y="4146840"/>
              <a:chExt cx="1004760" cy="639720"/>
            </a:xfrm>
          </p:grpSpPr>
          <p:sp>
            <p:nvSpPr>
              <p:cNvPr id="258" name="Rectangle 177"/>
              <p:cNvSpPr/>
              <p:nvPr/>
            </p:nvSpPr>
            <p:spPr>
              <a:xfrm>
                <a:off x="7045200" y="4146840"/>
                <a:ext cx="1004760" cy="6397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9" name="Group 176"/>
              <p:cNvGrpSpPr/>
              <p:nvPr/>
            </p:nvGrpSpPr>
            <p:grpSpPr>
              <a:xfrm>
                <a:off x="7045200" y="4146840"/>
                <a:ext cx="1004760" cy="639720"/>
                <a:chOff x="7045200" y="4146840"/>
                <a:chExt cx="1004760" cy="639720"/>
              </a:xfrm>
            </p:grpSpPr>
            <p:sp>
              <p:nvSpPr>
                <p:cNvPr id="260" name="Rectangle 35"/>
                <p:cNvSpPr/>
                <p:nvPr/>
              </p:nvSpPr>
              <p:spPr>
                <a:xfrm>
                  <a:off x="7113600" y="4146840"/>
                  <a:ext cx="868320" cy="63972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5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Rectangle 175"/>
                <p:cNvSpPr/>
                <p:nvPr/>
              </p:nvSpPr>
              <p:spPr>
                <a:xfrm>
                  <a:off x="7045200" y="4146840"/>
                  <a:ext cx="10047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2" name="Group 182"/>
            <p:cNvGrpSpPr/>
            <p:nvPr/>
          </p:nvGrpSpPr>
          <p:grpSpPr>
            <a:xfrm>
              <a:off x="1015920" y="4786560"/>
              <a:ext cx="1004760" cy="639720"/>
              <a:chOff x="1015920" y="4786560"/>
              <a:chExt cx="1004760" cy="639720"/>
            </a:xfrm>
          </p:grpSpPr>
          <p:sp>
            <p:nvSpPr>
              <p:cNvPr id="263" name="Rectangle 181"/>
              <p:cNvSpPr/>
              <p:nvPr/>
            </p:nvSpPr>
            <p:spPr>
              <a:xfrm>
                <a:off x="1015920" y="4786560"/>
                <a:ext cx="1004760" cy="6397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4" name="Group 180"/>
              <p:cNvGrpSpPr/>
              <p:nvPr/>
            </p:nvGrpSpPr>
            <p:grpSpPr>
              <a:xfrm>
                <a:off x="1015920" y="4786560"/>
                <a:ext cx="1004760" cy="639720"/>
                <a:chOff x="1015920" y="4786560"/>
                <a:chExt cx="1004760" cy="639720"/>
              </a:xfrm>
            </p:grpSpPr>
            <p:sp>
              <p:nvSpPr>
                <p:cNvPr id="265" name="Rectangle 36"/>
                <p:cNvSpPr/>
                <p:nvPr/>
              </p:nvSpPr>
              <p:spPr>
                <a:xfrm>
                  <a:off x="1084320" y="4786560"/>
                  <a:ext cx="868320" cy="63972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F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Rectangle 179"/>
                <p:cNvSpPr/>
                <p:nvPr/>
              </p:nvSpPr>
              <p:spPr>
                <a:xfrm>
                  <a:off x="1015920" y="4786560"/>
                  <a:ext cx="10047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7" name="Group 186"/>
            <p:cNvGrpSpPr/>
            <p:nvPr/>
          </p:nvGrpSpPr>
          <p:grpSpPr>
            <a:xfrm>
              <a:off x="2020680" y="4786560"/>
              <a:ext cx="1005120" cy="639720"/>
              <a:chOff x="2020680" y="4786560"/>
              <a:chExt cx="1005120" cy="639720"/>
            </a:xfrm>
          </p:grpSpPr>
          <p:sp>
            <p:nvSpPr>
              <p:cNvPr id="268" name="Rectangle 185"/>
              <p:cNvSpPr/>
              <p:nvPr/>
            </p:nvSpPr>
            <p:spPr>
              <a:xfrm>
                <a:off x="2020680" y="4786560"/>
                <a:ext cx="1005120" cy="6397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9" name="Group 184"/>
              <p:cNvGrpSpPr/>
              <p:nvPr/>
            </p:nvGrpSpPr>
            <p:grpSpPr>
              <a:xfrm>
                <a:off x="2020680" y="4786560"/>
                <a:ext cx="1005120" cy="639720"/>
                <a:chOff x="2020680" y="4786560"/>
                <a:chExt cx="1005120" cy="639720"/>
              </a:xfrm>
            </p:grpSpPr>
            <p:sp>
              <p:nvSpPr>
                <p:cNvPr id="270" name="Rectangle 37"/>
                <p:cNvSpPr/>
                <p:nvPr/>
              </p:nvSpPr>
              <p:spPr>
                <a:xfrm>
                  <a:off x="2089080" y="4786560"/>
                  <a:ext cx="868320" cy="63972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9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Rectangle 183"/>
                <p:cNvSpPr/>
                <p:nvPr/>
              </p:nvSpPr>
              <p:spPr>
                <a:xfrm>
                  <a:off x="2020680" y="4786560"/>
                  <a:ext cx="10051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2" name="Group 190"/>
            <p:cNvGrpSpPr/>
            <p:nvPr/>
          </p:nvGrpSpPr>
          <p:grpSpPr>
            <a:xfrm>
              <a:off x="3025800" y="4786560"/>
              <a:ext cx="1004760" cy="639720"/>
              <a:chOff x="3025800" y="4786560"/>
              <a:chExt cx="1004760" cy="639720"/>
            </a:xfrm>
          </p:grpSpPr>
          <p:sp>
            <p:nvSpPr>
              <p:cNvPr id="273" name="Rectangle 189"/>
              <p:cNvSpPr/>
              <p:nvPr/>
            </p:nvSpPr>
            <p:spPr>
              <a:xfrm>
                <a:off x="3025800" y="4786560"/>
                <a:ext cx="1004760" cy="6397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4" name="Group 188"/>
              <p:cNvGrpSpPr/>
              <p:nvPr/>
            </p:nvGrpSpPr>
            <p:grpSpPr>
              <a:xfrm>
                <a:off x="3025800" y="4786560"/>
                <a:ext cx="1004760" cy="639720"/>
                <a:chOff x="3025800" y="4786560"/>
                <a:chExt cx="1004760" cy="639720"/>
              </a:xfrm>
            </p:grpSpPr>
            <p:sp>
              <p:nvSpPr>
                <p:cNvPr id="275" name="Rectangle 38"/>
                <p:cNvSpPr/>
                <p:nvPr/>
              </p:nvSpPr>
              <p:spPr>
                <a:xfrm>
                  <a:off x="3093840" y="4786560"/>
                  <a:ext cx="868320" cy="63972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3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Rectangle 187"/>
                <p:cNvSpPr/>
                <p:nvPr/>
              </p:nvSpPr>
              <p:spPr>
                <a:xfrm>
                  <a:off x="3025800" y="4786560"/>
                  <a:ext cx="10047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7" name="Group 194"/>
            <p:cNvGrpSpPr/>
            <p:nvPr/>
          </p:nvGrpSpPr>
          <p:grpSpPr>
            <a:xfrm>
              <a:off x="4030560" y="4786560"/>
              <a:ext cx="1004760" cy="639720"/>
              <a:chOff x="4030560" y="4786560"/>
              <a:chExt cx="1004760" cy="639720"/>
            </a:xfrm>
          </p:grpSpPr>
          <p:sp>
            <p:nvSpPr>
              <p:cNvPr id="278" name="Rectangle 193"/>
              <p:cNvSpPr/>
              <p:nvPr/>
            </p:nvSpPr>
            <p:spPr>
              <a:xfrm>
                <a:off x="4030560" y="4786560"/>
                <a:ext cx="1004760" cy="6397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9" name="Group 192"/>
              <p:cNvGrpSpPr/>
              <p:nvPr/>
            </p:nvGrpSpPr>
            <p:grpSpPr>
              <a:xfrm>
                <a:off x="4030560" y="4786560"/>
                <a:ext cx="1004760" cy="639720"/>
                <a:chOff x="4030560" y="4786560"/>
                <a:chExt cx="1004760" cy="639720"/>
              </a:xfrm>
            </p:grpSpPr>
            <p:sp>
              <p:nvSpPr>
                <p:cNvPr id="280" name="Rectangle 39"/>
                <p:cNvSpPr/>
                <p:nvPr/>
              </p:nvSpPr>
              <p:spPr>
                <a:xfrm>
                  <a:off x="4098960" y="4786560"/>
                  <a:ext cx="868320" cy="63972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Rectangle 191"/>
                <p:cNvSpPr/>
                <p:nvPr/>
              </p:nvSpPr>
              <p:spPr>
                <a:xfrm>
                  <a:off x="4030560" y="4786560"/>
                  <a:ext cx="10047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2" name="Group 198"/>
            <p:cNvGrpSpPr/>
            <p:nvPr/>
          </p:nvGrpSpPr>
          <p:grpSpPr>
            <a:xfrm>
              <a:off x="5035320" y="4786560"/>
              <a:ext cx="1005120" cy="639720"/>
              <a:chOff x="5035320" y="4786560"/>
              <a:chExt cx="1005120" cy="639720"/>
            </a:xfrm>
          </p:grpSpPr>
          <p:sp>
            <p:nvSpPr>
              <p:cNvPr id="283" name="Rectangle 197"/>
              <p:cNvSpPr/>
              <p:nvPr/>
            </p:nvSpPr>
            <p:spPr>
              <a:xfrm>
                <a:off x="5035320" y="4786560"/>
                <a:ext cx="1005120" cy="6397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4" name="Group 196"/>
              <p:cNvGrpSpPr/>
              <p:nvPr/>
            </p:nvGrpSpPr>
            <p:grpSpPr>
              <a:xfrm>
                <a:off x="5035320" y="4786560"/>
                <a:ext cx="1005120" cy="639720"/>
                <a:chOff x="5035320" y="4786560"/>
                <a:chExt cx="1005120" cy="639720"/>
              </a:xfrm>
            </p:grpSpPr>
            <p:sp>
              <p:nvSpPr>
                <p:cNvPr id="285" name="Rectangle 40"/>
                <p:cNvSpPr/>
                <p:nvPr/>
              </p:nvSpPr>
              <p:spPr>
                <a:xfrm>
                  <a:off x="5103720" y="4786560"/>
                  <a:ext cx="868320" cy="63972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1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Rectangle 195"/>
                <p:cNvSpPr/>
                <p:nvPr/>
              </p:nvSpPr>
              <p:spPr>
                <a:xfrm>
                  <a:off x="5035320" y="4786560"/>
                  <a:ext cx="10051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7" name="Group 202"/>
            <p:cNvGrpSpPr/>
            <p:nvPr/>
          </p:nvGrpSpPr>
          <p:grpSpPr>
            <a:xfrm>
              <a:off x="6040440" y="4786560"/>
              <a:ext cx="1004760" cy="639720"/>
              <a:chOff x="6040440" y="4786560"/>
              <a:chExt cx="1004760" cy="639720"/>
            </a:xfrm>
          </p:grpSpPr>
          <p:sp>
            <p:nvSpPr>
              <p:cNvPr id="288" name="Rectangle 201"/>
              <p:cNvSpPr/>
              <p:nvPr/>
            </p:nvSpPr>
            <p:spPr>
              <a:xfrm>
                <a:off x="6040440" y="4786560"/>
                <a:ext cx="1004760" cy="6397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9" name="Group 200"/>
              <p:cNvGrpSpPr/>
              <p:nvPr/>
            </p:nvGrpSpPr>
            <p:grpSpPr>
              <a:xfrm>
                <a:off x="6040440" y="4786560"/>
                <a:ext cx="1004760" cy="639720"/>
                <a:chOff x="6040440" y="4786560"/>
                <a:chExt cx="1004760" cy="639720"/>
              </a:xfrm>
            </p:grpSpPr>
            <p:sp>
              <p:nvSpPr>
                <p:cNvPr id="290" name="Rectangle 41"/>
                <p:cNvSpPr/>
                <p:nvPr/>
              </p:nvSpPr>
              <p:spPr>
                <a:xfrm>
                  <a:off x="6108480" y="4786560"/>
                  <a:ext cx="868680" cy="63972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Rectangle 199"/>
                <p:cNvSpPr/>
                <p:nvPr/>
              </p:nvSpPr>
              <p:spPr>
                <a:xfrm>
                  <a:off x="6040440" y="4786560"/>
                  <a:ext cx="10047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2" name="Group 206"/>
            <p:cNvGrpSpPr/>
            <p:nvPr/>
          </p:nvGrpSpPr>
          <p:grpSpPr>
            <a:xfrm>
              <a:off x="7045200" y="4786560"/>
              <a:ext cx="1004760" cy="639720"/>
              <a:chOff x="7045200" y="4786560"/>
              <a:chExt cx="1004760" cy="639720"/>
            </a:xfrm>
          </p:grpSpPr>
          <p:sp>
            <p:nvSpPr>
              <p:cNvPr id="293" name="Rectangle 205"/>
              <p:cNvSpPr/>
              <p:nvPr/>
            </p:nvSpPr>
            <p:spPr>
              <a:xfrm>
                <a:off x="7045200" y="4786560"/>
                <a:ext cx="1004760" cy="6397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4" name="Group 204"/>
              <p:cNvGrpSpPr/>
              <p:nvPr/>
            </p:nvGrpSpPr>
            <p:grpSpPr>
              <a:xfrm>
                <a:off x="7045200" y="4786560"/>
                <a:ext cx="1004760" cy="639720"/>
                <a:chOff x="7045200" y="4786560"/>
                <a:chExt cx="1004760" cy="639720"/>
              </a:xfrm>
            </p:grpSpPr>
            <p:sp>
              <p:nvSpPr>
                <p:cNvPr id="295" name="Rectangle 42"/>
                <p:cNvSpPr/>
                <p:nvPr/>
              </p:nvSpPr>
              <p:spPr>
                <a:xfrm>
                  <a:off x="7113600" y="4786560"/>
                  <a:ext cx="868320" cy="63972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3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Rectangle 203"/>
                <p:cNvSpPr/>
                <p:nvPr/>
              </p:nvSpPr>
              <p:spPr>
                <a:xfrm>
                  <a:off x="7045200" y="4786560"/>
                  <a:ext cx="10047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7" name="Group 210"/>
            <p:cNvGrpSpPr/>
            <p:nvPr/>
          </p:nvGrpSpPr>
          <p:grpSpPr>
            <a:xfrm>
              <a:off x="1015920" y="5426280"/>
              <a:ext cx="1004760" cy="639720"/>
              <a:chOff x="1015920" y="5426280"/>
              <a:chExt cx="1004760" cy="639720"/>
            </a:xfrm>
          </p:grpSpPr>
          <p:sp>
            <p:nvSpPr>
              <p:cNvPr id="298" name="Rectangle 209"/>
              <p:cNvSpPr/>
              <p:nvPr/>
            </p:nvSpPr>
            <p:spPr>
              <a:xfrm>
                <a:off x="1015920" y="5426280"/>
                <a:ext cx="1004760" cy="6397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9" name="Group 208"/>
              <p:cNvGrpSpPr/>
              <p:nvPr/>
            </p:nvGrpSpPr>
            <p:grpSpPr>
              <a:xfrm>
                <a:off x="1015920" y="5426280"/>
                <a:ext cx="1004760" cy="639720"/>
                <a:chOff x="1015920" y="5426280"/>
                <a:chExt cx="1004760" cy="639720"/>
              </a:xfrm>
            </p:grpSpPr>
            <p:sp>
              <p:nvSpPr>
                <p:cNvPr id="300" name="Rectangle 43"/>
                <p:cNvSpPr/>
                <p:nvPr/>
              </p:nvSpPr>
              <p:spPr>
                <a:xfrm>
                  <a:off x="1084320" y="5426280"/>
                  <a:ext cx="868320" cy="63972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OT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Rectangle 207"/>
                <p:cNvSpPr/>
                <p:nvPr/>
              </p:nvSpPr>
              <p:spPr>
                <a:xfrm>
                  <a:off x="1015920" y="5426280"/>
                  <a:ext cx="10047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2" name="Group 214"/>
            <p:cNvGrpSpPr/>
            <p:nvPr/>
          </p:nvGrpSpPr>
          <p:grpSpPr>
            <a:xfrm>
              <a:off x="2020680" y="5426280"/>
              <a:ext cx="1005120" cy="639720"/>
              <a:chOff x="2020680" y="5426280"/>
              <a:chExt cx="1005120" cy="639720"/>
            </a:xfrm>
          </p:grpSpPr>
          <p:sp>
            <p:nvSpPr>
              <p:cNvPr id="303" name="Rectangle 213"/>
              <p:cNvSpPr/>
              <p:nvPr/>
            </p:nvSpPr>
            <p:spPr>
              <a:xfrm>
                <a:off x="2020680" y="5426280"/>
                <a:ext cx="1005120" cy="6397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4" name="Group 212"/>
              <p:cNvGrpSpPr/>
              <p:nvPr/>
            </p:nvGrpSpPr>
            <p:grpSpPr>
              <a:xfrm>
                <a:off x="2020680" y="5426280"/>
                <a:ext cx="1005120" cy="639720"/>
                <a:chOff x="2020680" y="5426280"/>
                <a:chExt cx="1005120" cy="639720"/>
              </a:xfrm>
            </p:grpSpPr>
            <p:sp>
              <p:nvSpPr>
                <p:cNvPr id="305" name="Rectangle 44"/>
                <p:cNvSpPr/>
                <p:nvPr/>
              </p:nvSpPr>
              <p:spPr>
                <a:xfrm>
                  <a:off x="2089080" y="5426280"/>
                  <a:ext cx="868320" cy="63972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—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Rectangle 211"/>
                <p:cNvSpPr/>
                <p:nvPr/>
              </p:nvSpPr>
              <p:spPr>
                <a:xfrm>
                  <a:off x="2020680" y="5426280"/>
                  <a:ext cx="10051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7" name="Group 218"/>
            <p:cNvGrpSpPr/>
            <p:nvPr/>
          </p:nvGrpSpPr>
          <p:grpSpPr>
            <a:xfrm>
              <a:off x="3025800" y="5426280"/>
              <a:ext cx="1004760" cy="639720"/>
              <a:chOff x="3025800" y="5426280"/>
              <a:chExt cx="1004760" cy="639720"/>
            </a:xfrm>
          </p:grpSpPr>
          <p:sp>
            <p:nvSpPr>
              <p:cNvPr id="308" name="Rectangle 217"/>
              <p:cNvSpPr/>
              <p:nvPr/>
            </p:nvSpPr>
            <p:spPr>
              <a:xfrm>
                <a:off x="3025800" y="5426280"/>
                <a:ext cx="1004760" cy="6397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9" name="Group 216"/>
              <p:cNvGrpSpPr/>
              <p:nvPr/>
            </p:nvGrpSpPr>
            <p:grpSpPr>
              <a:xfrm>
                <a:off x="3025800" y="5426280"/>
                <a:ext cx="1004760" cy="639720"/>
                <a:chOff x="3025800" y="5426280"/>
                <a:chExt cx="1004760" cy="639720"/>
              </a:xfrm>
            </p:grpSpPr>
            <p:sp>
              <p:nvSpPr>
                <p:cNvPr id="310" name="Rectangle 45"/>
                <p:cNvSpPr/>
                <p:nvPr/>
              </p:nvSpPr>
              <p:spPr>
                <a:xfrm>
                  <a:off x="3093840" y="5426280"/>
                  <a:ext cx="868320" cy="63972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Rectangle 215"/>
                <p:cNvSpPr/>
                <p:nvPr/>
              </p:nvSpPr>
              <p:spPr>
                <a:xfrm>
                  <a:off x="3025800" y="5426280"/>
                  <a:ext cx="10047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2" name="Group 222"/>
            <p:cNvGrpSpPr/>
            <p:nvPr/>
          </p:nvGrpSpPr>
          <p:grpSpPr>
            <a:xfrm>
              <a:off x="4030560" y="5426280"/>
              <a:ext cx="1004760" cy="639720"/>
              <a:chOff x="4030560" y="5426280"/>
              <a:chExt cx="1004760" cy="639720"/>
            </a:xfrm>
          </p:grpSpPr>
          <p:sp>
            <p:nvSpPr>
              <p:cNvPr id="313" name="Rectangle 221"/>
              <p:cNvSpPr/>
              <p:nvPr/>
            </p:nvSpPr>
            <p:spPr>
              <a:xfrm>
                <a:off x="4030560" y="5426280"/>
                <a:ext cx="1004760" cy="6397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4" name="Group 220"/>
              <p:cNvGrpSpPr/>
              <p:nvPr/>
            </p:nvGrpSpPr>
            <p:grpSpPr>
              <a:xfrm>
                <a:off x="4030560" y="5426280"/>
                <a:ext cx="1004760" cy="639720"/>
                <a:chOff x="4030560" y="5426280"/>
                <a:chExt cx="1004760" cy="639720"/>
              </a:xfrm>
            </p:grpSpPr>
            <p:sp>
              <p:nvSpPr>
                <p:cNvPr id="315" name="Rectangle 46"/>
                <p:cNvSpPr/>
                <p:nvPr/>
              </p:nvSpPr>
              <p:spPr>
                <a:xfrm>
                  <a:off x="4098960" y="5426280"/>
                  <a:ext cx="868320" cy="63972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—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Rectangle 219"/>
                <p:cNvSpPr/>
                <p:nvPr/>
              </p:nvSpPr>
              <p:spPr>
                <a:xfrm>
                  <a:off x="4030560" y="5426280"/>
                  <a:ext cx="10047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7" name="Group 226"/>
            <p:cNvGrpSpPr/>
            <p:nvPr/>
          </p:nvGrpSpPr>
          <p:grpSpPr>
            <a:xfrm>
              <a:off x="5035320" y="5426280"/>
              <a:ext cx="1005120" cy="639720"/>
              <a:chOff x="5035320" y="5426280"/>
              <a:chExt cx="1005120" cy="639720"/>
            </a:xfrm>
          </p:grpSpPr>
          <p:sp>
            <p:nvSpPr>
              <p:cNvPr id="318" name="Rectangle 225"/>
              <p:cNvSpPr/>
              <p:nvPr/>
            </p:nvSpPr>
            <p:spPr>
              <a:xfrm>
                <a:off x="5035320" y="5426280"/>
                <a:ext cx="1005120" cy="6397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9" name="Group 224"/>
              <p:cNvGrpSpPr/>
              <p:nvPr/>
            </p:nvGrpSpPr>
            <p:grpSpPr>
              <a:xfrm>
                <a:off x="5035320" y="5426280"/>
                <a:ext cx="1005120" cy="639720"/>
                <a:chOff x="5035320" y="5426280"/>
                <a:chExt cx="1005120" cy="639720"/>
              </a:xfrm>
            </p:grpSpPr>
            <p:sp>
              <p:nvSpPr>
                <p:cNvPr id="320" name="Rectangle 47"/>
                <p:cNvSpPr/>
                <p:nvPr/>
              </p:nvSpPr>
              <p:spPr>
                <a:xfrm>
                  <a:off x="5103720" y="5426280"/>
                  <a:ext cx="868320" cy="63972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—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Rectangle 223"/>
                <p:cNvSpPr/>
                <p:nvPr/>
              </p:nvSpPr>
              <p:spPr>
                <a:xfrm>
                  <a:off x="5035320" y="5426280"/>
                  <a:ext cx="10051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2" name="Group 230"/>
            <p:cNvGrpSpPr/>
            <p:nvPr/>
          </p:nvGrpSpPr>
          <p:grpSpPr>
            <a:xfrm>
              <a:off x="6040440" y="5426280"/>
              <a:ext cx="1004760" cy="639720"/>
              <a:chOff x="6040440" y="5426280"/>
              <a:chExt cx="1004760" cy="639720"/>
            </a:xfrm>
          </p:grpSpPr>
          <p:sp>
            <p:nvSpPr>
              <p:cNvPr id="323" name="Rectangle 229"/>
              <p:cNvSpPr/>
              <p:nvPr/>
            </p:nvSpPr>
            <p:spPr>
              <a:xfrm>
                <a:off x="6040440" y="5426280"/>
                <a:ext cx="1004760" cy="6397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4" name="Group 228"/>
              <p:cNvGrpSpPr/>
              <p:nvPr/>
            </p:nvGrpSpPr>
            <p:grpSpPr>
              <a:xfrm>
                <a:off x="6040440" y="5426280"/>
                <a:ext cx="1004760" cy="639720"/>
                <a:chOff x="6040440" y="5426280"/>
                <a:chExt cx="1004760" cy="639720"/>
              </a:xfrm>
            </p:grpSpPr>
            <p:sp>
              <p:nvSpPr>
                <p:cNvPr id="325" name="Rectangle 48"/>
                <p:cNvSpPr/>
                <p:nvPr/>
              </p:nvSpPr>
              <p:spPr>
                <a:xfrm>
                  <a:off x="6108480" y="5426280"/>
                  <a:ext cx="868680" cy="63972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—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Rectangle 227"/>
                <p:cNvSpPr/>
                <p:nvPr/>
              </p:nvSpPr>
              <p:spPr>
                <a:xfrm>
                  <a:off x="6040440" y="5426280"/>
                  <a:ext cx="10047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7" name="Group 234"/>
            <p:cNvGrpSpPr/>
            <p:nvPr/>
          </p:nvGrpSpPr>
          <p:grpSpPr>
            <a:xfrm>
              <a:off x="7045200" y="5426280"/>
              <a:ext cx="1004760" cy="639720"/>
              <a:chOff x="7045200" y="5426280"/>
              <a:chExt cx="1004760" cy="639720"/>
            </a:xfrm>
          </p:grpSpPr>
          <p:sp>
            <p:nvSpPr>
              <p:cNvPr id="328" name="Rectangle 233"/>
              <p:cNvSpPr/>
              <p:nvPr/>
            </p:nvSpPr>
            <p:spPr>
              <a:xfrm>
                <a:off x="7045200" y="5426280"/>
                <a:ext cx="1004760" cy="6397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9" name="Group 232"/>
              <p:cNvGrpSpPr/>
              <p:nvPr/>
            </p:nvGrpSpPr>
            <p:grpSpPr>
              <a:xfrm>
                <a:off x="7045200" y="5426280"/>
                <a:ext cx="1004760" cy="639720"/>
                <a:chOff x="7045200" y="5426280"/>
                <a:chExt cx="1004760" cy="639720"/>
              </a:xfrm>
            </p:grpSpPr>
            <p:sp>
              <p:nvSpPr>
                <p:cNvPr id="330" name="Rectangle 49"/>
                <p:cNvSpPr/>
                <p:nvPr/>
              </p:nvSpPr>
              <p:spPr>
                <a:xfrm>
                  <a:off x="7113600" y="5426280"/>
                  <a:ext cx="868320" cy="63972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—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Rectangle 231"/>
                <p:cNvSpPr/>
                <p:nvPr/>
              </p:nvSpPr>
              <p:spPr>
                <a:xfrm>
                  <a:off x="7045200" y="5426280"/>
                  <a:ext cx="10047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32" name="Group 238"/>
            <p:cNvGrpSpPr/>
            <p:nvPr/>
          </p:nvGrpSpPr>
          <p:grpSpPr>
            <a:xfrm>
              <a:off x="1015920" y="6066000"/>
              <a:ext cx="1004760" cy="639720"/>
              <a:chOff x="1015920" y="6066000"/>
              <a:chExt cx="1004760" cy="639720"/>
            </a:xfrm>
          </p:grpSpPr>
          <p:sp>
            <p:nvSpPr>
              <p:cNvPr id="333" name="Rectangle 237"/>
              <p:cNvSpPr/>
              <p:nvPr/>
            </p:nvSpPr>
            <p:spPr>
              <a:xfrm>
                <a:off x="1015920" y="6066000"/>
                <a:ext cx="1004760" cy="6397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4" name="Group 236"/>
              <p:cNvGrpSpPr/>
              <p:nvPr/>
            </p:nvGrpSpPr>
            <p:grpSpPr>
              <a:xfrm>
                <a:off x="1015920" y="6066000"/>
                <a:ext cx="1004760" cy="639720"/>
                <a:chOff x="1015920" y="6066000"/>
                <a:chExt cx="1004760" cy="639720"/>
              </a:xfrm>
            </p:grpSpPr>
            <p:sp>
              <p:nvSpPr>
                <p:cNvPr id="335" name="Rectangle 50"/>
                <p:cNvSpPr/>
                <p:nvPr/>
              </p:nvSpPr>
              <p:spPr>
                <a:xfrm>
                  <a:off x="1084320" y="6066000"/>
                  <a:ext cx="868320" cy="63972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TH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Rectangle 235"/>
                <p:cNvSpPr/>
                <p:nvPr/>
              </p:nvSpPr>
              <p:spPr>
                <a:xfrm>
                  <a:off x="1015920" y="6066000"/>
                  <a:ext cx="10047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37" name="Group 242"/>
            <p:cNvGrpSpPr/>
            <p:nvPr/>
          </p:nvGrpSpPr>
          <p:grpSpPr>
            <a:xfrm>
              <a:off x="2020680" y="6066000"/>
              <a:ext cx="1005120" cy="639720"/>
              <a:chOff x="2020680" y="6066000"/>
              <a:chExt cx="1005120" cy="639720"/>
            </a:xfrm>
          </p:grpSpPr>
          <p:sp>
            <p:nvSpPr>
              <p:cNvPr id="338" name="Rectangle 241"/>
              <p:cNvSpPr/>
              <p:nvPr/>
            </p:nvSpPr>
            <p:spPr>
              <a:xfrm>
                <a:off x="2020680" y="6066000"/>
                <a:ext cx="1005120" cy="6397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9" name="Group 240"/>
              <p:cNvGrpSpPr/>
              <p:nvPr/>
            </p:nvGrpSpPr>
            <p:grpSpPr>
              <a:xfrm>
                <a:off x="2020680" y="6066000"/>
                <a:ext cx="1005120" cy="639720"/>
                <a:chOff x="2020680" y="6066000"/>
                <a:chExt cx="1005120" cy="639720"/>
              </a:xfrm>
            </p:grpSpPr>
            <p:sp>
              <p:nvSpPr>
                <p:cNvPr id="340" name="Rectangle 51"/>
                <p:cNvSpPr/>
                <p:nvPr/>
              </p:nvSpPr>
              <p:spPr>
                <a:xfrm>
                  <a:off x="2089080" y="6066000"/>
                  <a:ext cx="868320" cy="63972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Rectangle 239"/>
                <p:cNvSpPr/>
                <p:nvPr/>
              </p:nvSpPr>
              <p:spPr>
                <a:xfrm>
                  <a:off x="2020680" y="6066000"/>
                  <a:ext cx="10051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42" name="Group 246"/>
            <p:cNvGrpSpPr/>
            <p:nvPr/>
          </p:nvGrpSpPr>
          <p:grpSpPr>
            <a:xfrm>
              <a:off x="3025800" y="6066000"/>
              <a:ext cx="1004760" cy="639720"/>
              <a:chOff x="3025800" y="6066000"/>
              <a:chExt cx="1004760" cy="639720"/>
            </a:xfrm>
          </p:grpSpPr>
          <p:sp>
            <p:nvSpPr>
              <p:cNvPr id="343" name="Rectangle 245"/>
              <p:cNvSpPr/>
              <p:nvPr/>
            </p:nvSpPr>
            <p:spPr>
              <a:xfrm>
                <a:off x="3025800" y="6066000"/>
                <a:ext cx="1004760" cy="6397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4" name="Group 244"/>
              <p:cNvGrpSpPr/>
              <p:nvPr/>
            </p:nvGrpSpPr>
            <p:grpSpPr>
              <a:xfrm>
                <a:off x="3025800" y="6066000"/>
                <a:ext cx="1004760" cy="639720"/>
                <a:chOff x="3025800" y="6066000"/>
                <a:chExt cx="1004760" cy="639720"/>
              </a:xfrm>
            </p:grpSpPr>
            <p:sp>
              <p:nvSpPr>
                <p:cNvPr id="345" name="Rectangle 52"/>
                <p:cNvSpPr/>
                <p:nvPr/>
              </p:nvSpPr>
              <p:spPr>
                <a:xfrm>
                  <a:off x="3093840" y="6066000"/>
                  <a:ext cx="868320" cy="63972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Rectangle 243"/>
                <p:cNvSpPr/>
                <p:nvPr/>
              </p:nvSpPr>
              <p:spPr>
                <a:xfrm>
                  <a:off x="3025800" y="6066000"/>
                  <a:ext cx="10047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47" name="Group 250"/>
            <p:cNvGrpSpPr/>
            <p:nvPr/>
          </p:nvGrpSpPr>
          <p:grpSpPr>
            <a:xfrm>
              <a:off x="4030560" y="6066000"/>
              <a:ext cx="1004760" cy="639720"/>
              <a:chOff x="4030560" y="6066000"/>
              <a:chExt cx="1004760" cy="639720"/>
            </a:xfrm>
          </p:grpSpPr>
          <p:sp>
            <p:nvSpPr>
              <p:cNvPr id="348" name="Rectangle 249"/>
              <p:cNvSpPr/>
              <p:nvPr/>
            </p:nvSpPr>
            <p:spPr>
              <a:xfrm>
                <a:off x="4030560" y="6066000"/>
                <a:ext cx="1004760" cy="6397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9" name="Group 248"/>
              <p:cNvGrpSpPr/>
              <p:nvPr/>
            </p:nvGrpSpPr>
            <p:grpSpPr>
              <a:xfrm>
                <a:off x="4030560" y="6066000"/>
                <a:ext cx="1004760" cy="639720"/>
                <a:chOff x="4030560" y="6066000"/>
                <a:chExt cx="1004760" cy="639720"/>
              </a:xfrm>
            </p:grpSpPr>
            <p:sp>
              <p:nvSpPr>
                <p:cNvPr id="350" name="Rectangle 53"/>
                <p:cNvSpPr/>
                <p:nvPr/>
              </p:nvSpPr>
              <p:spPr>
                <a:xfrm>
                  <a:off x="4098960" y="6066000"/>
                  <a:ext cx="868320" cy="63972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Rectangle 247"/>
                <p:cNvSpPr/>
                <p:nvPr/>
              </p:nvSpPr>
              <p:spPr>
                <a:xfrm>
                  <a:off x="4030560" y="6066000"/>
                  <a:ext cx="10047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2" name="Group 254"/>
            <p:cNvGrpSpPr/>
            <p:nvPr/>
          </p:nvGrpSpPr>
          <p:grpSpPr>
            <a:xfrm>
              <a:off x="5035320" y="6066000"/>
              <a:ext cx="1005120" cy="639720"/>
              <a:chOff x="5035320" y="6066000"/>
              <a:chExt cx="1005120" cy="639720"/>
            </a:xfrm>
          </p:grpSpPr>
          <p:sp>
            <p:nvSpPr>
              <p:cNvPr id="353" name="Rectangle 253"/>
              <p:cNvSpPr/>
              <p:nvPr/>
            </p:nvSpPr>
            <p:spPr>
              <a:xfrm>
                <a:off x="5035320" y="6066000"/>
                <a:ext cx="1005120" cy="6397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4" name="Group 252"/>
              <p:cNvGrpSpPr/>
              <p:nvPr/>
            </p:nvGrpSpPr>
            <p:grpSpPr>
              <a:xfrm>
                <a:off x="5035320" y="6066000"/>
                <a:ext cx="1005120" cy="639720"/>
                <a:chOff x="5035320" y="6066000"/>
                <a:chExt cx="1005120" cy="639720"/>
              </a:xfrm>
            </p:grpSpPr>
            <p:sp>
              <p:nvSpPr>
                <p:cNvPr id="355" name="Rectangle 54"/>
                <p:cNvSpPr/>
                <p:nvPr/>
              </p:nvSpPr>
              <p:spPr>
                <a:xfrm>
                  <a:off x="5103720" y="6066000"/>
                  <a:ext cx="868320" cy="63972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Rectangle 251"/>
                <p:cNvSpPr/>
                <p:nvPr/>
              </p:nvSpPr>
              <p:spPr>
                <a:xfrm>
                  <a:off x="5035320" y="6066000"/>
                  <a:ext cx="10051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7" name="Group 258"/>
            <p:cNvGrpSpPr/>
            <p:nvPr/>
          </p:nvGrpSpPr>
          <p:grpSpPr>
            <a:xfrm>
              <a:off x="6040440" y="6066000"/>
              <a:ext cx="1004760" cy="639720"/>
              <a:chOff x="6040440" y="6066000"/>
              <a:chExt cx="1004760" cy="639720"/>
            </a:xfrm>
          </p:grpSpPr>
          <p:sp>
            <p:nvSpPr>
              <p:cNvPr id="358" name="Rectangle 257"/>
              <p:cNvSpPr/>
              <p:nvPr/>
            </p:nvSpPr>
            <p:spPr>
              <a:xfrm>
                <a:off x="6040440" y="6066000"/>
                <a:ext cx="1004760" cy="6397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9" name="Group 256"/>
              <p:cNvGrpSpPr/>
              <p:nvPr/>
            </p:nvGrpSpPr>
            <p:grpSpPr>
              <a:xfrm>
                <a:off x="6040440" y="6066000"/>
                <a:ext cx="1004760" cy="639720"/>
                <a:chOff x="6040440" y="6066000"/>
                <a:chExt cx="1004760" cy="639720"/>
              </a:xfrm>
            </p:grpSpPr>
            <p:sp>
              <p:nvSpPr>
                <p:cNvPr id="360" name="Rectangle 55"/>
                <p:cNvSpPr/>
                <p:nvPr/>
              </p:nvSpPr>
              <p:spPr>
                <a:xfrm>
                  <a:off x="6108480" y="6066000"/>
                  <a:ext cx="868680" cy="63972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Rectangle 255"/>
                <p:cNvSpPr/>
                <p:nvPr/>
              </p:nvSpPr>
              <p:spPr>
                <a:xfrm>
                  <a:off x="6040440" y="6066000"/>
                  <a:ext cx="10047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62" name="Group 262"/>
            <p:cNvGrpSpPr/>
            <p:nvPr/>
          </p:nvGrpSpPr>
          <p:grpSpPr>
            <a:xfrm>
              <a:off x="7045200" y="6066000"/>
              <a:ext cx="1004760" cy="639720"/>
              <a:chOff x="7045200" y="6066000"/>
              <a:chExt cx="1004760" cy="639720"/>
            </a:xfrm>
          </p:grpSpPr>
          <p:sp>
            <p:nvSpPr>
              <p:cNvPr id="363" name="Rectangle 261"/>
              <p:cNvSpPr/>
              <p:nvPr/>
            </p:nvSpPr>
            <p:spPr>
              <a:xfrm>
                <a:off x="7045200" y="6066000"/>
                <a:ext cx="1004760" cy="6397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4" name="Group 260"/>
              <p:cNvGrpSpPr/>
              <p:nvPr/>
            </p:nvGrpSpPr>
            <p:grpSpPr>
              <a:xfrm>
                <a:off x="7045200" y="6066000"/>
                <a:ext cx="1004760" cy="639720"/>
                <a:chOff x="7045200" y="6066000"/>
                <a:chExt cx="1004760" cy="639720"/>
              </a:xfrm>
            </p:grpSpPr>
            <p:sp>
              <p:nvSpPr>
                <p:cNvPr id="365" name="Rectangle 56"/>
                <p:cNvSpPr/>
                <p:nvPr/>
              </p:nvSpPr>
              <p:spPr>
                <a:xfrm>
                  <a:off x="7113600" y="6066000"/>
                  <a:ext cx="868320" cy="63972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Rectangle 259"/>
                <p:cNvSpPr/>
                <p:nvPr/>
              </p:nvSpPr>
              <p:spPr>
                <a:xfrm>
                  <a:off x="7045200" y="6066000"/>
                  <a:ext cx="10047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Operands (Dynamic Percentage of Operand References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ainly local scalar variab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ptimisation should concentrate on accessing local variab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9" name="Group 92"/>
          <p:cNvGrpSpPr/>
          <p:nvPr/>
        </p:nvGrpSpPr>
        <p:grpSpPr>
          <a:xfrm>
            <a:off x="1828800" y="3048120"/>
            <a:ext cx="5095800" cy="2568600"/>
            <a:chOff x="1828800" y="3048120"/>
            <a:chExt cx="5095800" cy="2568600"/>
          </a:xfrm>
        </p:grpSpPr>
        <p:grpSp>
          <p:nvGrpSpPr>
            <p:cNvPr id="370" name="Group 90"/>
            <p:cNvGrpSpPr/>
            <p:nvPr/>
          </p:nvGrpSpPr>
          <p:grpSpPr>
            <a:xfrm>
              <a:off x="1833480" y="3052800"/>
              <a:ext cx="5086440" cy="2558880"/>
              <a:chOff x="1833480" y="3052800"/>
              <a:chExt cx="5086440" cy="2558880"/>
            </a:xfrm>
          </p:grpSpPr>
          <p:grpSp>
            <p:nvGrpSpPr>
              <p:cNvPr id="371" name="Group 29"/>
              <p:cNvGrpSpPr/>
              <p:nvPr/>
            </p:nvGrpSpPr>
            <p:grpSpPr>
              <a:xfrm>
                <a:off x="1833480" y="3052800"/>
                <a:ext cx="1657440" cy="639720"/>
                <a:chOff x="1833480" y="3052800"/>
                <a:chExt cx="1657440" cy="639720"/>
              </a:xfrm>
            </p:grpSpPr>
            <p:sp>
              <p:nvSpPr>
                <p:cNvPr id="372" name="Rectangle 12"/>
                <p:cNvSpPr/>
                <p:nvPr/>
              </p:nvSpPr>
              <p:spPr>
                <a:xfrm>
                  <a:off x="1901880" y="3052800"/>
                  <a:ext cx="15206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Rectangle 28"/>
                <p:cNvSpPr/>
                <p:nvPr/>
              </p:nvSpPr>
              <p:spPr>
                <a:xfrm>
                  <a:off x="1833480" y="3052800"/>
                  <a:ext cx="16574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4" name="Group 33"/>
              <p:cNvGrpSpPr/>
              <p:nvPr/>
            </p:nvGrpSpPr>
            <p:grpSpPr>
              <a:xfrm>
                <a:off x="3490920" y="3052800"/>
                <a:ext cx="1143000" cy="639720"/>
                <a:chOff x="3490920" y="3052800"/>
                <a:chExt cx="1143000" cy="639720"/>
              </a:xfrm>
            </p:grpSpPr>
            <p:sp>
              <p:nvSpPr>
                <p:cNvPr id="375" name="Rectangle 32"/>
                <p:cNvSpPr/>
                <p:nvPr/>
              </p:nvSpPr>
              <p:spPr>
                <a:xfrm>
                  <a:off x="3490920" y="3052800"/>
                  <a:ext cx="1143000" cy="63972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6" name="Group 31"/>
                <p:cNvGrpSpPr/>
                <p:nvPr/>
              </p:nvGrpSpPr>
              <p:grpSpPr>
                <a:xfrm>
                  <a:off x="3490920" y="3052800"/>
                  <a:ext cx="1143000" cy="639720"/>
                  <a:chOff x="3490920" y="3052800"/>
                  <a:chExt cx="1143000" cy="639720"/>
                </a:xfrm>
              </p:grpSpPr>
              <p:sp>
                <p:nvSpPr>
                  <p:cNvPr id="377" name="Rectangle 13"/>
                  <p:cNvSpPr/>
                  <p:nvPr/>
                </p:nvSpPr>
                <p:spPr>
                  <a:xfrm>
                    <a:off x="3558960" y="3052800"/>
                    <a:ext cx="1006560" cy="63972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Pascal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" name="Rectangle 30"/>
                  <p:cNvSpPr/>
                  <p:nvPr/>
                </p:nvSpPr>
                <p:spPr>
                  <a:xfrm>
                    <a:off x="3490920" y="3052800"/>
                    <a:ext cx="1143000" cy="639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79" name="Group 37"/>
              <p:cNvGrpSpPr/>
              <p:nvPr/>
            </p:nvGrpSpPr>
            <p:grpSpPr>
              <a:xfrm>
                <a:off x="4633920" y="3052800"/>
                <a:ext cx="1143000" cy="639720"/>
                <a:chOff x="4633920" y="3052800"/>
                <a:chExt cx="1143000" cy="639720"/>
              </a:xfrm>
            </p:grpSpPr>
            <p:sp>
              <p:nvSpPr>
                <p:cNvPr id="380" name="Rectangle 36"/>
                <p:cNvSpPr/>
                <p:nvPr/>
              </p:nvSpPr>
              <p:spPr>
                <a:xfrm>
                  <a:off x="4633920" y="3052800"/>
                  <a:ext cx="1143000" cy="63972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1" name="Group 35"/>
                <p:cNvGrpSpPr/>
                <p:nvPr/>
              </p:nvGrpSpPr>
              <p:grpSpPr>
                <a:xfrm>
                  <a:off x="4633920" y="3052800"/>
                  <a:ext cx="1143000" cy="639720"/>
                  <a:chOff x="4633920" y="3052800"/>
                  <a:chExt cx="1143000" cy="639720"/>
                </a:xfrm>
              </p:grpSpPr>
              <p:sp>
                <p:nvSpPr>
                  <p:cNvPr id="382" name="Rectangle 14"/>
                  <p:cNvSpPr/>
                  <p:nvPr/>
                </p:nvSpPr>
                <p:spPr>
                  <a:xfrm>
                    <a:off x="4701960" y="3052800"/>
                    <a:ext cx="1006560" cy="63972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" name="Rectangle 34"/>
                  <p:cNvSpPr/>
                  <p:nvPr/>
                </p:nvSpPr>
                <p:spPr>
                  <a:xfrm>
                    <a:off x="4633920" y="3052800"/>
                    <a:ext cx="1143000" cy="639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84" name="Group 41"/>
              <p:cNvGrpSpPr/>
              <p:nvPr/>
            </p:nvGrpSpPr>
            <p:grpSpPr>
              <a:xfrm>
                <a:off x="5776920" y="3052800"/>
                <a:ext cx="1143000" cy="639720"/>
                <a:chOff x="5776920" y="3052800"/>
                <a:chExt cx="1143000" cy="639720"/>
              </a:xfrm>
            </p:grpSpPr>
            <p:sp>
              <p:nvSpPr>
                <p:cNvPr id="385" name="Rectangle 40"/>
                <p:cNvSpPr/>
                <p:nvPr/>
              </p:nvSpPr>
              <p:spPr>
                <a:xfrm>
                  <a:off x="5776920" y="3052800"/>
                  <a:ext cx="1143000" cy="63972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6" name="Group 39"/>
                <p:cNvGrpSpPr/>
                <p:nvPr/>
              </p:nvGrpSpPr>
              <p:grpSpPr>
                <a:xfrm>
                  <a:off x="5776920" y="3052800"/>
                  <a:ext cx="1143000" cy="639720"/>
                  <a:chOff x="5776920" y="3052800"/>
                  <a:chExt cx="1143000" cy="639720"/>
                </a:xfrm>
              </p:grpSpPr>
              <p:sp>
                <p:nvSpPr>
                  <p:cNvPr id="387" name="Rectangle 15"/>
                  <p:cNvSpPr/>
                  <p:nvPr/>
                </p:nvSpPr>
                <p:spPr>
                  <a:xfrm>
                    <a:off x="5844960" y="3052800"/>
                    <a:ext cx="1006560" cy="63972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Average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" name="Rectangle 38"/>
                  <p:cNvSpPr/>
                  <p:nvPr/>
                </p:nvSpPr>
                <p:spPr>
                  <a:xfrm>
                    <a:off x="5776920" y="3052800"/>
                    <a:ext cx="1143000" cy="639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89" name="Group 45"/>
              <p:cNvGrpSpPr/>
              <p:nvPr/>
            </p:nvGrpSpPr>
            <p:grpSpPr>
              <a:xfrm>
                <a:off x="1833480" y="3692520"/>
                <a:ext cx="1657440" cy="639720"/>
                <a:chOff x="1833480" y="3692520"/>
                <a:chExt cx="1657440" cy="639720"/>
              </a:xfrm>
            </p:grpSpPr>
            <p:sp>
              <p:nvSpPr>
                <p:cNvPr id="390" name="Rectangle 44"/>
                <p:cNvSpPr/>
                <p:nvPr/>
              </p:nvSpPr>
              <p:spPr>
                <a:xfrm>
                  <a:off x="1833480" y="3692520"/>
                  <a:ext cx="1657440" cy="63972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1" name="Group 43"/>
                <p:cNvGrpSpPr/>
                <p:nvPr/>
              </p:nvGrpSpPr>
              <p:grpSpPr>
                <a:xfrm>
                  <a:off x="1833480" y="3692520"/>
                  <a:ext cx="1657440" cy="639720"/>
                  <a:chOff x="1833480" y="3692520"/>
                  <a:chExt cx="1657440" cy="639720"/>
                </a:xfrm>
              </p:grpSpPr>
              <p:sp>
                <p:nvSpPr>
                  <p:cNvPr id="392" name="Rectangle 16"/>
                  <p:cNvSpPr/>
                  <p:nvPr/>
                </p:nvSpPr>
                <p:spPr>
                  <a:xfrm>
                    <a:off x="1901880" y="3692520"/>
                    <a:ext cx="1520640" cy="63972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Integer Constant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" name="Rectangle 42"/>
                  <p:cNvSpPr/>
                  <p:nvPr/>
                </p:nvSpPr>
                <p:spPr>
                  <a:xfrm>
                    <a:off x="1833480" y="3692520"/>
                    <a:ext cx="1657440" cy="639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94" name="Group 49"/>
              <p:cNvGrpSpPr/>
              <p:nvPr/>
            </p:nvGrpSpPr>
            <p:grpSpPr>
              <a:xfrm>
                <a:off x="3490920" y="3692520"/>
                <a:ext cx="1143000" cy="639720"/>
                <a:chOff x="3490920" y="3692520"/>
                <a:chExt cx="1143000" cy="639720"/>
              </a:xfrm>
            </p:grpSpPr>
            <p:sp>
              <p:nvSpPr>
                <p:cNvPr id="395" name="Rectangle 48"/>
                <p:cNvSpPr/>
                <p:nvPr/>
              </p:nvSpPr>
              <p:spPr>
                <a:xfrm>
                  <a:off x="3490920" y="3692520"/>
                  <a:ext cx="1143000" cy="63972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6" name="Group 47"/>
                <p:cNvGrpSpPr/>
                <p:nvPr/>
              </p:nvGrpSpPr>
              <p:grpSpPr>
                <a:xfrm>
                  <a:off x="3490920" y="3692520"/>
                  <a:ext cx="1143000" cy="639720"/>
                  <a:chOff x="3490920" y="3692520"/>
                  <a:chExt cx="1143000" cy="639720"/>
                </a:xfrm>
              </p:grpSpPr>
              <p:sp>
                <p:nvSpPr>
                  <p:cNvPr id="397" name="Rectangle 17"/>
                  <p:cNvSpPr/>
                  <p:nvPr/>
                </p:nvSpPr>
                <p:spPr>
                  <a:xfrm>
                    <a:off x="3558960" y="3692520"/>
                    <a:ext cx="1006560" cy="63972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16%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" name="Rectangle 46"/>
                  <p:cNvSpPr/>
                  <p:nvPr/>
                </p:nvSpPr>
                <p:spPr>
                  <a:xfrm>
                    <a:off x="3490920" y="3692520"/>
                    <a:ext cx="1143000" cy="639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99" name="Group 53"/>
              <p:cNvGrpSpPr/>
              <p:nvPr/>
            </p:nvGrpSpPr>
            <p:grpSpPr>
              <a:xfrm>
                <a:off x="4633920" y="3692520"/>
                <a:ext cx="1143000" cy="639720"/>
                <a:chOff x="4633920" y="3692520"/>
                <a:chExt cx="1143000" cy="639720"/>
              </a:xfrm>
            </p:grpSpPr>
            <p:sp>
              <p:nvSpPr>
                <p:cNvPr id="400" name="Rectangle 52"/>
                <p:cNvSpPr/>
                <p:nvPr/>
              </p:nvSpPr>
              <p:spPr>
                <a:xfrm>
                  <a:off x="4633920" y="3692520"/>
                  <a:ext cx="1143000" cy="63972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1" name="Group 51"/>
                <p:cNvGrpSpPr/>
                <p:nvPr/>
              </p:nvGrpSpPr>
              <p:grpSpPr>
                <a:xfrm>
                  <a:off x="4633920" y="3692520"/>
                  <a:ext cx="1143000" cy="639720"/>
                  <a:chOff x="4633920" y="3692520"/>
                  <a:chExt cx="1143000" cy="639720"/>
                </a:xfrm>
              </p:grpSpPr>
              <p:sp>
                <p:nvSpPr>
                  <p:cNvPr id="402" name="Rectangle 18"/>
                  <p:cNvSpPr/>
                  <p:nvPr/>
                </p:nvSpPr>
                <p:spPr>
                  <a:xfrm>
                    <a:off x="4701960" y="3692520"/>
                    <a:ext cx="1006560" cy="63972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23%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" name="Rectangle 50"/>
                  <p:cNvSpPr/>
                  <p:nvPr/>
                </p:nvSpPr>
                <p:spPr>
                  <a:xfrm>
                    <a:off x="4633920" y="3692520"/>
                    <a:ext cx="1143000" cy="639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04" name="Group 57"/>
              <p:cNvGrpSpPr/>
              <p:nvPr/>
            </p:nvGrpSpPr>
            <p:grpSpPr>
              <a:xfrm>
                <a:off x="5776920" y="3692520"/>
                <a:ext cx="1143000" cy="639720"/>
                <a:chOff x="5776920" y="3692520"/>
                <a:chExt cx="1143000" cy="639720"/>
              </a:xfrm>
            </p:grpSpPr>
            <p:sp>
              <p:nvSpPr>
                <p:cNvPr id="405" name="Rectangle 56"/>
                <p:cNvSpPr/>
                <p:nvPr/>
              </p:nvSpPr>
              <p:spPr>
                <a:xfrm>
                  <a:off x="5776920" y="3692520"/>
                  <a:ext cx="1143000" cy="63972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6" name="Group 55"/>
                <p:cNvGrpSpPr/>
                <p:nvPr/>
              </p:nvGrpSpPr>
              <p:grpSpPr>
                <a:xfrm>
                  <a:off x="5776920" y="3692520"/>
                  <a:ext cx="1143000" cy="639720"/>
                  <a:chOff x="5776920" y="3692520"/>
                  <a:chExt cx="1143000" cy="639720"/>
                </a:xfrm>
              </p:grpSpPr>
              <p:sp>
                <p:nvSpPr>
                  <p:cNvPr id="407" name="Rectangle 19"/>
                  <p:cNvSpPr/>
                  <p:nvPr/>
                </p:nvSpPr>
                <p:spPr>
                  <a:xfrm>
                    <a:off x="5844960" y="3692520"/>
                    <a:ext cx="1006560" cy="63972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20%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" name="Rectangle 54"/>
                  <p:cNvSpPr/>
                  <p:nvPr/>
                </p:nvSpPr>
                <p:spPr>
                  <a:xfrm>
                    <a:off x="5776920" y="3692520"/>
                    <a:ext cx="1143000" cy="639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09" name="Group 61"/>
              <p:cNvGrpSpPr/>
              <p:nvPr/>
            </p:nvGrpSpPr>
            <p:grpSpPr>
              <a:xfrm>
                <a:off x="1833480" y="4332240"/>
                <a:ext cx="1657440" cy="639720"/>
                <a:chOff x="1833480" y="4332240"/>
                <a:chExt cx="1657440" cy="639720"/>
              </a:xfrm>
            </p:grpSpPr>
            <p:sp>
              <p:nvSpPr>
                <p:cNvPr id="410" name="Rectangle 60"/>
                <p:cNvSpPr/>
                <p:nvPr/>
              </p:nvSpPr>
              <p:spPr>
                <a:xfrm>
                  <a:off x="1833480" y="4332240"/>
                  <a:ext cx="1657440" cy="63972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1" name="Group 59"/>
                <p:cNvGrpSpPr/>
                <p:nvPr/>
              </p:nvGrpSpPr>
              <p:grpSpPr>
                <a:xfrm>
                  <a:off x="1833480" y="4332240"/>
                  <a:ext cx="1657440" cy="639720"/>
                  <a:chOff x="1833480" y="4332240"/>
                  <a:chExt cx="1657440" cy="639720"/>
                </a:xfrm>
              </p:grpSpPr>
              <p:sp>
                <p:nvSpPr>
                  <p:cNvPr id="412" name="Rectangle 20"/>
                  <p:cNvSpPr/>
                  <p:nvPr/>
                </p:nvSpPr>
                <p:spPr>
                  <a:xfrm>
                    <a:off x="1901880" y="4332240"/>
                    <a:ext cx="1520640" cy="63972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Scalar Variable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(80% Local Variables)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Rectangle 58"/>
                  <p:cNvSpPr/>
                  <p:nvPr/>
                </p:nvSpPr>
                <p:spPr>
                  <a:xfrm>
                    <a:off x="1833480" y="4332240"/>
                    <a:ext cx="1657440" cy="639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14" name="Group 65"/>
              <p:cNvGrpSpPr/>
              <p:nvPr/>
            </p:nvGrpSpPr>
            <p:grpSpPr>
              <a:xfrm>
                <a:off x="3490920" y="4332240"/>
                <a:ext cx="1143000" cy="639720"/>
                <a:chOff x="3490920" y="4332240"/>
                <a:chExt cx="1143000" cy="639720"/>
              </a:xfrm>
            </p:grpSpPr>
            <p:sp>
              <p:nvSpPr>
                <p:cNvPr id="415" name="Rectangle 64"/>
                <p:cNvSpPr/>
                <p:nvPr/>
              </p:nvSpPr>
              <p:spPr>
                <a:xfrm>
                  <a:off x="3490920" y="4332240"/>
                  <a:ext cx="1143000" cy="63972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6" name="Group 63"/>
                <p:cNvGrpSpPr/>
                <p:nvPr/>
              </p:nvGrpSpPr>
              <p:grpSpPr>
                <a:xfrm>
                  <a:off x="3490920" y="4332240"/>
                  <a:ext cx="1143000" cy="639720"/>
                  <a:chOff x="3490920" y="4332240"/>
                  <a:chExt cx="1143000" cy="639720"/>
                </a:xfrm>
              </p:grpSpPr>
              <p:sp>
                <p:nvSpPr>
                  <p:cNvPr id="417" name="Rectangle 21"/>
                  <p:cNvSpPr/>
                  <p:nvPr/>
                </p:nvSpPr>
                <p:spPr>
                  <a:xfrm>
                    <a:off x="3558960" y="4332240"/>
                    <a:ext cx="1006560" cy="63972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58%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Rectangle 62"/>
                  <p:cNvSpPr/>
                  <p:nvPr/>
                </p:nvSpPr>
                <p:spPr>
                  <a:xfrm>
                    <a:off x="3490920" y="4332240"/>
                    <a:ext cx="1143000" cy="639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19" name="Group 69"/>
              <p:cNvGrpSpPr/>
              <p:nvPr/>
            </p:nvGrpSpPr>
            <p:grpSpPr>
              <a:xfrm>
                <a:off x="4633920" y="4332240"/>
                <a:ext cx="1143000" cy="639720"/>
                <a:chOff x="4633920" y="4332240"/>
                <a:chExt cx="1143000" cy="639720"/>
              </a:xfrm>
            </p:grpSpPr>
            <p:sp>
              <p:nvSpPr>
                <p:cNvPr id="420" name="Rectangle 68"/>
                <p:cNvSpPr/>
                <p:nvPr/>
              </p:nvSpPr>
              <p:spPr>
                <a:xfrm>
                  <a:off x="4633920" y="4332240"/>
                  <a:ext cx="1143000" cy="63972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1" name="Group 67"/>
                <p:cNvGrpSpPr/>
                <p:nvPr/>
              </p:nvGrpSpPr>
              <p:grpSpPr>
                <a:xfrm>
                  <a:off x="4633920" y="4332240"/>
                  <a:ext cx="1143000" cy="639720"/>
                  <a:chOff x="4633920" y="4332240"/>
                  <a:chExt cx="1143000" cy="639720"/>
                </a:xfrm>
              </p:grpSpPr>
              <p:sp>
                <p:nvSpPr>
                  <p:cNvPr id="422" name="Rectangle 22"/>
                  <p:cNvSpPr/>
                  <p:nvPr/>
                </p:nvSpPr>
                <p:spPr>
                  <a:xfrm>
                    <a:off x="4701960" y="4332240"/>
                    <a:ext cx="1006560" cy="63972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53%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" name="Rectangle 66"/>
                  <p:cNvSpPr/>
                  <p:nvPr/>
                </p:nvSpPr>
                <p:spPr>
                  <a:xfrm>
                    <a:off x="4633920" y="4332240"/>
                    <a:ext cx="1143000" cy="639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24" name="Group 73"/>
              <p:cNvGrpSpPr/>
              <p:nvPr/>
            </p:nvGrpSpPr>
            <p:grpSpPr>
              <a:xfrm>
                <a:off x="5776920" y="4332240"/>
                <a:ext cx="1143000" cy="639720"/>
                <a:chOff x="5776920" y="4332240"/>
                <a:chExt cx="1143000" cy="639720"/>
              </a:xfrm>
            </p:grpSpPr>
            <p:sp>
              <p:nvSpPr>
                <p:cNvPr id="425" name="Rectangle 72"/>
                <p:cNvSpPr/>
                <p:nvPr/>
              </p:nvSpPr>
              <p:spPr>
                <a:xfrm>
                  <a:off x="5776920" y="4332240"/>
                  <a:ext cx="1143000" cy="63972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6" name="Group 71"/>
                <p:cNvGrpSpPr/>
                <p:nvPr/>
              </p:nvGrpSpPr>
              <p:grpSpPr>
                <a:xfrm>
                  <a:off x="5776920" y="4332240"/>
                  <a:ext cx="1143000" cy="639720"/>
                  <a:chOff x="5776920" y="4332240"/>
                  <a:chExt cx="1143000" cy="639720"/>
                </a:xfrm>
              </p:grpSpPr>
              <p:sp>
                <p:nvSpPr>
                  <p:cNvPr id="427" name="Rectangle 23"/>
                  <p:cNvSpPr/>
                  <p:nvPr/>
                </p:nvSpPr>
                <p:spPr>
                  <a:xfrm>
                    <a:off x="5844960" y="4332240"/>
                    <a:ext cx="1006560" cy="63972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55%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8" name="Rectangle 70"/>
                  <p:cNvSpPr/>
                  <p:nvPr/>
                </p:nvSpPr>
                <p:spPr>
                  <a:xfrm>
                    <a:off x="5776920" y="4332240"/>
                    <a:ext cx="1143000" cy="639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29" name="Group 77"/>
              <p:cNvGrpSpPr/>
              <p:nvPr/>
            </p:nvGrpSpPr>
            <p:grpSpPr>
              <a:xfrm>
                <a:off x="1833480" y="4971960"/>
                <a:ext cx="1657440" cy="639720"/>
                <a:chOff x="1833480" y="4971960"/>
                <a:chExt cx="1657440" cy="639720"/>
              </a:xfrm>
            </p:grpSpPr>
            <p:sp>
              <p:nvSpPr>
                <p:cNvPr id="430" name="Rectangle 76"/>
                <p:cNvSpPr/>
                <p:nvPr/>
              </p:nvSpPr>
              <p:spPr>
                <a:xfrm>
                  <a:off x="1833480" y="4971960"/>
                  <a:ext cx="1657440" cy="63972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1" name="Group 75"/>
                <p:cNvGrpSpPr/>
                <p:nvPr/>
              </p:nvGrpSpPr>
              <p:grpSpPr>
                <a:xfrm>
                  <a:off x="1833480" y="4971960"/>
                  <a:ext cx="1657440" cy="639720"/>
                  <a:chOff x="1833480" y="4971960"/>
                  <a:chExt cx="1657440" cy="639720"/>
                </a:xfrm>
              </p:grpSpPr>
              <p:sp>
                <p:nvSpPr>
                  <p:cNvPr id="432" name="Rectangle 24"/>
                  <p:cNvSpPr/>
                  <p:nvPr/>
                </p:nvSpPr>
                <p:spPr>
                  <a:xfrm>
                    <a:off x="1901880" y="4971960"/>
                    <a:ext cx="1520640" cy="63972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Array/Structure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(+ a reference to an index or a pointer @ item)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" name="Rectangle 74"/>
                  <p:cNvSpPr/>
                  <p:nvPr/>
                </p:nvSpPr>
                <p:spPr>
                  <a:xfrm>
                    <a:off x="1833480" y="4971960"/>
                    <a:ext cx="1657440" cy="639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34" name="Group 81"/>
              <p:cNvGrpSpPr/>
              <p:nvPr/>
            </p:nvGrpSpPr>
            <p:grpSpPr>
              <a:xfrm>
                <a:off x="3490920" y="4971960"/>
                <a:ext cx="1143000" cy="639720"/>
                <a:chOff x="3490920" y="4971960"/>
                <a:chExt cx="1143000" cy="639720"/>
              </a:xfrm>
            </p:grpSpPr>
            <p:sp>
              <p:nvSpPr>
                <p:cNvPr id="435" name="Rectangle 80"/>
                <p:cNvSpPr/>
                <p:nvPr/>
              </p:nvSpPr>
              <p:spPr>
                <a:xfrm>
                  <a:off x="3490920" y="4971960"/>
                  <a:ext cx="1143000" cy="63972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6" name="Group 79"/>
                <p:cNvGrpSpPr/>
                <p:nvPr/>
              </p:nvGrpSpPr>
              <p:grpSpPr>
                <a:xfrm>
                  <a:off x="3490920" y="4971960"/>
                  <a:ext cx="1143000" cy="639720"/>
                  <a:chOff x="3490920" y="4971960"/>
                  <a:chExt cx="1143000" cy="639720"/>
                </a:xfrm>
              </p:grpSpPr>
              <p:sp>
                <p:nvSpPr>
                  <p:cNvPr id="437" name="Rectangle 25"/>
                  <p:cNvSpPr/>
                  <p:nvPr/>
                </p:nvSpPr>
                <p:spPr>
                  <a:xfrm>
                    <a:off x="3558960" y="4971960"/>
                    <a:ext cx="1006560" cy="63972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26%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" name="Rectangle 78"/>
                  <p:cNvSpPr/>
                  <p:nvPr/>
                </p:nvSpPr>
                <p:spPr>
                  <a:xfrm>
                    <a:off x="3490920" y="4971960"/>
                    <a:ext cx="1143000" cy="639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39" name="Group 85"/>
              <p:cNvGrpSpPr/>
              <p:nvPr/>
            </p:nvGrpSpPr>
            <p:grpSpPr>
              <a:xfrm>
                <a:off x="4633920" y="4971960"/>
                <a:ext cx="1143000" cy="639720"/>
                <a:chOff x="4633920" y="4971960"/>
                <a:chExt cx="1143000" cy="639720"/>
              </a:xfrm>
            </p:grpSpPr>
            <p:sp>
              <p:nvSpPr>
                <p:cNvPr id="440" name="Rectangle 84"/>
                <p:cNvSpPr/>
                <p:nvPr/>
              </p:nvSpPr>
              <p:spPr>
                <a:xfrm>
                  <a:off x="4633920" y="4971960"/>
                  <a:ext cx="1143000" cy="63972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41" name="Group 83"/>
                <p:cNvGrpSpPr/>
                <p:nvPr/>
              </p:nvGrpSpPr>
              <p:grpSpPr>
                <a:xfrm>
                  <a:off x="4633920" y="4971960"/>
                  <a:ext cx="1143000" cy="639720"/>
                  <a:chOff x="4633920" y="4971960"/>
                  <a:chExt cx="1143000" cy="639720"/>
                </a:xfrm>
              </p:grpSpPr>
              <p:sp>
                <p:nvSpPr>
                  <p:cNvPr id="442" name="Rectangle 26"/>
                  <p:cNvSpPr/>
                  <p:nvPr/>
                </p:nvSpPr>
                <p:spPr>
                  <a:xfrm>
                    <a:off x="4701960" y="4971960"/>
                    <a:ext cx="1006560" cy="63972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24%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Rectangle 82"/>
                  <p:cNvSpPr/>
                  <p:nvPr/>
                </p:nvSpPr>
                <p:spPr>
                  <a:xfrm>
                    <a:off x="4633920" y="4971960"/>
                    <a:ext cx="1143000" cy="639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44" name="Group 89"/>
              <p:cNvGrpSpPr/>
              <p:nvPr/>
            </p:nvGrpSpPr>
            <p:grpSpPr>
              <a:xfrm>
                <a:off x="5776920" y="4971960"/>
                <a:ext cx="1143000" cy="639720"/>
                <a:chOff x="5776920" y="4971960"/>
                <a:chExt cx="1143000" cy="639720"/>
              </a:xfrm>
            </p:grpSpPr>
            <p:sp>
              <p:nvSpPr>
                <p:cNvPr id="445" name="Rectangle 88"/>
                <p:cNvSpPr/>
                <p:nvPr/>
              </p:nvSpPr>
              <p:spPr>
                <a:xfrm>
                  <a:off x="5776920" y="4971960"/>
                  <a:ext cx="1143000" cy="63972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46" name="Group 87"/>
                <p:cNvGrpSpPr/>
                <p:nvPr/>
              </p:nvGrpSpPr>
              <p:grpSpPr>
                <a:xfrm>
                  <a:off x="5776920" y="4971960"/>
                  <a:ext cx="1143000" cy="639720"/>
                  <a:chOff x="5776920" y="4971960"/>
                  <a:chExt cx="1143000" cy="639720"/>
                </a:xfrm>
              </p:grpSpPr>
              <p:sp>
                <p:nvSpPr>
                  <p:cNvPr id="447" name="Rectangle 27"/>
                  <p:cNvSpPr/>
                  <p:nvPr/>
                </p:nvSpPr>
                <p:spPr>
                  <a:xfrm>
                    <a:off x="5844960" y="4971960"/>
                    <a:ext cx="1006560" cy="63972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25%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" name="Rectangle 86"/>
                  <p:cNvSpPr/>
                  <p:nvPr/>
                </p:nvSpPr>
                <p:spPr>
                  <a:xfrm>
                    <a:off x="5776920" y="4971960"/>
                    <a:ext cx="1143000" cy="639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449" name="Rectangle 91"/>
            <p:cNvSpPr/>
            <p:nvPr/>
          </p:nvSpPr>
          <p:spPr>
            <a:xfrm>
              <a:off x="1828800" y="3048120"/>
              <a:ext cx="5095800" cy="25686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Procedure Cal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Very time consum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epends on number of parameters pas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epends on level of n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ost programs do not do a lot of calls followed by lots of retur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ost variables are loc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(c.f. locality of referenc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Im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est support is given by optimising most used  and most time consuming feat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arge number of regist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perand referenc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areful design of pipeli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Branch prediction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implified (reduced) instruction s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Large Register Fil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oftware solu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quire compiler to allocate regist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llocate based on most used variables in a given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quires sophisticated program analys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ardware solu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Have more regist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hus more variables will be in regist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Registers for Local Variabl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ore local scalar variables in regist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duces memory a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very procedure (function) call changes loca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arameters must be pas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sults must be return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Variables from calling programs must be resto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Register Window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nly few paramet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imited range of depth of cal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multiple small sets of regist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alls switch to a different set of regist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turns switch back to a previously used set of regist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Register Windows cont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hree areas within a register s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arameter regist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ocal regist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emporary regist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emporary registers from one set overlap parameter registers from the nex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his allows parameter passing without moving da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Overlapping Register Window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63" name="Picture 19" descr=""/>
          <p:cNvPicPr/>
          <p:nvPr/>
        </p:nvPicPr>
        <p:blipFill>
          <a:blip r:embed="rId1"/>
          <a:srcRect l="0" t="0" r="0" b="29737"/>
          <a:stretch/>
        </p:blipFill>
        <p:spPr>
          <a:xfrm>
            <a:off x="457200" y="2286000"/>
            <a:ext cx="80773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Circular Buffer diagram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65" name="Picture 28" descr=""/>
          <p:cNvPicPr/>
          <p:nvPr/>
        </p:nvPicPr>
        <p:blipFill>
          <a:blip r:embed="rId1"/>
          <a:srcRect l="0" t="0" r="0" b="8599"/>
          <a:stretch/>
        </p:blipFill>
        <p:spPr>
          <a:xfrm>
            <a:off x="1905120" y="1643040"/>
            <a:ext cx="512424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Major Advances in Computers(1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he family concep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BM System/360  196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C PDP-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eparates architecture from implement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programmed control un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dea by Wilkes 195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roduced by IBM S/360 196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ache mem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BM S/360 model 85  196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Operation of Circular Buffer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When a call is made, a current window pointer is moved to show the currently active register windo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f all windows are in use, an interrupt is generated and the oldest window (the one furthest back in the call nesting) is saved to mem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 saved window pointer indicates where the next saved windows should restore t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Global Variabl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llocated by the compiler to mem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efficient for frequently accessed variab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ave a set of registers for global variab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Registers v Cach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71" name="Group 66"/>
          <p:cNvGrpSpPr/>
          <p:nvPr/>
        </p:nvGrpSpPr>
        <p:grpSpPr>
          <a:xfrm>
            <a:off x="1295280" y="1219320"/>
            <a:ext cx="7086240" cy="5333400"/>
            <a:chOff x="1295280" y="1219320"/>
            <a:chExt cx="7086240" cy="5333400"/>
          </a:xfrm>
        </p:grpSpPr>
        <p:grpSp>
          <p:nvGrpSpPr>
            <p:cNvPr id="472" name="Group 64"/>
            <p:cNvGrpSpPr/>
            <p:nvPr/>
          </p:nvGrpSpPr>
          <p:grpSpPr>
            <a:xfrm>
              <a:off x="1301400" y="1225440"/>
              <a:ext cx="7072200" cy="5320440"/>
              <a:chOff x="1301400" y="1225440"/>
              <a:chExt cx="7072200" cy="5320440"/>
            </a:xfrm>
          </p:grpSpPr>
          <p:grpSp>
            <p:nvGrpSpPr>
              <p:cNvPr id="473" name="Group 19"/>
              <p:cNvGrpSpPr/>
              <p:nvPr/>
            </p:nvGrpSpPr>
            <p:grpSpPr>
              <a:xfrm>
                <a:off x="1301400" y="1225440"/>
                <a:ext cx="3535920" cy="846000"/>
                <a:chOff x="1301400" y="1225440"/>
                <a:chExt cx="3535920" cy="846000"/>
              </a:xfrm>
            </p:grpSpPr>
            <p:sp>
              <p:nvSpPr>
                <p:cNvPr id="474" name="Rectangle 18"/>
                <p:cNvSpPr/>
                <p:nvPr/>
              </p:nvSpPr>
              <p:spPr>
                <a:xfrm>
                  <a:off x="1301400" y="1225440"/>
                  <a:ext cx="3535920" cy="84600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5" name="Group 17"/>
                <p:cNvGrpSpPr/>
                <p:nvPr/>
              </p:nvGrpSpPr>
              <p:grpSpPr>
                <a:xfrm>
                  <a:off x="1301400" y="1225440"/>
                  <a:ext cx="3535560" cy="845640"/>
                  <a:chOff x="1301400" y="1225440"/>
                  <a:chExt cx="3535560" cy="845640"/>
                </a:xfrm>
              </p:grpSpPr>
              <p:sp>
                <p:nvSpPr>
                  <p:cNvPr id="476" name="Rectangle 4"/>
                  <p:cNvSpPr/>
                  <p:nvPr/>
                </p:nvSpPr>
                <p:spPr>
                  <a:xfrm>
                    <a:off x="1392480" y="1225440"/>
                    <a:ext cx="3353760" cy="84564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Large Register File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Rectangle 16"/>
                  <p:cNvSpPr/>
                  <p:nvPr/>
                </p:nvSpPr>
                <p:spPr>
                  <a:xfrm>
                    <a:off x="1301400" y="1225440"/>
                    <a:ext cx="3535560" cy="845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78" name="Group 23"/>
              <p:cNvGrpSpPr/>
              <p:nvPr/>
            </p:nvGrpSpPr>
            <p:grpSpPr>
              <a:xfrm>
                <a:off x="4837680" y="1225440"/>
                <a:ext cx="3535920" cy="846000"/>
                <a:chOff x="4837680" y="1225440"/>
                <a:chExt cx="3535920" cy="846000"/>
              </a:xfrm>
            </p:grpSpPr>
            <p:sp>
              <p:nvSpPr>
                <p:cNvPr id="479" name="Rectangle 22"/>
                <p:cNvSpPr/>
                <p:nvPr/>
              </p:nvSpPr>
              <p:spPr>
                <a:xfrm>
                  <a:off x="4837680" y="1225440"/>
                  <a:ext cx="3535920" cy="84600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80" name="Group 21"/>
                <p:cNvGrpSpPr/>
                <p:nvPr/>
              </p:nvGrpSpPr>
              <p:grpSpPr>
                <a:xfrm>
                  <a:off x="4837680" y="1225440"/>
                  <a:ext cx="3535560" cy="845640"/>
                  <a:chOff x="4837680" y="1225440"/>
                  <a:chExt cx="3535560" cy="845640"/>
                </a:xfrm>
              </p:grpSpPr>
              <p:sp>
                <p:nvSpPr>
                  <p:cNvPr id="481" name="Rectangle 5"/>
                  <p:cNvSpPr/>
                  <p:nvPr/>
                </p:nvSpPr>
                <p:spPr>
                  <a:xfrm>
                    <a:off x="4928760" y="1225440"/>
                    <a:ext cx="3353760" cy="84564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Cache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Rectangle 20"/>
                  <p:cNvSpPr/>
                  <p:nvPr/>
                </p:nvSpPr>
                <p:spPr>
                  <a:xfrm>
                    <a:off x="4837680" y="1225440"/>
                    <a:ext cx="3535560" cy="845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83" name="Group 27"/>
              <p:cNvGrpSpPr/>
              <p:nvPr/>
            </p:nvGrpSpPr>
            <p:grpSpPr>
              <a:xfrm>
                <a:off x="1301400" y="2071800"/>
                <a:ext cx="3535920" cy="846000"/>
                <a:chOff x="1301400" y="2071800"/>
                <a:chExt cx="3535920" cy="846000"/>
              </a:xfrm>
            </p:grpSpPr>
            <p:sp>
              <p:nvSpPr>
                <p:cNvPr id="484" name="Rectangle 26"/>
                <p:cNvSpPr/>
                <p:nvPr/>
              </p:nvSpPr>
              <p:spPr>
                <a:xfrm>
                  <a:off x="1301400" y="2071800"/>
                  <a:ext cx="3535920" cy="84600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85" name="Group 25"/>
                <p:cNvGrpSpPr/>
                <p:nvPr/>
              </p:nvGrpSpPr>
              <p:grpSpPr>
                <a:xfrm>
                  <a:off x="1301400" y="2071800"/>
                  <a:ext cx="3535560" cy="845640"/>
                  <a:chOff x="1301400" y="2071800"/>
                  <a:chExt cx="3535560" cy="845640"/>
                </a:xfrm>
              </p:grpSpPr>
              <p:sp>
                <p:nvSpPr>
                  <p:cNvPr id="486" name="Rectangle 6"/>
                  <p:cNvSpPr/>
                  <p:nvPr/>
                </p:nvSpPr>
                <p:spPr>
                  <a:xfrm>
                    <a:off x="1392480" y="2071800"/>
                    <a:ext cx="3353760" cy="84564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All local scalar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Rectangle 24"/>
                  <p:cNvSpPr/>
                  <p:nvPr/>
                </p:nvSpPr>
                <p:spPr>
                  <a:xfrm>
                    <a:off x="1301400" y="2071800"/>
                    <a:ext cx="3535560" cy="845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88" name="Group 31"/>
              <p:cNvGrpSpPr/>
              <p:nvPr/>
            </p:nvGrpSpPr>
            <p:grpSpPr>
              <a:xfrm>
                <a:off x="4837680" y="2071800"/>
                <a:ext cx="3535920" cy="846000"/>
                <a:chOff x="4837680" y="2071800"/>
                <a:chExt cx="3535920" cy="846000"/>
              </a:xfrm>
            </p:grpSpPr>
            <p:sp>
              <p:nvSpPr>
                <p:cNvPr id="489" name="Rectangle 30"/>
                <p:cNvSpPr/>
                <p:nvPr/>
              </p:nvSpPr>
              <p:spPr>
                <a:xfrm>
                  <a:off x="4837680" y="2071800"/>
                  <a:ext cx="3535920" cy="84600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90" name="Group 29"/>
                <p:cNvGrpSpPr/>
                <p:nvPr/>
              </p:nvGrpSpPr>
              <p:grpSpPr>
                <a:xfrm>
                  <a:off x="4837680" y="2071800"/>
                  <a:ext cx="3535560" cy="845640"/>
                  <a:chOff x="4837680" y="2071800"/>
                  <a:chExt cx="3535560" cy="845640"/>
                </a:xfrm>
              </p:grpSpPr>
              <p:sp>
                <p:nvSpPr>
                  <p:cNvPr id="491" name="Rectangle 7"/>
                  <p:cNvSpPr/>
                  <p:nvPr/>
                </p:nvSpPr>
                <p:spPr>
                  <a:xfrm>
                    <a:off x="4928760" y="2071800"/>
                    <a:ext cx="3353760" cy="84564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Recently-used local scalar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2" name="Rectangle 28"/>
                  <p:cNvSpPr/>
                  <p:nvPr/>
                </p:nvSpPr>
                <p:spPr>
                  <a:xfrm>
                    <a:off x="4837680" y="2071800"/>
                    <a:ext cx="3535560" cy="845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93" name="Group 35"/>
              <p:cNvGrpSpPr/>
              <p:nvPr/>
            </p:nvGrpSpPr>
            <p:grpSpPr>
              <a:xfrm>
                <a:off x="1301400" y="2918160"/>
                <a:ext cx="3535920" cy="846000"/>
                <a:chOff x="1301400" y="2918160"/>
                <a:chExt cx="3535920" cy="846000"/>
              </a:xfrm>
            </p:grpSpPr>
            <p:sp>
              <p:nvSpPr>
                <p:cNvPr id="494" name="Rectangle 34"/>
                <p:cNvSpPr/>
                <p:nvPr/>
              </p:nvSpPr>
              <p:spPr>
                <a:xfrm>
                  <a:off x="1301400" y="2918160"/>
                  <a:ext cx="3535920" cy="84600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95" name="Group 33"/>
                <p:cNvGrpSpPr/>
                <p:nvPr/>
              </p:nvGrpSpPr>
              <p:grpSpPr>
                <a:xfrm>
                  <a:off x="1301400" y="2918160"/>
                  <a:ext cx="3535560" cy="845640"/>
                  <a:chOff x="1301400" y="2918160"/>
                  <a:chExt cx="3535560" cy="845640"/>
                </a:xfrm>
              </p:grpSpPr>
              <p:sp>
                <p:nvSpPr>
                  <p:cNvPr id="496" name="Rectangle 8"/>
                  <p:cNvSpPr/>
                  <p:nvPr/>
                </p:nvSpPr>
                <p:spPr>
                  <a:xfrm>
                    <a:off x="1392480" y="2918160"/>
                    <a:ext cx="3353760" cy="84564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Individual variable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" name="Rectangle 32"/>
                  <p:cNvSpPr/>
                  <p:nvPr/>
                </p:nvSpPr>
                <p:spPr>
                  <a:xfrm>
                    <a:off x="1301400" y="2918160"/>
                    <a:ext cx="3535560" cy="845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98" name="Group 39"/>
              <p:cNvGrpSpPr/>
              <p:nvPr/>
            </p:nvGrpSpPr>
            <p:grpSpPr>
              <a:xfrm>
                <a:off x="4837680" y="2918160"/>
                <a:ext cx="3535920" cy="846000"/>
                <a:chOff x="4837680" y="2918160"/>
                <a:chExt cx="3535920" cy="846000"/>
              </a:xfrm>
            </p:grpSpPr>
            <p:sp>
              <p:nvSpPr>
                <p:cNvPr id="499" name="Rectangle 38"/>
                <p:cNvSpPr/>
                <p:nvPr/>
              </p:nvSpPr>
              <p:spPr>
                <a:xfrm>
                  <a:off x="4837680" y="2918160"/>
                  <a:ext cx="3535920" cy="84600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0" name="Group 37"/>
                <p:cNvGrpSpPr/>
                <p:nvPr/>
              </p:nvGrpSpPr>
              <p:grpSpPr>
                <a:xfrm>
                  <a:off x="4837680" y="2918160"/>
                  <a:ext cx="3535560" cy="845640"/>
                  <a:chOff x="4837680" y="2918160"/>
                  <a:chExt cx="3535560" cy="845640"/>
                </a:xfrm>
              </p:grpSpPr>
              <p:sp>
                <p:nvSpPr>
                  <p:cNvPr id="501" name="Rectangle 9"/>
                  <p:cNvSpPr/>
                  <p:nvPr/>
                </p:nvSpPr>
                <p:spPr>
                  <a:xfrm>
                    <a:off x="4928760" y="2918160"/>
                    <a:ext cx="3353760" cy="84564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Blocks of memory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" name="Rectangle 36"/>
                  <p:cNvSpPr/>
                  <p:nvPr/>
                </p:nvSpPr>
                <p:spPr>
                  <a:xfrm>
                    <a:off x="4837680" y="2918160"/>
                    <a:ext cx="3535560" cy="845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03" name="Group 43"/>
              <p:cNvGrpSpPr/>
              <p:nvPr/>
            </p:nvGrpSpPr>
            <p:grpSpPr>
              <a:xfrm>
                <a:off x="1301400" y="3764880"/>
                <a:ext cx="3535920" cy="846000"/>
                <a:chOff x="1301400" y="3764880"/>
                <a:chExt cx="3535920" cy="846000"/>
              </a:xfrm>
            </p:grpSpPr>
            <p:sp>
              <p:nvSpPr>
                <p:cNvPr id="504" name="Rectangle 42"/>
                <p:cNvSpPr/>
                <p:nvPr/>
              </p:nvSpPr>
              <p:spPr>
                <a:xfrm>
                  <a:off x="1301400" y="3764880"/>
                  <a:ext cx="3535920" cy="84600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5" name="Group 41"/>
                <p:cNvGrpSpPr/>
                <p:nvPr/>
              </p:nvGrpSpPr>
              <p:grpSpPr>
                <a:xfrm>
                  <a:off x="1301400" y="3764880"/>
                  <a:ext cx="3535560" cy="845640"/>
                  <a:chOff x="1301400" y="3764880"/>
                  <a:chExt cx="3535560" cy="845640"/>
                </a:xfrm>
              </p:grpSpPr>
              <p:sp>
                <p:nvSpPr>
                  <p:cNvPr id="506" name="Rectangle 10"/>
                  <p:cNvSpPr/>
                  <p:nvPr/>
                </p:nvSpPr>
                <p:spPr>
                  <a:xfrm>
                    <a:off x="1392480" y="3764880"/>
                    <a:ext cx="3353760" cy="84564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Compiler-assigned global variable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Rectangle 40"/>
                  <p:cNvSpPr/>
                  <p:nvPr/>
                </p:nvSpPr>
                <p:spPr>
                  <a:xfrm>
                    <a:off x="1301400" y="3764880"/>
                    <a:ext cx="3535560" cy="845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08" name="Group 47"/>
              <p:cNvGrpSpPr/>
              <p:nvPr/>
            </p:nvGrpSpPr>
            <p:grpSpPr>
              <a:xfrm>
                <a:off x="4837680" y="3764880"/>
                <a:ext cx="3535920" cy="846000"/>
                <a:chOff x="4837680" y="3764880"/>
                <a:chExt cx="3535920" cy="846000"/>
              </a:xfrm>
            </p:grpSpPr>
            <p:sp>
              <p:nvSpPr>
                <p:cNvPr id="509" name="Rectangle 46"/>
                <p:cNvSpPr/>
                <p:nvPr/>
              </p:nvSpPr>
              <p:spPr>
                <a:xfrm>
                  <a:off x="4837680" y="3764880"/>
                  <a:ext cx="3535920" cy="84600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0" name="Group 45"/>
                <p:cNvGrpSpPr/>
                <p:nvPr/>
              </p:nvGrpSpPr>
              <p:grpSpPr>
                <a:xfrm>
                  <a:off x="4837680" y="3764880"/>
                  <a:ext cx="3535560" cy="845640"/>
                  <a:chOff x="4837680" y="3764880"/>
                  <a:chExt cx="3535560" cy="845640"/>
                </a:xfrm>
              </p:grpSpPr>
              <p:sp>
                <p:nvSpPr>
                  <p:cNvPr id="511" name="Rectangle 11"/>
                  <p:cNvSpPr/>
                  <p:nvPr/>
                </p:nvSpPr>
                <p:spPr>
                  <a:xfrm>
                    <a:off x="4928760" y="3764880"/>
                    <a:ext cx="3353760" cy="84564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Recently-used global variable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" name="Rectangle 44"/>
                  <p:cNvSpPr/>
                  <p:nvPr/>
                </p:nvSpPr>
                <p:spPr>
                  <a:xfrm>
                    <a:off x="4837680" y="3764880"/>
                    <a:ext cx="3535560" cy="845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13" name="Group 51"/>
              <p:cNvGrpSpPr/>
              <p:nvPr/>
            </p:nvGrpSpPr>
            <p:grpSpPr>
              <a:xfrm>
                <a:off x="1301400" y="4611240"/>
                <a:ext cx="3535920" cy="1087920"/>
                <a:chOff x="1301400" y="4611240"/>
                <a:chExt cx="3535920" cy="1087920"/>
              </a:xfrm>
            </p:grpSpPr>
            <p:sp>
              <p:nvSpPr>
                <p:cNvPr id="514" name="Rectangle 50"/>
                <p:cNvSpPr/>
                <p:nvPr/>
              </p:nvSpPr>
              <p:spPr>
                <a:xfrm>
                  <a:off x="1301400" y="4611240"/>
                  <a:ext cx="3535920" cy="108792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5" name="Group 49"/>
                <p:cNvGrpSpPr/>
                <p:nvPr/>
              </p:nvGrpSpPr>
              <p:grpSpPr>
                <a:xfrm>
                  <a:off x="1301400" y="4611240"/>
                  <a:ext cx="3535560" cy="1087560"/>
                  <a:chOff x="1301400" y="4611240"/>
                  <a:chExt cx="3535560" cy="1087560"/>
                </a:xfrm>
              </p:grpSpPr>
              <p:sp>
                <p:nvSpPr>
                  <p:cNvPr id="516" name="Rectangle 12"/>
                  <p:cNvSpPr/>
                  <p:nvPr/>
                </p:nvSpPr>
                <p:spPr>
                  <a:xfrm>
                    <a:off x="1392480" y="4611240"/>
                    <a:ext cx="3353760" cy="108756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Save/Restore based on procedure nesting depth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" name="Rectangle 48"/>
                  <p:cNvSpPr/>
                  <p:nvPr/>
                </p:nvSpPr>
                <p:spPr>
                  <a:xfrm>
                    <a:off x="1301400" y="4611240"/>
                    <a:ext cx="3535560" cy="10875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18" name="Group 55"/>
              <p:cNvGrpSpPr/>
              <p:nvPr/>
            </p:nvGrpSpPr>
            <p:grpSpPr>
              <a:xfrm>
                <a:off x="4837680" y="4611240"/>
                <a:ext cx="3535920" cy="1087920"/>
                <a:chOff x="4837680" y="4611240"/>
                <a:chExt cx="3535920" cy="1087920"/>
              </a:xfrm>
            </p:grpSpPr>
            <p:sp>
              <p:nvSpPr>
                <p:cNvPr id="519" name="Rectangle 54"/>
                <p:cNvSpPr/>
                <p:nvPr/>
              </p:nvSpPr>
              <p:spPr>
                <a:xfrm>
                  <a:off x="4837680" y="4611240"/>
                  <a:ext cx="3535920" cy="108792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20" name="Group 53"/>
                <p:cNvGrpSpPr/>
                <p:nvPr/>
              </p:nvGrpSpPr>
              <p:grpSpPr>
                <a:xfrm>
                  <a:off x="4837680" y="4611240"/>
                  <a:ext cx="3535560" cy="1087560"/>
                  <a:chOff x="4837680" y="4611240"/>
                  <a:chExt cx="3535560" cy="1087560"/>
                </a:xfrm>
              </p:grpSpPr>
              <p:sp>
                <p:nvSpPr>
                  <p:cNvPr id="521" name="Rectangle 13"/>
                  <p:cNvSpPr/>
                  <p:nvPr/>
                </p:nvSpPr>
                <p:spPr>
                  <a:xfrm>
                    <a:off x="4928760" y="4611240"/>
                    <a:ext cx="3353760" cy="108756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Save/Restore based on cache replacement algorithm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2" name="Rectangle 52"/>
                  <p:cNvSpPr/>
                  <p:nvPr/>
                </p:nvSpPr>
                <p:spPr>
                  <a:xfrm>
                    <a:off x="4837680" y="4611240"/>
                    <a:ext cx="3535560" cy="10875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23" name="Group 59"/>
              <p:cNvGrpSpPr/>
              <p:nvPr/>
            </p:nvGrpSpPr>
            <p:grpSpPr>
              <a:xfrm>
                <a:off x="1301400" y="5699880"/>
                <a:ext cx="3535920" cy="846000"/>
                <a:chOff x="1301400" y="5699880"/>
                <a:chExt cx="3535920" cy="846000"/>
              </a:xfrm>
            </p:grpSpPr>
            <p:sp>
              <p:nvSpPr>
                <p:cNvPr id="524" name="Rectangle 58"/>
                <p:cNvSpPr/>
                <p:nvPr/>
              </p:nvSpPr>
              <p:spPr>
                <a:xfrm>
                  <a:off x="1301400" y="5699880"/>
                  <a:ext cx="3535920" cy="84600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25" name="Group 57"/>
                <p:cNvGrpSpPr/>
                <p:nvPr/>
              </p:nvGrpSpPr>
              <p:grpSpPr>
                <a:xfrm>
                  <a:off x="1301400" y="5699880"/>
                  <a:ext cx="3535560" cy="845640"/>
                  <a:chOff x="1301400" y="5699880"/>
                  <a:chExt cx="3535560" cy="845640"/>
                </a:xfrm>
              </p:grpSpPr>
              <p:sp>
                <p:nvSpPr>
                  <p:cNvPr id="526" name="Rectangle 14"/>
                  <p:cNvSpPr/>
                  <p:nvPr/>
                </p:nvSpPr>
                <p:spPr>
                  <a:xfrm>
                    <a:off x="1392480" y="5699880"/>
                    <a:ext cx="3353760" cy="84564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Register addressing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7" name="Rectangle 56"/>
                  <p:cNvSpPr/>
                  <p:nvPr/>
                </p:nvSpPr>
                <p:spPr>
                  <a:xfrm>
                    <a:off x="1301400" y="5699880"/>
                    <a:ext cx="3535560" cy="845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28" name="Group 63"/>
              <p:cNvGrpSpPr/>
              <p:nvPr/>
            </p:nvGrpSpPr>
            <p:grpSpPr>
              <a:xfrm>
                <a:off x="4837680" y="5699880"/>
                <a:ext cx="3535920" cy="846000"/>
                <a:chOff x="4837680" y="5699880"/>
                <a:chExt cx="3535920" cy="846000"/>
              </a:xfrm>
            </p:grpSpPr>
            <p:sp>
              <p:nvSpPr>
                <p:cNvPr id="529" name="Rectangle 62"/>
                <p:cNvSpPr/>
                <p:nvPr/>
              </p:nvSpPr>
              <p:spPr>
                <a:xfrm>
                  <a:off x="4837680" y="5699880"/>
                  <a:ext cx="3535920" cy="84600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30" name="Group 61"/>
                <p:cNvGrpSpPr/>
                <p:nvPr/>
              </p:nvGrpSpPr>
              <p:grpSpPr>
                <a:xfrm>
                  <a:off x="4837680" y="5699880"/>
                  <a:ext cx="3535560" cy="845640"/>
                  <a:chOff x="4837680" y="5699880"/>
                  <a:chExt cx="3535560" cy="845640"/>
                </a:xfrm>
              </p:grpSpPr>
              <p:sp>
                <p:nvSpPr>
                  <p:cNvPr id="531" name="Rectangle 15"/>
                  <p:cNvSpPr/>
                  <p:nvPr/>
                </p:nvSpPr>
                <p:spPr>
                  <a:xfrm>
                    <a:off x="4928760" y="5699880"/>
                    <a:ext cx="3353760" cy="84564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Memory addressing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2" name="Rectangle 60"/>
                  <p:cNvSpPr/>
                  <p:nvPr/>
                </p:nvSpPr>
                <p:spPr>
                  <a:xfrm>
                    <a:off x="4837680" y="5699880"/>
                    <a:ext cx="3535560" cy="845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533" name="Rectangle 65"/>
            <p:cNvSpPr/>
            <p:nvPr/>
          </p:nvSpPr>
          <p:spPr>
            <a:xfrm>
              <a:off x="1295280" y="1219320"/>
              <a:ext cx="7086240" cy="53334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Referencing a Scalar -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Window Based Register Fil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5" name="Picture 4" descr=""/>
          <p:cNvPicPr/>
          <p:nvPr/>
        </p:nvPicPr>
        <p:blipFill>
          <a:blip r:embed="rId1"/>
          <a:srcRect l="0" t="0" r="0" b="74966"/>
          <a:stretch/>
        </p:blipFill>
        <p:spPr>
          <a:xfrm>
            <a:off x="609480" y="1828800"/>
            <a:ext cx="800100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Referencing a Scalar - Cach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7" name="Picture 4" descr=""/>
          <p:cNvPicPr/>
          <p:nvPr/>
        </p:nvPicPr>
        <p:blipFill>
          <a:blip r:embed="rId1"/>
          <a:srcRect l="0" t="36924" r="0" b="14339"/>
          <a:stretch/>
        </p:blipFill>
        <p:spPr>
          <a:xfrm>
            <a:off x="1523880" y="1219320"/>
            <a:ext cx="586764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Compiler Based Register Optimiz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ssume small number of registers (16-32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ptimizing use is up to compil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LL programs have no explicit references to regist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usually - think about C - register i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ssign symbolic or virtual register to each candidate variabl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ap (unlimited) symbolic registers to real regist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ymbolic registers that do not overlap can share real regist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f you run out of real registers some variables use mem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Graph Color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Given a graph of nodes and ed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ssign a color to each no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djacent nodes have different colo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minimum number of colo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odes are symbolic regist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wo registers that are live in the same program fragment are joined by an ed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y to color the graph with </a:t>
            </a:r>
            <a:r>
              <a:rPr b="0" i="1" lang="en-GB" sz="2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colors, where </a:t>
            </a:r>
            <a:r>
              <a:rPr b="0" i="1" lang="en-GB" sz="2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is the number of real regist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odes that can not be colored are placed in mem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Graph Coloring Approach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43" name="Picture 4" descr=""/>
          <p:cNvPicPr/>
          <p:nvPr/>
        </p:nvPicPr>
        <p:blipFill>
          <a:blip r:embed="rId1"/>
          <a:srcRect l="0" t="0" r="0" b="19913"/>
          <a:stretch/>
        </p:blipFill>
        <p:spPr>
          <a:xfrm>
            <a:off x="533520" y="1752480"/>
            <a:ext cx="7924680" cy="41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Why CISC (1)?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mpiler simplificatio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isputed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mplex machine instructions harder to explo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ptimization more difficul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maller program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rogram takes up less memory but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emory is now chea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ay not occupy less bits, just look shorter in symbolic for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ore instructions require longer op-cod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gister references require fewer bi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Why CISC (2)?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aster program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Bias towards use of simpler instruc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ore complex control un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croprogram control store larg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hus simple instructions take longer to execu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t is far from clear that CISC is the appropriate solu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Major Advances in Computers(2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olid State 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See memory not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processo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tel 4004  197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ipelin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troduces parallelism into fetch execute cyc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ultiple processo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RISC Characteristic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ne instruction per cyc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gister to register oper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ew, simple addressing mod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ew, simple instruction forma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ardwired design (no microcod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ixed instruction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ore compile time/eff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RISC v CISC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ot clear cu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any designs borrow from both philosoph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.g. PowerPC and Pentium I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RISC Pipelin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ost instructions are register to regis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wo phases of execu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: Instruction fet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: Execu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LU operation with register input and outpu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r load and sto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: Instruction fet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: Execu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alculate memory addr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: Mem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gister to memory or memory to register ope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Effects of Pipelin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55" name="Picture 5" descr=""/>
          <p:cNvPicPr/>
          <p:nvPr/>
        </p:nvPicPr>
        <p:blipFill>
          <a:blip r:embed="rId1"/>
          <a:srcRect l="0" t="0" r="0" b="15735"/>
          <a:stretch/>
        </p:blipFill>
        <p:spPr>
          <a:xfrm>
            <a:off x="228600" y="1368360"/>
            <a:ext cx="8686800" cy="49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Optimization of Pipelin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layed bran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808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oes not take effect until after execution of following instr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808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is following instruction is the delay slo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layed Lo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808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gister to be target is locked by process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808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ntinue execution of instruction stream until register requir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808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dle until load comple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808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-arranging instructions can allow useful work whilst loa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oop Unroll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808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plicate body of loop a number of ti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808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erate loop fewer ti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808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duces loop overhe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808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s instruction parallelis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808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mproved register, data cache or TLB local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Loop Unrolling Twice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o i=2, n-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[i] = a[i] + a[i-1] * a[i+l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d 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Becom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o i=2, n-2, 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[i] = a[i] + a[i-1] * a[i+i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[i+l] = a[i+l] + a[i] * a[i+2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d 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(mod(n-2,2) = i) th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[n-1] = a[n-1] + a[n-2] * a[n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d i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Normal and Delayed Branch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561" name="Group 111"/>
          <p:cNvGrpSpPr/>
          <p:nvPr/>
        </p:nvGrpSpPr>
        <p:grpSpPr>
          <a:xfrm>
            <a:off x="1803240" y="1395360"/>
            <a:ext cx="5538600" cy="5310000"/>
            <a:chOff x="1803240" y="1395360"/>
            <a:chExt cx="5538600" cy="5310000"/>
          </a:xfrm>
        </p:grpSpPr>
        <p:grpSp>
          <p:nvGrpSpPr>
            <p:cNvPr id="562" name="Group 109"/>
            <p:cNvGrpSpPr/>
            <p:nvPr/>
          </p:nvGrpSpPr>
          <p:grpSpPr>
            <a:xfrm>
              <a:off x="1807920" y="1400040"/>
              <a:ext cx="5529240" cy="5300640"/>
              <a:chOff x="1807920" y="1400040"/>
              <a:chExt cx="5529240" cy="5300640"/>
            </a:xfrm>
          </p:grpSpPr>
          <p:grpSp>
            <p:nvGrpSpPr>
              <p:cNvPr id="563" name="Group 46"/>
              <p:cNvGrpSpPr/>
              <p:nvPr/>
            </p:nvGrpSpPr>
            <p:grpSpPr>
              <a:xfrm>
                <a:off x="1807920" y="1400040"/>
                <a:ext cx="1004760" cy="822240"/>
                <a:chOff x="1807920" y="1400040"/>
                <a:chExt cx="1004760" cy="822240"/>
              </a:xfrm>
            </p:grpSpPr>
            <p:sp>
              <p:nvSpPr>
                <p:cNvPr id="564" name="Rectangle 13"/>
                <p:cNvSpPr/>
                <p:nvPr/>
              </p:nvSpPr>
              <p:spPr>
                <a:xfrm>
                  <a:off x="1876320" y="1400040"/>
                  <a:ext cx="8683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ddres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Rectangle 45"/>
                <p:cNvSpPr/>
                <p:nvPr/>
              </p:nvSpPr>
              <p:spPr>
                <a:xfrm>
                  <a:off x="1807920" y="1400040"/>
                  <a:ext cx="100476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6" name="Group 48"/>
              <p:cNvGrpSpPr/>
              <p:nvPr/>
            </p:nvGrpSpPr>
            <p:grpSpPr>
              <a:xfrm>
                <a:off x="2812680" y="1400040"/>
                <a:ext cx="1508400" cy="822240"/>
                <a:chOff x="2812680" y="1400040"/>
                <a:chExt cx="1508400" cy="822240"/>
              </a:xfrm>
            </p:grpSpPr>
            <p:sp>
              <p:nvSpPr>
                <p:cNvPr id="567" name="Rectangle 14"/>
                <p:cNvSpPr/>
                <p:nvPr/>
              </p:nvSpPr>
              <p:spPr>
                <a:xfrm>
                  <a:off x="2881080" y="1400040"/>
                  <a:ext cx="137160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rmal Branch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Rectangle 47"/>
                <p:cNvSpPr/>
                <p:nvPr/>
              </p:nvSpPr>
              <p:spPr>
                <a:xfrm>
                  <a:off x="2812680" y="1400040"/>
                  <a:ext cx="150840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9" name="Group 50"/>
              <p:cNvGrpSpPr/>
              <p:nvPr/>
            </p:nvGrpSpPr>
            <p:grpSpPr>
              <a:xfrm>
                <a:off x="4321080" y="1400040"/>
                <a:ext cx="1508040" cy="822240"/>
                <a:chOff x="4321080" y="1400040"/>
                <a:chExt cx="1508040" cy="822240"/>
              </a:xfrm>
            </p:grpSpPr>
            <p:sp>
              <p:nvSpPr>
                <p:cNvPr id="570" name="Rectangle 15"/>
                <p:cNvSpPr/>
                <p:nvPr/>
              </p:nvSpPr>
              <p:spPr>
                <a:xfrm>
                  <a:off x="4389120" y="1400040"/>
                  <a:ext cx="137160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elayed Branch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Rectangle 49"/>
                <p:cNvSpPr/>
                <p:nvPr/>
              </p:nvSpPr>
              <p:spPr>
                <a:xfrm>
                  <a:off x="4321080" y="1400040"/>
                  <a:ext cx="15080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2" name="Group 52"/>
              <p:cNvGrpSpPr/>
              <p:nvPr/>
            </p:nvGrpSpPr>
            <p:grpSpPr>
              <a:xfrm>
                <a:off x="5829120" y="1400040"/>
                <a:ext cx="1508040" cy="822240"/>
                <a:chOff x="5829120" y="1400040"/>
                <a:chExt cx="1508040" cy="822240"/>
              </a:xfrm>
            </p:grpSpPr>
            <p:sp>
              <p:nvSpPr>
                <p:cNvPr id="573" name="Rectangle 16"/>
                <p:cNvSpPr/>
                <p:nvPr/>
              </p:nvSpPr>
              <p:spPr>
                <a:xfrm>
                  <a:off x="5897160" y="1400040"/>
                  <a:ext cx="137160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ptimized Delayed Branch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Rectangle 51"/>
                <p:cNvSpPr/>
                <p:nvPr/>
              </p:nvSpPr>
              <p:spPr>
                <a:xfrm>
                  <a:off x="5829120" y="1400040"/>
                  <a:ext cx="15080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5" name="Group 54"/>
              <p:cNvGrpSpPr/>
              <p:nvPr/>
            </p:nvGrpSpPr>
            <p:grpSpPr>
              <a:xfrm>
                <a:off x="1807920" y="2222280"/>
                <a:ext cx="1004760" cy="639720"/>
                <a:chOff x="1807920" y="2222280"/>
                <a:chExt cx="1004760" cy="639720"/>
              </a:xfrm>
            </p:grpSpPr>
            <p:sp>
              <p:nvSpPr>
                <p:cNvPr id="576" name="Rectangle 17"/>
                <p:cNvSpPr/>
                <p:nvPr/>
              </p:nvSpPr>
              <p:spPr>
                <a:xfrm>
                  <a:off x="1876320" y="2222280"/>
                  <a:ext cx="8683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Rectangle 53"/>
                <p:cNvSpPr/>
                <p:nvPr/>
              </p:nvSpPr>
              <p:spPr>
                <a:xfrm>
                  <a:off x="1807920" y="2222280"/>
                  <a:ext cx="10047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8" name="Group 56"/>
              <p:cNvGrpSpPr/>
              <p:nvPr/>
            </p:nvGrpSpPr>
            <p:grpSpPr>
              <a:xfrm>
                <a:off x="2812680" y="2222280"/>
                <a:ext cx="1508400" cy="639720"/>
                <a:chOff x="2812680" y="2222280"/>
                <a:chExt cx="1508400" cy="639720"/>
              </a:xfrm>
            </p:grpSpPr>
            <p:sp>
              <p:nvSpPr>
                <p:cNvPr id="579" name="Rectangle 18"/>
                <p:cNvSpPr/>
                <p:nvPr/>
              </p:nvSpPr>
              <p:spPr>
                <a:xfrm>
                  <a:off x="2881080" y="2222280"/>
                  <a:ext cx="13716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82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OAD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X, r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82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Rectangle 55"/>
                <p:cNvSpPr/>
                <p:nvPr/>
              </p:nvSpPr>
              <p:spPr>
                <a:xfrm>
                  <a:off x="2812680" y="2222280"/>
                  <a:ext cx="15084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1" name="Group 58"/>
              <p:cNvGrpSpPr/>
              <p:nvPr/>
            </p:nvGrpSpPr>
            <p:grpSpPr>
              <a:xfrm>
                <a:off x="4321080" y="2222280"/>
                <a:ext cx="1508040" cy="639720"/>
                <a:chOff x="4321080" y="2222280"/>
                <a:chExt cx="1508040" cy="639720"/>
              </a:xfrm>
            </p:grpSpPr>
            <p:sp>
              <p:nvSpPr>
                <p:cNvPr id="582" name="Rectangle 19"/>
                <p:cNvSpPr/>
                <p:nvPr/>
              </p:nvSpPr>
              <p:spPr>
                <a:xfrm>
                  <a:off x="4389120" y="2222280"/>
                  <a:ext cx="13716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82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OAD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X, r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82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Rectangle 57"/>
                <p:cNvSpPr/>
                <p:nvPr/>
              </p:nvSpPr>
              <p:spPr>
                <a:xfrm>
                  <a:off x="4321080" y="2222280"/>
                  <a:ext cx="15080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4" name="Group 60"/>
              <p:cNvGrpSpPr/>
              <p:nvPr/>
            </p:nvGrpSpPr>
            <p:grpSpPr>
              <a:xfrm>
                <a:off x="5829120" y="2222280"/>
                <a:ext cx="1508040" cy="639720"/>
                <a:chOff x="5829120" y="2222280"/>
                <a:chExt cx="1508040" cy="639720"/>
              </a:xfrm>
            </p:grpSpPr>
            <p:sp>
              <p:nvSpPr>
                <p:cNvPr id="585" name="Rectangle 20"/>
                <p:cNvSpPr/>
                <p:nvPr/>
              </p:nvSpPr>
              <p:spPr>
                <a:xfrm>
                  <a:off x="5897160" y="2222280"/>
                  <a:ext cx="13716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82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OAD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X, r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82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Rectangle 59"/>
                <p:cNvSpPr/>
                <p:nvPr/>
              </p:nvSpPr>
              <p:spPr>
                <a:xfrm>
                  <a:off x="5829120" y="2222280"/>
                  <a:ext cx="15080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7" name="Group 62"/>
              <p:cNvGrpSpPr/>
              <p:nvPr/>
            </p:nvGrpSpPr>
            <p:grpSpPr>
              <a:xfrm>
                <a:off x="1807920" y="2862000"/>
                <a:ext cx="1004760" cy="639720"/>
                <a:chOff x="1807920" y="2862000"/>
                <a:chExt cx="1004760" cy="639720"/>
              </a:xfrm>
            </p:grpSpPr>
            <p:sp>
              <p:nvSpPr>
                <p:cNvPr id="588" name="Rectangle 21"/>
                <p:cNvSpPr/>
                <p:nvPr/>
              </p:nvSpPr>
              <p:spPr>
                <a:xfrm>
                  <a:off x="1876320" y="2862000"/>
                  <a:ext cx="8683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Rectangle 61"/>
                <p:cNvSpPr/>
                <p:nvPr/>
              </p:nvSpPr>
              <p:spPr>
                <a:xfrm>
                  <a:off x="1807920" y="2862000"/>
                  <a:ext cx="10047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0" name="Group 64"/>
              <p:cNvGrpSpPr/>
              <p:nvPr/>
            </p:nvGrpSpPr>
            <p:grpSpPr>
              <a:xfrm>
                <a:off x="2812680" y="2862000"/>
                <a:ext cx="1508400" cy="639720"/>
                <a:chOff x="2812680" y="2862000"/>
                <a:chExt cx="1508400" cy="639720"/>
              </a:xfrm>
            </p:grpSpPr>
            <p:sp>
              <p:nvSpPr>
                <p:cNvPr id="591" name="Rectangle 22"/>
                <p:cNvSpPr/>
                <p:nvPr/>
              </p:nvSpPr>
              <p:spPr>
                <a:xfrm>
                  <a:off x="2881080" y="2862000"/>
                  <a:ext cx="13716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82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DD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, r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82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Rectangle 63"/>
                <p:cNvSpPr/>
                <p:nvPr/>
              </p:nvSpPr>
              <p:spPr>
                <a:xfrm>
                  <a:off x="2812680" y="2862000"/>
                  <a:ext cx="15084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3" name="Group 66"/>
              <p:cNvGrpSpPr/>
              <p:nvPr/>
            </p:nvGrpSpPr>
            <p:grpSpPr>
              <a:xfrm>
                <a:off x="4321080" y="2862000"/>
                <a:ext cx="1508040" cy="639720"/>
                <a:chOff x="4321080" y="2862000"/>
                <a:chExt cx="1508040" cy="639720"/>
              </a:xfrm>
            </p:grpSpPr>
            <p:sp>
              <p:nvSpPr>
                <p:cNvPr id="594" name="Rectangle 23"/>
                <p:cNvSpPr/>
                <p:nvPr/>
              </p:nvSpPr>
              <p:spPr>
                <a:xfrm>
                  <a:off x="4389120" y="2862000"/>
                  <a:ext cx="13716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82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DD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, r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82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Rectangle 65"/>
                <p:cNvSpPr/>
                <p:nvPr/>
              </p:nvSpPr>
              <p:spPr>
                <a:xfrm>
                  <a:off x="4321080" y="2862000"/>
                  <a:ext cx="15080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6" name="Group 68"/>
              <p:cNvGrpSpPr/>
              <p:nvPr/>
            </p:nvGrpSpPr>
            <p:grpSpPr>
              <a:xfrm>
                <a:off x="5829120" y="2862000"/>
                <a:ext cx="1508040" cy="639720"/>
                <a:chOff x="5829120" y="2862000"/>
                <a:chExt cx="1508040" cy="639720"/>
              </a:xfrm>
            </p:grpSpPr>
            <p:sp>
              <p:nvSpPr>
                <p:cNvPr id="597" name="Rectangle 24"/>
                <p:cNvSpPr/>
                <p:nvPr/>
              </p:nvSpPr>
              <p:spPr>
                <a:xfrm>
                  <a:off x="5897160" y="2862000"/>
                  <a:ext cx="13716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82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JUMP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82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Rectangle 67"/>
                <p:cNvSpPr/>
                <p:nvPr/>
              </p:nvSpPr>
              <p:spPr>
                <a:xfrm>
                  <a:off x="5829120" y="2862000"/>
                  <a:ext cx="15080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9" name="Group 70"/>
              <p:cNvGrpSpPr/>
              <p:nvPr/>
            </p:nvGrpSpPr>
            <p:grpSpPr>
              <a:xfrm>
                <a:off x="1807920" y="3501720"/>
                <a:ext cx="1004760" cy="640080"/>
                <a:chOff x="1807920" y="3501720"/>
                <a:chExt cx="1004760" cy="640080"/>
              </a:xfrm>
            </p:grpSpPr>
            <p:sp>
              <p:nvSpPr>
                <p:cNvPr id="600" name="Rectangle 25"/>
                <p:cNvSpPr/>
                <p:nvPr/>
              </p:nvSpPr>
              <p:spPr>
                <a:xfrm>
                  <a:off x="1876320" y="3501720"/>
                  <a:ext cx="86832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Rectangle 69"/>
                <p:cNvSpPr/>
                <p:nvPr/>
              </p:nvSpPr>
              <p:spPr>
                <a:xfrm>
                  <a:off x="1807920" y="3501720"/>
                  <a:ext cx="100476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2" name="Group 72"/>
              <p:cNvGrpSpPr/>
              <p:nvPr/>
            </p:nvGrpSpPr>
            <p:grpSpPr>
              <a:xfrm>
                <a:off x="2812680" y="3501720"/>
                <a:ext cx="1508400" cy="640080"/>
                <a:chOff x="2812680" y="3501720"/>
                <a:chExt cx="1508400" cy="640080"/>
              </a:xfrm>
            </p:grpSpPr>
            <p:sp>
              <p:nvSpPr>
                <p:cNvPr id="603" name="Rectangle 26"/>
                <p:cNvSpPr/>
                <p:nvPr/>
              </p:nvSpPr>
              <p:spPr>
                <a:xfrm>
                  <a:off x="2881080" y="3501720"/>
                  <a:ext cx="137160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82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JUMP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82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Rectangle 71"/>
                <p:cNvSpPr/>
                <p:nvPr/>
              </p:nvSpPr>
              <p:spPr>
                <a:xfrm>
                  <a:off x="2812680" y="3501720"/>
                  <a:ext cx="150840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5" name="Group 74"/>
              <p:cNvGrpSpPr/>
              <p:nvPr/>
            </p:nvGrpSpPr>
            <p:grpSpPr>
              <a:xfrm>
                <a:off x="4321080" y="3501720"/>
                <a:ext cx="1508040" cy="640080"/>
                <a:chOff x="4321080" y="3501720"/>
                <a:chExt cx="1508040" cy="640080"/>
              </a:xfrm>
            </p:grpSpPr>
            <p:sp>
              <p:nvSpPr>
                <p:cNvPr id="606" name="Rectangle 27"/>
                <p:cNvSpPr/>
                <p:nvPr/>
              </p:nvSpPr>
              <p:spPr>
                <a:xfrm>
                  <a:off x="4389120" y="3501720"/>
                  <a:ext cx="137160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82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JUMP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82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Rectangle 73"/>
                <p:cNvSpPr/>
                <p:nvPr/>
              </p:nvSpPr>
              <p:spPr>
                <a:xfrm>
                  <a:off x="4321080" y="3501720"/>
                  <a:ext cx="150804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8" name="Group 76"/>
              <p:cNvGrpSpPr/>
              <p:nvPr/>
            </p:nvGrpSpPr>
            <p:grpSpPr>
              <a:xfrm>
                <a:off x="5829120" y="3501720"/>
                <a:ext cx="1508040" cy="640080"/>
                <a:chOff x="5829120" y="3501720"/>
                <a:chExt cx="1508040" cy="640080"/>
              </a:xfrm>
            </p:grpSpPr>
            <p:sp>
              <p:nvSpPr>
                <p:cNvPr id="609" name="Rectangle 28"/>
                <p:cNvSpPr/>
                <p:nvPr/>
              </p:nvSpPr>
              <p:spPr>
                <a:xfrm>
                  <a:off x="5897160" y="3501720"/>
                  <a:ext cx="137160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82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DD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, r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82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Rectangle 75"/>
                <p:cNvSpPr/>
                <p:nvPr/>
              </p:nvSpPr>
              <p:spPr>
                <a:xfrm>
                  <a:off x="5829120" y="3501720"/>
                  <a:ext cx="150804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1" name="Group 78"/>
              <p:cNvGrpSpPr/>
              <p:nvPr/>
            </p:nvGrpSpPr>
            <p:grpSpPr>
              <a:xfrm>
                <a:off x="1807920" y="4141800"/>
                <a:ext cx="1004760" cy="639720"/>
                <a:chOff x="1807920" y="4141800"/>
                <a:chExt cx="1004760" cy="639720"/>
              </a:xfrm>
            </p:grpSpPr>
            <p:sp>
              <p:nvSpPr>
                <p:cNvPr id="612" name="Rectangle 29"/>
                <p:cNvSpPr/>
                <p:nvPr/>
              </p:nvSpPr>
              <p:spPr>
                <a:xfrm>
                  <a:off x="1876320" y="4141800"/>
                  <a:ext cx="8683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Rectangle 77"/>
                <p:cNvSpPr/>
                <p:nvPr/>
              </p:nvSpPr>
              <p:spPr>
                <a:xfrm>
                  <a:off x="1807920" y="4141800"/>
                  <a:ext cx="10047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4" name="Group 80"/>
              <p:cNvGrpSpPr/>
              <p:nvPr/>
            </p:nvGrpSpPr>
            <p:grpSpPr>
              <a:xfrm>
                <a:off x="2812680" y="4141800"/>
                <a:ext cx="1508400" cy="639720"/>
                <a:chOff x="2812680" y="4141800"/>
                <a:chExt cx="1508400" cy="639720"/>
              </a:xfrm>
            </p:grpSpPr>
            <p:sp>
              <p:nvSpPr>
                <p:cNvPr id="615" name="Rectangle 30"/>
                <p:cNvSpPr/>
                <p:nvPr/>
              </p:nvSpPr>
              <p:spPr>
                <a:xfrm>
                  <a:off x="2881080" y="4141800"/>
                  <a:ext cx="13716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82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DD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A, r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82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Rectangle 79"/>
                <p:cNvSpPr/>
                <p:nvPr/>
              </p:nvSpPr>
              <p:spPr>
                <a:xfrm>
                  <a:off x="2812680" y="4141800"/>
                  <a:ext cx="15084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7" name="Group 82"/>
              <p:cNvGrpSpPr/>
              <p:nvPr/>
            </p:nvGrpSpPr>
            <p:grpSpPr>
              <a:xfrm>
                <a:off x="4321080" y="4141800"/>
                <a:ext cx="1508040" cy="639720"/>
                <a:chOff x="4321080" y="4141800"/>
                <a:chExt cx="1508040" cy="639720"/>
              </a:xfrm>
            </p:grpSpPr>
            <p:sp>
              <p:nvSpPr>
                <p:cNvPr id="618" name="Rectangle 31"/>
                <p:cNvSpPr/>
                <p:nvPr/>
              </p:nvSpPr>
              <p:spPr>
                <a:xfrm>
                  <a:off x="4389120" y="4141800"/>
                  <a:ext cx="13716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82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OP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82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Rectangle 81"/>
                <p:cNvSpPr/>
                <p:nvPr/>
              </p:nvSpPr>
              <p:spPr>
                <a:xfrm>
                  <a:off x="4321080" y="4141800"/>
                  <a:ext cx="15080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0" name="Group 84"/>
              <p:cNvGrpSpPr/>
              <p:nvPr/>
            </p:nvGrpSpPr>
            <p:grpSpPr>
              <a:xfrm>
                <a:off x="5829120" y="4141800"/>
                <a:ext cx="1508040" cy="639720"/>
                <a:chOff x="5829120" y="4141800"/>
                <a:chExt cx="1508040" cy="639720"/>
              </a:xfrm>
            </p:grpSpPr>
            <p:sp>
              <p:nvSpPr>
                <p:cNvPr id="621" name="Rectangle 32"/>
                <p:cNvSpPr/>
                <p:nvPr/>
              </p:nvSpPr>
              <p:spPr>
                <a:xfrm>
                  <a:off x="5897160" y="4141800"/>
                  <a:ext cx="13716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82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DD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A, r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82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Rectangle 83"/>
                <p:cNvSpPr/>
                <p:nvPr/>
              </p:nvSpPr>
              <p:spPr>
                <a:xfrm>
                  <a:off x="5829120" y="4141800"/>
                  <a:ext cx="15080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3" name="Group 86"/>
              <p:cNvGrpSpPr/>
              <p:nvPr/>
            </p:nvGrpSpPr>
            <p:grpSpPr>
              <a:xfrm>
                <a:off x="1807920" y="4781520"/>
                <a:ext cx="1004760" cy="639720"/>
                <a:chOff x="1807920" y="4781520"/>
                <a:chExt cx="1004760" cy="639720"/>
              </a:xfrm>
            </p:grpSpPr>
            <p:sp>
              <p:nvSpPr>
                <p:cNvPr id="624" name="Rectangle 33"/>
                <p:cNvSpPr/>
                <p:nvPr/>
              </p:nvSpPr>
              <p:spPr>
                <a:xfrm>
                  <a:off x="1876320" y="4781520"/>
                  <a:ext cx="8683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Rectangle 85"/>
                <p:cNvSpPr/>
                <p:nvPr/>
              </p:nvSpPr>
              <p:spPr>
                <a:xfrm>
                  <a:off x="1807920" y="4781520"/>
                  <a:ext cx="10047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6" name="Group 88"/>
              <p:cNvGrpSpPr/>
              <p:nvPr/>
            </p:nvGrpSpPr>
            <p:grpSpPr>
              <a:xfrm>
                <a:off x="2812680" y="4781520"/>
                <a:ext cx="1508400" cy="639720"/>
                <a:chOff x="2812680" y="4781520"/>
                <a:chExt cx="1508400" cy="639720"/>
              </a:xfrm>
            </p:grpSpPr>
            <p:sp>
              <p:nvSpPr>
                <p:cNvPr id="627" name="Rectangle 34"/>
                <p:cNvSpPr/>
                <p:nvPr/>
              </p:nvSpPr>
              <p:spPr>
                <a:xfrm>
                  <a:off x="2881080" y="4781520"/>
                  <a:ext cx="13716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82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UB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C, r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82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Rectangle 87"/>
                <p:cNvSpPr/>
                <p:nvPr/>
              </p:nvSpPr>
              <p:spPr>
                <a:xfrm>
                  <a:off x="2812680" y="4781520"/>
                  <a:ext cx="15084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9" name="Group 90"/>
              <p:cNvGrpSpPr/>
              <p:nvPr/>
            </p:nvGrpSpPr>
            <p:grpSpPr>
              <a:xfrm>
                <a:off x="4321080" y="4781520"/>
                <a:ext cx="1508040" cy="639720"/>
                <a:chOff x="4321080" y="4781520"/>
                <a:chExt cx="1508040" cy="639720"/>
              </a:xfrm>
            </p:grpSpPr>
            <p:sp>
              <p:nvSpPr>
                <p:cNvPr id="630" name="Rectangle 35"/>
                <p:cNvSpPr/>
                <p:nvPr/>
              </p:nvSpPr>
              <p:spPr>
                <a:xfrm>
                  <a:off x="4389120" y="4781520"/>
                  <a:ext cx="13716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82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DD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A, r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82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Rectangle 89"/>
                <p:cNvSpPr/>
                <p:nvPr/>
              </p:nvSpPr>
              <p:spPr>
                <a:xfrm>
                  <a:off x="4321080" y="4781520"/>
                  <a:ext cx="15080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2" name="Group 92"/>
              <p:cNvGrpSpPr/>
              <p:nvPr/>
            </p:nvGrpSpPr>
            <p:grpSpPr>
              <a:xfrm>
                <a:off x="5829120" y="4781520"/>
                <a:ext cx="1508040" cy="639720"/>
                <a:chOff x="5829120" y="4781520"/>
                <a:chExt cx="1508040" cy="639720"/>
              </a:xfrm>
            </p:grpSpPr>
            <p:sp>
              <p:nvSpPr>
                <p:cNvPr id="633" name="Rectangle 36"/>
                <p:cNvSpPr/>
                <p:nvPr/>
              </p:nvSpPr>
              <p:spPr>
                <a:xfrm>
                  <a:off x="5897160" y="4781520"/>
                  <a:ext cx="13716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82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UB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C, r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82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Rectangle 91"/>
                <p:cNvSpPr/>
                <p:nvPr/>
              </p:nvSpPr>
              <p:spPr>
                <a:xfrm>
                  <a:off x="5829120" y="4781520"/>
                  <a:ext cx="15080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5" name="Group 94"/>
              <p:cNvGrpSpPr/>
              <p:nvPr/>
            </p:nvGrpSpPr>
            <p:grpSpPr>
              <a:xfrm>
                <a:off x="1807920" y="5421240"/>
                <a:ext cx="1004760" cy="639720"/>
                <a:chOff x="1807920" y="5421240"/>
                <a:chExt cx="1004760" cy="639720"/>
              </a:xfrm>
            </p:grpSpPr>
            <p:sp>
              <p:nvSpPr>
                <p:cNvPr id="636" name="Rectangle 37"/>
                <p:cNvSpPr/>
                <p:nvPr/>
              </p:nvSpPr>
              <p:spPr>
                <a:xfrm>
                  <a:off x="1876320" y="5421240"/>
                  <a:ext cx="8683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Rectangle 93"/>
                <p:cNvSpPr/>
                <p:nvPr/>
              </p:nvSpPr>
              <p:spPr>
                <a:xfrm>
                  <a:off x="1807920" y="5421240"/>
                  <a:ext cx="10047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8" name="Group 96"/>
              <p:cNvGrpSpPr/>
              <p:nvPr/>
            </p:nvGrpSpPr>
            <p:grpSpPr>
              <a:xfrm>
                <a:off x="2812680" y="5421240"/>
                <a:ext cx="1508400" cy="639720"/>
                <a:chOff x="2812680" y="5421240"/>
                <a:chExt cx="1508400" cy="639720"/>
              </a:xfrm>
            </p:grpSpPr>
            <p:sp>
              <p:nvSpPr>
                <p:cNvPr id="639" name="Rectangle 38"/>
                <p:cNvSpPr/>
                <p:nvPr/>
              </p:nvSpPr>
              <p:spPr>
                <a:xfrm>
                  <a:off x="2881080" y="5421240"/>
                  <a:ext cx="13716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82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TORE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A, Z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82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Rectangle 95"/>
                <p:cNvSpPr/>
                <p:nvPr/>
              </p:nvSpPr>
              <p:spPr>
                <a:xfrm>
                  <a:off x="2812680" y="5421240"/>
                  <a:ext cx="15084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1" name="Group 98"/>
              <p:cNvGrpSpPr/>
              <p:nvPr/>
            </p:nvGrpSpPr>
            <p:grpSpPr>
              <a:xfrm>
                <a:off x="4321080" y="5421240"/>
                <a:ext cx="1508040" cy="639720"/>
                <a:chOff x="4321080" y="5421240"/>
                <a:chExt cx="1508040" cy="639720"/>
              </a:xfrm>
            </p:grpSpPr>
            <p:sp>
              <p:nvSpPr>
                <p:cNvPr id="642" name="Rectangle 39"/>
                <p:cNvSpPr/>
                <p:nvPr/>
              </p:nvSpPr>
              <p:spPr>
                <a:xfrm>
                  <a:off x="4389120" y="5421240"/>
                  <a:ext cx="13716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82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UB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C, r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82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Rectangle 97"/>
                <p:cNvSpPr/>
                <p:nvPr/>
              </p:nvSpPr>
              <p:spPr>
                <a:xfrm>
                  <a:off x="4321080" y="5421240"/>
                  <a:ext cx="15080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4" name="Group 100"/>
              <p:cNvGrpSpPr/>
              <p:nvPr/>
            </p:nvGrpSpPr>
            <p:grpSpPr>
              <a:xfrm>
                <a:off x="5829120" y="5421240"/>
                <a:ext cx="1508040" cy="639720"/>
                <a:chOff x="5829120" y="5421240"/>
                <a:chExt cx="1508040" cy="639720"/>
              </a:xfrm>
            </p:grpSpPr>
            <p:sp>
              <p:nvSpPr>
                <p:cNvPr id="645" name="Rectangle 40"/>
                <p:cNvSpPr/>
                <p:nvPr/>
              </p:nvSpPr>
              <p:spPr>
                <a:xfrm>
                  <a:off x="5897160" y="5421240"/>
                  <a:ext cx="13716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82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TORE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A, Z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82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Rectangle 99"/>
                <p:cNvSpPr/>
                <p:nvPr/>
              </p:nvSpPr>
              <p:spPr>
                <a:xfrm>
                  <a:off x="5829120" y="5421240"/>
                  <a:ext cx="15080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7" name="Group 102"/>
              <p:cNvGrpSpPr/>
              <p:nvPr/>
            </p:nvGrpSpPr>
            <p:grpSpPr>
              <a:xfrm>
                <a:off x="1807920" y="6060960"/>
                <a:ext cx="1004760" cy="639720"/>
                <a:chOff x="1807920" y="6060960"/>
                <a:chExt cx="1004760" cy="639720"/>
              </a:xfrm>
            </p:grpSpPr>
            <p:sp>
              <p:nvSpPr>
                <p:cNvPr id="648" name="Rectangle 41"/>
                <p:cNvSpPr/>
                <p:nvPr/>
              </p:nvSpPr>
              <p:spPr>
                <a:xfrm>
                  <a:off x="1876320" y="6060960"/>
                  <a:ext cx="8683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Rectangle 101"/>
                <p:cNvSpPr/>
                <p:nvPr/>
              </p:nvSpPr>
              <p:spPr>
                <a:xfrm>
                  <a:off x="1807920" y="6060960"/>
                  <a:ext cx="10047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0" name="Group 104"/>
              <p:cNvGrpSpPr/>
              <p:nvPr/>
            </p:nvGrpSpPr>
            <p:grpSpPr>
              <a:xfrm>
                <a:off x="2812680" y="6060960"/>
                <a:ext cx="1508400" cy="639720"/>
                <a:chOff x="2812680" y="6060960"/>
                <a:chExt cx="1508400" cy="639720"/>
              </a:xfrm>
            </p:grpSpPr>
            <p:sp>
              <p:nvSpPr>
                <p:cNvPr id="651" name="Rectangle 42"/>
                <p:cNvSpPr/>
                <p:nvPr/>
              </p:nvSpPr>
              <p:spPr>
                <a:xfrm>
                  <a:off x="2881080" y="6060960"/>
                  <a:ext cx="13716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82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82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Rectangle 103"/>
                <p:cNvSpPr/>
                <p:nvPr/>
              </p:nvSpPr>
              <p:spPr>
                <a:xfrm>
                  <a:off x="2812680" y="6060960"/>
                  <a:ext cx="15084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3" name="Group 106"/>
              <p:cNvGrpSpPr/>
              <p:nvPr/>
            </p:nvGrpSpPr>
            <p:grpSpPr>
              <a:xfrm>
                <a:off x="4321080" y="6060960"/>
                <a:ext cx="1508040" cy="639720"/>
                <a:chOff x="4321080" y="6060960"/>
                <a:chExt cx="1508040" cy="639720"/>
              </a:xfrm>
            </p:grpSpPr>
            <p:sp>
              <p:nvSpPr>
                <p:cNvPr id="654" name="Rectangle 43"/>
                <p:cNvSpPr/>
                <p:nvPr/>
              </p:nvSpPr>
              <p:spPr>
                <a:xfrm>
                  <a:off x="4389120" y="6060960"/>
                  <a:ext cx="13716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82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TORE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A, Z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82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Rectangle 105"/>
                <p:cNvSpPr/>
                <p:nvPr/>
              </p:nvSpPr>
              <p:spPr>
                <a:xfrm>
                  <a:off x="4321080" y="6060960"/>
                  <a:ext cx="15080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6" name="Group 108"/>
              <p:cNvGrpSpPr/>
              <p:nvPr/>
            </p:nvGrpSpPr>
            <p:grpSpPr>
              <a:xfrm>
                <a:off x="5829120" y="6060960"/>
                <a:ext cx="1508040" cy="639720"/>
                <a:chOff x="5829120" y="6060960"/>
                <a:chExt cx="1508040" cy="639720"/>
              </a:xfrm>
            </p:grpSpPr>
            <p:sp>
              <p:nvSpPr>
                <p:cNvPr id="657" name="Rectangle 44"/>
                <p:cNvSpPr/>
                <p:nvPr/>
              </p:nvSpPr>
              <p:spPr>
                <a:xfrm>
                  <a:off x="5897160" y="6060960"/>
                  <a:ext cx="13716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82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82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Rectangle 107"/>
                <p:cNvSpPr/>
                <p:nvPr/>
              </p:nvSpPr>
              <p:spPr>
                <a:xfrm>
                  <a:off x="5829120" y="6060960"/>
                  <a:ext cx="15080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9" name="Rectangle 110"/>
            <p:cNvSpPr/>
            <p:nvPr/>
          </p:nvSpPr>
          <p:spPr>
            <a:xfrm>
              <a:off x="1803240" y="1395360"/>
              <a:ext cx="5538600" cy="53100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Use of Delayed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Branch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61" name="Picture 8" descr=""/>
          <p:cNvPicPr/>
          <p:nvPr/>
        </p:nvPicPr>
        <p:blipFill>
          <a:blip r:embed="rId1"/>
          <a:srcRect l="0" t="0" r="0" b="10897"/>
          <a:stretch/>
        </p:blipFill>
        <p:spPr>
          <a:xfrm>
            <a:off x="4065480" y="0"/>
            <a:ext cx="5078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Controvers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mpare program sizes and execution spee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xamine issues of high level language support and use of VLSI real est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oble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o pair of RISC and CISC that are directly compar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o definitive set of test progra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ifficult to separate hardware effects from complier effe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ost comparisons done on “toy” rather than production machi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ost commercial devices are a mix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anufacturer web si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The Next Step - RISC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duced Instruction Set Compu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Key feat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arge number of general purpose regist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r use of compiler technology to optimize register u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imited and simple instruction s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mphasis on optimising the instruction pipel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Comparison of processor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Picture 6" descr=""/>
          <p:cNvPicPr/>
          <p:nvPr/>
        </p:nvPicPr>
        <p:blipFill>
          <a:blip r:embed="rId1"/>
          <a:srcRect l="7666" t="24694" r="5497" b="23286"/>
          <a:stretch/>
        </p:blipFill>
        <p:spPr>
          <a:xfrm>
            <a:off x="0" y="1387440"/>
            <a:ext cx="914400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Driving force for CISC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oftware costs far exceed hardware co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reasingly complex high level langua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mantic ga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eads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arge instruction se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ore addressing mod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Hardware implementations of HLL state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.g. CASE (switch) on VA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Intention of CISC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ase compiler wri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mprove execution efficien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mplex operations in microco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upport more complex H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Execution Characteristic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perations perform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perands u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xecution sequenc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udies have been done based on programs written in H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ynamic studies are measured during the execution of the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Oper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ssign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ovement of da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nditional statements (IF, LOOP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equence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ocedure call-return is very time consum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ome HLL instruction lead to many machine code oper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17T13:24:42Z</dcterms:created>
  <dc:creator>Adrian J Pullin</dc:creator>
  <dc:description/>
  <dc:language>en-US</dc:language>
  <cp:lastModifiedBy>sahithi</cp:lastModifiedBy>
  <dcterms:modified xsi:type="dcterms:W3CDTF">2013-04-23T14:39:10Z</dcterms:modified>
  <cp:revision>63</cp:revision>
  <dc:subject/>
  <dc:title>13 Reduced Instruction Set Computers</dc:title>
</cp:coreProperties>
</file>