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9BD9E-BDE9-4064-9919-36E8A54608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7E108-1AD0-433D-A971-D890F53733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26FA3-104D-4591-BB96-C3FDA2C1E2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8B7BA-2C2F-4315-B6CB-7ED5E6136C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82813-92AD-4367-8411-59B799F713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374DA-0987-4D23-B033-44CD545C2D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E1F5F-F284-4863-AA1C-84E8541042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2FD55-76E1-40D0-8A95-088E244D13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0E0B4-8F73-45F4-800E-823B005730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1C078-B827-467B-886D-27AD277323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EB15F-64AE-4F80-8828-F9182691C0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8224B-D928-48FA-9EAA-3E052A817E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7D9C0-9C16-417D-A5CF-2D1F3AA39D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E98BE-885A-446E-8842-8D3A99CFBD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58CC2-280E-432F-A1D1-CFE9A97629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AB201-9AE4-4EB5-9912-9BB54397D3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1BFBF-3A32-495F-AB3A-B073FE775A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53665-9E16-4157-ADA6-CC45B56A80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59594-B74A-4EB9-A5B8-9CF2ABA5D6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6BC92-15BF-4B5E-954D-9D5897749C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2AD54-588B-4E9C-AA7A-9A26811107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2DECC-FE6A-4E49-A11C-9AFA9972A4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66B28-DCAF-4992-BCEB-5FC4635C9D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1B699-99E9-47AD-9562-0DBF72C175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C1F7B-3255-4C81-B7AB-AD3016545F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A7DA3-0367-4F35-A3C4-D8C4E4513B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43475-2328-40D8-A066-2D552359C0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2A15C-687D-4CD9-BAF8-AF04A8E199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9F236-FBE5-43A3-B069-3DE5C8C241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72A23-6F40-46F6-99FA-70E85F7E4D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FAF48-6EB6-4D39-AFD5-8C4DE5AF7E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86E5A-9A79-4016-B6BF-836F976774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F5806-4CB1-412D-8169-E865CE22FC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48707-8B80-4984-8C94-BD9FD76839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43B0D-4486-4728-B113-8AC0E9396E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34CD1-4033-4D6B-97AF-08CB99F036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6DB4F-2835-4F78-BE4C-298DAD645A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3F516-C692-446C-AECE-7118419BFB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17884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6840" y="4012200"/>
            <a:ext cx="817884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39909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47600" y="1066680"/>
            <a:ext cx="39909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6840" y="4012200"/>
            <a:ext cx="39909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47600" y="4012200"/>
            <a:ext cx="39909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26334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22360" y="1066680"/>
            <a:ext cx="26334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87880" y="1066680"/>
            <a:ext cx="26334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6840" y="4012200"/>
            <a:ext cx="26334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22360" y="4012200"/>
            <a:ext cx="26334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87880" y="4012200"/>
            <a:ext cx="26334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0F09F-8DCB-43FF-893D-C39DE2C62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066680"/>
            <a:ext cx="817884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FBBC1-D649-4327-8C35-A5F44C302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17884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02B94-D687-46F0-BE04-B5AE2C1CD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399096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47600" y="1066680"/>
            <a:ext cx="399096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6D516-B0BE-4478-81CF-394953EB3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6645D-F09D-4DB5-8001-A7AC8AB22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4C26F-647D-4F32-8F88-240D6EA38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39909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47600" y="1066680"/>
            <a:ext cx="399096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012200"/>
            <a:ext cx="39909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1C849-830D-4D6F-895D-64EC3ABDD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6840" y="1066680"/>
            <a:ext cx="817884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399096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7600" y="1066680"/>
            <a:ext cx="39909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47600" y="4012200"/>
            <a:ext cx="39909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C7D6D-5E5B-496F-A3C7-C3C2085A8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39909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47600" y="1066680"/>
            <a:ext cx="39909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012200"/>
            <a:ext cx="817884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E287A-86F6-4AE6-BC1A-3599A3B33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17884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012200"/>
            <a:ext cx="817884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5D080-10AB-40A2-9D88-93AD3EEBF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39909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47600" y="1066680"/>
            <a:ext cx="39909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012200"/>
            <a:ext cx="39909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47600" y="4012200"/>
            <a:ext cx="39909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9D6EC-2537-4C65-8676-D2CE0C09D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26334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22360" y="1066680"/>
            <a:ext cx="26334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87880" y="1066680"/>
            <a:ext cx="26334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012200"/>
            <a:ext cx="26334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22360" y="4012200"/>
            <a:ext cx="26334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87880" y="4012200"/>
            <a:ext cx="26334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AB108-D577-49A9-9647-4AF092297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17884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399096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47600" y="1066680"/>
            <a:ext cx="399096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39909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47600" y="1066680"/>
            <a:ext cx="399096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6840" y="4012200"/>
            <a:ext cx="39909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399096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47600" y="1066680"/>
            <a:ext cx="39909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47600" y="4012200"/>
            <a:ext cx="39909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39909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47600" y="1066680"/>
            <a:ext cx="399096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012200"/>
            <a:ext cx="817884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dff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066680"/>
            <a:ext cx="817884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808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8080"/>
              </a:buClr>
              <a:buFont typeface="Verdana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8080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Line 4"/>
          <p:cNvSpPr/>
          <p:nvPr/>
        </p:nvSpPr>
        <p:spPr>
          <a:xfrm>
            <a:off x="468360" y="981000"/>
            <a:ext cx="8153280" cy="0"/>
          </a:xfrm>
          <a:prstGeom prst="line">
            <a:avLst/>
          </a:prstGeom>
          <a:ln w="7632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dff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Line 7"/>
          <p:cNvSpPr/>
          <p:nvPr/>
        </p:nvSpPr>
        <p:spPr>
          <a:xfrm>
            <a:off x="468360" y="2492280"/>
            <a:ext cx="8153280" cy="0"/>
          </a:xfrm>
          <a:prstGeom prst="line">
            <a:avLst/>
          </a:prstGeom>
          <a:ln w="7632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6840" y="1066680"/>
            <a:ext cx="817884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808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8080"/>
              </a:buClr>
              <a:buFont typeface="Verdana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8080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6A5E9-A6BE-4544-B01E-DF5EAEE4FFD1}" type="slidenum">
              <a:rPr b="0" lang="en-GB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Black"/>
              </a:rPr>
              <a:t>William Stallings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 Black"/>
              </a:rPr>
              <a:t>Computer Organization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 Black"/>
              </a:rPr>
              <a:t>and Architecture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 Black"/>
              </a:rPr>
              <a:t>8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 Black"/>
              </a:rPr>
              <a:t>th</a:t>
            </a:r>
            <a:r>
              <a:rPr b="0" lang="en-GB" sz="2800" spc="-1" strike="noStrike">
                <a:solidFill>
                  <a:srgbClr val="000000"/>
                </a:solidFill>
                <a:latin typeface="Arial Black"/>
              </a:rPr>
              <a:t> Edi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914040" y="3028680"/>
            <a:ext cx="7467480" cy="177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Black"/>
              </a:rPr>
              <a:t>Chapter 13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Black"/>
              </a:rPr>
              <a:t>Reduced Instruction Set Compute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ighted Relative Dynamic Frequency of HLL Operations [PATT82a]</a:t>
            </a:r>
            <a:r>
              <a:rPr b="0" lang="en-GB" sz="2800" spc="-1" strike="noStrike">
                <a:solidFill>
                  <a:srgbClr val="000000"/>
                </a:solidFill>
                <a:latin typeface="Arial Black"/>
              </a:rPr>
              <a:t> (CISC)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07" name="Group 263"/>
          <p:cNvGrpSpPr/>
          <p:nvPr/>
        </p:nvGrpSpPr>
        <p:grpSpPr>
          <a:xfrm>
            <a:off x="1015920" y="1405080"/>
            <a:ext cx="7034040" cy="5300640"/>
            <a:chOff x="1015920" y="1405080"/>
            <a:chExt cx="7034040" cy="5300640"/>
          </a:xfrm>
        </p:grpSpPr>
        <p:sp>
          <p:nvSpPr>
            <p:cNvPr id="108" name="Rectangle 4"/>
            <p:cNvSpPr/>
            <p:nvPr/>
          </p:nvSpPr>
          <p:spPr>
            <a:xfrm>
              <a:off x="1084320" y="1405080"/>
              <a:ext cx="868320" cy="82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9" name="Group 60"/>
            <p:cNvGrpSpPr/>
            <p:nvPr/>
          </p:nvGrpSpPr>
          <p:grpSpPr>
            <a:xfrm>
              <a:off x="1884240" y="1405080"/>
              <a:ext cx="2146320" cy="822240"/>
              <a:chOff x="1884240" y="1405080"/>
              <a:chExt cx="2146320" cy="822240"/>
            </a:xfrm>
          </p:grpSpPr>
          <p:sp>
            <p:nvSpPr>
              <p:cNvPr id="110" name="Rectangle 59"/>
              <p:cNvSpPr/>
              <p:nvPr/>
            </p:nvSpPr>
            <p:spPr>
              <a:xfrm>
                <a:off x="2020680" y="1405080"/>
                <a:ext cx="2009880" cy="82224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1" name="Group 58"/>
              <p:cNvGrpSpPr/>
              <p:nvPr/>
            </p:nvGrpSpPr>
            <p:grpSpPr>
              <a:xfrm>
                <a:off x="1884240" y="1405080"/>
                <a:ext cx="2009880" cy="822240"/>
                <a:chOff x="1884240" y="1405080"/>
                <a:chExt cx="2009880" cy="822240"/>
              </a:xfrm>
            </p:grpSpPr>
            <p:sp>
              <p:nvSpPr>
                <p:cNvPr id="112" name="Rectangle 5"/>
                <p:cNvSpPr/>
                <p:nvPr/>
              </p:nvSpPr>
              <p:spPr>
                <a:xfrm>
                  <a:off x="2020680" y="1405080"/>
                  <a:ext cx="1805040" cy="822240"/>
                </a:xfrm>
                <a:prstGeom prst="rect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b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Dynamic Occurrenc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(Relative frequency of Occurrence)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Rectangle 57"/>
                <p:cNvSpPr/>
                <p:nvPr/>
              </p:nvSpPr>
              <p:spPr>
                <a:xfrm>
                  <a:off x="1884240" y="1405080"/>
                  <a:ext cx="200988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4" name="Group 64"/>
            <p:cNvGrpSpPr/>
            <p:nvPr/>
          </p:nvGrpSpPr>
          <p:grpSpPr>
            <a:xfrm>
              <a:off x="3894120" y="1405080"/>
              <a:ext cx="2146320" cy="822240"/>
              <a:chOff x="3894120" y="1405080"/>
              <a:chExt cx="2146320" cy="822240"/>
            </a:xfrm>
          </p:grpSpPr>
          <p:sp>
            <p:nvSpPr>
              <p:cNvPr id="115" name="Rectangle 63"/>
              <p:cNvSpPr/>
              <p:nvPr/>
            </p:nvSpPr>
            <p:spPr>
              <a:xfrm>
                <a:off x="3894120" y="1405080"/>
                <a:ext cx="2009880" cy="82224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6" name="Group 62"/>
              <p:cNvGrpSpPr/>
              <p:nvPr/>
            </p:nvGrpSpPr>
            <p:grpSpPr>
              <a:xfrm>
                <a:off x="3962160" y="1405080"/>
                <a:ext cx="2078280" cy="822240"/>
                <a:chOff x="3962160" y="1405080"/>
                <a:chExt cx="2078280" cy="822240"/>
              </a:xfrm>
            </p:grpSpPr>
            <p:sp>
              <p:nvSpPr>
                <p:cNvPr id="117" name="Rectangle 6"/>
                <p:cNvSpPr/>
                <p:nvPr/>
              </p:nvSpPr>
              <p:spPr>
                <a:xfrm>
                  <a:off x="3962160" y="1405080"/>
                  <a:ext cx="1873440" cy="822240"/>
                </a:xfrm>
                <a:prstGeom prst="rect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Machine-Instruction Weighted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(Surrogate measures of actual time spent executing)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Rectangle 61"/>
                <p:cNvSpPr/>
                <p:nvPr/>
              </p:nvSpPr>
              <p:spPr>
                <a:xfrm>
                  <a:off x="4030560" y="1405080"/>
                  <a:ext cx="200988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9" name="Group 68"/>
            <p:cNvGrpSpPr/>
            <p:nvPr/>
          </p:nvGrpSpPr>
          <p:grpSpPr>
            <a:xfrm>
              <a:off x="5904000" y="1405080"/>
              <a:ext cx="2145960" cy="822240"/>
              <a:chOff x="5904000" y="1405080"/>
              <a:chExt cx="2145960" cy="822240"/>
            </a:xfrm>
          </p:grpSpPr>
          <p:sp>
            <p:nvSpPr>
              <p:cNvPr id="120" name="Rectangle 67"/>
              <p:cNvSpPr/>
              <p:nvPr/>
            </p:nvSpPr>
            <p:spPr>
              <a:xfrm>
                <a:off x="5904000" y="1405080"/>
                <a:ext cx="2009520" cy="82224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1" name="Group 66"/>
              <p:cNvGrpSpPr/>
              <p:nvPr/>
            </p:nvGrpSpPr>
            <p:grpSpPr>
              <a:xfrm>
                <a:off x="5904000" y="1405080"/>
                <a:ext cx="2145960" cy="822240"/>
                <a:chOff x="5904000" y="1405080"/>
                <a:chExt cx="2145960" cy="822240"/>
              </a:xfrm>
            </p:grpSpPr>
            <p:sp>
              <p:nvSpPr>
                <p:cNvPr id="122" name="Rectangle 7"/>
                <p:cNvSpPr/>
                <p:nvPr/>
              </p:nvSpPr>
              <p:spPr>
                <a:xfrm>
                  <a:off x="6040440" y="1405080"/>
                  <a:ext cx="2009520" cy="822240"/>
                </a:xfrm>
                <a:prstGeom prst="rect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Memory-Reference Weighted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(Surrogate measures of actual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time spent referencing memory)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Rectangle 65"/>
                <p:cNvSpPr/>
                <p:nvPr/>
              </p:nvSpPr>
              <p:spPr>
                <a:xfrm>
                  <a:off x="5904000" y="1405080"/>
                  <a:ext cx="200952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24" name="Group 70"/>
            <p:cNvGrpSpPr/>
            <p:nvPr/>
          </p:nvGrpSpPr>
          <p:grpSpPr>
            <a:xfrm>
              <a:off x="1015920" y="2227320"/>
              <a:ext cx="1004760" cy="639720"/>
              <a:chOff x="1015920" y="2227320"/>
              <a:chExt cx="1004760" cy="639720"/>
            </a:xfrm>
          </p:grpSpPr>
          <p:sp>
            <p:nvSpPr>
              <p:cNvPr id="125" name="Rectangle 8"/>
              <p:cNvSpPr/>
              <p:nvPr/>
            </p:nvSpPr>
            <p:spPr>
              <a:xfrm>
                <a:off x="1084320" y="2227320"/>
                <a:ext cx="868320" cy="63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Rectangle 69"/>
              <p:cNvSpPr/>
              <p:nvPr/>
            </p:nvSpPr>
            <p:spPr>
              <a:xfrm>
                <a:off x="1015920" y="2227320"/>
                <a:ext cx="1004760" cy="6397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" name="Group 74"/>
            <p:cNvGrpSpPr/>
            <p:nvPr/>
          </p:nvGrpSpPr>
          <p:grpSpPr>
            <a:xfrm>
              <a:off x="2020680" y="2227320"/>
              <a:ext cx="1005120" cy="639720"/>
              <a:chOff x="2020680" y="2227320"/>
              <a:chExt cx="1005120" cy="639720"/>
            </a:xfrm>
          </p:grpSpPr>
          <p:sp>
            <p:nvSpPr>
              <p:cNvPr id="128" name="Rectangle 73"/>
              <p:cNvSpPr/>
              <p:nvPr/>
            </p:nvSpPr>
            <p:spPr>
              <a:xfrm>
                <a:off x="2020680" y="2227320"/>
                <a:ext cx="1005120" cy="63972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9" name="Group 72"/>
              <p:cNvGrpSpPr/>
              <p:nvPr/>
            </p:nvGrpSpPr>
            <p:grpSpPr>
              <a:xfrm>
                <a:off x="2020680" y="2227320"/>
                <a:ext cx="1005120" cy="639720"/>
                <a:chOff x="2020680" y="2227320"/>
                <a:chExt cx="1005120" cy="639720"/>
              </a:xfrm>
            </p:grpSpPr>
            <p:sp>
              <p:nvSpPr>
                <p:cNvPr id="130" name="Rectangle 9"/>
                <p:cNvSpPr/>
                <p:nvPr/>
              </p:nvSpPr>
              <p:spPr>
                <a:xfrm>
                  <a:off x="2089080" y="2227320"/>
                  <a:ext cx="868320" cy="639720"/>
                </a:xfrm>
                <a:prstGeom prst="rect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ascal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Rectangle 71"/>
                <p:cNvSpPr/>
                <p:nvPr/>
              </p:nvSpPr>
              <p:spPr>
                <a:xfrm>
                  <a:off x="2020680" y="2227320"/>
                  <a:ext cx="100512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2" name="Group 78"/>
            <p:cNvGrpSpPr/>
            <p:nvPr/>
          </p:nvGrpSpPr>
          <p:grpSpPr>
            <a:xfrm>
              <a:off x="3025800" y="2227320"/>
              <a:ext cx="1004760" cy="639720"/>
              <a:chOff x="3025800" y="2227320"/>
              <a:chExt cx="1004760" cy="639720"/>
            </a:xfrm>
          </p:grpSpPr>
          <p:sp>
            <p:nvSpPr>
              <p:cNvPr id="133" name="Rectangle 77"/>
              <p:cNvSpPr/>
              <p:nvPr/>
            </p:nvSpPr>
            <p:spPr>
              <a:xfrm>
                <a:off x="3025800" y="2227320"/>
                <a:ext cx="1004760" cy="63972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4" name="Group 76"/>
              <p:cNvGrpSpPr/>
              <p:nvPr/>
            </p:nvGrpSpPr>
            <p:grpSpPr>
              <a:xfrm>
                <a:off x="3025800" y="2227320"/>
                <a:ext cx="1004760" cy="639720"/>
                <a:chOff x="3025800" y="2227320"/>
                <a:chExt cx="1004760" cy="639720"/>
              </a:xfrm>
            </p:grpSpPr>
            <p:sp>
              <p:nvSpPr>
                <p:cNvPr id="135" name="Rectangle 10"/>
                <p:cNvSpPr/>
                <p:nvPr/>
              </p:nvSpPr>
              <p:spPr>
                <a:xfrm>
                  <a:off x="3093840" y="2227320"/>
                  <a:ext cx="868320" cy="639720"/>
                </a:xfrm>
                <a:prstGeom prst="rect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Rectangle 75"/>
                <p:cNvSpPr/>
                <p:nvPr/>
              </p:nvSpPr>
              <p:spPr>
                <a:xfrm>
                  <a:off x="3025800" y="2227320"/>
                  <a:ext cx="100476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7" name="Group 82"/>
            <p:cNvGrpSpPr/>
            <p:nvPr/>
          </p:nvGrpSpPr>
          <p:grpSpPr>
            <a:xfrm>
              <a:off x="4030560" y="2227320"/>
              <a:ext cx="1004760" cy="639720"/>
              <a:chOff x="4030560" y="2227320"/>
              <a:chExt cx="1004760" cy="639720"/>
            </a:xfrm>
          </p:grpSpPr>
          <p:sp>
            <p:nvSpPr>
              <p:cNvPr id="138" name="Rectangle 81"/>
              <p:cNvSpPr/>
              <p:nvPr/>
            </p:nvSpPr>
            <p:spPr>
              <a:xfrm>
                <a:off x="4030560" y="2227320"/>
                <a:ext cx="1004760" cy="63972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9" name="Group 80"/>
              <p:cNvGrpSpPr/>
              <p:nvPr/>
            </p:nvGrpSpPr>
            <p:grpSpPr>
              <a:xfrm>
                <a:off x="4030560" y="2227320"/>
                <a:ext cx="1004760" cy="639720"/>
                <a:chOff x="4030560" y="2227320"/>
                <a:chExt cx="1004760" cy="639720"/>
              </a:xfrm>
            </p:grpSpPr>
            <p:sp>
              <p:nvSpPr>
                <p:cNvPr id="140" name="Rectangle 11"/>
                <p:cNvSpPr/>
                <p:nvPr/>
              </p:nvSpPr>
              <p:spPr>
                <a:xfrm>
                  <a:off x="4098960" y="2227320"/>
                  <a:ext cx="868320" cy="639720"/>
                </a:xfrm>
                <a:prstGeom prst="rect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ascal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Rectangle 79"/>
                <p:cNvSpPr/>
                <p:nvPr/>
              </p:nvSpPr>
              <p:spPr>
                <a:xfrm>
                  <a:off x="4030560" y="2227320"/>
                  <a:ext cx="100476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2" name="Group 86"/>
            <p:cNvGrpSpPr/>
            <p:nvPr/>
          </p:nvGrpSpPr>
          <p:grpSpPr>
            <a:xfrm>
              <a:off x="5035320" y="2227320"/>
              <a:ext cx="1005120" cy="639720"/>
              <a:chOff x="5035320" y="2227320"/>
              <a:chExt cx="1005120" cy="639720"/>
            </a:xfrm>
          </p:grpSpPr>
          <p:sp>
            <p:nvSpPr>
              <p:cNvPr id="143" name="Rectangle 85"/>
              <p:cNvSpPr/>
              <p:nvPr/>
            </p:nvSpPr>
            <p:spPr>
              <a:xfrm>
                <a:off x="5035320" y="2227320"/>
                <a:ext cx="1005120" cy="63972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4" name="Group 84"/>
              <p:cNvGrpSpPr/>
              <p:nvPr/>
            </p:nvGrpSpPr>
            <p:grpSpPr>
              <a:xfrm>
                <a:off x="5035320" y="2227320"/>
                <a:ext cx="1005120" cy="639720"/>
                <a:chOff x="5035320" y="2227320"/>
                <a:chExt cx="1005120" cy="639720"/>
              </a:xfrm>
            </p:grpSpPr>
            <p:sp>
              <p:nvSpPr>
                <p:cNvPr id="145" name="Rectangle 12"/>
                <p:cNvSpPr/>
                <p:nvPr/>
              </p:nvSpPr>
              <p:spPr>
                <a:xfrm>
                  <a:off x="5103720" y="2227320"/>
                  <a:ext cx="868320" cy="639720"/>
                </a:xfrm>
                <a:prstGeom prst="rect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Rectangle 83"/>
                <p:cNvSpPr/>
                <p:nvPr/>
              </p:nvSpPr>
              <p:spPr>
                <a:xfrm>
                  <a:off x="5035320" y="2227320"/>
                  <a:ext cx="100512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7" name="Group 90"/>
            <p:cNvGrpSpPr/>
            <p:nvPr/>
          </p:nvGrpSpPr>
          <p:grpSpPr>
            <a:xfrm>
              <a:off x="6040440" y="2227320"/>
              <a:ext cx="1004760" cy="639720"/>
              <a:chOff x="6040440" y="2227320"/>
              <a:chExt cx="1004760" cy="639720"/>
            </a:xfrm>
          </p:grpSpPr>
          <p:sp>
            <p:nvSpPr>
              <p:cNvPr id="148" name="Rectangle 89"/>
              <p:cNvSpPr/>
              <p:nvPr/>
            </p:nvSpPr>
            <p:spPr>
              <a:xfrm>
                <a:off x="6040440" y="2227320"/>
                <a:ext cx="1004760" cy="63972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9" name="Group 88"/>
              <p:cNvGrpSpPr/>
              <p:nvPr/>
            </p:nvGrpSpPr>
            <p:grpSpPr>
              <a:xfrm>
                <a:off x="6040440" y="2227320"/>
                <a:ext cx="1004760" cy="639720"/>
                <a:chOff x="6040440" y="2227320"/>
                <a:chExt cx="1004760" cy="639720"/>
              </a:xfrm>
            </p:grpSpPr>
            <p:sp>
              <p:nvSpPr>
                <p:cNvPr id="150" name="Rectangle 13"/>
                <p:cNvSpPr/>
                <p:nvPr/>
              </p:nvSpPr>
              <p:spPr>
                <a:xfrm>
                  <a:off x="6108480" y="2227320"/>
                  <a:ext cx="868680" cy="639720"/>
                </a:xfrm>
                <a:prstGeom prst="rect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ascal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Rectangle 87"/>
                <p:cNvSpPr/>
                <p:nvPr/>
              </p:nvSpPr>
              <p:spPr>
                <a:xfrm>
                  <a:off x="6040440" y="2227320"/>
                  <a:ext cx="100476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52" name="Group 94"/>
            <p:cNvGrpSpPr/>
            <p:nvPr/>
          </p:nvGrpSpPr>
          <p:grpSpPr>
            <a:xfrm>
              <a:off x="7045200" y="2227320"/>
              <a:ext cx="1004760" cy="639720"/>
              <a:chOff x="7045200" y="2227320"/>
              <a:chExt cx="1004760" cy="639720"/>
            </a:xfrm>
          </p:grpSpPr>
          <p:sp>
            <p:nvSpPr>
              <p:cNvPr id="153" name="Rectangle 93"/>
              <p:cNvSpPr/>
              <p:nvPr/>
            </p:nvSpPr>
            <p:spPr>
              <a:xfrm>
                <a:off x="7045200" y="2227320"/>
                <a:ext cx="1004760" cy="63972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4" name="Group 92"/>
              <p:cNvGrpSpPr/>
              <p:nvPr/>
            </p:nvGrpSpPr>
            <p:grpSpPr>
              <a:xfrm>
                <a:off x="7045200" y="2227320"/>
                <a:ext cx="1004760" cy="639720"/>
                <a:chOff x="7045200" y="2227320"/>
                <a:chExt cx="1004760" cy="639720"/>
              </a:xfrm>
            </p:grpSpPr>
            <p:sp>
              <p:nvSpPr>
                <p:cNvPr id="155" name="Rectangle 14"/>
                <p:cNvSpPr/>
                <p:nvPr/>
              </p:nvSpPr>
              <p:spPr>
                <a:xfrm>
                  <a:off x="7113600" y="2227320"/>
                  <a:ext cx="868320" cy="639720"/>
                </a:xfrm>
                <a:prstGeom prst="rect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Rectangle 91"/>
                <p:cNvSpPr/>
                <p:nvPr/>
              </p:nvSpPr>
              <p:spPr>
                <a:xfrm>
                  <a:off x="7045200" y="2227320"/>
                  <a:ext cx="100476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57" name="Group 98"/>
            <p:cNvGrpSpPr/>
            <p:nvPr/>
          </p:nvGrpSpPr>
          <p:grpSpPr>
            <a:xfrm>
              <a:off x="1015920" y="2867040"/>
              <a:ext cx="1004760" cy="639720"/>
              <a:chOff x="1015920" y="2867040"/>
              <a:chExt cx="1004760" cy="639720"/>
            </a:xfrm>
          </p:grpSpPr>
          <p:sp>
            <p:nvSpPr>
              <p:cNvPr id="158" name="Rectangle 97"/>
              <p:cNvSpPr/>
              <p:nvPr/>
            </p:nvSpPr>
            <p:spPr>
              <a:xfrm>
                <a:off x="1015920" y="2867040"/>
                <a:ext cx="1004760" cy="63972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9" name="Group 96"/>
              <p:cNvGrpSpPr/>
              <p:nvPr/>
            </p:nvGrpSpPr>
            <p:grpSpPr>
              <a:xfrm>
                <a:off x="1015920" y="2867040"/>
                <a:ext cx="1004760" cy="639720"/>
                <a:chOff x="1015920" y="2867040"/>
                <a:chExt cx="1004760" cy="639720"/>
              </a:xfrm>
            </p:grpSpPr>
            <p:sp>
              <p:nvSpPr>
                <p:cNvPr id="160" name="Rectangle 15"/>
                <p:cNvSpPr/>
                <p:nvPr/>
              </p:nvSpPr>
              <p:spPr>
                <a:xfrm>
                  <a:off x="1084320" y="2867040"/>
                  <a:ext cx="868320" cy="639720"/>
                </a:xfrm>
                <a:prstGeom prst="rect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SSIG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Rectangle 95"/>
                <p:cNvSpPr/>
                <p:nvPr/>
              </p:nvSpPr>
              <p:spPr>
                <a:xfrm>
                  <a:off x="1015920" y="2867040"/>
                  <a:ext cx="100476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2" name="Group 102"/>
            <p:cNvGrpSpPr/>
            <p:nvPr/>
          </p:nvGrpSpPr>
          <p:grpSpPr>
            <a:xfrm>
              <a:off x="2020680" y="2867040"/>
              <a:ext cx="1005120" cy="639720"/>
              <a:chOff x="2020680" y="2867040"/>
              <a:chExt cx="1005120" cy="639720"/>
            </a:xfrm>
          </p:grpSpPr>
          <p:sp>
            <p:nvSpPr>
              <p:cNvPr id="163" name="Rectangle 101"/>
              <p:cNvSpPr/>
              <p:nvPr/>
            </p:nvSpPr>
            <p:spPr>
              <a:xfrm>
                <a:off x="2020680" y="2867040"/>
                <a:ext cx="1005120" cy="63972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4" name="Group 100"/>
              <p:cNvGrpSpPr/>
              <p:nvPr/>
            </p:nvGrpSpPr>
            <p:grpSpPr>
              <a:xfrm>
                <a:off x="2020680" y="2867040"/>
                <a:ext cx="1005120" cy="639720"/>
                <a:chOff x="2020680" y="2867040"/>
                <a:chExt cx="1005120" cy="639720"/>
              </a:xfrm>
            </p:grpSpPr>
            <p:sp>
              <p:nvSpPr>
                <p:cNvPr id="165" name="Rectangle 16"/>
                <p:cNvSpPr/>
                <p:nvPr/>
              </p:nvSpPr>
              <p:spPr>
                <a:xfrm>
                  <a:off x="2089080" y="2867040"/>
                  <a:ext cx="868320" cy="639720"/>
                </a:xfrm>
                <a:prstGeom prst="rect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5%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" name="Rectangle 99"/>
                <p:cNvSpPr/>
                <p:nvPr/>
              </p:nvSpPr>
              <p:spPr>
                <a:xfrm>
                  <a:off x="2020680" y="2867040"/>
                  <a:ext cx="100512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7" name="Group 106"/>
            <p:cNvGrpSpPr/>
            <p:nvPr/>
          </p:nvGrpSpPr>
          <p:grpSpPr>
            <a:xfrm>
              <a:off x="3025800" y="2867040"/>
              <a:ext cx="1004760" cy="639720"/>
              <a:chOff x="3025800" y="2867040"/>
              <a:chExt cx="1004760" cy="639720"/>
            </a:xfrm>
          </p:grpSpPr>
          <p:sp>
            <p:nvSpPr>
              <p:cNvPr id="168" name="Rectangle 105"/>
              <p:cNvSpPr/>
              <p:nvPr/>
            </p:nvSpPr>
            <p:spPr>
              <a:xfrm>
                <a:off x="3025800" y="2867040"/>
                <a:ext cx="1004760" cy="63972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9" name="Group 104"/>
              <p:cNvGrpSpPr/>
              <p:nvPr/>
            </p:nvGrpSpPr>
            <p:grpSpPr>
              <a:xfrm>
                <a:off x="3025800" y="2867040"/>
                <a:ext cx="1004760" cy="639720"/>
                <a:chOff x="3025800" y="2867040"/>
                <a:chExt cx="1004760" cy="639720"/>
              </a:xfrm>
            </p:grpSpPr>
            <p:sp>
              <p:nvSpPr>
                <p:cNvPr id="170" name="Rectangle 17"/>
                <p:cNvSpPr/>
                <p:nvPr/>
              </p:nvSpPr>
              <p:spPr>
                <a:xfrm>
                  <a:off x="3093840" y="2867040"/>
                  <a:ext cx="868320" cy="639720"/>
                </a:xfrm>
                <a:prstGeom prst="rect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8%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Rectangle 103"/>
                <p:cNvSpPr/>
                <p:nvPr/>
              </p:nvSpPr>
              <p:spPr>
                <a:xfrm>
                  <a:off x="3025800" y="2867040"/>
                  <a:ext cx="100476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72" name="Group 110"/>
            <p:cNvGrpSpPr/>
            <p:nvPr/>
          </p:nvGrpSpPr>
          <p:grpSpPr>
            <a:xfrm>
              <a:off x="4030560" y="2867040"/>
              <a:ext cx="1004760" cy="639720"/>
              <a:chOff x="4030560" y="2867040"/>
              <a:chExt cx="1004760" cy="639720"/>
            </a:xfrm>
          </p:grpSpPr>
          <p:sp>
            <p:nvSpPr>
              <p:cNvPr id="173" name="Rectangle 109"/>
              <p:cNvSpPr/>
              <p:nvPr/>
            </p:nvSpPr>
            <p:spPr>
              <a:xfrm>
                <a:off x="4030560" y="2867040"/>
                <a:ext cx="1004760" cy="63972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4" name="Group 108"/>
              <p:cNvGrpSpPr/>
              <p:nvPr/>
            </p:nvGrpSpPr>
            <p:grpSpPr>
              <a:xfrm>
                <a:off x="4030560" y="2867040"/>
                <a:ext cx="1004760" cy="639720"/>
                <a:chOff x="4030560" y="2867040"/>
                <a:chExt cx="1004760" cy="639720"/>
              </a:xfrm>
            </p:grpSpPr>
            <p:sp>
              <p:nvSpPr>
                <p:cNvPr id="175" name="Rectangle 18"/>
                <p:cNvSpPr/>
                <p:nvPr/>
              </p:nvSpPr>
              <p:spPr>
                <a:xfrm>
                  <a:off x="4098960" y="2867040"/>
                  <a:ext cx="868320" cy="639720"/>
                </a:xfrm>
                <a:prstGeom prst="rect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3%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Rectangle 107"/>
                <p:cNvSpPr/>
                <p:nvPr/>
              </p:nvSpPr>
              <p:spPr>
                <a:xfrm>
                  <a:off x="4030560" y="2867040"/>
                  <a:ext cx="100476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77" name="Group 114"/>
            <p:cNvGrpSpPr/>
            <p:nvPr/>
          </p:nvGrpSpPr>
          <p:grpSpPr>
            <a:xfrm>
              <a:off x="5035320" y="2867040"/>
              <a:ext cx="1005120" cy="639720"/>
              <a:chOff x="5035320" y="2867040"/>
              <a:chExt cx="1005120" cy="639720"/>
            </a:xfrm>
          </p:grpSpPr>
          <p:sp>
            <p:nvSpPr>
              <p:cNvPr id="178" name="Rectangle 113"/>
              <p:cNvSpPr/>
              <p:nvPr/>
            </p:nvSpPr>
            <p:spPr>
              <a:xfrm>
                <a:off x="5035320" y="2867040"/>
                <a:ext cx="1005120" cy="63972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9" name="Group 112"/>
              <p:cNvGrpSpPr/>
              <p:nvPr/>
            </p:nvGrpSpPr>
            <p:grpSpPr>
              <a:xfrm>
                <a:off x="5035320" y="2867040"/>
                <a:ext cx="1005120" cy="639720"/>
                <a:chOff x="5035320" y="2867040"/>
                <a:chExt cx="1005120" cy="639720"/>
              </a:xfrm>
            </p:grpSpPr>
            <p:sp>
              <p:nvSpPr>
                <p:cNvPr id="180" name="Rectangle 19"/>
                <p:cNvSpPr/>
                <p:nvPr/>
              </p:nvSpPr>
              <p:spPr>
                <a:xfrm>
                  <a:off x="5103720" y="2867040"/>
                  <a:ext cx="868320" cy="639720"/>
                </a:xfrm>
                <a:prstGeom prst="rect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3%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Rectangle 111"/>
                <p:cNvSpPr/>
                <p:nvPr/>
              </p:nvSpPr>
              <p:spPr>
                <a:xfrm>
                  <a:off x="5035320" y="2867040"/>
                  <a:ext cx="100512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2" name="Group 118"/>
            <p:cNvGrpSpPr/>
            <p:nvPr/>
          </p:nvGrpSpPr>
          <p:grpSpPr>
            <a:xfrm>
              <a:off x="6040440" y="2867040"/>
              <a:ext cx="1004760" cy="639720"/>
              <a:chOff x="6040440" y="2867040"/>
              <a:chExt cx="1004760" cy="639720"/>
            </a:xfrm>
          </p:grpSpPr>
          <p:sp>
            <p:nvSpPr>
              <p:cNvPr id="183" name="Rectangle 117"/>
              <p:cNvSpPr/>
              <p:nvPr/>
            </p:nvSpPr>
            <p:spPr>
              <a:xfrm>
                <a:off x="6040440" y="2867040"/>
                <a:ext cx="1004760" cy="63972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4" name="Group 116"/>
              <p:cNvGrpSpPr/>
              <p:nvPr/>
            </p:nvGrpSpPr>
            <p:grpSpPr>
              <a:xfrm>
                <a:off x="6040440" y="2867040"/>
                <a:ext cx="1004760" cy="639720"/>
                <a:chOff x="6040440" y="2867040"/>
                <a:chExt cx="1004760" cy="639720"/>
              </a:xfrm>
            </p:grpSpPr>
            <p:sp>
              <p:nvSpPr>
                <p:cNvPr id="185" name="Rectangle 20"/>
                <p:cNvSpPr/>
                <p:nvPr/>
              </p:nvSpPr>
              <p:spPr>
                <a:xfrm>
                  <a:off x="6108480" y="2867040"/>
                  <a:ext cx="868680" cy="639720"/>
                </a:xfrm>
                <a:prstGeom prst="rect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4%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Rectangle 115"/>
                <p:cNvSpPr/>
                <p:nvPr/>
              </p:nvSpPr>
              <p:spPr>
                <a:xfrm>
                  <a:off x="6040440" y="2867040"/>
                  <a:ext cx="100476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7" name="Group 122"/>
            <p:cNvGrpSpPr/>
            <p:nvPr/>
          </p:nvGrpSpPr>
          <p:grpSpPr>
            <a:xfrm>
              <a:off x="7045200" y="2867040"/>
              <a:ext cx="1004760" cy="639720"/>
              <a:chOff x="7045200" y="2867040"/>
              <a:chExt cx="1004760" cy="639720"/>
            </a:xfrm>
          </p:grpSpPr>
          <p:sp>
            <p:nvSpPr>
              <p:cNvPr id="188" name="Rectangle 121"/>
              <p:cNvSpPr/>
              <p:nvPr/>
            </p:nvSpPr>
            <p:spPr>
              <a:xfrm>
                <a:off x="7045200" y="2867040"/>
                <a:ext cx="1004760" cy="63972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9" name="Group 120"/>
              <p:cNvGrpSpPr/>
              <p:nvPr/>
            </p:nvGrpSpPr>
            <p:grpSpPr>
              <a:xfrm>
                <a:off x="7045200" y="2867040"/>
                <a:ext cx="1004760" cy="639720"/>
                <a:chOff x="7045200" y="2867040"/>
                <a:chExt cx="1004760" cy="639720"/>
              </a:xfrm>
            </p:grpSpPr>
            <p:sp>
              <p:nvSpPr>
                <p:cNvPr id="190" name="Rectangle 21"/>
                <p:cNvSpPr/>
                <p:nvPr/>
              </p:nvSpPr>
              <p:spPr>
                <a:xfrm>
                  <a:off x="7113600" y="2867040"/>
                  <a:ext cx="868320" cy="639720"/>
                </a:xfrm>
                <a:prstGeom prst="rect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5%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Rectangle 119"/>
                <p:cNvSpPr/>
                <p:nvPr/>
              </p:nvSpPr>
              <p:spPr>
                <a:xfrm>
                  <a:off x="7045200" y="2867040"/>
                  <a:ext cx="100476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92" name="Group 126"/>
            <p:cNvGrpSpPr/>
            <p:nvPr/>
          </p:nvGrpSpPr>
          <p:grpSpPr>
            <a:xfrm>
              <a:off x="1015920" y="3506760"/>
              <a:ext cx="1004760" cy="640080"/>
              <a:chOff x="1015920" y="3506760"/>
              <a:chExt cx="1004760" cy="640080"/>
            </a:xfrm>
          </p:grpSpPr>
          <p:sp>
            <p:nvSpPr>
              <p:cNvPr id="193" name="Rectangle 125"/>
              <p:cNvSpPr/>
              <p:nvPr/>
            </p:nvSpPr>
            <p:spPr>
              <a:xfrm>
                <a:off x="1015920" y="3506760"/>
                <a:ext cx="1004760" cy="64008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4" name="Group 124"/>
              <p:cNvGrpSpPr/>
              <p:nvPr/>
            </p:nvGrpSpPr>
            <p:grpSpPr>
              <a:xfrm>
                <a:off x="1015920" y="3506760"/>
                <a:ext cx="1004760" cy="640080"/>
                <a:chOff x="1015920" y="3506760"/>
                <a:chExt cx="1004760" cy="640080"/>
              </a:xfrm>
            </p:grpSpPr>
            <p:sp>
              <p:nvSpPr>
                <p:cNvPr id="195" name="Rectangle 22"/>
                <p:cNvSpPr/>
                <p:nvPr/>
              </p:nvSpPr>
              <p:spPr>
                <a:xfrm>
                  <a:off x="1084320" y="3506760"/>
                  <a:ext cx="868320" cy="640080"/>
                </a:xfrm>
                <a:prstGeom prst="rect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LOOP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Rectangle 123"/>
                <p:cNvSpPr/>
                <p:nvPr/>
              </p:nvSpPr>
              <p:spPr>
                <a:xfrm>
                  <a:off x="1015920" y="3506760"/>
                  <a:ext cx="1004760" cy="640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97" name="Group 130"/>
            <p:cNvGrpSpPr/>
            <p:nvPr/>
          </p:nvGrpSpPr>
          <p:grpSpPr>
            <a:xfrm>
              <a:off x="2020680" y="3506760"/>
              <a:ext cx="1005120" cy="640080"/>
              <a:chOff x="2020680" y="3506760"/>
              <a:chExt cx="1005120" cy="640080"/>
            </a:xfrm>
          </p:grpSpPr>
          <p:sp>
            <p:nvSpPr>
              <p:cNvPr id="198" name="Rectangle 129"/>
              <p:cNvSpPr/>
              <p:nvPr/>
            </p:nvSpPr>
            <p:spPr>
              <a:xfrm>
                <a:off x="2020680" y="3506760"/>
                <a:ext cx="1005120" cy="64008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9" name="Group 128"/>
              <p:cNvGrpSpPr/>
              <p:nvPr/>
            </p:nvGrpSpPr>
            <p:grpSpPr>
              <a:xfrm>
                <a:off x="2020680" y="3506760"/>
                <a:ext cx="1005120" cy="640080"/>
                <a:chOff x="2020680" y="3506760"/>
                <a:chExt cx="1005120" cy="640080"/>
              </a:xfrm>
            </p:grpSpPr>
            <p:sp>
              <p:nvSpPr>
                <p:cNvPr id="200" name="Rectangle 23"/>
                <p:cNvSpPr/>
                <p:nvPr/>
              </p:nvSpPr>
              <p:spPr>
                <a:xfrm>
                  <a:off x="2089080" y="3506760"/>
                  <a:ext cx="868320" cy="640080"/>
                </a:xfrm>
                <a:prstGeom prst="rect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%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Rectangle 127"/>
                <p:cNvSpPr/>
                <p:nvPr/>
              </p:nvSpPr>
              <p:spPr>
                <a:xfrm>
                  <a:off x="2020680" y="3506760"/>
                  <a:ext cx="1005120" cy="640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2" name="Group 134"/>
            <p:cNvGrpSpPr/>
            <p:nvPr/>
          </p:nvGrpSpPr>
          <p:grpSpPr>
            <a:xfrm>
              <a:off x="3025800" y="3506760"/>
              <a:ext cx="1004760" cy="640080"/>
              <a:chOff x="3025800" y="3506760"/>
              <a:chExt cx="1004760" cy="640080"/>
            </a:xfrm>
          </p:grpSpPr>
          <p:sp>
            <p:nvSpPr>
              <p:cNvPr id="203" name="Rectangle 133"/>
              <p:cNvSpPr/>
              <p:nvPr/>
            </p:nvSpPr>
            <p:spPr>
              <a:xfrm>
                <a:off x="3025800" y="3506760"/>
                <a:ext cx="1004760" cy="64008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4" name="Group 132"/>
              <p:cNvGrpSpPr/>
              <p:nvPr/>
            </p:nvGrpSpPr>
            <p:grpSpPr>
              <a:xfrm>
                <a:off x="3025800" y="3506760"/>
                <a:ext cx="1004760" cy="640080"/>
                <a:chOff x="3025800" y="3506760"/>
                <a:chExt cx="1004760" cy="640080"/>
              </a:xfrm>
            </p:grpSpPr>
            <p:sp>
              <p:nvSpPr>
                <p:cNvPr id="205" name="Rectangle 24"/>
                <p:cNvSpPr/>
                <p:nvPr/>
              </p:nvSpPr>
              <p:spPr>
                <a:xfrm>
                  <a:off x="3093840" y="3506760"/>
                  <a:ext cx="868320" cy="640080"/>
                </a:xfrm>
                <a:prstGeom prst="rect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%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Rectangle 131"/>
                <p:cNvSpPr/>
                <p:nvPr/>
              </p:nvSpPr>
              <p:spPr>
                <a:xfrm>
                  <a:off x="3025800" y="3506760"/>
                  <a:ext cx="1004760" cy="640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7" name="Group 138"/>
            <p:cNvGrpSpPr/>
            <p:nvPr/>
          </p:nvGrpSpPr>
          <p:grpSpPr>
            <a:xfrm>
              <a:off x="4030560" y="3506760"/>
              <a:ext cx="1004760" cy="640080"/>
              <a:chOff x="4030560" y="3506760"/>
              <a:chExt cx="1004760" cy="640080"/>
            </a:xfrm>
          </p:grpSpPr>
          <p:sp>
            <p:nvSpPr>
              <p:cNvPr id="208" name="Rectangle 137"/>
              <p:cNvSpPr/>
              <p:nvPr/>
            </p:nvSpPr>
            <p:spPr>
              <a:xfrm>
                <a:off x="4030560" y="3506760"/>
                <a:ext cx="1004760" cy="64008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9" name="Group 136"/>
              <p:cNvGrpSpPr/>
              <p:nvPr/>
            </p:nvGrpSpPr>
            <p:grpSpPr>
              <a:xfrm>
                <a:off x="4030560" y="3506760"/>
                <a:ext cx="1004760" cy="640080"/>
                <a:chOff x="4030560" y="3506760"/>
                <a:chExt cx="1004760" cy="640080"/>
              </a:xfrm>
            </p:grpSpPr>
            <p:sp>
              <p:nvSpPr>
                <p:cNvPr id="210" name="Rectangle 25"/>
                <p:cNvSpPr/>
                <p:nvPr/>
              </p:nvSpPr>
              <p:spPr>
                <a:xfrm>
                  <a:off x="4098960" y="3506760"/>
                  <a:ext cx="868320" cy="640080"/>
                </a:xfrm>
                <a:prstGeom prst="rect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2%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Rectangle 135"/>
                <p:cNvSpPr/>
                <p:nvPr/>
              </p:nvSpPr>
              <p:spPr>
                <a:xfrm>
                  <a:off x="4030560" y="3506760"/>
                  <a:ext cx="1004760" cy="640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2" name="Group 142"/>
            <p:cNvGrpSpPr/>
            <p:nvPr/>
          </p:nvGrpSpPr>
          <p:grpSpPr>
            <a:xfrm>
              <a:off x="5035320" y="3506760"/>
              <a:ext cx="1005120" cy="640080"/>
              <a:chOff x="5035320" y="3506760"/>
              <a:chExt cx="1005120" cy="640080"/>
            </a:xfrm>
          </p:grpSpPr>
          <p:sp>
            <p:nvSpPr>
              <p:cNvPr id="213" name="Rectangle 141"/>
              <p:cNvSpPr/>
              <p:nvPr/>
            </p:nvSpPr>
            <p:spPr>
              <a:xfrm>
                <a:off x="5035320" y="3506760"/>
                <a:ext cx="1005120" cy="64008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4" name="Group 140"/>
              <p:cNvGrpSpPr/>
              <p:nvPr/>
            </p:nvGrpSpPr>
            <p:grpSpPr>
              <a:xfrm>
                <a:off x="5035320" y="3506760"/>
                <a:ext cx="1005120" cy="640080"/>
                <a:chOff x="5035320" y="3506760"/>
                <a:chExt cx="1005120" cy="640080"/>
              </a:xfrm>
            </p:grpSpPr>
            <p:sp>
              <p:nvSpPr>
                <p:cNvPr id="215" name="Rectangle 26"/>
                <p:cNvSpPr/>
                <p:nvPr/>
              </p:nvSpPr>
              <p:spPr>
                <a:xfrm>
                  <a:off x="5103720" y="3506760"/>
                  <a:ext cx="868320" cy="640080"/>
                </a:xfrm>
                <a:prstGeom prst="rect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2%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Rectangle 139"/>
                <p:cNvSpPr/>
                <p:nvPr/>
              </p:nvSpPr>
              <p:spPr>
                <a:xfrm>
                  <a:off x="5035320" y="3506760"/>
                  <a:ext cx="1005120" cy="640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7" name="Group 146"/>
            <p:cNvGrpSpPr/>
            <p:nvPr/>
          </p:nvGrpSpPr>
          <p:grpSpPr>
            <a:xfrm>
              <a:off x="6040440" y="3506760"/>
              <a:ext cx="1004760" cy="640080"/>
              <a:chOff x="6040440" y="3506760"/>
              <a:chExt cx="1004760" cy="640080"/>
            </a:xfrm>
          </p:grpSpPr>
          <p:sp>
            <p:nvSpPr>
              <p:cNvPr id="218" name="Rectangle 145"/>
              <p:cNvSpPr/>
              <p:nvPr/>
            </p:nvSpPr>
            <p:spPr>
              <a:xfrm>
                <a:off x="6040440" y="3506760"/>
                <a:ext cx="1004760" cy="64008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9" name="Group 144"/>
              <p:cNvGrpSpPr/>
              <p:nvPr/>
            </p:nvGrpSpPr>
            <p:grpSpPr>
              <a:xfrm>
                <a:off x="6040440" y="3506760"/>
                <a:ext cx="1004760" cy="640080"/>
                <a:chOff x="6040440" y="3506760"/>
                <a:chExt cx="1004760" cy="640080"/>
              </a:xfrm>
            </p:grpSpPr>
            <p:sp>
              <p:nvSpPr>
                <p:cNvPr id="220" name="Rectangle 27"/>
                <p:cNvSpPr/>
                <p:nvPr/>
              </p:nvSpPr>
              <p:spPr>
                <a:xfrm>
                  <a:off x="6108480" y="3506760"/>
                  <a:ext cx="868680" cy="640080"/>
                </a:xfrm>
                <a:prstGeom prst="rect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3%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Rectangle 143"/>
                <p:cNvSpPr/>
                <p:nvPr/>
              </p:nvSpPr>
              <p:spPr>
                <a:xfrm>
                  <a:off x="6040440" y="3506760"/>
                  <a:ext cx="1004760" cy="640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22" name="Group 150"/>
            <p:cNvGrpSpPr/>
            <p:nvPr/>
          </p:nvGrpSpPr>
          <p:grpSpPr>
            <a:xfrm>
              <a:off x="7045200" y="3506760"/>
              <a:ext cx="1004760" cy="640080"/>
              <a:chOff x="7045200" y="3506760"/>
              <a:chExt cx="1004760" cy="640080"/>
            </a:xfrm>
          </p:grpSpPr>
          <p:sp>
            <p:nvSpPr>
              <p:cNvPr id="223" name="Rectangle 149"/>
              <p:cNvSpPr/>
              <p:nvPr/>
            </p:nvSpPr>
            <p:spPr>
              <a:xfrm>
                <a:off x="7045200" y="3506760"/>
                <a:ext cx="1004760" cy="64008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24" name="Group 148"/>
              <p:cNvGrpSpPr/>
              <p:nvPr/>
            </p:nvGrpSpPr>
            <p:grpSpPr>
              <a:xfrm>
                <a:off x="7045200" y="3506760"/>
                <a:ext cx="1004760" cy="640080"/>
                <a:chOff x="7045200" y="3506760"/>
                <a:chExt cx="1004760" cy="640080"/>
              </a:xfrm>
            </p:grpSpPr>
            <p:sp>
              <p:nvSpPr>
                <p:cNvPr id="225" name="Rectangle 28"/>
                <p:cNvSpPr/>
                <p:nvPr/>
              </p:nvSpPr>
              <p:spPr>
                <a:xfrm>
                  <a:off x="7113600" y="3506760"/>
                  <a:ext cx="868320" cy="640080"/>
                </a:xfrm>
                <a:prstGeom prst="rect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6%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Rectangle 147"/>
                <p:cNvSpPr/>
                <p:nvPr/>
              </p:nvSpPr>
              <p:spPr>
                <a:xfrm>
                  <a:off x="7045200" y="3506760"/>
                  <a:ext cx="1004760" cy="640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27" name="Group 154"/>
            <p:cNvGrpSpPr/>
            <p:nvPr/>
          </p:nvGrpSpPr>
          <p:grpSpPr>
            <a:xfrm>
              <a:off x="1015920" y="4146840"/>
              <a:ext cx="1004760" cy="639720"/>
              <a:chOff x="1015920" y="4146840"/>
              <a:chExt cx="1004760" cy="639720"/>
            </a:xfrm>
          </p:grpSpPr>
          <p:sp>
            <p:nvSpPr>
              <p:cNvPr id="228" name="Rectangle 153"/>
              <p:cNvSpPr/>
              <p:nvPr/>
            </p:nvSpPr>
            <p:spPr>
              <a:xfrm>
                <a:off x="1015920" y="4146840"/>
                <a:ext cx="1004760" cy="63972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29" name="Group 152"/>
              <p:cNvGrpSpPr/>
              <p:nvPr/>
            </p:nvGrpSpPr>
            <p:grpSpPr>
              <a:xfrm>
                <a:off x="1015920" y="4146840"/>
                <a:ext cx="1004760" cy="639720"/>
                <a:chOff x="1015920" y="4146840"/>
                <a:chExt cx="1004760" cy="639720"/>
              </a:xfrm>
            </p:grpSpPr>
            <p:sp>
              <p:nvSpPr>
                <p:cNvPr id="230" name="Rectangle 29"/>
                <p:cNvSpPr/>
                <p:nvPr/>
              </p:nvSpPr>
              <p:spPr>
                <a:xfrm>
                  <a:off x="1084320" y="4146840"/>
                  <a:ext cx="868320" cy="639720"/>
                </a:xfrm>
                <a:prstGeom prst="rect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ALL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Rectangle 151"/>
                <p:cNvSpPr/>
                <p:nvPr/>
              </p:nvSpPr>
              <p:spPr>
                <a:xfrm>
                  <a:off x="1015920" y="4146840"/>
                  <a:ext cx="100476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32" name="Group 158"/>
            <p:cNvGrpSpPr/>
            <p:nvPr/>
          </p:nvGrpSpPr>
          <p:grpSpPr>
            <a:xfrm>
              <a:off x="2020680" y="4146840"/>
              <a:ext cx="1005120" cy="639720"/>
              <a:chOff x="2020680" y="4146840"/>
              <a:chExt cx="1005120" cy="639720"/>
            </a:xfrm>
          </p:grpSpPr>
          <p:sp>
            <p:nvSpPr>
              <p:cNvPr id="233" name="Rectangle 157"/>
              <p:cNvSpPr/>
              <p:nvPr/>
            </p:nvSpPr>
            <p:spPr>
              <a:xfrm>
                <a:off x="2020680" y="4146840"/>
                <a:ext cx="1005120" cy="63972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4" name="Group 156"/>
              <p:cNvGrpSpPr/>
              <p:nvPr/>
            </p:nvGrpSpPr>
            <p:grpSpPr>
              <a:xfrm>
                <a:off x="2020680" y="4146840"/>
                <a:ext cx="1005120" cy="639720"/>
                <a:chOff x="2020680" y="4146840"/>
                <a:chExt cx="1005120" cy="639720"/>
              </a:xfrm>
            </p:grpSpPr>
            <p:sp>
              <p:nvSpPr>
                <p:cNvPr id="235" name="Rectangle 30"/>
                <p:cNvSpPr/>
                <p:nvPr/>
              </p:nvSpPr>
              <p:spPr>
                <a:xfrm>
                  <a:off x="2089080" y="4146840"/>
                  <a:ext cx="868320" cy="639720"/>
                </a:xfrm>
                <a:prstGeom prst="rect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5%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Rectangle 155"/>
                <p:cNvSpPr/>
                <p:nvPr/>
              </p:nvSpPr>
              <p:spPr>
                <a:xfrm>
                  <a:off x="2020680" y="4146840"/>
                  <a:ext cx="100512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37" name="Group 162"/>
            <p:cNvGrpSpPr/>
            <p:nvPr/>
          </p:nvGrpSpPr>
          <p:grpSpPr>
            <a:xfrm>
              <a:off x="3025800" y="4146840"/>
              <a:ext cx="1004760" cy="639720"/>
              <a:chOff x="3025800" y="4146840"/>
              <a:chExt cx="1004760" cy="639720"/>
            </a:xfrm>
          </p:grpSpPr>
          <p:sp>
            <p:nvSpPr>
              <p:cNvPr id="238" name="Rectangle 161"/>
              <p:cNvSpPr/>
              <p:nvPr/>
            </p:nvSpPr>
            <p:spPr>
              <a:xfrm>
                <a:off x="3025800" y="4146840"/>
                <a:ext cx="1004760" cy="63972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9" name="Group 160"/>
              <p:cNvGrpSpPr/>
              <p:nvPr/>
            </p:nvGrpSpPr>
            <p:grpSpPr>
              <a:xfrm>
                <a:off x="3025800" y="4146840"/>
                <a:ext cx="1004760" cy="639720"/>
                <a:chOff x="3025800" y="4146840"/>
                <a:chExt cx="1004760" cy="639720"/>
              </a:xfrm>
            </p:grpSpPr>
            <p:sp>
              <p:nvSpPr>
                <p:cNvPr id="240" name="Rectangle 31"/>
                <p:cNvSpPr/>
                <p:nvPr/>
              </p:nvSpPr>
              <p:spPr>
                <a:xfrm>
                  <a:off x="3093840" y="4146840"/>
                  <a:ext cx="868320" cy="639720"/>
                </a:xfrm>
                <a:prstGeom prst="rect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2%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Rectangle 159"/>
                <p:cNvSpPr/>
                <p:nvPr/>
              </p:nvSpPr>
              <p:spPr>
                <a:xfrm>
                  <a:off x="3025800" y="4146840"/>
                  <a:ext cx="100476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42" name="Group 166"/>
            <p:cNvGrpSpPr/>
            <p:nvPr/>
          </p:nvGrpSpPr>
          <p:grpSpPr>
            <a:xfrm>
              <a:off x="4030560" y="4146840"/>
              <a:ext cx="1004760" cy="639720"/>
              <a:chOff x="4030560" y="4146840"/>
              <a:chExt cx="1004760" cy="639720"/>
            </a:xfrm>
          </p:grpSpPr>
          <p:sp>
            <p:nvSpPr>
              <p:cNvPr id="243" name="Rectangle 165"/>
              <p:cNvSpPr/>
              <p:nvPr/>
            </p:nvSpPr>
            <p:spPr>
              <a:xfrm>
                <a:off x="4030560" y="4146840"/>
                <a:ext cx="1004760" cy="63972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4" name="Group 164"/>
              <p:cNvGrpSpPr/>
              <p:nvPr/>
            </p:nvGrpSpPr>
            <p:grpSpPr>
              <a:xfrm>
                <a:off x="4030560" y="4146840"/>
                <a:ext cx="1004760" cy="639720"/>
                <a:chOff x="4030560" y="4146840"/>
                <a:chExt cx="1004760" cy="639720"/>
              </a:xfrm>
            </p:grpSpPr>
            <p:sp>
              <p:nvSpPr>
                <p:cNvPr id="245" name="Rectangle 32"/>
                <p:cNvSpPr/>
                <p:nvPr/>
              </p:nvSpPr>
              <p:spPr>
                <a:xfrm>
                  <a:off x="4098960" y="4146840"/>
                  <a:ext cx="868320" cy="639720"/>
                </a:xfrm>
                <a:prstGeom prst="rect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1%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Rectangle 163"/>
                <p:cNvSpPr/>
                <p:nvPr/>
              </p:nvSpPr>
              <p:spPr>
                <a:xfrm>
                  <a:off x="4030560" y="4146840"/>
                  <a:ext cx="100476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47" name="Group 170"/>
            <p:cNvGrpSpPr/>
            <p:nvPr/>
          </p:nvGrpSpPr>
          <p:grpSpPr>
            <a:xfrm>
              <a:off x="5035320" y="4146840"/>
              <a:ext cx="1005120" cy="639720"/>
              <a:chOff x="5035320" y="4146840"/>
              <a:chExt cx="1005120" cy="639720"/>
            </a:xfrm>
          </p:grpSpPr>
          <p:sp>
            <p:nvSpPr>
              <p:cNvPr id="248" name="Rectangle 169"/>
              <p:cNvSpPr/>
              <p:nvPr/>
            </p:nvSpPr>
            <p:spPr>
              <a:xfrm>
                <a:off x="5035320" y="4146840"/>
                <a:ext cx="1005120" cy="63972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9" name="Group 168"/>
              <p:cNvGrpSpPr/>
              <p:nvPr/>
            </p:nvGrpSpPr>
            <p:grpSpPr>
              <a:xfrm>
                <a:off x="5035320" y="4146840"/>
                <a:ext cx="1005120" cy="639720"/>
                <a:chOff x="5035320" y="4146840"/>
                <a:chExt cx="1005120" cy="639720"/>
              </a:xfrm>
            </p:grpSpPr>
            <p:sp>
              <p:nvSpPr>
                <p:cNvPr id="250" name="Rectangle 33"/>
                <p:cNvSpPr/>
                <p:nvPr/>
              </p:nvSpPr>
              <p:spPr>
                <a:xfrm>
                  <a:off x="5103720" y="4146840"/>
                  <a:ext cx="868320" cy="639720"/>
                </a:xfrm>
                <a:prstGeom prst="rect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3%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Rectangle 167"/>
                <p:cNvSpPr/>
                <p:nvPr/>
              </p:nvSpPr>
              <p:spPr>
                <a:xfrm>
                  <a:off x="5035320" y="4146840"/>
                  <a:ext cx="100512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2" name="Group 174"/>
            <p:cNvGrpSpPr/>
            <p:nvPr/>
          </p:nvGrpSpPr>
          <p:grpSpPr>
            <a:xfrm>
              <a:off x="6040440" y="4146840"/>
              <a:ext cx="1004760" cy="639720"/>
              <a:chOff x="6040440" y="4146840"/>
              <a:chExt cx="1004760" cy="639720"/>
            </a:xfrm>
          </p:grpSpPr>
          <p:sp>
            <p:nvSpPr>
              <p:cNvPr id="253" name="Rectangle 173"/>
              <p:cNvSpPr/>
              <p:nvPr/>
            </p:nvSpPr>
            <p:spPr>
              <a:xfrm>
                <a:off x="6040440" y="4146840"/>
                <a:ext cx="1004760" cy="63972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4" name="Group 172"/>
              <p:cNvGrpSpPr/>
              <p:nvPr/>
            </p:nvGrpSpPr>
            <p:grpSpPr>
              <a:xfrm>
                <a:off x="6040440" y="4146840"/>
                <a:ext cx="1004760" cy="639720"/>
                <a:chOff x="6040440" y="4146840"/>
                <a:chExt cx="1004760" cy="639720"/>
              </a:xfrm>
            </p:grpSpPr>
            <p:sp>
              <p:nvSpPr>
                <p:cNvPr id="255" name="Rectangle 34"/>
                <p:cNvSpPr/>
                <p:nvPr/>
              </p:nvSpPr>
              <p:spPr>
                <a:xfrm>
                  <a:off x="6108480" y="4146840"/>
                  <a:ext cx="868680" cy="639720"/>
                </a:xfrm>
                <a:prstGeom prst="rect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4%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Rectangle 171"/>
                <p:cNvSpPr/>
                <p:nvPr/>
              </p:nvSpPr>
              <p:spPr>
                <a:xfrm>
                  <a:off x="6040440" y="4146840"/>
                  <a:ext cx="100476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7" name="Group 178"/>
            <p:cNvGrpSpPr/>
            <p:nvPr/>
          </p:nvGrpSpPr>
          <p:grpSpPr>
            <a:xfrm>
              <a:off x="7045200" y="4146840"/>
              <a:ext cx="1004760" cy="639720"/>
              <a:chOff x="7045200" y="4146840"/>
              <a:chExt cx="1004760" cy="639720"/>
            </a:xfrm>
          </p:grpSpPr>
          <p:sp>
            <p:nvSpPr>
              <p:cNvPr id="258" name="Rectangle 177"/>
              <p:cNvSpPr/>
              <p:nvPr/>
            </p:nvSpPr>
            <p:spPr>
              <a:xfrm>
                <a:off x="7045200" y="4146840"/>
                <a:ext cx="1004760" cy="63972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9" name="Group 176"/>
              <p:cNvGrpSpPr/>
              <p:nvPr/>
            </p:nvGrpSpPr>
            <p:grpSpPr>
              <a:xfrm>
                <a:off x="7045200" y="4146840"/>
                <a:ext cx="1004760" cy="639720"/>
                <a:chOff x="7045200" y="4146840"/>
                <a:chExt cx="1004760" cy="639720"/>
              </a:xfrm>
            </p:grpSpPr>
            <p:sp>
              <p:nvSpPr>
                <p:cNvPr id="260" name="Rectangle 35"/>
                <p:cNvSpPr/>
                <p:nvPr/>
              </p:nvSpPr>
              <p:spPr>
                <a:xfrm>
                  <a:off x="7113600" y="4146840"/>
                  <a:ext cx="868320" cy="639720"/>
                </a:xfrm>
                <a:prstGeom prst="rect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5%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Rectangle 175"/>
                <p:cNvSpPr/>
                <p:nvPr/>
              </p:nvSpPr>
              <p:spPr>
                <a:xfrm>
                  <a:off x="7045200" y="4146840"/>
                  <a:ext cx="100476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2" name="Group 182"/>
            <p:cNvGrpSpPr/>
            <p:nvPr/>
          </p:nvGrpSpPr>
          <p:grpSpPr>
            <a:xfrm>
              <a:off x="1015920" y="4786560"/>
              <a:ext cx="1004760" cy="639720"/>
              <a:chOff x="1015920" y="4786560"/>
              <a:chExt cx="1004760" cy="639720"/>
            </a:xfrm>
          </p:grpSpPr>
          <p:sp>
            <p:nvSpPr>
              <p:cNvPr id="263" name="Rectangle 181"/>
              <p:cNvSpPr/>
              <p:nvPr/>
            </p:nvSpPr>
            <p:spPr>
              <a:xfrm>
                <a:off x="1015920" y="4786560"/>
                <a:ext cx="1004760" cy="63972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4" name="Group 180"/>
              <p:cNvGrpSpPr/>
              <p:nvPr/>
            </p:nvGrpSpPr>
            <p:grpSpPr>
              <a:xfrm>
                <a:off x="1015920" y="4786560"/>
                <a:ext cx="1004760" cy="639720"/>
                <a:chOff x="1015920" y="4786560"/>
                <a:chExt cx="1004760" cy="639720"/>
              </a:xfrm>
            </p:grpSpPr>
            <p:sp>
              <p:nvSpPr>
                <p:cNvPr id="265" name="Rectangle 36"/>
                <p:cNvSpPr/>
                <p:nvPr/>
              </p:nvSpPr>
              <p:spPr>
                <a:xfrm>
                  <a:off x="1084320" y="4786560"/>
                  <a:ext cx="868320" cy="639720"/>
                </a:xfrm>
                <a:prstGeom prst="rect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IF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Rectangle 179"/>
                <p:cNvSpPr/>
                <p:nvPr/>
              </p:nvSpPr>
              <p:spPr>
                <a:xfrm>
                  <a:off x="1015920" y="4786560"/>
                  <a:ext cx="100476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7" name="Group 186"/>
            <p:cNvGrpSpPr/>
            <p:nvPr/>
          </p:nvGrpSpPr>
          <p:grpSpPr>
            <a:xfrm>
              <a:off x="2020680" y="4786560"/>
              <a:ext cx="1005120" cy="639720"/>
              <a:chOff x="2020680" y="4786560"/>
              <a:chExt cx="1005120" cy="639720"/>
            </a:xfrm>
          </p:grpSpPr>
          <p:sp>
            <p:nvSpPr>
              <p:cNvPr id="268" name="Rectangle 185"/>
              <p:cNvSpPr/>
              <p:nvPr/>
            </p:nvSpPr>
            <p:spPr>
              <a:xfrm>
                <a:off x="2020680" y="4786560"/>
                <a:ext cx="1005120" cy="63972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9" name="Group 184"/>
              <p:cNvGrpSpPr/>
              <p:nvPr/>
            </p:nvGrpSpPr>
            <p:grpSpPr>
              <a:xfrm>
                <a:off x="2020680" y="4786560"/>
                <a:ext cx="1005120" cy="639720"/>
                <a:chOff x="2020680" y="4786560"/>
                <a:chExt cx="1005120" cy="639720"/>
              </a:xfrm>
            </p:grpSpPr>
            <p:sp>
              <p:nvSpPr>
                <p:cNvPr id="270" name="Rectangle 37"/>
                <p:cNvSpPr/>
                <p:nvPr/>
              </p:nvSpPr>
              <p:spPr>
                <a:xfrm>
                  <a:off x="2089080" y="4786560"/>
                  <a:ext cx="868320" cy="639720"/>
                </a:xfrm>
                <a:prstGeom prst="rect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9%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Rectangle 183"/>
                <p:cNvSpPr/>
                <p:nvPr/>
              </p:nvSpPr>
              <p:spPr>
                <a:xfrm>
                  <a:off x="2020680" y="4786560"/>
                  <a:ext cx="100512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72" name="Group 190"/>
            <p:cNvGrpSpPr/>
            <p:nvPr/>
          </p:nvGrpSpPr>
          <p:grpSpPr>
            <a:xfrm>
              <a:off x="3025800" y="4786560"/>
              <a:ext cx="1004760" cy="639720"/>
              <a:chOff x="3025800" y="4786560"/>
              <a:chExt cx="1004760" cy="639720"/>
            </a:xfrm>
          </p:grpSpPr>
          <p:sp>
            <p:nvSpPr>
              <p:cNvPr id="273" name="Rectangle 189"/>
              <p:cNvSpPr/>
              <p:nvPr/>
            </p:nvSpPr>
            <p:spPr>
              <a:xfrm>
                <a:off x="3025800" y="4786560"/>
                <a:ext cx="1004760" cy="63972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74" name="Group 188"/>
              <p:cNvGrpSpPr/>
              <p:nvPr/>
            </p:nvGrpSpPr>
            <p:grpSpPr>
              <a:xfrm>
                <a:off x="3025800" y="4786560"/>
                <a:ext cx="1004760" cy="639720"/>
                <a:chOff x="3025800" y="4786560"/>
                <a:chExt cx="1004760" cy="639720"/>
              </a:xfrm>
            </p:grpSpPr>
            <p:sp>
              <p:nvSpPr>
                <p:cNvPr id="275" name="Rectangle 38"/>
                <p:cNvSpPr/>
                <p:nvPr/>
              </p:nvSpPr>
              <p:spPr>
                <a:xfrm>
                  <a:off x="3093840" y="4786560"/>
                  <a:ext cx="868320" cy="639720"/>
                </a:xfrm>
                <a:prstGeom prst="rect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3%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Rectangle 187"/>
                <p:cNvSpPr/>
                <p:nvPr/>
              </p:nvSpPr>
              <p:spPr>
                <a:xfrm>
                  <a:off x="3025800" y="4786560"/>
                  <a:ext cx="100476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77" name="Group 194"/>
            <p:cNvGrpSpPr/>
            <p:nvPr/>
          </p:nvGrpSpPr>
          <p:grpSpPr>
            <a:xfrm>
              <a:off x="4030560" y="4786560"/>
              <a:ext cx="1004760" cy="639720"/>
              <a:chOff x="4030560" y="4786560"/>
              <a:chExt cx="1004760" cy="639720"/>
            </a:xfrm>
          </p:grpSpPr>
          <p:sp>
            <p:nvSpPr>
              <p:cNvPr id="278" name="Rectangle 193"/>
              <p:cNvSpPr/>
              <p:nvPr/>
            </p:nvSpPr>
            <p:spPr>
              <a:xfrm>
                <a:off x="4030560" y="4786560"/>
                <a:ext cx="1004760" cy="63972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79" name="Group 192"/>
              <p:cNvGrpSpPr/>
              <p:nvPr/>
            </p:nvGrpSpPr>
            <p:grpSpPr>
              <a:xfrm>
                <a:off x="4030560" y="4786560"/>
                <a:ext cx="1004760" cy="639720"/>
                <a:chOff x="4030560" y="4786560"/>
                <a:chExt cx="1004760" cy="639720"/>
              </a:xfrm>
            </p:grpSpPr>
            <p:sp>
              <p:nvSpPr>
                <p:cNvPr id="280" name="Rectangle 39"/>
                <p:cNvSpPr/>
                <p:nvPr/>
              </p:nvSpPr>
              <p:spPr>
                <a:xfrm>
                  <a:off x="4098960" y="4786560"/>
                  <a:ext cx="868320" cy="639720"/>
                </a:xfrm>
                <a:prstGeom prst="rect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1%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Rectangle 191"/>
                <p:cNvSpPr/>
                <p:nvPr/>
              </p:nvSpPr>
              <p:spPr>
                <a:xfrm>
                  <a:off x="4030560" y="4786560"/>
                  <a:ext cx="100476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82" name="Group 198"/>
            <p:cNvGrpSpPr/>
            <p:nvPr/>
          </p:nvGrpSpPr>
          <p:grpSpPr>
            <a:xfrm>
              <a:off x="5035320" y="4786560"/>
              <a:ext cx="1005120" cy="639720"/>
              <a:chOff x="5035320" y="4786560"/>
              <a:chExt cx="1005120" cy="639720"/>
            </a:xfrm>
          </p:grpSpPr>
          <p:sp>
            <p:nvSpPr>
              <p:cNvPr id="283" name="Rectangle 197"/>
              <p:cNvSpPr/>
              <p:nvPr/>
            </p:nvSpPr>
            <p:spPr>
              <a:xfrm>
                <a:off x="5035320" y="4786560"/>
                <a:ext cx="1005120" cy="63972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4" name="Group 196"/>
              <p:cNvGrpSpPr/>
              <p:nvPr/>
            </p:nvGrpSpPr>
            <p:grpSpPr>
              <a:xfrm>
                <a:off x="5035320" y="4786560"/>
                <a:ext cx="1005120" cy="639720"/>
                <a:chOff x="5035320" y="4786560"/>
                <a:chExt cx="1005120" cy="639720"/>
              </a:xfrm>
            </p:grpSpPr>
            <p:sp>
              <p:nvSpPr>
                <p:cNvPr id="285" name="Rectangle 40"/>
                <p:cNvSpPr/>
                <p:nvPr/>
              </p:nvSpPr>
              <p:spPr>
                <a:xfrm>
                  <a:off x="5103720" y="4786560"/>
                  <a:ext cx="868320" cy="639720"/>
                </a:xfrm>
                <a:prstGeom prst="rect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1%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Rectangle 195"/>
                <p:cNvSpPr/>
                <p:nvPr/>
              </p:nvSpPr>
              <p:spPr>
                <a:xfrm>
                  <a:off x="5035320" y="4786560"/>
                  <a:ext cx="100512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87" name="Group 202"/>
            <p:cNvGrpSpPr/>
            <p:nvPr/>
          </p:nvGrpSpPr>
          <p:grpSpPr>
            <a:xfrm>
              <a:off x="6040440" y="4786560"/>
              <a:ext cx="1004760" cy="639720"/>
              <a:chOff x="6040440" y="4786560"/>
              <a:chExt cx="1004760" cy="639720"/>
            </a:xfrm>
          </p:grpSpPr>
          <p:sp>
            <p:nvSpPr>
              <p:cNvPr id="288" name="Rectangle 201"/>
              <p:cNvSpPr/>
              <p:nvPr/>
            </p:nvSpPr>
            <p:spPr>
              <a:xfrm>
                <a:off x="6040440" y="4786560"/>
                <a:ext cx="1004760" cy="63972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9" name="Group 200"/>
              <p:cNvGrpSpPr/>
              <p:nvPr/>
            </p:nvGrpSpPr>
            <p:grpSpPr>
              <a:xfrm>
                <a:off x="6040440" y="4786560"/>
                <a:ext cx="1004760" cy="639720"/>
                <a:chOff x="6040440" y="4786560"/>
                <a:chExt cx="1004760" cy="639720"/>
              </a:xfrm>
            </p:grpSpPr>
            <p:sp>
              <p:nvSpPr>
                <p:cNvPr id="290" name="Rectangle 41"/>
                <p:cNvSpPr/>
                <p:nvPr/>
              </p:nvSpPr>
              <p:spPr>
                <a:xfrm>
                  <a:off x="6108480" y="4786560"/>
                  <a:ext cx="868680" cy="639720"/>
                </a:xfrm>
                <a:prstGeom prst="rect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7%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Rectangle 199"/>
                <p:cNvSpPr/>
                <p:nvPr/>
              </p:nvSpPr>
              <p:spPr>
                <a:xfrm>
                  <a:off x="6040440" y="4786560"/>
                  <a:ext cx="100476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92" name="Group 206"/>
            <p:cNvGrpSpPr/>
            <p:nvPr/>
          </p:nvGrpSpPr>
          <p:grpSpPr>
            <a:xfrm>
              <a:off x="7045200" y="4786560"/>
              <a:ext cx="1004760" cy="639720"/>
              <a:chOff x="7045200" y="4786560"/>
              <a:chExt cx="1004760" cy="639720"/>
            </a:xfrm>
          </p:grpSpPr>
          <p:sp>
            <p:nvSpPr>
              <p:cNvPr id="293" name="Rectangle 205"/>
              <p:cNvSpPr/>
              <p:nvPr/>
            </p:nvSpPr>
            <p:spPr>
              <a:xfrm>
                <a:off x="7045200" y="4786560"/>
                <a:ext cx="1004760" cy="63972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94" name="Group 204"/>
              <p:cNvGrpSpPr/>
              <p:nvPr/>
            </p:nvGrpSpPr>
            <p:grpSpPr>
              <a:xfrm>
                <a:off x="7045200" y="4786560"/>
                <a:ext cx="1004760" cy="639720"/>
                <a:chOff x="7045200" y="4786560"/>
                <a:chExt cx="1004760" cy="639720"/>
              </a:xfrm>
            </p:grpSpPr>
            <p:sp>
              <p:nvSpPr>
                <p:cNvPr id="295" name="Rectangle 42"/>
                <p:cNvSpPr/>
                <p:nvPr/>
              </p:nvSpPr>
              <p:spPr>
                <a:xfrm>
                  <a:off x="7113600" y="4786560"/>
                  <a:ext cx="868320" cy="639720"/>
                </a:xfrm>
                <a:prstGeom prst="rect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3%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Rectangle 203"/>
                <p:cNvSpPr/>
                <p:nvPr/>
              </p:nvSpPr>
              <p:spPr>
                <a:xfrm>
                  <a:off x="7045200" y="4786560"/>
                  <a:ext cx="100476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97" name="Group 210"/>
            <p:cNvGrpSpPr/>
            <p:nvPr/>
          </p:nvGrpSpPr>
          <p:grpSpPr>
            <a:xfrm>
              <a:off x="1015920" y="5426280"/>
              <a:ext cx="1004760" cy="639720"/>
              <a:chOff x="1015920" y="5426280"/>
              <a:chExt cx="1004760" cy="639720"/>
            </a:xfrm>
          </p:grpSpPr>
          <p:sp>
            <p:nvSpPr>
              <p:cNvPr id="298" name="Rectangle 209"/>
              <p:cNvSpPr/>
              <p:nvPr/>
            </p:nvSpPr>
            <p:spPr>
              <a:xfrm>
                <a:off x="1015920" y="5426280"/>
                <a:ext cx="1004760" cy="63972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99" name="Group 208"/>
              <p:cNvGrpSpPr/>
              <p:nvPr/>
            </p:nvGrpSpPr>
            <p:grpSpPr>
              <a:xfrm>
                <a:off x="1015920" y="5426280"/>
                <a:ext cx="1004760" cy="639720"/>
                <a:chOff x="1015920" y="5426280"/>
                <a:chExt cx="1004760" cy="639720"/>
              </a:xfrm>
            </p:grpSpPr>
            <p:sp>
              <p:nvSpPr>
                <p:cNvPr id="300" name="Rectangle 43"/>
                <p:cNvSpPr/>
                <p:nvPr/>
              </p:nvSpPr>
              <p:spPr>
                <a:xfrm>
                  <a:off x="1084320" y="5426280"/>
                  <a:ext cx="868320" cy="639720"/>
                </a:xfrm>
                <a:prstGeom prst="rect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GOT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Rectangle 207"/>
                <p:cNvSpPr/>
                <p:nvPr/>
              </p:nvSpPr>
              <p:spPr>
                <a:xfrm>
                  <a:off x="1015920" y="5426280"/>
                  <a:ext cx="100476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02" name="Group 214"/>
            <p:cNvGrpSpPr/>
            <p:nvPr/>
          </p:nvGrpSpPr>
          <p:grpSpPr>
            <a:xfrm>
              <a:off x="2020680" y="5426280"/>
              <a:ext cx="1005120" cy="639720"/>
              <a:chOff x="2020680" y="5426280"/>
              <a:chExt cx="1005120" cy="639720"/>
            </a:xfrm>
          </p:grpSpPr>
          <p:sp>
            <p:nvSpPr>
              <p:cNvPr id="303" name="Rectangle 213"/>
              <p:cNvSpPr/>
              <p:nvPr/>
            </p:nvSpPr>
            <p:spPr>
              <a:xfrm>
                <a:off x="2020680" y="5426280"/>
                <a:ext cx="1005120" cy="63972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04" name="Group 212"/>
              <p:cNvGrpSpPr/>
              <p:nvPr/>
            </p:nvGrpSpPr>
            <p:grpSpPr>
              <a:xfrm>
                <a:off x="2020680" y="5426280"/>
                <a:ext cx="1005120" cy="639720"/>
                <a:chOff x="2020680" y="5426280"/>
                <a:chExt cx="1005120" cy="639720"/>
              </a:xfrm>
            </p:grpSpPr>
            <p:sp>
              <p:nvSpPr>
                <p:cNvPr id="305" name="Rectangle 44"/>
                <p:cNvSpPr/>
                <p:nvPr/>
              </p:nvSpPr>
              <p:spPr>
                <a:xfrm>
                  <a:off x="2089080" y="5426280"/>
                  <a:ext cx="868320" cy="639720"/>
                </a:xfrm>
                <a:prstGeom prst="rect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—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Rectangle 211"/>
                <p:cNvSpPr/>
                <p:nvPr/>
              </p:nvSpPr>
              <p:spPr>
                <a:xfrm>
                  <a:off x="2020680" y="5426280"/>
                  <a:ext cx="100512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07" name="Group 218"/>
            <p:cNvGrpSpPr/>
            <p:nvPr/>
          </p:nvGrpSpPr>
          <p:grpSpPr>
            <a:xfrm>
              <a:off x="3025800" y="5426280"/>
              <a:ext cx="1004760" cy="639720"/>
              <a:chOff x="3025800" y="5426280"/>
              <a:chExt cx="1004760" cy="639720"/>
            </a:xfrm>
          </p:grpSpPr>
          <p:sp>
            <p:nvSpPr>
              <p:cNvPr id="308" name="Rectangle 217"/>
              <p:cNvSpPr/>
              <p:nvPr/>
            </p:nvSpPr>
            <p:spPr>
              <a:xfrm>
                <a:off x="3025800" y="5426280"/>
                <a:ext cx="1004760" cy="63972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09" name="Group 216"/>
              <p:cNvGrpSpPr/>
              <p:nvPr/>
            </p:nvGrpSpPr>
            <p:grpSpPr>
              <a:xfrm>
                <a:off x="3025800" y="5426280"/>
                <a:ext cx="1004760" cy="639720"/>
                <a:chOff x="3025800" y="5426280"/>
                <a:chExt cx="1004760" cy="639720"/>
              </a:xfrm>
            </p:grpSpPr>
            <p:sp>
              <p:nvSpPr>
                <p:cNvPr id="310" name="Rectangle 45"/>
                <p:cNvSpPr/>
                <p:nvPr/>
              </p:nvSpPr>
              <p:spPr>
                <a:xfrm>
                  <a:off x="3093840" y="5426280"/>
                  <a:ext cx="868320" cy="639720"/>
                </a:xfrm>
                <a:prstGeom prst="rect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%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Rectangle 215"/>
                <p:cNvSpPr/>
                <p:nvPr/>
              </p:nvSpPr>
              <p:spPr>
                <a:xfrm>
                  <a:off x="3025800" y="5426280"/>
                  <a:ext cx="100476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12" name="Group 222"/>
            <p:cNvGrpSpPr/>
            <p:nvPr/>
          </p:nvGrpSpPr>
          <p:grpSpPr>
            <a:xfrm>
              <a:off x="4030560" y="5426280"/>
              <a:ext cx="1004760" cy="639720"/>
              <a:chOff x="4030560" y="5426280"/>
              <a:chExt cx="1004760" cy="639720"/>
            </a:xfrm>
          </p:grpSpPr>
          <p:sp>
            <p:nvSpPr>
              <p:cNvPr id="313" name="Rectangle 221"/>
              <p:cNvSpPr/>
              <p:nvPr/>
            </p:nvSpPr>
            <p:spPr>
              <a:xfrm>
                <a:off x="4030560" y="5426280"/>
                <a:ext cx="1004760" cy="63972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14" name="Group 220"/>
              <p:cNvGrpSpPr/>
              <p:nvPr/>
            </p:nvGrpSpPr>
            <p:grpSpPr>
              <a:xfrm>
                <a:off x="4030560" y="5426280"/>
                <a:ext cx="1004760" cy="639720"/>
                <a:chOff x="4030560" y="5426280"/>
                <a:chExt cx="1004760" cy="639720"/>
              </a:xfrm>
            </p:grpSpPr>
            <p:sp>
              <p:nvSpPr>
                <p:cNvPr id="315" name="Rectangle 46"/>
                <p:cNvSpPr/>
                <p:nvPr/>
              </p:nvSpPr>
              <p:spPr>
                <a:xfrm>
                  <a:off x="4098960" y="5426280"/>
                  <a:ext cx="868320" cy="639720"/>
                </a:xfrm>
                <a:prstGeom prst="rect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—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Rectangle 219"/>
                <p:cNvSpPr/>
                <p:nvPr/>
              </p:nvSpPr>
              <p:spPr>
                <a:xfrm>
                  <a:off x="4030560" y="5426280"/>
                  <a:ext cx="100476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17" name="Group 226"/>
            <p:cNvGrpSpPr/>
            <p:nvPr/>
          </p:nvGrpSpPr>
          <p:grpSpPr>
            <a:xfrm>
              <a:off x="5035320" y="5426280"/>
              <a:ext cx="1005120" cy="639720"/>
              <a:chOff x="5035320" y="5426280"/>
              <a:chExt cx="1005120" cy="639720"/>
            </a:xfrm>
          </p:grpSpPr>
          <p:sp>
            <p:nvSpPr>
              <p:cNvPr id="318" name="Rectangle 225"/>
              <p:cNvSpPr/>
              <p:nvPr/>
            </p:nvSpPr>
            <p:spPr>
              <a:xfrm>
                <a:off x="5035320" y="5426280"/>
                <a:ext cx="1005120" cy="63972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19" name="Group 224"/>
              <p:cNvGrpSpPr/>
              <p:nvPr/>
            </p:nvGrpSpPr>
            <p:grpSpPr>
              <a:xfrm>
                <a:off x="5035320" y="5426280"/>
                <a:ext cx="1005120" cy="639720"/>
                <a:chOff x="5035320" y="5426280"/>
                <a:chExt cx="1005120" cy="639720"/>
              </a:xfrm>
            </p:grpSpPr>
            <p:sp>
              <p:nvSpPr>
                <p:cNvPr id="320" name="Rectangle 47"/>
                <p:cNvSpPr/>
                <p:nvPr/>
              </p:nvSpPr>
              <p:spPr>
                <a:xfrm>
                  <a:off x="5103720" y="5426280"/>
                  <a:ext cx="868320" cy="639720"/>
                </a:xfrm>
                <a:prstGeom prst="rect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—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Rectangle 223"/>
                <p:cNvSpPr/>
                <p:nvPr/>
              </p:nvSpPr>
              <p:spPr>
                <a:xfrm>
                  <a:off x="5035320" y="5426280"/>
                  <a:ext cx="100512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22" name="Group 230"/>
            <p:cNvGrpSpPr/>
            <p:nvPr/>
          </p:nvGrpSpPr>
          <p:grpSpPr>
            <a:xfrm>
              <a:off x="6040440" y="5426280"/>
              <a:ext cx="1004760" cy="639720"/>
              <a:chOff x="6040440" y="5426280"/>
              <a:chExt cx="1004760" cy="639720"/>
            </a:xfrm>
          </p:grpSpPr>
          <p:sp>
            <p:nvSpPr>
              <p:cNvPr id="323" name="Rectangle 229"/>
              <p:cNvSpPr/>
              <p:nvPr/>
            </p:nvSpPr>
            <p:spPr>
              <a:xfrm>
                <a:off x="6040440" y="5426280"/>
                <a:ext cx="1004760" cy="63972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24" name="Group 228"/>
              <p:cNvGrpSpPr/>
              <p:nvPr/>
            </p:nvGrpSpPr>
            <p:grpSpPr>
              <a:xfrm>
                <a:off x="6040440" y="5426280"/>
                <a:ext cx="1004760" cy="639720"/>
                <a:chOff x="6040440" y="5426280"/>
                <a:chExt cx="1004760" cy="639720"/>
              </a:xfrm>
            </p:grpSpPr>
            <p:sp>
              <p:nvSpPr>
                <p:cNvPr id="325" name="Rectangle 48"/>
                <p:cNvSpPr/>
                <p:nvPr/>
              </p:nvSpPr>
              <p:spPr>
                <a:xfrm>
                  <a:off x="6108480" y="5426280"/>
                  <a:ext cx="868680" cy="639720"/>
                </a:xfrm>
                <a:prstGeom prst="rect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—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" name="Rectangle 227"/>
                <p:cNvSpPr/>
                <p:nvPr/>
              </p:nvSpPr>
              <p:spPr>
                <a:xfrm>
                  <a:off x="6040440" y="5426280"/>
                  <a:ext cx="100476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27" name="Group 234"/>
            <p:cNvGrpSpPr/>
            <p:nvPr/>
          </p:nvGrpSpPr>
          <p:grpSpPr>
            <a:xfrm>
              <a:off x="7045200" y="5426280"/>
              <a:ext cx="1004760" cy="639720"/>
              <a:chOff x="7045200" y="5426280"/>
              <a:chExt cx="1004760" cy="639720"/>
            </a:xfrm>
          </p:grpSpPr>
          <p:sp>
            <p:nvSpPr>
              <p:cNvPr id="328" name="Rectangle 233"/>
              <p:cNvSpPr/>
              <p:nvPr/>
            </p:nvSpPr>
            <p:spPr>
              <a:xfrm>
                <a:off x="7045200" y="5426280"/>
                <a:ext cx="1004760" cy="63972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29" name="Group 232"/>
              <p:cNvGrpSpPr/>
              <p:nvPr/>
            </p:nvGrpSpPr>
            <p:grpSpPr>
              <a:xfrm>
                <a:off x="7045200" y="5426280"/>
                <a:ext cx="1004760" cy="639720"/>
                <a:chOff x="7045200" y="5426280"/>
                <a:chExt cx="1004760" cy="639720"/>
              </a:xfrm>
            </p:grpSpPr>
            <p:sp>
              <p:nvSpPr>
                <p:cNvPr id="330" name="Rectangle 49"/>
                <p:cNvSpPr/>
                <p:nvPr/>
              </p:nvSpPr>
              <p:spPr>
                <a:xfrm>
                  <a:off x="7113600" y="5426280"/>
                  <a:ext cx="868320" cy="639720"/>
                </a:xfrm>
                <a:prstGeom prst="rect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—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1" name="Rectangle 231"/>
                <p:cNvSpPr/>
                <p:nvPr/>
              </p:nvSpPr>
              <p:spPr>
                <a:xfrm>
                  <a:off x="7045200" y="5426280"/>
                  <a:ext cx="100476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32" name="Group 238"/>
            <p:cNvGrpSpPr/>
            <p:nvPr/>
          </p:nvGrpSpPr>
          <p:grpSpPr>
            <a:xfrm>
              <a:off x="1015920" y="6066000"/>
              <a:ext cx="1004760" cy="639720"/>
              <a:chOff x="1015920" y="6066000"/>
              <a:chExt cx="1004760" cy="639720"/>
            </a:xfrm>
          </p:grpSpPr>
          <p:sp>
            <p:nvSpPr>
              <p:cNvPr id="333" name="Rectangle 237"/>
              <p:cNvSpPr/>
              <p:nvPr/>
            </p:nvSpPr>
            <p:spPr>
              <a:xfrm>
                <a:off x="1015920" y="6066000"/>
                <a:ext cx="1004760" cy="63972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34" name="Group 236"/>
              <p:cNvGrpSpPr/>
              <p:nvPr/>
            </p:nvGrpSpPr>
            <p:grpSpPr>
              <a:xfrm>
                <a:off x="1015920" y="6066000"/>
                <a:ext cx="1004760" cy="639720"/>
                <a:chOff x="1015920" y="6066000"/>
                <a:chExt cx="1004760" cy="639720"/>
              </a:xfrm>
            </p:grpSpPr>
            <p:sp>
              <p:nvSpPr>
                <p:cNvPr id="335" name="Rectangle 50"/>
                <p:cNvSpPr/>
                <p:nvPr/>
              </p:nvSpPr>
              <p:spPr>
                <a:xfrm>
                  <a:off x="1084320" y="6066000"/>
                  <a:ext cx="868320" cy="639720"/>
                </a:xfrm>
                <a:prstGeom prst="rect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TH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6" name="Rectangle 235"/>
                <p:cNvSpPr/>
                <p:nvPr/>
              </p:nvSpPr>
              <p:spPr>
                <a:xfrm>
                  <a:off x="1015920" y="6066000"/>
                  <a:ext cx="100476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37" name="Group 242"/>
            <p:cNvGrpSpPr/>
            <p:nvPr/>
          </p:nvGrpSpPr>
          <p:grpSpPr>
            <a:xfrm>
              <a:off x="2020680" y="6066000"/>
              <a:ext cx="1005120" cy="639720"/>
              <a:chOff x="2020680" y="6066000"/>
              <a:chExt cx="1005120" cy="639720"/>
            </a:xfrm>
          </p:grpSpPr>
          <p:sp>
            <p:nvSpPr>
              <p:cNvPr id="338" name="Rectangle 241"/>
              <p:cNvSpPr/>
              <p:nvPr/>
            </p:nvSpPr>
            <p:spPr>
              <a:xfrm>
                <a:off x="2020680" y="6066000"/>
                <a:ext cx="1005120" cy="63972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39" name="Group 240"/>
              <p:cNvGrpSpPr/>
              <p:nvPr/>
            </p:nvGrpSpPr>
            <p:grpSpPr>
              <a:xfrm>
                <a:off x="2020680" y="6066000"/>
                <a:ext cx="1005120" cy="639720"/>
                <a:chOff x="2020680" y="6066000"/>
                <a:chExt cx="1005120" cy="639720"/>
              </a:xfrm>
            </p:grpSpPr>
            <p:sp>
              <p:nvSpPr>
                <p:cNvPr id="340" name="Rectangle 51"/>
                <p:cNvSpPr/>
                <p:nvPr/>
              </p:nvSpPr>
              <p:spPr>
                <a:xfrm>
                  <a:off x="2089080" y="6066000"/>
                  <a:ext cx="868320" cy="639720"/>
                </a:xfrm>
                <a:prstGeom prst="rect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6%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Rectangle 239"/>
                <p:cNvSpPr/>
                <p:nvPr/>
              </p:nvSpPr>
              <p:spPr>
                <a:xfrm>
                  <a:off x="2020680" y="6066000"/>
                  <a:ext cx="100512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42" name="Group 246"/>
            <p:cNvGrpSpPr/>
            <p:nvPr/>
          </p:nvGrpSpPr>
          <p:grpSpPr>
            <a:xfrm>
              <a:off x="3025800" y="6066000"/>
              <a:ext cx="1004760" cy="639720"/>
              <a:chOff x="3025800" y="6066000"/>
              <a:chExt cx="1004760" cy="639720"/>
            </a:xfrm>
          </p:grpSpPr>
          <p:sp>
            <p:nvSpPr>
              <p:cNvPr id="343" name="Rectangle 245"/>
              <p:cNvSpPr/>
              <p:nvPr/>
            </p:nvSpPr>
            <p:spPr>
              <a:xfrm>
                <a:off x="3025800" y="6066000"/>
                <a:ext cx="1004760" cy="63972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44" name="Group 244"/>
              <p:cNvGrpSpPr/>
              <p:nvPr/>
            </p:nvGrpSpPr>
            <p:grpSpPr>
              <a:xfrm>
                <a:off x="3025800" y="6066000"/>
                <a:ext cx="1004760" cy="639720"/>
                <a:chOff x="3025800" y="6066000"/>
                <a:chExt cx="1004760" cy="639720"/>
              </a:xfrm>
            </p:grpSpPr>
            <p:sp>
              <p:nvSpPr>
                <p:cNvPr id="345" name="Rectangle 52"/>
                <p:cNvSpPr/>
                <p:nvPr/>
              </p:nvSpPr>
              <p:spPr>
                <a:xfrm>
                  <a:off x="3093840" y="6066000"/>
                  <a:ext cx="868320" cy="639720"/>
                </a:xfrm>
                <a:prstGeom prst="rect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%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Rectangle 243"/>
                <p:cNvSpPr/>
                <p:nvPr/>
              </p:nvSpPr>
              <p:spPr>
                <a:xfrm>
                  <a:off x="3025800" y="6066000"/>
                  <a:ext cx="100476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47" name="Group 250"/>
            <p:cNvGrpSpPr/>
            <p:nvPr/>
          </p:nvGrpSpPr>
          <p:grpSpPr>
            <a:xfrm>
              <a:off x="4030560" y="6066000"/>
              <a:ext cx="1004760" cy="639720"/>
              <a:chOff x="4030560" y="6066000"/>
              <a:chExt cx="1004760" cy="639720"/>
            </a:xfrm>
          </p:grpSpPr>
          <p:sp>
            <p:nvSpPr>
              <p:cNvPr id="348" name="Rectangle 249"/>
              <p:cNvSpPr/>
              <p:nvPr/>
            </p:nvSpPr>
            <p:spPr>
              <a:xfrm>
                <a:off x="4030560" y="6066000"/>
                <a:ext cx="1004760" cy="63972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49" name="Group 248"/>
              <p:cNvGrpSpPr/>
              <p:nvPr/>
            </p:nvGrpSpPr>
            <p:grpSpPr>
              <a:xfrm>
                <a:off x="4030560" y="6066000"/>
                <a:ext cx="1004760" cy="639720"/>
                <a:chOff x="4030560" y="6066000"/>
                <a:chExt cx="1004760" cy="639720"/>
              </a:xfrm>
            </p:grpSpPr>
            <p:sp>
              <p:nvSpPr>
                <p:cNvPr id="350" name="Rectangle 53"/>
                <p:cNvSpPr/>
                <p:nvPr/>
              </p:nvSpPr>
              <p:spPr>
                <a:xfrm>
                  <a:off x="4098960" y="6066000"/>
                  <a:ext cx="868320" cy="639720"/>
                </a:xfrm>
                <a:prstGeom prst="rect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3%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1" name="Rectangle 247"/>
                <p:cNvSpPr/>
                <p:nvPr/>
              </p:nvSpPr>
              <p:spPr>
                <a:xfrm>
                  <a:off x="4030560" y="6066000"/>
                  <a:ext cx="100476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52" name="Group 254"/>
            <p:cNvGrpSpPr/>
            <p:nvPr/>
          </p:nvGrpSpPr>
          <p:grpSpPr>
            <a:xfrm>
              <a:off x="5035320" y="6066000"/>
              <a:ext cx="1005120" cy="639720"/>
              <a:chOff x="5035320" y="6066000"/>
              <a:chExt cx="1005120" cy="639720"/>
            </a:xfrm>
          </p:grpSpPr>
          <p:sp>
            <p:nvSpPr>
              <p:cNvPr id="353" name="Rectangle 253"/>
              <p:cNvSpPr/>
              <p:nvPr/>
            </p:nvSpPr>
            <p:spPr>
              <a:xfrm>
                <a:off x="5035320" y="6066000"/>
                <a:ext cx="1005120" cy="63972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54" name="Group 252"/>
              <p:cNvGrpSpPr/>
              <p:nvPr/>
            </p:nvGrpSpPr>
            <p:grpSpPr>
              <a:xfrm>
                <a:off x="5035320" y="6066000"/>
                <a:ext cx="1005120" cy="639720"/>
                <a:chOff x="5035320" y="6066000"/>
                <a:chExt cx="1005120" cy="639720"/>
              </a:xfrm>
            </p:grpSpPr>
            <p:sp>
              <p:nvSpPr>
                <p:cNvPr id="355" name="Rectangle 54"/>
                <p:cNvSpPr/>
                <p:nvPr/>
              </p:nvSpPr>
              <p:spPr>
                <a:xfrm>
                  <a:off x="5103720" y="6066000"/>
                  <a:ext cx="868320" cy="639720"/>
                </a:xfrm>
                <a:prstGeom prst="rect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%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6" name="Rectangle 251"/>
                <p:cNvSpPr/>
                <p:nvPr/>
              </p:nvSpPr>
              <p:spPr>
                <a:xfrm>
                  <a:off x="5035320" y="6066000"/>
                  <a:ext cx="100512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57" name="Group 258"/>
            <p:cNvGrpSpPr/>
            <p:nvPr/>
          </p:nvGrpSpPr>
          <p:grpSpPr>
            <a:xfrm>
              <a:off x="6040440" y="6066000"/>
              <a:ext cx="1004760" cy="639720"/>
              <a:chOff x="6040440" y="6066000"/>
              <a:chExt cx="1004760" cy="639720"/>
            </a:xfrm>
          </p:grpSpPr>
          <p:sp>
            <p:nvSpPr>
              <p:cNvPr id="358" name="Rectangle 257"/>
              <p:cNvSpPr/>
              <p:nvPr/>
            </p:nvSpPr>
            <p:spPr>
              <a:xfrm>
                <a:off x="6040440" y="6066000"/>
                <a:ext cx="1004760" cy="63972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59" name="Group 256"/>
              <p:cNvGrpSpPr/>
              <p:nvPr/>
            </p:nvGrpSpPr>
            <p:grpSpPr>
              <a:xfrm>
                <a:off x="6040440" y="6066000"/>
                <a:ext cx="1004760" cy="639720"/>
                <a:chOff x="6040440" y="6066000"/>
                <a:chExt cx="1004760" cy="639720"/>
              </a:xfrm>
            </p:grpSpPr>
            <p:sp>
              <p:nvSpPr>
                <p:cNvPr id="360" name="Rectangle 55"/>
                <p:cNvSpPr/>
                <p:nvPr/>
              </p:nvSpPr>
              <p:spPr>
                <a:xfrm>
                  <a:off x="6108480" y="6066000"/>
                  <a:ext cx="868680" cy="639720"/>
                </a:xfrm>
                <a:prstGeom prst="rect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%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Rectangle 255"/>
                <p:cNvSpPr/>
                <p:nvPr/>
              </p:nvSpPr>
              <p:spPr>
                <a:xfrm>
                  <a:off x="6040440" y="6066000"/>
                  <a:ext cx="100476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62" name="Group 262"/>
            <p:cNvGrpSpPr/>
            <p:nvPr/>
          </p:nvGrpSpPr>
          <p:grpSpPr>
            <a:xfrm>
              <a:off x="7045200" y="6066000"/>
              <a:ext cx="1004760" cy="639720"/>
              <a:chOff x="7045200" y="6066000"/>
              <a:chExt cx="1004760" cy="639720"/>
            </a:xfrm>
          </p:grpSpPr>
          <p:sp>
            <p:nvSpPr>
              <p:cNvPr id="363" name="Rectangle 261"/>
              <p:cNvSpPr/>
              <p:nvPr/>
            </p:nvSpPr>
            <p:spPr>
              <a:xfrm>
                <a:off x="7045200" y="6066000"/>
                <a:ext cx="1004760" cy="63972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64" name="Group 260"/>
              <p:cNvGrpSpPr/>
              <p:nvPr/>
            </p:nvGrpSpPr>
            <p:grpSpPr>
              <a:xfrm>
                <a:off x="7045200" y="6066000"/>
                <a:ext cx="1004760" cy="639720"/>
                <a:chOff x="7045200" y="6066000"/>
                <a:chExt cx="1004760" cy="639720"/>
              </a:xfrm>
            </p:grpSpPr>
            <p:sp>
              <p:nvSpPr>
                <p:cNvPr id="365" name="Rectangle 56"/>
                <p:cNvSpPr/>
                <p:nvPr/>
              </p:nvSpPr>
              <p:spPr>
                <a:xfrm>
                  <a:off x="7113600" y="6066000"/>
                  <a:ext cx="868320" cy="639720"/>
                </a:xfrm>
                <a:prstGeom prst="rect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%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6" name="Rectangle 259"/>
                <p:cNvSpPr/>
                <p:nvPr/>
              </p:nvSpPr>
              <p:spPr>
                <a:xfrm>
                  <a:off x="7045200" y="6066000"/>
                  <a:ext cx="100476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Black"/>
              </a:rPr>
              <a:t>Operands (Dynamic Percentage of Operand References)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17884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Mainly local scalar variab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Optimisation should concentrate on accessing local variab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69" name="Group 92"/>
          <p:cNvGrpSpPr/>
          <p:nvPr/>
        </p:nvGrpSpPr>
        <p:grpSpPr>
          <a:xfrm>
            <a:off x="1828800" y="3048120"/>
            <a:ext cx="5095800" cy="2568600"/>
            <a:chOff x="1828800" y="3048120"/>
            <a:chExt cx="5095800" cy="2568600"/>
          </a:xfrm>
        </p:grpSpPr>
        <p:grpSp>
          <p:nvGrpSpPr>
            <p:cNvPr id="370" name="Group 90"/>
            <p:cNvGrpSpPr/>
            <p:nvPr/>
          </p:nvGrpSpPr>
          <p:grpSpPr>
            <a:xfrm>
              <a:off x="1833480" y="3052800"/>
              <a:ext cx="5086440" cy="2558880"/>
              <a:chOff x="1833480" y="3052800"/>
              <a:chExt cx="5086440" cy="2558880"/>
            </a:xfrm>
          </p:grpSpPr>
          <p:grpSp>
            <p:nvGrpSpPr>
              <p:cNvPr id="371" name="Group 29"/>
              <p:cNvGrpSpPr/>
              <p:nvPr/>
            </p:nvGrpSpPr>
            <p:grpSpPr>
              <a:xfrm>
                <a:off x="1833480" y="3052800"/>
                <a:ext cx="1657440" cy="639720"/>
                <a:chOff x="1833480" y="3052800"/>
                <a:chExt cx="1657440" cy="639720"/>
              </a:xfrm>
            </p:grpSpPr>
            <p:sp>
              <p:nvSpPr>
                <p:cNvPr id="372" name="Rectangle 12"/>
                <p:cNvSpPr/>
                <p:nvPr/>
              </p:nvSpPr>
              <p:spPr>
                <a:xfrm>
                  <a:off x="1901880" y="3052800"/>
                  <a:ext cx="152064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3" name="Rectangle 28"/>
                <p:cNvSpPr/>
                <p:nvPr/>
              </p:nvSpPr>
              <p:spPr>
                <a:xfrm>
                  <a:off x="1833480" y="3052800"/>
                  <a:ext cx="16574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4" name="Group 33"/>
              <p:cNvGrpSpPr/>
              <p:nvPr/>
            </p:nvGrpSpPr>
            <p:grpSpPr>
              <a:xfrm>
                <a:off x="3490920" y="3052800"/>
                <a:ext cx="1143000" cy="639720"/>
                <a:chOff x="3490920" y="3052800"/>
                <a:chExt cx="1143000" cy="639720"/>
              </a:xfrm>
            </p:grpSpPr>
            <p:sp>
              <p:nvSpPr>
                <p:cNvPr id="375" name="Rectangle 32"/>
                <p:cNvSpPr/>
                <p:nvPr/>
              </p:nvSpPr>
              <p:spPr>
                <a:xfrm>
                  <a:off x="3490920" y="3052800"/>
                  <a:ext cx="1143000" cy="639720"/>
                </a:xfrm>
                <a:prstGeom prst="rect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76" name="Group 31"/>
                <p:cNvGrpSpPr/>
                <p:nvPr/>
              </p:nvGrpSpPr>
              <p:grpSpPr>
                <a:xfrm>
                  <a:off x="3490920" y="3052800"/>
                  <a:ext cx="1143000" cy="639720"/>
                  <a:chOff x="3490920" y="3052800"/>
                  <a:chExt cx="1143000" cy="639720"/>
                </a:xfrm>
              </p:grpSpPr>
              <p:sp>
                <p:nvSpPr>
                  <p:cNvPr id="377" name="Rectangle 13"/>
                  <p:cNvSpPr/>
                  <p:nvPr/>
                </p:nvSpPr>
                <p:spPr>
                  <a:xfrm>
                    <a:off x="3558960" y="3052800"/>
                    <a:ext cx="1006560" cy="639720"/>
                  </a:xfrm>
                  <a:prstGeom prst="rect">
                    <a:avLst/>
                  </a:prstGeom>
                  <a:solidFill>
                    <a:srgbClr val="cccc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Pascal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8" name="Rectangle 30"/>
                  <p:cNvSpPr/>
                  <p:nvPr/>
                </p:nvSpPr>
                <p:spPr>
                  <a:xfrm>
                    <a:off x="3490920" y="3052800"/>
                    <a:ext cx="1143000" cy="6397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79" name="Group 37"/>
              <p:cNvGrpSpPr/>
              <p:nvPr/>
            </p:nvGrpSpPr>
            <p:grpSpPr>
              <a:xfrm>
                <a:off x="4633920" y="3052800"/>
                <a:ext cx="1143000" cy="639720"/>
                <a:chOff x="4633920" y="3052800"/>
                <a:chExt cx="1143000" cy="639720"/>
              </a:xfrm>
            </p:grpSpPr>
            <p:sp>
              <p:nvSpPr>
                <p:cNvPr id="380" name="Rectangle 36"/>
                <p:cNvSpPr/>
                <p:nvPr/>
              </p:nvSpPr>
              <p:spPr>
                <a:xfrm>
                  <a:off x="4633920" y="3052800"/>
                  <a:ext cx="1143000" cy="639720"/>
                </a:xfrm>
                <a:prstGeom prst="rect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81" name="Group 35"/>
                <p:cNvGrpSpPr/>
                <p:nvPr/>
              </p:nvGrpSpPr>
              <p:grpSpPr>
                <a:xfrm>
                  <a:off x="4633920" y="3052800"/>
                  <a:ext cx="1143000" cy="639720"/>
                  <a:chOff x="4633920" y="3052800"/>
                  <a:chExt cx="1143000" cy="639720"/>
                </a:xfrm>
              </p:grpSpPr>
              <p:sp>
                <p:nvSpPr>
                  <p:cNvPr id="382" name="Rectangle 14"/>
                  <p:cNvSpPr/>
                  <p:nvPr/>
                </p:nvSpPr>
                <p:spPr>
                  <a:xfrm>
                    <a:off x="4701960" y="3052800"/>
                    <a:ext cx="1006560" cy="639720"/>
                  </a:xfrm>
                  <a:prstGeom prst="rect">
                    <a:avLst/>
                  </a:prstGeom>
                  <a:solidFill>
                    <a:srgbClr val="cccc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3" name="Rectangle 34"/>
                  <p:cNvSpPr/>
                  <p:nvPr/>
                </p:nvSpPr>
                <p:spPr>
                  <a:xfrm>
                    <a:off x="4633920" y="3052800"/>
                    <a:ext cx="1143000" cy="6397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84" name="Group 41"/>
              <p:cNvGrpSpPr/>
              <p:nvPr/>
            </p:nvGrpSpPr>
            <p:grpSpPr>
              <a:xfrm>
                <a:off x="5776920" y="3052800"/>
                <a:ext cx="1143000" cy="639720"/>
                <a:chOff x="5776920" y="3052800"/>
                <a:chExt cx="1143000" cy="639720"/>
              </a:xfrm>
            </p:grpSpPr>
            <p:sp>
              <p:nvSpPr>
                <p:cNvPr id="385" name="Rectangle 40"/>
                <p:cNvSpPr/>
                <p:nvPr/>
              </p:nvSpPr>
              <p:spPr>
                <a:xfrm>
                  <a:off x="5776920" y="3052800"/>
                  <a:ext cx="1143000" cy="639720"/>
                </a:xfrm>
                <a:prstGeom prst="rect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86" name="Group 39"/>
                <p:cNvGrpSpPr/>
                <p:nvPr/>
              </p:nvGrpSpPr>
              <p:grpSpPr>
                <a:xfrm>
                  <a:off x="5776920" y="3052800"/>
                  <a:ext cx="1143000" cy="639720"/>
                  <a:chOff x="5776920" y="3052800"/>
                  <a:chExt cx="1143000" cy="639720"/>
                </a:xfrm>
              </p:grpSpPr>
              <p:sp>
                <p:nvSpPr>
                  <p:cNvPr id="387" name="Rectangle 15"/>
                  <p:cNvSpPr/>
                  <p:nvPr/>
                </p:nvSpPr>
                <p:spPr>
                  <a:xfrm>
                    <a:off x="5844960" y="3052800"/>
                    <a:ext cx="1006560" cy="639720"/>
                  </a:xfrm>
                  <a:prstGeom prst="rect">
                    <a:avLst/>
                  </a:prstGeom>
                  <a:solidFill>
                    <a:srgbClr val="cccc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Average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8" name="Rectangle 38"/>
                  <p:cNvSpPr/>
                  <p:nvPr/>
                </p:nvSpPr>
                <p:spPr>
                  <a:xfrm>
                    <a:off x="5776920" y="3052800"/>
                    <a:ext cx="1143000" cy="6397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89" name="Group 45"/>
              <p:cNvGrpSpPr/>
              <p:nvPr/>
            </p:nvGrpSpPr>
            <p:grpSpPr>
              <a:xfrm>
                <a:off x="1833480" y="3692520"/>
                <a:ext cx="1657440" cy="639720"/>
                <a:chOff x="1833480" y="3692520"/>
                <a:chExt cx="1657440" cy="639720"/>
              </a:xfrm>
            </p:grpSpPr>
            <p:sp>
              <p:nvSpPr>
                <p:cNvPr id="390" name="Rectangle 44"/>
                <p:cNvSpPr/>
                <p:nvPr/>
              </p:nvSpPr>
              <p:spPr>
                <a:xfrm>
                  <a:off x="1833480" y="3692520"/>
                  <a:ext cx="1657440" cy="639720"/>
                </a:xfrm>
                <a:prstGeom prst="rect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91" name="Group 43"/>
                <p:cNvGrpSpPr/>
                <p:nvPr/>
              </p:nvGrpSpPr>
              <p:grpSpPr>
                <a:xfrm>
                  <a:off x="1833480" y="3692520"/>
                  <a:ext cx="1657440" cy="639720"/>
                  <a:chOff x="1833480" y="3692520"/>
                  <a:chExt cx="1657440" cy="639720"/>
                </a:xfrm>
              </p:grpSpPr>
              <p:sp>
                <p:nvSpPr>
                  <p:cNvPr id="392" name="Rectangle 16"/>
                  <p:cNvSpPr/>
                  <p:nvPr/>
                </p:nvSpPr>
                <p:spPr>
                  <a:xfrm>
                    <a:off x="1901880" y="3692520"/>
                    <a:ext cx="1520640" cy="639720"/>
                  </a:xfrm>
                  <a:prstGeom prst="rect">
                    <a:avLst/>
                  </a:prstGeom>
                  <a:solidFill>
                    <a:srgbClr val="cccc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Integer Constant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3" name="Rectangle 42"/>
                  <p:cNvSpPr/>
                  <p:nvPr/>
                </p:nvSpPr>
                <p:spPr>
                  <a:xfrm>
                    <a:off x="1833480" y="3692520"/>
                    <a:ext cx="1657440" cy="6397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94" name="Group 49"/>
              <p:cNvGrpSpPr/>
              <p:nvPr/>
            </p:nvGrpSpPr>
            <p:grpSpPr>
              <a:xfrm>
                <a:off x="3490920" y="3692520"/>
                <a:ext cx="1143000" cy="639720"/>
                <a:chOff x="3490920" y="3692520"/>
                <a:chExt cx="1143000" cy="639720"/>
              </a:xfrm>
            </p:grpSpPr>
            <p:sp>
              <p:nvSpPr>
                <p:cNvPr id="395" name="Rectangle 48"/>
                <p:cNvSpPr/>
                <p:nvPr/>
              </p:nvSpPr>
              <p:spPr>
                <a:xfrm>
                  <a:off x="3490920" y="3692520"/>
                  <a:ext cx="1143000" cy="639720"/>
                </a:xfrm>
                <a:prstGeom prst="rect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96" name="Group 47"/>
                <p:cNvGrpSpPr/>
                <p:nvPr/>
              </p:nvGrpSpPr>
              <p:grpSpPr>
                <a:xfrm>
                  <a:off x="3490920" y="3692520"/>
                  <a:ext cx="1143000" cy="639720"/>
                  <a:chOff x="3490920" y="3692520"/>
                  <a:chExt cx="1143000" cy="639720"/>
                </a:xfrm>
              </p:grpSpPr>
              <p:sp>
                <p:nvSpPr>
                  <p:cNvPr id="397" name="Rectangle 17"/>
                  <p:cNvSpPr/>
                  <p:nvPr/>
                </p:nvSpPr>
                <p:spPr>
                  <a:xfrm>
                    <a:off x="3558960" y="3692520"/>
                    <a:ext cx="1006560" cy="639720"/>
                  </a:xfrm>
                  <a:prstGeom prst="rect">
                    <a:avLst/>
                  </a:prstGeom>
                  <a:solidFill>
                    <a:srgbClr val="cccc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16%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8" name="Rectangle 46"/>
                  <p:cNvSpPr/>
                  <p:nvPr/>
                </p:nvSpPr>
                <p:spPr>
                  <a:xfrm>
                    <a:off x="3490920" y="3692520"/>
                    <a:ext cx="1143000" cy="6397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99" name="Group 53"/>
              <p:cNvGrpSpPr/>
              <p:nvPr/>
            </p:nvGrpSpPr>
            <p:grpSpPr>
              <a:xfrm>
                <a:off x="4633920" y="3692520"/>
                <a:ext cx="1143000" cy="639720"/>
                <a:chOff x="4633920" y="3692520"/>
                <a:chExt cx="1143000" cy="639720"/>
              </a:xfrm>
            </p:grpSpPr>
            <p:sp>
              <p:nvSpPr>
                <p:cNvPr id="400" name="Rectangle 52"/>
                <p:cNvSpPr/>
                <p:nvPr/>
              </p:nvSpPr>
              <p:spPr>
                <a:xfrm>
                  <a:off x="4633920" y="3692520"/>
                  <a:ext cx="1143000" cy="639720"/>
                </a:xfrm>
                <a:prstGeom prst="rect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01" name="Group 51"/>
                <p:cNvGrpSpPr/>
                <p:nvPr/>
              </p:nvGrpSpPr>
              <p:grpSpPr>
                <a:xfrm>
                  <a:off x="4633920" y="3692520"/>
                  <a:ext cx="1143000" cy="639720"/>
                  <a:chOff x="4633920" y="3692520"/>
                  <a:chExt cx="1143000" cy="639720"/>
                </a:xfrm>
              </p:grpSpPr>
              <p:sp>
                <p:nvSpPr>
                  <p:cNvPr id="402" name="Rectangle 18"/>
                  <p:cNvSpPr/>
                  <p:nvPr/>
                </p:nvSpPr>
                <p:spPr>
                  <a:xfrm>
                    <a:off x="4701960" y="3692520"/>
                    <a:ext cx="1006560" cy="639720"/>
                  </a:xfrm>
                  <a:prstGeom prst="rect">
                    <a:avLst/>
                  </a:prstGeom>
                  <a:solidFill>
                    <a:srgbClr val="cccc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23%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3" name="Rectangle 50"/>
                  <p:cNvSpPr/>
                  <p:nvPr/>
                </p:nvSpPr>
                <p:spPr>
                  <a:xfrm>
                    <a:off x="4633920" y="3692520"/>
                    <a:ext cx="1143000" cy="6397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04" name="Group 57"/>
              <p:cNvGrpSpPr/>
              <p:nvPr/>
            </p:nvGrpSpPr>
            <p:grpSpPr>
              <a:xfrm>
                <a:off x="5776920" y="3692520"/>
                <a:ext cx="1143000" cy="639720"/>
                <a:chOff x="5776920" y="3692520"/>
                <a:chExt cx="1143000" cy="639720"/>
              </a:xfrm>
            </p:grpSpPr>
            <p:sp>
              <p:nvSpPr>
                <p:cNvPr id="405" name="Rectangle 56"/>
                <p:cNvSpPr/>
                <p:nvPr/>
              </p:nvSpPr>
              <p:spPr>
                <a:xfrm>
                  <a:off x="5776920" y="3692520"/>
                  <a:ext cx="1143000" cy="639720"/>
                </a:xfrm>
                <a:prstGeom prst="rect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06" name="Group 55"/>
                <p:cNvGrpSpPr/>
                <p:nvPr/>
              </p:nvGrpSpPr>
              <p:grpSpPr>
                <a:xfrm>
                  <a:off x="5776920" y="3692520"/>
                  <a:ext cx="1143000" cy="639720"/>
                  <a:chOff x="5776920" y="3692520"/>
                  <a:chExt cx="1143000" cy="639720"/>
                </a:xfrm>
              </p:grpSpPr>
              <p:sp>
                <p:nvSpPr>
                  <p:cNvPr id="407" name="Rectangle 19"/>
                  <p:cNvSpPr/>
                  <p:nvPr/>
                </p:nvSpPr>
                <p:spPr>
                  <a:xfrm>
                    <a:off x="5844960" y="3692520"/>
                    <a:ext cx="1006560" cy="639720"/>
                  </a:xfrm>
                  <a:prstGeom prst="rect">
                    <a:avLst/>
                  </a:prstGeom>
                  <a:solidFill>
                    <a:srgbClr val="cccc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20%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8" name="Rectangle 54"/>
                  <p:cNvSpPr/>
                  <p:nvPr/>
                </p:nvSpPr>
                <p:spPr>
                  <a:xfrm>
                    <a:off x="5776920" y="3692520"/>
                    <a:ext cx="1143000" cy="6397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09" name="Group 61"/>
              <p:cNvGrpSpPr/>
              <p:nvPr/>
            </p:nvGrpSpPr>
            <p:grpSpPr>
              <a:xfrm>
                <a:off x="1833480" y="4332240"/>
                <a:ext cx="1657440" cy="639720"/>
                <a:chOff x="1833480" y="4332240"/>
                <a:chExt cx="1657440" cy="639720"/>
              </a:xfrm>
            </p:grpSpPr>
            <p:sp>
              <p:nvSpPr>
                <p:cNvPr id="410" name="Rectangle 60"/>
                <p:cNvSpPr/>
                <p:nvPr/>
              </p:nvSpPr>
              <p:spPr>
                <a:xfrm>
                  <a:off x="1833480" y="4332240"/>
                  <a:ext cx="1657440" cy="639720"/>
                </a:xfrm>
                <a:prstGeom prst="rect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11" name="Group 59"/>
                <p:cNvGrpSpPr/>
                <p:nvPr/>
              </p:nvGrpSpPr>
              <p:grpSpPr>
                <a:xfrm>
                  <a:off x="1833480" y="4332240"/>
                  <a:ext cx="1657440" cy="639720"/>
                  <a:chOff x="1833480" y="4332240"/>
                  <a:chExt cx="1657440" cy="639720"/>
                </a:xfrm>
              </p:grpSpPr>
              <p:sp>
                <p:nvSpPr>
                  <p:cNvPr id="412" name="Rectangle 20"/>
                  <p:cNvSpPr/>
                  <p:nvPr/>
                </p:nvSpPr>
                <p:spPr>
                  <a:xfrm>
                    <a:off x="1901880" y="4332240"/>
                    <a:ext cx="1520640" cy="639720"/>
                  </a:xfrm>
                  <a:prstGeom prst="rect">
                    <a:avLst/>
                  </a:prstGeom>
                  <a:solidFill>
                    <a:srgbClr val="cccc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Scalar Variable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(80% Local Variables)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3" name="Rectangle 58"/>
                  <p:cNvSpPr/>
                  <p:nvPr/>
                </p:nvSpPr>
                <p:spPr>
                  <a:xfrm>
                    <a:off x="1833480" y="4332240"/>
                    <a:ext cx="1657440" cy="6397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14" name="Group 65"/>
              <p:cNvGrpSpPr/>
              <p:nvPr/>
            </p:nvGrpSpPr>
            <p:grpSpPr>
              <a:xfrm>
                <a:off x="3490920" y="4332240"/>
                <a:ext cx="1143000" cy="639720"/>
                <a:chOff x="3490920" y="4332240"/>
                <a:chExt cx="1143000" cy="639720"/>
              </a:xfrm>
            </p:grpSpPr>
            <p:sp>
              <p:nvSpPr>
                <p:cNvPr id="415" name="Rectangle 64"/>
                <p:cNvSpPr/>
                <p:nvPr/>
              </p:nvSpPr>
              <p:spPr>
                <a:xfrm>
                  <a:off x="3490920" y="4332240"/>
                  <a:ext cx="1143000" cy="639720"/>
                </a:xfrm>
                <a:prstGeom prst="rect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16" name="Group 63"/>
                <p:cNvGrpSpPr/>
                <p:nvPr/>
              </p:nvGrpSpPr>
              <p:grpSpPr>
                <a:xfrm>
                  <a:off x="3490920" y="4332240"/>
                  <a:ext cx="1143000" cy="639720"/>
                  <a:chOff x="3490920" y="4332240"/>
                  <a:chExt cx="1143000" cy="639720"/>
                </a:xfrm>
              </p:grpSpPr>
              <p:sp>
                <p:nvSpPr>
                  <p:cNvPr id="417" name="Rectangle 21"/>
                  <p:cNvSpPr/>
                  <p:nvPr/>
                </p:nvSpPr>
                <p:spPr>
                  <a:xfrm>
                    <a:off x="3558960" y="4332240"/>
                    <a:ext cx="1006560" cy="639720"/>
                  </a:xfrm>
                  <a:prstGeom prst="rect">
                    <a:avLst/>
                  </a:prstGeom>
                  <a:solidFill>
                    <a:srgbClr val="cccc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58%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8" name="Rectangle 62"/>
                  <p:cNvSpPr/>
                  <p:nvPr/>
                </p:nvSpPr>
                <p:spPr>
                  <a:xfrm>
                    <a:off x="3490920" y="4332240"/>
                    <a:ext cx="1143000" cy="6397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19" name="Group 69"/>
              <p:cNvGrpSpPr/>
              <p:nvPr/>
            </p:nvGrpSpPr>
            <p:grpSpPr>
              <a:xfrm>
                <a:off x="4633920" y="4332240"/>
                <a:ext cx="1143000" cy="639720"/>
                <a:chOff x="4633920" y="4332240"/>
                <a:chExt cx="1143000" cy="639720"/>
              </a:xfrm>
            </p:grpSpPr>
            <p:sp>
              <p:nvSpPr>
                <p:cNvPr id="420" name="Rectangle 68"/>
                <p:cNvSpPr/>
                <p:nvPr/>
              </p:nvSpPr>
              <p:spPr>
                <a:xfrm>
                  <a:off x="4633920" y="4332240"/>
                  <a:ext cx="1143000" cy="639720"/>
                </a:xfrm>
                <a:prstGeom prst="rect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21" name="Group 67"/>
                <p:cNvGrpSpPr/>
                <p:nvPr/>
              </p:nvGrpSpPr>
              <p:grpSpPr>
                <a:xfrm>
                  <a:off x="4633920" y="4332240"/>
                  <a:ext cx="1143000" cy="639720"/>
                  <a:chOff x="4633920" y="4332240"/>
                  <a:chExt cx="1143000" cy="639720"/>
                </a:xfrm>
              </p:grpSpPr>
              <p:sp>
                <p:nvSpPr>
                  <p:cNvPr id="422" name="Rectangle 22"/>
                  <p:cNvSpPr/>
                  <p:nvPr/>
                </p:nvSpPr>
                <p:spPr>
                  <a:xfrm>
                    <a:off x="4701960" y="4332240"/>
                    <a:ext cx="1006560" cy="639720"/>
                  </a:xfrm>
                  <a:prstGeom prst="rect">
                    <a:avLst/>
                  </a:prstGeom>
                  <a:solidFill>
                    <a:srgbClr val="cccc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53%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3" name="Rectangle 66"/>
                  <p:cNvSpPr/>
                  <p:nvPr/>
                </p:nvSpPr>
                <p:spPr>
                  <a:xfrm>
                    <a:off x="4633920" y="4332240"/>
                    <a:ext cx="1143000" cy="6397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24" name="Group 73"/>
              <p:cNvGrpSpPr/>
              <p:nvPr/>
            </p:nvGrpSpPr>
            <p:grpSpPr>
              <a:xfrm>
                <a:off x="5776920" y="4332240"/>
                <a:ext cx="1143000" cy="639720"/>
                <a:chOff x="5776920" y="4332240"/>
                <a:chExt cx="1143000" cy="639720"/>
              </a:xfrm>
            </p:grpSpPr>
            <p:sp>
              <p:nvSpPr>
                <p:cNvPr id="425" name="Rectangle 72"/>
                <p:cNvSpPr/>
                <p:nvPr/>
              </p:nvSpPr>
              <p:spPr>
                <a:xfrm>
                  <a:off x="5776920" y="4332240"/>
                  <a:ext cx="1143000" cy="639720"/>
                </a:xfrm>
                <a:prstGeom prst="rect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26" name="Group 71"/>
                <p:cNvGrpSpPr/>
                <p:nvPr/>
              </p:nvGrpSpPr>
              <p:grpSpPr>
                <a:xfrm>
                  <a:off x="5776920" y="4332240"/>
                  <a:ext cx="1143000" cy="639720"/>
                  <a:chOff x="5776920" y="4332240"/>
                  <a:chExt cx="1143000" cy="639720"/>
                </a:xfrm>
              </p:grpSpPr>
              <p:sp>
                <p:nvSpPr>
                  <p:cNvPr id="427" name="Rectangle 23"/>
                  <p:cNvSpPr/>
                  <p:nvPr/>
                </p:nvSpPr>
                <p:spPr>
                  <a:xfrm>
                    <a:off x="5844960" y="4332240"/>
                    <a:ext cx="1006560" cy="639720"/>
                  </a:xfrm>
                  <a:prstGeom prst="rect">
                    <a:avLst/>
                  </a:prstGeom>
                  <a:solidFill>
                    <a:srgbClr val="cccc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55%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8" name="Rectangle 70"/>
                  <p:cNvSpPr/>
                  <p:nvPr/>
                </p:nvSpPr>
                <p:spPr>
                  <a:xfrm>
                    <a:off x="5776920" y="4332240"/>
                    <a:ext cx="1143000" cy="6397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29" name="Group 77"/>
              <p:cNvGrpSpPr/>
              <p:nvPr/>
            </p:nvGrpSpPr>
            <p:grpSpPr>
              <a:xfrm>
                <a:off x="1833480" y="4971960"/>
                <a:ext cx="1657440" cy="639720"/>
                <a:chOff x="1833480" y="4971960"/>
                <a:chExt cx="1657440" cy="639720"/>
              </a:xfrm>
            </p:grpSpPr>
            <p:sp>
              <p:nvSpPr>
                <p:cNvPr id="430" name="Rectangle 76"/>
                <p:cNvSpPr/>
                <p:nvPr/>
              </p:nvSpPr>
              <p:spPr>
                <a:xfrm>
                  <a:off x="1833480" y="4971960"/>
                  <a:ext cx="1657440" cy="639720"/>
                </a:xfrm>
                <a:prstGeom prst="rect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31" name="Group 75"/>
                <p:cNvGrpSpPr/>
                <p:nvPr/>
              </p:nvGrpSpPr>
              <p:grpSpPr>
                <a:xfrm>
                  <a:off x="1833480" y="4971960"/>
                  <a:ext cx="1657440" cy="639720"/>
                  <a:chOff x="1833480" y="4971960"/>
                  <a:chExt cx="1657440" cy="639720"/>
                </a:xfrm>
              </p:grpSpPr>
              <p:sp>
                <p:nvSpPr>
                  <p:cNvPr id="432" name="Rectangle 24"/>
                  <p:cNvSpPr/>
                  <p:nvPr/>
                </p:nvSpPr>
                <p:spPr>
                  <a:xfrm>
                    <a:off x="1901880" y="4971960"/>
                    <a:ext cx="1520640" cy="639720"/>
                  </a:xfrm>
                  <a:prstGeom prst="rect">
                    <a:avLst/>
                  </a:prstGeom>
                  <a:solidFill>
                    <a:srgbClr val="cccc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Array/Structure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(+ a reference to an index or a pointer @ item)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3" name="Rectangle 74"/>
                  <p:cNvSpPr/>
                  <p:nvPr/>
                </p:nvSpPr>
                <p:spPr>
                  <a:xfrm>
                    <a:off x="1833480" y="4971960"/>
                    <a:ext cx="1657440" cy="6397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34" name="Group 81"/>
              <p:cNvGrpSpPr/>
              <p:nvPr/>
            </p:nvGrpSpPr>
            <p:grpSpPr>
              <a:xfrm>
                <a:off x="3490920" y="4971960"/>
                <a:ext cx="1143000" cy="639720"/>
                <a:chOff x="3490920" y="4971960"/>
                <a:chExt cx="1143000" cy="639720"/>
              </a:xfrm>
            </p:grpSpPr>
            <p:sp>
              <p:nvSpPr>
                <p:cNvPr id="435" name="Rectangle 80"/>
                <p:cNvSpPr/>
                <p:nvPr/>
              </p:nvSpPr>
              <p:spPr>
                <a:xfrm>
                  <a:off x="3490920" y="4971960"/>
                  <a:ext cx="1143000" cy="639720"/>
                </a:xfrm>
                <a:prstGeom prst="rect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36" name="Group 79"/>
                <p:cNvGrpSpPr/>
                <p:nvPr/>
              </p:nvGrpSpPr>
              <p:grpSpPr>
                <a:xfrm>
                  <a:off x="3490920" y="4971960"/>
                  <a:ext cx="1143000" cy="639720"/>
                  <a:chOff x="3490920" y="4971960"/>
                  <a:chExt cx="1143000" cy="639720"/>
                </a:xfrm>
              </p:grpSpPr>
              <p:sp>
                <p:nvSpPr>
                  <p:cNvPr id="437" name="Rectangle 25"/>
                  <p:cNvSpPr/>
                  <p:nvPr/>
                </p:nvSpPr>
                <p:spPr>
                  <a:xfrm>
                    <a:off x="3558960" y="4971960"/>
                    <a:ext cx="1006560" cy="639720"/>
                  </a:xfrm>
                  <a:prstGeom prst="rect">
                    <a:avLst/>
                  </a:prstGeom>
                  <a:solidFill>
                    <a:srgbClr val="cccc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26%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8" name="Rectangle 78"/>
                  <p:cNvSpPr/>
                  <p:nvPr/>
                </p:nvSpPr>
                <p:spPr>
                  <a:xfrm>
                    <a:off x="3490920" y="4971960"/>
                    <a:ext cx="1143000" cy="6397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39" name="Group 85"/>
              <p:cNvGrpSpPr/>
              <p:nvPr/>
            </p:nvGrpSpPr>
            <p:grpSpPr>
              <a:xfrm>
                <a:off x="4633920" y="4971960"/>
                <a:ext cx="1143000" cy="639720"/>
                <a:chOff x="4633920" y="4971960"/>
                <a:chExt cx="1143000" cy="639720"/>
              </a:xfrm>
            </p:grpSpPr>
            <p:sp>
              <p:nvSpPr>
                <p:cNvPr id="440" name="Rectangle 84"/>
                <p:cNvSpPr/>
                <p:nvPr/>
              </p:nvSpPr>
              <p:spPr>
                <a:xfrm>
                  <a:off x="4633920" y="4971960"/>
                  <a:ext cx="1143000" cy="639720"/>
                </a:xfrm>
                <a:prstGeom prst="rect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41" name="Group 83"/>
                <p:cNvGrpSpPr/>
                <p:nvPr/>
              </p:nvGrpSpPr>
              <p:grpSpPr>
                <a:xfrm>
                  <a:off x="4633920" y="4971960"/>
                  <a:ext cx="1143000" cy="639720"/>
                  <a:chOff x="4633920" y="4971960"/>
                  <a:chExt cx="1143000" cy="639720"/>
                </a:xfrm>
              </p:grpSpPr>
              <p:sp>
                <p:nvSpPr>
                  <p:cNvPr id="442" name="Rectangle 26"/>
                  <p:cNvSpPr/>
                  <p:nvPr/>
                </p:nvSpPr>
                <p:spPr>
                  <a:xfrm>
                    <a:off x="4701960" y="4971960"/>
                    <a:ext cx="1006560" cy="639720"/>
                  </a:xfrm>
                  <a:prstGeom prst="rect">
                    <a:avLst/>
                  </a:prstGeom>
                  <a:solidFill>
                    <a:srgbClr val="cccc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24%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3" name="Rectangle 82"/>
                  <p:cNvSpPr/>
                  <p:nvPr/>
                </p:nvSpPr>
                <p:spPr>
                  <a:xfrm>
                    <a:off x="4633920" y="4971960"/>
                    <a:ext cx="1143000" cy="6397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44" name="Group 89"/>
              <p:cNvGrpSpPr/>
              <p:nvPr/>
            </p:nvGrpSpPr>
            <p:grpSpPr>
              <a:xfrm>
                <a:off x="5776920" y="4971960"/>
                <a:ext cx="1143000" cy="639720"/>
                <a:chOff x="5776920" y="4971960"/>
                <a:chExt cx="1143000" cy="639720"/>
              </a:xfrm>
            </p:grpSpPr>
            <p:sp>
              <p:nvSpPr>
                <p:cNvPr id="445" name="Rectangle 88"/>
                <p:cNvSpPr/>
                <p:nvPr/>
              </p:nvSpPr>
              <p:spPr>
                <a:xfrm>
                  <a:off x="5776920" y="4971960"/>
                  <a:ext cx="1143000" cy="639720"/>
                </a:xfrm>
                <a:prstGeom prst="rect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46" name="Group 87"/>
                <p:cNvGrpSpPr/>
                <p:nvPr/>
              </p:nvGrpSpPr>
              <p:grpSpPr>
                <a:xfrm>
                  <a:off x="5776920" y="4971960"/>
                  <a:ext cx="1143000" cy="639720"/>
                  <a:chOff x="5776920" y="4971960"/>
                  <a:chExt cx="1143000" cy="639720"/>
                </a:xfrm>
              </p:grpSpPr>
              <p:sp>
                <p:nvSpPr>
                  <p:cNvPr id="447" name="Rectangle 27"/>
                  <p:cNvSpPr/>
                  <p:nvPr/>
                </p:nvSpPr>
                <p:spPr>
                  <a:xfrm>
                    <a:off x="5844960" y="4971960"/>
                    <a:ext cx="1006560" cy="639720"/>
                  </a:xfrm>
                  <a:prstGeom prst="rect">
                    <a:avLst/>
                  </a:prstGeom>
                  <a:solidFill>
                    <a:srgbClr val="cccc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25%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8" name="Rectangle 86"/>
                  <p:cNvSpPr/>
                  <p:nvPr/>
                </p:nvSpPr>
                <p:spPr>
                  <a:xfrm>
                    <a:off x="5776920" y="4971960"/>
                    <a:ext cx="1143000" cy="6397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449" name="Rectangle 91"/>
            <p:cNvSpPr/>
            <p:nvPr/>
          </p:nvSpPr>
          <p:spPr>
            <a:xfrm>
              <a:off x="1828800" y="3048120"/>
              <a:ext cx="5095800" cy="256860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Black"/>
              </a:rPr>
              <a:t>Procedure Cal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17884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Very time consum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Depends on number of parameters pass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Depends on level of nest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Most programs do not do a lot of calls followed by lots of retur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Most variables are loca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(c.f. locality of reference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Black"/>
              </a:rPr>
              <a:t>Implica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17884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Best support is given by optimising most used  and most time consuming featu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Large number of registe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Operand referenc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Careful design of pipelin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Branch prediction etc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implified (reduced) instruction se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Black"/>
              </a:rPr>
              <a:t>Large Register Fil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17884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oftware solu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Require compiler to allocate regist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llocate based on most used variables in a given tim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Requires sophisticated program analysi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Hardware solu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Have more regist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Thus more variables will be in regist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Black"/>
              </a:rPr>
              <a:t>Registers for Local Variable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17884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tore local scalar variables in registe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Reduces memory acce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Every procedure (function) call changes local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Parameters must be pass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Results must be return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Variables from calling programs must be restor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Black"/>
              </a:rPr>
              <a:t>Register Window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17884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Only few paramete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Limited range of depth of cal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Use multiple small sets of registe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Calls switch to a different set of registe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Returns switch back to a previously used set of registe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Black"/>
              </a:rPr>
              <a:t>Register Windows cont.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17884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hree areas within a register se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Parameter regist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Local regist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Temporary regist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Temporary registers from one set overlap parameter registers from the nex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This allows parameter passing without moving dat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Black"/>
              </a:rPr>
              <a:t>Overlapping Register Window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463" name="Picture 19" descr=""/>
          <p:cNvPicPr/>
          <p:nvPr/>
        </p:nvPicPr>
        <p:blipFill>
          <a:blip r:embed="rId1"/>
          <a:srcRect l="0" t="0" r="0" b="29737"/>
          <a:stretch/>
        </p:blipFill>
        <p:spPr>
          <a:xfrm>
            <a:off x="457200" y="2286000"/>
            <a:ext cx="807732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Black"/>
              </a:rPr>
              <a:t>Circular Buffer diagram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465" name="Picture 28" descr=""/>
          <p:cNvPicPr/>
          <p:nvPr/>
        </p:nvPicPr>
        <p:blipFill>
          <a:blip r:embed="rId1"/>
          <a:srcRect l="0" t="0" r="0" b="8599"/>
          <a:stretch/>
        </p:blipFill>
        <p:spPr>
          <a:xfrm>
            <a:off x="1905120" y="1643040"/>
            <a:ext cx="512424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Black"/>
              </a:rPr>
              <a:t>Major Advances in Computers(1)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17884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he family concep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IBM System/360  1964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EC PDP-8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eparates architecture from implement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Microprogrammed control uni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Idea by Wilkes 195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Produced by IBM S/360 1964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Cache mem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IBM S/360 model 85  1969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Black"/>
              </a:rPr>
              <a:t>Operation of Circular Buffer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17884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When a call is made, a current window pointer is moved to show the currently active register window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f all windows are in use, an interrupt is generated and the oldest window (the one furthest back in the call nesting) is saved to mem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 saved window pointer indicates where the next saved windows should restore t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Black"/>
              </a:rPr>
              <a:t>Global Variable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17884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llocated by the compiler to mem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Inefficient for frequently accessed variab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Have a set of registers for global variab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Black"/>
              </a:rPr>
              <a:t>Registers v Cach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71" name="Group 66"/>
          <p:cNvGrpSpPr/>
          <p:nvPr/>
        </p:nvGrpSpPr>
        <p:grpSpPr>
          <a:xfrm>
            <a:off x="1295280" y="1219320"/>
            <a:ext cx="7086240" cy="5333400"/>
            <a:chOff x="1295280" y="1219320"/>
            <a:chExt cx="7086240" cy="5333400"/>
          </a:xfrm>
        </p:grpSpPr>
        <p:grpSp>
          <p:nvGrpSpPr>
            <p:cNvPr id="472" name="Group 64"/>
            <p:cNvGrpSpPr/>
            <p:nvPr/>
          </p:nvGrpSpPr>
          <p:grpSpPr>
            <a:xfrm>
              <a:off x="1301400" y="1225440"/>
              <a:ext cx="7072200" cy="5320440"/>
              <a:chOff x="1301400" y="1225440"/>
              <a:chExt cx="7072200" cy="5320440"/>
            </a:xfrm>
          </p:grpSpPr>
          <p:grpSp>
            <p:nvGrpSpPr>
              <p:cNvPr id="473" name="Group 19"/>
              <p:cNvGrpSpPr/>
              <p:nvPr/>
            </p:nvGrpSpPr>
            <p:grpSpPr>
              <a:xfrm>
                <a:off x="1301400" y="1225440"/>
                <a:ext cx="3535920" cy="846000"/>
                <a:chOff x="1301400" y="1225440"/>
                <a:chExt cx="3535920" cy="846000"/>
              </a:xfrm>
            </p:grpSpPr>
            <p:sp>
              <p:nvSpPr>
                <p:cNvPr id="474" name="Rectangle 18"/>
                <p:cNvSpPr/>
                <p:nvPr/>
              </p:nvSpPr>
              <p:spPr>
                <a:xfrm>
                  <a:off x="1301400" y="1225440"/>
                  <a:ext cx="3535920" cy="846000"/>
                </a:xfrm>
                <a:prstGeom prst="rect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75" name="Group 17"/>
                <p:cNvGrpSpPr/>
                <p:nvPr/>
              </p:nvGrpSpPr>
              <p:grpSpPr>
                <a:xfrm>
                  <a:off x="1301400" y="1225440"/>
                  <a:ext cx="3535560" cy="845640"/>
                  <a:chOff x="1301400" y="1225440"/>
                  <a:chExt cx="3535560" cy="845640"/>
                </a:xfrm>
              </p:grpSpPr>
              <p:sp>
                <p:nvSpPr>
                  <p:cNvPr id="476" name="Rectangle 4"/>
                  <p:cNvSpPr/>
                  <p:nvPr/>
                </p:nvSpPr>
                <p:spPr>
                  <a:xfrm>
                    <a:off x="1392480" y="1225440"/>
                    <a:ext cx="3353760" cy="845640"/>
                  </a:xfrm>
                  <a:prstGeom prst="rect">
                    <a:avLst/>
                  </a:prstGeom>
                  <a:solidFill>
                    <a:srgbClr val="cccc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Large Register File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7" name="Rectangle 16"/>
                  <p:cNvSpPr/>
                  <p:nvPr/>
                </p:nvSpPr>
                <p:spPr>
                  <a:xfrm>
                    <a:off x="1301400" y="1225440"/>
                    <a:ext cx="3535560" cy="8456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78" name="Group 23"/>
              <p:cNvGrpSpPr/>
              <p:nvPr/>
            </p:nvGrpSpPr>
            <p:grpSpPr>
              <a:xfrm>
                <a:off x="4837680" y="1225440"/>
                <a:ext cx="3535920" cy="846000"/>
                <a:chOff x="4837680" y="1225440"/>
                <a:chExt cx="3535920" cy="846000"/>
              </a:xfrm>
            </p:grpSpPr>
            <p:sp>
              <p:nvSpPr>
                <p:cNvPr id="479" name="Rectangle 22"/>
                <p:cNvSpPr/>
                <p:nvPr/>
              </p:nvSpPr>
              <p:spPr>
                <a:xfrm>
                  <a:off x="4837680" y="1225440"/>
                  <a:ext cx="3535920" cy="846000"/>
                </a:xfrm>
                <a:prstGeom prst="rect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80" name="Group 21"/>
                <p:cNvGrpSpPr/>
                <p:nvPr/>
              </p:nvGrpSpPr>
              <p:grpSpPr>
                <a:xfrm>
                  <a:off x="4837680" y="1225440"/>
                  <a:ext cx="3535560" cy="845640"/>
                  <a:chOff x="4837680" y="1225440"/>
                  <a:chExt cx="3535560" cy="845640"/>
                </a:xfrm>
              </p:grpSpPr>
              <p:sp>
                <p:nvSpPr>
                  <p:cNvPr id="481" name="Rectangle 5"/>
                  <p:cNvSpPr/>
                  <p:nvPr/>
                </p:nvSpPr>
                <p:spPr>
                  <a:xfrm>
                    <a:off x="4928760" y="1225440"/>
                    <a:ext cx="3353760" cy="845640"/>
                  </a:xfrm>
                  <a:prstGeom prst="rect">
                    <a:avLst/>
                  </a:prstGeom>
                  <a:solidFill>
                    <a:srgbClr val="cccc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Cache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2" name="Rectangle 20"/>
                  <p:cNvSpPr/>
                  <p:nvPr/>
                </p:nvSpPr>
                <p:spPr>
                  <a:xfrm>
                    <a:off x="4837680" y="1225440"/>
                    <a:ext cx="3535560" cy="8456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83" name="Group 27"/>
              <p:cNvGrpSpPr/>
              <p:nvPr/>
            </p:nvGrpSpPr>
            <p:grpSpPr>
              <a:xfrm>
                <a:off x="1301400" y="2071800"/>
                <a:ext cx="3535920" cy="846000"/>
                <a:chOff x="1301400" y="2071800"/>
                <a:chExt cx="3535920" cy="846000"/>
              </a:xfrm>
            </p:grpSpPr>
            <p:sp>
              <p:nvSpPr>
                <p:cNvPr id="484" name="Rectangle 26"/>
                <p:cNvSpPr/>
                <p:nvPr/>
              </p:nvSpPr>
              <p:spPr>
                <a:xfrm>
                  <a:off x="1301400" y="2071800"/>
                  <a:ext cx="3535920" cy="846000"/>
                </a:xfrm>
                <a:prstGeom prst="rect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85" name="Group 25"/>
                <p:cNvGrpSpPr/>
                <p:nvPr/>
              </p:nvGrpSpPr>
              <p:grpSpPr>
                <a:xfrm>
                  <a:off x="1301400" y="2071800"/>
                  <a:ext cx="3535560" cy="845640"/>
                  <a:chOff x="1301400" y="2071800"/>
                  <a:chExt cx="3535560" cy="845640"/>
                </a:xfrm>
              </p:grpSpPr>
              <p:sp>
                <p:nvSpPr>
                  <p:cNvPr id="486" name="Rectangle 6"/>
                  <p:cNvSpPr/>
                  <p:nvPr/>
                </p:nvSpPr>
                <p:spPr>
                  <a:xfrm>
                    <a:off x="1392480" y="2071800"/>
                    <a:ext cx="3353760" cy="845640"/>
                  </a:xfrm>
                  <a:prstGeom prst="rect">
                    <a:avLst/>
                  </a:prstGeom>
                  <a:solidFill>
                    <a:srgbClr val="cccc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All local scalars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7" name="Rectangle 24"/>
                  <p:cNvSpPr/>
                  <p:nvPr/>
                </p:nvSpPr>
                <p:spPr>
                  <a:xfrm>
                    <a:off x="1301400" y="2071800"/>
                    <a:ext cx="3535560" cy="8456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88" name="Group 31"/>
              <p:cNvGrpSpPr/>
              <p:nvPr/>
            </p:nvGrpSpPr>
            <p:grpSpPr>
              <a:xfrm>
                <a:off x="4837680" y="2071800"/>
                <a:ext cx="3535920" cy="846000"/>
                <a:chOff x="4837680" y="2071800"/>
                <a:chExt cx="3535920" cy="846000"/>
              </a:xfrm>
            </p:grpSpPr>
            <p:sp>
              <p:nvSpPr>
                <p:cNvPr id="489" name="Rectangle 30"/>
                <p:cNvSpPr/>
                <p:nvPr/>
              </p:nvSpPr>
              <p:spPr>
                <a:xfrm>
                  <a:off x="4837680" y="2071800"/>
                  <a:ext cx="3535920" cy="846000"/>
                </a:xfrm>
                <a:prstGeom prst="rect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90" name="Group 29"/>
                <p:cNvGrpSpPr/>
                <p:nvPr/>
              </p:nvGrpSpPr>
              <p:grpSpPr>
                <a:xfrm>
                  <a:off x="4837680" y="2071800"/>
                  <a:ext cx="3535560" cy="845640"/>
                  <a:chOff x="4837680" y="2071800"/>
                  <a:chExt cx="3535560" cy="845640"/>
                </a:xfrm>
              </p:grpSpPr>
              <p:sp>
                <p:nvSpPr>
                  <p:cNvPr id="491" name="Rectangle 7"/>
                  <p:cNvSpPr/>
                  <p:nvPr/>
                </p:nvSpPr>
                <p:spPr>
                  <a:xfrm>
                    <a:off x="4928760" y="2071800"/>
                    <a:ext cx="3353760" cy="845640"/>
                  </a:xfrm>
                  <a:prstGeom prst="rect">
                    <a:avLst/>
                  </a:prstGeom>
                  <a:solidFill>
                    <a:srgbClr val="cccc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Recently-used local scalars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2" name="Rectangle 28"/>
                  <p:cNvSpPr/>
                  <p:nvPr/>
                </p:nvSpPr>
                <p:spPr>
                  <a:xfrm>
                    <a:off x="4837680" y="2071800"/>
                    <a:ext cx="3535560" cy="8456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93" name="Group 35"/>
              <p:cNvGrpSpPr/>
              <p:nvPr/>
            </p:nvGrpSpPr>
            <p:grpSpPr>
              <a:xfrm>
                <a:off x="1301400" y="2918160"/>
                <a:ext cx="3535920" cy="846000"/>
                <a:chOff x="1301400" y="2918160"/>
                <a:chExt cx="3535920" cy="846000"/>
              </a:xfrm>
            </p:grpSpPr>
            <p:sp>
              <p:nvSpPr>
                <p:cNvPr id="494" name="Rectangle 34"/>
                <p:cNvSpPr/>
                <p:nvPr/>
              </p:nvSpPr>
              <p:spPr>
                <a:xfrm>
                  <a:off x="1301400" y="2918160"/>
                  <a:ext cx="3535920" cy="846000"/>
                </a:xfrm>
                <a:prstGeom prst="rect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95" name="Group 33"/>
                <p:cNvGrpSpPr/>
                <p:nvPr/>
              </p:nvGrpSpPr>
              <p:grpSpPr>
                <a:xfrm>
                  <a:off x="1301400" y="2918160"/>
                  <a:ext cx="3535560" cy="845640"/>
                  <a:chOff x="1301400" y="2918160"/>
                  <a:chExt cx="3535560" cy="845640"/>
                </a:xfrm>
              </p:grpSpPr>
              <p:sp>
                <p:nvSpPr>
                  <p:cNvPr id="496" name="Rectangle 8"/>
                  <p:cNvSpPr/>
                  <p:nvPr/>
                </p:nvSpPr>
                <p:spPr>
                  <a:xfrm>
                    <a:off x="1392480" y="2918160"/>
                    <a:ext cx="3353760" cy="845640"/>
                  </a:xfrm>
                  <a:prstGeom prst="rect">
                    <a:avLst/>
                  </a:prstGeom>
                  <a:solidFill>
                    <a:srgbClr val="cccc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Individual variables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7" name="Rectangle 32"/>
                  <p:cNvSpPr/>
                  <p:nvPr/>
                </p:nvSpPr>
                <p:spPr>
                  <a:xfrm>
                    <a:off x="1301400" y="2918160"/>
                    <a:ext cx="3535560" cy="8456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98" name="Group 39"/>
              <p:cNvGrpSpPr/>
              <p:nvPr/>
            </p:nvGrpSpPr>
            <p:grpSpPr>
              <a:xfrm>
                <a:off x="4837680" y="2918160"/>
                <a:ext cx="3535920" cy="846000"/>
                <a:chOff x="4837680" y="2918160"/>
                <a:chExt cx="3535920" cy="846000"/>
              </a:xfrm>
            </p:grpSpPr>
            <p:sp>
              <p:nvSpPr>
                <p:cNvPr id="499" name="Rectangle 38"/>
                <p:cNvSpPr/>
                <p:nvPr/>
              </p:nvSpPr>
              <p:spPr>
                <a:xfrm>
                  <a:off x="4837680" y="2918160"/>
                  <a:ext cx="3535920" cy="846000"/>
                </a:xfrm>
                <a:prstGeom prst="rect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00" name="Group 37"/>
                <p:cNvGrpSpPr/>
                <p:nvPr/>
              </p:nvGrpSpPr>
              <p:grpSpPr>
                <a:xfrm>
                  <a:off x="4837680" y="2918160"/>
                  <a:ext cx="3535560" cy="845640"/>
                  <a:chOff x="4837680" y="2918160"/>
                  <a:chExt cx="3535560" cy="845640"/>
                </a:xfrm>
              </p:grpSpPr>
              <p:sp>
                <p:nvSpPr>
                  <p:cNvPr id="501" name="Rectangle 9"/>
                  <p:cNvSpPr/>
                  <p:nvPr/>
                </p:nvSpPr>
                <p:spPr>
                  <a:xfrm>
                    <a:off x="4928760" y="2918160"/>
                    <a:ext cx="3353760" cy="845640"/>
                  </a:xfrm>
                  <a:prstGeom prst="rect">
                    <a:avLst/>
                  </a:prstGeom>
                  <a:solidFill>
                    <a:srgbClr val="cccc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Blocks of memory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2" name="Rectangle 36"/>
                  <p:cNvSpPr/>
                  <p:nvPr/>
                </p:nvSpPr>
                <p:spPr>
                  <a:xfrm>
                    <a:off x="4837680" y="2918160"/>
                    <a:ext cx="3535560" cy="8456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03" name="Group 43"/>
              <p:cNvGrpSpPr/>
              <p:nvPr/>
            </p:nvGrpSpPr>
            <p:grpSpPr>
              <a:xfrm>
                <a:off x="1301400" y="3764880"/>
                <a:ext cx="3535920" cy="846000"/>
                <a:chOff x="1301400" y="3764880"/>
                <a:chExt cx="3535920" cy="846000"/>
              </a:xfrm>
            </p:grpSpPr>
            <p:sp>
              <p:nvSpPr>
                <p:cNvPr id="504" name="Rectangle 42"/>
                <p:cNvSpPr/>
                <p:nvPr/>
              </p:nvSpPr>
              <p:spPr>
                <a:xfrm>
                  <a:off x="1301400" y="3764880"/>
                  <a:ext cx="3535920" cy="846000"/>
                </a:xfrm>
                <a:prstGeom prst="rect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05" name="Group 41"/>
                <p:cNvGrpSpPr/>
                <p:nvPr/>
              </p:nvGrpSpPr>
              <p:grpSpPr>
                <a:xfrm>
                  <a:off x="1301400" y="3764880"/>
                  <a:ext cx="3535560" cy="845640"/>
                  <a:chOff x="1301400" y="3764880"/>
                  <a:chExt cx="3535560" cy="845640"/>
                </a:xfrm>
              </p:grpSpPr>
              <p:sp>
                <p:nvSpPr>
                  <p:cNvPr id="506" name="Rectangle 10"/>
                  <p:cNvSpPr/>
                  <p:nvPr/>
                </p:nvSpPr>
                <p:spPr>
                  <a:xfrm>
                    <a:off x="1392480" y="3764880"/>
                    <a:ext cx="3353760" cy="845640"/>
                  </a:xfrm>
                  <a:prstGeom prst="rect">
                    <a:avLst/>
                  </a:prstGeom>
                  <a:solidFill>
                    <a:srgbClr val="cccc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Compiler-assigned global variables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7" name="Rectangle 40"/>
                  <p:cNvSpPr/>
                  <p:nvPr/>
                </p:nvSpPr>
                <p:spPr>
                  <a:xfrm>
                    <a:off x="1301400" y="3764880"/>
                    <a:ext cx="3535560" cy="8456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08" name="Group 47"/>
              <p:cNvGrpSpPr/>
              <p:nvPr/>
            </p:nvGrpSpPr>
            <p:grpSpPr>
              <a:xfrm>
                <a:off x="4837680" y="3764880"/>
                <a:ext cx="3535920" cy="846000"/>
                <a:chOff x="4837680" y="3764880"/>
                <a:chExt cx="3535920" cy="846000"/>
              </a:xfrm>
            </p:grpSpPr>
            <p:sp>
              <p:nvSpPr>
                <p:cNvPr id="509" name="Rectangle 46"/>
                <p:cNvSpPr/>
                <p:nvPr/>
              </p:nvSpPr>
              <p:spPr>
                <a:xfrm>
                  <a:off x="4837680" y="3764880"/>
                  <a:ext cx="3535920" cy="846000"/>
                </a:xfrm>
                <a:prstGeom prst="rect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10" name="Group 45"/>
                <p:cNvGrpSpPr/>
                <p:nvPr/>
              </p:nvGrpSpPr>
              <p:grpSpPr>
                <a:xfrm>
                  <a:off x="4837680" y="3764880"/>
                  <a:ext cx="3535560" cy="845640"/>
                  <a:chOff x="4837680" y="3764880"/>
                  <a:chExt cx="3535560" cy="845640"/>
                </a:xfrm>
              </p:grpSpPr>
              <p:sp>
                <p:nvSpPr>
                  <p:cNvPr id="511" name="Rectangle 11"/>
                  <p:cNvSpPr/>
                  <p:nvPr/>
                </p:nvSpPr>
                <p:spPr>
                  <a:xfrm>
                    <a:off x="4928760" y="3764880"/>
                    <a:ext cx="3353760" cy="845640"/>
                  </a:xfrm>
                  <a:prstGeom prst="rect">
                    <a:avLst/>
                  </a:prstGeom>
                  <a:solidFill>
                    <a:srgbClr val="cccc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Recently-used global variables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2" name="Rectangle 44"/>
                  <p:cNvSpPr/>
                  <p:nvPr/>
                </p:nvSpPr>
                <p:spPr>
                  <a:xfrm>
                    <a:off x="4837680" y="3764880"/>
                    <a:ext cx="3535560" cy="8456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13" name="Group 51"/>
              <p:cNvGrpSpPr/>
              <p:nvPr/>
            </p:nvGrpSpPr>
            <p:grpSpPr>
              <a:xfrm>
                <a:off x="1301400" y="4611240"/>
                <a:ext cx="3535920" cy="1087920"/>
                <a:chOff x="1301400" y="4611240"/>
                <a:chExt cx="3535920" cy="1087920"/>
              </a:xfrm>
            </p:grpSpPr>
            <p:sp>
              <p:nvSpPr>
                <p:cNvPr id="514" name="Rectangle 50"/>
                <p:cNvSpPr/>
                <p:nvPr/>
              </p:nvSpPr>
              <p:spPr>
                <a:xfrm>
                  <a:off x="1301400" y="4611240"/>
                  <a:ext cx="3535920" cy="1087920"/>
                </a:xfrm>
                <a:prstGeom prst="rect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15" name="Group 49"/>
                <p:cNvGrpSpPr/>
                <p:nvPr/>
              </p:nvGrpSpPr>
              <p:grpSpPr>
                <a:xfrm>
                  <a:off x="1301400" y="4611240"/>
                  <a:ext cx="3535560" cy="1087560"/>
                  <a:chOff x="1301400" y="4611240"/>
                  <a:chExt cx="3535560" cy="1087560"/>
                </a:xfrm>
              </p:grpSpPr>
              <p:sp>
                <p:nvSpPr>
                  <p:cNvPr id="516" name="Rectangle 12"/>
                  <p:cNvSpPr/>
                  <p:nvPr/>
                </p:nvSpPr>
                <p:spPr>
                  <a:xfrm>
                    <a:off x="1392480" y="4611240"/>
                    <a:ext cx="3353760" cy="1087560"/>
                  </a:xfrm>
                  <a:prstGeom prst="rect">
                    <a:avLst/>
                  </a:prstGeom>
                  <a:solidFill>
                    <a:srgbClr val="cccc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Save/Restore based on procedure nesting depth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7" name="Rectangle 48"/>
                  <p:cNvSpPr/>
                  <p:nvPr/>
                </p:nvSpPr>
                <p:spPr>
                  <a:xfrm>
                    <a:off x="1301400" y="4611240"/>
                    <a:ext cx="3535560" cy="10875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18" name="Group 55"/>
              <p:cNvGrpSpPr/>
              <p:nvPr/>
            </p:nvGrpSpPr>
            <p:grpSpPr>
              <a:xfrm>
                <a:off x="4837680" y="4611240"/>
                <a:ext cx="3535920" cy="1087920"/>
                <a:chOff x="4837680" y="4611240"/>
                <a:chExt cx="3535920" cy="1087920"/>
              </a:xfrm>
            </p:grpSpPr>
            <p:sp>
              <p:nvSpPr>
                <p:cNvPr id="519" name="Rectangle 54"/>
                <p:cNvSpPr/>
                <p:nvPr/>
              </p:nvSpPr>
              <p:spPr>
                <a:xfrm>
                  <a:off x="4837680" y="4611240"/>
                  <a:ext cx="3535920" cy="1087920"/>
                </a:xfrm>
                <a:prstGeom prst="rect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20" name="Group 53"/>
                <p:cNvGrpSpPr/>
                <p:nvPr/>
              </p:nvGrpSpPr>
              <p:grpSpPr>
                <a:xfrm>
                  <a:off x="4837680" y="4611240"/>
                  <a:ext cx="3535560" cy="1087560"/>
                  <a:chOff x="4837680" y="4611240"/>
                  <a:chExt cx="3535560" cy="1087560"/>
                </a:xfrm>
              </p:grpSpPr>
              <p:sp>
                <p:nvSpPr>
                  <p:cNvPr id="521" name="Rectangle 13"/>
                  <p:cNvSpPr/>
                  <p:nvPr/>
                </p:nvSpPr>
                <p:spPr>
                  <a:xfrm>
                    <a:off x="4928760" y="4611240"/>
                    <a:ext cx="3353760" cy="1087560"/>
                  </a:xfrm>
                  <a:prstGeom prst="rect">
                    <a:avLst/>
                  </a:prstGeom>
                  <a:solidFill>
                    <a:srgbClr val="cccc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Save/Restore based on cache replacement algorithm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2" name="Rectangle 52"/>
                  <p:cNvSpPr/>
                  <p:nvPr/>
                </p:nvSpPr>
                <p:spPr>
                  <a:xfrm>
                    <a:off x="4837680" y="4611240"/>
                    <a:ext cx="3535560" cy="10875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23" name="Group 59"/>
              <p:cNvGrpSpPr/>
              <p:nvPr/>
            </p:nvGrpSpPr>
            <p:grpSpPr>
              <a:xfrm>
                <a:off x="1301400" y="5699880"/>
                <a:ext cx="3535920" cy="846000"/>
                <a:chOff x="1301400" y="5699880"/>
                <a:chExt cx="3535920" cy="846000"/>
              </a:xfrm>
            </p:grpSpPr>
            <p:sp>
              <p:nvSpPr>
                <p:cNvPr id="524" name="Rectangle 58"/>
                <p:cNvSpPr/>
                <p:nvPr/>
              </p:nvSpPr>
              <p:spPr>
                <a:xfrm>
                  <a:off x="1301400" y="5699880"/>
                  <a:ext cx="3535920" cy="846000"/>
                </a:xfrm>
                <a:prstGeom prst="rect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25" name="Group 57"/>
                <p:cNvGrpSpPr/>
                <p:nvPr/>
              </p:nvGrpSpPr>
              <p:grpSpPr>
                <a:xfrm>
                  <a:off x="1301400" y="5699880"/>
                  <a:ext cx="3535560" cy="845640"/>
                  <a:chOff x="1301400" y="5699880"/>
                  <a:chExt cx="3535560" cy="845640"/>
                </a:xfrm>
              </p:grpSpPr>
              <p:sp>
                <p:nvSpPr>
                  <p:cNvPr id="526" name="Rectangle 14"/>
                  <p:cNvSpPr/>
                  <p:nvPr/>
                </p:nvSpPr>
                <p:spPr>
                  <a:xfrm>
                    <a:off x="1392480" y="5699880"/>
                    <a:ext cx="3353760" cy="845640"/>
                  </a:xfrm>
                  <a:prstGeom prst="rect">
                    <a:avLst/>
                  </a:prstGeom>
                  <a:solidFill>
                    <a:srgbClr val="cccc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Register addressing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7" name="Rectangle 56"/>
                  <p:cNvSpPr/>
                  <p:nvPr/>
                </p:nvSpPr>
                <p:spPr>
                  <a:xfrm>
                    <a:off x="1301400" y="5699880"/>
                    <a:ext cx="3535560" cy="8456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528" name="Group 63"/>
              <p:cNvGrpSpPr/>
              <p:nvPr/>
            </p:nvGrpSpPr>
            <p:grpSpPr>
              <a:xfrm>
                <a:off x="4837680" y="5699880"/>
                <a:ext cx="3535920" cy="846000"/>
                <a:chOff x="4837680" y="5699880"/>
                <a:chExt cx="3535920" cy="846000"/>
              </a:xfrm>
            </p:grpSpPr>
            <p:sp>
              <p:nvSpPr>
                <p:cNvPr id="529" name="Rectangle 62"/>
                <p:cNvSpPr/>
                <p:nvPr/>
              </p:nvSpPr>
              <p:spPr>
                <a:xfrm>
                  <a:off x="4837680" y="5699880"/>
                  <a:ext cx="3535920" cy="846000"/>
                </a:xfrm>
                <a:prstGeom prst="rect">
                  <a:avLst/>
                </a:prstGeom>
                <a:solidFill>
                  <a:srgbClr val="cc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30" name="Group 61"/>
                <p:cNvGrpSpPr/>
                <p:nvPr/>
              </p:nvGrpSpPr>
              <p:grpSpPr>
                <a:xfrm>
                  <a:off x="4837680" y="5699880"/>
                  <a:ext cx="3535560" cy="845640"/>
                  <a:chOff x="4837680" y="5699880"/>
                  <a:chExt cx="3535560" cy="845640"/>
                </a:xfrm>
              </p:grpSpPr>
              <p:sp>
                <p:nvSpPr>
                  <p:cNvPr id="531" name="Rectangle 15"/>
                  <p:cNvSpPr/>
                  <p:nvPr/>
                </p:nvSpPr>
                <p:spPr>
                  <a:xfrm>
                    <a:off x="4928760" y="5699880"/>
                    <a:ext cx="3353760" cy="845640"/>
                  </a:xfrm>
                  <a:prstGeom prst="rect">
                    <a:avLst/>
                  </a:prstGeom>
                  <a:solidFill>
                    <a:srgbClr val="cccc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Memory addressing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2" name="Rectangle 60"/>
                  <p:cNvSpPr/>
                  <p:nvPr/>
                </p:nvSpPr>
                <p:spPr>
                  <a:xfrm>
                    <a:off x="4837680" y="5699880"/>
                    <a:ext cx="3535560" cy="8456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533" name="Rectangle 65"/>
            <p:cNvSpPr/>
            <p:nvPr/>
          </p:nvSpPr>
          <p:spPr>
            <a:xfrm>
              <a:off x="1295280" y="1219320"/>
              <a:ext cx="7086240" cy="533340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Black"/>
              </a:rPr>
              <a:t>Referencing a Scalar -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 Black"/>
              </a:rPr>
              <a:t>Window Based Register Fil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35" name="Picture 4" descr=""/>
          <p:cNvPicPr/>
          <p:nvPr/>
        </p:nvPicPr>
        <p:blipFill>
          <a:blip r:embed="rId1"/>
          <a:srcRect l="0" t="0" r="0" b="74966"/>
          <a:stretch/>
        </p:blipFill>
        <p:spPr>
          <a:xfrm>
            <a:off x="609480" y="1828800"/>
            <a:ext cx="800100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Black"/>
              </a:rPr>
              <a:t>Referencing a Scalar - Cach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37" name="Picture 4" descr=""/>
          <p:cNvPicPr/>
          <p:nvPr/>
        </p:nvPicPr>
        <p:blipFill>
          <a:blip r:embed="rId1"/>
          <a:srcRect l="0" t="36924" r="0" b="14339"/>
          <a:stretch/>
        </p:blipFill>
        <p:spPr>
          <a:xfrm>
            <a:off x="1523880" y="1219320"/>
            <a:ext cx="5867640" cy="50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Black"/>
              </a:rPr>
              <a:t>Compiler Based Register Optimiza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17884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ssume small number of registers (16-32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Optimizing use is up to compil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HLL programs have no explicit references to registe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808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usually - think about C - register i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ssign symbolic or virtual register to each candidate variabl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Map (unlimited) symbolic registers to real registe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ymbolic registers that do not overlap can share real registe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f you run out of real registers some variables use mem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Black"/>
              </a:rPr>
              <a:t>Graph Color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17884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Given a graph of nodes and edg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ssign a color to each nod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djacent nodes have different colo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Use minimum number of colo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Nodes are symbolic registe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wo registers that are live in the same program fragment are joined by an edg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ry to color the graph with </a:t>
            </a:r>
            <a:r>
              <a:rPr b="0" i="1" lang="en-GB" sz="28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colors, where </a:t>
            </a:r>
            <a:r>
              <a:rPr b="0" i="1" lang="en-GB" sz="28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is the number of real registe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Nodes that can not be colored are placed in mem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Black"/>
              </a:rPr>
              <a:t>Graph Coloring Approach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43" name="Picture 4" descr=""/>
          <p:cNvPicPr/>
          <p:nvPr/>
        </p:nvPicPr>
        <p:blipFill>
          <a:blip r:embed="rId1"/>
          <a:srcRect l="0" t="0" r="0" b="19913"/>
          <a:stretch/>
        </p:blipFill>
        <p:spPr>
          <a:xfrm>
            <a:off x="533520" y="1752480"/>
            <a:ext cx="7924680" cy="416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Black"/>
              </a:rPr>
              <a:t>Why CISC (1)?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17884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Compiler simplification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isputed…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omplex machine instructions harder to exploi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Optimization more difficul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maller programs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Program takes up less memory but…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emory is now cheap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ay not occupy less bits, just look shorter in symbolic for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ore instructions require longer op-cod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egister references require fewer bi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Black"/>
              </a:rPr>
              <a:t>Why CISC (2)?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17884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Faster programs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Bias towards use of simpler instruc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ore complex control uni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icroprogram control store larg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thus simple instructions take longer to execu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t is far from clear that CISC is the appropriate solu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Black"/>
              </a:rPr>
              <a:t>Major Advances in Computers(2)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17884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olid State RA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(See memory note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Microprocesso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Intel 4004  197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Pipelin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Introduces parallelism into fetch execute cyc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Multiple processo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Black"/>
              </a:rPr>
              <a:t>RISC Characteristic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17884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One instruction per cyc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Register to register opera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Few, simple addressing mod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Few, simple instruction forma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Hardwired design (no microcode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Fixed instruction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More compile time/effor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Black"/>
              </a:rPr>
              <a:t>RISC v CISC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17884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Not clear cu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Many designs borrow from both philosoph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e.g. PowerPC and Pentium I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Black"/>
              </a:rPr>
              <a:t>RISC Pipelin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17884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Most instructions are register to regist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wo phases of execu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I: Instruction fetc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E: Execu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LU operation with register input and outpu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For load and sto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I: Instruction fetc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E: Execu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alculate memory addres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: Memor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egister to memory or memory to register oper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Black"/>
              </a:rPr>
              <a:t>Effects of Pipelin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55" name="Picture 5" descr=""/>
          <p:cNvPicPr/>
          <p:nvPr/>
        </p:nvPicPr>
        <p:blipFill>
          <a:blip r:embed="rId1"/>
          <a:srcRect l="0" t="0" r="0" b="15735"/>
          <a:stretch/>
        </p:blipFill>
        <p:spPr>
          <a:xfrm>
            <a:off x="228600" y="1368360"/>
            <a:ext cx="8686800" cy="49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Black"/>
              </a:rPr>
              <a:t>Optimization of Pipelin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17884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elayed branc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808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oes not take effect until after execution of following instr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808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is following instruction is the delay slo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elayed Loa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808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egister to be target is locked by process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808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ontinue execution of instruction stream until register requir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808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dle until load comple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808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e-arranging instructions can allow useful work whilst load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Loop Unroll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808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eplicate body of loop a number of ti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808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terate loop fewer ti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808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educes loop overhea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808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ncreases instruction parallelis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808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mproved register, data cache or TLB localit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Black"/>
              </a:rPr>
              <a:t>Loop Unrolling Twice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17884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o i=2, n-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[i] = a[i] + a[i-1] * a[i+l]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nd d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Becom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o i=2, n-2, 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[i] = a[i] + a[i-1] * a[i+i]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[i+l] = a[i+l] + a[i] * a[i+2]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nd d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f (mod(n-2,2) = i) th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[n-1] = a[n-1] + a[n-2] * a[n]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nd if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Black"/>
              </a:rPr>
              <a:t>Normal and Delayed Branch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561" name="Group 111"/>
          <p:cNvGrpSpPr/>
          <p:nvPr/>
        </p:nvGrpSpPr>
        <p:grpSpPr>
          <a:xfrm>
            <a:off x="1803240" y="1395360"/>
            <a:ext cx="5538600" cy="5310000"/>
            <a:chOff x="1803240" y="1395360"/>
            <a:chExt cx="5538600" cy="5310000"/>
          </a:xfrm>
        </p:grpSpPr>
        <p:grpSp>
          <p:nvGrpSpPr>
            <p:cNvPr id="562" name="Group 109"/>
            <p:cNvGrpSpPr/>
            <p:nvPr/>
          </p:nvGrpSpPr>
          <p:grpSpPr>
            <a:xfrm>
              <a:off x="1807920" y="1400040"/>
              <a:ext cx="5529240" cy="5300640"/>
              <a:chOff x="1807920" y="1400040"/>
              <a:chExt cx="5529240" cy="5300640"/>
            </a:xfrm>
          </p:grpSpPr>
          <p:grpSp>
            <p:nvGrpSpPr>
              <p:cNvPr id="563" name="Group 46"/>
              <p:cNvGrpSpPr/>
              <p:nvPr/>
            </p:nvGrpSpPr>
            <p:grpSpPr>
              <a:xfrm>
                <a:off x="1807920" y="1400040"/>
                <a:ext cx="1004760" cy="822240"/>
                <a:chOff x="1807920" y="1400040"/>
                <a:chExt cx="1004760" cy="822240"/>
              </a:xfrm>
            </p:grpSpPr>
            <p:sp>
              <p:nvSpPr>
                <p:cNvPr id="564" name="Rectangle 13"/>
                <p:cNvSpPr/>
                <p:nvPr/>
              </p:nvSpPr>
              <p:spPr>
                <a:xfrm>
                  <a:off x="1876320" y="1400040"/>
                  <a:ext cx="86832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ddres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5" name="Rectangle 45"/>
                <p:cNvSpPr/>
                <p:nvPr/>
              </p:nvSpPr>
              <p:spPr>
                <a:xfrm>
                  <a:off x="1807920" y="1400040"/>
                  <a:ext cx="100476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6" name="Group 48"/>
              <p:cNvGrpSpPr/>
              <p:nvPr/>
            </p:nvGrpSpPr>
            <p:grpSpPr>
              <a:xfrm>
                <a:off x="2812680" y="1400040"/>
                <a:ext cx="1508400" cy="822240"/>
                <a:chOff x="2812680" y="1400040"/>
                <a:chExt cx="1508400" cy="822240"/>
              </a:xfrm>
            </p:grpSpPr>
            <p:sp>
              <p:nvSpPr>
                <p:cNvPr id="567" name="Rectangle 14"/>
                <p:cNvSpPr/>
                <p:nvPr/>
              </p:nvSpPr>
              <p:spPr>
                <a:xfrm>
                  <a:off x="2881080" y="1400040"/>
                  <a:ext cx="137160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Normal Branch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8" name="Rectangle 47"/>
                <p:cNvSpPr/>
                <p:nvPr/>
              </p:nvSpPr>
              <p:spPr>
                <a:xfrm>
                  <a:off x="2812680" y="1400040"/>
                  <a:ext cx="150840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9" name="Group 50"/>
              <p:cNvGrpSpPr/>
              <p:nvPr/>
            </p:nvGrpSpPr>
            <p:grpSpPr>
              <a:xfrm>
                <a:off x="4321080" y="1400040"/>
                <a:ext cx="1508040" cy="822240"/>
                <a:chOff x="4321080" y="1400040"/>
                <a:chExt cx="1508040" cy="822240"/>
              </a:xfrm>
            </p:grpSpPr>
            <p:sp>
              <p:nvSpPr>
                <p:cNvPr id="570" name="Rectangle 15"/>
                <p:cNvSpPr/>
                <p:nvPr/>
              </p:nvSpPr>
              <p:spPr>
                <a:xfrm>
                  <a:off x="4389120" y="1400040"/>
                  <a:ext cx="137160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Delayed Branch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1" name="Rectangle 49"/>
                <p:cNvSpPr/>
                <p:nvPr/>
              </p:nvSpPr>
              <p:spPr>
                <a:xfrm>
                  <a:off x="4321080" y="1400040"/>
                  <a:ext cx="150804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2" name="Group 52"/>
              <p:cNvGrpSpPr/>
              <p:nvPr/>
            </p:nvGrpSpPr>
            <p:grpSpPr>
              <a:xfrm>
                <a:off x="5829120" y="1400040"/>
                <a:ext cx="1508040" cy="822240"/>
                <a:chOff x="5829120" y="1400040"/>
                <a:chExt cx="1508040" cy="822240"/>
              </a:xfrm>
            </p:grpSpPr>
            <p:sp>
              <p:nvSpPr>
                <p:cNvPr id="573" name="Rectangle 16"/>
                <p:cNvSpPr/>
                <p:nvPr/>
              </p:nvSpPr>
              <p:spPr>
                <a:xfrm>
                  <a:off x="5897160" y="1400040"/>
                  <a:ext cx="1371600" cy="82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ptimized Delayed Branch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4" name="Rectangle 51"/>
                <p:cNvSpPr/>
                <p:nvPr/>
              </p:nvSpPr>
              <p:spPr>
                <a:xfrm>
                  <a:off x="5829120" y="1400040"/>
                  <a:ext cx="1508040" cy="822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5" name="Group 54"/>
              <p:cNvGrpSpPr/>
              <p:nvPr/>
            </p:nvGrpSpPr>
            <p:grpSpPr>
              <a:xfrm>
                <a:off x="1807920" y="2222280"/>
                <a:ext cx="1004760" cy="639720"/>
                <a:chOff x="1807920" y="2222280"/>
                <a:chExt cx="1004760" cy="639720"/>
              </a:xfrm>
            </p:grpSpPr>
            <p:sp>
              <p:nvSpPr>
                <p:cNvPr id="576" name="Rectangle 17"/>
                <p:cNvSpPr/>
                <p:nvPr/>
              </p:nvSpPr>
              <p:spPr>
                <a:xfrm>
                  <a:off x="1876320" y="2222280"/>
                  <a:ext cx="86832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0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7" name="Rectangle 53"/>
                <p:cNvSpPr/>
                <p:nvPr/>
              </p:nvSpPr>
              <p:spPr>
                <a:xfrm>
                  <a:off x="1807920" y="2222280"/>
                  <a:ext cx="100476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8" name="Group 56"/>
              <p:cNvGrpSpPr/>
              <p:nvPr/>
            </p:nvGrpSpPr>
            <p:grpSpPr>
              <a:xfrm>
                <a:off x="2812680" y="2222280"/>
                <a:ext cx="1508400" cy="639720"/>
                <a:chOff x="2812680" y="2222280"/>
                <a:chExt cx="1508400" cy="639720"/>
              </a:xfrm>
            </p:grpSpPr>
            <p:sp>
              <p:nvSpPr>
                <p:cNvPr id="579" name="Rectangle 18"/>
                <p:cNvSpPr/>
                <p:nvPr/>
              </p:nvSpPr>
              <p:spPr>
                <a:xfrm>
                  <a:off x="2881080" y="2222280"/>
                  <a:ext cx="137160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58248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LOAD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	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X, r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58248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0" name="Rectangle 55"/>
                <p:cNvSpPr/>
                <p:nvPr/>
              </p:nvSpPr>
              <p:spPr>
                <a:xfrm>
                  <a:off x="2812680" y="2222280"/>
                  <a:ext cx="150840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1" name="Group 58"/>
              <p:cNvGrpSpPr/>
              <p:nvPr/>
            </p:nvGrpSpPr>
            <p:grpSpPr>
              <a:xfrm>
                <a:off x="4321080" y="2222280"/>
                <a:ext cx="1508040" cy="639720"/>
                <a:chOff x="4321080" y="2222280"/>
                <a:chExt cx="1508040" cy="639720"/>
              </a:xfrm>
            </p:grpSpPr>
            <p:sp>
              <p:nvSpPr>
                <p:cNvPr id="582" name="Rectangle 19"/>
                <p:cNvSpPr/>
                <p:nvPr/>
              </p:nvSpPr>
              <p:spPr>
                <a:xfrm>
                  <a:off x="4389120" y="2222280"/>
                  <a:ext cx="137160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58248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LOAD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	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X, r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58248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3" name="Rectangle 57"/>
                <p:cNvSpPr/>
                <p:nvPr/>
              </p:nvSpPr>
              <p:spPr>
                <a:xfrm>
                  <a:off x="4321080" y="2222280"/>
                  <a:ext cx="15080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4" name="Group 60"/>
              <p:cNvGrpSpPr/>
              <p:nvPr/>
            </p:nvGrpSpPr>
            <p:grpSpPr>
              <a:xfrm>
                <a:off x="5829120" y="2222280"/>
                <a:ext cx="1508040" cy="639720"/>
                <a:chOff x="5829120" y="2222280"/>
                <a:chExt cx="1508040" cy="639720"/>
              </a:xfrm>
            </p:grpSpPr>
            <p:sp>
              <p:nvSpPr>
                <p:cNvPr id="585" name="Rectangle 20"/>
                <p:cNvSpPr/>
                <p:nvPr/>
              </p:nvSpPr>
              <p:spPr>
                <a:xfrm>
                  <a:off x="5897160" y="2222280"/>
                  <a:ext cx="137160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58248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LOAD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	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X, r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58248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6" name="Rectangle 59"/>
                <p:cNvSpPr/>
                <p:nvPr/>
              </p:nvSpPr>
              <p:spPr>
                <a:xfrm>
                  <a:off x="5829120" y="2222280"/>
                  <a:ext cx="15080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7" name="Group 62"/>
              <p:cNvGrpSpPr/>
              <p:nvPr/>
            </p:nvGrpSpPr>
            <p:grpSpPr>
              <a:xfrm>
                <a:off x="1807920" y="2862000"/>
                <a:ext cx="1004760" cy="639720"/>
                <a:chOff x="1807920" y="2862000"/>
                <a:chExt cx="1004760" cy="639720"/>
              </a:xfrm>
            </p:grpSpPr>
            <p:sp>
              <p:nvSpPr>
                <p:cNvPr id="588" name="Rectangle 21"/>
                <p:cNvSpPr/>
                <p:nvPr/>
              </p:nvSpPr>
              <p:spPr>
                <a:xfrm>
                  <a:off x="1876320" y="2862000"/>
                  <a:ext cx="86832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0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9" name="Rectangle 61"/>
                <p:cNvSpPr/>
                <p:nvPr/>
              </p:nvSpPr>
              <p:spPr>
                <a:xfrm>
                  <a:off x="1807920" y="2862000"/>
                  <a:ext cx="100476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0" name="Group 64"/>
              <p:cNvGrpSpPr/>
              <p:nvPr/>
            </p:nvGrpSpPr>
            <p:grpSpPr>
              <a:xfrm>
                <a:off x="2812680" y="2862000"/>
                <a:ext cx="1508400" cy="639720"/>
                <a:chOff x="2812680" y="2862000"/>
                <a:chExt cx="1508400" cy="639720"/>
              </a:xfrm>
            </p:grpSpPr>
            <p:sp>
              <p:nvSpPr>
                <p:cNvPr id="591" name="Rectangle 22"/>
                <p:cNvSpPr/>
                <p:nvPr/>
              </p:nvSpPr>
              <p:spPr>
                <a:xfrm>
                  <a:off x="2881080" y="2862000"/>
                  <a:ext cx="137160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58248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DD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	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, r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58248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2" name="Rectangle 63"/>
                <p:cNvSpPr/>
                <p:nvPr/>
              </p:nvSpPr>
              <p:spPr>
                <a:xfrm>
                  <a:off x="2812680" y="2862000"/>
                  <a:ext cx="150840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3" name="Group 66"/>
              <p:cNvGrpSpPr/>
              <p:nvPr/>
            </p:nvGrpSpPr>
            <p:grpSpPr>
              <a:xfrm>
                <a:off x="4321080" y="2862000"/>
                <a:ext cx="1508040" cy="639720"/>
                <a:chOff x="4321080" y="2862000"/>
                <a:chExt cx="1508040" cy="639720"/>
              </a:xfrm>
            </p:grpSpPr>
            <p:sp>
              <p:nvSpPr>
                <p:cNvPr id="594" name="Rectangle 23"/>
                <p:cNvSpPr/>
                <p:nvPr/>
              </p:nvSpPr>
              <p:spPr>
                <a:xfrm>
                  <a:off x="4389120" y="2862000"/>
                  <a:ext cx="137160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58248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DD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	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, r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58248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5" name="Rectangle 65"/>
                <p:cNvSpPr/>
                <p:nvPr/>
              </p:nvSpPr>
              <p:spPr>
                <a:xfrm>
                  <a:off x="4321080" y="2862000"/>
                  <a:ext cx="15080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6" name="Group 68"/>
              <p:cNvGrpSpPr/>
              <p:nvPr/>
            </p:nvGrpSpPr>
            <p:grpSpPr>
              <a:xfrm>
                <a:off x="5829120" y="2862000"/>
                <a:ext cx="1508040" cy="639720"/>
                <a:chOff x="5829120" y="2862000"/>
                <a:chExt cx="1508040" cy="639720"/>
              </a:xfrm>
            </p:grpSpPr>
            <p:sp>
              <p:nvSpPr>
                <p:cNvPr id="597" name="Rectangle 24"/>
                <p:cNvSpPr/>
                <p:nvPr/>
              </p:nvSpPr>
              <p:spPr>
                <a:xfrm>
                  <a:off x="5897160" y="2862000"/>
                  <a:ext cx="137160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58248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JUMP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	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0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58248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8" name="Rectangle 67"/>
                <p:cNvSpPr/>
                <p:nvPr/>
              </p:nvSpPr>
              <p:spPr>
                <a:xfrm>
                  <a:off x="5829120" y="2862000"/>
                  <a:ext cx="15080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9" name="Group 70"/>
              <p:cNvGrpSpPr/>
              <p:nvPr/>
            </p:nvGrpSpPr>
            <p:grpSpPr>
              <a:xfrm>
                <a:off x="1807920" y="3501720"/>
                <a:ext cx="1004760" cy="640080"/>
                <a:chOff x="1807920" y="3501720"/>
                <a:chExt cx="1004760" cy="640080"/>
              </a:xfrm>
            </p:grpSpPr>
            <p:sp>
              <p:nvSpPr>
                <p:cNvPr id="600" name="Rectangle 25"/>
                <p:cNvSpPr/>
                <p:nvPr/>
              </p:nvSpPr>
              <p:spPr>
                <a:xfrm>
                  <a:off x="1876320" y="3501720"/>
                  <a:ext cx="868320" cy="640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0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1" name="Rectangle 69"/>
                <p:cNvSpPr/>
                <p:nvPr/>
              </p:nvSpPr>
              <p:spPr>
                <a:xfrm>
                  <a:off x="1807920" y="3501720"/>
                  <a:ext cx="1004760" cy="640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2" name="Group 72"/>
              <p:cNvGrpSpPr/>
              <p:nvPr/>
            </p:nvGrpSpPr>
            <p:grpSpPr>
              <a:xfrm>
                <a:off x="2812680" y="3501720"/>
                <a:ext cx="1508400" cy="640080"/>
                <a:chOff x="2812680" y="3501720"/>
                <a:chExt cx="1508400" cy="640080"/>
              </a:xfrm>
            </p:grpSpPr>
            <p:sp>
              <p:nvSpPr>
                <p:cNvPr id="603" name="Rectangle 26"/>
                <p:cNvSpPr/>
                <p:nvPr/>
              </p:nvSpPr>
              <p:spPr>
                <a:xfrm>
                  <a:off x="2881080" y="3501720"/>
                  <a:ext cx="1371600" cy="640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58248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JUMP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	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0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58248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4" name="Rectangle 71"/>
                <p:cNvSpPr/>
                <p:nvPr/>
              </p:nvSpPr>
              <p:spPr>
                <a:xfrm>
                  <a:off x="2812680" y="3501720"/>
                  <a:ext cx="1508400" cy="640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5" name="Group 74"/>
              <p:cNvGrpSpPr/>
              <p:nvPr/>
            </p:nvGrpSpPr>
            <p:grpSpPr>
              <a:xfrm>
                <a:off x="4321080" y="3501720"/>
                <a:ext cx="1508040" cy="640080"/>
                <a:chOff x="4321080" y="3501720"/>
                <a:chExt cx="1508040" cy="640080"/>
              </a:xfrm>
            </p:grpSpPr>
            <p:sp>
              <p:nvSpPr>
                <p:cNvPr id="606" name="Rectangle 27"/>
                <p:cNvSpPr/>
                <p:nvPr/>
              </p:nvSpPr>
              <p:spPr>
                <a:xfrm>
                  <a:off x="4389120" y="3501720"/>
                  <a:ext cx="1371600" cy="640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58248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JUMP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	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06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58248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7" name="Rectangle 73"/>
                <p:cNvSpPr/>
                <p:nvPr/>
              </p:nvSpPr>
              <p:spPr>
                <a:xfrm>
                  <a:off x="4321080" y="3501720"/>
                  <a:ext cx="1508040" cy="640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8" name="Group 76"/>
              <p:cNvGrpSpPr/>
              <p:nvPr/>
            </p:nvGrpSpPr>
            <p:grpSpPr>
              <a:xfrm>
                <a:off x="5829120" y="3501720"/>
                <a:ext cx="1508040" cy="640080"/>
                <a:chOff x="5829120" y="3501720"/>
                <a:chExt cx="1508040" cy="640080"/>
              </a:xfrm>
            </p:grpSpPr>
            <p:sp>
              <p:nvSpPr>
                <p:cNvPr id="609" name="Rectangle 28"/>
                <p:cNvSpPr/>
                <p:nvPr/>
              </p:nvSpPr>
              <p:spPr>
                <a:xfrm>
                  <a:off x="5897160" y="3501720"/>
                  <a:ext cx="1371600" cy="640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58248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DD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	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, r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58248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0" name="Rectangle 75"/>
                <p:cNvSpPr/>
                <p:nvPr/>
              </p:nvSpPr>
              <p:spPr>
                <a:xfrm>
                  <a:off x="5829120" y="3501720"/>
                  <a:ext cx="1508040" cy="640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1" name="Group 78"/>
              <p:cNvGrpSpPr/>
              <p:nvPr/>
            </p:nvGrpSpPr>
            <p:grpSpPr>
              <a:xfrm>
                <a:off x="1807920" y="4141800"/>
                <a:ext cx="1004760" cy="639720"/>
                <a:chOff x="1807920" y="4141800"/>
                <a:chExt cx="1004760" cy="639720"/>
              </a:xfrm>
            </p:grpSpPr>
            <p:sp>
              <p:nvSpPr>
                <p:cNvPr id="612" name="Rectangle 29"/>
                <p:cNvSpPr/>
                <p:nvPr/>
              </p:nvSpPr>
              <p:spPr>
                <a:xfrm>
                  <a:off x="1876320" y="4141800"/>
                  <a:ext cx="86832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0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3" name="Rectangle 77"/>
                <p:cNvSpPr/>
                <p:nvPr/>
              </p:nvSpPr>
              <p:spPr>
                <a:xfrm>
                  <a:off x="1807920" y="4141800"/>
                  <a:ext cx="100476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4" name="Group 80"/>
              <p:cNvGrpSpPr/>
              <p:nvPr/>
            </p:nvGrpSpPr>
            <p:grpSpPr>
              <a:xfrm>
                <a:off x="2812680" y="4141800"/>
                <a:ext cx="1508400" cy="639720"/>
                <a:chOff x="2812680" y="4141800"/>
                <a:chExt cx="1508400" cy="639720"/>
              </a:xfrm>
            </p:grpSpPr>
            <p:sp>
              <p:nvSpPr>
                <p:cNvPr id="615" name="Rectangle 30"/>
                <p:cNvSpPr/>
                <p:nvPr/>
              </p:nvSpPr>
              <p:spPr>
                <a:xfrm>
                  <a:off x="2881080" y="4141800"/>
                  <a:ext cx="137160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58248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DD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	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rA, r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58248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6" name="Rectangle 79"/>
                <p:cNvSpPr/>
                <p:nvPr/>
              </p:nvSpPr>
              <p:spPr>
                <a:xfrm>
                  <a:off x="2812680" y="4141800"/>
                  <a:ext cx="150840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7" name="Group 82"/>
              <p:cNvGrpSpPr/>
              <p:nvPr/>
            </p:nvGrpSpPr>
            <p:grpSpPr>
              <a:xfrm>
                <a:off x="4321080" y="4141800"/>
                <a:ext cx="1508040" cy="639720"/>
                <a:chOff x="4321080" y="4141800"/>
                <a:chExt cx="1508040" cy="639720"/>
              </a:xfrm>
            </p:grpSpPr>
            <p:sp>
              <p:nvSpPr>
                <p:cNvPr id="618" name="Rectangle 31"/>
                <p:cNvSpPr/>
                <p:nvPr/>
              </p:nvSpPr>
              <p:spPr>
                <a:xfrm>
                  <a:off x="4389120" y="4141800"/>
                  <a:ext cx="137160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58248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NOOP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	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58248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9" name="Rectangle 81"/>
                <p:cNvSpPr/>
                <p:nvPr/>
              </p:nvSpPr>
              <p:spPr>
                <a:xfrm>
                  <a:off x="4321080" y="4141800"/>
                  <a:ext cx="15080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0" name="Group 84"/>
              <p:cNvGrpSpPr/>
              <p:nvPr/>
            </p:nvGrpSpPr>
            <p:grpSpPr>
              <a:xfrm>
                <a:off x="5829120" y="4141800"/>
                <a:ext cx="1508040" cy="639720"/>
                <a:chOff x="5829120" y="4141800"/>
                <a:chExt cx="1508040" cy="639720"/>
              </a:xfrm>
            </p:grpSpPr>
            <p:sp>
              <p:nvSpPr>
                <p:cNvPr id="621" name="Rectangle 32"/>
                <p:cNvSpPr/>
                <p:nvPr/>
              </p:nvSpPr>
              <p:spPr>
                <a:xfrm>
                  <a:off x="5897160" y="4141800"/>
                  <a:ext cx="137160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58248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DD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	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rA, r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58248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2" name="Rectangle 83"/>
                <p:cNvSpPr/>
                <p:nvPr/>
              </p:nvSpPr>
              <p:spPr>
                <a:xfrm>
                  <a:off x="5829120" y="4141800"/>
                  <a:ext cx="15080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3" name="Group 86"/>
              <p:cNvGrpSpPr/>
              <p:nvPr/>
            </p:nvGrpSpPr>
            <p:grpSpPr>
              <a:xfrm>
                <a:off x="1807920" y="4781520"/>
                <a:ext cx="1004760" cy="639720"/>
                <a:chOff x="1807920" y="4781520"/>
                <a:chExt cx="1004760" cy="639720"/>
              </a:xfrm>
            </p:grpSpPr>
            <p:sp>
              <p:nvSpPr>
                <p:cNvPr id="624" name="Rectangle 33"/>
                <p:cNvSpPr/>
                <p:nvPr/>
              </p:nvSpPr>
              <p:spPr>
                <a:xfrm>
                  <a:off x="1876320" y="4781520"/>
                  <a:ext cx="86832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04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5" name="Rectangle 85"/>
                <p:cNvSpPr/>
                <p:nvPr/>
              </p:nvSpPr>
              <p:spPr>
                <a:xfrm>
                  <a:off x="1807920" y="4781520"/>
                  <a:ext cx="100476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6" name="Group 88"/>
              <p:cNvGrpSpPr/>
              <p:nvPr/>
            </p:nvGrpSpPr>
            <p:grpSpPr>
              <a:xfrm>
                <a:off x="2812680" y="4781520"/>
                <a:ext cx="1508400" cy="639720"/>
                <a:chOff x="2812680" y="4781520"/>
                <a:chExt cx="1508400" cy="639720"/>
              </a:xfrm>
            </p:grpSpPr>
            <p:sp>
              <p:nvSpPr>
                <p:cNvPr id="627" name="Rectangle 34"/>
                <p:cNvSpPr/>
                <p:nvPr/>
              </p:nvSpPr>
              <p:spPr>
                <a:xfrm>
                  <a:off x="2881080" y="4781520"/>
                  <a:ext cx="137160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58248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UB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	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rC, r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58248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8" name="Rectangle 87"/>
                <p:cNvSpPr/>
                <p:nvPr/>
              </p:nvSpPr>
              <p:spPr>
                <a:xfrm>
                  <a:off x="2812680" y="4781520"/>
                  <a:ext cx="150840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9" name="Group 90"/>
              <p:cNvGrpSpPr/>
              <p:nvPr/>
            </p:nvGrpSpPr>
            <p:grpSpPr>
              <a:xfrm>
                <a:off x="4321080" y="4781520"/>
                <a:ext cx="1508040" cy="639720"/>
                <a:chOff x="4321080" y="4781520"/>
                <a:chExt cx="1508040" cy="639720"/>
              </a:xfrm>
            </p:grpSpPr>
            <p:sp>
              <p:nvSpPr>
                <p:cNvPr id="630" name="Rectangle 35"/>
                <p:cNvSpPr/>
                <p:nvPr/>
              </p:nvSpPr>
              <p:spPr>
                <a:xfrm>
                  <a:off x="4389120" y="4781520"/>
                  <a:ext cx="137160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58248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DD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	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rA, r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58248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1" name="Rectangle 89"/>
                <p:cNvSpPr/>
                <p:nvPr/>
              </p:nvSpPr>
              <p:spPr>
                <a:xfrm>
                  <a:off x="4321080" y="4781520"/>
                  <a:ext cx="15080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2" name="Group 92"/>
              <p:cNvGrpSpPr/>
              <p:nvPr/>
            </p:nvGrpSpPr>
            <p:grpSpPr>
              <a:xfrm>
                <a:off x="5829120" y="4781520"/>
                <a:ext cx="1508040" cy="639720"/>
                <a:chOff x="5829120" y="4781520"/>
                <a:chExt cx="1508040" cy="639720"/>
              </a:xfrm>
            </p:grpSpPr>
            <p:sp>
              <p:nvSpPr>
                <p:cNvPr id="633" name="Rectangle 36"/>
                <p:cNvSpPr/>
                <p:nvPr/>
              </p:nvSpPr>
              <p:spPr>
                <a:xfrm>
                  <a:off x="5897160" y="4781520"/>
                  <a:ext cx="137160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58248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UB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	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rC, r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58248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4" name="Rectangle 91"/>
                <p:cNvSpPr/>
                <p:nvPr/>
              </p:nvSpPr>
              <p:spPr>
                <a:xfrm>
                  <a:off x="5829120" y="4781520"/>
                  <a:ext cx="15080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5" name="Group 94"/>
              <p:cNvGrpSpPr/>
              <p:nvPr/>
            </p:nvGrpSpPr>
            <p:grpSpPr>
              <a:xfrm>
                <a:off x="1807920" y="5421240"/>
                <a:ext cx="1004760" cy="639720"/>
                <a:chOff x="1807920" y="5421240"/>
                <a:chExt cx="1004760" cy="639720"/>
              </a:xfrm>
            </p:grpSpPr>
            <p:sp>
              <p:nvSpPr>
                <p:cNvPr id="636" name="Rectangle 37"/>
                <p:cNvSpPr/>
                <p:nvPr/>
              </p:nvSpPr>
              <p:spPr>
                <a:xfrm>
                  <a:off x="1876320" y="5421240"/>
                  <a:ext cx="86832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0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7" name="Rectangle 93"/>
                <p:cNvSpPr/>
                <p:nvPr/>
              </p:nvSpPr>
              <p:spPr>
                <a:xfrm>
                  <a:off x="1807920" y="5421240"/>
                  <a:ext cx="100476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8" name="Group 96"/>
              <p:cNvGrpSpPr/>
              <p:nvPr/>
            </p:nvGrpSpPr>
            <p:grpSpPr>
              <a:xfrm>
                <a:off x="2812680" y="5421240"/>
                <a:ext cx="1508400" cy="639720"/>
                <a:chOff x="2812680" y="5421240"/>
                <a:chExt cx="1508400" cy="639720"/>
              </a:xfrm>
            </p:grpSpPr>
            <p:sp>
              <p:nvSpPr>
                <p:cNvPr id="639" name="Rectangle 38"/>
                <p:cNvSpPr/>
                <p:nvPr/>
              </p:nvSpPr>
              <p:spPr>
                <a:xfrm>
                  <a:off x="2881080" y="5421240"/>
                  <a:ext cx="137160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58248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TORE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	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rA, Z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	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58248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0" name="Rectangle 95"/>
                <p:cNvSpPr/>
                <p:nvPr/>
              </p:nvSpPr>
              <p:spPr>
                <a:xfrm>
                  <a:off x="2812680" y="5421240"/>
                  <a:ext cx="150840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1" name="Group 98"/>
              <p:cNvGrpSpPr/>
              <p:nvPr/>
            </p:nvGrpSpPr>
            <p:grpSpPr>
              <a:xfrm>
                <a:off x="4321080" y="5421240"/>
                <a:ext cx="1508040" cy="639720"/>
                <a:chOff x="4321080" y="5421240"/>
                <a:chExt cx="1508040" cy="639720"/>
              </a:xfrm>
            </p:grpSpPr>
            <p:sp>
              <p:nvSpPr>
                <p:cNvPr id="642" name="Rectangle 39"/>
                <p:cNvSpPr/>
                <p:nvPr/>
              </p:nvSpPr>
              <p:spPr>
                <a:xfrm>
                  <a:off x="4389120" y="5421240"/>
                  <a:ext cx="137160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58248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UB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	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rC, r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58248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3" name="Rectangle 97"/>
                <p:cNvSpPr/>
                <p:nvPr/>
              </p:nvSpPr>
              <p:spPr>
                <a:xfrm>
                  <a:off x="4321080" y="5421240"/>
                  <a:ext cx="15080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4" name="Group 100"/>
              <p:cNvGrpSpPr/>
              <p:nvPr/>
            </p:nvGrpSpPr>
            <p:grpSpPr>
              <a:xfrm>
                <a:off x="5829120" y="5421240"/>
                <a:ext cx="1508040" cy="639720"/>
                <a:chOff x="5829120" y="5421240"/>
                <a:chExt cx="1508040" cy="639720"/>
              </a:xfrm>
            </p:grpSpPr>
            <p:sp>
              <p:nvSpPr>
                <p:cNvPr id="645" name="Rectangle 40"/>
                <p:cNvSpPr/>
                <p:nvPr/>
              </p:nvSpPr>
              <p:spPr>
                <a:xfrm>
                  <a:off x="5897160" y="5421240"/>
                  <a:ext cx="137160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58248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TORE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	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rA, Z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	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58248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6" name="Rectangle 99"/>
                <p:cNvSpPr/>
                <p:nvPr/>
              </p:nvSpPr>
              <p:spPr>
                <a:xfrm>
                  <a:off x="5829120" y="5421240"/>
                  <a:ext cx="15080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7" name="Group 102"/>
              <p:cNvGrpSpPr/>
              <p:nvPr/>
            </p:nvGrpSpPr>
            <p:grpSpPr>
              <a:xfrm>
                <a:off x="1807920" y="6060960"/>
                <a:ext cx="1004760" cy="639720"/>
                <a:chOff x="1807920" y="6060960"/>
                <a:chExt cx="1004760" cy="639720"/>
              </a:xfrm>
            </p:grpSpPr>
            <p:sp>
              <p:nvSpPr>
                <p:cNvPr id="648" name="Rectangle 41"/>
                <p:cNvSpPr/>
                <p:nvPr/>
              </p:nvSpPr>
              <p:spPr>
                <a:xfrm>
                  <a:off x="1876320" y="6060960"/>
                  <a:ext cx="86832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06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9" name="Rectangle 101"/>
                <p:cNvSpPr/>
                <p:nvPr/>
              </p:nvSpPr>
              <p:spPr>
                <a:xfrm>
                  <a:off x="1807920" y="6060960"/>
                  <a:ext cx="100476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0" name="Group 104"/>
              <p:cNvGrpSpPr/>
              <p:nvPr/>
            </p:nvGrpSpPr>
            <p:grpSpPr>
              <a:xfrm>
                <a:off x="2812680" y="6060960"/>
                <a:ext cx="1508400" cy="639720"/>
                <a:chOff x="2812680" y="6060960"/>
                <a:chExt cx="1508400" cy="639720"/>
              </a:xfrm>
            </p:grpSpPr>
            <p:sp>
              <p:nvSpPr>
                <p:cNvPr id="651" name="Rectangle 42"/>
                <p:cNvSpPr/>
                <p:nvPr/>
              </p:nvSpPr>
              <p:spPr>
                <a:xfrm>
                  <a:off x="2881080" y="6060960"/>
                  <a:ext cx="137160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58248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58248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2" name="Rectangle 103"/>
                <p:cNvSpPr/>
                <p:nvPr/>
              </p:nvSpPr>
              <p:spPr>
                <a:xfrm>
                  <a:off x="2812680" y="6060960"/>
                  <a:ext cx="150840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3" name="Group 106"/>
              <p:cNvGrpSpPr/>
              <p:nvPr/>
            </p:nvGrpSpPr>
            <p:grpSpPr>
              <a:xfrm>
                <a:off x="4321080" y="6060960"/>
                <a:ext cx="1508040" cy="639720"/>
                <a:chOff x="4321080" y="6060960"/>
                <a:chExt cx="1508040" cy="639720"/>
              </a:xfrm>
            </p:grpSpPr>
            <p:sp>
              <p:nvSpPr>
                <p:cNvPr id="654" name="Rectangle 43"/>
                <p:cNvSpPr/>
                <p:nvPr/>
              </p:nvSpPr>
              <p:spPr>
                <a:xfrm>
                  <a:off x="4389120" y="6060960"/>
                  <a:ext cx="137160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58248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TORE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	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rA, Z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	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58248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5" name="Rectangle 105"/>
                <p:cNvSpPr/>
                <p:nvPr/>
              </p:nvSpPr>
              <p:spPr>
                <a:xfrm>
                  <a:off x="4321080" y="6060960"/>
                  <a:ext cx="15080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6" name="Group 108"/>
              <p:cNvGrpSpPr/>
              <p:nvPr/>
            </p:nvGrpSpPr>
            <p:grpSpPr>
              <a:xfrm>
                <a:off x="5829120" y="6060960"/>
                <a:ext cx="1508040" cy="639720"/>
                <a:chOff x="5829120" y="6060960"/>
                <a:chExt cx="1508040" cy="639720"/>
              </a:xfrm>
            </p:grpSpPr>
            <p:sp>
              <p:nvSpPr>
                <p:cNvPr id="657" name="Rectangle 44"/>
                <p:cNvSpPr/>
                <p:nvPr/>
              </p:nvSpPr>
              <p:spPr>
                <a:xfrm>
                  <a:off x="5897160" y="6060960"/>
                  <a:ext cx="137160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58248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58248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8" name="Rectangle 107"/>
                <p:cNvSpPr/>
                <p:nvPr/>
              </p:nvSpPr>
              <p:spPr>
                <a:xfrm>
                  <a:off x="5829120" y="6060960"/>
                  <a:ext cx="15080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59" name="Rectangle 110"/>
            <p:cNvSpPr/>
            <p:nvPr/>
          </p:nvSpPr>
          <p:spPr>
            <a:xfrm>
              <a:off x="1803240" y="1395360"/>
              <a:ext cx="5538600" cy="531000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Black"/>
              </a:rPr>
              <a:t>Use of Delayed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 Black"/>
              </a:rPr>
              <a:t>Branch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661" name="Picture 8" descr=""/>
          <p:cNvPicPr/>
          <p:nvPr/>
        </p:nvPicPr>
        <p:blipFill>
          <a:blip r:embed="rId1"/>
          <a:srcRect l="0" t="0" r="0" b="10897"/>
          <a:stretch/>
        </p:blipFill>
        <p:spPr>
          <a:xfrm>
            <a:off x="4065480" y="0"/>
            <a:ext cx="5078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Black"/>
              </a:rPr>
              <a:t>Controvers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17884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808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ompare program sizes and execution speed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808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examine issues of high level language support and use of VLSI real esta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Problem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808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No pair of RISC and CISC that are directly comparab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808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No definitive set of test progra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808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ifficult to separate hardware effects from complier effec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808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ost comparisons done on “toy” rather than production machin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808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ost commercial devices are a mixtu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17884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tallings chapter 13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Manufacturer web sit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Black"/>
              </a:rPr>
              <a:t>The Next Step - RISC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17884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Reduced Instruction Set Comput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Key featu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Large number of general purpose regist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or use of compiler technology to optimize register u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Limited and simple instruction se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Emphasis on optimising the instruction pipelin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Black"/>
              </a:rPr>
              <a:t>Comparison of processor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Picture 6" descr=""/>
          <p:cNvPicPr/>
          <p:nvPr/>
        </p:nvPicPr>
        <p:blipFill>
          <a:blip r:embed="rId1"/>
          <a:srcRect l="7666" t="24694" r="5497" b="23286"/>
          <a:stretch/>
        </p:blipFill>
        <p:spPr>
          <a:xfrm>
            <a:off x="0" y="1387440"/>
            <a:ext cx="9144000" cy="42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Black"/>
              </a:rPr>
              <a:t>Driving force for CISC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17884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oftware costs far exceed hardware cos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creasingly complex high level languag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emantic gap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Leads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Large instruction se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ore addressing mod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Hardware implementations of HLL statem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808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.g. CASE (switch) on VA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Black"/>
              </a:rPr>
              <a:t>Intention of CISC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17884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Ease compiler writ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mprove execution efficienc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omplex operations in microcod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upport more complex HL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Black"/>
              </a:rPr>
              <a:t>Execution Characteristic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17884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Operations perform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Operands us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Execution sequenc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tudies have been done based on programs written in HL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Dynamic studies are measured during the execution of the progra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Black"/>
              </a:rPr>
              <a:t>Opera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17884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ssignm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ovement of dat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Conditional statements (IF, LOOP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Verdana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equence contro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Procedure call-return is very time consum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808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ome HLL instruction lead to many machine code opera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17T13:24:42Z</dcterms:created>
  <dc:creator>Adrian J Pullin</dc:creator>
  <dc:description/>
  <dc:language>en-US</dc:language>
  <cp:lastModifiedBy>sahithi</cp:lastModifiedBy>
  <dcterms:modified xsi:type="dcterms:W3CDTF">2013-04-23T14:39:10Z</dcterms:modified>
  <cp:revision>63</cp:revision>
  <dc:subject/>
  <dc:title>13 Reduced Instruction Set Computers</dc:title>
</cp:coreProperties>
</file>