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561A-A4B7-4E75-9B15-4EFF6B8B7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9BFE-F9BB-4606-835C-FDC3B118E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uat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ing Choices about operation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a micro-century? …just about enough time for one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C9A7-E03D-475F-99C1-7FE9CFFCF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AD21-A70F-4A7D-BE9E-04196E21E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DD9F-E736-4B83-98C3-521AAC6F5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94D1-C822-42F0-BC77-F6654B61A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8A3A-935D-4833-8FD1-E4F600881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1CBD-7E34-457C-9408-1910CC54C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A3B7-3C56-4C68-8714-42EC4517A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EFFF-0D18-4274-9070-33D8E598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E337-AC1A-4D84-8073-DA7DD4461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695B-25A6-476E-937F-E66AC6257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D515-9D6D-4E51-97AB-63B204890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5A29-0AC4-456C-A6A4-6AB693192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8F3D-7A30-43E4-BECB-4D2438356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B270-B817-4132-AAC6-3FC3AF7B5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EEC2-2CDF-4102-BE00-1A1E5D53B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728F-1C8F-4FEA-B3EE-5D6233185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47A2-DB7E-4A07-9E4F-EC5DC15AA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5382-FB6E-4CF8-93D8-C088E9910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7410-3B46-4371-A986-BA2A9934D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906D-E0C8-40F0-806D-F940D324A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FD86-46D4-4CA3-90B6-52707E10E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6FDE-5155-4397-9949-03F7AA989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24CE-8F77-4680-9136-85F4B6187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6C6-7CD8-4AB8-918F-4665C2C6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FBA-FE9D-42AD-A062-1A2EF7C2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718-8E15-4F4C-B89A-CF752494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633-94E6-435D-B57F-2E5F31F8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5AB-9F7D-4C5E-8240-1AE61DF4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B21-7586-4996-85E9-8EBFE3A9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425-5458-4B55-853F-68265128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371-F060-4F71-B8C7-1908487F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0EC-E47F-4503-8707-42441401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E2E-0A2F-4CB7-AEFE-42B85A29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D739-002E-41DB-A4D3-012E82FF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CE2-77BC-49B7-A288-0B0B300F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Object 5"/>
          <p:cNvGraphicFramePr/>
          <p:nvPr/>
        </p:nvGraphicFramePr>
        <p:xfrm>
          <a:off x="6934320" y="6019920"/>
          <a:ext cx="1319040" cy="64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6019920"/>
                    <a:ext cx="131904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Object 6"/>
          <p:cNvGraphicFramePr/>
          <p:nvPr/>
        </p:nvGraphicFramePr>
        <p:xfrm>
          <a:off x="6934320" y="6019920"/>
          <a:ext cx="1319040" cy="64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34320" y="6019920"/>
                    <a:ext cx="131904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8544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095520" y="6171840"/>
            <a:ext cx="7621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A55C-0CEB-4242-904B-5533EBE29F7A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C571-4AFD-4927-81B9-E54BADCE7111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116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-451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lides include materials from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perating System Concep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, by Silbershatz, Galvin, &amp; Gagne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rn Operating Syste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, by Tanenbaum,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stributed Systems: Principles &amp; Paradig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 By Tanenbaum and Van St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1D72-7982-48ED-840B-486D04922486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PC Model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rver defines the service interface using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face definition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DL specifies the names, parameters, and types for all client-callable server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b compil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ds the IDL declarations and produces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b 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ach serve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ent-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5EFD-37E7-43A3-A4A2-6D901270861F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PC Model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ing: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programmer implements the service’s functions and links with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programmer implements the client program and links it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ent-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: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bs manage all of the details of remote communication between client and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105F-16D3-4F3F-8DA3-ED38593135A6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PC Stub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ent-side st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function that looks to the client as if it were a callable serv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same API as the server’s implementation of th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er-side st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ks like a caller to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like a hunk of code invoking the serv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ient program thinks it’s invoking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it’s calling into the client-side 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rver program thinks it’s called by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it’s really called by the server-side 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bs send messages to each other to make the RPC happen transparent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lmost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A646-E12E-47CB-BC6E-DB2D4750D261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Marshalling Argument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shal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acking of function parameters into a messag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PC stubs call type-specific functions to marshal or unmarshal the parameters of an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tub marshals the arguments into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stub unmarshals the arguments and uses them to invoke the servic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tu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rver stub marshals return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ient stub unmarshals return values, and returns to the clien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F803-5FF6-4CA9-825B-E8DB02EA9F22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Issue #1 — representation of data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endi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en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02-09"/>
          <p:cNvPicPr/>
          <p:nvPr/>
        </p:nvPicPr>
        <p:blipFill>
          <a:blip r:embed="rId1"/>
          <a:stretch/>
        </p:blipFill>
        <p:spPr>
          <a:xfrm>
            <a:off x="423720" y="2336760"/>
            <a:ext cx="8296560" cy="2184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7621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 by Pen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352680" y="4572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’d by SP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17220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DB8-4059-4265-9F68-1440DE499A52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epresentation of Data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must also define representation of data on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byte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, character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 point, comple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Sun’s XDR (external data represen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ub converts machine representation to/from network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and servers m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y to cast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2AB8-1FE0-4D1B-B993-D08E370BA320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Issue #2 — Pointers and Reference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d(int fd, char* buf, int n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ers are only valid within one address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interpreted by another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on same mach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ers and references are ubiquitous in C, 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in Java implementa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E582-8DD4-4AC0-9B64-D0D0E5F5C81F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Pointers and References —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estricted Semantic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 stub dereferences pointer, copies result to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ing stub conjures up a new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ll by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 stub provides buffer, called function puts data in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ing stub copies data to caller’s buffer as specified by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5699-F8ED-4242-8A17-09833F5609D1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Pointers and References —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estricted Semantics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ll by value-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r’s stub copies data to message, then copies result back to client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stub keeps data in own buffer, server updates it; server sends data back in re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llowed: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ll by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iased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4CDD-F7A9-44BC-B22B-BC1FCA8BB4F7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Transport of Remote Procedure Call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—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-based, 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but heavyweight, less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essary if repeating a call produces differen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— 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ssage fails to arrive within a reasonable time, caller’s stub simply sends it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ay if repeating a call produces sam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9F4E-35C1-4271-85C3-5D1C874887FE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Message-oriented Protocol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till in widespread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CP/IP and Interne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design and 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ly with more sophisticated 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ifficult implementation issues for each new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representa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-serv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Date Placeholder 5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E6C8-F17B-46D2-BD32-CCB23F37FBA0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Asynchronous RPC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92436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spawning a th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r must eventual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ou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02-12"/>
          <p:cNvPicPr/>
          <p:nvPr/>
        </p:nvPicPr>
        <p:blipFill>
          <a:blip r:embed="rId1"/>
          <a:stretch/>
        </p:blipFill>
        <p:spPr>
          <a:xfrm>
            <a:off x="1228680" y="1066680"/>
            <a:ext cx="66866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ate Placeholder 5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46F4-6195-47C7-A1BB-A421FB70EEBD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Asynchronous RPC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92436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spawning a th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r must eventual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ou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be interrupted (software interru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6" descr="02-13"/>
          <p:cNvPicPr/>
          <p:nvPr/>
        </p:nvPicPr>
        <p:blipFill>
          <a:blip r:embed="rId1"/>
          <a:stretch/>
        </p:blipFill>
        <p:spPr>
          <a:xfrm>
            <a:off x="1967040" y="1068480"/>
            <a:ext cx="52099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22C6-94EF-4EE3-B8CB-11E28FB11311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PC </a:t>
            </a:r>
            <a:r>
              <a:rPr b="0" i="1" lang="en-US" sz="3600" spc="-1" strike="noStrike">
                <a:solidFill>
                  <a:srgbClr val="800000"/>
                </a:solidFill>
                <a:latin typeface="Times New Roman"/>
              </a:rPr>
              <a:t>Binding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 is the process of connecting the client to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rver, when it starts up, exports it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itself to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work nam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PC run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it is alive and ready to accept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ient, before issuing any calls, imports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PC runtime uses the name server to find the location of the server and establish a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mport and export operations are explicit in the server and clien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98B8-D8F8-40A9-8893-7E43DF9B6BC2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478E-1356-4435-A8CD-A0868EFA6157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emote Procedure Call is used …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processes on different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client-serv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processes on the same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tructured than simple message 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subsystems of an 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XP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l Procedure C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A746-B74E-4069-862D-E75451D5F89A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emote Procedure Call (RPC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st common framework for newer protocols and for middle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oth by operating systems and by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FS is implemented as a set of RP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OM, CORBA, Java RMI, etc., are just RPC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F521-D1A2-4753-BFEE-126F7A37F7AE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emote Procedure Call (RPC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damental idea: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process export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procedures or functions that can be called by clien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library API, class defini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s make local procedure/function ca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 linked with the serve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the covers, procedure/function call is converted into a message exchange with remote serve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Date Placeholder 5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F470-78B2-429C-AF2D-D9C653225009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Ordinary procedure/function call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nt = read(fd, buf, n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02-06"/>
          <p:cNvPicPr/>
          <p:nvPr/>
        </p:nvPicPr>
        <p:blipFill>
          <a:blip r:embed="rId1"/>
          <a:stretch/>
        </p:blipFill>
        <p:spPr>
          <a:xfrm>
            <a:off x="2192400" y="2746440"/>
            <a:ext cx="47577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ate Placeholder 5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DE64-D303-48E6-A5F5-B78B3A6BB994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like to do the same if called procedure or function is on a remot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02-07"/>
          <p:cNvPicPr/>
          <p:nvPr/>
        </p:nvPicPr>
        <p:blipFill>
          <a:blip r:embed="rId1"/>
          <a:stretch/>
        </p:blipFill>
        <p:spPr>
          <a:xfrm>
            <a:off x="1579680" y="2519280"/>
            <a:ext cx="598320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Date Placeholder 5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ADE4-E621-488A-BD85-BE2245E7DA01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Solution — a pair of </a:t>
            </a:r>
            <a:r>
              <a:rPr b="0" i="1" lang="en-US" sz="3600" spc="-1" strike="noStrike">
                <a:solidFill>
                  <a:srgbClr val="800000"/>
                </a:solidFill>
                <a:latin typeface="Times New Roman"/>
              </a:rPr>
              <a:t>Stub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-side st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s like local serv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terface as loca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ndles arguments into message, sends to server-side 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s for reply, un-bundles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-side st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s like local client function to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s on a socket for message from client 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-bundles arguments to loc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a local function call to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ndles result into reply message to client 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5702-F2F1-466A-850D-097ECC5CE952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esult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ard work of building messages, formatting, uniform representation, etc., is buried in the 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t can be automa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and server designers can concentrate on the semantics of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 behave in familiar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E557-357A-4B11-98BC-F6556C0E474E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PC – Issue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ake the “remote” part of RPC invisible to the programm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semantics of parameter pa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pass by refer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bind (locate &amp; connect) to serv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handle heterogene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, language, architectur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ake it go fa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1:29:53Z</dcterms:created>
  <dc:creator>Hugh C. Lauer</dc:creator>
  <dc:description/>
  <dc:language>en-US</dc:language>
  <cp:lastModifiedBy>sahithi</cp:lastModifiedBy>
  <dcterms:modified xsi:type="dcterms:W3CDTF">2012-10-03T14:52:33Z</dcterms:modified>
  <cp:revision>45</cp:revision>
  <dc:subject>CS-4513, Distributed Systems (D-term 2007)</dc:subject>
  <dc:title>Remote Procedure Call</dc:title>
</cp:coreProperties>
</file>