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9F9C-F9BD-4386-80E0-ADD6B0424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A2BC-0B23-403E-9A84-28D29D535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aduat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ing Choices about operation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y a micro-century? …just about enough time for one conce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9039-003E-489A-B9EA-44D43C389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5FBCD-B43C-4930-9F6C-33C8A4D85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FA1BB-84B4-4B49-805D-7BA619BDC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1B31-73DF-490B-B15D-6CBB0DF85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D87B-F113-48F2-896D-850978BDD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7CF7-3FC4-4C41-AFEA-847CD6124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E9FD-C4D0-4C54-92A1-ADB55D6A1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27EA-518A-4622-98DE-E370AEB7D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0725-2B3E-46B3-B4D8-BEF0DBA33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5DB2-07B9-40D9-A0B0-84ECAD46B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9BAD-304F-4543-B79E-94CD10DED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2C17-07DA-4E28-8415-A0A0043D7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57B6-697D-4869-BEF7-EE50597E8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354A1-70DA-4070-B71C-4681AACB9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40C7-18AB-405E-B9C7-ED4268AE8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6111-D979-4094-93F9-1938DF787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6911-CFD6-435B-B091-8F9A18A99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9616-9492-46DA-9379-7F0B82850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AB4E-B20F-4059-9EB7-3D26B5809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CDE8-1997-4338-A881-28B631B8A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668E-E3B3-440A-A37A-EA0E93AD3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D595-BEAD-4FB3-9DE0-1D3802CB0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021E-D3E3-47DD-9CDE-36C083413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5842-B5D0-41EF-820A-2B065465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30B0-6787-4158-A762-4976A1A4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1B2F-B201-415C-85D6-1E216BBD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1829-296B-4233-A1AF-ABDE45838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D2B6-CA6C-402C-B97C-CC69FC7E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E48-DF6A-46AE-84F0-AF8783FD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042F-2283-4904-83C0-62F2C527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3C2F-867D-4F23-B092-866327B4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B1F0-2B59-429B-8ABA-7443836E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F871-68E3-4FDA-A9C1-68DC4B75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62F-5CF2-40FD-AC90-4153B728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B0EE-F1D2-4D35-ADF2-613C8A22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Object 5"/>
          <p:cNvGraphicFramePr/>
          <p:nvPr/>
        </p:nvGraphicFramePr>
        <p:xfrm>
          <a:off x="6934320" y="6019920"/>
          <a:ext cx="1319040" cy="64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34320" y="6019920"/>
                    <a:ext cx="131904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Object 6"/>
          <p:cNvGraphicFramePr/>
          <p:nvPr/>
        </p:nvGraphicFramePr>
        <p:xfrm>
          <a:off x="6934320" y="6019920"/>
          <a:ext cx="1319040" cy="64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34320" y="6019920"/>
                    <a:ext cx="1319040" cy="64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85440" y="61718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095520" y="6171840"/>
            <a:ext cx="7621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3DC4-F0CE-4E4B-AFFE-7732EAFC2CDB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767E-4699-4212-B1E2-AE5B61E6F50E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116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-451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lides include materials from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perating System Concep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, by Silbershatz, Galvin, &amp; Gagne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odern Operating Syste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, by Tanenbaum,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istributed Systems: Principles &amp; Paradigm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d. By Tanenbaum and Van Ste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C0CD-6AE6-45B6-B953-9233056C8CB4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PC Model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erver defines the service interface using 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nterface definition langu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ID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DL specifies the names, parameters, and types for all client-callable server 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b compil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ads the IDL declarations and produces tw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b func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each server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ent-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AEC1-0F22-4D26-8515-BE36B6D9004B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PC Model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ing: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programmer implements the service’s functions and links with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ver-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 programmer implements the client program and links it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lient-si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u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ration: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bs manage all of the details of remote communication between client and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A9DE-CA96-4DB3-995B-AEA83B66577D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PC Stub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lient-side st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 function that looks to the client as if it were a callable serv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same API as the server’s implementation of th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rver-side stu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oks like a caller to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like a hunk of code invoking the serv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ent program thinks it’s invoking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it’s calling into the client-side 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rver program thinks it’s called by the 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it’s really called by the server-side st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ubs send messages to each other to make the RPC happen transparentl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lmost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9E348-6D4F-4446-84D7-8C4008205471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Marshalling Argument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rshall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packing of function parameters into a messag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PC stubs call type-specific functions to marshal or unmarshal the parameters of an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tub marshals the arguments into a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er stub unmarshals the arguments and uses them to invoke the servic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retur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erver stub marshals return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ient stub unmarshals return values, and returns to the client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Date Placeholder 5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6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C289-5FF3-45E9-BA5C-862B65108E25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Issue #1 — representation of data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endi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tle end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02-09"/>
          <p:cNvPicPr/>
          <p:nvPr/>
        </p:nvPicPr>
        <p:blipFill>
          <a:blip r:embed="rId1"/>
          <a:stretch/>
        </p:blipFill>
        <p:spPr>
          <a:xfrm>
            <a:off x="423720" y="2336760"/>
            <a:ext cx="8296560" cy="21844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76212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 by Pent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352680" y="457200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’d by SPA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6172200" y="45720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C05D-5908-4219-A851-AE02E99C2E63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epresentation of Data 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(continued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L must also define representation of data on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byte 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, character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 point, comple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Sun’s XDR (external data represent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ub converts machine representation to/from network re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s and servers mu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ry to cast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35E0-6B0D-4DB4-8B3B-5CC56E058078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Issue #2 — Pointers and Reference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ad(int fd, char* buf, int n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ers are only valid within one address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interpreted by another pro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on same machi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ers and references are ubiquitous in C, C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in Java implementation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51A8-91CF-4370-B07D-A5584E463564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Pointers and References —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estricted Semantic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ll by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stub dereferences pointer, copies result to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ing stub conjures up a new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ll by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stub provides buffer, called function puts data in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ing stub copies data to caller’s buffer as specified by poi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D314-B8CE-402C-AE19-A7068EB862A6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Pointers and References —</a:t>
            </a:r>
            <a:br>
              <a:rPr sz="3200"/>
            </a:b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estricted Semantics 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(continued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ll by value-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’s stub copies data to message, then copies result back to client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stub keeps data in own buffer, server updates it; server sends data back in re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llowed: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all by re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iased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CEC1-A732-40CD-9DB2-767B3D2160F7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Transport of Remote Procedure Call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on —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-based, 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but heavyweight, less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essary if repeating a call produces differen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—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essage fails to arrive within a reasonable time, caller’s stub simply sends it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kay if repeating a call produces same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30B9-EEDE-4A75-9C36-FB81C6C63E46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Message-oriented Protocol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still in widespread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 TCP/IP and Interne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icult to design and imp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ally with more sophisticated middle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difficult implementation issues for each new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form representa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-server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Date Placeholder 5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6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9317-A84B-4DE6-997E-BD5370971219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Asynchronous RPC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392436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spawning a th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 must eventu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ou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02-12"/>
          <p:cNvPicPr/>
          <p:nvPr/>
        </p:nvPicPr>
        <p:blipFill>
          <a:blip r:embed="rId1"/>
          <a:stretch/>
        </p:blipFill>
        <p:spPr>
          <a:xfrm>
            <a:off x="1228680" y="1066680"/>
            <a:ext cx="668664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ate Placeholder 5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5EE1-3681-4E46-B340-58E08E1A2548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Asynchronous RPC </a:t>
            </a: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(continued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392436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ous to spawning a thr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r must eventual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a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res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ou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be interrupted (software interru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6" descr="02-13"/>
          <p:cNvPicPr/>
          <p:nvPr/>
        </p:nvPicPr>
        <p:blipFill>
          <a:blip r:embed="rId1"/>
          <a:stretch/>
        </p:blipFill>
        <p:spPr>
          <a:xfrm>
            <a:off x="1967040" y="1068480"/>
            <a:ext cx="520992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28DE-CFC6-4014-886F-EBA7EBE140CB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PC </a:t>
            </a:r>
            <a:r>
              <a:rPr b="0" i="1" lang="en-US" sz="3600" spc="-1" strike="noStrike">
                <a:solidFill>
                  <a:srgbClr val="800000"/>
                </a:solidFill>
                <a:latin typeface="Times New Roman"/>
              </a:rPr>
              <a:t>Binding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ding is the process of connecting the client to th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rver, when it starts up, exports its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itself to 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etwork name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l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PC run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at it is alive and ready to accept c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ient, before issuing any calls, imports th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PC runtime uses the name server to find the location of the server and establish a conn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mport and export operations are explicit in the server and clien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0CE7-EAE0-4FA5-AAF7-A6D76804D971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Questions?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FA12E-2B0C-43BC-81B6-3A12C8F8EFE2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emote Procedure Call is used …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processes on different machi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client-server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processes on the same mach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tructured than simple message pa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subsystems of an operat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ows XP (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ocal Procedure C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9B42-5C29-48B6-B398-52B931F642D9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emote Procedure Call (RPC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ost common framework for newer protocols and for middle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oth by operating systems and by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FS is implemented as a set of RP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OM, CORBA, Java RMI, etc., are just RPC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7FC3-4C64-4D15-A26F-ECAACAB43057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emote Procedure Call (RPC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damental idea: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 process exports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procedures or functions that can be called by clien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to library API, class definition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s make local procedure/function ca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s 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 linked with the serv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the covers, procedure/function call is converted into a message exchange with remote server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Date Placeholder 5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3FCF-AD3D-4D4D-B1F2-A314C3629D42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Ordinary procedure/function call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unt = read(fd, buf, nby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0" descr="02-06"/>
          <p:cNvPicPr/>
          <p:nvPr/>
        </p:nvPicPr>
        <p:blipFill>
          <a:blip r:embed="rId1"/>
          <a:stretch/>
        </p:blipFill>
        <p:spPr>
          <a:xfrm>
            <a:off x="2192400" y="2746440"/>
            <a:ext cx="475776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ate Placeholder 5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C767-6DDF-490D-88DF-862B4EE11448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uld like to do the same if called procedure or function is on a remot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6" descr="02-07"/>
          <p:cNvPicPr/>
          <p:nvPr/>
        </p:nvPicPr>
        <p:blipFill>
          <a:blip r:embed="rId1"/>
          <a:stretch/>
        </p:blipFill>
        <p:spPr>
          <a:xfrm>
            <a:off x="1579680" y="2519280"/>
            <a:ext cx="598320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4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Date Placeholder 5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6BDC-63BE-4521-86A8-31598D71EAB1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Solution — a pair of </a:t>
            </a:r>
            <a:r>
              <a:rPr b="0" i="1" lang="en-US" sz="3600" spc="-1" strike="noStrike">
                <a:solidFill>
                  <a:srgbClr val="800000"/>
                </a:solidFill>
                <a:latin typeface="Times New Roman"/>
              </a:rPr>
              <a:t>Stub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-side st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s like local server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terface as local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ndles arguments into message, sends to server-side 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s for reply, un-bundles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r-side stu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s like local client function to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s on a socket for message from client 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-bundles arguments to local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a local function call to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ndles result into reply message to client 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5A56-FDF9-4211-AB40-5AF78A35B17B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esult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ard work of building messages, formatting, uniform representation, etc., is buried in the stu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t can be automat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and server designers can concentrate on the semantics of 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grams behave in familiar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3505320" y="617220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Remote Procedure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Date Placeholder 4"/>
          <p:cNvSpPr/>
          <p:nvPr/>
        </p:nvSpPr>
        <p:spPr>
          <a:xfrm>
            <a:off x="685800" y="61722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CS-4513, D-Term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095880" y="6172200"/>
            <a:ext cx="7621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AD24-1179-469C-A25E-D85158A2EAE8}" type="slidenum"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RPC – Issues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ake the “remote” part of RPC invisible to the programm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semantics of parameter pa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pass by refer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bind (locate &amp; connect) to serve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handle heterogene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, language, architecture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ake it go fa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1:29:53Z</dcterms:created>
  <dc:creator>Hugh C. Lauer</dc:creator>
  <dc:description/>
  <dc:language>en-US</dc:language>
  <cp:lastModifiedBy>sahithi</cp:lastModifiedBy>
  <dcterms:modified xsi:type="dcterms:W3CDTF">2012-10-03T14:52:33Z</dcterms:modified>
  <cp:revision>45</cp:revision>
  <dc:subject>CS-4513, Distributed Systems (D-term 2007)</dc:subject>
  <dc:title>Remote Procedure Call</dc:title>
</cp:coreProperties>
</file>