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9488-6D37-457A-8ED4-A4578F18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C132-6472-4D2E-AC52-ACB5D401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D45-ED5B-45DA-A133-695EE8EBE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60BA-BC65-42D8-BD66-E3A57970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A1D9-0059-4352-A483-32E5874B3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2552-7324-4C4F-AF7B-BA1A4B90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770E-420D-4632-90C8-E073B1E6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64B1-0B3E-4DD7-AE27-C7356D6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27645-04B1-47EE-9D01-5A80BA40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CE93-4679-44E5-98BC-30AB6A86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247F-9BA8-4FC2-B555-33369CDB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879-A4E8-43B8-936D-44F3361E7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9792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5F86-24B3-447E-AD40-10BCB5B8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A8298-A40C-422F-B3E6-3466973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088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1FC9-4565-4733-A914-D2B2D2AD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9792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D66E-5232-426F-99D3-F7C74F2F1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6332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5760" y="10666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8088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6332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5760" y="37335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6E99-528D-4423-9D05-286836A5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1402-C25C-4FBC-B625-3C0EF06A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4740-4EB0-434F-85D8-37C589B3B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1331-8DCB-41D4-B4C8-4DF226EF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ACFC-DFB1-4F37-9A6F-6AFEB53A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D3F5-14B8-4D79-A435-C3E8B6AF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7335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435A-D82D-483A-94C6-0B41A866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0666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335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6A15-8E62-4C6C-87F1-C7E96263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-914400"/>
            <a:ext cx="8991720" cy="6858000"/>
            <a:chOff x="152280" y="-914400"/>
            <a:chExt cx="899172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-91440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D:\FRONTPAGE THEMES\CITRUS\CITBANND.PNG"/>
            <p:cNvPicPr/>
            <p:nvPr/>
          </p:nvPicPr>
          <p:blipFill>
            <a:blip r:embed="rId2"/>
            <a:srcRect l="30665" t="0" r="5335" b="86713"/>
            <a:stretch/>
          </p:blipFill>
          <p:spPr>
            <a:xfrm>
              <a:off x="2514600" y="-91440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600200" y="-53352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152280" y="1066680"/>
              <a:ext cx="6858000" cy="4876920"/>
            </a:xfrm>
            <a:custGeom>
              <a:avLst/>
              <a:gdLst>
                <a:gd name="textAreaLeft" fmla="*/ 0 w 6858000"/>
                <a:gd name="textAreaRight" fmla="*/ 6858360 w 6858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4320" h="3264">
                  <a:moveTo>
                    <a:pt x="0" y="3264"/>
                  </a:moveTo>
                  <a:lnTo>
                    <a:pt x="0" y="0"/>
                  </a:lnTo>
                  <a:lnTo>
                    <a:pt x="4320" y="0"/>
                  </a:lnTo>
                </a:path>
              </a:pathLst>
            </a:custGeom>
            <a:noFill/>
            <a:ln w="93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665280" y="9795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1503360" y="9795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2341440" y="979560"/>
              <a:ext cx="14940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3179880" y="979560"/>
              <a:ext cx="149040" cy="149040"/>
            </a:xfrm>
            <a:prstGeom prst="ellipse">
              <a:avLst/>
            </a:prstGeom>
            <a:gradFill rotWithShape="0">
              <a:gsLst>
                <a:gs pos="0">
                  <a:srgbClr val="ff822d"/>
                </a:gs>
                <a:gs pos="100000">
                  <a:srgbClr val="9b4f1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4AE5-0FEC-4912-BB64-5C3FAB63F2B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29714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0EFA-B914-4943-84E6-51C583E40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Freeform 3"/>
            <p:cNvSpPr/>
            <p:nvPr/>
          </p:nvSpPr>
          <p:spPr>
            <a:xfrm>
              <a:off x="0" y="0"/>
              <a:ext cx="2895480" cy="68580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6858000"/>
                <a:gd name="textAreaBottom" fmla="*/ 6858360 h 6858000"/>
              </a:gdLst>
              <a:ahLst/>
              <a:rect l="textAreaLeft" t="textAreaTop" r="textAreaRight" b="textAreaBottom"/>
              <a:pathLst>
                <a:path w="1824" h="3840">
                  <a:moveTo>
                    <a:pt x="0" y="3840"/>
                  </a:moveTo>
                  <a:lnTo>
                    <a:pt x="0" y="0"/>
                  </a:lnTo>
                  <a:lnTo>
                    <a:pt x="1824" y="0"/>
                  </a:lnTo>
                  <a:cubicBezTo>
                    <a:pt x="74" y="1204"/>
                    <a:pt x="465" y="3655"/>
                    <a:pt x="583" y="3840"/>
                  </a:cubicBezTo>
                  <a:cubicBezTo>
                    <a:pt x="291" y="3840"/>
                    <a:pt x="0" y="3840"/>
                    <a:pt x="0" y="384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600200" y="0"/>
              <a:ext cx="7543800" cy="380880"/>
            </a:xfrm>
            <a:prstGeom prst="rect">
              <a:avLst/>
            </a:prstGeom>
            <a:solidFill>
              <a:srgbClr val="ff82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5" descr="D:\FRONTPAGE THEMES\CITRUS\CITBANND.PNG"/>
            <p:cNvPicPr/>
            <p:nvPr/>
          </p:nvPicPr>
          <p:blipFill>
            <a:blip r:embed="rId3"/>
            <a:srcRect l="30665" t="0" r="5335" b="86713"/>
            <a:stretch/>
          </p:blipFill>
          <p:spPr>
            <a:xfrm>
              <a:off x="2514600" y="0"/>
              <a:ext cx="6629400" cy="13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6"/>
            <p:cNvSpPr/>
            <p:nvPr/>
          </p:nvSpPr>
          <p:spPr>
            <a:xfrm>
              <a:off x="1600200" y="380880"/>
              <a:ext cx="7543800" cy="7632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Group 7"/>
            <p:cNvGrpSpPr/>
            <p:nvPr/>
          </p:nvGrpSpPr>
          <p:grpSpPr>
            <a:xfrm>
              <a:off x="0" y="3581280"/>
              <a:ext cx="5781600" cy="149040"/>
              <a:chOff x="0" y="3581280"/>
              <a:chExt cx="5781600" cy="149040"/>
            </a:xfrm>
          </p:grpSpPr>
          <p:sp>
            <p:nvSpPr>
              <p:cNvPr id="56" name="Freeform 8"/>
              <p:cNvSpPr/>
              <p:nvPr/>
            </p:nvSpPr>
            <p:spPr>
              <a:xfrm>
                <a:off x="0" y="3666960"/>
                <a:ext cx="5781600" cy="1800"/>
              </a:xfrm>
              <a:custGeom>
                <a:avLst/>
                <a:gdLst>
                  <a:gd name="textAreaLeft" fmla="*/ 0 w 5781600"/>
                  <a:gd name="textAreaRight" fmla="*/ 5781960 w 5781600"/>
                  <a:gd name="textAreaTop" fmla="*/ 0 h 1800"/>
                  <a:gd name="textAreaBottom" fmla="*/ 2160 h 1800"/>
                </a:gdLst>
                <a:ahLst/>
                <a:rect l="textAreaLeft" t="textAreaTop" r="textAreaRight" b="textAreaBottom"/>
                <a:pathLst>
                  <a:path w="3642" h="1">
                    <a:moveTo>
                      <a:pt x="0" y="0"/>
                    </a:moveTo>
                    <a:lnTo>
                      <a:pt x="3642" y="0"/>
                    </a:lnTo>
                  </a:path>
                </a:pathLst>
              </a:custGeom>
              <a:noFill/>
              <a:ln w="936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9"/>
              <p:cNvGrpSpPr/>
              <p:nvPr/>
            </p:nvGrpSpPr>
            <p:grpSpPr>
              <a:xfrm>
                <a:off x="1523880" y="3581280"/>
                <a:ext cx="2663640" cy="149040"/>
                <a:chOff x="1523880" y="3581280"/>
                <a:chExt cx="2663640" cy="149040"/>
              </a:xfrm>
            </p:grpSpPr>
            <p:sp>
              <p:nvSpPr>
                <p:cNvPr id="58" name="Oval 10"/>
                <p:cNvSpPr/>
                <p:nvPr/>
              </p:nvSpPr>
              <p:spPr>
                <a:xfrm>
                  <a:off x="15238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Oval 11"/>
                <p:cNvSpPr/>
                <p:nvPr/>
              </p:nvSpPr>
              <p:spPr>
                <a:xfrm>
                  <a:off x="236196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Oval 12"/>
                <p:cNvSpPr/>
                <p:nvPr/>
              </p:nvSpPr>
              <p:spPr>
                <a:xfrm>
                  <a:off x="3200040" y="3581280"/>
                  <a:ext cx="14940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13"/>
                <p:cNvSpPr/>
                <p:nvPr/>
              </p:nvSpPr>
              <p:spPr>
                <a:xfrm>
                  <a:off x="4038480" y="3581280"/>
                  <a:ext cx="149040" cy="149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822d"/>
                    </a:gs>
                    <a:gs pos="100000">
                      <a:srgbClr val="9b4f1b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7CC0-AFAC-461F-95C3-735BD4944D9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D9BF-F7C8-4110-BBDE-9B47867E3C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orbmatrix.html" TargetMode="External"/><Relationship Id="rId2" Type="http://schemas.openxmlformats.org/officeDocument/2006/relationships/hyperlink" Target="file:///orbmatrix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5326-5274-40B1-8181-2A4F7236DAF6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8826-FD68-4B39-97D1-63572B45131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30477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Object Request Broker Architecture (CORBA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8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 L. L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941B8-4083-4F51-A668-9AE763CDF33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067C-F59E-43C3-AF13-2D83952C8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ORB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IOP specification includes the following ele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nsport management 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specifies the connection and disconnection requirements, and the roles for the object client and object server in making and unmaking conn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 of common data repres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a coding scheme for marshalling and unmarshalling data of each IDL data ty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ssage forma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different types of message format are defined. The messages allow clients to send requests to object servers and receive replies. A client uses a Request message to invoke a method declared in a CORBA interface for an object and receives a reply message from the ser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D663-4F5A-4B5F-BBE0-9D8B7C6D904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BA6-D102-49CE-B591-A4C882C46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B which adheres to the specifications of the IIOP may interoperate with any other IIOP-compliant ORBs over the Internet.  This gives rise to the term 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b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, where the Internet is seen as a bus that interconnects CORBA objec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Object 1024"/>
          <p:cNvGraphicFramePr/>
          <p:nvPr/>
        </p:nvGraphicFramePr>
        <p:xfrm>
          <a:off x="838080" y="3048120"/>
          <a:ext cx="73152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048120"/>
                    <a:ext cx="73152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5841-EE71-4E14-ABEB-FFB4EA77EBF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2EF6-80AD-400A-8432-A635467B3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B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arge number of proprietary as well as experimental ORBs availab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e CORBA Product Profiles, http://www.puder.org/corba/matrix/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ix IO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rland Visibro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smTech’s OpenF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Logic Enterprise from B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 Broker from EN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e OR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71B4-CE5F-4214-9A1C-B316B915AC5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712E-0FB2-4AFF-9ED9-B79378E648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Servers and Object Cl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n Java RMI, a CORBA distributed object is exported by 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serv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milar to the object server in RMI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cli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trieves a reference to a distributed object from a naming or directory service, to be described, and invokes the methods of the distributed obje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4ED7-D77A-4C95-8EB2-2D1B63499E9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F3D3-D3B8-4CD8-88AD-E07472E5E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Referen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in Java RMI, a CORBA distributed object is located using an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Since CORBA is language-independent, a CORBA object reference is an abstract entity mapped to a language-specific object reference by an ORB, in a representation chosen by  the developer of the OR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teroperability, OMG specifies a protocol for the abstract CORBA object reference object, known a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rotoco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9F64-6A14-4524-85BB-F5EBAEA8C6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4B67-F7CD-4689-AC1F-2DC7C623C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interoperability, OMG specifies a protocol for the abstract CORBA object reference object, known a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protocol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RB compatible with the IOR protocol will allow an object reference to be registered with and retrieved from any IOR-compliant directory service.  CORBA object references represented in this protocol are calle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CFCB-828A-40F6-8946-9D616FBB612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D2C1-7EB4-4DA7-8A26-0600600DC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n IOR  is a string that contains encoding for the following  inform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type of the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host where the object can be fou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port number of the server for that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n object key, a string of bytes identifying the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object key is used by an object server to locate the objec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2CF5-5F08-4114-8AF6-60544D5E3E6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7CE0-8A5F-4B4B-9F0A-99C753F1F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Object Referen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following is an example of the string representation of an IOR [5]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OR:000000000000000d49444c3a677269643a312e3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0001000000000000004c0001000000000015756c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72612e6475626c696e2e696f6e612e6965000009630000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83a5c756c7472612e6475626c696e2e696f6e612e69653a6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7269643a303a3a49523a67726964003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representation consists of the character prefix 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OR: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followed by a series of hexadecimal numeric characters, each character representing 4 bits of binary data in the 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1B97-9CB0-4181-843F-A4477DE5F7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F6A8-BBDB-467B-8255-4A683118C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Naming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RBA specifies a generic directory service. 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ming Servi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erves as a directory for CORBA objects, and, as such, is platform independent and programming language independ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Naming Service permits ORB-based clients to obtain references to objects they wish to use. It allows names to be associated with object references. Clients may query a naming service using a predetermined name to obtain the associated object refer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E29A-3A72-48E1-8BC5-1439F0F486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C684-1197-43E2-AE59-78F00232B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Nam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export a distributed object, a CORBA object server contacts a Naming Service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ymbolic name to the object.   The Naming Service maintains a database of names and the objects associated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btain a reference to the object, an object client requests the Naming Service to look up the object associated with the name. (This is known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lv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object name.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I for the Naming Service is specified in interfaces defined in IDL, and includes methods  that allow servers to bind names to objects and clients to resolve those nam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20CD-EDB1-46B8-A3B6-4BA28C63C8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2CF3-4F54-4136-B1C4-87745151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mmon Object Request Broker Architecture (CORBA) is a standard architecture for a distributed objects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designed to allow distributed objects to interoperate in a heterogenous environment, where objects can be implemented in different programming language and/or deployed on different platfor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936C-5F83-4854-AAB5-D0C46BFFEF8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9F613-5450-43D6-A6EA-AF44F1585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Nam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be as general as possible, the CORBA object naming scheme is necessarily complex.  Since the name space is universal, a standard naming hierarchy is defined in a manner similar to the naming hierarchy in a file directo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Object 1024"/>
          <p:cNvGraphicFramePr/>
          <p:nvPr/>
        </p:nvGraphicFramePr>
        <p:xfrm>
          <a:off x="1523880" y="2743200"/>
          <a:ext cx="5257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743200"/>
                    <a:ext cx="5257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11F7-E693-45B9-B775-AA0B85AA48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40A4-D29F-4D43-82A4-CC67FC46F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ing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aming context correspond to a folder or directory in a file hierarchy, while object names corresponds to a fil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ull name of an object, including all the associated naming contexts, is known a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und na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 first component of a compound name gives the name of a naming context, in which the second component is accessed. This process continues until the last component of the compound name has been reac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ing contexts and name bindings are created using methods provided in the Naming Service interf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3969-0056-4681-9567-F5D50E19997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02A5-9AA6-4CA5-9F9D-81B95AC98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RBA object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ntax for an object name is as follow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naming context &gt; …&lt;naming context&gt;&lt;object 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where the sequence of naming contexts leads to the objec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E33D-2CCB-4D5B-A3D5-ED426C299F4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707E-3D99-4C9F-95E3-BB590ADEF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 of a naming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shown, an object representing the men’s clothing department is nam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ore.clothing.m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e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cloth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naming contexts,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 objec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Object 1024"/>
          <p:cNvGraphicFramePr/>
          <p:nvPr/>
        </p:nvGraphicFramePr>
        <p:xfrm>
          <a:off x="2209680" y="3429000"/>
          <a:ext cx="464832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429000"/>
                    <a:ext cx="46483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9C7D-9AD8-45D1-BD72-62373629D8E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93DD-B2AA-4258-9EC5-DED147CB9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Naming Servi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Naming Servi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a URL-based naming system based on the CORBA Naming Service, it allows applications to share a common initial naming context and provides a URL to access a CORBA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ED7C-C684-4C53-94F9-43B937F98E1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3C4-96D8-4271-B21A-1F27761F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Servic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specifies services commonly needed in distributed applications, some of which ar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ing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urrency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nt synchronization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ging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nt logg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ing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nt schedul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security manageme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ing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locating a service by the type (instead of by nam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service for time-related ev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fication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events notificatio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Transaction Servi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or transactional process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ervice is defined in a standard IDL that can be implemented by a developer of the service object, and whose methods can be invoked by a CORBA client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AEA8-82A1-49DC-951A-BA5973FBFA9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9621-3629-42E7-82AB-D1172440E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Adap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basic architecture of CORBA, the implementation of a distributed object interfaces with the skeleton to interact with the stub on the object client side.  As the architecture evolved, a software component in addition to the skeleton was needed on the server side: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adap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Object 1024"/>
          <p:cNvGraphicFramePr/>
          <p:nvPr/>
        </p:nvGraphicFramePr>
        <p:xfrm>
          <a:off x="2625840" y="3048120"/>
          <a:ext cx="263196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5840" y="3048120"/>
                    <a:ext cx="26319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8C86-BF07-4D7A-9B4E-07DD6A43434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B1B5-92EE-4920-A8CA-D3DCC4B771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Adap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Adap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cs.wustl.edu/~schmidt/PDF/POA.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object adapter simplifies the responsibilities of an ORB by assisting an ORB in delivering a client request to an object implementatio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n ORB receives a client’s request, it locates the object adapter associated with the object and forwards the request  to the adap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dapter interacts with the object implementation’s skeleton, which performs data marshalling and invoke the appropriate method in the ob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4AB8-6A29-4859-83CF-A6855B2891B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26E3-4DC6-40A5-AB53-87B87C49B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le Object Adap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different types of CORBA object adapt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table Object Adapt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r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a particular type of object adapter that is defined by the CORBA specification. An object adapter that is a POA allows an object implementation to function with different ORBs, hence the word portab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23E5-5DEB-4A31-BA14-12F6F70332D0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AD29-DAF7-4DA2-8A27-0168222EAD1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IDL (Java 1.4 vers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6E33-0798-4543-8B23-F865A3A026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C3F1-D494-425F-9830-2485B7CEC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 vs. Java 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differs from the architecture of Java RMI in one significant aspect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I is a proprietary facility developed by Sun MicroSystems, Inc., and supports objects written in the Java programming langugage on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an architecture that was developed by the Object Management Group (OMG),  an industrial consorti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6330-ED23-45B7-B099-2D770004DCF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0451D-B996-4909-A8F2-473CFF355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 – Java’s CORBA Fac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 is part of the Java 2 Platform, Standard Edition (J2S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IDL facility includes a CORBA Object Request Broker (ORB), an IDL-to-Java compiler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a subset of CORBA standard servic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ddition to the Java IDL,  Java provides a number of CORBA-compliant facilities, including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I over IIO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allows a CORBA application to be written using the RMI syntax and semantic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81AB-AADE-43B1-B2C6-3E6096B6ED7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8D0C-22E5-43C6-AFE3-A2B408BC1F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 Java IDL Packag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org.omg.CORBA – contains interfaces and classes which provides the mapping of the OMG CORBA APIs to the Java programming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age org.omg.CosNaming - contains interfaces and classes which provides the naming service for Java ID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.omg.CORBA.ORB - contains interfaces and classes which provides APIs for the Object Request Brok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77A4-9682-4392-810F-878A4DC1EBD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C55A-E796-45F9-B019-B3F689E19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 provides a set of tools needed for developing a CORBA applicatio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dlj -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L-to-Java compiler (called idl2java in Java 1.2 and befo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rb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a server process which provides Naming Service and other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servert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provides a command-line interface for application programmers to register/unregister an object,  and startup/shutdown a ser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nameser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an olderTransient Java IDL Naming Service whose use is now discourag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16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4B86-0FF9-43C1-AAA7-028C84EE0327}" type="datetime">
              <a:rPr b="0" lang="en-US" sz="14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7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C75B9-B1B8-40D5-B6DB-3B996F34D4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ava IDL applicati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6E46-DC7A-41BF-8359-5F166C74503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7937-7AED-4119-8DF9-3DBCCC032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ORBA Interface fi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llo.id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1. module HelloA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2.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3.   interface 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4.  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5.   string sayHello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6.   oneway void shutdown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7.   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Courier New"/>
              </a:rPr>
              <a:t>08. }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60DE-B580-401B-B689-B1F2B61BB7C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2300-6695-4921-950F-D3B3A131D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ing the IDL file (using Java 1.4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DL file should be placed in a directory dedicated to the application.  The file is compiled using the compile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ing a command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idlj </a:t>
            </a:r>
            <a:r>
              <a:rPr b="1" lang="en-US" sz="2000" spc="-1" strike="noStrike">
                <a:solidFill>
                  <a:srgbClr val="6600ff"/>
                </a:solidFill>
                <a:latin typeface="Times New Roman"/>
                <a:ea typeface="Courier New"/>
              </a:rPr>
              <a:t>-fall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Courier New"/>
              </a:rPr>
              <a:t> Hello.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option is necessary for the compiler to generate all the file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general, the files can be found in a subdirectory nam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some name&gt;Ap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an interface file nam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&lt;some name&gt;.i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compil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compilation is successful, the following files can be found in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Ap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directory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Operations.jav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.jav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Helper.jav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Holder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HelloStub.jav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POA.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iles require no modifi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6BB1-F200-4040-9683-24CC9E3C56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9E55-8A58-4390-BEE3-93E7B7625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*Operations.java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Operations.java found in HelloApp/ after you compiled using idl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It i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as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 Java interface file that is equivalent to the CORBA IDL interface file 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.id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should look at this file to make sure that the method signatures correspond to what you exp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12CA-BAD5-41B5-9606-5B78801D086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7DAE-2963-47CA-A2F2-AD973077A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/HelloOperations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ile contains the methods specified in the original IDL file: in this case the method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Hello( 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utd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(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package HelloAp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1. package HelloAp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4. 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5. * HelloApp/HelloOperations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6. * Generated by the IDL-to-Java compiler (portabl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7. *  version "3.1" from Hello.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8.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0. public interface Hello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1.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2.   String sayHello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3.   void shutdown 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4. } // interface Hello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3C6F-3BCA-4FE0-BC93-0E7AF8A5E76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C4F7-9CBD-4A5B-A12B-A4C4E4C11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/Hello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nature interface file combines the characteristics of the Jav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 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Operations.jav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the characteristics of the CORBA classes that it extend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1. package HelloAp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3. /*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4. * HelloApp/Hello.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5. * Generated by the IDL-to-Java compiler (portable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6. * version "3.1" from Hello.i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7.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09. public interface Hello extends HelloOperation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0.   org.omg.CORBA.Objec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1.   org.omg.CORBA.portable.IDLEnt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2. {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Courier New"/>
              </a:rPr>
              <a:t>13. } // interface H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5B4FC-CBA1-49D9-9A0B-DA47F3D3246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5E1D-31F4-4B7A-86DA-17074C051D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lloHelper.java, the Help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class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Helper (Figure 7d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auxiliary functionality needed to support a CORBA object in the context of the Java languag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ticular, a method, 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narrow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allows 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reference to be cast to its corresponding type in Java, so that a CORBA object may be operated on using syntax for Java objec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217D-9C5C-433B-B705-CE927224F09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0332-2A83-4E6F-A075-1AD66F3D8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not in inself a distributed objects facility; instead, it is a set of protoco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buted object facility which adhere to these protocols is said to be CORBA-compliant, and the distributed objects that the facility support can interoperate with objects supported by other CORBA-compliant faciliti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s a very rich set of protocols.  We will instead focus on the key concepts of CORBA related to the distributed objects paradigm.  We will also study a facility based on CORBA: the Java ID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8E00-3EB8-4047-961C-C5208A55C5A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46F7-9D5B-481E-A2D0-FB953E64A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Holder.java, the Holder cla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class called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Holder (Figure 7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(contains) a reference to an object that implements th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ass is used to handle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an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n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meter in IDL in Java syntax   </a:t>
            </a:r>
            <a:br>
              <a:rPr sz="3200"/>
            </a:br>
            <a:r>
              <a:rPr b="0" lang="en-US" sz="3200" spc="-1" strike="noStrike" u="sng">
                <a:solidFill>
                  <a:srgbClr val="80008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DL, a parameter may be declared to b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it is an output argument,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u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f the parameter contains an input value as well as carries an output value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C2ADE-F858-4174-84AF-879B5D0AA99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2D574-41E2-4593-A6BD-BF077BC81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_HelloStub.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clas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Stub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(Figure 7e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tub file, the client-side proxy, which interfaces with the client object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tends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mg.CORBA.portable.ObjectImp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implement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3C96-7775-45BB-9CCD-8E357821B26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8FFB-1EFE-4E34-AF8D-64ECDD27A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lloPOA.java, the server skele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Java clas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ImplPOA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(Figure 7f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keleton, the  server-side proxy, combined with the portable object adapt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extend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.omg.PortableServer.Serva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implements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keHandle</a:t>
            </a:r>
            <a:r>
              <a:rPr b="1" i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 and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Opera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terfac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8EE9-436D-4BF3-A1A5-5EC38F3EE69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2336-7175-4105-8A51-40EE4DD61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erver-side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server side, two classes need to be provided: the servant and the serve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ant,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Imp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is the implementation of 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DL interface; each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s an instantiation of this clas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50B13-A732-44E5-A9C3-E43D68C484C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19F6-2BA0-4E5A-ABC6-5D1457A76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ervant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/HelloImpl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The servant -- object implementation -- for the H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example.  Note that this is a subclass of HelloPOA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whose source file is generated from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ilation of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.idl using j2id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06.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7. import org.omg.CosNaming.*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8. import java.util.Properties; 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5. class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 extends HelloPOA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6.   private ORB orb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8.   public void setORB(ORB orb_val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9.     orb = orb_v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0.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2.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// implement sayHello()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3.   public String sayHello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4.     return "\nHello world !!\n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25.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7.   // implement shutdown() meth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8.   public void shutdown()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9.     orb.shutdown(false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0.   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31. } //end cl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280D-99E1-4DEB-914E-A59BDA7E446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F095-1485-46C3-B8F8-2701274AC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rver - HelloApp/HelloServer.jav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 args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reate and initialize the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 orb = ORB.init(args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get reference to rootpoa &amp; activate the POA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OA rootpoa =              (POA)orb.resolve_initial_references("RootPO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poa.the_POAManager().activat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create servant and register it with the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pl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 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 = new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I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pl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ORB(orb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et object reference from the serv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mg.CORBA.Object 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ootpoa.servant_to_reference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nd cast the reference to a CORBA re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ref =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per.narrow(re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4A70-B665-4D90-904F-F291A98D903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60DB-8105-4BC5-84FD-5D75062D6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/HelloServer.java - 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get the root naming 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NameService invokes the transient name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mg.CORBA.Object obj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.resolve_initial_references("NameServic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Use NamingContextExt, which is part of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Interoperable Naming Service (INS) spec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ingContextExt nc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ingContextExtHelper.narrow(objRe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bind the Object Reference in N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 =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"Hello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Component path[] = ncRef.to_name( name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cRef.rebind(path, hre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"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ready and waiting ...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wait for invocations from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.ru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D208-341A-4956-8792-431A4AD0F2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1AB0-259C-4E90-94F4-AD39F476F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object client applic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lient program can be a Java application, an applet, or a servl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lient code is responsible for creating and initializing the ORB, looking up the object using the Interoperable Naming Service, invoking the narrow method of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p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to cast the object reference to a reference to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bject implementation, and invoking remote methods using the reference.  The object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yHel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thod is invoked to receive a string, and the object’s shutdown method is invoked to deactivate the serv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349F-EAF8-4678-9134-E17A6EA2C5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A32C-8523-4A00-8595-A5BF2BEFD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 sample object client ap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pp.*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org.omg.CosNaming.*;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class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 Hello helloImp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 static void main(String args[])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y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 orb = ORB.init(args, null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g.omg.CORBA.Object obj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.resolve_initial_references("NameService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ingContextExt ncRef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amingContextExtHelper.narrow(objRef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Helper.narrow(ncRef.resolve_str(“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ystem.out.println(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.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say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)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hello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mpl.shutdown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D70-7B8E-43E2-AC47-59100FE75DB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010A8-21D6-4462-BC50-C67C7E96B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ing and Running a Java ID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63b1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and compile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Hello.id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 on the server machi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idlj -fall Hello.id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 the directory containing Hello.idl (including the subdirectory generat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dl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o the client machin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3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lloAp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on the client machine: cre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Client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*.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iles, including the stubs and skeletons (which are in the direc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javac *.java HelloApp/*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5995-09CF-4989-8A4D-00B906FA78D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D35A-C87F-44DE-A83D-6BB1DBA4C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Archite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Object 3"/>
          <p:cNvGraphicFramePr/>
          <p:nvPr/>
        </p:nvGraphicFramePr>
        <p:xfrm>
          <a:off x="411120" y="1066680"/>
          <a:ext cx="816768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120" y="1066680"/>
                    <a:ext cx="81676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B332-8E4E-4C7E-A555-275AEE11462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CC68-F2E3-47F7-94ED-3866BBBD8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ing and Running a Java ID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Ap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ory on the server machin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Server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Compile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ja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Courier New"/>
              </a:rPr>
              <a:t>javac *.java HelloApp/*.ja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the server machine: Start the Java Object Request Broker Daemon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hich includes a Naming Servi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 this on Unix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rbd -ORBInitialPort 1050 -ORBInitialHo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machinenam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o this on Window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art orbd -ORBInitialPort 1050 -ORBInitialHost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rvermachine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1435-7E81-4D2B-978E-C8A8CA5DDDE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3644-4783-4FAD-A411-964C844E4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ing and Running a Java ID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  On the server machine, start the Hello server, as follow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java HelloServer –ORBInitialHost &lt;nameserver host name&gt; -ORBInitialPort 1050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On the client machine, run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client. From a DOS prompt or shell, typ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java HelloClient -ORBInitialH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nameserver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-ORBInitialPort 10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on one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serverh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host on which the IDL name server is running. In this case, it is the server machin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07F9-FF2C-4D3C-ADB1-E873B10020D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EB1C-95CD-46ED-ADAE-C5A2D15D4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ing and Running a Java IDL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7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ll or stop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orb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finished. The name server will continue to wait for invocations until it is explicitly stoppe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 Stop the object ser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4C29-4725-4BD4-A215-3DB05D5058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1D80-0C5A-440B-A1E2-583081D78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have been introduc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pecific CORBA facility based on the architectur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5D14-B373-4195-AFD1-974F2327ADF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62F0-0B3B-42F7-B318-DA3F17631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topics introduced with CORBA 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asic CORBA architecture and its emphasis on object interoperability and platform 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Request Broker (ORB) and its functionali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ter-ORB Protocol (IIOP) and its significa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reference and the Interoperable Object Reference (IOR)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Naming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operable Naming Serv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CORB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serv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how they are provi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 adap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ortab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object Adapter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their signific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5C26-E7A8-41DE-9B93-15F054F56EA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1CA2-E6E4-4AA7-8743-F631CFFD3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key topics introduced 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ID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part of the Java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Platform, Standard Edition (J2SE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va  packages are provided which contain interfaces and classes for CORBA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 provided for developing a CORBA application inclu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IDL compiler) and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b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ORB and name serv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example application Hel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eps for compiling and running an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callback is achiev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601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tookits and Java RMI are comparable and alternative technologies that provide distributed objects.   An applicaton may be implemented using either technology.  However, there are tradeoffs between the tw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822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B33C-F172-4299-88EF-98B288C06D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5F4C-1757-4918-8933-36F26761A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Object Interfac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buted object is defined using a software file similar to the remote interface file in Java RMI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CORBA is language independent, the interface is defined using a universal language with a distinct syntax, known as the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BA Interface Definition Langua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ntax of CORBA IDL is similar to Java and C++.  However, object defined in a CORBA IDL file can be implemented in a large number of diverse programming languages, including C, C++, Java, COBOL, Smalltalk, Ada, Lisp, Python, and IDLScript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of these languages, OMG has a standardized mapping from CORBA IDL to the programming language, so that a compiler can be used to process a CORBA interface to generate the proxy files needed to interface with an object implementation or an object client written in any of the CORBA-compatible languag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A3D5-0FD0-4028-9E10-71624BAB5B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88FA5-239C-4BE0-A71B-AA3F6F2C2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language CORBA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380880" y="2117880"/>
          <a:ext cx="8229600" cy="300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117880"/>
                    <a:ext cx="8229600" cy="300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BF9D1-DD98-4602-AF1E-6C2D01E27A9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895F-D05C-4C6F-AB14-DFA7C6FFB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3b1"/>
                </a:solidFill>
                <a:uFillTx/>
                <a:latin typeface="Times New Roman"/>
                <a:hlinkClick r:id="rId1"/>
              </a:rPr>
              <a:t>ORB Core Feature Matrix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63b1"/>
                </a:solidFill>
                <a:uFillTx/>
                <a:latin typeface="Times New Roman"/>
                <a:hlinkClick r:id="rId2"/>
              </a:rPr>
              <a:t>ORB Core Feature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etus-links.org/oo_object_request_brokers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ief tu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java.sun.com/developer/onlineTraining/corba/corba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3"/>
          <p:cNvSpPr/>
          <p:nvPr/>
        </p:nvSpPr>
        <p:spPr>
          <a:xfrm>
            <a:off x="53352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FCCF-812F-42D9-A2C5-49D7CF3AC8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ooter Placeholder 4"/>
          <p:cNvSpPr/>
          <p:nvPr/>
        </p:nvSpPr>
        <p:spPr>
          <a:xfrm>
            <a:off x="297180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tributed Computing, M. L. Li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400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5B6A-8B07-4C47-8530-61B82D19F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ORB Protoco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To allow ORBs to be interoperable, the OMG specified a protocol known a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Inter-ORB P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I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a specification which “provides a general framework for protocols to be built on top of specific transport layers.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63b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special case of the protocol is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-ORB Protoco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I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), which is the GIOP applied to the TCP/IP transport lay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hithi</dc:creator>
  <dc:description/>
  <dc:language>en-US</dc:language>
  <cp:lastModifiedBy>sahithi</cp:lastModifiedBy>
  <dcterms:modified xsi:type="dcterms:W3CDTF">2012-10-28T14:03:53Z</dcterms:modified>
  <cp:revision>29</cp:revision>
  <dc:subject/>
  <dc:title>PowerPoint Presentation</dc:title>
</cp:coreProperties>
</file>