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562-2A71-4BF4-A3DE-D1C0EDA0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9A11-F587-4CF7-9355-D2ACF833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C4B-712D-4034-BD1E-BB0361C66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BACA-5254-4254-95AE-429D807D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B0DD-40F7-4B11-9FB4-E564F13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2178-CBDA-4587-95CC-734C88B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CD58-E435-4AEB-8D27-E2A96ADF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0D9E-EE4A-425A-ADD1-208850FD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D32C-D74F-49DC-AE93-C2B3A1C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11AC-3F12-4942-B03B-54BE34B9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53DF-6402-46EB-A22A-D6654A29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622-A37F-4405-A493-DDCF327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11CD-0592-4354-959D-5D89BF9C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7E1D-1D70-450D-95F6-F12A0076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C36-9965-4AD5-B412-EE38FAB0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49641-A09C-40D6-A427-FD3CC314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332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576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39D1-9498-4AC9-9538-26642B7E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47EA-0E40-4666-938A-9188E49C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E674-57A5-4633-8820-283954B7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626-82DA-48D6-B44F-84934DCC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FCE-20CC-4056-B065-631F6E04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FBA-22C6-432A-89D4-3A7C26D6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730-3D8F-4745-A6B9-FD80DED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775-AA0F-4218-9AA6-C905C88F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-914400"/>
            <a:ext cx="8991720" cy="6858000"/>
            <a:chOff x="152280" y="-91440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-91440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-91440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-53352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066680"/>
              <a:ext cx="6858000" cy="487692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9795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9795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9795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9795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7277-65EC-4E82-BAAE-41B0F3410E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AAD0-B6D1-4C00-854B-8BD3C8124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5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>
                  <a:gd name="textAreaLeft" fmla="*/ 0 w 5781600"/>
                  <a:gd name="textAreaRight" fmla="*/ 5781960 w 5781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F4FF-7ABD-4712-9E07-30B72DAB7739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E1E5-05D9-4264-AF95-CFAD2154D0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rbmatrix.html" TargetMode="External"/><Relationship Id="rId2" Type="http://schemas.openxmlformats.org/officeDocument/2006/relationships/hyperlink" Target="file:///orbmatrix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ADF2-FC9D-4EE8-86B0-9E94789F44DF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50B8-4391-4485-83AD-E678EB0BAE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bject Request Broker Architecture (CORBA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 L.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B578-2ABC-4F32-8D6B-9A7ADA20DA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E2E1-6E96-4856-A8FB-0B8387F88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ORB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IOP specification includes the following ele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management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specifies the connection and disconnection requirements, and the roles for the object client and object server in making and unmaking conn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common data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a coding scheme for marshalling and unmarshalling data of each IDL data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form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ifferent types of message format are defined. The messages allow clients to send requests to object servers and receive replies. A client uses a Request message to invoke a method declared in a CORBA interface for an object and receives a reply message from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2F32-BAB0-41D0-9509-C5118F78D3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A2F9-6FE7-4BD9-A726-6B2067AF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B which adheres to the specifications of the IIOP may interoperate with any other IIOP-compliant ORBs over the Internet.  This gives rise to the term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where the Internet is seen as a bus that interconnects CORBA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24"/>
          <p:cNvGraphicFramePr/>
          <p:nvPr/>
        </p:nvGraphicFramePr>
        <p:xfrm>
          <a:off x="838080" y="3048120"/>
          <a:ext cx="731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731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D485-7BDD-4FFA-986D-1DDDBA2D97D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E831-D03D-4F8E-AA5C-D7B168807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arge number of proprietary as well as experimental ORB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 CORBA Product Profiles, http://www.puder.org/corba/matrix/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x I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land Visi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mTech’s Ope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Logic Enterprise from B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Broker from EN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O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A795-4188-4BC0-9B43-9C4BDBB395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530-88C4-435D-8E2A-92BF7FE08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ers and Object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 Java RMI, a CORBA distributed object is exported by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ilar to the object server in RMI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cl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ieves a reference to a distributed object from a naming or directory service, to be described, and invokes the methods of the distributed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1BD1-44DD-418A-B611-1A7F5BACCA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1322-C0F0-4FD9-A777-1D194BB67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 Java RMI, a CORBA distributed object is located using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CORBA is language-independent, a CORBA object reference is an abstract entity mapped to a language-specific object reference by an ORB, in a representation chosen by  the developer of the O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teroperability, OMG specifies a protocol for the abstract CORBA object reference object,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oc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C0E0-A809-4769-BCF8-04B6AB97BD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412-4EAB-4892-BF87-1DAD44749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teroperability, OMG specifies a protocol for the abstract CORBA object reference object,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oco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B compatible with the IOR protocol will allow an object reference to be registered with and retrieved from any IOR-compliant directory service.  CORBA object references represented in this protocol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25FE-3FDC-4DA2-AFA8-624F271527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3FDC-D54B-4C7A-822E-129F642D2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IOR  is a string that contains encoding for the following  inform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 of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st where the object can be fou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rt number of the server for that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object key, a string of bytes identifying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ject key is used by an object server to locate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CF4B-9C08-4F51-A869-7B87984C77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E9E-86A7-41DC-9027-736A98C4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is an example of the string representation of an IOR [5]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000000000000000d49444c3a677269643a312e3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0001000000000000004c0001000000000015756c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2612e6475626c696e2e696f6e612e6965000009630000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83a5c756c7472612e6475626c696e2e696f6e612e69653a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269643a303a3a49523a6772696400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presentation consists of the character prefix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ollowed by a series of hexadecimal numeric characters, each character representing 4 bits of binary data in the 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BE1E-0502-40A4-85EC-735475F062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35DE-B7A1-4B62-B8FA-5E78A98E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BA specifies a generic directory service. 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ming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rves as a directory for CORBA objects, and, as such, is platform independent and programming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aming Service permits ORB-based clients to obtain references to objects they wish to use. It allows names to be associated with object references. Clients may query a naming service using a predetermined name to obtain the associated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C8D0-ADFD-4040-BB78-050DD29A64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E4B8-8D51-444A-882A-2F905CC4F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ort a distributed object, a CORBA object server contacts a Naming Service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mbolic name to the object.   The Naming Service maintains a database of names and the objects associated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btain a reference to the object, an object client requests the Naming Service to look up the object associated with the name. (This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object name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I for the Naming Service is specified in interfaces defined in IDL, and includes methods  that allow servers to bind names to objects and clients to resolve those na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ED2-CB0D-4E3A-B31E-B0CAF9D1E2A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88B4-679A-4623-AF0F-E37DFEE1C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bject Request Broker Architecture (CORBA) is a standard architecture for a distributed objects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designed to allow distributed objects to interoperate in a heterogenous environment, where objects can be implemented in different programming language and/or deployed on different plat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1EB0-A05F-4E4D-B5B6-6C38DEFCAD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0C5F-E84F-4C14-A0CA-559A6B9EA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s general as possible, the CORBA object naming scheme is necessarily complex.  Since the name space is universal, a standard naming hierarchy is defined in a manner similar to the naming hierarchy in a file direc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1024"/>
          <p:cNvGraphicFramePr/>
          <p:nvPr/>
        </p:nvGraphicFramePr>
        <p:xfrm>
          <a:off x="1523880" y="2743200"/>
          <a:ext cx="5257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525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C70C-D67D-4BCB-90A9-4434590ACA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1270-7199-4E4C-928B-AA7A20D05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ing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ming context correspond to a folder or directory in a file hierarchy, while object names corresponds to a fi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ll name of an object, including all the associated naming contexts,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first component of a compound name gives the name of a naming context, in which the second component is accessed. This process continues until the last component of the compound name has been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contexts and name bindings are created using methods provided in the Naming Servic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78A-7EBA-445F-A725-839D312E32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4EFB-1680-45E3-8396-5F595A6BF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RBA objec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ntax for an object name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ing context &gt; …&lt;naming context&gt;&lt;object 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sequence of naming contexts leads to the objec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F58-52BC-4D5A-AE2E-0331E8C79C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AD21-A2BE-4C80-BFE3-2BA5E6FE0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 naming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shown, an object representing the men’s clothing department is nam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ore.clothing.m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l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aming contexts,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bjec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024"/>
          <p:cNvGraphicFramePr/>
          <p:nvPr/>
        </p:nvGraphicFramePr>
        <p:xfrm>
          <a:off x="2209680" y="3429000"/>
          <a:ext cx="4648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4648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ED34-5CB8-4FAC-9ACC-A7E629F67B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23E-5802-4EB5-946A-C89A8C250F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 URL-based naming system based on the CORBA Naming Service, it allows applications to share a common initial naming context and provides a URL to access a CORBA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8F85-1E6D-4420-9C44-1D0DF972D3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99A3-97BE-4AB7-9CD3-D860CDDFF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specifies services commonly needed in distributed applications, some of which 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synchroniz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logg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schedul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security manag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locating a service by the type (instead of by 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ervice for time-related ev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s notificat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Transaction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transactional process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ice is defined in a standard IDL that can be implemented by a developer of the service object, and whose methods can be invoked by a CORBA cli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D949-F537-45CC-A80A-7B642845D2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33E-217D-4BAF-A28F-8CE078119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asic architecture of CORBA, the implementation of a distributed object interfaces with the skeleton to interact with the stub on the object client side.  As the architecture evolved, a software component in addition to the skeleton was needed on the server side: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1024"/>
          <p:cNvGraphicFramePr/>
          <p:nvPr/>
        </p:nvGraphicFramePr>
        <p:xfrm>
          <a:off x="2625840" y="3048120"/>
          <a:ext cx="26319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5840" y="3048120"/>
                    <a:ext cx="2631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45E2-6E60-4B6C-A8B2-E51FCB50F0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F698-3973-4ACD-BF17-7952F7228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s.wustl.edu/~schmidt/PDF/POA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adapter simplifies the responsibilities of an ORB by assisting an ORB in delivering a client request to an object implemen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ORB receives a client’s request, it locates the object adapter associated with the object and forwards the request  to the adap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apter interacts with the object implementation’s skeleton, which performs data marshalling and invoke the appropriate method in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66DB-7B2B-4655-8171-CD056AA739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613E-DF79-4E20-B091-04C6BA972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Object 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different types of CORBA object adapt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Object Adap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articular type of object adapter that is defined by the CORBA specification. An object adapter that is a POA allows an object implementation to function with different ORBs, hence the word por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EC2-205C-40F8-B10E-5C1765E6897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F79-F8A1-4C3D-B83C-DA4A743C8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IDL (Java 1.4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37B4-54CC-4C23-9188-64BB0A20F1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367-8322-4427-8CDC-0105AC773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vs. Java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differs from the architecture of Java RMI in one significant aspe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I is a proprietary facility developed by Sun MicroSystems, Inc., and supports objects written in the Java programming langugage on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n architecture that was developed by the Object Management Group (OMG),  an industrial consor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7FDE-BB4D-45FE-88A5-C7870DEDF4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F97-6F9F-457B-A967-A7240803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– Java’s CORBA Fac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 is part of the Java 2 Platform, Standard Edition (J2S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IDL facility includes a CORBA Object Request Broker (ORB), an IDL-to-Java compile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subset of CORBA standard ser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the Java IDL,  Java provides a number of CORBA-compliant facilities, includ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I over II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allows a CORBA application to be written using the RMI syntax and semant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0A6C-C3B5-4A46-972C-A3FF4899B9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E813-4FC9-4B45-89FA-437F59A74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Java IDL Pack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org.omg.CORBA – contains interfaces and classes which provides the mapping of the OMG CORBA APIs to the Jav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org.omg.CosNaming - contains interfaces and classes which provides the naming service for Java ID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.omg.CORBA.ORB - contains interfaces and classes which provides APIs for the Object Request Bro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67BA-8D03-4129-9506-7E679231F5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1161-40F3-4AE6-B353-94588BAA9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provides a set of tools needed for developing a CORBA applic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dlj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L-to-Java compiler (called idl2java in Java 1.2 and bef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r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 server process which provides Naming Service and oth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ervert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rovides a command-line interface for application programmers to register/unregister an object,  and startup/shutdown a ser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nameser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 olderTransient Java IDL Naming Service whose use is now discourag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54D0-3EBC-4C5D-A6CB-026AB3298DC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335D-801F-48DF-8238-AB898F5D06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ava IDL applic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1FC9-61D1-4D8C-9F78-452946BB72A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C2E-211D-448F-BE12-0A257619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BA Interface 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.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1. module Hello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2.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3.   interface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4. 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5.   string sayHello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6.   oneway void shutdow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7.   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8. 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B40C-1092-481B-9DD6-A3968FE1D4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DF87-8C37-4518-A668-C68DD05F9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the IDL file (using Java 1.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L file should be placed in a directory dedicated to the application.  The file is compiled using the compil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a comman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dlj 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  <a:ea typeface="Courier New"/>
              </a:rPr>
              <a:t>-fal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option is necessary for the compiler to generate all the file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files can be found in a subdirectory nam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ome name&gt;A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an interface file nam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ome name&gt;.i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ompilation is successful, the following files can be found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directo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Operations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ja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elper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olde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HelloStub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POA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iles require no mod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0EC9-3039-43F4-BCF2-B90225B07D2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B967-ABAA-49EA-9595-DBDBA7DA4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*Operations.jav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Operations.java found in HelloApp/ after you compiled using id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t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Java interface file that is equivalent to the CORBA IDL interface file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i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look at this file to make sure that the method signatures correspond to what you exp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2D6-990D-4288-B6B9-9BE494D1950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7AF-AB58-43AD-B284-F3E56DA3B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Operations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le contains the methods specified in the original IDL file: in this case the method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Hello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ut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1. 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4. 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5. * HelloApp/Hello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6. * Generated by the IDL-to-Java compiler (portabl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7. *  version "3.1" from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8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0. public interface Hello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1.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2.   String sayHello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3.   void shutdown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4. } // interface Hello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879-A644-401A-A362-E70D871072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7029-75B7-4727-8A16-E1EFBD4DB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ture interface file combines the characteristics of the Jav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Operations.jav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characteristics of the CORBA classes that it exte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1. 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3. 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4. * HelloApp/Hell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5. * Generated by the IDL-to-Java compiler (portabl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6. * version "3.1" from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7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9. public interface Hello extends HelloOper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0.   org.omg.CORBA.Obje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1.   org.omg.CORBA.portable.IDL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2. {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3. } // interface H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E8A9-B07E-4F74-96A6-7F1A453517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0F1C-7193-403B-8EBC-A5F12B647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loHelper.java, the Help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elper (Figure 7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auxiliary functionality needed to support a CORBA object in the context of the Java langu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ular, a method,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arrow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allow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 to be cast to its corresponding type in Java, so that a CORBA object may be operated on using syntax for Java obj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DFC3-2BE1-4C81-A3FE-BD1917FA97F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5F7C-6ADA-481C-BF28-3F944969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not in inself a distributed objects facility; instead, it is a set of protoco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object facility which adhere to these protocols is said to be CORBA-compliant, and the distributed objects that the facility support can interoperate with objects supported by other CORBA-compliant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 very rich set of protocols.  We will instead focus on the key concepts of CORBA related to the distributed objects paradigm.  We will also study a facility based on CORBA: the Java ID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F599-16D1-46D1-9369-6582818BBF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E7D6-2E40-4959-912C-7701B8F8A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older.java, the Holder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call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older (Figure 7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(contains) a reference to an object that implement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is used to handl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 in IDL in Java syntax   </a:t>
            </a:r>
            <a:br>
              <a:rPr sz="3200"/>
            </a:b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DL, a parameter may be declared to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an output argument,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parameter contains an input value as well as carries an output valu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C9DC-517A-48BC-86D7-CEB9392F7C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AA23-81CA-4F01-BE45-79AD0DFF6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_HelloStub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Stub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gure 7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tub file, the client-side proxy, which interfaces with the client objec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portable.ObjectIm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mplement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DD6B-76A3-4390-B760-77F7DDE85B0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5F14-2C80-46D6-B98F-28C2CF38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loPOA.java, the server ske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ImplPO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(Figure 7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keleton, the  server-side proxy, combined with the portable object adap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.omg.PortableServer.Ser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implement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Handle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an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CF7C-4457-4276-99BD-1D67B3B9CB6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C5E0-5680-442B-869A-14D89552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-sid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server side, two classes need to be provided: the servant and the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ant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Im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the implementation of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L interface; eac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n instantiation of this cla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AE80-FE31-45DB-8DF0-67354EC20A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847-13C4-4CDA-B69F-DE065E13E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rvant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Impl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servant -- object implementation -- for th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xample.  Note that this is a subclass of HelloPO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hose source file is generated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il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.idl using j2id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6.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7. import org.omg.CosNaming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8. import java.util.Properties;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. clas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extends HelloPOA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.   private ORB or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8.   public void setORB(ORB orb_va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.     orb = orb_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2.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// implement sayHello()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3.   public String sayHell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4.     return "\nHello world !!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5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.   // implement shutdown()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.   public void shutdow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.     orb.shutdown(fals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. } //end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899F-9515-4829-9ACB-F5C3350AEA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D03D-DD36-47F7-9DFA-EB53577F4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- HelloApp/HelloServer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and initialize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 orb = ORB.init(args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reference to rootpoa &amp; activate the POA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A rootpoa =              (POA)orb.resolve_initial_references("RootPO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poa.the_POAManager().activa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servant and register it with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ORB(or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object reference from the 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poa.servant_to_reference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nd cast the reference to a CORB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ref =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er.narrow(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95DA-A745-49B3-B553-0F119F3267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561E-2D00-43BD-AA1E-C813082E1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Server.java -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the root naming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Service invokes the transient nam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obj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esolve_initial_references("Name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Use NamingContextExt, which is par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teroperable Naming Service (INS)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 nc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Helper.narrow(obj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ind the Object Reference in N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 =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Component path[] = ncRef.to_name( nam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cRef.rebind(path, h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y and waiting 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ait for invocations from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u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E787-F1C3-46A9-B847-D36A028EEF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8C3E-E80A-47BB-A649-048797FD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client 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ient program can be a Java application, an applet, or a servl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code is responsible for creating and initializing the ORB, looking up the object using the Interoperable Naming Service, invoking the narrow method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to cast the object reference to a reference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mplementation, and invoking remote methods using the reference.  The object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s invoked to receive a string, and the object’s shutdown method is invoked to deactivate th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B08C-32B1-4C83-BB78-1B9FB6B922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E10B-1564-4428-9E17-77FEBD87A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sample object client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pp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org.omg.CosNaming.*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Hello helloImp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 orb = ORB.init(args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obj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esolve_initial_references("Name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 nc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Helper.narrow(obj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elper.narrow(ncRef.resolve_str(“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.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ay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.shutdow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4C29-AC3A-4074-A15B-E839FA521C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984B-8737-4A0E-911F-BC1D92261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63b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d compil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.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 on the server machi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dlj -fall Hello.i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the directory containing Hello.idl (including the subdirectory generat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client machin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on the client machine: 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Client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*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, including the stubs and skeletons (which are in the direc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avac *.java HelloApp/*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142-9869-45FA-9A96-7BA9631984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AAA-1A9D-4E1F-A204-96DD4EA91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Archite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411120" y="1066680"/>
          <a:ext cx="81676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066680"/>
                    <a:ext cx="81676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824-7916-4B13-AE91-0745B298FD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D50A-8360-4E54-ADA9-E623794FF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on the server mach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Server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Compil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avac *.java HelloApp/*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server machine: Start the Java Object Request Broker Daemo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ncludes a Naming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 on Uni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d -ORBInitialPort 1050 -ORBInitial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machin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 on Window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orbd -ORBInitialPort 1050 -ORBInitial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machin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1D6F-D501-432E-B19A-29E1BCE1E0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80C0-7A11-4D55-8083-3ED479C74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On the server machine, start the Hello server,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java HelloServer –ORBInitialHost &lt;nameserver host name&gt; -ORBInitialPort 1050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On the client machine, ru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client. From a DOS prompt or shell, ty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java HelloClient -ORBInitialH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nameserver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-ORBInitialPort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n on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erverh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host on which the IDL name server is running. In this case, it is the server mach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1383-3D14-4D73-B6AC-F8D271BE4E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A0E6-D523-4ED6-87CD-21A13B3B4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or sto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rb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finished. The name server will continue to wait for invocations until it is explicitly stopp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Stop the object 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9C65-84FA-4926-80DD-31F8B50E8DF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47FF-39EC-4A56-BAB8-7C71BFA3F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been introduc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CORBA facility based on the architectur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BCCB-CC7B-43C9-9A82-BBA38EB2BA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4FAA-5173-43BC-A239-CE495E49E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topics introduced with CORBA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RBA architecture and its emphasis on object interoperability and platform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quest Broker (ORB) and its functiona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-ORB Protocol (IIOP) and its signific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 and the Interoperable Object Reference (IOR)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RB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how they are 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tab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object Adap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ir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C20F-9C68-42E1-A567-151D6BF30E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1C83-BDFD-4927-A710-E03B98678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topics introduced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art of the Java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Platform, Standard Edition (J2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 packages are provided which contain interfaces and classes for CORBA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provided for developing a CORBA application inclu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IDL compiler)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ORB and name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application He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for compiling and running an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callback is achiev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tookits and Java RMI are comparable and alternative technologies that provide distributed objects.   An applicaton may be implemented using either technology.  However, there are tradeoff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DA77-7480-45B8-929A-7431536667C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E84D-0DA8-4B9F-9897-0CEA1D29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object is defined using a software file similar to the remote interface file in Java RM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CORBA is language independent, the interface is defined using a universal language with a distinct syntax,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nterface Definition 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of CORBA IDL is similar to Java and C++.  However, object defined in a CORBA IDL file can be implemented in a large number of diverse programming languages, including C, C++, Java, COBOL, Smalltalk, Ada, Lisp, Python, and IDLScrip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f these languages, OMG has a standardized mapping from CORBA IDL to the programming language, so that a compiler can be used to process a CORBA interface to generate the proxy files needed to interface with an object implementation or an object client written in any of the CORBA-compatible langua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FC98-C5C3-48C0-93B3-DA50662790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C420-DEA6-4949-840D-16C0F480D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language CORBA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380880" y="2117880"/>
          <a:ext cx="8229600" cy="30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17880"/>
                    <a:ext cx="8229600" cy="30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3400-C443-43F6-8B2A-9F296F7864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68D9-0E2E-414E-9D4B-34811185A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3b1"/>
                </a:solidFill>
                <a:uFillTx/>
                <a:latin typeface="Times New Roman"/>
                <a:hlinkClick r:id="rId1"/>
              </a:rPr>
              <a:t>ORB Core Feature Matrix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3b1"/>
                </a:solidFill>
                <a:uFillTx/>
                <a:latin typeface="Times New Roman"/>
                <a:hlinkClick r:id="rId2"/>
              </a:rPr>
              <a:t>ORB Core Featur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object_request_broker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java.sun.com/developer/onlineTraining/corba/corb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6C1-C7A1-4400-A6E0-F25E05CA66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E44D-A194-46F3-BC1B-40268E03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ORB Protoc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 allow ORBs to be interoperable, the OMG specified a protocol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Inter-ORB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a specification which “provides a general framework for protocols to be built on top of specific transport layers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pecial case of the protocol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-ORB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which is the GIOP applied to the TCP/IP transport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hithi</dc:creator>
  <dc:description/>
  <dc:language>en-US</dc:language>
  <cp:lastModifiedBy>sahithi</cp:lastModifiedBy>
  <dcterms:modified xsi:type="dcterms:W3CDTF">2012-10-28T14:03:53Z</dcterms:modified>
  <cp:revision>29</cp:revision>
  <dc:subject/>
  <dc:title>PowerPoint Presentation</dc:title>
</cp:coreProperties>
</file>