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006E8-FD50-44C5-AD41-2DC4B092B98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399B1-5718-45E3-9359-5DC92D1D5D9A}"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1824A-F9CD-49CE-B84F-05299AF0C401}"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A57D2-8134-41BD-9C9C-72FDC9ACAEAF}"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FDFD1-7EDE-44AC-BAD0-9BB8D801F24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C0D34-F204-4A4A-834C-52EF0236DAC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BAC3-CE28-4B59-B243-BA4C7E3BF844}"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D51FD-2016-4337-911E-971C89520C5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68E86-6476-493C-8A5F-99AC43F7B49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02996-CA82-4B83-BD7B-A4E0FECE5337}"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390B2-CDA1-4EB6-9BE8-5F9893FB3CFC}"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0CF7D-5A3D-4C96-B921-CEF0F76B148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0B9CE-C203-4B3A-B23C-3F6B7580766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51D12-39A6-4444-9255-7D815B2B3FD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EA358-E942-424A-BA9E-05551DAA7BD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5739E-79A4-4F3F-8DF4-5CE4E2948193}"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AF738-2069-4BD9-9332-A99CAC233C9B}"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B55BA-46B4-456E-A7AE-7254F8621F98}"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2C601-0EEC-46B2-B1EE-1C3350B12DD3}"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6DB0A-ED34-442C-881F-2F6F6538F81F}"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6534F-9C05-428D-9E91-91DCD90C9E9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FAFC1-D25E-4623-A942-0484089DC49C}"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28FF9-2521-4DB3-954F-C1D6502A281E}"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054BD-AE23-4FDC-83B3-A977AB631F2F}"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2719F-BBFC-4201-BF92-69E14FFC7429}"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ECB0-FEF7-4BBD-83BE-B7F3CB608AF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83579-4FA8-4E2A-A60C-DE352A1587BD}"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1F486-5086-4DF7-8056-712936AB097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89B5C-4489-4201-95E3-EEB31470E9A5}"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81427-DD00-4CA0-8084-5AF7557089C0}"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10059-C828-4145-B886-4FD5DD2518C1}"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BB372-A833-43E4-8D5B-3CC456EDF642}" type="slidenum">
              <a:rPr b="0" lang="ar-SA"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1B6323-4C22-4D77-9392-B0C3F5A72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89B71-79FC-4FE7-B5B7-F5F81A759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61E0E4-208C-4AB2-B7EA-ADA12BFB0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9138E-2E5F-4A7F-8D86-8A57A96EE7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30D976-435B-4A11-979D-CF919BED23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0C2EB5-1C8A-4AC3-88D4-64E5FAEBA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FD272-147C-4174-9305-B8D3F2173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E7B3AE-7E9D-4DF8-99FF-E9785037E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FFC38-9D13-4455-950A-BF239A05A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C034E-CF64-4BEF-9F46-D5F4F33E29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99053D-67D5-413C-B44F-8BBAE76609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AAD8C-BC40-40B6-AC60-260329747C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1AD97-76E2-4B3E-9AFA-BB4DD57A5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2360C8-C8F0-4C3D-8D1A-52DBB5805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D46FC7-CF45-4F6F-B2AD-286757B712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3EFD93-9678-482C-8E9B-A2A89777A2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F075B7-3410-44C4-941C-8B92AC5A16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7A615-647B-4B44-85EA-95DF3C8EB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44130-C1B9-4288-9F64-6C0DDC0A6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A9E2A-C12D-476D-9D4E-5A922F2329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6016A-7A92-4AAD-B909-2E8519EDB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CF50B-77AF-4E87-82AD-0BA17D22F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94A24-582F-4A59-A5F6-F21C514A2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D9D77-5712-44A1-8E71-A3E3955582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A2A6D-6961-4DA7-AE22-D104343EC69D}" type="slidenum">
              <a:rPr b="0" lang="ar-SA"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E6D5-F1DA-43CF-9D78-CA999053C254}" type="slidenum">
              <a:rPr b="0" lang="ar-SA"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ea typeface="SimSun"/>
              </a:rPr>
              <a:t>Chapter 8. Pipelining</a:t>
            </a:r>
            <a:endParaRPr b="1" lang="en-US" sz="4800" spc="-1" strike="noStrike">
              <a:solidFill>
                <a:srgbClr val="330066"/>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a typeface="SimSu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Use the Idea of Pipelining in a Computer</a:t>
            </a:r>
            <a:endParaRPr b="1" lang="en-US" sz="3900" spc="-1" strike="noStrike">
              <a:solidFill>
                <a:srgbClr val="330066"/>
              </a:solidFill>
              <a:latin typeface="Arial"/>
            </a:endParaRPr>
          </a:p>
        </p:txBody>
      </p:sp>
      <p:pic>
        <p:nvPicPr>
          <p:cNvPr id="857" name="Picture 4" descr="figure8"/>
          <p:cNvPicPr/>
          <p:nvPr/>
        </p:nvPicPr>
        <p:blipFill>
          <a:blip r:embed="rId1"/>
          <a:stretch/>
        </p:blipFill>
        <p:spPr>
          <a:xfrm>
            <a:off x="3124080" y="1066680"/>
            <a:ext cx="4351320" cy="5483520"/>
          </a:xfrm>
          <a:prstGeom prst="rect">
            <a:avLst/>
          </a:prstGeom>
          <a:ln w="0">
            <a:noFill/>
          </a:ln>
        </p:spPr>
      </p:pic>
      <p:sp>
        <p:nvSpPr>
          <p:cNvPr id="858" name="Text Box 5"/>
          <p:cNvSpPr/>
          <p:nvPr/>
        </p:nvSpPr>
        <p:spPr>
          <a:xfrm>
            <a:off x="594720" y="17128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etch + Dec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Execution + Write</a:t>
            </a:r>
            <a:endParaRPr b="0" lang="en-US" sz="1800" spc="-1" strike="noStrike">
              <a:solidFill>
                <a:srgbClr val="000000"/>
              </a:solidFill>
              <a:latin typeface="Arial"/>
            </a:endParaRPr>
          </a:p>
        </p:txBody>
      </p:sp>
      <p:sp>
        <p:nvSpPr>
          <p:cNvPr id="859" name="Text Box 6"/>
          <p:cNvSpPr/>
          <p:nvPr/>
        </p:nvSpPr>
        <p:spPr>
          <a:xfrm>
            <a:off x="380880" y="556272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xtbook page: 45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Role of Cache Memory</a:t>
            </a:r>
            <a:endParaRPr b="1" lang="en-US" sz="3900" spc="-1" strike="noStrike">
              <a:solidFill>
                <a:srgbClr val="330066"/>
              </a:solidFill>
              <a:latin typeface="Arial"/>
            </a:endParaRPr>
          </a:p>
        </p:txBody>
      </p:sp>
      <p:sp>
        <p:nvSpPr>
          <p:cNvPr id="86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Each pipeline stage is expected to complete in one clock cycl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The clock period should be long enough to let the slowest pipeline stage to complet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Faster stages can only wait for the slowest one to complet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Since main memory is very slow compared to the execution, if each instruction needs to be fetched from main memory, pipeline is almost useles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Fortunately, we have cach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861">
                                            <p:txEl>
                                              <p:pRg st="0" end="0"/>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861">
                                            <p:txEl>
                                              <p:pRg st="1" end="1"/>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861">
                                            <p:txEl>
                                              <p:pRg st="2" end="2"/>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861">
                                            <p:txEl>
                                              <p:pRg st="3" end="3"/>
                                            </p:txEl>
                                          </p:spTgt>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8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Pipeline Performance</a:t>
            </a:r>
            <a:endParaRPr b="1" lang="en-US" sz="3900" spc="-1" strike="noStrike">
              <a:solidFill>
                <a:srgbClr val="330066"/>
              </a:solidFill>
              <a:latin typeface="Arial"/>
            </a:endParaRPr>
          </a:p>
        </p:txBody>
      </p:sp>
      <p:sp>
        <p:nvSpPr>
          <p:cNvPr id="86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The potential increase in performance resulting from pipelining is proportional to the number of pipeline stag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However, this increase would be achieved only if all pipeline stages require the same time to complete, and there is no interruption throughout program execu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Unfortunately, this is not tru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863">
                                            <p:txEl>
                                              <p:pRg st="0" end="0"/>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863">
                                            <p:txEl>
                                              <p:pRg st="1" end="1"/>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8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Pipeline Performance</a:t>
            </a:r>
            <a:endParaRPr b="1" lang="en-US" sz="3900" spc="-1" strike="noStrike">
              <a:solidFill>
                <a:srgbClr val="330066"/>
              </a:solidFill>
              <a:latin typeface="Arial"/>
            </a:endParaRPr>
          </a:p>
        </p:txBody>
      </p:sp>
      <p:pic>
        <p:nvPicPr>
          <p:cNvPr id="865" name="Picture 4" descr="figure8"/>
          <p:cNvPicPr/>
          <p:nvPr/>
        </p:nvPicPr>
        <p:blipFill>
          <a:blip r:embed="rId1"/>
          <a:stretch/>
        </p:blipFill>
        <p:spPr>
          <a:xfrm>
            <a:off x="609480" y="1600200"/>
            <a:ext cx="7223400" cy="484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Pipeline Performance</a:t>
            </a:r>
            <a:endParaRPr b="1" lang="en-US" sz="3900" spc="-1" strike="noStrike">
              <a:solidFill>
                <a:srgbClr val="330066"/>
              </a:solidFill>
              <a:latin typeface="Arial"/>
            </a:endParaRPr>
          </a:p>
        </p:txBody>
      </p:sp>
      <p:sp>
        <p:nvSpPr>
          <p:cNvPr id="86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The previous pipeline is said to have been stalled for two clock cycles.</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Any condition that causes a pipeline to stall is called a hazard.</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Data hazard – any condition in which either the source or the destination operands of an instruction are not available at the time expected in the pipeline. So some operation has to be delayed, and the pipeline stalls.</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Instruction (control) hazard – a delay in the availability of an instruction causes the pipeline to stall.</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Structural hazard – the situation when two instructions require the use of a given hardware resource at the same tim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867">
                                            <p:txEl>
                                              <p:pRg st="0" end="0"/>
                                            </p:txEl>
                                          </p:spTgt>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867">
                                            <p:txEl>
                                              <p:pRg st="1" end="1"/>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867">
                                            <p:txEl>
                                              <p:pRg st="2" end="2"/>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867">
                                            <p:txEl>
                                              <p:pRg st="3" end="3"/>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8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Pipeline Performance</a:t>
            </a:r>
            <a:endParaRPr b="1" lang="en-US" sz="3900" spc="-1" strike="noStrike">
              <a:solidFill>
                <a:srgbClr val="330066"/>
              </a:solidFill>
              <a:latin typeface="Arial"/>
            </a:endParaRPr>
          </a:p>
        </p:txBody>
      </p:sp>
      <p:pic>
        <p:nvPicPr>
          <p:cNvPr id="869" name="Picture 4" descr="figure8"/>
          <p:cNvPicPr/>
          <p:nvPr/>
        </p:nvPicPr>
        <p:blipFill>
          <a:blip r:embed="rId1"/>
          <a:stretch/>
        </p:blipFill>
        <p:spPr>
          <a:xfrm>
            <a:off x="1981080" y="1374840"/>
            <a:ext cx="4818240" cy="5483160"/>
          </a:xfrm>
          <a:prstGeom prst="rect">
            <a:avLst/>
          </a:prstGeom>
          <a:ln w="0">
            <a:noFill/>
          </a:ln>
        </p:spPr>
      </p:pic>
      <p:sp>
        <p:nvSpPr>
          <p:cNvPr id="870" name="Text Box 5"/>
          <p:cNvSpPr/>
          <p:nvPr/>
        </p:nvSpPr>
        <p:spPr>
          <a:xfrm>
            <a:off x="7010280" y="441972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le periods – stalls (bubbles)</a:t>
            </a:r>
            <a:endParaRPr b="0" lang="en-US" sz="1800" spc="-1" strike="noStrike">
              <a:solidFill>
                <a:srgbClr val="000000"/>
              </a:solidFill>
              <a:latin typeface="Arial"/>
            </a:endParaRPr>
          </a:p>
        </p:txBody>
      </p:sp>
      <p:sp>
        <p:nvSpPr>
          <p:cNvPr id="871" name="Text Box 6"/>
          <p:cNvSpPr/>
          <p:nvPr/>
        </p:nvSpPr>
        <p:spPr>
          <a:xfrm>
            <a:off x="228600" y="16002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Instruction haz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Pipeline Performance</a:t>
            </a:r>
            <a:endParaRPr b="1" lang="en-US" sz="3900" spc="-1" strike="noStrike">
              <a:solidFill>
                <a:srgbClr val="330066"/>
              </a:solidFill>
              <a:latin typeface="Arial"/>
            </a:endParaRPr>
          </a:p>
        </p:txBody>
      </p:sp>
      <p:pic>
        <p:nvPicPr>
          <p:cNvPr id="873" name="Picture 4" descr="figure8"/>
          <p:cNvPicPr/>
          <p:nvPr/>
        </p:nvPicPr>
        <p:blipFill>
          <a:blip r:embed="rId1"/>
          <a:stretch/>
        </p:blipFill>
        <p:spPr>
          <a:xfrm>
            <a:off x="1676520" y="1828800"/>
            <a:ext cx="5702040" cy="4876920"/>
          </a:xfrm>
          <a:prstGeom prst="rect">
            <a:avLst/>
          </a:prstGeom>
          <a:ln w="0">
            <a:noFill/>
          </a:ln>
        </p:spPr>
      </p:pic>
      <p:sp>
        <p:nvSpPr>
          <p:cNvPr id="874" name="Text Box 5"/>
          <p:cNvSpPr/>
          <p:nvPr/>
        </p:nvSpPr>
        <p:spPr>
          <a:xfrm>
            <a:off x="1282320" y="148428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Load  X(R1), R2</a:t>
            </a:r>
            <a:endParaRPr b="0" lang="en-US" sz="1800" spc="-1" strike="noStrike">
              <a:solidFill>
                <a:srgbClr val="000000"/>
              </a:solidFill>
              <a:latin typeface="Arial"/>
            </a:endParaRPr>
          </a:p>
        </p:txBody>
      </p:sp>
      <p:sp>
        <p:nvSpPr>
          <p:cNvPr id="875" name="Text Box 6"/>
          <p:cNvSpPr/>
          <p:nvPr/>
        </p:nvSpPr>
        <p:spPr>
          <a:xfrm>
            <a:off x="228600" y="160020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Structural haz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Pipeline Performance</a:t>
            </a:r>
            <a:endParaRPr b="1" lang="en-US" sz="3900" spc="-1" strike="noStrike">
              <a:solidFill>
                <a:srgbClr val="330066"/>
              </a:solidFill>
              <a:latin typeface="Arial"/>
            </a:endParaRPr>
          </a:p>
        </p:txBody>
      </p:sp>
      <p:sp>
        <p:nvSpPr>
          <p:cNvPr id="87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Again, pipelining does not result in individual instructions being executed faster; rather, it is the throughput that increases.</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Throughput is measured by the rate at which instruction execution is completed.</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Pipeline stall causes degradation in pipeline performance.</a:t>
            </a: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We need to identify all hazards that may cause the pipeline to stall and to find ways to minimize their impac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877">
                                            <p:txEl>
                                              <p:pRg st="0" end="0"/>
                                            </p:txEl>
                                          </p:spTgt>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877">
                                            <p:txEl>
                                              <p:pRg st="1" end="1"/>
                                            </p:txEl>
                                          </p:spTgt>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877">
                                            <p:txEl>
                                              <p:pRg st="2" end="2"/>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8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Quiz</a:t>
            </a:r>
            <a:endParaRPr b="1" lang="en-US" sz="3900" spc="-1" strike="noStrike">
              <a:solidFill>
                <a:srgbClr val="330066"/>
              </a:solidFill>
              <a:latin typeface="Arial"/>
            </a:endParaRPr>
          </a:p>
        </p:txBody>
      </p:sp>
      <p:sp>
        <p:nvSpPr>
          <p:cNvPr id="87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 instructions, the I2 takes two clock cycles for execution. Pls draw the figure for 4-stage pipeline, and figure out the total cycles needed for the four instructions to comple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ea typeface="SimSun"/>
              </a:rPr>
              <a:t>Data Hazards</a:t>
            </a:r>
            <a:endParaRPr b="1" lang="en-US" sz="4800" spc="-1" strike="noStrike">
              <a:solidFill>
                <a:srgbClr val="330066"/>
              </a:solidFill>
              <a:latin typeface="Arial"/>
            </a:endParaRPr>
          </a:p>
        </p:txBody>
      </p:sp>
      <p:sp>
        <p:nvSpPr>
          <p:cNvPr id="881" name="PlaceHolder 2"/>
          <p:cNvSpPr>
            <a:spLocks noGrp="1"/>
          </p:cNvSpPr>
          <p:nvPr>
            <p:ph type="subTitle"/>
          </p:nvPr>
        </p:nvSpPr>
        <p:spPr>
          <a:xfrm>
            <a:off x="848880" y="3049560"/>
            <a:ext cx="6248520" cy="236232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SimSu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Overview</a:t>
            </a:r>
            <a:endParaRPr b="1" lang="en-US" sz="3900" spc="-1" strike="noStrike">
              <a:solidFill>
                <a:srgbClr val="330066"/>
              </a:solidFill>
              <a:latin typeface="Arial"/>
            </a:endParaRPr>
          </a:p>
        </p:txBody>
      </p:sp>
      <p:sp>
        <p:nvSpPr>
          <p:cNvPr id="15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Pipelining is widely used in modern processor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Pipelining improves system performance in terms of throughpu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Pipelined organization requires sophisticated compilation techniqu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Data Hazards</a:t>
            </a:r>
            <a:endParaRPr b="1" lang="en-US" sz="3900" spc="-1" strike="noStrike">
              <a:solidFill>
                <a:srgbClr val="330066"/>
              </a:solidFill>
              <a:latin typeface="Arial"/>
            </a:endParaRPr>
          </a:p>
        </p:txBody>
      </p:sp>
      <p:sp>
        <p:nvSpPr>
          <p:cNvPr id="88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We must ensure that the results obtained when instructions are executed in a pipelined processor are identical to those obtained when the same instructions are executed sequentially.</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Hazard occurs</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	</a:t>
            </a:r>
            <a:r>
              <a:rPr b="0" lang="en-US" sz="2100" spc="-1" strike="noStrike">
                <a:solidFill>
                  <a:srgbClr val="000000"/>
                </a:solidFill>
                <a:latin typeface="Arial"/>
                <a:ea typeface="SimSun"/>
              </a:rPr>
              <a:t>	</a:t>
            </a:r>
            <a:r>
              <a:rPr b="0" lang="en-US" sz="2100" spc="-1" strike="noStrike">
                <a:solidFill>
                  <a:srgbClr val="000000"/>
                </a:solidFill>
                <a:latin typeface="Arial"/>
                <a:ea typeface="SimSun"/>
              </a:rPr>
              <a:t>A ← 3 + A</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	</a:t>
            </a:r>
            <a:r>
              <a:rPr b="0" lang="en-US" sz="2100" spc="-1" strike="noStrike">
                <a:solidFill>
                  <a:srgbClr val="000000"/>
                </a:solidFill>
                <a:latin typeface="Arial"/>
                <a:ea typeface="SimSun"/>
              </a:rPr>
              <a:t>	</a:t>
            </a:r>
            <a:r>
              <a:rPr b="0" lang="en-US" sz="2100" spc="-1" strike="noStrike">
                <a:solidFill>
                  <a:srgbClr val="000000"/>
                </a:solidFill>
                <a:latin typeface="Arial"/>
                <a:ea typeface="SimSun"/>
              </a:rPr>
              <a:t>B ← 4 × A</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No hazard</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	</a:t>
            </a:r>
            <a:r>
              <a:rPr b="0" lang="en-US" sz="2100" spc="-1" strike="noStrike">
                <a:solidFill>
                  <a:srgbClr val="000000"/>
                </a:solidFill>
                <a:latin typeface="Arial"/>
                <a:ea typeface="SimSun"/>
              </a:rPr>
              <a:t>	</a:t>
            </a:r>
            <a:r>
              <a:rPr b="0" lang="en-US" sz="2100" spc="-1" strike="noStrike">
                <a:solidFill>
                  <a:srgbClr val="000000"/>
                </a:solidFill>
                <a:latin typeface="Arial"/>
                <a:ea typeface="SimSun"/>
              </a:rPr>
              <a:t>A ← 5 × C</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	</a:t>
            </a:r>
            <a:r>
              <a:rPr b="0" lang="en-US" sz="2100" spc="-1" strike="noStrike">
                <a:solidFill>
                  <a:srgbClr val="000000"/>
                </a:solidFill>
                <a:latin typeface="Arial"/>
                <a:ea typeface="SimSun"/>
              </a:rPr>
              <a:t>	</a:t>
            </a:r>
            <a:r>
              <a:rPr b="0" lang="en-US" sz="2100" spc="-1" strike="noStrike">
                <a:solidFill>
                  <a:srgbClr val="000000"/>
                </a:solidFill>
                <a:latin typeface="Arial"/>
                <a:ea typeface="SimSun"/>
              </a:rPr>
              <a:t>B ← 20 + C</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When two operations depend on each other, they must be executed sequentially in the correct order.</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Another example:</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	</a:t>
            </a:r>
            <a:r>
              <a:rPr b="0" lang="en-US" sz="2100" spc="-1" strike="noStrike">
                <a:solidFill>
                  <a:srgbClr val="000000"/>
                </a:solidFill>
                <a:latin typeface="Arial"/>
                <a:ea typeface="SimSun"/>
              </a:rPr>
              <a:t>	</a:t>
            </a:r>
            <a:r>
              <a:rPr b="0" lang="en-US" sz="2100" spc="-1" strike="noStrike">
                <a:solidFill>
                  <a:srgbClr val="000000"/>
                </a:solidFill>
                <a:latin typeface="Arial"/>
                <a:ea typeface="SimSun"/>
              </a:rPr>
              <a:t>Mul  R2, R3, R4</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	</a:t>
            </a:r>
            <a:r>
              <a:rPr b="0" lang="en-US" sz="2100" spc="-1" strike="noStrike">
                <a:solidFill>
                  <a:srgbClr val="000000"/>
                </a:solidFill>
                <a:latin typeface="Arial"/>
                <a:ea typeface="SimSun"/>
              </a:rPr>
              <a:t>	</a:t>
            </a:r>
            <a:r>
              <a:rPr b="0" lang="en-US" sz="2100" spc="-1" strike="noStrike">
                <a:solidFill>
                  <a:srgbClr val="000000"/>
                </a:solidFill>
                <a:latin typeface="Arial"/>
                <a:ea typeface="SimSun"/>
              </a:rPr>
              <a:t>Add  R5, R4, R6</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0"/>
                                          </p:stCondLst>
                                        </p:cTn>
                                        <p:tgtEl>
                                          <p:spTgt spid="883">
                                            <p:txEl>
                                              <p:pRg st="0" end="0"/>
                                            </p:txEl>
                                          </p:spTgt>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883">
                                            <p:txEl>
                                              <p:pRg st="1" end="1"/>
                                            </p:txEl>
                                          </p:spTgt>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883">
                                            <p:txEl>
                                              <p:pRg st="2" end="2"/>
                                            </p:txEl>
                                          </p:spTgt>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0"/>
                                          </p:stCondLst>
                                        </p:cTn>
                                        <p:tgtEl>
                                          <p:spTgt spid="883">
                                            <p:txEl>
                                              <p:pRg st="3" end="3"/>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883">
                                            <p:txEl>
                                              <p:pRg st="4" end="4"/>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0"/>
                                          </p:stCondLst>
                                        </p:cTn>
                                        <p:tgtEl>
                                          <p:spTgt spid="883">
                                            <p:txEl>
                                              <p:pRg st="5" end="5"/>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0"/>
                                          </p:stCondLst>
                                        </p:cTn>
                                        <p:tgtEl>
                                          <p:spTgt spid="883">
                                            <p:txEl>
                                              <p:pRg st="6" end="6"/>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0"/>
                                          </p:stCondLst>
                                        </p:cTn>
                                        <p:tgtEl>
                                          <p:spTgt spid="883">
                                            <p:txEl>
                                              <p:pRg st="7" end="7"/>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883">
                                            <p:txEl>
                                              <p:pRg st="8" end="8"/>
                                            </p:txEl>
                                          </p:spTgt>
                                        </p:tgtEl>
                                        <p:attrNameLst>
                                          <p:attrName>style.visibility</p:attrName>
                                        </p:attrNameLst>
                                      </p:cBhvr>
                                      <p:to>
                                        <p:strVal val="visible"/>
                                      </p:to>
                                    </p:set>
                                  </p:childTnLst>
                                </p:cTn>
                              </p:par>
                              <p:par>
                                <p:cTn id="204" nodeType="withEffect" fill="hold" presetClass="entr" presetID="1">
                                  <p:stCondLst>
                                    <p:cond delay="0"/>
                                  </p:stCondLst>
                                  <p:childTnLst>
                                    <p:set>
                                      <p:cBhvr>
                                        <p:cTn id="205" dur="1" fill="hold">
                                          <p:stCondLst>
                                            <p:cond delay="0"/>
                                          </p:stCondLst>
                                        </p:cTn>
                                        <p:tgtEl>
                                          <p:spTgt spid="883">
                                            <p:txEl>
                                              <p:pRg st="9" end="9"/>
                                            </p:txEl>
                                          </p:spTgt>
                                        </p:tgtEl>
                                        <p:attrNameLst>
                                          <p:attrName>style.visibility</p:attrName>
                                        </p:attrNameLst>
                                      </p:cBhvr>
                                      <p:to>
                                        <p:strVal val="visible"/>
                                      </p:to>
                                    </p:set>
                                  </p:childTnLst>
                                </p:cTn>
                              </p:par>
                              <p:par>
                                <p:cTn id="206" nodeType="withEffect" fill="hold" presetClass="entr" presetID="1">
                                  <p:stCondLst>
                                    <p:cond delay="0"/>
                                  </p:stCondLst>
                                  <p:childTnLst>
                                    <p:set>
                                      <p:cBhvr>
                                        <p:cTn id="207" dur="1" fill="hold">
                                          <p:stCondLst>
                                            <p:cond delay="0"/>
                                          </p:stCondLst>
                                        </p:cTn>
                                        <p:tgtEl>
                                          <p:spTgt spid="883">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Data Hazards</a:t>
            </a:r>
            <a:endParaRPr b="1" lang="en-US" sz="3900" spc="-1" strike="noStrike">
              <a:solidFill>
                <a:srgbClr val="330066"/>
              </a:solidFill>
              <a:latin typeface="Arial"/>
            </a:endParaRPr>
          </a:p>
        </p:txBody>
      </p:sp>
      <p:grpSp>
        <p:nvGrpSpPr>
          <p:cNvPr id="885" name="Group 4"/>
          <p:cNvGrpSpPr/>
          <p:nvPr/>
        </p:nvGrpSpPr>
        <p:grpSpPr>
          <a:xfrm>
            <a:off x="609480" y="1676520"/>
            <a:ext cx="7531200" cy="5042160"/>
            <a:chOff x="609480" y="1676520"/>
            <a:chExt cx="7531200" cy="5042160"/>
          </a:xfrm>
        </p:grpSpPr>
        <p:pic>
          <p:nvPicPr>
            <p:cNvPr id="886" name="Picture 5" descr="figure8"/>
            <p:cNvPicPr/>
            <p:nvPr/>
          </p:nvPicPr>
          <p:blipFill>
            <a:blip r:embed="rId1"/>
            <a:stretch/>
          </p:blipFill>
          <p:spPr>
            <a:xfrm>
              <a:off x="609480" y="1676520"/>
              <a:ext cx="7128000" cy="4594320"/>
            </a:xfrm>
            <a:prstGeom prst="rect">
              <a:avLst/>
            </a:prstGeom>
            <a:ln w="0">
              <a:noFill/>
            </a:ln>
          </p:spPr>
        </p:pic>
        <p:sp>
          <p:nvSpPr>
            <p:cNvPr id="887" name="Text Box 6"/>
            <p:cNvSpPr/>
            <p:nvPr/>
          </p:nvSpPr>
          <p:spPr>
            <a:xfrm>
              <a:off x="741240" y="5637240"/>
              <a:ext cx="7399440" cy="1081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SimSun"/>
                </a:rPr>
                <a:t>Figure 8.6.  Pipeline stalled by data dependency between D</a:t>
              </a:r>
              <a:r>
                <a:rPr b="0" lang="en-US" sz="1600" spc="-1" strike="noStrike" baseline="-25000">
                  <a:solidFill>
                    <a:srgbClr val="000000"/>
                  </a:solidFill>
                  <a:latin typeface="Times New Roman"/>
                  <a:ea typeface="SimSun"/>
                </a:rPr>
                <a:t>2</a:t>
              </a:r>
              <a:r>
                <a:rPr b="0" lang="en-US" sz="1600" spc="-1" strike="noStrike">
                  <a:solidFill>
                    <a:srgbClr val="000000"/>
                  </a:solidFill>
                  <a:latin typeface="Times New Roman"/>
                  <a:ea typeface="SimSun"/>
                </a:rPr>
                <a:t> and W</a:t>
              </a:r>
              <a:r>
                <a:rPr b="0" lang="en-US" sz="1600" spc="-1" strike="noStrike" baseline="-25000">
                  <a:solidFill>
                    <a:srgbClr val="000000"/>
                  </a:solidFill>
                  <a:latin typeface="Times New Roman"/>
                  <a:ea typeface="SimSun"/>
                </a:rPr>
                <a:t>1</a:t>
              </a:r>
              <a:r>
                <a:rPr b="0" lang="en-US" sz="1600" spc="-1" strike="noStrike">
                  <a:solidFill>
                    <a:srgbClr val="000000"/>
                  </a:solidFill>
                  <a:latin typeface="Times New Roman"/>
                  <a:ea typeface="SimSun"/>
                </a:rPr>
                <a:t>.</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Operand Forwarding</a:t>
            </a:r>
            <a:endParaRPr b="1" lang="en-US" sz="3900" spc="-1" strike="noStrike">
              <a:solidFill>
                <a:srgbClr val="330066"/>
              </a:solidFill>
              <a:latin typeface="Arial"/>
            </a:endParaRPr>
          </a:p>
        </p:txBody>
      </p:sp>
      <p:sp>
        <p:nvSpPr>
          <p:cNvPr id="88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Instead of from the register file, the second instruction can get data directly from the output of ALU after the previous instruction is complete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A special arrangement needs to be made to “forward” the output of ALU to the input of ALU.</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0" name="Picture 4" descr="figure8"/>
          <p:cNvPicPr/>
          <p:nvPr/>
        </p:nvPicPr>
        <p:blipFill>
          <a:blip r:embed="rId1"/>
          <a:stretch/>
        </p:blipFill>
        <p:spPr>
          <a:xfrm>
            <a:off x="2209680" y="228600"/>
            <a:ext cx="4232520" cy="6402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Handling Data Hazards in Software</a:t>
            </a:r>
            <a:endParaRPr b="1" lang="en-US" sz="3900" spc="-1" strike="noStrike">
              <a:solidFill>
                <a:srgbClr val="330066"/>
              </a:solidFill>
              <a:latin typeface="Arial"/>
            </a:endParaRPr>
          </a:p>
        </p:txBody>
      </p:sp>
      <p:sp>
        <p:nvSpPr>
          <p:cNvPr id="89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Let the compiler detect and handle the hazar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	</a:t>
            </a:r>
            <a:r>
              <a:rPr b="0" lang="en-US" sz="3000" spc="-1" strike="noStrike">
                <a:solidFill>
                  <a:srgbClr val="000000"/>
                </a:solidFill>
                <a:latin typeface="Arial"/>
                <a:ea typeface="SimSun"/>
              </a:rPr>
              <a:t>	</a:t>
            </a:r>
            <a:r>
              <a:rPr b="0" lang="en-US" sz="3000" spc="-1" strike="noStrike">
                <a:solidFill>
                  <a:srgbClr val="000000"/>
                </a:solidFill>
                <a:latin typeface="Arial"/>
                <a:ea typeface="SimSun"/>
              </a:rPr>
              <a:t>I1: Mul  R2, R3, R4</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	</a:t>
            </a:r>
            <a:r>
              <a:rPr b="0" lang="en-US" sz="3000" spc="-1" strike="noStrike">
                <a:solidFill>
                  <a:srgbClr val="000000"/>
                </a:solidFill>
                <a:latin typeface="Arial"/>
                <a:ea typeface="SimSun"/>
              </a:rPr>
              <a:t>	</a:t>
            </a:r>
            <a:r>
              <a:rPr b="0" lang="en-US" sz="3000" spc="-1" strike="noStrike">
                <a:solidFill>
                  <a:srgbClr val="000000"/>
                </a:solidFill>
                <a:latin typeface="Arial"/>
                <a:ea typeface="SimSun"/>
              </a:rPr>
              <a:t>     </a:t>
            </a:r>
            <a:r>
              <a:rPr b="0" lang="en-US" sz="3000" spc="-1" strike="noStrike">
                <a:solidFill>
                  <a:srgbClr val="000000"/>
                </a:solidFill>
                <a:latin typeface="Arial"/>
                <a:ea typeface="SimSun"/>
              </a:rPr>
              <a:t>NOP</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	</a:t>
            </a:r>
            <a:r>
              <a:rPr b="0" lang="en-US" sz="3000" spc="-1" strike="noStrike">
                <a:solidFill>
                  <a:srgbClr val="000000"/>
                </a:solidFill>
                <a:latin typeface="Arial"/>
                <a:ea typeface="SimSun"/>
              </a:rPr>
              <a:t>	</a:t>
            </a:r>
            <a:r>
              <a:rPr b="0" lang="en-US" sz="3000" spc="-1" strike="noStrike">
                <a:solidFill>
                  <a:srgbClr val="000000"/>
                </a:solidFill>
                <a:latin typeface="Arial"/>
                <a:ea typeface="SimSun"/>
              </a:rPr>
              <a:t>     </a:t>
            </a:r>
            <a:r>
              <a:rPr b="0" lang="en-US" sz="3000" spc="-1" strike="noStrike">
                <a:solidFill>
                  <a:srgbClr val="000000"/>
                </a:solidFill>
                <a:latin typeface="Arial"/>
                <a:ea typeface="SimSun"/>
              </a:rPr>
              <a:t>NOP</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	</a:t>
            </a:r>
            <a:r>
              <a:rPr b="0" lang="en-US" sz="3000" spc="-1" strike="noStrike">
                <a:solidFill>
                  <a:srgbClr val="000000"/>
                </a:solidFill>
                <a:latin typeface="Arial"/>
                <a:ea typeface="SimSun"/>
              </a:rPr>
              <a:t>	</a:t>
            </a:r>
            <a:r>
              <a:rPr b="0" lang="en-US" sz="3000" spc="-1" strike="noStrike">
                <a:solidFill>
                  <a:srgbClr val="000000"/>
                </a:solidFill>
                <a:latin typeface="Arial"/>
                <a:ea typeface="SimSun"/>
              </a:rPr>
              <a:t>I2: Add  R5, R4, R6</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The compiler can reorder the instructions to perform some useful work during the NOP slo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0"/>
                                          </p:stCondLst>
                                        </p:cTn>
                                        <p:tgtEl>
                                          <p:spTgt spid="892">
                                            <p:txEl>
                                              <p:pRg st="0" end="0"/>
                                            </p:txEl>
                                          </p:spTgt>
                                        </p:tgtEl>
                                        <p:attrNameLst>
                                          <p:attrName>style.visibility</p:attrName>
                                        </p:attrNameLst>
                                      </p:cBhvr>
                                      <p:to>
                                        <p:strVal val="visible"/>
                                      </p:to>
                                    </p:set>
                                  </p:childTnLst>
                                </p:cTn>
                              </p:par>
                              <p:par>
                                <p:cTn id="214" nodeType="withEffect" fill="hold" presetClass="entr" presetID="1">
                                  <p:stCondLst>
                                    <p:cond delay="0"/>
                                  </p:stCondLst>
                                  <p:childTnLst>
                                    <p:set>
                                      <p:cBhvr>
                                        <p:cTn id="215" dur="1" fill="hold">
                                          <p:stCondLst>
                                            <p:cond delay="0"/>
                                          </p:stCondLst>
                                        </p:cTn>
                                        <p:tgtEl>
                                          <p:spTgt spid="892">
                                            <p:txEl>
                                              <p:pRg st="1" end="1"/>
                                            </p:txEl>
                                          </p:spTgt>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0"/>
                                          </p:stCondLst>
                                        </p:cTn>
                                        <p:tgtEl>
                                          <p:spTgt spid="892">
                                            <p:txEl>
                                              <p:pRg st="2" end="2"/>
                                            </p:txEl>
                                          </p:spTgt>
                                        </p:tgtEl>
                                        <p:attrNameLst>
                                          <p:attrName>style.visibility</p:attrName>
                                        </p:attrNameLst>
                                      </p:cBhvr>
                                      <p:to>
                                        <p:strVal val="visible"/>
                                      </p:to>
                                    </p:set>
                                  </p:childTnLst>
                                </p:cTn>
                              </p:par>
                              <p:par>
                                <p:cTn id="218" nodeType="withEffect" fill="hold" presetClass="entr" presetID="1">
                                  <p:stCondLst>
                                    <p:cond delay="0"/>
                                  </p:stCondLst>
                                  <p:childTnLst>
                                    <p:set>
                                      <p:cBhvr>
                                        <p:cTn id="219" dur="1" fill="hold">
                                          <p:stCondLst>
                                            <p:cond delay="0"/>
                                          </p:stCondLst>
                                        </p:cTn>
                                        <p:tgtEl>
                                          <p:spTgt spid="892">
                                            <p:txEl>
                                              <p:pRg st="3" end="3"/>
                                            </p:txEl>
                                          </p:spTgt>
                                        </p:tgtEl>
                                        <p:attrNameLst>
                                          <p:attrName>style.visibility</p:attrName>
                                        </p:attrNameLst>
                                      </p:cBhvr>
                                      <p:to>
                                        <p:strVal val="visible"/>
                                      </p:to>
                                    </p:set>
                                  </p:childTnLst>
                                </p:cTn>
                              </p:par>
                              <p:par>
                                <p:cTn id="220" nodeType="withEffect" fill="hold" presetClass="entr" presetID="1">
                                  <p:stCondLst>
                                    <p:cond delay="0"/>
                                  </p:stCondLst>
                                  <p:childTnLst>
                                    <p:set>
                                      <p:cBhvr>
                                        <p:cTn id="221" dur="1" fill="hold">
                                          <p:stCondLst>
                                            <p:cond delay="0"/>
                                          </p:stCondLst>
                                        </p:cTn>
                                        <p:tgtEl>
                                          <p:spTgt spid="892">
                                            <p:txEl>
                                              <p:pRg st="4" end="4"/>
                                            </p:txEl>
                                          </p:spTgt>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0"/>
                                          </p:stCondLst>
                                        </p:cTn>
                                        <p:tgtEl>
                                          <p:spTgt spid="89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Side Effects</a:t>
            </a:r>
            <a:endParaRPr b="1" lang="en-US" sz="3900" spc="-1" strike="noStrike">
              <a:solidFill>
                <a:srgbClr val="330066"/>
              </a:solidFill>
              <a:latin typeface="Arial"/>
            </a:endParaRPr>
          </a:p>
        </p:txBody>
      </p:sp>
      <p:sp>
        <p:nvSpPr>
          <p:cNvPr id="89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The previous example is explicit and easily detected.</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Sometimes an instruction changes the contents of a register other than the one named as the destination.</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When a location other than one explicitly named in an instruction as a destination operand is affected, the instruction is said to have a side effect. (Example?)</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Example: conditional code flags:</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	</a:t>
            </a:r>
            <a:r>
              <a:rPr b="0" lang="en-US" sz="2100" spc="-1" strike="noStrike">
                <a:solidFill>
                  <a:srgbClr val="000000"/>
                </a:solidFill>
                <a:latin typeface="Arial"/>
                <a:ea typeface="SimSun"/>
              </a:rPr>
              <a:t>	</a:t>
            </a:r>
            <a:r>
              <a:rPr b="0" lang="en-US" sz="2100" spc="-1" strike="noStrike">
                <a:solidFill>
                  <a:srgbClr val="000000"/>
                </a:solidFill>
                <a:latin typeface="Arial"/>
                <a:ea typeface="SimSun"/>
              </a:rPr>
              <a:t>Add  R1, R3</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	</a:t>
            </a:r>
            <a:r>
              <a:rPr b="0" lang="en-US" sz="2100" spc="-1" strike="noStrike">
                <a:solidFill>
                  <a:srgbClr val="000000"/>
                </a:solidFill>
                <a:latin typeface="Arial"/>
                <a:ea typeface="SimSun"/>
              </a:rPr>
              <a:t>	</a:t>
            </a:r>
            <a:r>
              <a:rPr b="0" lang="en-US" sz="2100" spc="-1" strike="noStrike">
                <a:solidFill>
                  <a:srgbClr val="000000"/>
                </a:solidFill>
                <a:latin typeface="Arial"/>
                <a:ea typeface="SimSun"/>
              </a:rPr>
              <a:t>AddWithCarry  R2, R4</a:t>
            </a: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SimSun"/>
              </a:rPr>
              <a:t>Instructions designed for execution on pipelined hardware should have few side effect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894">
                                            <p:txEl>
                                              <p:pRg st="0" end="0"/>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0"/>
                                          </p:stCondLst>
                                        </p:cTn>
                                        <p:tgtEl>
                                          <p:spTgt spid="894">
                                            <p:txEl>
                                              <p:pRg st="1" end="1"/>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0"/>
                                          </p:stCondLst>
                                        </p:cTn>
                                        <p:tgtEl>
                                          <p:spTgt spid="894">
                                            <p:txEl>
                                              <p:pRg st="2" end="2"/>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894">
                                            <p:txEl>
                                              <p:pRg st="3" end="3"/>
                                            </p:txEl>
                                          </p:spTgt>
                                        </p:tgtEl>
                                        <p:attrNameLst>
                                          <p:attrName>style.visibility</p:attrName>
                                        </p:attrNameLst>
                                      </p:cBhvr>
                                      <p:to>
                                        <p:strVal val="visible"/>
                                      </p:to>
                                    </p:set>
                                  </p:childTnLst>
                                </p:cTn>
                              </p:par>
                              <p:par>
                                <p:cTn id="240" nodeType="withEffect" fill="hold" presetClass="entr" presetID="1">
                                  <p:stCondLst>
                                    <p:cond delay="0"/>
                                  </p:stCondLst>
                                  <p:childTnLst>
                                    <p:set>
                                      <p:cBhvr>
                                        <p:cTn id="241" dur="1" fill="hold">
                                          <p:stCondLst>
                                            <p:cond delay="0"/>
                                          </p:stCondLst>
                                        </p:cTn>
                                        <p:tgtEl>
                                          <p:spTgt spid="894">
                                            <p:txEl>
                                              <p:pRg st="4" end="4"/>
                                            </p:txEl>
                                          </p:spTgt>
                                        </p:tgtEl>
                                        <p:attrNameLst>
                                          <p:attrName>style.visibility</p:attrName>
                                        </p:attrNameLst>
                                      </p:cBhvr>
                                      <p:to>
                                        <p:strVal val="visible"/>
                                      </p:to>
                                    </p:set>
                                  </p:childTnLst>
                                </p:cTn>
                              </p:par>
                              <p:par>
                                <p:cTn id="242" nodeType="withEffect" fill="hold" presetClass="entr" presetID="1">
                                  <p:stCondLst>
                                    <p:cond delay="0"/>
                                  </p:stCondLst>
                                  <p:childTnLst>
                                    <p:set>
                                      <p:cBhvr>
                                        <p:cTn id="243" dur="1" fill="hold">
                                          <p:stCondLst>
                                            <p:cond delay="0"/>
                                          </p:stCondLst>
                                        </p:cTn>
                                        <p:tgtEl>
                                          <p:spTgt spid="894">
                                            <p:txEl>
                                              <p:pRg st="5" end="5"/>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89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ea typeface="SimSun"/>
              </a:rPr>
              <a:t>Instruction Hazards</a:t>
            </a:r>
            <a:endParaRPr b="1" lang="en-US" sz="4800" spc="-1" strike="noStrike">
              <a:solidFill>
                <a:srgbClr val="330066"/>
              </a:solidFill>
              <a:latin typeface="Arial"/>
            </a:endParaRPr>
          </a:p>
        </p:txBody>
      </p:sp>
      <p:sp>
        <p:nvSpPr>
          <p:cNvPr id="896" name="PlaceHolder 2"/>
          <p:cNvSpPr>
            <a:spLocks noGrp="1"/>
          </p:cNvSpPr>
          <p:nvPr>
            <p:ph type="subTitle"/>
          </p:nvPr>
        </p:nvSpPr>
        <p:spPr>
          <a:xfrm>
            <a:off x="848880" y="3049560"/>
            <a:ext cx="6248520" cy="236232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SimSu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Overview</a:t>
            </a:r>
            <a:endParaRPr b="1" lang="en-US" sz="3900" spc="-1" strike="noStrike">
              <a:solidFill>
                <a:srgbClr val="330066"/>
              </a:solidFill>
              <a:latin typeface="Arial"/>
            </a:endParaRPr>
          </a:p>
        </p:txBody>
      </p:sp>
      <p:sp>
        <p:nvSpPr>
          <p:cNvPr id="89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Whenever the stream of instructions supplied by the instruction fetch unit is interrupted, the pipeline stall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Cache mis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Bran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0"/>
                                          </p:stCondLst>
                                        </p:cTn>
                                        <p:tgtEl>
                                          <p:spTgt spid="898">
                                            <p:txEl>
                                              <p:pRg st="0" end="0"/>
                                            </p:txEl>
                                          </p:spTgt>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898">
                                            <p:txEl>
                                              <p:pRg st="1" end="1"/>
                                            </p:txEl>
                                          </p:spTgt>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89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Unconditional Branches</a:t>
            </a:r>
            <a:endParaRPr b="1" lang="en-US" sz="3900" spc="-1" strike="noStrike">
              <a:solidFill>
                <a:srgbClr val="330066"/>
              </a:solidFill>
              <a:latin typeface="Arial"/>
            </a:endParaRPr>
          </a:p>
        </p:txBody>
      </p:sp>
      <p:pic>
        <p:nvPicPr>
          <p:cNvPr id="900" name="Picture 4" descr="figure8"/>
          <p:cNvPicPr/>
          <p:nvPr/>
        </p:nvPicPr>
        <p:blipFill>
          <a:blip r:embed="rId1"/>
          <a:stretch/>
        </p:blipFill>
        <p:spPr>
          <a:xfrm>
            <a:off x="1600200" y="1523880"/>
            <a:ext cx="5486400" cy="4956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Branch Timing</a:t>
            </a:r>
            <a:endParaRPr b="1" lang="en-US" sz="3900" spc="-1" strike="noStrike">
              <a:solidFill>
                <a:srgbClr val="330066"/>
              </a:solidFill>
              <a:latin typeface="Arial"/>
            </a:endParaRPr>
          </a:p>
        </p:txBody>
      </p:sp>
      <p:pic>
        <p:nvPicPr>
          <p:cNvPr id="902" name="Picture 4" descr="figure8"/>
          <p:cNvPicPr/>
          <p:nvPr/>
        </p:nvPicPr>
        <p:blipFill>
          <a:blip r:embed="rId1"/>
          <a:stretch/>
        </p:blipFill>
        <p:spPr>
          <a:xfrm>
            <a:off x="4114800" y="458640"/>
            <a:ext cx="3857760" cy="6399360"/>
          </a:xfrm>
          <a:prstGeom prst="rect">
            <a:avLst/>
          </a:prstGeom>
          <a:ln w="0">
            <a:noFill/>
          </a:ln>
        </p:spPr>
      </p:pic>
      <p:sp>
        <p:nvSpPr>
          <p:cNvPr id="903" name="Text Box 5"/>
          <p:cNvSpPr/>
          <p:nvPr/>
        </p:nvSpPr>
        <p:spPr>
          <a:xfrm>
            <a:off x="750240" y="1865160"/>
            <a:ext cx="2462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Branch penal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 Reducing the penal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ea typeface="SimSun"/>
              </a:rPr>
              <a:t>Basic Concepts</a:t>
            </a:r>
            <a:endParaRPr b="1" lang="en-US" sz="4800" spc="-1" strike="noStrike">
              <a:solidFill>
                <a:srgbClr val="330066"/>
              </a:solidFill>
              <a:latin typeface="Arial"/>
            </a:endParaRPr>
          </a:p>
        </p:txBody>
      </p:sp>
      <p:sp>
        <p:nvSpPr>
          <p:cNvPr id="161" name="PlaceHolder 2"/>
          <p:cNvSpPr>
            <a:spLocks noGrp="1"/>
          </p:cNvSpPr>
          <p:nvPr>
            <p:ph type="subTitle"/>
          </p:nvPr>
        </p:nvSpPr>
        <p:spPr>
          <a:xfrm>
            <a:off x="848880" y="3049560"/>
            <a:ext cx="6248520" cy="236232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Arial"/>
              <a:ea typeface="SimSu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Instruction Queue and Prefetching</a:t>
            </a:r>
            <a:endParaRPr b="1" lang="en-US" sz="3900" spc="-1" strike="noStrike">
              <a:solidFill>
                <a:srgbClr val="330066"/>
              </a:solidFill>
              <a:latin typeface="Arial"/>
            </a:endParaRPr>
          </a:p>
        </p:txBody>
      </p:sp>
      <p:sp>
        <p:nvSpPr>
          <p:cNvPr id="905" name="Rectangle 4"/>
          <p:cNvSpPr/>
          <p:nvPr/>
        </p:nvSpPr>
        <p:spPr>
          <a:xfrm>
            <a:off x="3270240" y="4314960"/>
            <a:ext cx="250920" cy="71100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Rectangle 5"/>
          <p:cNvSpPr/>
          <p:nvPr/>
        </p:nvSpPr>
        <p:spPr>
          <a:xfrm>
            <a:off x="5297400" y="4314960"/>
            <a:ext cx="230400" cy="71100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6"/>
          <p:cNvSpPr/>
          <p:nvPr/>
        </p:nvSpPr>
        <p:spPr>
          <a:xfrm>
            <a:off x="3124080" y="4648320"/>
            <a:ext cx="125640" cy="42840"/>
          </a:xfrm>
          <a:custGeom>
            <a:avLst/>
            <a:gdLst>
              <a:gd name="textAreaLeft" fmla="*/ 0 w 125640"/>
              <a:gd name="textAreaRight" fmla="*/ 126000 w 125640"/>
              <a:gd name="textAreaTop" fmla="*/ 0 h 42840"/>
              <a:gd name="textAreaBottom" fmla="*/ 43200 h 42840"/>
            </a:gdLst>
            <a:ahLst/>
            <a:rect l="textAreaLeft" t="textAreaTop" r="textAreaRight" b="textAreaBottom"/>
            <a:pathLst>
              <a:path w="6" h="2">
                <a:moveTo>
                  <a:pt x="0" y="2"/>
                </a:moveTo>
                <a:lnTo>
                  <a:pt x="6" y="1"/>
                </a:lnTo>
                <a:lnTo>
                  <a:pt x="0" y="0"/>
                </a:lnTo>
                <a:lnTo>
                  <a:pt x="0" y="1"/>
                </a:lnTo>
                <a:lnTo>
                  <a:pt x="0" y="2"/>
                </a:lnTo>
              </a:path>
            </a:pathLst>
          </a:custGeom>
          <a:noFill/>
          <a:ln w="2052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08" name="Freeform 7"/>
          <p:cNvSpPr/>
          <p:nvPr/>
        </p:nvSpPr>
        <p:spPr>
          <a:xfrm>
            <a:off x="3124080" y="4648320"/>
            <a:ext cx="125640" cy="42840"/>
          </a:xfrm>
          <a:custGeom>
            <a:avLst/>
            <a:gdLst>
              <a:gd name="textAreaLeft" fmla="*/ 0 w 125640"/>
              <a:gd name="textAreaRight" fmla="*/ 125640 w 125640"/>
              <a:gd name="textAreaTop" fmla="*/ 0 h 42840"/>
              <a:gd name="textAreaBottom" fmla="*/ 43200 h 42840"/>
            </a:gdLst>
            <a:ahLst/>
            <a:rect l="textAreaLeft" t="textAreaTop" r="textAreaRight" b="textAreaBottom"/>
            <a:pathLst>
              <a:path w="79" h="27">
                <a:moveTo>
                  <a:pt x="0" y="27"/>
                </a:moveTo>
                <a:lnTo>
                  <a:pt x="79" y="14"/>
                </a:lnTo>
                <a:lnTo>
                  <a:pt x="0" y="0"/>
                </a:lnTo>
                <a:lnTo>
                  <a:pt x="0" y="14"/>
                </a:lnTo>
                <a:lnTo>
                  <a:pt x="0" y="27"/>
                </a:lnTo>
                <a:close/>
              </a:path>
            </a:pathLst>
          </a:custGeom>
          <a:solidFill>
            <a:srgbClr val="000000"/>
          </a:solidFill>
          <a:ln w="0">
            <a:solidFill>
              <a:srgbClr val="000000"/>
            </a:solid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09" name="Line 8"/>
          <p:cNvSpPr/>
          <p:nvPr/>
        </p:nvSpPr>
        <p:spPr>
          <a:xfrm flipH="1">
            <a:off x="2914200" y="4670280"/>
            <a:ext cx="18756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0" name="Freeform 9"/>
          <p:cNvSpPr/>
          <p:nvPr/>
        </p:nvSpPr>
        <p:spPr>
          <a:xfrm>
            <a:off x="3708360" y="4648320"/>
            <a:ext cx="125280" cy="42840"/>
          </a:xfrm>
          <a:custGeom>
            <a:avLst/>
            <a:gdLst>
              <a:gd name="textAreaLeft" fmla="*/ 0 w 125280"/>
              <a:gd name="textAreaRight" fmla="*/ 125640 w 125280"/>
              <a:gd name="textAreaTop" fmla="*/ 0 h 42840"/>
              <a:gd name="textAreaBottom" fmla="*/ 43200 h 42840"/>
            </a:gdLst>
            <a:ahLst/>
            <a:rect l="textAreaLeft" t="textAreaTop" r="textAreaRight" b="textAreaBottom"/>
            <a:pathLst>
              <a:path w="6" h="2">
                <a:moveTo>
                  <a:pt x="0" y="2"/>
                </a:moveTo>
                <a:lnTo>
                  <a:pt x="6" y="1"/>
                </a:lnTo>
                <a:lnTo>
                  <a:pt x="0" y="0"/>
                </a:lnTo>
                <a:lnTo>
                  <a:pt x="0" y="1"/>
                </a:lnTo>
                <a:lnTo>
                  <a:pt x="0" y="2"/>
                </a:lnTo>
              </a:path>
            </a:pathLst>
          </a:custGeom>
          <a:noFill/>
          <a:ln w="2052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11" name="Freeform 10"/>
          <p:cNvSpPr/>
          <p:nvPr/>
        </p:nvSpPr>
        <p:spPr>
          <a:xfrm>
            <a:off x="3708360" y="4648320"/>
            <a:ext cx="125280" cy="42840"/>
          </a:xfrm>
          <a:custGeom>
            <a:avLst/>
            <a:gdLst>
              <a:gd name="textAreaLeft" fmla="*/ 0 w 125280"/>
              <a:gd name="textAreaRight" fmla="*/ 125280 w 125280"/>
              <a:gd name="textAreaTop" fmla="*/ 0 h 42840"/>
              <a:gd name="textAreaBottom" fmla="*/ 43200 h 42840"/>
            </a:gdLst>
            <a:ahLst/>
            <a:rect l="textAreaLeft" t="textAreaTop" r="textAreaRight" b="textAreaBottom"/>
            <a:pathLst>
              <a:path w="79" h="27">
                <a:moveTo>
                  <a:pt x="0" y="27"/>
                </a:moveTo>
                <a:lnTo>
                  <a:pt x="79" y="14"/>
                </a:lnTo>
                <a:lnTo>
                  <a:pt x="0" y="0"/>
                </a:lnTo>
                <a:lnTo>
                  <a:pt x="0" y="14"/>
                </a:lnTo>
                <a:lnTo>
                  <a:pt x="0" y="27"/>
                </a:lnTo>
                <a:close/>
              </a:path>
            </a:pathLst>
          </a:custGeom>
          <a:solidFill>
            <a:srgbClr val="000000"/>
          </a:solidFill>
          <a:ln w="0">
            <a:solidFill>
              <a:srgbClr val="000000"/>
            </a:solid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12" name="Line 11"/>
          <p:cNvSpPr/>
          <p:nvPr/>
        </p:nvSpPr>
        <p:spPr>
          <a:xfrm flipH="1">
            <a:off x="3521160" y="4670280"/>
            <a:ext cx="1872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3" name="Freeform 12"/>
          <p:cNvSpPr/>
          <p:nvPr/>
        </p:nvSpPr>
        <p:spPr>
          <a:xfrm>
            <a:off x="5130720" y="4648320"/>
            <a:ext cx="125640" cy="42840"/>
          </a:xfrm>
          <a:custGeom>
            <a:avLst/>
            <a:gdLst>
              <a:gd name="textAreaLeft" fmla="*/ 0 w 125640"/>
              <a:gd name="textAreaRight" fmla="*/ 126000 w 125640"/>
              <a:gd name="textAreaTop" fmla="*/ 0 h 42840"/>
              <a:gd name="textAreaBottom" fmla="*/ 43200 h 42840"/>
            </a:gdLst>
            <a:ahLst/>
            <a:rect l="textAreaLeft" t="textAreaTop" r="textAreaRight" b="textAreaBottom"/>
            <a:pathLst>
              <a:path w="6" h="2">
                <a:moveTo>
                  <a:pt x="0" y="2"/>
                </a:moveTo>
                <a:lnTo>
                  <a:pt x="6" y="1"/>
                </a:lnTo>
                <a:lnTo>
                  <a:pt x="0" y="0"/>
                </a:lnTo>
                <a:lnTo>
                  <a:pt x="0" y="1"/>
                </a:lnTo>
                <a:lnTo>
                  <a:pt x="0" y="2"/>
                </a:lnTo>
              </a:path>
            </a:pathLst>
          </a:custGeom>
          <a:noFill/>
          <a:ln w="2052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14" name="Freeform 13"/>
          <p:cNvSpPr/>
          <p:nvPr/>
        </p:nvSpPr>
        <p:spPr>
          <a:xfrm>
            <a:off x="5130720" y="4648320"/>
            <a:ext cx="125640" cy="42840"/>
          </a:xfrm>
          <a:custGeom>
            <a:avLst/>
            <a:gdLst>
              <a:gd name="textAreaLeft" fmla="*/ 0 w 125640"/>
              <a:gd name="textAreaRight" fmla="*/ 125640 w 125640"/>
              <a:gd name="textAreaTop" fmla="*/ 0 h 42840"/>
              <a:gd name="textAreaBottom" fmla="*/ 43200 h 42840"/>
            </a:gdLst>
            <a:ahLst/>
            <a:rect l="textAreaLeft" t="textAreaTop" r="textAreaRight" b="textAreaBottom"/>
            <a:pathLst>
              <a:path w="79" h="27">
                <a:moveTo>
                  <a:pt x="0" y="27"/>
                </a:moveTo>
                <a:lnTo>
                  <a:pt x="79" y="14"/>
                </a:lnTo>
                <a:lnTo>
                  <a:pt x="0" y="0"/>
                </a:lnTo>
                <a:lnTo>
                  <a:pt x="0" y="14"/>
                </a:lnTo>
                <a:lnTo>
                  <a:pt x="0" y="27"/>
                </a:lnTo>
                <a:close/>
              </a:path>
            </a:pathLst>
          </a:custGeom>
          <a:solidFill>
            <a:srgbClr val="000000"/>
          </a:solidFill>
          <a:ln w="0">
            <a:solidFill>
              <a:srgbClr val="000000"/>
            </a:solid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15" name="Line 14"/>
          <p:cNvSpPr/>
          <p:nvPr/>
        </p:nvSpPr>
        <p:spPr>
          <a:xfrm flipH="1">
            <a:off x="4943520" y="4670280"/>
            <a:ext cx="18720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6" name="Freeform 15"/>
          <p:cNvSpPr/>
          <p:nvPr/>
        </p:nvSpPr>
        <p:spPr>
          <a:xfrm>
            <a:off x="5716440" y="4648320"/>
            <a:ext cx="146160" cy="42840"/>
          </a:xfrm>
          <a:custGeom>
            <a:avLst/>
            <a:gdLst>
              <a:gd name="textAreaLeft" fmla="*/ 0 w 146160"/>
              <a:gd name="textAreaRight" fmla="*/ 146520 w 146160"/>
              <a:gd name="textAreaTop" fmla="*/ 0 h 42840"/>
              <a:gd name="textAreaBottom" fmla="*/ 43200 h 42840"/>
            </a:gdLst>
            <a:ahLst/>
            <a:rect l="textAreaLeft" t="textAreaTop" r="textAreaRight" b="textAreaBottom"/>
            <a:pathLst>
              <a:path w="7" h="2">
                <a:moveTo>
                  <a:pt x="0" y="2"/>
                </a:moveTo>
                <a:lnTo>
                  <a:pt x="7" y="1"/>
                </a:lnTo>
                <a:lnTo>
                  <a:pt x="0" y="0"/>
                </a:lnTo>
                <a:lnTo>
                  <a:pt x="0" y="1"/>
                </a:lnTo>
                <a:lnTo>
                  <a:pt x="0" y="2"/>
                </a:lnTo>
              </a:path>
            </a:pathLst>
          </a:custGeom>
          <a:noFill/>
          <a:ln w="20520">
            <a:solidFill>
              <a:srgbClr val="000000"/>
            </a:solidFill>
            <a:round/>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17" name="Freeform 16"/>
          <p:cNvSpPr/>
          <p:nvPr/>
        </p:nvSpPr>
        <p:spPr>
          <a:xfrm>
            <a:off x="5716440" y="4648320"/>
            <a:ext cx="146160" cy="42840"/>
          </a:xfrm>
          <a:custGeom>
            <a:avLst/>
            <a:gdLst>
              <a:gd name="textAreaLeft" fmla="*/ 0 w 146160"/>
              <a:gd name="textAreaRight" fmla="*/ 146520 w 146160"/>
              <a:gd name="textAreaTop" fmla="*/ 0 h 42840"/>
              <a:gd name="textAreaBottom" fmla="*/ 43200 h 42840"/>
            </a:gdLst>
            <a:ahLst/>
            <a:rect l="textAreaLeft" t="textAreaTop" r="textAreaRight" b="textAreaBottom"/>
            <a:pathLst>
              <a:path w="92" h="27">
                <a:moveTo>
                  <a:pt x="0" y="27"/>
                </a:moveTo>
                <a:lnTo>
                  <a:pt x="92" y="14"/>
                </a:lnTo>
                <a:lnTo>
                  <a:pt x="0" y="0"/>
                </a:lnTo>
                <a:lnTo>
                  <a:pt x="0" y="14"/>
                </a:lnTo>
                <a:lnTo>
                  <a:pt x="0" y="27"/>
                </a:lnTo>
                <a:close/>
              </a:path>
            </a:pathLst>
          </a:custGeom>
          <a:solidFill>
            <a:srgbClr val="000000"/>
          </a:solidFill>
          <a:ln w="0">
            <a:solidFill>
              <a:srgbClr val="000000"/>
            </a:solid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918" name="Line 17"/>
          <p:cNvSpPr/>
          <p:nvPr/>
        </p:nvSpPr>
        <p:spPr>
          <a:xfrm flipH="1">
            <a:off x="5527800" y="4670280"/>
            <a:ext cx="18864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19" name="Rectangle 18"/>
          <p:cNvSpPr/>
          <p:nvPr/>
        </p:nvSpPr>
        <p:spPr>
          <a:xfrm>
            <a:off x="2092320" y="2514600"/>
            <a:ext cx="6789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F : Fetch</a:t>
            </a:r>
            <a:endParaRPr b="0" lang="en-US" sz="1500" spc="-1" strike="noStrike">
              <a:solidFill>
                <a:srgbClr val="000000"/>
              </a:solidFill>
              <a:latin typeface="Arial"/>
            </a:endParaRPr>
          </a:p>
        </p:txBody>
      </p:sp>
      <p:sp>
        <p:nvSpPr>
          <p:cNvPr id="920" name="Rectangle 19"/>
          <p:cNvSpPr/>
          <p:nvPr/>
        </p:nvSpPr>
        <p:spPr>
          <a:xfrm>
            <a:off x="1997640" y="2703600"/>
            <a:ext cx="82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instruction</a:t>
            </a:r>
            <a:endParaRPr b="0" lang="en-US" sz="1500" spc="-1" strike="noStrike">
              <a:solidFill>
                <a:srgbClr val="000000"/>
              </a:solidFill>
              <a:latin typeface="Arial"/>
            </a:endParaRPr>
          </a:p>
        </p:txBody>
      </p:sp>
      <p:sp>
        <p:nvSpPr>
          <p:cNvPr id="921" name="Rectangle 20"/>
          <p:cNvSpPr/>
          <p:nvPr/>
        </p:nvSpPr>
        <p:spPr>
          <a:xfrm>
            <a:off x="3974400" y="4438800"/>
            <a:ext cx="476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E : Ex</a:t>
            </a:r>
            <a:endParaRPr b="0" lang="en-US" sz="1500" spc="-1" strike="noStrike">
              <a:solidFill>
                <a:srgbClr val="000000"/>
              </a:solidFill>
              <a:latin typeface="Arial"/>
            </a:endParaRPr>
          </a:p>
        </p:txBody>
      </p:sp>
      <p:sp>
        <p:nvSpPr>
          <p:cNvPr id="922" name="Rectangle 21"/>
          <p:cNvSpPr/>
          <p:nvPr/>
        </p:nvSpPr>
        <p:spPr>
          <a:xfrm>
            <a:off x="4472640" y="4438800"/>
            <a:ext cx="40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ecute</a:t>
            </a:r>
            <a:endParaRPr b="0" lang="en-US" sz="1500" spc="-1" strike="noStrike">
              <a:solidFill>
                <a:srgbClr val="000000"/>
              </a:solidFill>
              <a:latin typeface="Arial"/>
            </a:endParaRPr>
          </a:p>
        </p:txBody>
      </p:sp>
      <p:sp>
        <p:nvSpPr>
          <p:cNvPr id="923" name="Rectangle 22"/>
          <p:cNvSpPr/>
          <p:nvPr/>
        </p:nvSpPr>
        <p:spPr>
          <a:xfrm>
            <a:off x="4026600" y="4627440"/>
            <a:ext cx="820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instruction</a:t>
            </a:r>
            <a:endParaRPr b="0" lang="en-US" sz="1500" spc="-1" strike="noStrike">
              <a:solidFill>
                <a:srgbClr val="000000"/>
              </a:solidFill>
              <a:latin typeface="Arial"/>
            </a:endParaRPr>
          </a:p>
        </p:txBody>
      </p:sp>
      <p:sp>
        <p:nvSpPr>
          <p:cNvPr id="924" name="Rectangle 23"/>
          <p:cNvSpPr/>
          <p:nvPr/>
        </p:nvSpPr>
        <p:spPr>
          <a:xfrm>
            <a:off x="6060600" y="4438800"/>
            <a:ext cx="7628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W : Write</a:t>
            </a:r>
            <a:endParaRPr b="0" lang="en-US" sz="1500" spc="-1" strike="noStrike">
              <a:solidFill>
                <a:srgbClr val="000000"/>
              </a:solidFill>
              <a:latin typeface="Arial"/>
            </a:endParaRPr>
          </a:p>
        </p:txBody>
      </p:sp>
      <p:sp>
        <p:nvSpPr>
          <p:cNvPr id="925" name="Rectangle 24"/>
          <p:cNvSpPr/>
          <p:nvPr/>
        </p:nvSpPr>
        <p:spPr>
          <a:xfrm>
            <a:off x="6207480" y="4627440"/>
            <a:ext cx="5007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results</a:t>
            </a:r>
            <a:endParaRPr b="0" lang="en-US" sz="1500" spc="-1" strike="noStrike">
              <a:solidFill>
                <a:srgbClr val="000000"/>
              </a:solidFill>
              <a:latin typeface="Arial"/>
            </a:endParaRPr>
          </a:p>
        </p:txBody>
      </p:sp>
      <p:sp>
        <p:nvSpPr>
          <p:cNvPr id="926" name="Rectangle 25"/>
          <p:cNvSpPr/>
          <p:nvPr/>
        </p:nvSpPr>
        <p:spPr>
          <a:xfrm>
            <a:off x="1925640" y="4334040"/>
            <a:ext cx="1017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D : Dispatch/</a:t>
            </a:r>
            <a:endParaRPr b="0" lang="en-US" sz="1500" spc="-1" strike="noStrike">
              <a:solidFill>
                <a:srgbClr val="000000"/>
              </a:solidFill>
              <a:latin typeface="Arial"/>
            </a:endParaRPr>
          </a:p>
        </p:txBody>
      </p:sp>
      <p:sp>
        <p:nvSpPr>
          <p:cNvPr id="927" name="Rectangle 26"/>
          <p:cNvSpPr/>
          <p:nvPr/>
        </p:nvSpPr>
        <p:spPr>
          <a:xfrm>
            <a:off x="2137320" y="4522680"/>
            <a:ext cx="5814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Decode</a:t>
            </a:r>
            <a:endParaRPr b="0" lang="en-US" sz="1500" spc="-1" strike="noStrike">
              <a:solidFill>
                <a:srgbClr val="000000"/>
              </a:solidFill>
              <a:latin typeface="Arial"/>
            </a:endParaRPr>
          </a:p>
        </p:txBody>
      </p:sp>
      <p:sp>
        <p:nvSpPr>
          <p:cNvPr id="928" name="Rectangle 27"/>
          <p:cNvSpPr/>
          <p:nvPr/>
        </p:nvSpPr>
        <p:spPr>
          <a:xfrm>
            <a:off x="3668400" y="2263680"/>
            <a:ext cx="13341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Instruction queue</a:t>
            </a:r>
            <a:endParaRPr b="0" lang="en-US" sz="1500" spc="-1" strike="noStrike">
              <a:solidFill>
                <a:srgbClr val="000000"/>
              </a:solidFill>
              <a:latin typeface="Arial"/>
            </a:endParaRPr>
          </a:p>
        </p:txBody>
      </p:sp>
      <p:sp>
        <p:nvSpPr>
          <p:cNvPr id="929" name="Rectangle 28"/>
          <p:cNvSpPr/>
          <p:nvPr/>
        </p:nvSpPr>
        <p:spPr>
          <a:xfrm>
            <a:off x="1646640" y="1951200"/>
            <a:ext cx="16056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Instruction fetch unit</a:t>
            </a:r>
            <a:endParaRPr b="0" lang="en-US" sz="1500" spc="-1" strike="noStrike">
              <a:solidFill>
                <a:srgbClr val="000000"/>
              </a:solidFill>
              <a:latin typeface="Arial"/>
            </a:endParaRPr>
          </a:p>
        </p:txBody>
      </p:sp>
      <p:sp>
        <p:nvSpPr>
          <p:cNvPr id="930" name="Rectangle 29"/>
          <p:cNvSpPr/>
          <p:nvPr/>
        </p:nvSpPr>
        <p:spPr>
          <a:xfrm>
            <a:off x="1003680" y="5735520"/>
            <a:ext cx="736488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SimSun"/>
              </a:rPr>
              <a:t>Figure 8.10. Use of an instruction queue in the hardware organization of Figure 8.2</a:t>
            </a:r>
            <a:r>
              <a:rPr b="0" i="1" lang="en-US" sz="1700" spc="-1" strike="noStrike">
                <a:solidFill>
                  <a:srgbClr val="000000"/>
                </a:solidFill>
                <a:latin typeface="Times New Roman"/>
                <a:ea typeface="SimSun"/>
              </a:rPr>
              <a:t>b</a:t>
            </a:r>
            <a:r>
              <a:rPr b="0" lang="en-US" sz="1700" spc="-1" strike="noStrike">
                <a:solidFill>
                  <a:srgbClr val="000000"/>
                </a:solidFill>
                <a:latin typeface="Times New Roman"/>
                <a:ea typeface="SimSun"/>
              </a:rPr>
              <a:t>.</a:t>
            </a:r>
            <a:endParaRPr b="0" lang="en-US" sz="1700" spc="-1" strike="noStrike">
              <a:solidFill>
                <a:srgbClr val="000000"/>
              </a:solidFill>
              <a:latin typeface="Arial"/>
            </a:endParaRPr>
          </a:p>
        </p:txBody>
      </p:sp>
      <p:sp>
        <p:nvSpPr>
          <p:cNvPr id="931" name="Rectangle 30"/>
          <p:cNvSpPr/>
          <p:nvPr/>
        </p:nvSpPr>
        <p:spPr>
          <a:xfrm>
            <a:off x="3876840" y="4189320"/>
            <a:ext cx="1066680" cy="96228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Rectangle 31"/>
          <p:cNvSpPr/>
          <p:nvPr/>
        </p:nvSpPr>
        <p:spPr>
          <a:xfrm>
            <a:off x="5883120" y="4189320"/>
            <a:ext cx="1067040" cy="96228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Rectangle 32"/>
          <p:cNvSpPr/>
          <p:nvPr/>
        </p:nvSpPr>
        <p:spPr>
          <a:xfrm>
            <a:off x="1743120" y="2286000"/>
            <a:ext cx="1297080" cy="94140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Freeform 33"/>
          <p:cNvSpPr/>
          <p:nvPr/>
        </p:nvSpPr>
        <p:spPr>
          <a:xfrm>
            <a:off x="3457440" y="2724120"/>
            <a:ext cx="125640" cy="63360"/>
          </a:xfrm>
          <a:custGeom>
            <a:avLst/>
            <a:gdLst>
              <a:gd name="textAreaLeft" fmla="*/ 0 w 125640"/>
              <a:gd name="textAreaRight" fmla="*/ 126000 w 125640"/>
              <a:gd name="textAreaTop" fmla="*/ 0 h 63360"/>
              <a:gd name="textAreaBottom" fmla="*/ 63720 h 63360"/>
            </a:gdLst>
            <a:ahLst/>
            <a:rect l="textAreaLeft" t="textAreaTop" r="textAreaRight" b="textAreaBottom"/>
            <a:pathLst>
              <a:path w="6" h="3">
                <a:moveTo>
                  <a:pt x="0" y="3"/>
                </a:moveTo>
                <a:lnTo>
                  <a:pt x="6" y="2"/>
                </a:lnTo>
                <a:lnTo>
                  <a:pt x="0" y="0"/>
                </a:lnTo>
                <a:lnTo>
                  <a:pt x="0" y="2"/>
                </a:lnTo>
                <a:lnTo>
                  <a:pt x="0" y="3"/>
                </a:lnTo>
              </a:path>
            </a:pathLst>
          </a:custGeom>
          <a:noFill/>
          <a:ln w="20520">
            <a:solidFill>
              <a:srgbClr val="000000"/>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35" name="Freeform 34"/>
          <p:cNvSpPr/>
          <p:nvPr/>
        </p:nvSpPr>
        <p:spPr>
          <a:xfrm>
            <a:off x="3457440" y="2724120"/>
            <a:ext cx="125640" cy="63360"/>
          </a:xfrm>
          <a:custGeom>
            <a:avLst/>
            <a:gdLst>
              <a:gd name="textAreaLeft" fmla="*/ 0 w 125640"/>
              <a:gd name="textAreaRight" fmla="*/ 125640 w 125640"/>
              <a:gd name="textAreaTop" fmla="*/ 0 h 63360"/>
              <a:gd name="textAreaBottom" fmla="*/ 63720 h 63360"/>
            </a:gdLst>
            <a:ahLst/>
            <a:rect l="textAreaLeft" t="textAreaTop" r="textAreaRight" b="textAreaBottom"/>
            <a:pathLst>
              <a:path w="79" h="40">
                <a:moveTo>
                  <a:pt x="0" y="40"/>
                </a:moveTo>
                <a:lnTo>
                  <a:pt x="79" y="27"/>
                </a:lnTo>
                <a:lnTo>
                  <a:pt x="0" y="0"/>
                </a:lnTo>
                <a:lnTo>
                  <a:pt x="0" y="27"/>
                </a:lnTo>
                <a:lnTo>
                  <a:pt x="0" y="40"/>
                </a:lnTo>
                <a:close/>
              </a:path>
            </a:pathLst>
          </a:custGeom>
          <a:solidFill>
            <a:srgbClr val="000000"/>
          </a:solidFill>
          <a:ln w="0">
            <a:solidFill>
              <a:srgbClr val="000000"/>
            </a:solid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936" name="Line 35"/>
          <p:cNvSpPr/>
          <p:nvPr/>
        </p:nvSpPr>
        <p:spPr>
          <a:xfrm flipH="1">
            <a:off x="3040200" y="2766960"/>
            <a:ext cx="396720" cy="1800"/>
          </a:xfrm>
          <a:prstGeom prst="line">
            <a:avLst/>
          </a:prstGeom>
          <a:ln w="205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37" name="Freeform 36"/>
          <p:cNvSpPr/>
          <p:nvPr/>
        </p:nvSpPr>
        <p:spPr>
          <a:xfrm>
            <a:off x="2349360" y="4041720"/>
            <a:ext cx="63720" cy="125640"/>
          </a:xfrm>
          <a:custGeom>
            <a:avLst/>
            <a:gdLst>
              <a:gd name="textAreaLeft" fmla="*/ 0 w 63720"/>
              <a:gd name="textAreaRight" fmla="*/ 64080 w 63720"/>
              <a:gd name="textAreaTop" fmla="*/ 0 h 125640"/>
              <a:gd name="textAreaBottom" fmla="*/ 126000 h 125640"/>
            </a:gdLst>
            <a:ahLst/>
            <a:rect l="textAreaLeft" t="textAreaTop" r="textAreaRight" b="textAreaBottom"/>
            <a:pathLst>
              <a:path w="3" h="6">
                <a:moveTo>
                  <a:pt x="0" y="0"/>
                </a:moveTo>
                <a:lnTo>
                  <a:pt x="2" y="6"/>
                </a:lnTo>
                <a:lnTo>
                  <a:pt x="3" y="0"/>
                </a:lnTo>
                <a:lnTo>
                  <a:pt x="2" y="0"/>
                </a:lnTo>
                <a:lnTo>
                  <a:pt x="0"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Freeform 37"/>
          <p:cNvSpPr/>
          <p:nvPr/>
        </p:nvSpPr>
        <p:spPr>
          <a:xfrm>
            <a:off x="2349360" y="4041720"/>
            <a:ext cx="63720" cy="125640"/>
          </a:xfrm>
          <a:custGeom>
            <a:avLst/>
            <a:gdLst>
              <a:gd name="textAreaLeft" fmla="*/ 0 w 63720"/>
              <a:gd name="textAreaRight" fmla="*/ 64080 w 63720"/>
              <a:gd name="textAreaTop" fmla="*/ 0 h 125640"/>
              <a:gd name="textAreaBottom" fmla="*/ 125640 h 125640"/>
            </a:gdLst>
            <a:ahLst/>
            <a:rect l="textAreaLeft" t="textAreaTop" r="textAreaRight" b="textAreaBottom"/>
            <a:pathLst>
              <a:path w="40" h="79">
                <a:moveTo>
                  <a:pt x="0" y="0"/>
                </a:moveTo>
                <a:lnTo>
                  <a:pt x="26" y="79"/>
                </a:lnTo>
                <a:lnTo>
                  <a:pt x="40" y="0"/>
                </a:lnTo>
                <a:lnTo>
                  <a:pt x="26" y="0"/>
                </a:ln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Freeform 38"/>
          <p:cNvSpPr/>
          <p:nvPr/>
        </p:nvSpPr>
        <p:spPr>
          <a:xfrm>
            <a:off x="2390760" y="2933640"/>
            <a:ext cx="2405160" cy="1108080"/>
          </a:xfrm>
          <a:custGeom>
            <a:avLst/>
            <a:gdLst>
              <a:gd name="textAreaLeft" fmla="*/ 0 w 2405160"/>
              <a:gd name="textAreaRight" fmla="*/ 2405520 w 2405160"/>
              <a:gd name="textAreaTop" fmla="*/ 0 h 1108080"/>
              <a:gd name="textAreaBottom" fmla="*/ 1108440 h 1108080"/>
            </a:gdLst>
            <a:ahLst/>
            <a:rect l="textAreaLeft" t="textAreaTop" r="textAreaRight" b="textAreaBottom"/>
            <a:pathLst>
              <a:path w="115" h="53">
                <a:moveTo>
                  <a:pt x="0" y="53"/>
                </a:moveTo>
                <a:lnTo>
                  <a:pt x="0" y="37"/>
                </a:lnTo>
                <a:lnTo>
                  <a:pt x="115" y="37"/>
                </a:lnTo>
                <a:lnTo>
                  <a:pt x="115" y="0"/>
                </a:lnTo>
              </a:path>
            </a:pathLst>
          </a:custGeom>
          <a:noFill/>
          <a:ln w="205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Rectangle 39"/>
          <p:cNvSpPr/>
          <p:nvPr/>
        </p:nvSpPr>
        <p:spPr>
          <a:xfrm>
            <a:off x="1847880" y="4189320"/>
            <a:ext cx="1066680" cy="962280"/>
          </a:xfrm>
          <a:prstGeom prst="rect">
            <a:avLst/>
          </a:prstGeom>
          <a:noFill/>
          <a:ln w="2052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Line 40"/>
          <p:cNvSpPr/>
          <p:nvPr/>
        </p:nvSpPr>
        <p:spPr>
          <a:xfrm flipV="1">
            <a:off x="3833640" y="2577960"/>
            <a:ext cx="1800" cy="355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Line 41"/>
          <p:cNvSpPr/>
          <p:nvPr/>
        </p:nvSpPr>
        <p:spPr>
          <a:xfrm flipV="1">
            <a:off x="4440240" y="2577960"/>
            <a:ext cx="1440" cy="355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Line 42"/>
          <p:cNvSpPr/>
          <p:nvPr/>
        </p:nvSpPr>
        <p:spPr>
          <a:xfrm flipV="1">
            <a:off x="4670280" y="2577960"/>
            <a:ext cx="1800" cy="355680"/>
          </a:xfrm>
          <a:prstGeom prst="line">
            <a:avLst/>
          </a:prstGeom>
          <a:ln w="20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Freeform 43"/>
          <p:cNvSpPr/>
          <p:nvPr/>
        </p:nvSpPr>
        <p:spPr>
          <a:xfrm>
            <a:off x="4002120" y="2746440"/>
            <a:ext cx="41400" cy="41040"/>
          </a:xfrm>
          <a:custGeom>
            <a:avLst/>
            <a:gdLst>
              <a:gd name="textAreaLeft" fmla="*/ 0 w 41400"/>
              <a:gd name="textAreaRight" fmla="*/ 41760 w 41400"/>
              <a:gd name="textAreaTop" fmla="*/ 0 h 41040"/>
              <a:gd name="textAreaBottom" fmla="*/ 41400 h 41040"/>
            </a:gdLst>
            <a:ahLst/>
            <a:rect l="textAreaLeft" t="textAreaTop" r="textAreaRight" b="textAreaBottom"/>
            <a:pathLst>
              <a:path w="26" h="26">
                <a:moveTo>
                  <a:pt x="13" y="13"/>
                </a:moveTo>
                <a:lnTo>
                  <a:pt x="13" y="0"/>
                </a:lnTo>
                <a:lnTo>
                  <a:pt x="0" y="0"/>
                </a:lnTo>
                <a:lnTo>
                  <a:pt x="0" y="13"/>
                </a:lnTo>
                <a:lnTo>
                  <a:pt x="0" y="26"/>
                </a:lnTo>
                <a:lnTo>
                  <a:pt x="13" y="26"/>
                </a:lnTo>
                <a:lnTo>
                  <a:pt x="26" y="26"/>
                </a:lnTo>
                <a:lnTo>
                  <a:pt x="26" y="13"/>
                </a:lnTo>
                <a:lnTo>
                  <a:pt x="26" y="0"/>
                </a:lnTo>
                <a:lnTo>
                  <a:pt x="13" y="0"/>
                </a:lnTo>
                <a:lnTo>
                  <a:pt x="13" y="13"/>
                </a:lnTo>
                <a:close/>
              </a:path>
            </a:pathLst>
          </a:cu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45" name="Freeform 44"/>
          <p:cNvSpPr/>
          <p:nvPr/>
        </p:nvSpPr>
        <p:spPr>
          <a:xfrm>
            <a:off x="4022640" y="2746440"/>
            <a:ext cx="20880" cy="20520"/>
          </a:xfrm>
          <a:custGeom>
            <a:avLst/>
            <a:gdLst>
              <a:gd name="textAreaLeft" fmla="*/ 0 w 20880"/>
              <a:gd name="textAreaRight" fmla="*/ 21240 w 20880"/>
              <a:gd name="textAreaTop" fmla="*/ 0 h 20520"/>
              <a:gd name="textAreaBottom" fmla="*/ 20880 h 20520"/>
            </a:gdLst>
            <a:ahLst/>
            <a:rect l="textAreaLeft" t="textAreaTop" r="textAreaRight" b="textAreaBottom"/>
            <a:pathLst>
              <a:path w="1" h="1">
                <a:moveTo>
                  <a:pt x="0" y="0"/>
                </a:moveTo>
                <a:lnTo>
                  <a:pt x="0" y="0"/>
                </a:lnTo>
                <a:lnTo>
                  <a:pt x="0" y="1"/>
                </a:lnTo>
                <a:lnTo>
                  <a:pt x="1" y="0"/>
                </a:lnTo>
                <a:lnTo>
                  <a:pt x="0" y="0"/>
                </a:lnTo>
              </a:path>
            </a:pathLst>
          </a:custGeom>
          <a:noFill/>
          <a:ln w="2052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46" name="Freeform 45"/>
          <p:cNvSpPr/>
          <p:nvPr/>
        </p:nvSpPr>
        <p:spPr>
          <a:xfrm>
            <a:off x="4127400" y="2746440"/>
            <a:ext cx="41400" cy="41040"/>
          </a:xfrm>
          <a:custGeom>
            <a:avLst/>
            <a:gdLst>
              <a:gd name="textAreaLeft" fmla="*/ 0 w 41400"/>
              <a:gd name="textAreaRight" fmla="*/ 41760 w 41400"/>
              <a:gd name="textAreaTop" fmla="*/ 0 h 41040"/>
              <a:gd name="textAreaBottom" fmla="*/ 41400 h 41040"/>
            </a:gdLst>
            <a:ahLst/>
            <a:rect l="textAreaLeft" t="textAreaTop" r="textAreaRight" b="textAreaBottom"/>
            <a:pathLst>
              <a:path w="26" h="26">
                <a:moveTo>
                  <a:pt x="13" y="13"/>
                </a:moveTo>
                <a:lnTo>
                  <a:pt x="13" y="0"/>
                </a:lnTo>
                <a:lnTo>
                  <a:pt x="0" y="0"/>
                </a:lnTo>
                <a:lnTo>
                  <a:pt x="0" y="13"/>
                </a:lnTo>
                <a:lnTo>
                  <a:pt x="0" y="26"/>
                </a:lnTo>
                <a:lnTo>
                  <a:pt x="13" y="26"/>
                </a:lnTo>
                <a:lnTo>
                  <a:pt x="26" y="26"/>
                </a:lnTo>
                <a:lnTo>
                  <a:pt x="26" y="13"/>
                </a:lnTo>
                <a:lnTo>
                  <a:pt x="26" y="0"/>
                </a:lnTo>
                <a:lnTo>
                  <a:pt x="13" y="0"/>
                </a:lnTo>
                <a:lnTo>
                  <a:pt x="13" y="13"/>
                </a:lnTo>
                <a:close/>
              </a:path>
            </a:pathLst>
          </a:cu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47" name="Freeform 46"/>
          <p:cNvSpPr/>
          <p:nvPr/>
        </p:nvSpPr>
        <p:spPr>
          <a:xfrm>
            <a:off x="4127400" y="2746440"/>
            <a:ext cx="20880" cy="20520"/>
          </a:xfrm>
          <a:custGeom>
            <a:avLst/>
            <a:gdLst>
              <a:gd name="textAreaLeft" fmla="*/ 0 w 20880"/>
              <a:gd name="textAreaRight" fmla="*/ 21240 w 20880"/>
              <a:gd name="textAreaTop" fmla="*/ 0 h 20520"/>
              <a:gd name="textAreaBottom" fmla="*/ 20880 h 20520"/>
            </a:gdLst>
            <a:ahLst/>
            <a:rect l="textAreaLeft" t="textAreaTop" r="textAreaRight" b="textAreaBottom"/>
            <a:pathLst>
              <a:path w="1" h="1">
                <a:moveTo>
                  <a:pt x="0" y="0"/>
                </a:moveTo>
                <a:lnTo>
                  <a:pt x="0" y="0"/>
                </a:lnTo>
                <a:lnTo>
                  <a:pt x="0" y="1"/>
                </a:lnTo>
                <a:lnTo>
                  <a:pt x="1" y="0"/>
                </a:lnTo>
                <a:lnTo>
                  <a:pt x="0" y="0"/>
                </a:lnTo>
              </a:path>
            </a:pathLst>
          </a:custGeom>
          <a:noFill/>
          <a:ln w="2052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48" name="Freeform 47"/>
          <p:cNvSpPr/>
          <p:nvPr/>
        </p:nvSpPr>
        <p:spPr>
          <a:xfrm>
            <a:off x="4232160" y="2746440"/>
            <a:ext cx="41400" cy="41040"/>
          </a:xfrm>
          <a:custGeom>
            <a:avLst/>
            <a:gdLst>
              <a:gd name="textAreaLeft" fmla="*/ 0 w 41400"/>
              <a:gd name="textAreaRight" fmla="*/ 41760 w 41400"/>
              <a:gd name="textAreaTop" fmla="*/ 0 h 41040"/>
              <a:gd name="textAreaBottom" fmla="*/ 41400 h 41040"/>
            </a:gdLst>
            <a:ahLst/>
            <a:rect l="textAreaLeft" t="textAreaTop" r="textAreaRight" b="textAreaBottom"/>
            <a:pathLst>
              <a:path w="26" h="26">
                <a:moveTo>
                  <a:pt x="13" y="13"/>
                </a:moveTo>
                <a:lnTo>
                  <a:pt x="13" y="0"/>
                </a:lnTo>
                <a:lnTo>
                  <a:pt x="0" y="0"/>
                </a:lnTo>
                <a:lnTo>
                  <a:pt x="0" y="13"/>
                </a:lnTo>
                <a:lnTo>
                  <a:pt x="0" y="26"/>
                </a:lnTo>
                <a:lnTo>
                  <a:pt x="13" y="26"/>
                </a:lnTo>
                <a:lnTo>
                  <a:pt x="26" y="26"/>
                </a:lnTo>
                <a:lnTo>
                  <a:pt x="26" y="13"/>
                </a:lnTo>
                <a:lnTo>
                  <a:pt x="26" y="0"/>
                </a:lnTo>
                <a:lnTo>
                  <a:pt x="13" y="0"/>
                </a:lnTo>
                <a:lnTo>
                  <a:pt x="13" y="13"/>
                </a:lnTo>
                <a:close/>
              </a:path>
            </a:pathLst>
          </a:custGeom>
          <a:solidFill>
            <a:srgbClr val="000000"/>
          </a:solidFill>
          <a:ln w="0">
            <a:solidFill>
              <a:srgbClr val="000000"/>
            </a:solid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49" name="Freeform 48"/>
          <p:cNvSpPr/>
          <p:nvPr/>
        </p:nvSpPr>
        <p:spPr>
          <a:xfrm>
            <a:off x="4253040" y="2746440"/>
            <a:ext cx="20520" cy="20520"/>
          </a:xfrm>
          <a:custGeom>
            <a:avLst/>
            <a:gdLst>
              <a:gd name="textAreaLeft" fmla="*/ 0 w 20520"/>
              <a:gd name="textAreaRight" fmla="*/ 20880 w 20520"/>
              <a:gd name="textAreaTop" fmla="*/ 0 h 20520"/>
              <a:gd name="textAreaBottom" fmla="*/ 20880 h 20520"/>
            </a:gdLst>
            <a:ahLst/>
            <a:rect l="textAreaLeft" t="textAreaTop" r="textAreaRight" b="textAreaBottom"/>
            <a:pathLst>
              <a:path w="1" h="1">
                <a:moveTo>
                  <a:pt x="0" y="0"/>
                </a:moveTo>
                <a:lnTo>
                  <a:pt x="0" y="0"/>
                </a:lnTo>
                <a:lnTo>
                  <a:pt x="0" y="1"/>
                </a:lnTo>
                <a:lnTo>
                  <a:pt x="1" y="0"/>
                </a:lnTo>
                <a:lnTo>
                  <a:pt x="0" y="0"/>
                </a:lnTo>
              </a:path>
            </a:pathLst>
          </a:custGeom>
          <a:noFill/>
          <a:ln w="20520">
            <a:solidFill>
              <a:srgbClr val="000000"/>
            </a:solidFill>
            <a:round/>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50" name="Rectangle 49"/>
          <p:cNvSpPr/>
          <p:nvPr/>
        </p:nvSpPr>
        <p:spPr>
          <a:xfrm>
            <a:off x="3603600" y="2577960"/>
            <a:ext cx="1297080" cy="355680"/>
          </a:xfrm>
          <a:prstGeom prst="rect">
            <a:avLst/>
          </a:prstGeom>
          <a:noFill/>
          <a:ln w="2052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50"/>
          <p:cNvSpPr/>
          <p:nvPr/>
        </p:nvSpPr>
        <p:spPr>
          <a:xfrm>
            <a:off x="2207520" y="4732200"/>
            <a:ext cx="2995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ea typeface="SimSun"/>
              </a:rPr>
              <a:t>uni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Conditional Braches</a:t>
            </a:r>
            <a:endParaRPr b="1" lang="en-US" sz="3900" spc="-1" strike="noStrike">
              <a:solidFill>
                <a:srgbClr val="330066"/>
              </a:solidFill>
              <a:latin typeface="Arial"/>
            </a:endParaRPr>
          </a:p>
        </p:txBody>
      </p:sp>
      <p:sp>
        <p:nvSpPr>
          <p:cNvPr id="95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A conditional branch instruction introduces the added hazard caused by the dependency of the branch condition on the result of a preceding instruction.</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The decision to branch cannot be made until the execution of that instruction has been completed.</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Branch instructions represent about 20% of the dynamic instruction count of most progr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Making the Execution of Programs Faster</a:t>
            </a:r>
            <a:endParaRPr b="1" lang="en-US" sz="3900" spc="-1" strike="noStrike">
              <a:solidFill>
                <a:srgbClr val="330066"/>
              </a:solidFill>
              <a:latin typeface="Arial"/>
            </a:endParaRPr>
          </a:p>
        </p:txBody>
      </p:sp>
      <p:sp>
        <p:nvSpPr>
          <p:cNvPr id="16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Use faster circuit technology to build the processor and the main memory.</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Arrange the hardware so that more than one operation can be performed at the same tim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SimSun"/>
              </a:rPr>
              <a:t>In the latter way, the number of operations performed per second is increased even though the elapsed time needed to perform any one operation is not chang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6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6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Traditional Pipeline Concept</a:t>
            </a:r>
            <a:endParaRPr b="1" lang="en-US" sz="3900" spc="-1" strike="noStrike">
              <a:solidFill>
                <a:srgbClr val="330066"/>
              </a:solidFill>
              <a:latin typeface="Arial"/>
            </a:endParaRPr>
          </a:p>
        </p:txBody>
      </p:sp>
      <p:sp>
        <p:nvSpPr>
          <p:cNvPr id="165" name="PlaceHolder 2"/>
          <p:cNvSpPr>
            <a:spLocks noGrp="1"/>
          </p:cNvSpPr>
          <p:nvPr>
            <p:ph/>
          </p:nvPr>
        </p:nvSpPr>
        <p:spPr>
          <a:xfrm>
            <a:off x="687240" y="2076480"/>
            <a:ext cx="7640640" cy="3666960"/>
          </a:xfrm>
          <a:prstGeom prst="rect">
            <a:avLst/>
          </a:prstGeom>
          <a:noFill/>
          <a:ln w="0">
            <a:noFill/>
          </a:ln>
        </p:spPr>
        <p:txBody>
          <a:bodyPr lIns="63360" rIns="63360" tIns="25560" bIns="25560" anchor="t">
            <a:normAutofit fontScale="89000"/>
          </a:bodyPr>
          <a:p>
            <a:pPr marL="179280" indent="-179280">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Laundry Example</a:t>
            </a:r>
            <a:endParaRPr b="0" lang="en-US" sz="2600" spc="-1" strike="noStrike">
              <a:solidFill>
                <a:srgbClr val="000000"/>
              </a:solidFill>
              <a:latin typeface="Arial"/>
            </a:endParaRPr>
          </a:p>
          <a:p>
            <a:pPr marL="179280" indent="-179280">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Ann, Brian, Cathy, Dave </a:t>
            </a:r>
            <a:br>
              <a:rPr sz="2600"/>
            </a:br>
            <a:r>
              <a:rPr b="0" lang="en-GB" sz="2600" spc="-1" strike="noStrike">
                <a:solidFill>
                  <a:srgbClr val="000000"/>
                </a:solidFill>
                <a:latin typeface="Arial"/>
              </a:rPr>
              <a:t>each have one load of clothes </a:t>
            </a:r>
            <a:br>
              <a:rPr sz="2600"/>
            </a:br>
            <a:r>
              <a:rPr b="0" lang="en-GB" sz="2600" spc="-1" strike="noStrike">
                <a:solidFill>
                  <a:srgbClr val="000000"/>
                </a:solidFill>
                <a:latin typeface="Arial"/>
              </a:rPr>
              <a:t>to wash, dry, and fold</a:t>
            </a:r>
            <a:endParaRPr b="0" lang="en-US" sz="2600" spc="-1" strike="noStrike">
              <a:solidFill>
                <a:srgbClr val="000000"/>
              </a:solidFill>
              <a:latin typeface="Arial"/>
            </a:endParaRPr>
          </a:p>
          <a:p>
            <a:pPr marL="179280" indent="-179280">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Washer takes 30 minutes</a:t>
            </a:r>
            <a:endParaRPr b="0" lang="en-US" sz="2600" spc="-1" strike="noStrike">
              <a:solidFill>
                <a:srgbClr val="000000"/>
              </a:solidFill>
              <a:latin typeface="Arial"/>
            </a:endParaRPr>
          </a:p>
          <a:p>
            <a:pPr marL="179280" indent="0">
              <a:spcBef>
                <a:spcPts val="64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Arial"/>
            </a:endParaRPr>
          </a:p>
          <a:p>
            <a:pPr marL="179280" indent="-179280">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Dryer takes 40 minutes</a:t>
            </a:r>
            <a:endParaRPr b="0" lang="en-US" sz="2600" spc="-1" strike="noStrike">
              <a:solidFill>
                <a:srgbClr val="000000"/>
              </a:solidFill>
              <a:latin typeface="Arial"/>
            </a:endParaRPr>
          </a:p>
          <a:p>
            <a:pPr marL="179280" indent="0">
              <a:spcBef>
                <a:spcPts val="649"/>
              </a:spcBef>
              <a:buNone/>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Arial"/>
            </a:endParaRPr>
          </a:p>
          <a:p>
            <a:pPr marL="179280" indent="-179280">
              <a:spcBef>
                <a:spcPts val="649"/>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600" spc="-1" strike="noStrike">
                <a:solidFill>
                  <a:srgbClr val="000000"/>
                </a:solidFill>
                <a:latin typeface="Arial"/>
              </a:rPr>
              <a:t>“</a:t>
            </a:r>
            <a:r>
              <a:rPr b="0" lang="en-GB" sz="2600" spc="-1" strike="noStrike">
                <a:solidFill>
                  <a:srgbClr val="000000"/>
                </a:solidFill>
                <a:latin typeface="Arial"/>
              </a:rPr>
              <a:t>Folder” takes 20 minutes</a:t>
            </a:r>
            <a:endParaRPr b="0" lang="en-US" sz="2600" spc="-1" strike="noStrike">
              <a:solidFill>
                <a:srgbClr val="000000"/>
              </a:solidFill>
              <a:latin typeface="Arial"/>
            </a:endParaRPr>
          </a:p>
        </p:txBody>
      </p:sp>
      <p:grpSp>
        <p:nvGrpSpPr>
          <p:cNvPr id="166" name="Group 4"/>
          <p:cNvGrpSpPr/>
          <p:nvPr/>
        </p:nvGrpSpPr>
        <p:grpSpPr>
          <a:xfrm>
            <a:off x="6369120" y="4992840"/>
            <a:ext cx="671400" cy="798480"/>
            <a:chOff x="6369120" y="4992840"/>
            <a:chExt cx="671400" cy="798480"/>
          </a:xfrm>
        </p:grpSpPr>
        <p:grpSp>
          <p:nvGrpSpPr>
            <p:cNvPr id="167" name="Group 5"/>
            <p:cNvGrpSpPr/>
            <p:nvPr/>
          </p:nvGrpSpPr>
          <p:grpSpPr>
            <a:xfrm>
              <a:off x="6369120" y="4992840"/>
              <a:ext cx="671400" cy="798480"/>
              <a:chOff x="6369120" y="4992840"/>
              <a:chExt cx="671400" cy="798480"/>
            </a:xfrm>
          </p:grpSpPr>
          <p:grpSp>
            <p:nvGrpSpPr>
              <p:cNvPr id="168" name="Group 6"/>
              <p:cNvGrpSpPr/>
              <p:nvPr/>
            </p:nvGrpSpPr>
            <p:grpSpPr>
              <a:xfrm>
                <a:off x="6369120" y="5119920"/>
                <a:ext cx="671400" cy="671400"/>
                <a:chOff x="6369120" y="5119920"/>
                <a:chExt cx="671400" cy="671400"/>
              </a:xfrm>
            </p:grpSpPr>
            <p:sp>
              <p:nvSpPr>
                <p:cNvPr id="169" name="Freeform 7"/>
                <p:cNvSpPr/>
                <p:nvPr/>
              </p:nvSpPr>
              <p:spPr>
                <a:xfrm>
                  <a:off x="6369120" y="5119920"/>
                  <a:ext cx="671400" cy="671400"/>
                </a:xfrm>
                <a:custGeom>
                  <a:avLst/>
                  <a:gdLst>
                    <a:gd name="textAreaLeft" fmla="*/ 0 w 671400"/>
                    <a:gd name="textAreaRight" fmla="*/ 671760 w 671400"/>
                    <a:gd name="textAreaTop" fmla="*/ 0 h 671400"/>
                    <a:gd name="textAreaBottom" fmla="*/ 671760 h 671400"/>
                  </a:gdLst>
                  <a:ahLst/>
                  <a:rect l="textAreaLeft" t="textAreaTop" r="textAreaRight" b="textAreaBottom"/>
                  <a:pathLst>
                    <a:path w="1871" h="1870">
                      <a:moveTo>
                        <a:pt x="0" y="1869"/>
                      </a:moveTo>
                      <a:lnTo>
                        <a:pt x="0" y="467"/>
                      </a:lnTo>
                      <a:lnTo>
                        <a:pt x="466" y="0"/>
                      </a:lnTo>
                      <a:lnTo>
                        <a:pt x="1870" y="0"/>
                      </a:lnTo>
                      <a:lnTo>
                        <a:pt x="1870" y="1402"/>
                      </a:lnTo>
                      <a:lnTo>
                        <a:pt x="1402" y="1869"/>
                      </a:lnTo>
                      <a:lnTo>
                        <a:pt x="0" y="1869"/>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Freeform 8"/>
                <p:cNvSpPr/>
                <p:nvPr/>
              </p:nvSpPr>
              <p:spPr>
                <a:xfrm>
                  <a:off x="6369120" y="5119920"/>
                  <a:ext cx="671400" cy="167760"/>
                </a:xfrm>
                <a:custGeom>
                  <a:avLst/>
                  <a:gdLst>
                    <a:gd name="textAreaLeft" fmla="*/ 0 w 671400"/>
                    <a:gd name="textAreaRight" fmla="*/ 671760 w 671400"/>
                    <a:gd name="textAreaTop" fmla="*/ 0 h 167760"/>
                    <a:gd name="textAreaBottom" fmla="*/ 168120 h 167760"/>
                  </a:gdLst>
                  <a:ahLst/>
                  <a:rect l="textAreaLeft" t="textAreaTop" r="textAreaRight" b="textAreaBottom"/>
                  <a:pathLst>
                    <a:path w="1871" h="468">
                      <a:moveTo>
                        <a:pt x="0" y="467"/>
                      </a:moveTo>
                      <a:lnTo>
                        <a:pt x="466" y="0"/>
                      </a:lnTo>
                      <a:lnTo>
                        <a:pt x="1870" y="0"/>
                      </a:lnTo>
                      <a:lnTo>
                        <a:pt x="1402" y="467"/>
                      </a:lnTo>
                      <a:lnTo>
                        <a:pt x="0" y="467"/>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Freeform 9"/>
                <p:cNvSpPr/>
                <p:nvPr/>
              </p:nvSpPr>
              <p:spPr>
                <a:xfrm>
                  <a:off x="6872400" y="5119920"/>
                  <a:ext cx="167760" cy="671400"/>
                </a:xfrm>
                <a:custGeom>
                  <a:avLst/>
                  <a:gdLst>
                    <a:gd name="textAreaLeft" fmla="*/ 0 w 167760"/>
                    <a:gd name="textAreaRight" fmla="*/ 168120 w 167760"/>
                    <a:gd name="textAreaTop" fmla="*/ 0 h 671400"/>
                    <a:gd name="textAreaBottom" fmla="*/ 671760 h 671400"/>
                  </a:gdLst>
                  <a:ahLst/>
                  <a:rect l="textAreaLeft" t="textAreaTop" r="textAreaRight" b="textAreaBottom"/>
                  <a:pathLst>
                    <a:path w="469" h="1870">
                      <a:moveTo>
                        <a:pt x="0" y="1869"/>
                      </a:moveTo>
                      <a:lnTo>
                        <a:pt x="0" y="467"/>
                      </a:lnTo>
                      <a:lnTo>
                        <a:pt x="468" y="0"/>
                      </a:lnTo>
                      <a:lnTo>
                        <a:pt x="468" y="1402"/>
                      </a:lnTo>
                      <a:lnTo>
                        <a:pt x="0" y="1869"/>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2" name="Group 10"/>
              <p:cNvGrpSpPr/>
              <p:nvPr/>
            </p:nvGrpSpPr>
            <p:grpSpPr>
              <a:xfrm>
                <a:off x="6521400" y="4992840"/>
                <a:ext cx="519120" cy="138240"/>
                <a:chOff x="6521400" y="4992840"/>
                <a:chExt cx="519120" cy="138240"/>
              </a:xfrm>
            </p:grpSpPr>
            <p:sp>
              <p:nvSpPr>
                <p:cNvPr id="173" name="Freeform 11"/>
                <p:cNvSpPr/>
                <p:nvPr/>
              </p:nvSpPr>
              <p:spPr>
                <a:xfrm>
                  <a:off x="6521400" y="4992840"/>
                  <a:ext cx="519120" cy="138240"/>
                </a:xfrm>
                <a:custGeom>
                  <a:avLst/>
                  <a:gdLst>
                    <a:gd name="textAreaLeft" fmla="*/ 0 w 519120"/>
                    <a:gd name="textAreaRight" fmla="*/ 519480 w 519120"/>
                    <a:gd name="textAreaTop" fmla="*/ 0 h 138240"/>
                    <a:gd name="textAreaBottom" fmla="*/ 138600 h 138240"/>
                  </a:gdLst>
                  <a:ahLst/>
                  <a:rect l="textAreaLeft" t="textAreaTop" r="textAreaRight" b="textAreaBottom"/>
                  <a:pathLst>
                    <a:path w="1448" h="389">
                      <a:moveTo>
                        <a:pt x="0" y="388"/>
                      </a:moveTo>
                      <a:lnTo>
                        <a:pt x="0" y="96"/>
                      </a:lnTo>
                      <a:lnTo>
                        <a:pt x="96" y="0"/>
                      </a:lnTo>
                      <a:lnTo>
                        <a:pt x="1447" y="0"/>
                      </a:lnTo>
                      <a:lnTo>
                        <a:pt x="1447" y="290"/>
                      </a:lnTo>
                      <a:lnTo>
                        <a:pt x="1349" y="388"/>
                      </a:lnTo>
                      <a:lnTo>
                        <a:pt x="0" y="388"/>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Freeform 12"/>
                <p:cNvSpPr/>
                <p:nvPr/>
              </p:nvSpPr>
              <p:spPr>
                <a:xfrm>
                  <a:off x="6521400" y="4992840"/>
                  <a:ext cx="519120" cy="34560"/>
                </a:xfrm>
                <a:custGeom>
                  <a:avLst/>
                  <a:gdLst>
                    <a:gd name="textAreaLeft" fmla="*/ 0 w 519120"/>
                    <a:gd name="textAreaRight" fmla="*/ 519480 w 519120"/>
                    <a:gd name="textAreaTop" fmla="*/ 0 h 34560"/>
                    <a:gd name="textAreaBottom" fmla="*/ 34920 h 34560"/>
                  </a:gdLst>
                  <a:ahLst/>
                  <a:rect l="textAreaLeft" t="textAreaTop" r="textAreaRight" b="textAreaBottom"/>
                  <a:pathLst>
                    <a:path w="1448" h="97">
                      <a:moveTo>
                        <a:pt x="0" y="96"/>
                      </a:moveTo>
                      <a:lnTo>
                        <a:pt x="96" y="0"/>
                      </a:lnTo>
                      <a:lnTo>
                        <a:pt x="1447" y="0"/>
                      </a:lnTo>
                      <a:lnTo>
                        <a:pt x="1349" y="96"/>
                      </a:lnTo>
                      <a:lnTo>
                        <a:pt x="0" y="96"/>
                      </a:lnTo>
                    </a:path>
                  </a:pathLst>
                </a:custGeom>
                <a:solidFill>
                  <a:srgbClr val="b1d3ff"/>
                </a:solidFill>
                <a:ln w="12600">
                  <a:solidFill>
                    <a:srgbClr val="000000"/>
                  </a:solidFill>
                  <a:round/>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75" name="Freeform 13"/>
                <p:cNvSpPr/>
                <p:nvPr/>
              </p:nvSpPr>
              <p:spPr>
                <a:xfrm>
                  <a:off x="7005600" y="4992840"/>
                  <a:ext cx="34560" cy="138240"/>
                </a:xfrm>
                <a:custGeom>
                  <a:avLst/>
                  <a:gdLst>
                    <a:gd name="textAreaLeft" fmla="*/ 0 w 34560"/>
                    <a:gd name="textAreaRight" fmla="*/ 34920 w 34560"/>
                    <a:gd name="textAreaTop" fmla="*/ 0 h 138240"/>
                    <a:gd name="textAreaBottom" fmla="*/ 138600 h 138240"/>
                  </a:gdLst>
                  <a:ahLst/>
                  <a:rect l="textAreaLeft" t="textAreaTop" r="textAreaRight" b="textAreaBottom"/>
                  <a:pathLst>
                    <a:path w="99" h="389">
                      <a:moveTo>
                        <a:pt x="0" y="388"/>
                      </a:moveTo>
                      <a:lnTo>
                        <a:pt x="0" y="96"/>
                      </a:lnTo>
                      <a:lnTo>
                        <a:pt x="98" y="0"/>
                      </a:lnTo>
                      <a:lnTo>
                        <a:pt x="98" y="290"/>
                      </a:lnTo>
                      <a:lnTo>
                        <a:pt x="0" y="388"/>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76" name="Oval 14"/>
            <p:cNvSpPr/>
            <p:nvPr/>
          </p:nvSpPr>
          <p:spPr>
            <a:xfrm>
              <a:off x="6572160" y="5056200"/>
              <a:ext cx="88920" cy="50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5"/>
            <p:cNvSpPr/>
            <p:nvPr/>
          </p:nvSpPr>
          <p:spPr>
            <a:xfrm>
              <a:off x="6451560" y="5430960"/>
              <a:ext cx="355680" cy="152280"/>
            </a:xfrm>
            <a:custGeom>
              <a:avLst/>
              <a:gdLst>
                <a:gd name="textAreaLeft" fmla="*/ 0 w 355680"/>
                <a:gd name="textAreaRight" fmla="*/ 356040 w 355680"/>
                <a:gd name="textAreaTop" fmla="*/ 0 h 152280"/>
                <a:gd name="textAreaBottom" fmla="*/ 152640 h 152280"/>
              </a:gdLst>
              <a:ahLst/>
              <a:rect l="textAreaLeft" t="textAreaTop" r="textAreaRight" b="textAreaBottom"/>
              <a:pathLst>
                <a:path w="989" h="424">
                  <a:moveTo>
                    <a:pt x="123" y="0"/>
                  </a:moveTo>
                  <a:lnTo>
                    <a:pt x="863" y="0"/>
                  </a:lnTo>
                  <a:lnTo>
                    <a:pt x="988" y="123"/>
                  </a:lnTo>
                  <a:lnTo>
                    <a:pt x="988" y="298"/>
                  </a:lnTo>
                  <a:lnTo>
                    <a:pt x="863" y="423"/>
                  </a:lnTo>
                  <a:lnTo>
                    <a:pt x="123" y="423"/>
                  </a:lnTo>
                  <a:lnTo>
                    <a:pt x="0" y="298"/>
                  </a:lnTo>
                  <a:lnTo>
                    <a:pt x="0" y="123"/>
                  </a:lnTo>
                  <a:lnTo>
                    <a:pt x="123"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8" name="Group 16"/>
          <p:cNvGrpSpPr/>
          <p:nvPr/>
        </p:nvGrpSpPr>
        <p:grpSpPr>
          <a:xfrm>
            <a:off x="6361200" y="5981760"/>
            <a:ext cx="659880" cy="647280"/>
            <a:chOff x="6361200" y="5981760"/>
            <a:chExt cx="659880" cy="647280"/>
          </a:xfrm>
        </p:grpSpPr>
        <p:grpSp>
          <p:nvGrpSpPr>
            <p:cNvPr id="179" name="Group 17"/>
            <p:cNvGrpSpPr/>
            <p:nvPr/>
          </p:nvGrpSpPr>
          <p:grpSpPr>
            <a:xfrm>
              <a:off x="6364440" y="6287760"/>
              <a:ext cx="656640" cy="340920"/>
              <a:chOff x="6364440" y="6287760"/>
              <a:chExt cx="656640" cy="340920"/>
            </a:xfrm>
          </p:grpSpPr>
          <p:sp>
            <p:nvSpPr>
              <p:cNvPr id="180" name="Freeform 18"/>
              <p:cNvSpPr/>
              <p:nvPr/>
            </p:nvSpPr>
            <p:spPr>
              <a:xfrm>
                <a:off x="6683760" y="6289200"/>
                <a:ext cx="150120" cy="339480"/>
              </a:xfrm>
              <a:custGeom>
                <a:avLst/>
                <a:gdLst>
                  <a:gd name="textAreaLeft" fmla="*/ 0 w 150120"/>
                  <a:gd name="textAreaRight" fmla="*/ 150480 w 150120"/>
                  <a:gd name="textAreaTop" fmla="*/ 0 h 339480"/>
                  <a:gd name="textAreaBottom" fmla="*/ 339840 h 339480"/>
                </a:gdLst>
                <a:ahLst/>
                <a:rect l="textAreaLeft" t="textAreaTop" r="textAreaRight" b="textAreaBottom"/>
                <a:pathLst>
                  <a:path w="421" h="949">
                    <a:moveTo>
                      <a:pt x="305" y="0"/>
                    </a:moveTo>
                    <a:lnTo>
                      <a:pt x="420" y="0"/>
                    </a:lnTo>
                    <a:lnTo>
                      <a:pt x="115" y="948"/>
                    </a:lnTo>
                    <a:lnTo>
                      <a:pt x="0" y="948"/>
                    </a:lnTo>
                    <a:lnTo>
                      <a:pt x="305"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AutoShape 19"/>
              <p:cNvSpPr/>
              <p:nvPr/>
            </p:nvSpPr>
            <p:spPr>
              <a:xfrm>
                <a:off x="6675840" y="6287760"/>
                <a:ext cx="345240" cy="18720"/>
              </a:xfrm>
              <a:prstGeom prst="roundRect">
                <a:avLst>
                  <a:gd name="adj" fmla="val 8333"/>
                </a:avLst>
              </a:prstGeom>
              <a:solidFill>
                <a:srgbClr val="fc0128"/>
              </a:solidFill>
              <a:ln w="0">
                <a:noFill/>
              </a:ln>
            </p:spPr>
            <p:style>
              <a:lnRef idx="0"/>
              <a:fillRef idx="0"/>
              <a:effectRef idx="0"/>
              <a:fontRef idx="minor"/>
            </p:style>
            <p:txBody>
              <a:bodyPr wrap="none" lIns="90000" rIns="90000" tIns="-28800" bIns="-28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AutoShape 20"/>
              <p:cNvSpPr/>
              <p:nvPr/>
            </p:nvSpPr>
            <p:spPr>
              <a:xfrm>
                <a:off x="6674400" y="6432840"/>
                <a:ext cx="344880" cy="20520"/>
              </a:xfrm>
              <a:prstGeom prst="roundRect">
                <a:avLst>
                  <a:gd name="adj" fmla="val 8333"/>
                </a:avLst>
              </a:prstGeom>
              <a:solidFill>
                <a:srgbClr val="fc0128"/>
              </a:solidFill>
              <a:ln w="0">
                <a:noFill/>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AutoShape 21"/>
              <p:cNvSpPr/>
              <p:nvPr/>
            </p:nvSpPr>
            <p:spPr>
              <a:xfrm>
                <a:off x="6364440" y="6432840"/>
                <a:ext cx="183240" cy="20520"/>
              </a:xfrm>
              <a:prstGeom prst="roundRect">
                <a:avLst>
                  <a:gd name="adj" fmla="val 8333"/>
                </a:avLst>
              </a:prstGeom>
              <a:solidFill>
                <a:srgbClr val="fc0128"/>
              </a:solidFill>
              <a:ln w="0">
                <a:noFill/>
              </a:ln>
            </p:spPr>
            <p:style>
              <a:lnRef idx="0"/>
              <a:fillRef idx="0"/>
              <a:effectRef idx="0"/>
              <a:fontRef idx="minor"/>
            </p:style>
            <p:txBody>
              <a:bodyPr wrap="none" lIns="90000" rIns="90000" tIns="-27000" bIns="-27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4" name="Group 22"/>
            <p:cNvGrpSpPr/>
            <p:nvPr/>
          </p:nvGrpSpPr>
          <p:grpSpPr>
            <a:xfrm>
              <a:off x="6361200" y="5981760"/>
              <a:ext cx="342720" cy="647280"/>
              <a:chOff x="6361200" y="5981760"/>
              <a:chExt cx="342720" cy="647280"/>
            </a:xfrm>
          </p:grpSpPr>
          <p:sp>
            <p:nvSpPr>
              <p:cNvPr id="185" name="Oval 23"/>
              <p:cNvSpPr/>
              <p:nvPr/>
            </p:nvSpPr>
            <p:spPr>
              <a:xfrm>
                <a:off x="6493680" y="5981760"/>
                <a:ext cx="88200" cy="871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24"/>
              <p:cNvSpPr/>
              <p:nvPr/>
            </p:nvSpPr>
            <p:spPr>
              <a:xfrm>
                <a:off x="6361200" y="6103800"/>
                <a:ext cx="342720" cy="525240"/>
              </a:xfrm>
              <a:custGeom>
                <a:avLst/>
                <a:gdLst>
                  <a:gd name="textAreaLeft" fmla="*/ 0 w 342720"/>
                  <a:gd name="textAreaRight" fmla="*/ 343080 w 342720"/>
                  <a:gd name="textAreaTop" fmla="*/ 0 h 525240"/>
                  <a:gd name="textAreaBottom" fmla="*/ 525600 h 525240"/>
                </a:gdLst>
                <a:ahLst/>
                <a:rect l="textAreaLeft" t="textAreaTop" r="textAreaRight" b="textAreaBottom"/>
                <a:pathLst>
                  <a:path w="958" h="1463">
                    <a:moveTo>
                      <a:pt x="261" y="110"/>
                    </a:moveTo>
                    <a:lnTo>
                      <a:pt x="8" y="676"/>
                    </a:lnTo>
                    <a:lnTo>
                      <a:pt x="4" y="684"/>
                    </a:lnTo>
                    <a:lnTo>
                      <a:pt x="4" y="693"/>
                    </a:lnTo>
                    <a:lnTo>
                      <a:pt x="0" y="702"/>
                    </a:lnTo>
                    <a:lnTo>
                      <a:pt x="0" y="720"/>
                    </a:lnTo>
                    <a:lnTo>
                      <a:pt x="0" y="729"/>
                    </a:lnTo>
                    <a:lnTo>
                      <a:pt x="0" y="742"/>
                    </a:lnTo>
                    <a:lnTo>
                      <a:pt x="4" y="755"/>
                    </a:lnTo>
                    <a:lnTo>
                      <a:pt x="8" y="768"/>
                    </a:lnTo>
                    <a:lnTo>
                      <a:pt x="13" y="777"/>
                    </a:lnTo>
                    <a:lnTo>
                      <a:pt x="22" y="790"/>
                    </a:lnTo>
                    <a:lnTo>
                      <a:pt x="30" y="799"/>
                    </a:lnTo>
                    <a:lnTo>
                      <a:pt x="39" y="808"/>
                    </a:lnTo>
                    <a:lnTo>
                      <a:pt x="52" y="812"/>
                    </a:lnTo>
                    <a:lnTo>
                      <a:pt x="61" y="821"/>
                    </a:lnTo>
                    <a:lnTo>
                      <a:pt x="66" y="821"/>
                    </a:lnTo>
                    <a:lnTo>
                      <a:pt x="75" y="821"/>
                    </a:lnTo>
                    <a:lnTo>
                      <a:pt x="88" y="821"/>
                    </a:lnTo>
                    <a:lnTo>
                      <a:pt x="101" y="821"/>
                    </a:lnTo>
                    <a:lnTo>
                      <a:pt x="625" y="821"/>
                    </a:lnTo>
                    <a:lnTo>
                      <a:pt x="625" y="1462"/>
                    </a:lnTo>
                    <a:lnTo>
                      <a:pt x="788" y="1462"/>
                    </a:lnTo>
                    <a:lnTo>
                      <a:pt x="788" y="702"/>
                    </a:lnTo>
                    <a:lnTo>
                      <a:pt x="788" y="693"/>
                    </a:lnTo>
                    <a:lnTo>
                      <a:pt x="784" y="684"/>
                    </a:lnTo>
                    <a:lnTo>
                      <a:pt x="779" y="676"/>
                    </a:lnTo>
                    <a:lnTo>
                      <a:pt x="779" y="671"/>
                    </a:lnTo>
                    <a:lnTo>
                      <a:pt x="775" y="667"/>
                    </a:lnTo>
                    <a:lnTo>
                      <a:pt x="766" y="658"/>
                    </a:lnTo>
                    <a:lnTo>
                      <a:pt x="762" y="654"/>
                    </a:lnTo>
                    <a:lnTo>
                      <a:pt x="753" y="649"/>
                    </a:lnTo>
                    <a:lnTo>
                      <a:pt x="744" y="645"/>
                    </a:lnTo>
                    <a:lnTo>
                      <a:pt x="735" y="640"/>
                    </a:lnTo>
                    <a:lnTo>
                      <a:pt x="727" y="640"/>
                    </a:lnTo>
                    <a:lnTo>
                      <a:pt x="713" y="640"/>
                    </a:lnTo>
                    <a:lnTo>
                      <a:pt x="704" y="640"/>
                    </a:lnTo>
                    <a:lnTo>
                      <a:pt x="696" y="640"/>
                    </a:lnTo>
                    <a:lnTo>
                      <a:pt x="687" y="640"/>
                    </a:lnTo>
                    <a:lnTo>
                      <a:pt x="678" y="640"/>
                    </a:lnTo>
                    <a:lnTo>
                      <a:pt x="377" y="623"/>
                    </a:lnTo>
                    <a:lnTo>
                      <a:pt x="461" y="370"/>
                    </a:lnTo>
                    <a:lnTo>
                      <a:pt x="522" y="458"/>
                    </a:lnTo>
                    <a:lnTo>
                      <a:pt x="891" y="458"/>
                    </a:lnTo>
                    <a:lnTo>
                      <a:pt x="900" y="454"/>
                    </a:lnTo>
                    <a:lnTo>
                      <a:pt x="904" y="454"/>
                    </a:lnTo>
                    <a:lnTo>
                      <a:pt x="913" y="454"/>
                    </a:lnTo>
                    <a:lnTo>
                      <a:pt x="917" y="454"/>
                    </a:lnTo>
                    <a:lnTo>
                      <a:pt x="926" y="445"/>
                    </a:lnTo>
                    <a:lnTo>
                      <a:pt x="935" y="441"/>
                    </a:lnTo>
                    <a:lnTo>
                      <a:pt x="939" y="432"/>
                    </a:lnTo>
                    <a:lnTo>
                      <a:pt x="948" y="428"/>
                    </a:lnTo>
                    <a:lnTo>
                      <a:pt x="953" y="419"/>
                    </a:lnTo>
                    <a:lnTo>
                      <a:pt x="953" y="410"/>
                    </a:lnTo>
                    <a:lnTo>
                      <a:pt x="957" y="401"/>
                    </a:lnTo>
                    <a:lnTo>
                      <a:pt x="957" y="388"/>
                    </a:lnTo>
                    <a:lnTo>
                      <a:pt x="957" y="375"/>
                    </a:lnTo>
                    <a:lnTo>
                      <a:pt x="953" y="366"/>
                    </a:lnTo>
                    <a:lnTo>
                      <a:pt x="948" y="357"/>
                    </a:lnTo>
                    <a:lnTo>
                      <a:pt x="944" y="348"/>
                    </a:lnTo>
                    <a:lnTo>
                      <a:pt x="935" y="339"/>
                    </a:lnTo>
                    <a:lnTo>
                      <a:pt x="931" y="335"/>
                    </a:lnTo>
                    <a:lnTo>
                      <a:pt x="922" y="326"/>
                    </a:lnTo>
                    <a:lnTo>
                      <a:pt x="913" y="322"/>
                    </a:lnTo>
                    <a:lnTo>
                      <a:pt x="909" y="317"/>
                    </a:lnTo>
                    <a:lnTo>
                      <a:pt x="900" y="317"/>
                    </a:lnTo>
                    <a:lnTo>
                      <a:pt x="891" y="317"/>
                    </a:lnTo>
                    <a:lnTo>
                      <a:pt x="607" y="317"/>
                    </a:lnTo>
                    <a:lnTo>
                      <a:pt x="545" y="216"/>
                    </a:lnTo>
                    <a:lnTo>
                      <a:pt x="553" y="207"/>
                    </a:lnTo>
                    <a:lnTo>
                      <a:pt x="558" y="194"/>
                    </a:lnTo>
                    <a:lnTo>
                      <a:pt x="558" y="180"/>
                    </a:lnTo>
                    <a:lnTo>
                      <a:pt x="562" y="167"/>
                    </a:lnTo>
                    <a:lnTo>
                      <a:pt x="562" y="150"/>
                    </a:lnTo>
                    <a:lnTo>
                      <a:pt x="562" y="136"/>
                    </a:lnTo>
                    <a:lnTo>
                      <a:pt x="562" y="119"/>
                    </a:lnTo>
                    <a:lnTo>
                      <a:pt x="558" y="105"/>
                    </a:lnTo>
                    <a:lnTo>
                      <a:pt x="553" y="92"/>
                    </a:lnTo>
                    <a:lnTo>
                      <a:pt x="549" y="88"/>
                    </a:lnTo>
                    <a:lnTo>
                      <a:pt x="545" y="75"/>
                    </a:lnTo>
                    <a:lnTo>
                      <a:pt x="540" y="66"/>
                    </a:lnTo>
                    <a:lnTo>
                      <a:pt x="531" y="52"/>
                    </a:lnTo>
                    <a:lnTo>
                      <a:pt x="522" y="44"/>
                    </a:lnTo>
                    <a:lnTo>
                      <a:pt x="509" y="35"/>
                    </a:lnTo>
                    <a:lnTo>
                      <a:pt x="500" y="26"/>
                    </a:lnTo>
                    <a:lnTo>
                      <a:pt x="487" y="17"/>
                    </a:lnTo>
                    <a:lnTo>
                      <a:pt x="474" y="13"/>
                    </a:lnTo>
                    <a:lnTo>
                      <a:pt x="461" y="4"/>
                    </a:lnTo>
                    <a:lnTo>
                      <a:pt x="443" y="4"/>
                    </a:lnTo>
                    <a:lnTo>
                      <a:pt x="430" y="0"/>
                    </a:lnTo>
                    <a:lnTo>
                      <a:pt x="421" y="0"/>
                    </a:lnTo>
                    <a:lnTo>
                      <a:pt x="403" y="0"/>
                    </a:lnTo>
                    <a:lnTo>
                      <a:pt x="390" y="0"/>
                    </a:lnTo>
                    <a:lnTo>
                      <a:pt x="372" y="4"/>
                    </a:lnTo>
                    <a:lnTo>
                      <a:pt x="358" y="8"/>
                    </a:lnTo>
                    <a:lnTo>
                      <a:pt x="340" y="13"/>
                    </a:lnTo>
                    <a:lnTo>
                      <a:pt x="327" y="22"/>
                    </a:lnTo>
                    <a:lnTo>
                      <a:pt x="310" y="30"/>
                    </a:lnTo>
                    <a:lnTo>
                      <a:pt x="301" y="44"/>
                    </a:lnTo>
                    <a:lnTo>
                      <a:pt x="292" y="57"/>
                    </a:lnTo>
                    <a:lnTo>
                      <a:pt x="283" y="66"/>
                    </a:lnTo>
                    <a:lnTo>
                      <a:pt x="274" y="83"/>
                    </a:lnTo>
                    <a:lnTo>
                      <a:pt x="265" y="92"/>
                    </a:lnTo>
                    <a:lnTo>
                      <a:pt x="261" y="11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187" name="Group 25"/>
          <p:cNvGrpSpPr/>
          <p:nvPr/>
        </p:nvGrpSpPr>
        <p:grpSpPr>
          <a:xfrm>
            <a:off x="6381720" y="4078440"/>
            <a:ext cx="671400" cy="798480"/>
            <a:chOff x="6381720" y="4078440"/>
            <a:chExt cx="671400" cy="798480"/>
          </a:xfrm>
        </p:grpSpPr>
        <p:grpSp>
          <p:nvGrpSpPr>
            <p:cNvPr id="188" name="Group 26"/>
            <p:cNvGrpSpPr/>
            <p:nvPr/>
          </p:nvGrpSpPr>
          <p:grpSpPr>
            <a:xfrm>
              <a:off x="6381720" y="4078440"/>
              <a:ext cx="671400" cy="798480"/>
              <a:chOff x="6381720" y="4078440"/>
              <a:chExt cx="671400" cy="798480"/>
            </a:xfrm>
          </p:grpSpPr>
          <p:grpSp>
            <p:nvGrpSpPr>
              <p:cNvPr id="189" name="Group 27"/>
              <p:cNvGrpSpPr/>
              <p:nvPr/>
            </p:nvGrpSpPr>
            <p:grpSpPr>
              <a:xfrm>
                <a:off x="6381720" y="4078440"/>
                <a:ext cx="671400" cy="798480"/>
                <a:chOff x="6381720" y="4078440"/>
                <a:chExt cx="671400" cy="798480"/>
              </a:xfrm>
            </p:grpSpPr>
            <p:grpSp>
              <p:nvGrpSpPr>
                <p:cNvPr id="190" name="Group 28"/>
                <p:cNvGrpSpPr/>
                <p:nvPr/>
              </p:nvGrpSpPr>
              <p:grpSpPr>
                <a:xfrm>
                  <a:off x="6381720" y="4205520"/>
                  <a:ext cx="671400" cy="671400"/>
                  <a:chOff x="6381720" y="4205520"/>
                  <a:chExt cx="671400" cy="671400"/>
                </a:xfrm>
              </p:grpSpPr>
              <p:sp>
                <p:nvSpPr>
                  <p:cNvPr id="191" name="Freeform 29"/>
                  <p:cNvSpPr/>
                  <p:nvPr/>
                </p:nvSpPr>
                <p:spPr>
                  <a:xfrm>
                    <a:off x="6381720" y="4205520"/>
                    <a:ext cx="671400" cy="671400"/>
                  </a:xfrm>
                  <a:custGeom>
                    <a:avLst/>
                    <a:gdLst>
                      <a:gd name="textAreaLeft" fmla="*/ 0 w 671400"/>
                      <a:gd name="textAreaRight" fmla="*/ 671760 w 671400"/>
                      <a:gd name="textAreaTop" fmla="*/ 0 h 671400"/>
                      <a:gd name="textAreaBottom" fmla="*/ 671760 h 671400"/>
                    </a:gdLst>
                    <a:ahLst/>
                    <a:rect l="textAreaLeft" t="textAreaTop" r="textAreaRight" b="textAreaBottom"/>
                    <a:pathLst>
                      <a:path w="1871" h="1871">
                        <a:moveTo>
                          <a:pt x="0" y="1870"/>
                        </a:moveTo>
                        <a:lnTo>
                          <a:pt x="0" y="466"/>
                        </a:lnTo>
                        <a:lnTo>
                          <a:pt x="466" y="0"/>
                        </a:lnTo>
                        <a:lnTo>
                          <a:pt x="1870" y="0"/>
                        </a:lnTo>
                        <a:lnTo>
                          <a:pt x="1870" y="1402"/>
                        </a:lnTo>
                        <a:lnTo>
                          <a:pt x="1402" y="1870"/>
                        </a:lnTo>
                        <a:lnTo>
                          <a:pt x="0" y="1870"/>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Freeform 30"/>
                  <p:cNvSpPr/>
                  <p:nvPr/>
                </p:nvSpPr>
                <p:spPr>
                  <a:xfrm>
                    <a:off x="6381720" y="4205520"/>
                    <a:ext cx="671400" cy="167760"/>
                  </a:xfrm>
                  <a:custGeom>
                    <a:avLst/>
                    <a:gdLst>
                      <a:gd name="textAreaLeft" fmla="*/ 0 w 671400"/>
                      <a:gd name="textAreaRight" fmla="*/ 671760 w 671400"/>
                      <a:gd name="textAreaTop" fmla="*/ 0 h 167760"/>
                      <a:gd name="textAreaBottom" fmla="*/ 168120 h 167760"/>
                    </a:gdLst>
                    <a:ahLst/>
                    <a:rect l="textAreaLeft" t="textAreaTop" r="textAreaRight" b="textAreaBottom"/>
                    <a:pathLst>
                      <a:path w="1871" h="467">
                        <a:moveTo>
                          <a:pt x="0" y="466"/>
                        </a:moveTo>
                        <a:lnTo>
                          <a:pt x="466" y="0"/>
                        </a:lnTo>
                        <a:lnTo>
                          <a:pt x="1870" y="0"/>
                        </a:lnTo>
                        <a:lnTo>
                          <a:pt x="1402" y="466"/>
                        </a:lnTo>
                        <a:lnTo>
                          <a:pt x="0" y="46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Freeform 31"/>
                  <p:cNvSpPr/>
                  <p:nvPr/>
                </p:nvSpPr>
                <p:spPr>
                  <a:xfrm>
                    <a:off x="6885000" y="4205520"/>
                    <a:ext cx="167760" cy="671400"/>
                  </a:xfrm>
                  <a:custGeom>
                    <a:avLst/>
                    <a:gdLst>
                      <a:gd name="textAreaLeft" fmla="*/ 0 w 167760"/>
                      <a:gd name="textAreaRight" fmla="*/ 168120 w 167760"/>
                      <a:gd name="textAreaTop" fmla="*/ 0 h 671400"/>
                      <a:gd name="textAreaBottom" fmla="*/ 671760 h 671400"/>
                    </a:gdLst>
                    <a:ahLst/>
                    <a:rect l="textAreaLeft" t="textAreaTop" r="textAreaRight" b="textAreaBottom"/>
                    <a:pathLst>
                      <a:path w="469" h="1871">
                        <a:moveTo>
                          <a:pt x="0" y="1870"/>
                        </a:moveTo>
                        <a:lnTo>
                          <a:pt x="0" y="466"/>
                        </a:lnTo>
                        <a:lnTo>
                          <a:pt x="468" y="0"/>
                        </a:lnTo>
                        <a:lnTo>
                          <a:pt x="468" y="1402"/>
                        </a:lnTo>
                        <a:lnTo>
                          <a:pt x="0" y="1870"/>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94" name="Group 32"/>
                <p:cNvGrpSpPr/>
                <p:nvPr/>
              </p:nvGrpSpPr>
              <p:grpSpPr>
                <a:xfrm>
                  <a:off x="6534000" y="4078440"/>
                  <a:ext cx="519120" cy="138240"/>
                  <a:chOff x="6534000" y="4078440"/>
                  <a:chExt cx="519120" cy="138240"/>
                </a:xfrm>
              </p:grpSpPr>
              <p:sp>
                <p:nvSpPr>
                  <p:cNvPr id="195" name="Freeform 33"/>
                  <p:cNvSpPr/>
                  <p:nvPr/>
                </p:nvSpPr>
                <p:spPr>
                  <a:xfrm>
                    <a:off x="6534000" y="4078440"/>
                    <a:ext cx="519120" cy="138240"/>
                  </a:xfrm>
                  <a:custGeom>
                    <a:avLst/>
                    <a:gdLst>
                      <a:gd name="textAreaLeft" fmla="*/ 0 w 519120"/>
                      <a:gd name="textAreaRight" fmla="*/ 519480 w 519120"/>
                      <a:gd name="textAreaTop" fmla="*/ 0 h 138240"/>
                      <a:gd name="textAreaBottom" fmla="*/ 138600 h 138240"/>
                    </a:gdLst>
                    <a:ahLst/>
                    <a:rect l="textAreaLeft" t="textAreaTop" r="textAreaRight" b="textAreaBottom"/>
                    <a:pathLst>
                      <a:path w="1448" h="389">
                        <a:moveTo>
                          <a:pt x="0" y="388"/>
                        </a:moveTo>
                        <a:lnTo>
                          <a:pt x="0" y="96"/>
                        </a:lnTo>
                        <a:lnTo>
                          <a:pt x="96" y="0"/>
                        </a:lnTo>
                        <a:lnTo>
                          <a:pt x="1447" y="0"/>
                        </a:lnTo>
                        <a:lnTo>
                          <a:pt x="1447" y="290"/>
                        </a:lnTo>
                        <a:lnTo>
                          <a:pt x="1349" y="388"/>
                        </a:lnTo>
                        <a:lnTo>
                          <a:pt x="0" y="388"/>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Freeform 34"/>
                  <p:cNvSpPr/>
                  <p:nvPr/>
                </p:nvSpPr>
                <p:spPr>
                  <a:xfrm>
                    <a:off x="6534000" y="4078440"/>
                    <a:ext cx="519120" cy="34560"/>
                  </a:xfrm>
                  <a:custGeom>
                    <a:avLst/>
                    <a:gdLst>
                      <a:gd name="textAreaLeft" fmla="*/ 0 w 519120"/>
                      <a:gd name="textAreaRight" fmla="*/ 519480 w 519120"/>
                      <a:gd name="textAreaTop" fmla="*/ 0 h 34560"/>
                      <a:gd name="textAreaBottom" fmla="*/ 34920 h 34560"/>
                    </a:gdLst>
                    <a:ahLst/>
                    <a:rect l="textAreaLeft" t="textAreaTop" r="textAreaRight" b="textAreaBottom"/>
                    <a:pathLst>
                      <a:path w="1448" h="97">
                        <a:moveTo>
                          <a:pt x="0" y="96"/>
                        </a:moveTo>
                        <a:lnTo>
                          <a:pt x="96" y="0"/>
                        </a:lnTo>
                        <a:lnTo>
                          <a:pt x="1447" y="0"/>
                        </a:lnTo>
                        <a:lnTo>
                          <a:pt x="1349" y="96"/>
                        </a:lnTo>
                        <a:lnTo>
                          <a:pt x="0" y="96"/>
                        </a:lnTo>
                      </a:path>
                    </a:pathLst>
                  </a:custGeom>
                  <a:solidFill>
                    <a:srgbClr val="ffd072"/>
                  </a:solidFill>
                  <a:ln w="12600">
                    <a:solidFill>
                      <a:srgbClr val="000000"/>
                    </a:solidFill>
                    <a:round/>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97" name="Freeform 35"/>
                  <p:cNvSpPr/>
                  <p:nvPr/>
                </p:nvSpPr>
                <p:spPr>
                  <a:xfrm>
                    <a:off x="7018200" y="4078440"/>
                    <a:ext cx="34560" cy="138240"/>
                  </a:xfrm>
                  <a:custGeom>
                    <a:avLst/>
                    <a:gdLst>
                      <a:gd name="textAreaLeft" fmla="*/ 0 w 34560"/>
                      <a:gd name="textAreaRight" fmla="*/ 34920 w 34560"/>
                      <a:gd name="textAreaTop" fmla="*/ 0 h 138240"/>
                      <a:gd name="textAreaBottom" fmla="*/ 138600 h 138240"/>
                    </a:gdLst>
                    <a:ahLst/>
                    <a:rect l="textAreaLeft" t="textAreaTop" r="textAreaRight" b="textAreaBottom"/>
                    <a:pathLst>
                      <a:path w="99" h="389">
                        <a:moveTo>
                          <a:pt x="0" y="388"/>
                        </a:moveTo>
                        <a:lnTo>
                          <a:pt x="0" y="96"/>
                        </a:lnTo>
                        <a:lnTo>
                          <a:pt x="98" y="0"/>
                        </a:lnTo>
                        <a:lnTo>
                          <a:pt x="98" y="290"/>
                        </a:lnTo>
                        <a:lnTo>
                          <a:pt x="0" y="388"/>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198" name="Freeform 36"/>
              <p:cNvSpPr/>
              <p:nvPr/>
            </p:nvSpPr>
            <p:spPr>
              <a:xfrm>
                <a:off x="6515280" y="4262760"/>
                <a:ext cx="355320" cy="50760"/>
              </a:xfrm>
              <a:custGeom>
                <a:avLst/>
                <a:gdLst>
                  <a:gd name="textAreaLeft" fmla="*/ 0 w 355320"/>
                  <a:gd name="textAreaRight" fmla="*/ 355680 w 355320"/>
                  <a:gd name="textAreaTop" fmla="*/ 0 h 50760"/>
                  <a:gd name="textAreaBottom" fmla="*/ 51120 h 50760"/>
                </a:gdLst>
                <a:ahLst/>
                <a:rect l="textAreaLeft" t="textAreaTop" r="textAreaRight" b="textAreaBottom"/>
                <a:pathLst>
                  <a:path w="988" h="142">
                    <a:moveTo>
                      <a:pt x="245" y="0"/>
                    </a:moveTo>
                    <a:lnTo>
                      <a:pt x="987" y="0"/>
                    </a:lnTo>
                    <a:lnTo>
                      <a:pt x="740" y="141"/>
                    </a:lnTo>
                    <a:lnTo>
                      <a:pt x="0" y="141"/>
                    </a:lnTo>
                    <a:lnTo>
                      <a:pt x="245" y="0"/>
                    </a:lnTo>
                  </a:path>
                </a:pathLst>
              </a:custGeom>
              <a:solidFill>
                <a:srgbClr val="f6bf69"/>
              </a:solidFill>
              <a:ln w="25560">
                <a:solidFill>
                  <a:srgbClr val="000000"/>
                </a:solidFill>
                <a:round/>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grpSp>
        <p:sp>
          <p:nvSpPr>
            <p:cNvPr id="199" name="Oval 37"/>
            <p:cNvSpPr/>
            <p:nvPr/>
          </p:nvSpPr>
          <p:spPr>
            <a:xfrm>
              <a:off x="6902280" y="4142160"/>
              <a:ext cx="88920" cy="50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0" name="Group 38"/>
          <p:cNvGrpSpPr/>
          <p:nvPr/>
        </p:nvGrpSpPr>
        <p:grpSpPr>
          <a:xfrm>
            <a:off x="5823000" y="3276720"/>
            <a:ext cx="2224080" cy="609480"/>
            <a:chOff x="5823000" y="3276720"/>
            <a:chExt cx="2224080" cy="609480"/>
          </a:xfrm>
        </p:grpSpPr>
        <p:grpSp>
          <p:nvGrpSpPr>
            <p:cNvPr id="201" name="Group 39"/>
            <p:cNvGrpSpPr/>
            <p:nvPr/>
          </p:nvGrpSpPr>
          <p:grpSpPr>
            <a:xfrm>
              <a:off x="5823000" y="3276720"/>
              <a:ext cx="522360" cy="609480"/>
              <a:chOff x="5823000" y="3276720"/>
              <a:chExt cx="522360" cy="609480"/>
            </a:xfrm>
          </p:grpSpPr>
          <p:sp>
            <p:nvSpPr>
              <p:cNvPr id="202" name="Freeform 40"/>
              <p:cNvSpPr/>
              <p:nvPr/>
            </p:nvSpPr>
            <p:spPr>
              <a:xfrm>
                <a:off x="5823000" y="3276720"/>
                <a:ext cx="522360" cy="466560"/>
              </a:xfrm>
              <a:custGeom>
                <a:avLst/>
                <a:gdLst>
                  <a:gd name="textAreaLeft" fmla="*/ 0 w 522360"/>
                  <a:gd name="textAreaRight" fmla="*/ 522720 w 522360"/>
                  <a:gd name="textAreaTop" fmla="*/ 0 h 466560"/>
                  <a:gd name="textAreaBottom" fmla="*/ 466920 h 466560"/>
                </a:gdLst>
                <a:ahLst/>
                <a:rect l="textAreaLeft" t="textAreaTop" r="textAreaRight" b="textAreaBottom"/>
                <a:pathLst>
                  <a:path w="1452" h="1297">
                    <a:moveTo>
                      <a:pt x="176" y="17"/>
                    </a:moveTo>
                    <a:lnTo>
                      <a:pt x="411" y="61"/>
                    </a:lnTo>
                    <a:lnTo>
                      <a:pt x="407" y="0"/>
                    </a:lnTo>
                    <a:lnTo>
                      <a:pt x="690" y="70"/>
                    </a:lnTo>
                    <a:lnTo>
                      <a:pt x="690" y="0"/>
                    </a:lnTo>
                    <a:lnTo>
                      <a:pt x="991" y="0"/>
                    </a:lnTo>
                    <a:lnTo>
                      <a:pt x="987" y="66"/>
                    </a:lnTo>
                    <a:lnTo>
                      <a:pt x="1350" y="0"/>
                    </a:lnTo>
                    <a:lnTo>
                      <a:pt x="906" y="366"/>
                    </a:lnTo>
                    <a:lnTo>
                      <a:pt x="951" y="370"/>
                    </a:lnTo>
                    <a:lnTo>
                      <a:pt x="1000" y="379"/>
                    </a:lnTo>
                    <a:lnTo>
                      <a:pt x="1057" y="392"/>
                    </a:lnTo>
                    <a:lnTo>
                      <a:pt x="1106" y="410"/>
                    </a:lnTo>
                    <a:lnTo>
                      <a:pt x="1163" y="436"/>
                    </a:lnTo>
                    <a:lnTo>
                      <a:pt x="1212" y="459"/>
                    </a:lnTo>
                    <a:lnTo>
                      <a:pt x="1260" y="489"/>
                    </a:lnTo>
                    <a:lnTo>
                      <a:pt x="1301" y="525"/>
                    </a:lnTo>
                    <a:lnTo>
                      <a:pt x="1336" y="556"/>
                    </a:lnTo>
                    <a:lnTo>
                      <a:pt x="1367" y="595"/>
                    </a:lnTo>
                    <a:lnTo>
                      <a:pt x="1398" y="635"/>
                    </a:lnTo>
                    <a:lnTo>
                      <a:pt x="1420" y="684"/>
                    </a:lnTo>
                    <a:lnTo>
                      <a:pt x="1438" y="728"/>
                    </a:lnTo>
                    <a:lnTo>
                      <a:pt x="1447" y="766"/>
                    </a:lnTo>
                    <a:lnTo>
                      <a:pt x="1451" y="824"/>
                    </a:lnTo>
                    <a:lnTo>
                      <a:pt x="1447" y="881"/>
                    </a:lnTo>
                    <a:lnTo>
                      <a:pt x="1433" y="925"/>
                    </a:lnTo>
                    <a:lnTo>
                      <a:pt x="1420" y="969"/>
                    </a:lnTo>
                    <a:lnTo>
                      <a:pt x="1403" y="1005"/>
                    </a:lnTo>
                    <a:lnTo>
                      <a:pt x="1376" y="1045"/>
                    </a:lnTo>
                    <a:lnTo>
                      <a:pt x="1341" y="1089"/>
                    </a:lnTo>
                    <a:lnTo>
                      <a:pt x="1292" y="1137"/>
                    </a:lnTo>
                    <a:lnTo>
                      <a:pt x="1238" y="1177"/>
                    </a:lnTo>
                    <a:lnTo>
                      <a:pt x="1185" y="1208"/>
                    </a:lnTo>
                    <a:lnTo>
                      <a:pt x="1137" y="1230"/>
                    </a:lnTo>
                    <a:lnTo>
                      <a:pt x="1088" y="1252"/>
                    </a:lnTo>
                    <a:lnTo>
                      <a:pt x="1044" y="1265"/>
                    </a:lnTo>
                    <a:lnTo>
                      <a:pt x="991" y="1278"/>
                    </a:lnTo>
                    <a:lnTo>
                      <a:pt x="951" y="1287"/>
                    </a:lnTo>
                    <a:lnTo>
                      <a:pt x="889" y="1292"/>
                    </a:lnTo>
                    <a:lnTo>
                      <a:pt x="836" y="1296"/>
                    </a:lnTo>
                    <a:lnTo>
                      <a:pt x="588"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5"/>
                    </a:lnTo>
                    <a:lnTo>
                      <a:pt x="30" y="688"/>
                    </a:lnTo>
                    <a:lnTo>
                      <a:pt x="61" y="622"/>
                    </a:lnTo>
                    <a:lnTo>
                      <a:pt x="105" y="569"/>
                    </a:lnTo>
                    <a:lnTo>
                      <a:pt x="154" y="520"/>
                    </a:lnTo>
                    <a:lnTo>
                      <a:pt x="217"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Text Box 41"/>
              <p:cNvSpPr/>
              <p:nvPr/>
            </p:nvSpPr>
            <p:spPr>
              <a:xfrm>
                <a:off x="5904000" y="3351240"/>
                <a:ext cx="401040" cy="534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a:t>
                </a:r>
                <a:endParaRPr b="0" lang="en-US" sz="2400" spc="-1" strike="noStrike">
                  <a:solidFill>
                    <a:srgbClr val="000000"/>
                  </a:solidFill>
                  <a:latin typeface="Arial"/>
                </a:endParaRPr>
              </a:p>
            </p:txBody>
          </p:sp>
        </p:grpSp>
        <p:grpSp>
          <p:nvGrpSpPr>
            <p:cNvPr id="204" name="Group 42"/>
            <p:cNvGrpSpPr/>
            <p:nvPr/>
          </p:nvGrpSpPr>
          <p:grpSpPr>
            <a:xfrm>
              <a:off x="6394320" y="3276720"/>
              <a:ext cx="522360" cy="609480"/>
              <a:chOff x="6394320" y="3276720"/>
              <a:chExt cx="522360" cy="609480"/>
            </a:xfrm>
          </p:grpSpPr>
          <p:sp>
            <p:nvSpPr>
              <p:cNvPr id="205" name="Freeform 43"/>
              <p:cNvSpPr/>
              <p:nvPr/>
            </p:nvSpPr>
            <p:spPr>
              <a:xfrm>
                <a:off x="6394320" y="3276720"/>
                <a:ext cx="522360" cy="466560"/>
              </a:xfrm>
              <a:custGeom>
                <a:avLst/>
                <a:gdLst>
                  <a:gd name="textAreaLeft" fmla="*/ 0 w 522360"/>
                  <a:gd name="textAreaRight" fmla="*/ 522720 w 522360"/>
                  <a:gd name="textAreaTop" fmla="*/ 0 h 466560"/>
                  <a:gd name="textAreaBottom" fmla="*/ 466920 h 466560"/>
                </a:gdLst>
                <a:ahLst/>
                <a:rect l="textAreaLeft" t="textAreaTop" r="textAreaRight" b="textAreaBottom"/>
                <a:pathLst>
                  <a:path w="1452" h="1297">
                    <a:moveTo>
                      <a:pt x="176" y="17"/>
                    </a:moveTo>
                    <a:lnTo>
                      <a:pt x="411" y="61"/>
                    </a:lnTo>
                    <a:lnTo>
                      <a:pt x="407" y="0"/>
                    </a:lnTo>
                    <a:lnTo>
                      <a:pt x="690" y="70"/>
                    </a:lnTo>
                    <a:lnTo>
                      <a:pt x="690" y="0"/>
                    </a:lnTo>
                    <a:lnTo>
                      <a:pt x="991" y="0"/>
                    </a:lnTo>
                    <a:lnTo>
                      <a:pt x="987" y="66"/>
                    </a:lnTo>
                    <a:lnTo>
                      <a:pt x="1350" y="0"/>
                    </a:lnTo>
                    <a:lnTo>
                      <a:pt x="906" y="366"/>
                    </a:lnTo>
                    <a:lnTo>
                      <a:pt x="951" y="370"/>
                    </a:lnTo>
                    <a:lnTo>
                      <a:pt x="1000" y="379"/>
                    </a:lnTo>
                    <a:lnTo>
                      <a:pt x="1057" y="392"/>
                    </a:lnTo>
                    <a:lnTo>
                      <a:pt x="1106" y="410"/>
                    </a:lnTo>
                    <a:lnTo>
                      <a:pt x="1163" y="436"/>
                    </a:lnTo>
                    <a:lnTo>
                      <a:pt x="1212" y="459"/>
                    </a:lnTo>
                    <a:lnTo>
                      <a:pt x="1260" y="489"/>
                    </a:lnTo>
                    <a:lnTo>
                      <a:pt x="1301" y="525"/>
                    </a:lnTo>
                    <a:lnTo>
                      <a:pt x="1336" y="556"/>
                    </a:lnTo>
                    <a:lnTo>
                      <a:pt x="1367" y="595"/>
                    </a:lnTo>
                    <a:lnTo>
                      <a:pt x="1398" y="635"/>
                    </a:lnTo>
                    <a:lnTo>
                      <a:pt x="1420" y="684"/>
                    </a:lnTo>
                    <a:lnTo>
                      <a:pt x="1438" y="728"/>
                    </a:lnTo>
                    <a:lnTo>
                      <a:pt x="1447" y="766"/>
                    </a:lnTo>
                    <a:lnTo>
                      <a:pt x="1451" y="824"/>
                    </a:lnTo>
                    <a:lnTo>
                      <a:pt x="1447" y="881"/>
                    </a:lnTo>
                    <a:lnTo>
                      <a:pt x="1433" y="925"/>
                    </a:lnTo>
                    <a:lnTo>
                      <a:pt x="1420" y="969"/>
                    </a:lnTo>
                    <a:lnTo>
                      <a:pt x="1403" y="1005"/>
                    </a:lnTo>
                    <a:lnTo>
                      <a:pt x="1376" y="1045"/>
                    </a:lnTo>
                    <a:lnTo>
                      <a:pt x="1341" y="1089"/>
                    </a:lnTo>
                    <a:lnTo>
                      <a:pt x="1292" y="1137"/>
                    </a:lnTo>
                    <a:lnTo>
                      <a:pt x="1238" y="1177"/>
                    </a:lnTo>
                    <a:lnTo>
                      <a:pt x="1185" y="1208"/>
                    </a:lnTo>
                    <a:lnTo>
                      <a:pt x="1137" y="1230"/>
                    </a:lnTo>
                    <a:lnTo>
                      <a:pt x="1088" y="1252"/>
                    </a:lnTo>
                    <a:lnTo>
                      <a:pt x="1044" y="1265"/>
                    </a:lnTo>
                    <a:lnTo>
                      <a:pt x="991" y="1278"/>
                    </a:lnTo>
                    <a:lnTo>
                      <a:pt x="951" y="1287"/>
                    </a:lnTo>
                    <a:lnTo>
                      <a:pt x="889" y="1292"/>
                    </a:lnTo>
                    <a:lnTo>
                      <a:pt x="836" y="1296"/>
                    </a:lnTo>
                    <a:lnTo>
                      <a:pt x="588"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5"/>
                    </a:lnTo>
                    <a:lnTo>
                      <a:pt x="30" y="688"/>
                    </a:lnTo>
                    <a:lnTo>
                      <a:pt x="61" y="622"/>
                    </a:lnTo>
                    <a:lnTo>
                      <a:pt x="105" y="569"/>
                    </a:lnTo>
                    <a:lnTo>
                      <a:pt x="154" y="520"/>
                    </a:lnTo>
                    <a:lnTo>
                      <a:pt x="217"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Text Box 44"/>
              <p:cNvSpPr/>
              <p:nvPr/>
            </p:nvSpPr>
            <p:spPr>
              <a:xfrm>
                <a:off x="6475680" y="3351240"/>
                <a:ext cx="401040" cy="534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a:t>
                </a:r>
                <a:endParaRPr b="0" lang="en-US" sz="2400" spc="-1" strike="noStrike">
                  <a:solidFill>
                    <a:srgbClr val="000000"/>
                  </a:solidFill>
                  <a:latin typeface="Arial"/>
                </a:endParaRPr>
              </a:p>
            </p:txBody>
          </p:sp>
        </p:grpSp>
        <p:grpSp>
          <p:nvGrpSpPr>
            <p:cNvPr id="207" name="Group 45"/>
            <p:cNvGrpSpPr/>
            <p:nvPr/>
          </p:nvGrpSpPr>
          <p:grpSpPr>
            <a:xfrm>
              <a:off x="6966000" y="3276720"/>
              <a:ext cx="522360" cy="609480"/>
              <a:chOff x="6966000" y="3276720"/>
              <a:chExt cx="522360" cy="609480"/>
            </a:xfrm>
          </p:grpSpPr>
          <p:sp>
            <p:nvSpPr>
              <p:cNvPr id="208" name="Freeform 46"/>
              <p:cNvSpPr/>
              <p:nvPr/>
            </p:nvSpPr>
            <p:spPr>
              <a:xfrm>
                <a:off x="6966000" y="3276720"/>
                <a:ext cx="522360" cy="466560"/>
              </a:xfrm>
              <a:custGeom>
                <a:avLst/>
                <a:gdLst>
                  <a:gd name="textAreaLeft" fmla="*/ 0 w 522360"/>
                  <a:gd name="textAreaRight" fmla="*/ 522720 w 522360"/>
                  <a:gd name="textAreaTop" fmla="*/ 0 h 466560"/>
                  <a:gd name="textAreaBottom" fmla="*/ 466920 h 466560"/>
                </a:gdLst>
                <a:ahLst/>
                <a:rect l="textAreaLeft" t="textAreaTop" r="textAreaRight" b="textAreaBottom"/>
                <a:pathLst>
                  <a:path w="1452" h="1297">
                    <a:moveTo>
                      <a:pt x="176" y="17"/>
                    </a:moveTo>
                    <a:lnTo>
                      <a:pt x="411" y="61"/>
                    </a:lnTo>
                    <a:lnTo>
                      <a:pt x="407" y="0"/>
                    </a:lnTo>
                    <a:lnTo>
                      <a:pt x="690" y="70"/>
                    </a:lnTo>
                    <a:lnTo>
                      <a:pt x="690" y="0"/>
                    </a:lnTo>
                    <a:lnTo>
                      <a:pt x="991" y="0"/>
                    </a:lnTo>
                    <a:lnTo>
                      <a:pt x="987" y="66"/>
                    </a:lnTo>
                    <a:lnTo>
                      <a:pt x="1350" y="0"/>
                    </a:lnTo>
                    <a:lnTo>
                      <a:pt x="906" y="366"/>
                    </a:lnTo>
                    <a:lnTo>
                      <a:pt x="951" y="370"/>
                    </a:lnTo>
                    <a:lnTo>
                      <a:pt x="1000" y="379"/>
                    </a:lnTo>
                    <a:lnTo>
                      <a:pt x="1057" y="392"/>
                    </a:lnTo>
                    <a:lnTo>
                      <a:pt x="1106" y="410"/>
                    </a:lnTo>
                    <a:lnTo>
                      <a:pt x="1163" y="436"/>
                    </a:lnTo>
                    <a:lnTo>
                      <a:pt x="1212" y="459"/>
                    </a:lnTo>
                    <a:lnTo>
                      <a:pt x="1260" y="489"/>
                    </a:lnTo>
                    <a:lnTo>
                      <a:pt x="1301" y="525"/>
                    </a:lnTo>
                    <a:lnTo>
                      <a:pt x="1336" y="556"/>
                    </a:lnTo>
                    <a:lnTo>
                      <a:pt x="1367" y="595"/>
                    </a:lnTo>
                    <a:lnTo>
                      <a:pt x="1398" y="635"/>
                    </a:lnTo>
                    <a:lnTo>
                      <a:pt x="1420" y="684"/>
                    </a:lnTo>
                    <a:lnTo>
                      <a:pt x="1438" y="728"/>
                    </a:lnTo>
                    <a:lnTo>
                      <a:pt x="1447" y="766"/>
                    </a:lnTo>
                    <a:lnTo>
                      <a:pt x="1451" y="824"/>
                    </a:lnTo>
                    <a:lnTo>
                      <a:pt x="1447" y="881"/>
                    </a:lnTo>
                    <a:lnTo>
                      <a:pt x="1433" y="925"/>
                    </a:lnTo>
                    <a:lnTo>
                      <a:pt x="1420" y="969"/>
                    </a:lnTo>
                    <a:lnTo>
                      <a:pt x="1403" y="1005"/>
                    </a:lnTo>
                    <a:lnTo>
                      <a:pt x="1376" y="1045"/>
                    </a:lnTo>
                    <a:lnTo>
                      <a:pt x="1341" y="1089"/>
                    </a:lnTo>
                    <a:lnTo>
                      <a:pt x="1292" y="1137"/>
                    </a:lnTo>
                    <a:lnTo>
                      <a:pt x="1238" y="1177"/>
                    </a:lnTo>
                    <a:lnTo>
                      <a:pt x="1185" y="1208"/>
                    </a:lnTo>
                    <a:lnTo>
                      <a:pt x="1137" y="1230"/>
                    </a:lnTo>
                    <a:lnTo>
                      <a:pt x="1088" y="1252"/>
                    </a:lnTo>
                    <a:lnTo>
                      <a:pt x="1044" y="1265"/>
                    </a:lnTo>
                    <a:lnTo>
                      <a:pt x="991" y="1278"/>
                    </a:lnTo>
                    <a:lnTo>
                      <a:pt x="951" y="1287"/>
                    </a:lnTo>
                    <a:lnTo>
                      <a:pt x="889" y="1292"/>
                    </a:lnTo>
                    <a:lnTo>
                      <a:pt x="836" y="1296"/>
                    </a:lnTo>
                    <a:lnTo>
                      <a:pt x="588"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5"/>
                    </a:lnTo>
                    <a:lnTo>
                      <a:pt x="30" y="688"/>
                    </a:lnTo>
                    <a:lnTo>
                      <a:pt x="61" y="622"/>
                    </a:lnTo>
                    <a:lnTo>
                      <a:pt x="105" y="569"/>
                    </a:lnTo>
                    <a:lnTo>
                      <a:pt x="154" y="520"/>
                    </a:lnTo>
                    <a:lnTo>
                      <a:pt x="217"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Text Box 47"/>
              <p:cNvSpPr/>
              <p:nvPr/>
            </p:nvSpPr>
            <p:spPr>
              <a:xfrm>
                <a:off x="7047000" y="3351240"/>
                <a:ext cx="401040" cy="534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a:t>
                </a:r>
                <a:endParaRPr b="0" lang="en-US" sz="2400" spc="-1" strike="noStrike">
                  <a:solidFill>
                    <a:srgbClr val="000000"/>
                  </a:solidFill>
                  <a:latin typeface="Arial"/>
                </a:endParaRPr>
              </a:p>
            </p:txBody>
          </p:sp>
        </p:grpSp>
        <p:grpSp>
          <p:nvGrpSpPr>
            <p:cNvPr id="210" name="Group 48"/>
            <p:cNvGrpSpPr/>
            <p:nvPr/>
          </p:nvGrpSpPr>
          <p:grpSpPr>
            <a:xfrm>
              <a:off x="7524720" y="3276720"/>
              <a:ext cx="522360" cy="609480"/>
              <a:chOff x="7524720" y="3276720"/>
              <a:chExt cx="522360" cy="609480"/>
            </a:xfrm>
          </p:grpSpPr>
          <p:sp>
            <p:nvSpPr>
              <p:cNvPr id="211" name="Freeform 49"/>
              <p:cNvSpPr/>
              <p:nvPr/>
            </p:nvSpPr>
            <p:spPr>
              <a:xfrm>
                <a:off x="7524720" y="3276720"/>
                <a:ext cx="522360" cy="466560"/>
              </a:xfrm>
              <a:custGeom>
                <a:avLst/>
                <a:gdLst>
                  <a:gd name="textAreaLeft" fmla="*/ 0 w 522360"/>
                  <a:gd name="textAreaRight" fmla="*/ 522720 w 522360"/>
                  <a:gd name="textAreaTop" fmla="*/ 0 h 466560"/>
                  <a:gd name="textAreaBottom" fmla="*/ 466920 h 466560"/>
                </a:gdLst>
                <a:ahLst/>
                <a:rect l="textAreaLeft" t="textAreaTop" r="textAreaRight" b="textAreaBottom"/>
                <a:pathLst>
                  <a:path w="1452" h="1297">
                    <a:moveTo>
                      <a:pt x="176" y="17"/>
                    </a:moveTo>
                    <a:lnTo>
                      <a:pt x="411" y="61"/>
                    </a:lnTo>
                    <a:lnTo>
                      <a:pt x="407" y="0"/>
                    </a:lnTo>
                    <a:lnTo>
                      <a:pt x="690" y="70"/>
                    </a:lnTo>
                    <a:lnTo>
                      <a:pt x="690" y="0"/>
                    </a:lnTo>
                    <a:lnTo>
                      <a:pt x="991" y="0"/>
                    </a:lnTo>
                    <a:lnTo>
                      <a:pt x="987" y="66"/>
                    </a:lnTo>
                    <a:lnTo>
                      <a:pt x="1350" y="0"/>
                    </a:lnTo>
                    <a:lnTo>
                      <a:pt x="906" y="366"/>
                    </a:lnTo>
                    <a:lnTo>
                      <a:pt x="951" y="370"/>
                    </a:lnTo>
                    <a:lnTo>
                      <a:pt x="1000" y="379"/>
                    </a:lnTo>
                    <a:lnTo>
                      <a:pt x="1057" y="392"/>
                    </a:lnTo>
                    <a:lnTo>
                      <a:pt x="1106" y="410"/>
                    </a:lnTo>
                    <a:lnTo>
                      <a:pt x="1163" y="436"/>
                    </a:lnTo>
                    <a:lnTo>
                      <a:pt x="1212" y="459"/>
                    </a:lnTo>
                    <a:lnTo>
                      <a:pt x="1260" y="489"/>
                    </a:lnTo>
                    <a:lnTo>
                      <a:pt x="1301" y="525"/>
                    </a:lnTo>
                    <a:lnTo>
                      <a:pt x="1336" y="556"/>
                    </a:lnTo>
                    <a:lnTo>
                      <a:pt x="1367" y="595"/>
                    </a:lnTo>
                    <a:lnTo>
                      <a:pt x="1398" y="635"/>
                    </a:lnTo>
                    <a:lnTo>
                      <a:pt x="1420" y="684"/>
                    </a:lnTo>
                    <a:lnTo>
                      <a:pt x="1438" y="728"/>
                    </a:lnTo>
                    <a:lnTo>
                      <a:pt x="1447" y="766"/>
                    </a:lnTo>
                    <a:lnTo>
                      <a:pt x="1451" y="824"/>
                    </a:lnTo>
                    <a:lnTo>
                      <a:pt x="1447" y="881"/>
                    </a:lnTo>
                    <a:lnTo>
                      <a:pt x="1433" y="925"/>
                    </a:lnTo>
                    <a:lnTo>
                      <a:pt x="1420" y="969"/>
                    </a:lnTo>
                    <a:lnTo>
                      <a:pt x="1403" y="1005"/>
                    </a:lnTo>
                    <a:lnTo>
                      <a:pt x="1376" y="1045"/>
                    </a:lnTo>
                    <a:lnTo>
                      <a:pt x="1341" y="1089"/>
                    </a:lnTo>
                    <a:lnTo>
                      <a:pt x="1292" y="1137"/>
                    </a:lnTo>
                    <a:lnTo>
                      <a:pt x="1238" y="1177"/>
                    </a:lnTo>
                    <a:lnTo>
                      <a:pt x="1185" y="1208"/>
                    </a:lnTo>
                    <a:lnTo>
                      <a:pt x="1137" y="1230"/>
                    </a:lnTo>
                    <a:lnTo>
                      <a:pt x="1088" y="1252"/>
                    </a:lnTo>
                    <a:lnTo>
                      <a:pt x="1044" y="1265"/>
                    </a:lnTo>
                    <a:lnTo>
                      <a:pt x="991" y="1278"/>
                    </a:lnTo>
                    <a:lnTo>
                      <a:pt x="951" y="1287"/>
                    </a:lnTo>
                    <a:lnTo>
                      <a:pt x="889" y="1292"/>
                    </a:lnTo>
                    <a:lnTo>
                      <a:pt x="836" y="1296"/>
                    </a:lnTo>
                    <a:lnTo>
                      <a:pt x="588"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5"/>
                    </a:lnTo>
                    <a:lnTo>
                      <a:pt x="30" y="688"/>
                    </a:lnTo>
                    <a:lnTo>
                      <a:pt x="61" y="622"/>
                    </a:lnTo>
                    <a:lnTo>
                      <a:pt x="105" y="569"/>
                    </a:lnTo>
                    <a:lnTo>
                      <a:pt x="154" y="520"/>
                    </a:lnTo>
                    <a:lnTo>
                      <a:pt x="217"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2" name="Text Box 50"/>
              <p:cNvSpPr/>
              <p:nvPr/>
            </p:nvSpPr>
            <p:spPr>
              <a:xfrm>
                <a:off x="7606080" y="3351240"/>
                <a:ext cx="401040" cy="534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Traditional Pipeline Concept</a:t>
            </a:r>
            <a:endParaRPr b="1" lang="en-US" sz="3900" spc="-1" strike="noStrike">
              <a:solidFill>
                <a:srgbClr val="330066"/>
              </a:solidFill>
              <a:latin typeface="Arial"/>
            </a:endParaRPr>
          </a:p>
        </p:txBody>
      </p:sp>
      <p:sp>
        <p:nvSpPr>
          <p:cNvPr id="214" name="PlaceHolder 2"/>
          <p:cNvSpPr>
            <a:spLocks noGrp="1"/>
          </p:cNvSpPr>
          <p:nvPr>
            <p:ph/>
          </p:nvPr>
        </p:nvSpPr>
        <p:spPr>
          <a:xfrm>
            <a:off x="5562720" y="3276360"/>
            <a:ext cx="3504960" cy="1143000"/>
          </a:xfrm>
          <a:prstGeom prst="rect">
            <a:avLst/>
          </a:prstGeom>
          <a:noFill/>
          <a:ln w="0">
            <a:noFill/>
          </a:ln>
        </p:spPr>
        <p:txBody>
          <a:bodyPr lIns="63360" rIns="63360" tIns="25560" bIns="25560" anchor="t">
            <a:normAutofit fontScale="88000"/>
          </a:bodyPr>
          <a:p>
            <a:pPr marL="177120" indent="-177120">
              <a:spcBef>
                <a:spcPts val="476"/>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0000"/>
                </a:solidFill>
                <a:latin typeface="Arial"/>
              </a:rPr>
              <a:t>Sequential laundry takes 6 hours for 4 loads</a:t>
            </a:r>
            <a:endParaRPr b="0" lang="en-US" sz="1900" spc="-1" strike="noStrike">
              <a:solidFill>
                <a:srgbClr val="000000"/>
              </a:solidFill>
              <a:latin typeface="Arial"/>
            </a:endParaRPr>
          </a:p>
          <a:p>
            <a:pPr marL="177120" indent="-177120">
              <a:spcBef>
                <a:spcPts val="476"/>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0000"/>
                </a:solidFill>
                <a:latin typeface="Arial"/>
              </a:rPr>
              <a:t>If they learned pipelining, how long would  laundry take? </a:t>
            </a:r>
            <a:endParaRPr b="0" lang="en-US" sz="1900" spc="-1" strike="noStrike">
              <a:solidFill>
                <a:srgbClr val="000000"/>
              </a:solidFill>
              <a:latin typeface="Arial"/>
            </a:endParaRPr>
          </a:p>
        </p:txBody>
      </p:sp>
      <p:grpSp>
        <p:nvGrpSpPr>
          <p:cNvPr id="215" name="Group 4"/>
          <p:cNvGrpSpPr/>
          <p:nvPr/>
        </p:nvGrpSpPr>
        <p:grpSpPr>
          <a:xfrm>
            <a:off x="819000" y="3430440"/>
            <a:ext cx="522000" cy="498240"/>
            <a:chOff x="819000" y="3430440"/>
            <a:chExt cx="522000" cy="498240"/>
          </a:xfrm>
        </p:grpSpPr>
        <p:sp>
          <p:nvSpPr>
            <p:cNvPr id="216" name="Freeform 5"/>
            <p:cNvSpPr/>
            <p:nvPr/>
          </p:nvSpPr>
          <p:spPr>
            <a:xfrm>
              <a:off x="819000" y="3430440"/>
              <a:ext cx="522000" cy="466920"/>
            </a:xfrm>
            <a:custGeom>
              <a:avLst/>
              <a:gdLst>
                <a:gd name="textAreaLeft" fmla="*/ 0 w 522000"/>
                <a:gd name="textAreaRight" fmla="*/ 522360 w 522000"/>
                <a:gd name="textAreaTop" fmla="*/ 0 h 466920"/>
                <a:gd name="textAreaBottom" fmla="*/ 467280 h 466920"/>
              </a:gdLst>
              <a:ahLst/>
              <a:rect l="textAreaLeft" t="textAreaTop" r="textAreaRight" b="textAreaBottom"/>
              <a:pathLst>
                <a:path w="1451" h="1297">
                  <a:moveTo>
                    <a:pt x="176" y="17"/>
                  </a:moveTo>
                  <a:lnTo>
                    <a:pt x="411" y="61"/>
                  </a:lnTo>
                  <a:lnTo>
                    <a:pt x="407" y="0"/>
                  </a:lnTo>
                  <a:lnTo>
                    <a:pt x="689" y="70"/>
                  </a:lnTo>
                  <a:lnTo>
                    <a:pt x="689" y="0"/>
                  </a:lnTo>
                  <a:lnTo>
                    <a:pt x="990" y="0"/>
                  </a:lnTo>
                  <a:lnTo>
                    <a:pt x="986" y="66"/>
                  </a:lnTo>
                  <a:lnTo>
                    <a:pt x="1349" y="0"/>
                  </a:lnTo>
                  <a:lnTo>
                    <a:pt x="906" y="366"/>
                  </a:lnTo>
                  <a:lnTo>
                    <a:pt x="950" y="370"/>
                  </a:lnTo>
                  <a:lnTo>
                    <a:pt x="999" y="379"/>
                  </a:lnTo>
                  <a:lnTo>
                    <a:pt x="1056" y="392"/>
                  </a:lnTo>
                  <a:lnTo>
                    <a:pt x="1105" y="410"/>
                  </a:lnTo>
                  <a:lnTo>
                    <a:pt x="1162" y="436"/>
                  </a:lnTo>
                  <a:lnTo>
                    <a:pt x="1212" y="459"/>
                  </a:lnTo>
                  <a:lnTo>
                    <a:pt x="1260" y="489"/>
                  </a:lnTo>
                  <a:lnTo>
                    <a:pt x="1300" y="525"/>
                  </a:lnTo>
                  <a:lnTo>
                    <a:pt x="1335" y="556"/>
                  </a:lnTo>
                  <a:lnTo>
                    <a:pt x="1366" y="595"/>
                  </a:lnTo>
                  <a:lnTo>
                    <a:pt x="1397" y="635"/>
                  </a:lnTo>
                  <a:lnTo>
                    <a:pt x="1419" y="684"/>
                  </a:lnTo>
                  <a:lnTo>
                    <a:pt x="1437" y="728"/>
                  </a:lnTo>
                  <a:lnTo>
                    <a:pt x="1446" y="766"/>
                  </a:lnTo>
                  <a:lnTo>
                    <a:pt x="1450" y="824"/>
                  </a:lnTo>
                  <a:lnTo>
                    <a:pt x="1446" y="881"/>
                  </a:lnTo>
                  <a:lnTo>
                    <a:pt x="1432" y="925"/>
                  </a:lnTo>
                  <a:lnTo>
                    <a:pt x="1419" y="969"/>
                  </a:lnTo>
                  <a:lnTo>
                    <a:pt x="1402" y="1005"/>
                  </a:lnTo>
                  <a:lnTo>
                    <a:pt x="1375" y="1045"/>
                  </a:lnTo>
                  <a:lnTo>
                    <a:pt x="1340" y="1089"/>
                  </a:lnTo>
                  <a:lnTo>
                    <a:pt x="1291" y="1137"/>
                  </a:lnTo>
                  <a:lnTo>
                    <a:pt x="1238" y="1177"/>
                  </a:lnTo>
                  <a:lnTo>
                    <a:pt x="1184" y="1208"/>
                  </a:lnTo>
                  <a:lnTo>
                    <a:pt x="1136" y="1230"/>
                  </a:lnTo>
                  <a:lnTo>
                    <a:pt x="1087" y="1252"/>
                  </a:lnTo>
                  <a:lnTo>
                    <a:pt x="1043" y="1265"/>
                  </a:lnTo>
                  <a:lnTo>
                    <a:pt x="990" y="1278"/>
                  </a:lnTo>
                  <a:lnTo>
                    <a:pt x="950" y="1287"/>
                  </a:lnTo>
                  <a:lnTo>
                    <a:pt x="889" y="1292"/>
                  </a:lnTo>
                  <a:lnTo>
                    <a:pt x="836" y="1296"/>
                  </a:lnTo>
                  <a:lnTo>
                    <a:pt x="587"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4"/>
                  </a:lnTo>
                  <a:lnTo>
                    <a:pt x="30" y="688"/>
                  </a:lnTo>
                  <a:lnTo>
                    <a:pt x="61" y="622"/>
                  </a:lnTo>
                  <a:lnTo>
                    <a:pt x="105" y="569"/>
                  </a:lnTo>
                  <a:lnTo>
                    <a:pt x="154" y="520"/>
                  </a:lnTo>
                  <a:lnTo>
                    <a:pt x="216"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 name="Text Box 6"/>
            <p:cNvSpPr/>
            <p:nvPr/>
          </p:nvSpPr>
          <p:spPr>
            <a:xfrm>
              <a:off x="927000" y="3505320"/>
              <a:ext cx="34596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a:t>
              </a:r>
              <a:endParaRPr b="0" lang="en-US" sz="1800" spc="-1" strike="noStrike">
                <a:solidFill>
                  <a:srgbClr val="000000"/>
                </a:solidFill>
                <a:latin typeface="Arial"/>
              </a:endParaRPr>
            </a:p>
          </p:txBody>
        </p:sp>
      </p:grpSp>
      <p:grpSp>
        <p:nvGrpSpPr>
          <p:cNvPr id="218" name="Group 7"/>
          <p:cNvGrpSpPr/>
          <p:nvPr/>
        </p:nvGrpSpPr>
        <p:grpSpPr>
          <a:xfrm>
            <a:off x="806400" y="4255920"/>
            <a:ext cx="522360" cy="497880"/>
            <a:chOff x="806400" y="4255920"/>
            <a:chExt cx="522360" cy="497880"/>
          </a:xfrm>
        </p:grpSpPr>
        <p:sp>
          <p:nvSpPr>
            <p:cNvPr id="219" name="Freeform 8"/>
            <p:cNvSpPr/>
            <p:nvPr/>
          </p:nvSpPr>
          <p:spPr>
            <a:xfrm>
              <a:off x="806400" y="4255920"/>
              <a:ext cx="522360" cy="466560"/>
            </a:xfrm>
            <a:custGeom>
              <a:avLst/>
              <a:gdLst>
                <a:gd name="textAreaLeft" fmla="*/ 0 w 522360"/>
                <a:gd name="textAreaRight" fmla="*/ 522720 w 522360"/>
                <a:gd name="textAreaTop" fmla="*/ 0 h 466560"/>
                <a:gd name="textAreaBottom" fmla="*/ 466920 h 466560"/>
              </a:gdLst>
              <a:ahLst/>
              <a:rect l="textAreaLeft" t="textAreaTop" r="textAreaRight" b="textAreaBottom"/>
              <a:pathLst>
                <a:path w="1452" h="1296">
                  <a:moveTo>
                    <a:pt x="177" y="17"/>
                  </a:moveTo>
                  <a:lnTo>
                    <a:pt x="411" y="61"/>
                  </a:lnTo>
                  <a:lnTo>
                    <a:pt x="406" y="0"/>
                  </a:lnTo>
                  <a:lnTo>
                    <a:pt x="690" y="70"/>
                  </a:lnTo>
                  <a:lnTo>
                    <a:pt x="690" y="0"/>
                  </a:lnTo>
                  <a:lnTo>
                    <a:pt x="990" y="0"/>
                  </a:lnTo>
                  <a:lnTo>
                    <a:pt x="986" y="66"/>
                  </a:lnTo>
                  <a:lnTo>
                    <a:pt x="1350" y="0"/>
                  </a:lnTo>
                  <a:lnTo>
                    <a:pt x="907" y="366"/>
                  </a:lnTo>
                  <a:lnTo>
                    <a:pt x="951" y="369"/>
                  </a:lnTo>
                  <a:lnTo>
                    <a:pt x="999" y="378"/>
                  </a:lnTo>
                  <a:lnTo>
                    <a:pt x="1058" y="391"/>
                  </a:lnTo>
                  <a:lnTo>
                    <a:pt x="1106" y="409"/>
                  </a:lnTo>
                  <a:lnTo>
                    <a:pt x="1163" y="435"/>
                  </a:lnTo>
                  <a:lnTo>
                    <a:pt x="1212" y="458"/>
                  </a:lnTo>
                  <a:lnTo>
                    <a:pt x="1260" y="488"/>
                  </a:lnTo>
                  <a:lnTo>
                    <a:pt x="1300" y="524"/>
                  </a:lnTo>
                  <a:lnTo>
                    <a:pt x="1336" y="555"/>
                  </a:lnTo>
                  <a:lnTo>
                    <a:pt x="1367" y="594"/>
                  </a:lnTo>
                  <a:lnTo>
                    <a:pt x="1398" y="634"/>
                  </a:lnTo>
                  <a:lnTo>
                    <a:pt x="1420" y="683"/>
                  </a:lnTo>
                  <a:lnTo>
                    <a:pt x="1438" y="727"/>
                  </a:lnTo>
                  <a:lnTo>
                    <a:pt x="1447" y="766"/>
                  </a:lnTo>
                  <a:lnTo>
                    <a:pt x="1451" y="824"/>
                  </a:lnTo>
                  <a:lnTo>
                    <a:pt x="1447" y="881"/>
                  </a:lnTo>
                  <a:lnTo>
                    <a:pt x="1433" y="925"/>
                  </a:lnTo>
                  <a:lnTo>
                    <a:pt x="1420" y="969"/>
                  </a:lnTo>
                  <a:lnTo>
                    <a:pt x="1403" y="1005"/>
                  </a:lnTo>
                  <a:lnTo>
                    <a:pt x="1376" y="1045"/>
                  </a:lnTo>
                  <a:lnTo>
                    <a:pt x="1341" y="1089"/>
                  </a:lnTo>
                  <a:lnTo>
                    <a:pt x="1291" y="1136"/>
                  </a:lnTo>
                  <a:lnTo>
                    <a:pt x="1238" y="1176"/>
                  </a:lnTo>
                  <a:lnTo>
                    <a:pt x="1185" y="1207"/>
                  </a:lnTo>
                  <a:lnTo>
                    <a:pt x="1137" y="1229"/>
                  </a:lnTo>
                  <a:lnTo>
                    <a:pt x="1088" y="1251"/>
                  </a:lnTo>
                  <a:lnTo>
                    <a:pt x="1044" y="1264"/>
                  </a:lnTo>
                  <a:lnTo>
                    <a:pt x="990" y="1277"/>
                  </a:lnTo>
                  <a:lnTo>
                    <a:pt x="951" y="1286"/>
                  </a:lnTo>
                  <a:lnTo>
                    <a:pt x="889" y="1291"/>
                  </a:lnTo>
                  <a:lnTo>
                    <a:pt x="836" y="1295"/>
                  </a:lnTo>
                  <a:lnTo>
                    <a:pt x="588" y="1295"/>
                  </a:lnTo>
                  <a:lnTo>
                    <a:pt x="540" y="1291"/>
                  </a:lnTo>
                  <a:lnTo>
                    <a:pt x="478" y="1282"/>
                  </a:lnTo>
                  <a:lnTo>
                    <a:pt x="397" y="1264"/>
                  </a:lnTo>
                  <a:lnTo>
                    <a:pt x="322" y="1233"/>
                  </a:lnTo>
                  <a:lnTo>
                    <a:pt x="247" y="1198"/>
                  </a:lnTo>
                  <a:lnTo>
                    <a:pt x="181" y="1154"/>
                  </a:lnTo>
                  <a:lnTo>
                    <a:pt x="132" y="1114"/>
                  </a:lnTo>
                  <a:lnTo>
                    <a:pt x="92" y="1075"/>
                  </a:lnTo>
                  <a:lnTo>
                    <a:pt x="57" y="1022"/>
                  </a:lnTo>
                  <a:lnTo>
                    <a:pt x="30" y="965"/>
                  </a:lnTo>
                  <a:lnTo>
                    <a:pt x="17" y="925"/>
                  </a:lnTo>
                  <a:lnTo>
                    <a:pt x="4" y="886"/>
                  </a:lnTo>
                  <a:lnTo>
                    <a:pt x="0" y="841"/>
                  </a:lnTo>
                  <a:lnTo>
                    <a:pt x="4" y="806"/>
                  </a:lnTo>
                  <a:lnTo>
                    <a:pt x="13" y="744"/>
                  </a:lnTo>
                  <a:lnTo>
                    <a:pt x="30" y="687"/>
                  </a:lnTo>
                  <a:lnTo>
                    <a:pt x="61" y="621"/>
                  </a:lnTo>
                  <a:lnTo>
                    <a:pt x="105" y="568"/>
                  </a:lnTo>
                  <a:lnTo>
                    <a:pt x="155" y="519"/>
                  </a:lnTo>
                  <a:lnTo>
                    <a:pt x="217" y="471"/>
                  </a:lnTo>
                  <a:lnTo>
                    <a:pt x="278" y="435"/>
                  </a:lnTo>
                  <a:lnTo>
                    <a:pt x="362" y="400"/>
                  </a:lnTo>
                  <a:lnTo>
                    <a:pt x="451" y="378"/>
                  </a:lnTo>
                  <a:lnTo>
                    <a:pt x="509" y="366"/>
                  </a:lnTo>
                  <a:lnTo>
                    <a:pt x="177"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Text Box 9"/>
            <p:cNvSpPr/>
            <p:nvPr/>
          </p:nvSpPr>
          <p:spPr>
            <a:xfrm>
              <a:off x="914400" y="4330440"/>
              <a:ext cx="34596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t>
              </a:r>
              <a:endParaRPr b="0" lang="en-US" sz="1800" spc="-1" strike="noStrike">
                <a:solidFill>
                  <a:srgbClr val="000000"/>
                </a:solidFill>
                <a:latin typeface="Arial"/>
              </a:endParaRPr>
            </a:p>
          </p:txBody>
        </p:sp>
      </p:grpSp>
      <p:grpSp>
        <p:nvGrpSpPr>
          <p:cNvPr id="221" name="Group 10"/>
          <p:cNvGrpSpPr/>
          <p:nvPr/>
        </p:nvGrpSpPr>
        <p:grpSpPr>
          <a:xfrm>
            <a:off x="781200" y="4992840"/>
            <a:ext cx="522000" cy="497880"/>
            <a:chOff x="781200" y="4992840"/>
            <a:chExt cx="522000" cy="497880"/>
          </a:xfrm>
        </p:grpSpPr>
        <p:sp>
          <p:nvSpPr>
            <p:cNvPr id="222" name="Freeform 11"/>
            <p:cNvSpPr/>
            <p:nvPr/>
          </p:nvSpPr>
          <p:spPr>
            <a:xfrm>
              <a:off x="781200" y="4992840"/>
              <a:ext cx="522000" cy="466560"/>
            </a:xfrm>
            <a:custGeom>
              <a:avLst/>
              <a:gdLst>
                <a:gd name="textAreaLeft" fmla="*/ 0 w 522000"/>
                <a:gd name="textAreaRight" fmla="*/ 522360 w 522000"/>
                <a:gd name="textAreaTop" fmla="*/ 0 h 466560"/>
                <a:gd name="textAreaBottom" fmla="*/ 466920 h 466560"/>
              </a:gdLst>
              <a:ahLst/>
              <a:rect l="textAreaLeft" t="textAreaTop" r="textAreaRight" b="textAreaBottom"/>
              <a:pathLst>
                <a:path w="1452" h="1296">
                  <a:moveTo>
                    <a:pt x="176" y="17"/>
                  </a:moveTo>
                  <a:lnTo>
                    <a:pt x="411" y="61"/>
                  </a:lnTo>
                  <a:lnTo>
                    <a:pt x="407" y="0"/>
                  </a:lnTo>
                  <a:lnTo>
                    <a:pt x="690" y="70"/>
                  </a:lnTo>
                  <a:lnTo>
                    <a:pt x="690" y="0"/>
                  </a:lnTo>
                  <a:lnTo>
                    <a:pt x="991" y="0"/>
                  </a:lnTo>
                  <a:lnTo>
                    <a:pt x="987" y="66"/>
                  </a:lnTo>
                  <a:lnTo>
                    <a:pt x="1350" y="0"/>
                  </a:lnTo>
                  <a:lnTo>
                    <a:pt x="906" y="366"/>
                  </a:lnTo>
                  <a:lnTo>
                    <a:pt x="951" y="369"/>
                  </a:lnTo>
                  <a:lnTo>
                    <a:pt x="1000" y="378"/>
                  </a:lnTo>
                  <a:lnTo>
                    <a:pt x="1057" y="391"/>
                  </a:lnTo>
                  <a:lnTo>
                    <a:pt x="1106" y="409"/>
                  </a:lnTo>
                  <a:lnTo>
                    <a:pt x="1163" y="435"/>
                  </a:lnTo>
                  <a:lnTo>
                    <a:pt x="1212" y="458"/>
                  </a:lnTo>
                  <a:lnTo>
                    <a:pt x="1260" y="488"/>
                  </a:lnTo>
                  <a:lnTo>
                    <a:pt x="1301" y="524"/>
                  </a:lnTo>
                  <a:lnTo>
                    <a:pt x="1336" y="555"/>
                  </a:lnTo>
                  <a:lnTo>
                    <a:pt x="1367" y="594"/>
                  </a:lnTo>
                  <a:lnTo>
                    <a:pt x="1398" y="634"/>
                  </a:lnTo>
                  <a:lnTo>
                    <a:pt x="1420" y="683"/>
                  </a:lnTo>
                  <a:lnTo>
                    <a:pt x="1438" y="727"/>
                  </a:lnTo>
                  <a:lnTo>
                    <a:pt x="1447" y="766"/>
                  </a:lnTo>
                  <a:lnTo>
                    <a:pt x="1451" y="824"/>
                  </a:lnTo>
                  <a:lnTo>
                    <a:pt x="1447" y="881"/>
                  </a:lnTo>
                  <a:lnTo>
                    <a:pt x="1433" y="925"/>
                  </a:lnTo>
                  <a:lnTo>
                    <a:pt x="1420" y="969"/>
                  </a:lnTo>
                  <a:lnTo>
                    <a:pt x="1403" y="1005"/>
                  </a:lnTo>
                  <a:lnTo>
                    <a:pt x="1376" y="1045"/>
                  </a:lnTo>
                  <a:lnTo>
                    <a:pt x="1341" y="1089"/>
                  </a:lnTo>
                  <a:lnTo>
                    <a:pt x="1292" y="1136"/>
                  </a:lnTo>
                  <a:lnTo>
                    <a:pt x="1238" y="1176"/>
                  </a:lnTo>
                  <a:lnTo>
                    <a:pt x="1185" y="1207"/>
                  </a:lnTo>
                  <a:lnTo>
                    <a:pt x="1137" y="1229"/>
                  </a:lnTo>
                  <a:lnTo>
                    <a:pt x="1088" y="1251"/>
                  </a:lnTo>
                  <a:lnTo>
                    <a:pt x="1044" y="1264"/>
                  </a:lnTo>
                  <a:lnTo>
                    <a:pt x="991" y="1277"/>
                  </a:lnTo>
                  <a:lnTo>
                    <a:pt x="951" y="1286"/>
                  </a:lnTo>
                  <a:lnTo>
                    <a:pt x="889" y="1291"/>
                  </a:lnTo>
                  <a:lnTo>
                    <a:pt x="836" y="1295"/>
                  </a:lnTo>
                  <a:lnTo>
                    <a:pt x="588" y="1295"/>
                  </a:lnTo>
                  <a:lnTo>
                    <a:pt x="539" y="1291"/>
                  </a:lnTo>
                  <a:lnTo>
                    <a:pt x="477" y="1282"/>
                  </a:lnTo>
                  <a:lnTo>
                    <a:pt x="398" y="1264"/>
                  </a:lnTo>
                  <a:lnTo>
                    <a:pt x="323" y="1233"/>
                  </a:lnTo>
                  <a:lnTo>
                    <a:pt x="248" y="1198"/>
                  </a:lnTo>
                  <a:lnTo>
                    <a:pt x="180" y="1154"/>
                  </a:lnTo>
                  <a:lnTo>
                    <a:pt x="132" y="1114"/>
                  </a:lnTo>
                  <a:lnTo>
                    <a:pt x="92" y="1075"/>
                  </a:lnTo>
                  <a:lnTo>
                    <a:pt x="57" y="1022"/>
                  </a:lnTo>
                  <a:lnTo>
                    <a:pt x="30" y="965"/>
                  </a:lnTo>
                  <a:lnTo>
                    <a:pt x="17" y="925"/>
                  </a:lnTo>
                  <a:lnTo>
                    <a:pt x="4" y="886"/>
                  </a:lnTo>
                  <a:lnTo>
                    <a:pt x="0" y="841"/>
                  </a:lnTo>
                  <a:lnTo>
                    <a:pt x="4" y="806"/>
                  </a:lnTo>
                  <a:lnTo>
                    <a:pt x="13" y="744"/>
                  </a:lnTo>
                  <a:lnTo>
                    <a:pt x="30" y="687"/>
                  </a:lnTo>
                  <a:lnTo>
                    <a:pt x="61" y="621"/>
                  </a:lnTo>
                  <a:lnTo>
                    <a:pt x="105" y="568"/>
                  </a:lnTo>
                  <a:lnTo>
                    <a:pt x="154" y="519"/>
                  </a:lnTo>
                  <a:lnTo>
                    <a:pt x="217" y="471"/>
                  </a:lnTo>
                  <a:lnTo>
                    <a:pt x="279" y="435"/>
                  </a:lnTo>
                  <a:lnTo>
                    <a:pt x="362" y="400"/>
                  </a:lnTo>
                  <a:lnTo>
                    <a:pt x="451" y="378"/>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Text Box 12"/>
            <p:cNvSpPr/>
            <p:nvPr/>
          </p:nvSpPr>
          <p:spPr>
            <a:xfrm>
              <a:off x="890280" y="5067360"/>
              <a:ext cx="34596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t>
              </a:r>
              <a:endParaRPr b="0" lang="en-US" sz="1800" spc="-1" strike="noStrike">
                <a:solidFill>
                  <a:srgbClr val="000000"/>
                </a:solidFill>
                <a:latin typeface="Arial"/>
              </a:endParaRPr>
            </a:p>
          </p:txBody>
        </p:sp>
      </p:grpSp>
      <p:grpSp>
        <p:nvGrpSpPr>
          <p:cNvPr id="224" name="Group 13"/>
          <p:cNvGrpSpPr/>
          <p:nvPr/>
        </p:nvGrpSpPr>
        <p:grpSpPr>
          <a:xfrm>
            <a:off x="768240" y="5742000"/>
            <a:ext cx="522000" cy="497880"/>
            <a:chOff x="768240" y="5742000"/>
            <a:chExt cx="522000" cy="497880"/>
          </a:xfrm>
        </p:grpSpPr>
        <p:sp>
          <p:nvSpPr>
            <p:cNvPr id="225" name="Freeform 14"/>
            <p:cNvSpPr/>
            <p:nvPr/>
          </p:nvSpPr>
          <p:spPr>
            <a:xfrm>
              <a:off x="768240" y="5742000"/>
              <a:ext cx="522000" cy="466560"/>
            </a:xfrm>
            <a:custGeom>
              <a:avLst/>
              <a:gdLst>
                <a:gd name="textAreaLeft" fmla="*/ 0 w 522000"/>
                <a:gd name="textAreaRight" fmla="*/ 522360 w 522000"/>
                <a:gd name="textAreaTop" fmla="*/ 0 h 466560"/>
                <a:gd name="textAreaBottom" fmla="*/ 466920 h 466560"/>
              </a:gdLst>
              <a:ahLst/>
              <a:rect l="textAreaLeft" t="textAreaTop" r="textAreaRight" b="textAreaBottom"/>
              <a:pathLst>
                <a:path w="1451" h="1297">
                  <a:moveTo>
                    <a:pt x="176" y="17"/>
                  </a:moveTo>
                  <a:lnTo>
                    <a:pt x="411" y="61"/>
                  </a:lnTo>
                  <a:lnTo>
                    <a:pt x="407" y="0"/>
                  </a:lnTo>
                  <a:lnTo>
                    <a:pt x="689" y="70"/>
                  </a:lnTo>
                  <a:lnTo>
                    <a:pt x="689" y="0"/>
                  </a:lnTo>
                  <a:lnTo>
                    <a:pt x="990" y="0"/>
                  </a:lnTo>
                  <a:lnTo>
                    <a:pt x="986" y="66"/>
                  </a:lnTo>
                  <a:lnTo>
                    <a:pt x="1349" y="0"/>
                  </a:lnTo>
                  <a:lnTo>
                    <a:pt x="906" y="366"/>
                  </a:lnTo>
                  <a:lnTo>
                    <a:pt x="950" y="370"/>
                  </a:lnTo>
                  <a:lnTo>
                    <a:pt x="999" y="379"/>
                  </a:lnTo>
                  <a:lnTo>
                    <a:pt x="1056" y="392"/>
                  </a:lnTo>
                  <a:lnTo>
                    <a:pt x="1105" y="410"/>
                  </a:lnTo>
                  <a:lnTo>
                    <a:pt x="1162" y="436"/>
                  </a:lnTo>
                  <a:lnTo>
                    <a:pt x="1212" y="459"/>
                  </a:lnTo>
                  <a:lnTo>
                    <a:pt x="1260" y="489"/>
                  </a:lnTo>
                  <a:lnTo>
                    <a:pt x="1300" y="525"/>
                  </a:lnTo>
                  <a:lnTo>
                    <a:pt x="1335" y="556"/>
                  </a:lnTo>
                  <a:lnTo>
                    <a:pt x="1366" y="595"/>
                  </a:lnTo>
                  <a:lnTo>
                    <a:pt x="1397" y="635"/>
                  </a:lnTo>
                  <a:lnTo>
                    <a:pt x="1419" y="684"/>
                  </a:lnTo>
                  <a:lnTo>
                    <a:pt x="1437" y="728"/>
                  </a:lnTo>
                  <a:lnTo>
                    <a:pt x="1446" y="766"/>
                  </a:lnTo>
                  <a:lnTo>
                    <a:pt x="1450" y="824"/>
                  </a:lnTo>
                  <a:lnTo>
                    <a:pt x="1446" y="881"/>
                  </a:lnTo>
                  <a:lnTo>
                    <a:pt x="1432" y="925"/>
                  </a:lnTo>
                  <a:lnTo>
                    <a:pt x="1419" y="969"/>
                  </a:lnTo>
                  <a:lnTo>
                    <a:pt x="1402" y="1005"/>
                  </a:lnTo>
                  <a:lnTo>
                    <a:pt x="1375" y="1045"/>
                  </a:lnTo>
                  <a:lnTo>
                    <a:pt x="1340" y="1089"/>
                  </a:lnTo>
                  <a:lnTo>
                    <a:pt x="1291" y="1137"/>
                  </a:lnTo>
                  <a:lnTo>
                    <a:pt x="1238" y="1177"/>
                  </a:lnTo>
                  <a:lnTo>
                    <a:pt x="1184" y="1208"/>
                  </a:lnTo>
                  <a:lnTo>
                    <a:pt x="1136" y="1230"/>
                  </a:lnTo>
                  <a:lnTo>
                    <a:pt x="1087" y="1252"/>
                  </a:lnTo>
                  <a:lnTo>
                    <a:pt x="1043" y="1265"/>
                  </a:lnTo>
                  <a:lnTo>
                    <a:pt x="990" y="1278"/>
                  </a:lnTo>
                  <a:lnTo>
                    <a:pt x="950" y="1287"/>
                  </a:lnTo>
                  <a:lnTo>
                    <a:pt x="889" y="1292"/>
                  </a:lnTo>
                  <a:lnTo>
                    <a:pt x="836" y="1296"/>
                  </a:lnTo>
                  <a:lnTo>
                    <a:pt x="587"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4"/>
                  </a:lnTo>
                  <a:lnTo>
                    <a:pt x="30" y="688"/>
                  </a:lnTo>
                  <a:lnTo>
                    <a:pt x="61" y="622"/>
                  </a:lnTo>
                  <a:lnTo>
                    <a:pt x="105" y="569"/>
                  </a:lnTo>
                  <a:lnTo>
                    <a:pt x="154" y="520"/>
                  </a:lnTo>
                  <a:lnTo>
                    <a:pt x="216"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Text Box 15"/>
            <p:cNvSpPr/>
            <p:nvPr/>
          </p:nvSpPr>
          <p:spPr>
            <a:xfrm>
              <a:off x="875880" y="5816520"/>
              <a:ext cx="34596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
              </a:r>
              <a:endParaRPr b="0" lang="en-US" sz="1800" spc="-1" strike="noStrike">
                <a:solidFill>
                  <a:srgbClr val="000000"/>
                </a:solidFill>
                <a:latin typeface="Arial"/>
              </a:endParaRPr>
            </a:p>
          </p:txBody>
        </p:sp>
      </p:grpSp>
      <p:sp>
        <p:nvSpPr>
          <p:cNvPr id="227" name="Text Box 16"/>
          <p:cNvSpPr/>
          <p:nvPr/>
        </p:nvSpPr>
        <p:spPr>
          <a:xfrm>
            <a:off x="149544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Arial"/>
            </a:endParaRPr>
          </a:p>
        </p:txBody>
      </p:sp>
      <p:grpSp>
        <p:nvGrpSpPr>
          <p:cNvPr id="228" name="Group 17"/>
          <p:cNvGrpSpPr/>
          <p:nvPr/>
        </p:nvGrpSpPr>
        <p:grpSpPr>
          <a:xfrm>
            <a:off x="1486080" y="2928960"/>
            <a:ext cx="1496520" cy="0"/>
            <a:chOff x="1486080" y="2928960"/>
            <a:chExt cx="1496520" cy="0"/>
          </a:xfrm>
        </p:grpSpPr>
        <p:sp>
          <p:nvSpPr>
            <p:cNvPr id="229" name="Line 18"/>
            <p:cNvSpPr/>
            <p:nvPr/>
          </p:nvSpPr>
          <p:spPr>
            <a:xfrm>
              <a:off x="1486080" y="2928960"/>
              <a:ext cx="456480" cy="0"/>
            </a:xfrm>
            <a:prstGeom prst="line">
              <a:avLst/>
            </a:prstGeom>
            <a:ln w="507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Line 19"/>
            <p:cNvSpPr/>
            <p:nvPr/>
          </p:nvSpPr>
          <p:spPr>
            <a:xfrm>
              <a:off x="2005920" y="2928960"/>
              <a:ext cx="570960" cy="0"/>
            </a:xfrm>
            <a:prstGeom prst="line">
              <a:avLst/>
            </a:prstGeom>
            <a:ln w="50760">
              <a:solidFill>
                <a:srgbClr val="a2c1f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Line 20"/>
            <p:cNvSpPr/>
            <p:nvPr/>
          </p:nvSpPr>
          <p:spPr>
            <a:xfrm>
              <a:off x="2640240" y="2928960"/>
              <a:ext cx="342360" cy="0"/>
            </a:xfrm>
            <a:prstGeom prst="line">
              <a:avLst/>
            </a:prstGeom>
            <a:ln w="50760">
              <a:solidFill>
                <a:srgbClr val="00dfc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2" name="Text Box 21"/>
          <p:cNvSpPr/>
          <p:nvPr/>
        </p:nvSpPr>
        <p:spPr>
          <a:xfrm>
            <a:off x="207972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Arial"/>
            </a:endParaRPr>
          </a:p>
        </p:txBody>
      </p:sp>
      <p:sp>
        <p:nvSpPr>
          <p:cNvPr id="233" name="Text Box 22"/>
          <p:cNvSpPr/>
          <p:nvPr/>
        </p:nvSpPr>
        <p:spPr>
          <a:xfrm>
            <a:off x="260028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Arial"/>
            </a:endParaRPr>
          </a:p>
        </p:txBody>
      </p:sp>
      <p:sp>
        <p:nvSpPr>
          <p:cNvPr id="234" name="Line 23"/>
          <p:cNvSpPr/>
          <p:nvPr/>
        </p:nvSpPr>
        <p:spPr>
          <a:xfrm>
            <a:off x="1981080" y="2757600"/>
            <a:ext cx="18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Line 24"/>
          <p:cNvSpPr/>
          <p:nvPr/>
        </p:nvSpPr>
        <p:spPr>
          <a:xfrm>
            <a:off x="2616120" y="2757600"/>
            <a:ext cx="18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Line 25"/>
          <p:cNvSpPr/>
          <p:nvPr/>
        </p:nvSpPr>
        <p:spPr>
          <a:xfrm>
            <a:off x="3022560" y="2757600"/>
            <a:ext cx="18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Text Box 26"/>
          <p:cNvSpPr/>
          <p:nvPr/>
        </p:nvSpPr>
        <p:spPr>
          <a:xfrm>
            <a:off x="307044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Arial"/>
            </a:endParaRPr>
          </a:p>
        </p:txBody>
      </p:sp>
      <p:grpSp>
        <p:nvGrpSpPr>
          <p:cNvPr id="238" name="Group 27"/>
          <p:cNvGrpSpPr/>
          <p:nvPr/>
        </p:nvGrpSpPr>
        <p:grpSpPr>
          <a:xfrm>
            <a:off x="3060720" y="2928960"/>
            <a:ext cx="1496520" cy="0"/>
            <a:chOff x="3060720" y="2928960"/>
            <a:chExt cx="1496520" cy="0"/>
          </a:xfrm>
        </p:grpSpPr>
        <p:sp>
          <p:nvSpPr>
            <p:cNvPr id="239" name="Line 28"/>
            <p:cNvSpPr/>
            <p:nvPr/>
          </p:nvSpPr>
          <p:spPr>
            <a:xfrm>
              <a:off x="3060720" y="2928960"/>
              <a:ext cx="456480" cy="0"/>
            </a:xfrm>
            <a:prstGeom prst="line">
              <a:avLst/>
            </a:prstGeom>
            <a:ln w="507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29"/>
            <p:cNvSpPr/>
            <p:nvPr/>
          </p:nvSpPr>
          <p:spPr>
            <a:xfrm>
              <a:off x="3580920" y="2928960"/>
              <a:ext cx="570600" cy="0"/>
            </a:xfrm>
            <a:prstGeom prst="line">
              <a:avLst/>
            </a:prstGeom>
            <a:ln w="50760">
              <a:solidFill>
                <a:srgbClr val="a2c1f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30"/>
            <p:cNvSpPr/>
            <p:nvPr/>
          </p:nvSpPr>
          <p:spPr>
            <a:xfrm>
              <a:off x="4214880" y="2928960"/>
              <a:ext cx="342360" cy="0"/>
            </a:xfrm>
            <a:prstGeom prst="line">
              <a:avLst/>
            </a:prstGeom>
            <a:ln w="50760">
              <a:solidFill>
                <a:srgbClr val="00dfc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2" name="Text Box 31"/>
          <p:cNvSpPr/>
          <p:nvPr/>
        </p:nvSpPr>
        <p:spPr>
          <a:xfrm>
            <a:off x="365436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Arial"/>
            </a:endParaRPr>
          </a:p>
        </p:txBody>
      </p:sp>
      <p:sp>
        <p:nvSpPr>
          <p:cNvPr id="243" name="Text Box 32"/>
          <p:cNvSpPr/>
          <p:nvPr/>
        </p:nvSpPr>
        <p:spPr>
          <a:xfrm>
            <a:off x="417528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Arial"/>
            </a:endParaRPr>
          </a:p>
        </p:txBody>
      </p:sp>
      <p:sp>
        <p:nvSpPr>
          <p:cNvPr id="244" name="Line 33"/>
          <p:cNvSpPr/>
          <p:nvPr/>
        </p:nvSpPr>
        <p:spPr>
          <a:xfrm>
            <a:off x="3556080" y="2757600"/>
            <a:ext cx="144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34"/>
          <p:cNvSpPr/>
          <p:nvPr/>
        </p:nvSpPr>
        <p:spPr>
          <a:xfrm>
            <a:off x="4191120" y="2757600"/>
            <a:ext cx="144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Line 35"/>
          <p:cNvSpPr/>
          <p:nvPr/>
        </p:nvSpPr>
        <p:spPr>
          <a:xfrm>
            <a:off x="4597560" y="2757600"/>
            <a:ext cx="144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Text Box 36"/>
          <p:cNvSpPr/>
          <p:nvPr/>
        </p:nvSpPr>
        <p:spPr>
          <a:xfrm>
            <a:off x="464508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Arial"/>
            </a:endParaRPr>
          </a:p>
        </p:txBody>
      </p:sp>
      <p:grpSp>
        <p:nvGrpSpPr>
          <p:cNvPr id="248" name="Group 37"/>
          <p:cNvGrpSpPr/>
          <p:nvPr/>
        </p:nvGrpSpPr>
        <p:grpSpPr>
          <a:xfrm>
            <a:off x="4635360" y="2928960"/>
            <a:ext cx="1496880" cy="0"/>
            <a:chOff x="4635360" y="2928960"/>
            <a:chExt cx="1496880" cy="0"/>
          </a:xfrm>
        </p:grpSpPr>
        <p:sp>
          <p:nvSpPr>
            <p:cNvPr id="249" name="Line 38"/>
            <p:cNvSpPr/>
            <p:nvPr/>
          </p:nvSpPr>
          <p:spPr>
            <a:xfrm>
              <a:off x="4635360" y="2928960"/>
              <a:ext cx="456840" cy="0"/>
            </a:xfrm>
            <a:prstGeom prst="line">
              <a:avLst/>
            </a:prstGeom>
            <a:ln w="507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39"/>
            <p:cNvSpPr/>
            <p:nvPr/>
          </p:nvSpPr>
          <p:spPr>
            <a:xfrm>
              <a:off x="5155200" y="2928960"/>
              <a:ext cx="570960" cy="0"/>
            </a:xfrm>
            <a:prstGeom prst="line">
              <a:avLst/>
            </a:prstGeom>
            <a:ln w="50760">
              <a:solidFill>
                <a:srgbClr val="a2c1f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Line 40"/>
            <p:cNvSpPr/>
            <p:nvPr/>
          </p:nvSpPr>
          <p:spPr>
            <a:xfrm>
              <a:off x="5789880" y="2928960"/>
              <a:ext cx="342360" cy="0"/>
            </a:xfrm>
            <a:prstGeom prst="line">
              <a:avLst/>
            </a:prstGeom>
            <a:ln w="50760">
              <a:solidFill>
                <a:srgbClr val="00dfc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2" name="Text Box 41"/>
          <p:cNvSpPr/>
          <p:nvPr/>
        </p:nvSpPr>
        <p:spPr>
          <a:xfrm>
            <a:off x="522936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Arial"/>
            </a:endParaRPr>
          </a:p>
        </p:txBody>
      </p:sp>
      <p:sp>
        <p:nvSpPr>
          <p:cNvPr id="253" name="Text Box 42"/>
          <p:cNvSpPr/>
          <p:nvPr/>
        </p:nvSpPr>
        <p:spPr>
          <a:xfrm>
            <a:off x="574992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Arial"/>
            </a:endParaRPr>
          </a:p>
        </p:txBody>
      </p:sp>
      <p:sp>
        <p:nvSpPr>
          <p:cNvPr id="254" name="Line 43"/>
          <p:cNvSpPr/>
          <p:nvPr/>
        </p:nvSpPr>
        <p:spPr>
          <a:xfrm>
            <a:off x="5130720" y="2757600"/>
            <a:ext cx="18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44"/>
          <p:cNvSpPr/>
          <p:nvPr/>
        </p:nvSpPr>
        <p:spPr>
          <a:xfrm>
            <a:off x="5765760" y="2757600"/>
            <a:ext cx="18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Line 45"/>
          <p:cNvSpPr/>
          <p:nvPr/>
        </p:nvSpPr>
        <p:spPr>
          <a:xfrm>
            <a:off x="6172200" y="2757600"/>
            <a:ext cx="144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46"/>
          <p:cNvSpPr/>
          <p:nvPr/>
        </p:nvSpPr>
        <p:spPr>
          <a:xfrm>
            <a:off x="622008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Arial"/>
            </a:endParaRPr>
          </a:p>
        </p:txBody>
      </p:sp>
      <p:grpSp>
        <p:nvGrpSpPr>
          <p:cNvPr id="258" name="Group 47"/>
          <p:cNvGrpSpPr/>
          <p:nvPr/>
        </p:nvGrpSpPr>
        <p:grpSpPr>
          <a:xfrm>
            <a:off x="6210360" y="2928960"/>
            <a:ext cx="1496520" cy="0"/>
            <a:chOff x="6210360" y="2928960"/>
            <a:chExt cx="1496520" cy="0"/>
          </a:xfrm>
        </p:grpSpPr>
        <p:sp>
          <p:nvSpPr>
            <p:cNvPr id="259" name="Line 48"/>
            <p:cNvSpPr/>
            <p:nvPr/>
          </p:nvSpPr>
          <p:spPr>
            <a:xfrm>
              <a:off x="6210360" y="2928960"/>
              <a:ext cx="456480" cy="0"/>
            </a:xfrm>
            <a:prstGeom prst="line">
              <a:avLst/>
            </a:prstGeom>
            <a:ln w="50760">
              <a:solidFill>
                <a:srgbClr val="f6bf6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Line 49"/>
            <p:cNvSpPr/>
            <p:nvPr/>
          </p:nvSpPr>
          <p:spPr>
            <a:xfrm>
              <a:off x="6730200" y="2928960"/>
              <a:ext cx="570960" cy="0"/>
            </a:xfrm>
            <a:prstGeom prst="line">
              <a:avLst/>
            </a:prstGeom>
            <a:ln w="50760">
              <a:solidFill>
                <a:srgbClr val="a2c1f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Line 50"/>
            <p:cNvSpPr/>
            <p:nvPr/>
          </p:nvSpPr>
          <p:spPr>
            <a:xfrm>
              <a:off x="7364520" y="2928960"/>
              <a:ext cx="342360" cy="0"/>
            </a:xfrm>
            <a:prstGeom prst="line">
              <a:avLst/>
            </a:prstGeom>
            <a:ln w="50760">
              <a:solidFill>
                <a:srgbClr val="00dfc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2" name="Text Box 51"/>
          <p:cNvSpPr/>
          <p:nvPr/>
        </p:nvSpPr>
        <p:spPr>
          <a:xfrm>
            <a:off x="680400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Arial"/>
            </a:endParaRPr>
          </a:p>
        </p:txBody>
      </p:sp>
      <p:sp>
        <p:nvSpPr>
          <p:cNvPr id="263" name="Text Box 52"/>
          <p:cNvSpPr/>
          <p:nvPr/>
        </p:nvSpPr>
        <p:spPr>
          <a:xfrm>
            <a:off x="7324920" y="293364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Arial"/>
            </a:endParaRPr>
          </a:p>
        </p:txBody>
      </p:sp>
      <p:sp>
        <p:nvSpPr>
          <p:cNvPr id="264" name="Line 53"/>
          <p:cNvSpPr/>
          <p:nvPr/>
        </p:nvSpPr>
        <p:spPr>
          <a:xfrm>
            <a:off x="6705720" y="2757600"/>
            <a:ext cx="144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54"/>
          <p:cNvSpPr/>
          <p:nvPr/>
        </p:nvSpPr>
        <p:spPr>
          <a:xfrm>
            <a:off x="7340760" y="2757600"/>
            <a:ext cx="144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55"/>
          <p:cNvSpPr/>
          <p:nvPr/>
        </p:nvSpPr>
        <p:spPr>
          <a:xfrm>
            <a:off x="7746840" y="2757600"/>
            <a:ext cx="180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7" name="Group 56"/>
          <p:cNvGrpSpPr/>
          <p:nvPr/>
        </p:nvGrpSpPr>
        <p:grpSpPr>
          <a:xfrm>
            <a:off x="1467000" y="3328920"/>
            <a:ext cx="1532880" cy="709560"/>
            <a:chOff x="1467000" y="3328920"/>
            <a:chExt cx="1532880" cy="709560"/>
          </a:xfrm>
        </p:grpSpPr>
        <p:grpSp>
          <p:nvGrpSpPr>
            <p:cNvPr id="268" name="Group 57"/>
            <p:cNvGrpSpPr/>
            <p:nvPr/>
          </p:nvGrpSpPr>
          <p:grpSpPr>
            <a:xfrm>
              <a:off x="1467000" y="3328920"/>
              <a:ext cx="481320" cy="709560"/>
              <a:chOff x="1467000" y="3328920"/>
              <a:chExt cx="481320" cy="709560"/>
            </a:xfrm>
          </p:grpSpPr>
          <p:grpSp>
            <p:nvGrpSpPr>
              <p:cNvPr id="269" name="Group 58"/>
              <p:cNvGrpSpPr/>
              <p:nvPr/>
            </p:nvGrpSpPr>
            <p:grpSpPr>
              <a:xfrm>
                <a:off x="1467000" y="3328920"/>
                <a:ext cx="481320" cy="709560"/>
                <a:chOff x="1467000" y="3328920"/>
                <a:chExt cx="481320" cy="709560"/>
              </a:xfrm>
            </p:grpSpPr>
            <p:grpSp>
              <p:nvGrpSpPr>
                <p:cNvPr id="270" name="Group 59"/>
                <p:cNvGrpSpPr/>
                <p:nvPr/>
              </p:nvGrpSpPr>
              <p:grpSpPr>
                <a:xfrm>
                  <a:off x="1467000" y="3441600"/>
                  <a:ext cx="481320" cy="596880"/>
                  <a:chOff x="1467000" y="3441600"/>
                  <a:chExt cx="481320" cy="596880"/>
                </a:xfrm>
              </p:grpSpPr>
              <p:sp>
                <p:nvSpPr>
                  <p:cNvPr id="271" name="Freeform 60"/>
                  <p:cNvSpPr/>
                  <p:nvPr/>
                </p:nvSpPr>
                <p:spPr>
                  <a:xfrm>
                    <a:off x="1467000" y="3441600"/>
                    <a:ext cx="480240" cy="596880"/>
                  </a:xfrm>
                  <a:custGeom>
                    <a:avLst/>
                    <a:gdLst>
                      <a:gd name="textAreaLeft" fmla="*/ 0 w 480240"/>
                      <a:gd name="textAreaRight" fmla="*/ 480600 w 480240"/>
                      <a:gd name="textAreaTop" fmla="*/ 0 h 596880"/>
                      <a:gd name="textAreaBottom" fmla="*/ 597240 h 596880"/>
                    </a:gdLst>
                    <a:ahLst/>
                    <a:rect l="textAreaLeft" t="textAreaTop" r="textAreaRight" b="textAreaBottom"/>
                    <a:pathLst>
                      <a:path w="1346" h="1664">
                        <a:moveTo>
                          <a:pt x="0" y="1663"/>
                        </a:moveTo>
                        <a:lnTo>
                          <a:pt x="0" y="336"/>
                        </a:lnTo>
                        <a:lnTo>
                          <a:pt x="335" y="0"/>
                        </a:lnTo>
                        <a:lnTo>
                          <a:pt x="1345" y="0"/>
                        </a:lnTo>
                        <a:lnTo>
                          <a:pt x="1345" y="1327"/>
                        </a:lnTo>
                        <a:lnTo>
                          <a:pt x="1008" y="1663"/>
                        </a:lnTo>
                        <a:lnTo>
                          <a:pt x="0" y="1663"/>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2" name="Freeform 61"/>
                  <p:cNvSpPr/>
                  <p:nvPr/>
                </p:nvSpPr>
                <p:spPr>
                  <a:xfrm>
                    <a:off x="1467000" y="3441600"/>
                    <a:ext cx="480240" cy="119880"/>
                  </a:xfrm>
                  <a:custGeom>
                    <a:avLst/>
                    <a:gdLst>
                      <a:gd name="textAreaLeft" fmla="*/ 0 w 480240"/>
                      <a:gd name="textAreaRight" fmla="*/ 480600 w 480240"/>
                      <a:gd name="textAreaTop" fmla="*/ 0 h 119880"/>
                      <a:gd name="textAreaBottom" fmla="*/ 120240 h 119880"/>
                    </a:gdLst>
                    <a:ahLst/>
                    <a:rect l="textAreaLeft" t="textAreaTop" r="textAreaRight" b="textAreaBottom"/>
                    <a:pathLst>
                      <a:path w="1346" h="337">
                        <a:moveTo>
                          <a:pt x="0" y="336"/>
                        </a:moveTo>
                        <a:lnTo>
                          <a:pt x="335" y="0"/>
                        </a:lnTo>
                        <a:lnTo>
                          <a:pt x="1345" y="0"/>
                        </a:lnTo>
                        <a:lnTo>
                          <a:pt x="1008" y="336"/>
                        </a:lnTo>
                        <a:lnTo>
                          <a:pt x="0" y="33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Freeform 62"/>
                  <p:cNvSpPr/>
                  <p:nvPr/>
                </p:nvSpPr>
                <p:spPr>
                  <a:xfrm>
                    <a:off x="1827360" y="3441600"/>
                    <a:ext cx="120960" cy="596880"/>
                  </a:xfrm>
                  <a:custGeom>
                    <a:avLst/>
                    <a:gdLst>
                      <a:gd name="textAreaLeft" fmla="*/ 0 w 120960"/>
                      <a:gd name="textAreaRight" fmla="*/ 121320 w 120960"/>
                      <a:gd name="textAreaTop" fmla="*/ 0 h 596880"/>
                      <a:gd name="textAreaBottom" fmla="*/ 597240 h 596880"/>
                    </a:gdLst>
                    <a:ahLst/>
                    <a:rect l="textAreaLeft" t="textAreaTop" r="textAreaRight" b="textAreaBottom"/>
                    <a:pathLst>
                      <a:path w="338" h="1664">
                        <a:moveTo>
                          <a:pt x="0" y="1663"/>
                        </a:moveTo>
                        <a:lnTo>
                          <a:pt x="0" y="336"/>
                        </a:lnTo>
                        <a:lnTo>
                          <a:pt x="337" y="0"/>
                        </a:lnTo>
                        <a:lnTo>
                          <a:pt x="337" y="1327"/>
                        </a:lnTo>
                        <a:lnTo>
                          <a:pt x="0" y="1663"/>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74" name="Group 63"/>
                <p:cNvGrpSpPr/>
                <p:nvPr/>
              </p:nvGrpSpPr>
              <p:grpSpPr>
                <a:xfrm>
                  <a:off x="1577880" y="3328920"/>
                  <a:ext cx="370440" cy="122400"/>
                  <a:chOff x="1577880" y="3328920"/>
                  <a:chExt cx="370440" cy="122400"/>
                </a:xfrm>
              </p:grpSpPr>
              <p:sp>
                <p:nvSpPr>
                  <p:cNvPr id="275" name="Freeform 64"/>
                  <p:cNvSpPr/>
                  <p:nvPr/>
                </p:nvSpPr>
                <p:spPr>
                  <a:xfrm>
                    <a:off x="1577880" y="3328920"/>
                    <a:ext cx="370440" cy="122400"/>
                  </a:xfrm>
                  <a:custGeom>
                    <a:avLst/>
                    <a:gdLst>
                      <a:gd name="textAreaLeft" fmla="*/ 0 w 370440"/>
                      <a:gd name="textAreaRight" fmla="*/ 370800 w 370440"/>
                      <a:gd name="textAreaTop" fmla="*/ 0 h 122400"/>
                      <a:gd name="textAreaBottom" fmla="*/ 122760 h 122400"/>
                    </a:gdLst>
                    <a:ahLst/>
                    <a:rect l="textAreaLeft" t="textAreaTop" r="textAreaRight" b="textAreaBottom"/>
                    <a:pathLst>
                      <a:path w="1037" h="345">
                        <a:moveTo>
                          <a:pt x="0" y="344"/>
                        </a:moveTo>
                        <a:lnTo>
                          <a:pt x="0" y="85"/>
                        </a:lnTo>
                        <a:lnTo>
                          <a:pt x="85" y="0"/>
                        </a:lnTo>
                        <a:lnTo>
                          <a:pt x="1036" y="0"/>
                        </a:lnTo>
                        <a:lnTo>
                          <a:pt x="1036" y="257"/>
                        </a:lnTo>
                        <a:lnTo>
                          <a:pt x="949"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Freeform 65"/>
                  <p:cNvSpPr/>
                  <p:nvPr/>
                </p:nvSpPr>
                <p:spPr>
                  <a:xfrm>
                    <a:off x="1577880" y="3328920"/>
                    <a:ext cx="370440" cy="30960"/>
                  </a:xfrm>
                  <a:custGeom>
                    <a:avLst/>
                    <a:gdLst>
                      <a:gd name="textAreaLeft" fmla="*/ 0 w 370440"/>
                      <a:gd name="textAreaRight" fmla="*/ 370800 w 370440"/>
                      <a:gd name="textAreaTop" fmla="*/ 0 h 30960"/>
                      <a:gd name="textAreaBottom" fmla="*/ 31320 h 30960"/>
                    </a:gdLst>
                    <a:ahLst/>
                    <a:rect l="textAreaLeft" t="textAreaTop" r="textAreaRight" b="textAreaBottom"/>
                    <a:pathLst>
                      <a:path w="1037" h="86">
                        <a:moveTo>
                          <a:pt x="0" y="85"/>
                        </a:moveTo>
                        <a:lnTo>
                          <a:pt x="85" y="0"/>
                        </a:lnTo>
                        <a:lnTo>
                          <a:pt x="1036" y="0"/>
                        </a:lnTo>
                        <a:lnTo>
                          <a:pt x="949"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77" name="Freeform 66"/>
                  <p:cNvSpPr/>
                  <p:nvPr/>
                </p:nvSpPr>
                <p:spPr>
                  <a:xfrm>
                    <a:off x="1916640" y="3328920"/>
                    <a:ext cx="31320" cy="122400"/>
                  </a:xfrm>
                  <a:custGeom>
                    <a:avLst/>
                    <a:gdLst>
                      <a:gd name="textAreaLeft" fmla="*/ 0 w 31320"/>
                      <a:gd name="textAreaRight" fmla="*/ 31680 w 31320"/>
                      <a:gd name="textAreaTop" fmla="*/ 0 h 122400"/>
                      <a:gd name="textAreaBottom" fmla="*/ 122760 h 122400"/>
                    </a:gdLst>
                    <a:ahLst/>
                    <a:rect l="textAreaLeft" t="textAreaTop" r="textAreaRight" b="textAreaBottom"/>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78" name="Freeform 67"/>
              <p:cNvSpPr/>
              <p:nvPr/>
            </p:nvSpPr>
            <p:spPr>
              <a:xfrm>
                <a:off x="1564920" y="3494160"/>
                <a:ext cx="250200" cy="42840"/>
              </a:xfrm>
              <a:custGeom>
                <a:avLst/>
                <a:gdLst>
                  <a:gd name="textAreaLeft" fmla="*/ 0 w 250200"/>
                  <a:gd name="textAreaRight" fmla="*/ 250560 w 250200"/>
                  <a:gd name="textAreaTop" fmla="*/ 0 h 42840"/>
                  <a:gd name="textAreaBottom" fmla="*/ 43200 h 42840"/>
                </a:gdLst>
                <a:ahLst/>
                <a:rect l="textAreaLeft" t="textAreaTop" r="textAreaRight" b="textAreaBottom"/>
                <a:pathLst>
                  <a:path w="697" h="121">
                    <a:moveTo>
                      <a:pt x="174" y="0"/>
                    </a:moveTo>
                    <a:lnTo>
                      <a:pt x="696" y="0"/>
                    </a:lnTo>
                    <a:lnTo>
                      <a:pt x="522" y="120"/>
                    </a:lnTo>
                    <a:lnTo>
                      <a:pt x="0" y="120"/>
                    </a:lnTo>
                    <a:lnTo>
                      <a:pt x="174" y="0"/>
                    </a:lnTo>
                  </a:path>
                </a:pathLst>
              </a:custGeom>
              <a:solidFill>
                <a:srgbClr val="f6bf69"/>
              </a:solidFill>
              <a:ln w="25560">
                <a:solidFill>
                  <a:srgbClr val="000000"/>
                </a:solidFill>
                <a:round/>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279" name="Group 68"/>
            <p:cNvGrpSpPr/>
            <p:nvPr/>
          </p:nvGrpSpPr>
          <p:grpSpPr>
            <a:xfrm>
              <a:off x="1944000" y="3328920"/>
              <a:ext cx="597600" cy="709560"/>
              <a:chOff x="1944000" y="3328920"/>
              <a:chExt cx="597600" cy="709560"/>
            </a:xfrm>
          </p:grpSpPr>
          <p:grpSp>
            <p:nvGrpSpPr>
              <p:cNvPr id="280" name="Group 69"/>
              <p:cNvGrpSpPr/>
              <p:nvPr/>
            </p:nvGrpSpPr>
            <p:grpSpPr>
              <a:xfrm>
                <a:off x="1944000" y="3328920"/>
                <a:ext cx="597600" cy="709560"/>
                <a:chOff x="1944000" y="3328920"/>
                <a:chExt cx="597600" cy="709560"/>
              </a:xfrm>
            </p:grpSpPr>
            <p:grpSp>
              <p:nvGrpSpPr>
                <p:cNvPr id="281" name="Group 70"/>
                <p:cNvGrpSpPr/>
                <p:nvPr/>
              </p:nvGrpSpPr>
              <p:grpSpPr>
                <a:xfrm>
                  <a:off x="1944000" y="3441600"/>
                  <a:ext cx="597600" cy="596880"/>
                  <a:chOff x="1944000" y="3441600"/>
                  <a:chExt cx="597600" cy="596880"/>
                </a:xfrm>
              </p:grpSpPr>
              <p:sp>
                <p:nvSpPr>
                  <p:cNvPr id="282" name="Freeform 71"/>
                  <p:cNvSpPr/>
                  <p:nvPr/>
                </p:nvSpPr>
                <p:spPr>
                  <a:xfrm>
                    <a:off x="1944000" y="3441600"/>
                    <a:ext cx="596520" cy="596880"/>
                  </a:xfrm>
                  <a:custGeom>
                    <a:avLst/>
                    <a:gdLst>
                      <a:gd name="textAreaLeft" fmla="*/ 0 w 596520"/>
                      <a:gd name="textAreaRight" fmla="*/ 596880 w 596520"/>
                      <a:gd name="textAreaTop" fmla="*/ 0 h 596880"/>
                      <a:gd name="textAreaBottom" fmla="*/ 597240 h 596880"/>
                    </a:gdLst>
                    <a:ahLst/>
                    <a:rect l="textAreaLeft" t="textAreaTop" r="textAreaRight" b="textAreaBottom"/>
                    <a:pathLst>
                      <a:path w="1668" h="1664">
                        <a:moveTo>
                          <a:pt x="0" y="1663"/>
                        </a:moveTo>
                        <a:lnTo>
                          <a:pt x="0" y="415"/>
                        </a:lnTo>
                        <a:lnTo>
                          <a:pt x="414" y="0"/>
                        </a:lnTo>
                        <a:lnTo>
                          <a:pt x="1667" y="0"/>
                        </a:lnTo>
                        <a:lnTo>
                          <a:pt x="1667" y="1248"/>
                        </a:lnTo>
                        <a:lnTo>
                          <a:pt x="1251" y="1663"/>
                        </a:lnTo>
                        <a:lnTo>
                          <a:pt x="0" y="1663"/>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Freeform 72"/>
                  <p:cNvSpPr/>
                  <p:nvPr/>
                </p:nvSpPr>
                <p:spPr>
                  <a:xfrm>
                    <a:off x="1944000" y="3441600"/>
                    <a:ext cx="596520" cy="148680"/>
                  </a:xfrm>
                  <a:custGeom>
                    <a:avLst/>
                    <a:gdLst>
                      <a:gd name="textAreaLeft" fmla="*/ 0 w 596520"/>
                      <a:gd name="textAreaRight" fmla="*/ 596880 w 596520"/>
                      <a:gd name="textAreaTop" fmla="*/ 0 h 148680"/>
                      <a:gd name="textAreaBottom" fmla="*/ 149040 h 148680"/>
                    </a:gdLst>
                    <a:ahLst/>
                    <a:rect l="textAreaLeft" t="textAreaTop" r="textAreaRight" b="textAreaBottom"/>
                    <a:pathLst>
                      <a:path w="1668" h="416">
                        <a:moveTo>
                          <a:pt x="0" y="415"/>
                        </a:moveTo>
                        <a:lnTo>
                          <a:pt x="414" y="0"/>
                        </a:lnTo>
                        <a:lnTo>
                          <a:pt x="1667" y="0"/>
                        </a:lnTo>
                        <a:lnTo>
                          <a:pt x="1251" y="415"/>
                        </a:lnTo>
                        <a:lnTo>
                          <a:pt x="0" y="415"/>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Freeform 73"/>
                  <p:cNvSpPr/>
                  <p:nvPr/>
                </p:nvSpPr>
                <p:spPr>
                  <a:xfrm>
                    <a:off x="2392200" y="3441600"/>
                    <a:ext cx="149400" cy="596880"/>
                  </a:xfrm>
                  <a:custGeom>
                    <a:avLst/>
                    <a:gdLst>
                      <a:gd name="textAreaLeft" fmla="*/ 0 w 149400"/>
                      <a:gd name="textAreaRight" fmla="*/ 149760 w 149400"/>
                      <a:gd name="textAreaTop" fmla="*/ 0 h 596880"/>
                      <a:gd name="textAreaBottom" fmla="*/ 597240 h 596880"/>
                    </a:gdLst>
                    <a:ahLst/>
                    <a:rect l="textAreaLeft" t="textAreaTop" r="textAreaRight" b="textAreaBottom"/>
                    <a:pathLst>
                      <a:path w="417" h="1664">
                        <a:moveTo>
                          <a:pt x="0" y="1663"/>
                        </a:moveTo>
                        <a:lnTo>
                          <a:pt x="0" y="415"/>
                        </a:lnTo>
                        <a:lnTo>
                          <a:pt x="416" y="0"/>
                        </a:lnTo>
                        <a:lnTo>
                          <a:pt x="416" y="1248"/>
                        </a:lnTo>
                        <a:lnTo>
                          <a:pt x="0" y="1663"/>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85" name="Group 74"/>
                <p:cNvGrpSpPr/>
                <p:nvPr/>
              </p:nvGrpSpPr>
              <p:grpSpPr>
                <a:xfrm>
                  <a:off x="2080080" y="3328920"/>
                  <a:ext cx="461520" cy="122400"/>
                  <a:chOff x="2080080" y="3328920"/>
                  <a:chExt cx="461520" cy="122400"/>
                </a:xfrm>
              </p:grpSpPr>
              <p:sp>
                <p:nvSpPr>
                  <p:cNvPr id="286" name="Freeform 75"/>
                  <p:cNvSpPr/>
                  <p:nvPr/>
                </p:nvSpPr>
                <p:spPr>
                  <a:xfrm>
                    <a:off x="2080080" y="3328920"/>
                    <a:ext cx="461520" cy="122400"/>
                  </a:xfrm>
                  <a:custGeom>
                    <a:avLst/>
                    <a:gdLst>
                      <a:gd name="textAreaLeft" fmla="*/ 0 w 461520"/>
                      <a:gd name="textAreaRight" fmla="*/ 461880 w 461520"/>
                      <a:gd name="textAreaTop" fmla="*/ 0 h 122400"/>
                      <a:gd name="textAreaBottom" fmla="*/ 122760 h 122400"/>
                    </a:gdLst>
                    <a:ahLst/>
                    <a:rect l="textAreaLeft" t="textAreaTop" r="textAreaRight" b="textAreaBottom"/>
                    <a:pathLst>
                      <a:path w="1288" h="345">
                        <a:moveTo>
                          <a:pt x="0" y="344"/>
                        </a:moveTo>
                        <a:lnTo>
                          <a:pt x="0" y="85"/>
                        </a:lnTo>
                        <a:lnTo>
                          <a:pt x="85" y="0"/>
                        </a:lnTo>
                        <a:lnTo>
                          <a:pt x="1287" y="0"/>
                        </a:lnTo>
                        <a:lnTo>
                          <a:pt x="1287" y="257"/>
                        </a:lnTo>
                        <a:lnTo>
                          <a:pt x="1200"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Freeform 76"/>
                  <p:cNvSpPr/>
                  <p:nvPr/>
                </p:nvSpPr>
                <p:spPr>
                  <a:xfrm>
                    <a:off x="2080080" y="3328920"/>
                    <a:ext cx="461520" cy="30960"/>
                  </a:xfrm>
                  <a:custGeom>
                    <a:avLst/>
                    <a:gdLst>
                      <a:gd name="textAreaLeft" fmla="*/ 0 w 461520"/>
                      <a:gd name="textAreaRight" fmla="*/ 461880 w 461520"/>
                      <a:gd name="textAreaTop" fmla="*/ 0 h 30960"/>
                      <a:gd name="textAreaBottom" fmla="*/ 31320 h 30960"/>
                    </a:gdLst>
                    <a:ahLst/>
                    <a:rect l="textAreaLeft" t="textAreaTop" r="textAreaRight" b="textAreaBottom"/>
                    <a:pathLst>
                      <a:path w="1288" h="86">
                        <a:moveTo>
                          <a:pt x="0" y="85"/>
                        </a:moveTo>
                        <a:lnTo>
                          <a:pt x="85" y="0"/>
                        </a:lnTo>
                        <a:lnTo>
                          <a:pt x="1287" y="0"/>
                        </a:lnTo>
                        <a:lnTo>
                          <a:pt x="1200"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88" name="Freeform 77"/>
                  <p:cNvSpPr/>
                  <p:nvPr/>
                </p:nvSpPr>
                <p:spPr>
                  <a:xfrm>
                    <a:off x="2509920" y="3328920"/>
                    <a:ext cx="31320" cy="122400"/>
                  </a:xfrm>
                  <a:custGeom>
                    <a:avLst/>
                    <a:gdLst>
                      <a:gd name="textAreaLeft" fmla="*/ 0 w 31320"/>
                      <a:gd name="textAreaRight" fmla="*/ 31680 w 31320"/>
                      <a:gd name="textAreaTop" fmla="*/ 0 h 122400"/>
                      <a:gd name="textAreaBottom" fmla="*/ 122760 h 122400"/>
                    </a:gdLst>
                    <a:ahLst/>
                    <a:rect l="textAreaLeft" t="textAreaTop" r="textAreaRight" b="textAreaBottom"/>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89" name="Oval 78"/>
              <p:cNvSpPr/>
              <p:nvPr/>
            </p:nvSpPr>
            <p:spPr>
              <a:xfrm>
                <a:off x="2126160" y="3386160"/>
                <a:ext cx="77400" cy="4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79"/>
              <p:cNvSpPr/>
              <p:nvPr/>
            </p:nvSpPr>
            <p:spPr>
              <a:xfrm>
                <a:off x="2018160" y="3719520"/>
                <a:ext cx="313920" cy="133200"/>
              </a:xfrm>
              <a:custGeom>
                <a:avLst/>
                <a:gdLst>
                  <a:gd name="textAreaLeft" fmla="*/ 0 w 313920"/>
                  <a:gd name="textAreaRight" fmla="*/ 314280 w 313920"/>
                  <a:gd name="textAreaTop" fmla="*/ 0 h 133200"/>
                  <a:gd name="textAreaBottom" fmla="*/ 133560 h 133200"/>
                </a:gdLst>
                <a:ahLst/>
                <a:rect l="textAreaLeft" t="textAreaTop" r="textAreaRight" b="textAreaBottom"/>
                <a:pathLst>
                  <a:path w="874" h="371">
                    <a:moveTo>
                      <a:pt x="107" y="0"/>
                    </a:moveTo>
                    <a:lnTo>
                      <a:pt x="764" y="0"/>
                    </a:lnTo>
                    <a:lnTo>
                      <a:pt x="873" y="108"/>
                    </a:lnTo>
                    <a:lnTo>
                      <a:pt x="873" y="262"/>
                    </a:lnTo>
                    <a:lnTo>
                      <a:pt x="764" y="370"/>
                    </a:lnTo>
                    <a:lnTo>
                      <a:pt x="107" y="370"/>
                    </a:lnTo>
                    <a:lnTo>
                      <a:pt x="0" y="262"/>
                    </a:lnTo>
                    <a:lnTo>
                      <a:pt x="0" y="108"/>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91" name="Freeform 80"/>
            <p:cNvSpPr/>
            <p:nvPr/>
          </p:nvSpPr>
          <p:spPr>
            <a:xfrm>
              <a:off x="2838240" y="3692520"/>
              <a:ext cx="134640" cy="303120"/>
            </a:xfrm>
            <a:custGeom>
              <a:avLst/>
              <a:gdLst>
                <a:gd name="textAreaLeft" fmla="*/ 0 w 134640"/>
                <a:gd name="textAreaRight" fmla="*/ 135000 w 134640"/>
                <a:gd name="textAreaTop" fmla="*/ 0 h 303120"/>
                <a:gd name="textAreaBottom" fmla="*/ 303480 h 303120"/>
              </a:gdLst>
              <a:ahLst/>
              <a:rect l="textAreaLeft" t="textAreaTop" r="textAreaRight" b="textAreaBottom"/>
              <a:pathLst>
                <a:path w="376" h="843">
                  <a:moveTo>
                    <a:pt x="273" y="0"/>
                  </a:moveTo>
                  <a:lnTo>
                    <a:pt x="375" y="0"/>
                  </a:lnTo>
                  <a:lnTo>
                    <a:pt x="101" y="842"/>
                  </a:lnTo>
                  <a:lnTo>
                    <a:pt x="0" y="842"/>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AutoShape 81"/>
            <p:cNvSpPr/>
            <p:nvPr/>
          </p:nvSpPr>
          <p:spPr>
            <a:xfrm>
              <a:off x="2832120" y="3692520"/>
              <a:ext cx="167760" cy="25560"/>
            </a:xfrm>
            <a:prstGeom prst="roundRect">
              <a:avLst>
                <a:gd name="adj" fmla="val 6250"/>
              </a:avLst>
            </a:prstGeom>
            <a:solidFill>
              <a:srgbClr val="fc0128"/>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utoShape 82"/>
            <p:cNvSpPr/>
            <p:nvPr/>
          </p:nvSpPr>
          <p:spPr>
            <a:xfrm>
              <a:off x="2842920" y="3821040"/>
              <a:ext cx="129960" cy="25560"/>
            </a:xfrm>
            <a:prstGeom prst="roundRect">
              <a:avLst>
                <a:gd name="adj" fmla="val 6250"/>
              </a:avLst>
            </a:prstGeom>
            <a:solidFill>
              <a:srgbClr val="fc0128"/>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utoShape 83"/>
            <p:cNvSpPr/>
            <p:nvPr/>
          </p:nvSpPr>
          <p:spPr>
            <a:xfrm>
              <a:off x="2553120" y="3821040"/>
              <a:ext cx="163080" cy="17640"/>
            </a:xfrm>
            <a:prstGeom prst="roundRect">
              <a:avLst>
                <a:gd name="adj" fmla="val 10000"/>
              </a:avLst>
            </a:prstGeom>
            <a:solidFill>
              <a:srgbClr val="fc012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5" name="Group 84"/>
            <p:cNvGrpSpPr/>
            <p:nvPr/>
          </p:nvGrpSpPr>
          <p:grpSpPr>
            <a:xfrm>
              <a:off x="2549880" y="3419640"/>
              <a:ext cx="306000" cy="577800"/>
              <a:chOff x="2549880" y="3419640"/>
              <a:chExt cx="306000" cy="577800"/>
            </a:xfrm>
          </p:grpSpPr>
          <p:sp>
            <p:nvSpPr>
              <p:cNvPr id="296" name="Oval 85"/>
              <p:cNvSpPr/>
              <p:nvPr/>
            </p:nvSpPr>
            <p:spPr>
              <a:xfrm>
                <a:off x="2669760" y="3419640"/>
                <a:ext cx="77040" cy="7776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86"/>
              <p:cNvSpPr/>
              <p:nvPr/>
            </p:nvSpPr>
            <p:spPr>
              <a:xfrm>
                <a:off x="2549880" y="3527280"/>
                <a:ext cx="306000" cy="470160"/>
              </a:xfrm>
              <a:custGeom>
                <a:avLst/>
                <a:gdLst>
                  <a:gd name="textAreaLeft" fmla="*/ 0 w 306000"/>
                  <a:gd name="textAreaRight" fmla="*/ 306360 w 306000"/>
                  <a:gd name="textAreaTop" fmla="*/ 0 h 470160"/>
                  <a:gd name="textAreaBottom" fmla="*/ 470520 h 470160"/>
                </a:gdLst>
                <a:ahLst/>
                <a:rect l="textAreaLeft" t="textAreaTop" r="textAreaRight" b="textAreaBottom"/>
                <a:pathLst>
                  <a:path w="856" h="1306">
                    <a:moveTo>
                      <a:pt x="234" y="101"/>
                    </a:moveTo>
                    <a:lnTo>
                      <a:pt x="8" y="606"/>
                    </a:lnTo>
                    <a:lnTo>
                      <a:pt x="4" y="610"/>
                    </a:lnTo>
                    <a:lnTo>
                      <a:pt x="4" y="619"/>
                    </a:lnTo>
                    <a:lnTo>
                      <a:pt x="0" y="628"/>
                    </a:lnTo>
                    <a:lnTo>
                      <a:pt x="0" y="641"/>
                    </a:lnTo>
                    <a:lnTo>
                      <a:pt x="0" y="650"/>
                    </a:lnTo>
                    <a:lnTo>
                      <a:pt x="0" y="663"/>
                    </a:lnTo>
                    <a:lnTo>
                      <a:pt x="4" y="672"/>
                    </a:lnTo>
                    <a:lnTo>
                      <a:pt x="8" y="685"/>
                    </a:lnTo>
                    <a:lnTo>
                      <a:pt x="13" y="694"/>
                    </a:lnTo>
                    <a:lnTo>
                      <a:pt x="17" y="704"/>
                    </a:lnTo>
                    <a:lnTo>
                      <a:pt x="26" y="713"/>
                    </a:lnTo>
                    <a:lnTo>
                      <a:pt x="35" y="722"/>
                    </a:lnTo>
                    <a:lnTo>
                      <a:pt x="44" y="726"/>
                    </a:lnTo>
                    <a:lnTo>
                      <a:pt x="52" y="731"/>
                    </a:lnTo>
                    <a:lnTo>
                      <a:pt x="61" y="731"/>
                    </a:lnTo>
                    <a:lnTo>
                      <a:pt x="70" y="735"/>
                    </a:lnTo>
                    <a:lnTo>
                      <a:pt x="79" y="735"/>
                    </a:lnTo>
                    <a:lnTo>
                      <a:pt x="92" y="735"/>
                    </a:lnTo>
                    <a:lnTo>
                      <a:pt x="558" y="735"/>
                    </a:lnTo>
                    <a:lnTo>
                      <a:pt x="558" y="1305"/>
                    </a:lnTo>
                    <a:lnTo>
                      <a:pt x="704" y="1305"/>
                    </a:lnTo>
                    <a:lnTo>
                      <a:pt x="704" y="628"/>
                    </a:lnTo>
                    <a:lnTo>
                      <a:pt x="704" y="619"/>
                    </a:lnTo>
                    <a:lnTo>
                      <a:pt x="704" y="610"/>
                    </a:lnTo>
                    <a:lnTo>
                      <a:pt x="700" y="606"/>
                    </a:lnTo>
                    <a:lnTo>
                      <a:pt x="695" y="602"/>
                    </a:lnTo>
                    <a:lnTo>
                      <a:pt x="691" y="597"/>
                    </a:lnTo>
                    <a:lnTo>
                      <a:pt x="682" y="588"/>
                    </a:lnTo>
                    <a:lnTo>
                      <a:pt x="678" y="584"/>
                    </a:lnTo>
                    <a:lnTo>
                      <a:pt x="673" y="579"/>
                    </a:lnTo>
                    <a:lnTo>
                      <a:pt x="664" y="579"/>
                    </a:lnTo>
                    <a:lnTo>
                      <a:pt x="656" y="575"/>
                    </a:lnTo>
                    <a:lnTo>
                      <a:pt x="647" y="575"/>
                    </a:lnTo>
                    <a:lnTo>
                      <a:pt x="638" y="571"/>
                    </a:lnTo>
                    <a:lnTo>
                      <a:pt x="629" y="571"/>
                    </a:lnTo>
                    <a:lnTo>
                      <a:pt x="620" y="571"/>
                    </a:lnTo>
                    <a:lnTo>
                      <a:pt x="616" y="571"/>
                    </a:lnTo>
                    <a:lnTo>
                      <a:pt x="607" y="571"/>
                    </a:lnTo>
                    <a:lnTo>
                      <a:pt x="337" y="553"/>
                    </a:lnTo>
                    <a:lnTo>
                      <a:pt x="412" y="331"/>
                    </a:lnTo>
                    <a:lnTo>
                      <a:pt x="465" y="411"/>
                    </a:lnTo>
                    <a:lnTo>
                      <a:pt x="793" y="411"/>
                    </a:lnTo>
                    <a:lnTo>
                      <a:pt x="802" y="406"/>
                    </a:lnTo>
                    <a:lnTo>
                      <a:pt x="811" y="406"/>
                    </a:lnTo>
                    <a:lnTo>
                      <a:pt x="815" y="402"/>
                    </a:lnTo>
                    <a:lnTo>
                      <a:pt x="820" y="402"/>
                    </a:lnTo>
                    <a:lnTo>
                      <a:pt x="829" y="398"/>
                    </a:lnTo>
                    <a:lnTo>
                      <a:pt x="837" y="393"/>
                    </a:lnTo>
                    <a:lnTo>
                      <a:pt x="842" y="384"/>
                    </a:lnTo>
                    <a:lnTo>
                      <a:pt x="846" y="380"/>
                    </a:lnTo>
                    <a:lnTo>
                      <a:pt x="851" y="371"/>
                    </a:lnTo>
                    <a:lnTo>
                      <a:pt x="851" y="367"/>
                    </a:lnTo>
                    <a:lnTo>
                      <a:pt x="855" y="358"/>
                    </a:lnTo>
                    <a:lnTo>
                      <a:pt x="855" y="345"/>
                    </a:lnTo>
                    <a:lnTo>
                      <a:pt x="855" y="336"/>
                    </a:lnTo>
                    <a:lnTo>
                      <a:pt x="851" y="327"/>
                    </a:lnTo>
                    <a:lnTo>
                      <a:pt x="846" y="318"/>
                    </a:lnTo>
                    <a:lnTo>
                      <a:pt x="842" y="309"/>
                    </a:lnTo>
                    <a:lnTo>
                      <a:pt x="837" y="305"/>
                    </a:lnTo>
                    <a:lnTo>
                      <a:pt x="833" y="300"/>
                    </a:lnTo>
                    <a:lnTo>
                      <a:pt x="824" y="291"/>
                    </a:lnTo>
                    <a:lnTo>
                      <a:pt x="815" y="286"/>
                    </a:lnTo>
                    <a:lnTo>
                      <a:pt x="815" y="282"/>
                    </a:lnTo>
                    <a:lnTo>
                      <a:pt x="802" y="282"/>
                    </a:lnTo>
                    <a:lnTo>
                      <a:pt x="793" y="282"/>
                    </a:lnTo>
                    <a:lnTo>
                      <a:pt x="541" y="282"/>
                    </a:lnTo>
                    <a:lnTo>
                      <a:pt x="487" y="194"/>
                    </a:lnTo>
                    <a:lnTo>
                      <a:pt x="496" y="185"/>
                    </a:lnTo>
                    <a:lnTo>
                      <a:pt x="500" y="172"/>
                    </a:lnTo>
                    <a:lnTo>
                      <a:pt x="500" y="163"/>
                    </a:lnTo>
                    <a:lnTo>
                      <a:pt x="505" y="150"/>
                    </a:lnTo>
                    <a:lnTo>
                      <a:pt x="505" y="132"/>
                    </a:lnTo>
                    <a:lnTo>
                      <a:pt x="505" y="123"/>
                    </a:lnTo>
                    <a:lnTo>
                      <a:pt x="505" y="105"/>
                    </a:lnTo>
                    <a:lnTo>
                      <a:pt x="500" y="97"/>
                    </a:lnTo>
                    <a:lnTo>
                      <a:pt x="496" y="83"/>
                    </a:lnTo>
                    <a:lnTo>
                      <a:pt x="491" y="75"/>
                    </a:lnTo>
                    <a:lnTo>
                      <a:pt x="487" y="66"/>
                    </a:lnTo>
                    <a:lnTo>
                      <a:pt x="482" y="57"/>
                    </a:lnTo>
                    <a:lnTo>
                      <a:pt x="474" y="44"/>
                    </a:lnTo>
                    <a:lnTo>
                      <a:pt x="465" y="39"/>
                    </a:lnTo>
                    <a:lnTo>
                      <a:pt x="456" y="30"/>
                    </a:lnTo>
                    <a:lnTo>
                      <a:pt x="447" y="22"/>
                    </a:lnTo>
                    <a:lnTo>
                      <a:pt x="434" y="13"/>
                    </a:lnTo>
                    <a:lnTo>
                      <a:pt x="425" y="13"/>
                    </a:lnTo>
                    <a:lnTo>
                      <a:pt x="412" y="4"/>
                    </a:lnTo>
                    <a:lnTo>
                      <a:pt x="399" y="4"/>
                    </a:lnTo>
                    <a:lnTo>
                      <a:pt x="385" y="0"/>
                    </a:lnTo>
                    <a:lnTo>
                      <a:pt x="372" y="0"/>
                    </a:lnTo>
                    <a:lnTo>
                      <a:pt x="359" y="0"/>
                    </a:lnTo>
                    <a:lnTo>
                      <a:pt x="346" y="0"/>
                    </a:lnTo>
                    <a:lnTo>
                      <a:pt x="332" y="4"/>
                    </a:lnTo>
                    <a:lnTo>
                      <a:pt x="318" y="8"/>
                    </a:lnTo>
                    <a:lnTo>
                      <a:pt x="305" y="13"/>
                    </a:lnTo>
                    <a:lnTo>
                      <a:pt x="292" y="17"/>
                    </a:lnTo>
                    <a:lnTo>
                      <a:pt x="278" y="26"/>
                    </a:lnTo>
                    <a:lnTo>
                      <a:pt x="270" y="39"/>
                    </a:lnTo>
                    <a:lnTo>
                      <a:pt x="261" y="48"/>
                    </a:lnTo>
                    <a:lnTo>
                      <a:pt x="252" y="57"/>
                    </a:lnTo>
                    <a:lnTo>
                      <a:pt x="243" y="75"/>
                    </a:lnTo>
                    <a:lnTo>
                      <a:pt x="234" y="83"/>
                    </a:lnTo>
                    <a:lnTo>
                      <a:pt x="234"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298" name="Text Box 87"/>
          <p:cNvSpPr/>
          <p:nvPr/>
        </p:nvSpPr>
        <p:spPr>
          <a:xfrm>
            <a:off x="1083960" y="1828800"/>
            <a:ext cx="71496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 PM</a:t>
            </a:r>
            <a:endParaRPr b="0" lang="en-US" sz="1800" spc="-1" strike="noStrike">
              <a:solidFill>
                <a:srgbClr val="000000"/>
              </a:solidFill>
              <a:latin typeface="Arial"/>
            </a:endParaRPr>
          </a:p>
        </p:txBody>
      </p:sp>
      <p:sp>
        <p:nvSpPr>
          <p:cNvPr id="299" name="Line 88"/>
          <p:cNvSpPr/>
          <p:nvPr/>
        </p:nvSpPr>
        <p:spPr>
          <a:xfrm>
            <a:off x="1454040" y="2421000"/>
            <a:ext cx="6324840" cy="1440"/>
          </a:xfrm>
          <a:prstGeom prst="line">
            <a:avLst/>
          </a:prstGeom>
          <a:ln w="12600">
            <a:solidFill>
              <a:srgbClr val="000000"/>
            </a:solidFill>
            <a:miter/>
            <a:tailEnd len="lg"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0" name="Line 89"/>
          <p:cNvSpPr/>
          <p:nvPr/>
        </p:nvSpPr>
        <p:spPr>
          <a:xfrm>
            <a:off x="1447920" y="2287440"/>
            <a:ext cx="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Text Box 90"/>
          <p:cNvSpPr/>
          <p:nvPr/>
        </p:nvSpPr>
        <p:spPr>
          <a:xfrm>
            <a:off x="2316240" y="1841400"/>
            <a:ext cx="30780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a:t>
            </a:r>
            <a:endParaRPr b="0" lang="en-US" sz="1800" spc="-1" strike="noStrike">
              <a:solidFill>
                <a:srgbClr val="000000"/>
              </a:solidFill>
              <a:latin typeface="Arial"/>
            </a:endParaRPr>
          </a:p>
        </p:txBody>
      </p:sp>
      <p:sp>
        <p:nvSpPr>
          <p:cNvPr id="302" name="Text Box 91"/>
          <p:cNvSpPr/>
          <p:nvPr/>
        </p:nvSpPr>
        <p:spPr>
          <a:xfrm>
            <a:off x="3382920" y="1841400"/>
            <a:ext cx="30780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a:t>
            </a:r>
            <a:endParaRPr b="0" lang="en-US" sz="1800" spc="-1" strike="noStrike">
              <a:solidFill>
                <a:srgbClr val="000000"/>
              </a:solidFill>
              <a:latin typeface="Arial"/>
            </a:endParaRPr>
          </a:p>
        </p:txBody>
      </p:sp>
      <p:sp>
        <p:nvSpPr>
          <p:cNvPr id="303" name="Text Box 92"/>
          <p:cNvSpPr/>
          <p:nvPr/>
        </p:nvSpPr>
        <p:spPr>
          <a:xfrm>
            <a:off x="4398840" y="1841400"/>
            <a:ext cx="30780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a:t>
            </a:r>
            <a:endParaRPr b="0" lang="en-US" sz="1800" spc="-1" strike="noStrike">
              <a:solidFill>
                <a:srgbClr val="000000"/>
              </a:solidFill>
              <a:latin typeface="Arial"/>
            </a:endParaRPr>
          </a:p>
        </p:txBody>
      </p:sp>
      <p:sp>
        <p:nvSpPr>
          <p:cNvPr id="304" name="Text Box 93"/>
          <p:cNvSpPr/>
          <p:nvPr/>
        </p:nvSpPr>
        <p:spPr>
          <a:xfrm>
            <a:off x="5338800" y="1854360"/>
            <a:ext cx="43452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endParaRPr b="0" lang="en-US" sz="1800" spc="-1" strike="noStrike">
              <a:solidFill>
                <a:srgbClr val="000000"/>
              </a:solidFill>
              <a:latin typeface="Arial"/>
            </a:endParaRPr>
          </a:p>
        </p:txBody>
      </p:sp>
      <p:sp>
        <p:nvSpPr>
          <p:cNvPr id="305" name="Text Box 94"/>
          <p:cNvSpPr/>
          <p:nvPr/>
        </p:nvSpPr>
        <p:spPr>
          <a:xfrm>
            <a:off x="6431040" y="1841400"/>
            <a:ext cx="43452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1</a:t>
            </a:r>
            <a:endParaRPr b="0" lang="en-US" sz="1800" spc="-1" strike="noStrike">
              <a:solidFill>
                <a:srgbClr val="000000"/>
              </a:solidFill>
              <a:latin typeface="Arial"/>
            </a:endParaRPr>
          </a:p>
        </p:txBody>
      </p:sp>
      <p:sp>
        <p:nvSpPr>
          <p:cNvPr id="306" name="Text Box 95"/>
          <p:cNvSpPr/>
          <p:nvPr/>
        </p:nvSpPr>
        <p:spPr>
          <a:xfrm>
            <a:off x="7267680" y="1828800"/>
            <a:ext cx="113688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idnight</a:t>
            </a:r>
            <a:endParaRPr b="0" lang="en-US" sz="1800" spc="-1" strike="noStrike">
              <a:solidFill>
                <a:srgbClr val="000000"/>
              </a:solidFill>
              <a:latin typeface="Arial"/>
            </a:endParaRPr>
          </a:p>
        </p:txBody>
      </p:sp>
      <p:grpSp>
        <p:nvGrpSpPr>
          <p:cNvPr id="307" name="Group 96"/>
          <p:cNvGrpSpPr/>
          <p:nvPr/>
        </p:nvGrpSpPr>
        <p:grpSpPr>
          <a:xfrm>
            <a:off x="2990880" y="4065480"/>
            <a:ext cx="1533240" cy="709200"/>
            <a:chOff x="2990880" y="4065480"/>
            <a:chExt cx="1533240" cy="709200"/>
          </a:xfrm>
        </p:grpSpPr>
        <p:grpSp>
          <p:nvGrpSpPr>
            <p:cNvPr id="308" name="Group 97"/>
            <p:cNvGrpSpPr/>
            <p:nvPr/>
          </p:nvGrpSpPr>
          <p:grpSpPr>
            <a:xfrm>
              <a:off x="2990880" y="4065480"/>
              <a:ext cx="481680" cy="709200"/>
              <a:chOff x="2990880" y="4065480"/>
              <a:chExt cx="481680" cy="709200"/>
            </a:xfrm>
          </p:grpSpPr>
          <p:grpSp>
            <p:nvGrpSpPr>
              <p:cNvPr id="309" name="Group 98"/>
              <p:cNvGrpSpPr/>
              <p:nvPr/>
            </p:nvGrpSpPr>
            <p:grpSpPr>
              <a:xfrm>
                <a:off x="2990880" y="4065480"/>
                <a:ext cx="481680" cy="709200"/>
                <a:chOff x="2990880" y="4065480"/>
                <a:chExt cx="481680" cy="709200"/>
              </a:xfrm>
            </p:grpSpPr>
            <p:grpSp>
              <p:nvGrpSpPr>
                <p:cNvPr id="310" name="Group 99"/>
                <p:cNvGrpSpPr/>
                <p:nvPr/>
              </p:nvGrpSpPr>
              <p:grpSpPr>
                <a:xfrm>
                  <a:off x="2990880" y="4177800"/>
                  <a:ext cx="481680" cy="596880"/>
                  <a:chOff x="2990880" y="4177800"/>
                  <a:chExt cx="481680" cy="596880"/>
                </a:xfrm>
              </p:grpSpPr>
              <p:sp>
                <p:nvSpPr>
                  <p:cNvPr id="311" name="Freeform 100"/>
                  <p:cNvSpPr/>
                  <p:nvPr/>
                </p:nvSpPr>
                <p:spPr>
                  <a:xfrm>
                    <a:off x="2990880" y="4177800"/>
                    <a:ext cx="480240" cy="596880"/>
                  </a:xfrm>
                  <a:custGeom>
                    <a:avLst/>
                    <a:gdLst>
                      <a:gd name="textAreaLeft" fmla="*/ 0 w 480240"/>
                      <a:gd name="textAreaRight" fmla="*/ 480600 w 480240"/>
                      <a:gd name="textAreaTop" fmla="*/ 0 h 596880"/>
                      <a:gd name="textAreaBottom" fmla="*/ 597240 h 596880"/>
                    </a:gdLst>
                    <a:ahLst/>
                    <a:rect l="textAreaLeft" t="textAreaTop" r="textAreaRight" b="textAreaBottom"/>
                    <a:pathLst>
                      <a:path w="1346" h="1664">
                        <a:moveTo>
                          <a:pt x="0" y="1663"/>
                        </a:moveTo>
                        <a:lnTo>
                          <a:pt x="0" y="335"/>
                        </a:lnTo>
                        <a:lnTo>
                          <a:pt x="335" y="0"/>
                        </a:lnTo>
                        <a:lnTo>
                          <a:pt x="1345" y="0"/>
                        </a:lnTo>
                        <a:lnTo>
                          <a:pt x="1345" y="1326"/>
                        </a:lnTo>
                        <a:lnTo>
                          <a:pt x="1008" y="1663"/>
                        </a:lnTo>
                        <a:lnTo>
                          <a:pt x="0" y="1663"/>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Freeform 101"/>
                  <p:cNvSpPr/>
                  <p:nvPr/>
                </p:nvSpPr>
                <p:spPr>
                  <a:xfrm>
                    <a:off x="2990880" y="4177800"/>
                    <a:ext cx="480240" cy="120240"/>
                  </a:xfrm>
                  <a:custGeom>
                    <a:avLst/>
                    <a:gdLst>
                      <a:gd name="textAreaLeft" fmla="*/ 0 w 480240"/>
                      <a:gd name="textAreaRight" fmla="*/ 480600 w 480240"/>
                      <a:gd name="textAreaTop" fmla="*/ 0 h 120240"/>
                      <a:gd name="textAreaBottom" fmla="*/ 120600 h 120240"/>
                    </a:gdLst>
                    <a:ahLst/>
                    <a:rect l="textAreaLeft" t="textAreaTop" r="textAreaRight" b="textAreaBottom"/>
                    <a:pathLst>
                      <a:path w="1346" h="336">
                        <a:moveTo>
                          <a:pt x="0" y="335"/>
                        </a:moveTo>
                        <a:lnTo>
                          <a:pt x="335" y="0"/>
                        </a:lnTo>
                        <a:lnTo>
                          <a:pt x="1345" y="0"/>
                        </a:lnTo>
                        <a:lnTo>
                          <a:pt x="1008" y="335"/>
                        </a:lnTo>
                        <a:lnTo>
                          <a:pt x="0" y="335"/>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Freeform 102"/>
                  <p:cNvSpPr/>
                  <p:nvPr/>
                </p:nvSpPr>
                <p:spPr>
                  <a:xfrm>
                    <a:off x="3351240" y="4177800"/>
                    <a:ext cx="121320" cy="596880"/>
                  </a:xfrm>
                  <a:custGeom>
                    <a:avLst/>
                    <a:gdLst>
                      <a:gd name="textAreaLeft" fmla="*/ 0 w 121320"/>
                      <a:gd name="textAreaRight" fmla="*/ 121680 w 121320"/>
                      <a:gd name="textAreaTop" fmla="*/ 0 h 596880"/>
                      <a:gd name="textAreaBottom" fmla="*/ 597240 h 596880"/>
                    </a:gdLst>
                    <a:ahLst/>
                    <a:rect l="textAreaLeft" t="textAreaTop" r="textAreaRight" b="textAreaBottom"/>
                    <a:pathLst>
                      <a:path w="338" h="1664">
                        <a:moveTo>
                          <a:pt x="0" y="1663"/>
                        </a:moveTo>
                        <a:lnTo>
                          <a:pt x="0" y="335"/>
                        </a:lnTo>
                        <a:lnTo>
                          <a:pt x="337" y="0"/>
                        </a:lnTo>
                        <a:lnTo>
                          <a:pt x="337" y="1326"/>
                        </a:lnTo>
                        <a:lnTo>
                          <a:pt x="0" y="1663"/>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14" name="Group 103"/>
                <p:cNvGrpSpPr/>
                <p:nvPr/>
              </p:nvGrpSpPr>
              <p:grpSpPr>
                <a:xfrm>
                  <a:off x="3101760" y="4065480"/>
                  <a:ext cx="370800" cy="122040"/>
                  <a:chOff x="3101760" y="4065480"/>
                  <a:chExt cx="370800" cy="122040"/>
                </a:xfrm>
              </p:grpSpPr>
              <p:sp>
                <p:nvSpPr>
                  <p:cNvPr id="315" name="Freeform 104"/>
                  <p:cNvSpPr/>
                  <p:nvPr/>
                </p:nvSpPr>
                <p:spPr>
                  <a:xfrm>
                    <a:off x="3101760" y="4065480"/>
                    <a:ext cx="370800" cy="122040"/>
                  </a:xfrm>
                  <a:custGeom>
                    <a:avLst/>
                    <a:gdLst>
                      <a:gd name="textAreaLeft" fmla="*/ 0 w 370800"/>
                      <a:gd name="textAreaRight" fmla="*/ 371160 w 370800"/>
                      <a:gd name="textAreaTop" fmla="*/ 0 h 122040"/>
                      <a:gd name="textAreaBottom" fmla="*/ 122400 h 122040"/>
                    </a:gdLst>
                    <a:ahLst/>
                    <a:rect l="textAreaLeft" t="textAreaTop" r="textAreaRight" b="textAreaBottom"/>
                    <a:pathLst>
                      <a:path w="1037" h="345">
                        <a:moveTo>
                          <a:pt x="0" y="344"/>
                        </a:moveTo>
                        <a:lnTo>
                          <a:pt x="0" y="85"/>
                        </a:lnTo>
                        <a:lnTo>
                          <a:pt x="85" y="0"/>
                        </a:lnTo>
                        <a:lnTo>
                          <a:pt x="1036" y="0"/>
                        </a:lnTo>
                        <a:lnTo>
                          <a:pt x="1036" y="257"/>
                        </a:lnTo>
                        <a:lnTo>
                          <a:pt x="949"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Freeform 105"/>
                  <p:cNvSpPr/>
                  <p:nvPr/>
                </p:nvSpPr>
                <p:spPr>
                  <a:xfrm>
                    <a:off x="3101760" y="4065480"/>
                    <a:ext cx="370800" cy="31320"/>
                  </a:xfrm>
                  <a:custGeom>
                    <a:avLst/>
                    <a:gdLst>
                      <a:gd name="textAreaLeft" fmla="*/ 0 w 370800"/>
                      <a:gd name="textAreaRight" fmla="*/ 371160 w 370800"/>
                      <a:gd name="textAreaTop" fmla="*/ 0 h 31320"/>
                      <a:gd name="textAreaBottom" fmla="*/ 31680 h 31320"/>
                    </a:gdLst>
                    <a:ahLst/>
                    <a:rect l="textAreaLeft" t="textAreaTop" r="textAreaRight" b="textAreaBottom"/>
                    <a:pathLst>
                      <a:path w="1037" h="86">
                        <a:moveTo>
                          <a:pt x="0" y="85"/>
                        </a:moveTo>
                        <a:lnTo>
                          <a:pt x="85" y="0"/>
                        </a:lnTo>
                        <a:lnTo>
                          <a:pt x="1036" y="0"/>
                        </a:lnTo>
                        <a:lnTo>
                          <a:pt x="949"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17" name="Freeform 106"/>
                  <p:cNvSpPr/>
                  <p:nvPr/>
                </p:nvSpPr>
                <p:spPr>
                  <a:xfrm>
                    <a:off x="3440880" y="4065480"/>
                    <a:ext cx="31320" cy="122040"/>
                  </a:xfrm>
                  <a:custGeom>
                    <a:avLst/>
                    <a:gdLst>
                      <a:gd name="textAreaLeft" fmla="*/ 0 w 31320"/>
                      <a:gd name="textAreaRight" fmla="*/ 31680 w 31320"/>
                      <a:gd name="textAreaTop" fmla="*/ 0 h 122040"/>
                      <a:gd name="textAreaBottom" fmla="*/ 122400 h 122040"/>
                    </a:gdLst>
                    <a:ahLst/>
                    <a:rect l="textAreaLeft" t="textAreaTop" r="textAreaRight" b="textAreaBottom"/>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18" name="Freeform 107"/>
              <p:cNvSpPr/>
              <p:nvPr/>
            </p:nvSpPr>
            <p:spPr>
              <a:xfrm>
                <a:off x="3089160" y="4230360"/>
                <a:ext cx="249840" cy="42480"/>
              </a:xfrm>
              <a:custGeom>
                <a:avLst/>
                <a:gdLst>
                  <a:gd name="textAreaLeft" fmla="*/ 0 w 249840"/>
                  <a:gd name="textAreaRight" fmla="*/ 250200 w 249840"/>
                  <a:gd name="textAreaTop" fmla="*/ 0 h 42480"/>
                  <a:gd name="textAreaBottom" fmla="*/ 42840 h 42480"/>
                </a:gdLst>
                <a:ahLst/>
                <a:rect l="textAreaLeft" t="textAreaTop" r="textAreaRight" b="textAreaBottom"/>
                <a:pathLst>
                  <a:path w="698" h="120">
                    <a:moveTo>
                      <a:pt x="173" y="0"/>
                    </a:moveTo>
                    <a:lnTo>
                      <a:pt x="697" y="0"/>
                    </a:lnTo>
                    <a:lnTo>
                      <a:pt x="522" y="119"/>
                    </a:lnTo>
                    <a:lnTo>
                      <a:pt x="0" y="119"/>
                    </a:lnTo>
                    <a:lnTo>
                      <a:pt x="173" y="0"/>
                    </a:lnTo>
                  </a:path>
                </a:pathLst>
              </a:custGeom>
              <a:solidFill>
                <a:srgbClr val="f6bf69"/>
              </a:solidFill>
              <a:ln w="25560">
                <a:solidFill>
                  <a:srgbClr val="000000"/>
                </a:solidFill>
                <a:round/>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grpSp>
          <p:nvGrpSpPr>
            <p:cNvPr id="319" name="Group 108"/>
            <p:cNvGrpSpPr/>
            <p:nvPr/>
          </p:nvGrpSpPr>
          <p:grpSpPr>
            <a:xfrm>
              <a:off x="3468240" y="4065480"/>
              <a:ext cx="597240" cy="709200"/>
              <a:chOff x="3468240" y="4065480"/>
              <a:chExt cx="597240" cy="709200"/>
            </a:xfrm>
          </p:grpSpPr>
          <p:grpSp>
            <p:nvGrpSpPr>
              <p:cNvPr id="320" name="Group 109"/>
              <p:cNvGrpSpPr/>
              <p:nvPr/>
            </p:nvGrpSpPr>
            <p:grpSpPr>
              <a:xfrm>
                <a:off x="3468240" y="4065480"/>
                <a:ext cx="597240" cy="709200"/>
                <a:chOff x="3468240" y="4065480"/>
                <a:chExt cx="597240" cy="709200"/>
              </a:xfrm>
            </p:grpSpPr>
            <p:grpSp>
              <p:nvGrpSpPr>
                <p:cNvPr id="321" name="Group 110"/>
                <p:cNvGrpSpPr/>
                <p:nvPr/>
              </p:nvGrpSpPr>
              <p:grpSpPr>
                <a:xfrm>
                  <a:off x="3468240" y="4177800"/>
                  <a:ext cx="597240" cy="596880"/>
                  <a:chOff x="3468240" y="4177800"/>
                  <a:chExt cx="597240" cy="596880"/>
                </a:xfrm>
              </p:grpSpPr>
              <p:sp>
                <p:nvSpPr>
                  <p:cNvPr id="322" name="Freeform 111"/>
                  <p:cNvSpPr/>
                  <p:nvPr/>
                </p:nvSpPr>
                <p:spPr>
                  <a:xfrm>
                    <a:off x="3468240" y="4177800"/>
                    <a:ext cx="595800" cy="596880"/>
                  </a:xfrm>
                  <a:custGeom>
                    <a:avLst/>
                    <a:gdLst>
                      <a:gd name="textAreaLeft" fmla="*/ 0 w 595800"/>
                      <a:gd name="textAreaRight" fmla="*/ 596160 w 595800"/>
                      <a:gd name="textAreaTop" fmla="*/ 0 h 596880"/>
                      <a:gd name="textAreaBottom" fmla="*/ 597240 h 596880"/>
                    </a:gdLst>
                    <a:ahLst/>
                    <a:rect l="textAreaLeft" t="textAreaTop" r="textAreaRight" b="textAreaBottom"/>
                    <a:pathLst>
                      <a:path w="1667" h="1664">
                        <a:moveTo>
                          <a:pt x="0" y="1663"/>
                        </a:moveTo>
                        <a:lnTo>
                          <a:pt x="0" y="414"/>
                        </a:lnTo>
                        <a:lnTo>
                          <a:pt x="414" y="0"/>
                        </a:lnTo>
                        <a:lnTo>
                          <a:pt x="1666" y="0"/>
                        </a:lnTo>
                        <a:lnTo>
                          <a:pt x="1666" y="1247"/>
                        </a:lnTo>
                        <a:lnTo>
                          <a:pt x="1250" y="1663"/>
                        </a:lnTo>
                        <a:lnTo>
                          <a:pt x="0" y="1663"/>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Freeform 112"/>
                  <p:cNvSpPr/>
                  <p:nvPr/>
                </p:nvSpPr>
                <p:spPr>
                  <a:xfrm>
                    <a:off x="3468240" y="4177800"/>
                    <a:ext cx="595800" cy="148680"/>
                  </a:xfrm>
                  <a:custGeom>
                    <a:avLst/>
                    <a:gdLst>
                      <a:gd name="textAreaLeft" fmla="*/ 0 w 595800"/>
                      <a:gd name="textAreaRight" fmla="*/ 596160 w 595800"/>
                      <a:gd name="textAreaTop" fmla="*/ 0 h 148680"/>
                      <a:gd name="textAreaBottom" fmla="*/ 149040 h 148680"/>
                    </a:gdLst>
                    <a:ahLst/>
                    <a:rect l="textAreaLeft" t="textAreaTop" r="textAreaRight" b="textAreaBottom"/>
                    <a:pathLst>
                      <a:path w="1667" h="415">
                        <a:moveTo>
                          <a:pt x="0" y="414"/>
                        </a:moveTo>
                        <a:lnTo>
                          <a:pt x="414" y="0"/>
                        </a:lnTo>
                        <a:lnTo>
                          <a:pt x="1666" y="0"/>
                        </a:lnTo>
                        <a:lnTo>
                          <a:pt x="1250" y="414"/>
                        </a:lnTo>
                        <a:lnTo>
                          <a:pt x="0" y="414"/>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4" name="Freeform 113"/>
                  <p:cNvSpPr/>
                  <p:nvPr/>
                </p:nvSpPr>
                <p:spPr>
                  <a:xfrm>
                    <a:off x="3915720" y="4177800"/>
                    <a:ext cx="149760" cy="596880"/>
                  </a:xfrm>
                  <a:custGeom>
                    <a:avLst/>
                    <a:gdLst>
                      <a:gd name="textAreaLeft" fmla="*/ 0 w 149760"/>
                      <a:gd name="textAreaRight" fmla="*/ 150120 w 149760"/>
                      <a:gd name="textAreaTop" fmla="*/ 0 h 596880"/>
                      <a:gd name="textAreaBottom" fmla="*/ 597240 h 596880"/>
                    </a:gdLst>
                    <a:ahLst/>
                    <a:rect l="textAreaLeft" t="textAreaTop" r="textAreaRight" b="textAreaBottom"/>
                    <a:pathLst>
                      <a:path w="417" h="1664">
                        <a:moveTo>
                          <a:pt x="0" y="1663"/>
                        </a:moveTo>
                        <a:lnTo>
                          <a:pt x="0" y="414"/>
                        </a:lnTo>
                        <a:lnTo>
                          <a:pt x="416" y="0"/>
                        </a:lnTo>
                        <a:lnTo>
                          <a:pt x="416" y="1247"/>
                        </a:lnTo>
                        <a:lnTo>
                          <a:pt x="0" y="1663"/>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5" name="Group 114"/>
                <p:cNvGrpSpPr/>
                <p:nvPr/>
              </p:nvGrpSpPr>
              <p:grpSpPr>
                <a:xfrm>
                  <a:off x="3604320" y="4065480"/>
                  <a:ext cx="461160" cy="122040"/>
                  <a:chOff x="3604320" y="4065480"/>
                  <a:chExt cx="461160" cy="122040"/>
                </a:xfrm>
              </p:grpSpPr>
              <p:sp>
                <p:nvSpPr>
                  <p:cNvPr id="326" name="Freeform 115"/>
                  <p:cNvSpPr/>
                  <p:nvPr/>
                </p:nvSpPr>
                <p:spPr>
                  <a:xfrm>
                    <a:off x="3604320" y="4065480"/>
                    <a:ext cx="461160" cy="122040"/>
                  </a:xfrm>
                  <a:custGeom>
                    <a:avLst/>
                    <a:gdLst>
                      <a:gd name="textAreaLeft" fmla="*/ 0 w 461160"/>
                      <a:gd name="textAreaRight" fmla="*/ 461520 w 461160"/>
                      <a:gd name="textAreaTop" fmla="*/ 0 h 122040"/>
                      <a:gd name="textAreaBottom" fmla="*/ 122400 h 122040"/>
                    </a:gdLst>
                    <a:ahLst/>
                    <a:rect l="textAreaLeft" t="textAreaTop" r="textAreaRight" b="textAreaBottom"/>
                    <a:pathLst>
                      <a:path w="1288" h="345">
                        <a:moveTo>
                          <a:pt x="0" y="344"/>
                        </a:moveTo>
                        <a:lnTo>
                          <a:pt x="0" y="85"/>
                        </a:lnTo>
                        <a:lnTo>
                          <a:pt x="85" y="0"/>
                        </a:lnTo>
                        <a:lnTo>
                          <a:pt x="1287" y="0"/>
                        </a:lnTo>
                        <a:lnTo>
                          <a:pt x="1287" y="257"/>
                        </a:lnTo>
                        <a:lnTo>
                          <a:pt x="1200"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7" name="Freeform 116"/>
                  <p:cNvSpPr/>
                  <p:nvPr/>
                </p:nvSpPr>
                <p:spPr>
                  <a:xfrm>
                    <a:off x="3604320" y="4065480"/>
                    <a:ext cx="461160" cy="31320"/>
                  </a:xfrm>
                  <a:custGeom>
                    <a:avLst/>
                    <a:gdLst>
                      <a:gd name="textAreaLeft" fmla="*/ 0 w 461160"/>
                      <a:gd name="textAreaRight" fmla="*/ 461520 w 461160"/>
                      <a:gd name="textAreaTop" fmla="*/ 0 h 31320"/>
                      <a:gd name="textAreaBottom" fmla="*/ 31680 h 31320"/>
                    </a:gdLst>
                    <a:ahLst/>
                    <a:rect l="textAreaLeft" t="textAreaTop" r="textAreaRight" b="textAreaBottom"/>
                    <a:pathLst>
                      <a:path w="1288" h="86">
                        <a:moveTo>
                          <a:pt x="0" y="85"/>
                        </a:moveTo>
                        <a:lnTo>
                          <a:pt x="85" y="0"/>
                        </a:lnTo>
                        <a:lnTo>
                          <a:pt x="1287" y="0"/>
                        </a:lnTo>
                        <a:lnTo>
                          <a:pt x="1200"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28" name="Freeform 117"/>
                  <p:cNvSpPr/>
                  <p:nvPr/>
                </p:nvSpPr>
                <p:spPr>
                  <a:xfrm>
                    <a:off x="4033800" y="4065480"/>
                    <a:ext cx="31320" cy="122040"/>
                  </a:xfrm>
                  <a:custGeom>
                    <a:avLst/>
                    <a:gdLst>
                      <a:gd name="textAreaLeft" fmla="*/ 0 w 31320"/>
                      <a:gd name="textAreaRight" fmla="*/ 31680 w 31320"/>
                      <a:gd name="textAreaTop" fmla="*/ 0 h 122040"/>
                      <a:gd name="textAreaBottom" fmla="*/ 122400 h 122040"/>
                    </a:gdLst>
                    <a:ahLst/>
                    <a:rect l="textAreaLeft" t="textAreaTop" r="textAreaRight" b="textAreaBottom"/>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29" name="Oval 118"/>
              <p:cNvSpPr/>
              <p:nvPr/>
            </p:nvSpPr>
            <p:spPr>
              <a:xfrm>
                <a:off x="3650400" y="4122360"/>
                <a:ext cx="77400" cy="42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Freeform 119"/>
              <p:cNvSpPr/>
              <p:nvPr/>
            </p:nvSpPr>
            <p:spPr>
              <a:xfrm>
                <a:off x="3542400" y="4455720"/>
                <a:ext cx="313560" cy="133200"/>
              </a:xfrm>
              <a:custGeom>
                <a:avLst/>
                <a:gdLst>
                  <a:gd name="textAreaLeft" fmla="*/ 0 w 313560"/>
                  <a:gd name="textAreaRight" fmla="*/ 313920 w 313560"/>
                  <a:gd name="textAreaTop" fmla="*/ 0 h 133200"/>
                  <a:gd name="textAreaBottom" fmla="*/ 133560 h 133200"/>
                </a:gdLst>
                <a:ahLst/>
                <a:rect l="textAreaLeft" t="textAreaTop" r="textAreaRight" b="textAreaBottom"/>
                <a:pathLst>
                  <a:path w="873" h="371">
                    <a:moveTo>
                      <a:pt x="107" y="0"/>
                    </a:moveTo>
                    <a:lnTo>
                      <a:pt x="763" y="0"/>
                    </a:lnTo>
                    <a:lnTo>
                      <a:pt x="872" y="108"/>
                    </a:lnTo>
                    <a:lnTo>
                      <a:pt x="872" y="262"/>
                    </a:lnTo>
                    <a:lnTo>
                      <a:pt x="763" y="370"/>
                    </a:lnTo>
                    <a:lnTo>
                      <a:pt x="107" y="370"/>
                    </a:lnTo>
                    <a:lnTo>
                      <a:pt x="0" y="262"/>
                    </a:lnTo>
                    <a:lnTo>
                      <a:pt x="0" y="108"/>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31" name="Freeform 120"/>
            <p:cNvSpPr/>
            <p:nvPr/>
          </p:nvSpPr>
          <p:spPr>
            <a:xfrm>
              <a:off x="4362840" y="4428720"/>
              <a:ext cx="134280" cy="302760"/>
            </a:xfrm>
            <a:custGeom>
              <a:avLst/>
              <a:gdLst>
                <a:gd name="textAreaLeft" fmla="*/ 0 w 134280"/>
                <a:gd name="textAreaRight" fmla="*/ 134640 w 134280"/>
                <a:gd name="textAreaTop" fmla="*/ 0 h 302760"/>
                <a:gd name="textAreaBottom" fmla="*/ 303120 h 302760"/>
              </a:gdLst>
              <a:ahLst/>
              <a:rect l="textAreaLeft" t="textAreaTop" r="textAreaRight" b="textAreaBottom"/>
              <a:pathLst>
                <a:path w="376" h="843">
                  <a:moveTo>
                    <a:pt x="273" y="0"/>
                  </a:moveTo>
                  <a:lnTo>
                    <a:pt x="375" y="0"/>
                  </a:lnTo>
                  <a:lnTo>
                    <a:pt x="101" y="842"/>
                  </a:lnTo>
                  <a:lnTo>
                    <a:pt x="0" y="842"/>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2" name="AutoShape 121"/>
            <p:cNvSpPr/>
            <p:nvPr/>
          </p:nvSpPr>
          <p:spPr>
            <a:xfrm>
              <a:off x="4356360" y="4428720"/>
              <a:ext cx="16776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AutoShape 122"/>
            <p:cNvSpPr/>
            <p:nvPr/>
          </p:nvSpPr>
          <p:spPr>
            <a:xfrm>
              <a:off x="4367520" y="4557240"/>
              <a:ext cx="12960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utoShape 123"/>
            <p:cNvSpPr/>
            <p:nvPr/>
          </p:nvSpPr>
          <p:spPr>
            <a:xfrm>
              <a:off x="4077360" y="4557240"/>
              <a:ext cx="163080" cy="17280"/>
            </a:xfrm>
            <a:prstGeom prst="roundRect">
              <a:avLst>
                <a:gd name="adj" fmla="val 10000"/>
              </a:avLst>
            </a:prstGeom>
            <a:solidFill>
              <a:srgbClr val="fc0128"/>
            </a:solidFill>
            <a:ln w="0">
              <a:noFill/>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5" name="Group 124"/>
            <p:cNvGrpSpPr/>
            <p:nvPr/>
          </p:nvGrpSpPr>
          <p:grpSpPr>
            <a:xfrm>
              <a:off x="4074120" y="4155840"/>
              <a:ext cx="306000" cy="575280"/>
              <a:chOff x="4074120" y="4155840"/>
              <a:chExt cx="306000" cy="575280"/>
            </a:xfrm>
          </p:grpSpPr>
          <p:sp>
            <p:nvSpPr>
              <p:cNvPr id="336" name="Oval 125"/>
              <p:cNvSpPr/>
              <p:nvPr/>
            </p:nvSpPr>
            <p:spPr>
              <a:xfrm>
                <a:off x="4193640" y="4155840"/>
                <a:ext cx="77040" cy="774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26"/>
              <p:cNvSpPr/>
              <p:nvPr/>
            </p:nvSpPr>
            <p:spPr>
              <a:xfrm>
                <a:off x="4074120" y="4263120"/>
                <a:ext cx="306000" cy="468000"/>
              </a:xfrm>
              <a:custGeom>
                <a:avLst/>
                <a:gdLst>
                  <a:gd name="textAreaLeft" fmla="*/ 0 w 306000"/>
                  <a:gd name="textAreaRight" fmla="*/ 306360 w 306000"/>
                  <a:gd name="textAreaTop" fmla="*/ 0 h 468000"/>
                  <a:gd name="textAreaBottom" fmla="*/ 468360 h 468000"/>
                </a:gdLst>
                <a:ahLst/>
                <a:rect l="textAreaLeft" t="textAreaTop" r="textAreaRight" b="textAreaBottom"/>
                <a:pathLst>
                  <a:path w="857" h="1305">
                    <a:moveTo>
                      <a:pt x="235" y="101"/>
                    </a:moveTo>
                    <a:lnTo>
                      <a:pt x="8" y="605"/>
                    </a:lnTo>
                    <a:lnTo>
                      <a:pt x="4" y="609"/>
                    </a:lnTo>
                    <a:lnTo>
                      <a:pt x="4" y="618"/>
                    </a:lnTo>
                    <a:lnTo>
                      <a:pt x="0" y="627"/>
                    </a:lnTo>
                    <a:lnTo>
                      <a:pt x="0" y="640"/>
                    </a:lnTo>
                    <a:lnTo>
                      <a:pt x="0" y="649"/>
                    </a:lnTo>
                    <a:lnTo>
                      <a:pt x="0" y="662"/>
                    </a:lnTo>
                    <a:lnTo>
                      <a:pt x="4" y="671"/>
                    </a:lnTo>
                    <a:lnTo>
                      <a:pt x="8" y="684"/>
                    </a:lnTo>
                    <a:lnTo>
                      <a:pt x="13" y="693"/>
                    </a:lnTo>
                    <a:lnTo>
                      <a:pt x="17" y="703"/>
                    </a:lnTo>
                    <a:lnTo>
                      <a:pt x="26" y="712"/>
                    </a:lnTo>
                    <a:lnTo>
                      <a:pt x="35" y="721"/>
                    </a:lnTo>
                    <a:lnTo>
                      <a:pt x="44" y="725"/>
                    </a:lnTo>
                    <a:lnTo>
                      <a:pt x="53" y="730"/>
                    </a:lnTo>
                    <a:lnTo>
                      <a:pt x="61" y="730"/>
                    </a:lnTo>
                    <a:lnTo>
                      <a:pt x="70" y="734"/>
                    </a:lnTo>
                    <a:lnTo>
                      <a:pt x="79" y="734"/>
                    </a:lnTo>
                    <a:lnTo>
                      <a:pt x="92" y="734"/>
                    </a:lnTo>
                    <a:lnTo>
                      <a:pt x="559" y="734"/>
                    </a:lnTo>
                    <a:lnTo>
                      <a:pt x="559" y="1304"/>
                    </a:lnTo>
                    <a:lnTo>
                      <a:pt x="705" y="1304"/>
                    </a:lnTo>
                    <a:lnTo>
                      <a:pt x="705" y="627"/>
                    </a:lnTo>
                    <a:lnTo>
                      <a:pt x="705" y="618"/>
                    </a:lnTo>
                    <a:lnTo>
                      <a:pt x="705" y="609"/>
                    </a:lnTo>
                    <a:lnTo>
                      <a:pt x="700" y="605"/>
                    </a:lnTo>
                    <a:lnTo>
                      <a:pt x="696" y="601"/>
                    </a:lnTo>
                    <a:lnTo>
                      <a:pt x="692" y="596"/>
                    </a:lnTo>
                    <a:lnTo>
                      <a:pt x="683" y="587"/>
                    </a:lnTo>
                    <a:lnTo>
                      <a:pt x="678" y="583"/>
                    </a:lnTo>
                    <a:lnTo>
                      <a:pt x="674" y="578"/>
                    </a:lnTo>
                    <a:lnTo>
                      <a:pt x="665" y="578"/>
                    </a:lnTo>
                    <a:lnTo>
                      <a:pt x="656" y="574"/>
                    </a:lnTo>
                    <a:lnTo>
                      <a:pt x="647" y="574"/>
                    </a:lnTo>
                    <a:lnTo>
                      <a:pt x="639" y="570"/>
                    </a:lnTo>
                    <a:lnTo>
                      <a:pt x="630" y="570"/>
                    </a:lnTo>
                    <a:lnTo>
                      <a:pt x="621" y="570"/>
                    </a:lnTo>
                    <a:lnTo>
                      <a:pt x="617" y="570"/>
                    </a:lnTo>
                    <a:lnTo>
                      <a:pt x="608" y="570"/>
                    </a:lnTo>
                    <a:lnTo>
                      <a:pt x="337" y="552"/>
                    </a:lnTo>
                    <a:lnTo>
                      <a:pt x="412" y="331"/>
                    </a:lnTo>
                    <a:lnTo>
                      <a:pt x="465" y="411"/>
                    </a:lnTo>
                    <a:lnTo>
                      <a:pt x="794" y="411"/>
                    </a:lnTo>
                    <a:lnTo>
                      <a:pt x="803" y="406"/>
                    </a:lnTo>
                    <a:lnTo>
                      <a:pt x="812" y="406"/>
                    </a:lnTo>
                    <a:lnTo>
                      <a:pt x="816" y="402"/>
                    </a:lnTo>
                    <a:lnTo>
                      <a:pt x="821" y="402"/>
                    </a:lnTo>
                    <a:lnTo>
                      <a:pt x="830" y="398"/>
                    </a:lnTo>
                    <a:lnTo>
                      <a:pt x="838" y="393"/>
                    </a:lnTo>
                    <a:lnTo>
                      <a:pt x="843" y="384"/>
                    </a:lnTo>
                    <a:lnTo>
                      <a:pt x="847" y="380"/>
                    </a:lnTo>
                    <a:lnTo>
                      <a:pt x="852" y="371"/>
                    </a:lnTo>
                    <a:lnTo>
                      <a:pt x="852" y="367"/>
                    </a:lnTo>
                    <a:lnTo>
                      <a:pt x="856" y="358"/>
                    </a:lnTo>
                    <a:lnTo>
                      <a:pt x="856" y="345"/>
                    </a:lnTo>
                    <a:lnTo>
                      <a:pt x="856" y="336"/>
                    </a:lnTo>
                    <a:lnTo>
                      <a:pt x="852" y="327"/>
                    </a:lnTo>
                    <a:lnTo>
                      <a:pt x="847" y="318"/>
                    </a:lnTo>
                    <a:lnTo>
                      <a:pt x="843" y="309"/>
                    </a:lnTo>
                    <a:lnTo>
                      <a:pt x="838" y="305"/>
                    </a:lnTo>
                    <a:lnTo>
                      <a:pt x="834" y="300"/>
                    </a:lnTo>
                    <a:lnTo>
                      <a:pt x="825" y="291"/>
                    </a:lnTo>
                    <a:lnTo>
                      <a:pt x="816" y="286"/>
                    </a:lnTo>
                    <a:lnTo>
                      <a:pt x="816" y="282"/>
                    </a:lnTo>
                    <a:lnTo>
                      <a:pt x="803" y="282"/>
                    </a:lnTo>
                    <a:lnTo>
                      <a:pt x="794" y="282"/>
                    </a:lnTo>
                    <a:lnTo>
                      <a:pt x="541" y="282"/>
                    </a:lnTo>
                    <a:lnTo>
                      <a:pt x="487" y="194"/>
                    </a:lnTo>
                    <a:lnTo>
                      <a:pt x="496" y="185"/>
                    </a:lnTo>
                    <a:lnTo>
                      <a:pt x="501" y="172"/>
                    </a:lnTo>
                    <a:lnTo>
                      <a:pt x="501" y="163"/>
                    </a:lnTo>
                    <a:lnTo>
                      <a:pt x="505" y="150"/>
                    </a:lnTo>
                    <a:lnTo>
                      <a:pt x="505" y="132"/>
                    </a:lnTo>
                    <a:lnTo>
                      <a:pt x="505" y="123"/>
                    </a:lnTo>
                    <a:lnTo>
                      <a:pt x="505" y="105"/>
                    </a:lnTo>
                    <a:lnTo>
                      <a:pt x="501" y="97"/>
                    </a:lnTo>
                    <a:lnTo>
                      <a:pt x="496" y="83"/>
                    </a:lnTo>
                    <a:lnTo>
                      <a:pt x="492" y="75"/>
                    </a:lnTo>
                    <a:lnTo>
                      <a:pt x="487" y="66"/>
                    </a:lnTo>
                    <a:lnTo>
                      <a:pt x="483" y="57"/>
                    </a:lnTo>
                    <a:lnTo>
                      <a:pt x="474" y="44"/>
                    </a:lnTo>
                    <a:lnTo>
                      <a:pt x="465" y="39"/>
                    </a:lnTo>
                    <a:lnTo>
                      <a:pt x="457" y="30"/>
                    </a:lnTo>
                    <a:lnTo>
                      <a:pt x="448" y="22"/>
                    </a:lnTo>
                    <a:lnTo>
                      <a:pt x="434" y="13"/>
                    </a:lnTo>
                    <a:lnTo>
                      <a:pt x="426" y="13"/>
                    </a:lnTo>
                    <a:lnTo>
                      <a:pt x="412" y="4"/>
                    </a:lnTo>
                    <a:lnTo>
                      <a:pt x="399" y="4"/>
                    </a:lnTo>
                    <a:lnTo>
                      <a:pt x="386" y="0"/>
                    </a:lnTo>
                    <a:lnTo>
                      <a:pt x="373" y="0"/>
                    </a:lnTo>
                    <a:lnTo>
                      <a:pt x="359" y="0"/>
                    </a:lnTo>
                    <a:lnTo>
                      <a:pt x="346" y="0"/>
                    </a:lnTo>
                    <a:lnTo>
                      <a:pt x="333" y="4"/>
                    </a:lnTo>
                    <a:lnTo>
                      <a:pt x="319" y="8"/>
                    </a:lnTo>
                    <a:lnTo>
                      <a:pt x="305" y="13"/>
                    </a:lnTo>
                    <a:lnTo>
                      <a:pt x="292" y="17"/>
                    </a:lnTo>
                    <a:lnTo>
                      <a:pt x="279" y="26"/>
                    </a:lnTo>
                    <a:lnTo>
                      <a:pt x="270" y="39"/>
                    </a:lnTo>
                    <a:lnTo>
                      <a:pt x="261" y="48"/>
                    </a:lnTo>
                    <a:lnTo>
                      <a:pt x="252" y="57"/>
                    </a:lnTo>
                    <a:lnTo>
                      <a:pt x="243" y="75"/>
                    </a:lnTo>
                    <a:lnTo>
                      <a:pt x="235" y="83"/>
                    </a:lnTo>
                    <a:lnTo>
                      <a:pt x="235"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38" name="Group 127"/>
          <p:cNvGrpSpPr/>
          <p:nvPr/>
        </p:nvGrpSpPr>
        <p:grpSpPr>
          <a:xfrm>
            <a:off x="4438800" y="4776840"/>
            <a:ext cx="1532880" cy="709560"/>
            <a:chOff x="4438800" y="4776840"/>
            <a:chExt cx="1532880" cy="709560"/>
          </a:xfrm>
        </p:grpSpPr>
        <p:grpSp>
          <p:nvGrpSpPr>
            <p:cNvPr id="339" name="Group 128"/>
            <p:cNvGrpSpPr/>
            <p:nvPr/>
          </p:nvGrpSpPr>
          <p:grpSpPr>
            <a:xfrm>
              <a:off x="4438800" y="4776840"/>
              <a:ext cx="481320" cy="709560"/>
              <a:chOff x="4438800" y="4776840"/>
              <a:chExt cx="481320" cy="709560"/>
            </a:xfrm>
          </p:grpSpPr>
          <p:grpSp>
            <p:nvGrpSpPr>
              <p:cNvPr id="340" name="Group 129"/>
              <p:cNvGrpSpPr/>
              <p:nvPr/>
            </p:nvGrpSpPr>
            <p:grpSpPr>
              <a:xfrm>
                <a:off x="4438800" y="4776840"/>
                <a:ext cx="481320" cy="709560"/>
                <a:chOff x="4438800" y="4776840"/>
                <a:chExt cx="481320" cy="709560"/>
              </a:xfrm>
            </p:grpSpPr>
            <p:grpSp>
              <p:nvGrpSpPr>
                <p:cNvPr id="341" name="Group 130"/>
                <p:cNvGrpSpPr/>
                <p:nvPr/>
              </p:nvGrpSpPr>
              <p:grpSpPr>
                <a:xfrm>
                  <a:off x="4438800" y="4889520"/>
                  <a:ext cx="481320" cy="596880"/>
                  <a:chOff x="4438800" y="4889520"/>
                  <a:chExt cx="481320" cy="596880"/>
                </a:xfrm>
              </p:grpSpPr>
              <p:sp>
                <p:nvSpPr>
                  <p:cNvPr id="342" name="Freeform 131"/>
                  <p:cNvSpPr/>
                  <p:nvPr/>
                </p:nvSpPr>
                <p:spPr>
                  <a:xfrm>
                    <a:off x="4438800" y="4889520"/>
                    <a:ext cx="480240" cy="596880"/>
                  </a:xfrm>
                  <a:custGeom>
                    <a:avLst/>
                    <a:gdLst>
                      <a:gd name="textAreaLeft" fmla="*/ 0 w 480240"/>
                      <a:gd name="textAreaRight" fmla="*/ 480600 w 480240"/>
                      <a:gd name="textAreaTop" fmla="*/ 0 h 596880"/>
                      <a:gd name="textAreaBottom" fmla="*/ 597240 h 596880"/>
                    </a:gdLst>
                    <a:ahLst/>
                    <a:rect l="textAreaLeft" t="textAreaTop" r="textAreaRight" b="textAreaBottom"/>
                    <a:pathLst>
                      <a:path w="1346" h="1663">
                        <a:moveTo>
                          <a:pt x="0" y="1662"/>
                        </a:moveTo>
                        <a:lnTo>
                          <a:pt x="0" y="336"/>
                        </a:lnTo>
                        <a:lnTo>
                          <a:pt x="335" y="0"/>
                        </a:lnTo>
                        <a:lnTo>
                          <a:pt x="1345" y="0"/>
                        </a:lnTo>
                        <a:lnTo>
                          <a:pt x="1345" y="1326"/>
                        </a:lnTo>
                        <a:lnTo>
                          <a:pt x="1008" y="1662"/>
                        </a:lnTo>
                        <a:lnTo>
                          <a:pt x="0" y="1662"/>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Freeform 132"/>
                  <p:cNvSpPr/>
                  <p:nvPr/>
                </p:nvSpPr>
                <p:spPr>
                  <a:xfrm>
                    <a:off x="4438800" y="4889520"/>
                    <a:ext cx="480240" cy="120240"/>
                  </a:xfrm>
                  <a:custGeom>
                    <a:avLst/>
                    <a:gdLst>
                      <a:gd name="textAreaLeft" fmla="*/ 0 w 480240"/>
                      <a:gd name="textAreaRight" fmla="*/ 480600 w 480240"/>
                      <a:gd name="textAreaTop" fmla="*/ 0 h 120240"/>
                      <a:gd name="textAreaBottom" fmla="*/ 120600 h 120240"/>
                    </a:gdLst>
                    <a:ahLst/>
                    <a:rect l="textAreaLeft" t="textAreaTop" r="textAreaRight" b="textAreaBottom"/>
                    <a:pathLst>
                      <a:path w="1346" h="337">
                        <a:moveTo>
                          <a:pt x="0" y="336"/>
                        </a:moveTo>
                        <a:lnTo>
                          <a:pt x="335" y="0"/>
                        </a:lnTo>
                        <a:lnTo>
                          <a:pt x="1345" y="0"/>
                        </a:lnTo>
                        <a:lnTo>
                          <a:pt x="1008" y="336"/>
                        </a:lnTo>
                        <a:lnTo>
                          <a:pt x="0" y="33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Freeform 133"/>
                  <p:cNvSpPr/>
                  <p:nvPr/>
                </p:nvSpPr>
                <p:spPr>
                  <a:xfrm>
                    <a:off x="4799160" y="4889520"/>
                    <a:ext cx="120960" cy="596880"/>
                  </a:xfrm>
                  <a:custGeom>
                    <a:avLst/>
                    <a:gdLst>
                      <a:gd name="textAreaLeft" fmla="*/ 0 w 120960"/>
                      <a:gd name="textAreaRight" fmla="*/ 121320 w 120960"/>
                      <a:gd name="textAreaTop" fmla="*/ 0 h 596880"/>
                      <a:gd name="textAreaBottom" fmla="*/ 597240 h 596880"/>
                    </a:gdLst>
                    <a:ahLst/>
                    <a:rect l="textAreaLeft" t="textAreaTop" r="textAreaRight" b="textAreaBottom"/>
                    <a:pathLst>
                      <a:path w="338" h="1663">
                        <a:moveTo>
                          <a:pt x="0" y="1662"/>
                        </a:moveTo>
                        <a:lnTo>
                          <a:pt x="0" y="336"/>
                        </a:lnTo>
                        <a:lnTo>
                          <a:pt x="337" y="0"/>
                        </a:lnTo>
                        <a:lnTo>
                          <a:pt x="337" y="1326"/>
                        </a:lnTo>
                        <a:lnTo>
                          <a:pt x="0" y="1662"/>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45" name="Group 134"/>
                <p:cNvGrpSpPr/>
                <p:nvPr/>
              </p:nvGrpSpPr>
              <p:grpSpPr>
                <a:xfrm>
                  <a:off x="4549680" y="4776840"/>
                  <a:ext cx="370080" cy="122040"/>
                  <a:chOff x="4549680" y="4776840"/>
                  <a:chExt cx="370080" cy="122040"/>
                </a:xfrm>
              </p:grpSpPr>
              <p:sp>
                <p:nvSpPr>
                  <p:cNvPr id="346" name="Freeform 135"/>
                  <p:cNvSpPr/>
                  <p:nvPr/>
                </p:nvSpPr>
                <p:spPr>
                  <a:xfrm>
                    <a:off x="4549680" y="4776840"/>
                    <a:ext cx="369000" cy="122040"/>
                  </a:xfrm>
                  <a:custGeom>
                    <a:avLst/>
                    <a:gdLst>
                      <a:gd name="textAreaLeft" fmla="*/ 0 w 369000"/>
                      <a:gd name="textAreaRight" fmla="*/ 369360 w 369000"/>
                      <a:gd name="textAreaTop" fmla="*/ 0 h 122040"/>
                      <a:gd name="textAreaBottom" fmla="*/ 122400 h 122040"/>
                    </a:gdLst>
                    <a:ahLst/>
                    <a:rect l="textAreaLeft" t="textAreaTop" r="textAreaRight" b="textAreaBottom"/>
                    <a:pathLst>
                      <a:path w="1037" h="344">
                        <a:moveTo>
                          <a:pt x="0" y="343"/>
                        </a:moveTo>
                        <a:lnTo>
                          <a:pt x="0" y="84"/>
                        </a:lnTo>
                        <a:lnTo>
                          <a:pt x="84" y="0"/>
                        </a:lnTo>
                        <a:lnTo>
                          <a:pt x="1036" y="0"/>
                        </a:lnTo>
                        <a:lnTo>
                          <a:pt x="1036" y="257"/>
                        </a:lnTo>
                        <a:lnTo>
                          <a:pt x="950" y="343"/>
                        </a:lnTo>
                        <a:lnTo>
                          <a:pt x="0" y="343"/>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Freeform 136"/>
                  <p:cNvSpPr/>
                  <p:nvPr/>
                </p:nvSpPr>
                <p:spPr>
                  <a:xfrm>
                    <a:off x="4549680" y="4776840"/>
                    <a:ext cx="369000" cy="29520"/>
                  </a:xfrm>
                  <a:custGeom>
                    <a:avLst/>
                    <a:gdLst>
                      <a:gd name="textAreaLeft" fmla="*/ 0 w 369000"/>
                      <a:gd name="textAreaRight" fmla="*/ 369360 w 369000"/>
                      <a:gd name="textAreaTop" fmla="*/ 0 h 29520"/>
                      <a:gd name="textAreaBottom" fmla="*/ 29880 h 29520"/>
                    </a:gdLst>
                    <a:ahLst/>
                    <a:rect l="textAreaLeft" t="textAreaTop" r="textAreaRight" b="textAreaBottom"/>
                    <a:pathLst>
                      <a:path w="1037" h="85">
                        <a:moveTo>
                          <a:pt x="0" y="84"/>
                        </a:moveTo>
                        <a:lnTo>
                          <a:pt x="84" y="0"/>
                        </a:lnTo>
                        <a:lnTo>
                          <a:pt x="1036" y="0"/>
                        </a:lnTo>
                        <a:lnTo>
                          <a:pt x="950" y="84"/>
                        </a:lnTo>
                        <a:lnTo>
                          <a:pt x="0" y="84"/>
                        </a:lnTo>
                      </a:path>
                    </a:pathLst>
                  </a:custGeom>
                  <a:solidFill>
                    <a:srgbClr val="ffd072"/>
                  </a:solidFill>
                  <a:ln w="12600">
                    <a:solidFill>
                      <a:srgbClr val="000000"/>
                    </a:solidFill>
                    <a:round/>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48" name="Freeform 137"/>
                  <p:cNvSpPr/>
                  <p:nvPr/>
                </p:nvSpPr>
                <p:spPr>
                  <a:xfrm>
                    <a:off x="4888440" y="4776840"/>
                    <a:ext cx="31320" cy="122040"/>
                  </a:xfrm>
                  <a:custGeom>
                    <a:avLst/>
                    <a:gdLst>
                      <a:gd name="textAreaLeft" fmla="*/ 0 w 31320"/>
                      <a:gd name="textAreaRight" fmla="*/ 31680 w 31320"/>
                      <a:gd name="textAreaTop" fmla="*/ 0 h 122040"/>
                      <a:gd name="textAreaBottom" fmla="*/ 122400 h 122040"/>
                    </a:gdLst>
                    <a:ahLst/>
                    <a:rect l="textAreaLeft" t="textAreaTop" r="textAreaRight" b="textAreaBottom"/>
                    <a:pathLst>
                      <a:path w="87" h="344">
                        <a:moveTo>
                          <a:pt x="0" y="343"/>
                        </a:moveTo>
                        <a:lnTo>
                          <a:pt x="0" y="84"/>
                        </a:lnTo>
                        <a:lnTo>
                          <a:pt x="86" y="0"/>
                        </a:lnTo>
                        <a:lnTo>
                          <a:pt x="86" y="257"/>
                        </a:lnTo>
                        <a:lnTo>
                          <a:pt x="0" y="343"/>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49" name="Freeform 138"/>
              <p:cNvSpPr/>
              <p:nvPr/>
            </p:nvSpPr>
            <p:spPr>
              <a:xfrm>
                <a:off x="4536720" y="4942080"/>
                <a:ext cx="250200" cy="42840"/>
              </a:xfrm>
              <a:custGeom>
                <a:avLst/>
                <a:gdLst>
                  <a:gd name="textAreaLeft" fmla="*/ 0 w 250200"/>
                  <a:gd name="textAreaRight" fmla="*/ 250560 w 250200"/>
                  <a:gd name="textAreaTop" fmla="*/ 0 h 42840"/>
                  <a:gd name="textAreaBottom" fmla="*/ 43200 h 42840"/>
                </a:gdLst>
                <a:ahLst/>
                <a:rect l="textAreaLeft" t="textAreaTop" r="textAreaRight" b="textAreaBottom"/>
                <a:pathLst>
                  <a:path w="697" h="120">
                    <a:moveTo>
                      <a:pt x="174" y="0"/>
                    </a:moveTo>
                    <a:lnTo>
                      <a:pt x="696" y="0"/>
                    </a:lnTo>
                    <a:lnTo>
                      <a:pt x="522" y="119"/>
                    </a:lnTo>
                    <a:lnTo>
                      <a:pt x="0" y="119"/>
                    </a:lnTo>
                    <a:lnTo>
                      <a:pt x="174" y="0"/>
                    </a:lnTo>
                  </a:path>
                </a:pathLst>
              </a:custGeom>
              <a:solidFill>
                <a:srgbClr val="f6bf69"/>
              </a:solidFill>
              <a:ln w="25560">
                <a:solidFill>
                  <a:srgbClr val="000000"/>
                </a:solidFill>
                <a:round/>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350" name="Group 139"/>
            <p:cNvGrpSpPr/>
            <p:nvPr/>
          </p:nvGrpSpPr>
          <p:grpSpPr>
            <a:xfrm>
              <a:off x="4915800" y="4776840"/>
              <a:ext cx="597600" cy="709560"/>
              <a:chOff x="4915800" y="4776840"/>
              <a:chExt cx="597600" cy="709560"/>
            </a:xfrm>
          </p:grpSpPr>
          <p:grpSp>
            <p:nvGrpSpPr>
              <p:cNvPr id="351" name="Group 140"/>
              <p:cNvGrpSpPr/>
              <p:nvPr/>
            </p:nvGrpSpPr>
            <p:grpSpPr>
              <a:xfrm>
                <a:off x="4915800" y="4776840"/>
                <a:ext cx="597600" cy="709560"/>
                <a:chOff x="4915800" y="4776840"/>
                <a:chExt cx="597600" cy="709560"/>
              </a:xfrm>
            </p:grpSpPr>
            <p:grpSp>
              <p:nvGrpSpPr>
                <p:cNvPr id="352" name="Group 141"/>
                <p:cNvGrpSpPr/>
                <p:nvPr/>
              </p:nvGrpSpPr>
              <p:grpSpPr>
                <a:xfrm>
                  <a:off x="4915800" y="4889520"/>
                  <a:ext cx="597600" cy="596880"/>
                  <a:chOff x="4915800" y="4889520"/>
                  <a:chExt cx="597600" cy="596880"/>
                </a:xfrm>
              </p:grpSpPr>
              <p:sp>
                <p:nvSpPr>
                  <p:cNvPr id="353" name="Freeform 142"/>
                  <p:cNvSpPr/>
                  <p:nvPr/>
                </p:nvSpPr>
                <p:spPr>
                  <a:xfrm>
                    <a:off x="4915800" y="4889520"/>
                    <a:ext cx="596520" cy="596880"/>
                  </a:xfrm>
                  <a:custGeom>
                    <a:avLst/>
                    <a:gdLst>
                      <a:gd name="textAreaLeft" fmla="*/ 0 w 596520"/>
                      <a:gd name="textAreaRight" fmla="*/ 596880 w 596520"/>
                      <a:gd name="textAreaTop" fmla="*/ 0 h 596880"/>
                      <a:gd name="textAreaBottom" fmla="*/ 597240 h 596880"/>
                    </a:gdLst>
                    <a:ahLst/>
                    <a:rect l="textAreaLeft" t="textAreaTop" r="textAreaRight" b="textAreaBottom"/>
                    <a:pathLst>
                      <a:path w="1668" h="1663">
                        <a:moveTo>
                          <a:pt x="0" y="1662"/>
                        </a:moveTo>
                        <a:lnTo>
                          <a:pt x="0" y="415"/>
                        </a:lnTo>
                        <a:lnTo>
                          <a:pt x="414" y="0"/>
                        </a:lnTo>
                        <a:lnTo>
                          <a:pt x="1667" y="0"/>
                        </a:lnTo>
                        <a:lnTo>
                          <a:pt x="1667" y="1247"/>
                        </a:lnTo>
                        <a:lnTo>
                          <a:pt x="1251" y="1662"/>
                        </a:lnTo>
                        <a:lnTo>
                          <a:pt x="0" y="1662"/>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4" name="Freeform 143"/>
                  <p:cNvSpPr/>
                  <p:nvPr/>
                </p:nvSpPr>
                <p:spPr>
                  <a:xfrm>
                    <a:off x="4915800" y="4889520"/>
                    <a:ext cx="596520" cy="149040"/>
                  </a:xfrm>
                  <a:custGeom>
                    <a:avLst/>
                    <a:gdLst>
                      <a:gd name="textAreaLeft" fmla="*/ 0 w 596520"/>
                      <a:gd name="textAreaRight" fmla="*/ 596880 w 596520"/>
                      <a:gd name="textAreaTop" fmla="*/ 0 h 149040"/>
                      <a:gd name="textAreaBottom" fmla="*/ 149400 h 149040"/>
                    </a:gdLst>
                    <a:ahLst/>
                    <a:rect l="textAreaLeft" t="textAreaTop" r="textAreaRight" b="textAreaBottom"/>
                    <a:pathLst>
                      <a:path w="1668" h="416">
                        <a:moveTo>
                          <a:pt x="0" y="415"/>
                        </a:moveTo>
                        <a:lnTo>
                          <a:pt x="414" y="0"/>
                        </a:lnTo>
                        <a:lnTo>
                          <a:pt x="1667" y="0"/>
                        </a:lnTo>
                        <a:lnTo>
                          <a:pt x="1251" y="415"/>
                        </a:lnTo>
                        <a:lnTo>
                          <a:pt x="0" y="415"/>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Freeform 144"/>
                  <p:cNvSpPr/>
                  <p:nvPr/>
                </p:nvSpPr>
                <p:spPr>
                  <a:xfrm>
                    <a:off x="5364000" y="4889520"/>
                    <a:ext cx="149400" cy="596880"/>
                  </a:xfrm>
                  <a:custGeom>
                    <a:avLst/>
                    <a:gdLst>
                      <a:gd name="textAreaLeft" fmla="*/ 0 w 149400"/>
                      <a:gd name="textAreaRight" fmla="*/ 149760 w 149400"/>
                      <a:gd name="textAreaTop" fmla="*/ 0 h 596880"/>
                      <a:gd name="textAreaBottom" fmla="*/ 597240 h 596880"/>
                    </a:gdLst>
                    <a:ahLst/>
                    <a:rect l="textAreaLeft" t="textAreaTop" r="textAreaRight" b="textAreaBottom"/>
                    <a:pathLst>
                      <a:path w="417" h="1663">
                        <a:moveTo>
                          <a:pt x="0" y="1662"/>
                        </a:moveTo>
                        <a:lnTo>
                          <a:pt x="0" y="415"/>
                        </a:lnTo>
                        <a:lnTo>
                          <a:pt x="416" y="0"/>
                        </a:lnTo>
                        <a:lnTo>
                          <a:pt x="416" y="1247"/>
                        </a:lnTo>
                        <a:lnTo>
                          <a:pt x="0" y="1662"/>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6" name="Group 145"/>
                <p:cNvGrpSpPr/>
                <p:nvPr/>
              </p:nvGrpSpPr>
              <p:grpSpPr>
                <a:xfrm>
                  <a:off x="5051880" y="4776840"/>
                  <a:ext cx="461520" cy="122040"/>
                  <a:chOff x="5051880" y="4776840"/>
                  <a:chExt cx="461520" cy="122040"/>
                </a:xfrm>
              </p:grpSpPr>
              <p:sp>
                <p:nvSpPr>
                  <p:cNvPr id="357" name="Freeform 146"/>
                  <p:cNvSpPr/>
                  <p:nvPr/>
                </p:nvSpPr>
                <p:spPr>
                  <a:xfrm>
                    <a:off x="5051880" y="4776840"/>
                    <a:ext cx="461520" cy="122040"/>
                  </a:xfrm>
                  <a:custGeom>
                    <a:avLst/>
                    <a:gdLst>
                      <a:gd name="textAreaLeft" fmla="*/ 0 w 461520"/>
                      <a:gd name="textAreaRight" fmla="*/ 461880 w 461520"/>
                      <a:gd name="textAreaTop" fmla="*/ 0 h 122040"/>
                      <a:gd name="textAreaBottom" fmla="*/ 122400 h 122040"/>
                    </a:gdLst>
                    <a:ahLst/>
                    <a:rect l="textAreaLeft" t="textAreaTop" r="textAreaRight" b="textAreaBottom"/>
                    <a:pathLst>
                      <a:path w="1288" h="344">
                        <a:moveTo>
                          <a:pt x="0" y="343"/>
                        </a:moveTo>
                        <a:lnTo>
                          <a:pt x="0" y="84"/>
                        </a:lnTo>
                        <a:lnTo>
                          <a:pt x="84" y="0"/>
                        </a:lnTo>
                        <a:lnTo>
                          <a:pt x="1287" y="0"/>
                        </a:lnTo>
                        <a:lnTo>
                          <a:pt x="1287" y="257"/>
                        </a:lnTo>
                        <a:lnTo>
                          <a:pt x="1201" y="343"/>
                        </a:lnTo>
                        <a:lnTo>
                          <a:pt x="0" y="343"/>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Freeform 147"/>
                  <p:cNvSpPr/>
                  <p:nvPr/>
                </p:nvSpPr>
                <p:spPr>
                  <a:xfrm>
                    <a:off x="5051880" y="4776840"/>
                    <a:ext cx="461520" cy="29520"/>
                  </a:xfrm>
                  <a:custGeom>
                    <a:avLst/>
                    <a:gdLst>
                      <a:gd name="textAreaLeft" fmla="*/ 0 w 461520"/>
                      <a:gd name="textAreaRight" fmla="*/ 461880 w 461520"/>
                      <a:gd name="textAreaTop" fmla="*/ 0 h 29520"/>
                      <a:gd name="textAreaBottom" fmla="*/ 29880 h 29520"/>
                    </a:gdLst>
                    <a:ahLst/>
                    <a:rect l="textAreaLeft" t="textAreaTop" r="textAreaRight" b="textAreaBottom"/>
                    <a:pathLst>
                      <a:path w="1288" h="85">
                        <a:moveTo>
                          <a:pt x="0" y="84"/>
                        </a:moveTo>
                        <a:lnTo>
                          <a:pt x="84" y="0"/>
                        </a:lnTo>
                        <a:lnTo>
                          <a:pt x="1287" y="0"/>
                        </a:lnTo>
                        <a:lnTo>
                          <a:pt x="1201" y="84"/>
                        </a:lnTo>
                        <a:lnTo>
                          <a:pt x="0" y="84"/>
                        </a:lnTo>
                      </a:path>
                    </a:pathLst>
                  </a:custGeom>
                  <a:solidFill>
                    <a:srgbClr val="b1d3ff"/>
                  </a:solidFill>
                  <a:ln w="12600">
                    <a:solidFill>
                      <a:srgbClr val="000000"/>
                    </a:solidFill>
                    <a:round/>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59" name="Freeform 148"/>
                  <p:cNvSpPr/>
                  <p:nvPr/>
                </p:nvSpPr>
                <p:spPr>
                  <a:xfrm>
                    <a:off x="5481720" y="4776840"/>
                    <a:ext cx="31320" cy="122040"/>
                  </a:xfrm>
                  <a:custGeom>
                    <a:avLst/>
                    <a:gdLst>
                      <a:gd name="textAreaLeft" fmla="*/ 0 w 31320"/>
                      <a:gd name="textAreaRight" fmla="*/ 31680 w 31320"/>
                      <a:gd name="textAreaTop" fmla="*/ 0 h 122040"/>
                      <a:gd name="textAreaBottom" fmla="*/ 122400 h 122040"/>
                    </a:gdLst>
                    <a:ahLst/>
                    <a:rect l="textAreaLeft" t="textAreaTop" r="textAreaRight" b="textAreaBottom"/>
                    <a:pathLst>
                      <a:path w="87" h="344">
                        <a:moveTo>
                          <a:pt x="0" y="343"/>
                        </a:moveTo>
                        <a:lnTo>
                          <a:pt x="0" y="84"/>
                        </a:lnTo>
                        <a:lnTo>
                          <a:pt x="86" y="0"/>
                        </a:lnTo>
                        <a:lnTo>
                          <a:pt x="86" y="257"/>
                        </a:lnTo>
                        <a:lnTo>
                          <a:pt x="0" y="343"/>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60" name="Oval 149"/>
              <p:cNvSpPr/>
              <p:nvPr/>
            </p:nvSpPr>
            <p:spPr>
              <a:xfrm>
                <a:off x="5097960" y="4834080"/>
                <a:ext cx="77400" cy="4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50"/>
              <p:cNvSpPr/>
              <p:nvPr/>
            </p:nvSpPr>
            <p:spPr>
              <a:xfrm>
                <a:off x="4989960" y="5167440"/>
                <a:ext cx="313920" cy="133200"/>
              </a:xfrm>
              <a:custGeom>
                <a:avLst/>
                <a:gdLst>
                  <a:gd name="textAreaLeft" fmla="*/ 0 w 313920"/>
                  <a:gd name="textAreaRight" fmla="*/ 314280 w 313920"/>
                  <a:gd name="textAreaTop" fmla="*/ 0 h 133200"/>
                  <a:gd name="textAreaBottom" fmla="*/ 133560 h 133200"/>
                </a:gdLst>
                <a:ahLst/>
                <a:rect l="textAreaLeft" t="textAreaTop" r="textAreaRight" b="textAreaBottom"/>
                <a:pathLst>
                  <a:path w="874" h="372">
                    <a:moveTo>
                      <a:pt x="107" y="0"/>
                    </a:moveTo>
                    <a:lnTo>
                      <a:pt x="764" y="0"/>
                    </a:lnTo>
                    <a:lnTo>
                      <a:pt x="873" y="107"/>
                    </a:lnTo>
                    <a:lnTo>
                      <a:pt x="873" y="262"/>
                    </a:lnTo>
                    <a:lnTo>
                      <a:pt x="764" y="371"/>
                    </a:lnTo>
                    <a:lnTo>
                      <a:pt x="107" y="371"/>
                    </a:lnTo>
                    <a:lnTo>
                      <a:pt x="0" y="262"/>
                    </a:lnTo>
                    <a:lnTo>
                      <a:pt x="0" y="107"/>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62" name="Freeform 151"/>
            <p:cNvSpPr/>
            <p:nvPr/>
          </p:nvSpPr>
          <p:spPr>
            <a:xfrm>
              <a:off x="5810040" y="5140440"/>
              <a:ext cx="134640" cy="303120"/>
            </a:xfrm>
            <a:custGeom>
              <a:avLst/>
              <a:gdLst>
                <a:gd name="textAreaLeft" fmla="*/ 0 w 134640"/>
                <a:gd name="textAreaRight" fmla="*/ 135000 w 134640"/>
                <a:gd name="textAreaTop" fmla="*/ 0 h 303120"/>
                <a:gd name="textAreaBottom" fmla="*/ 303480 h 303120"/>
              </a:gdLst>
              <a:ahLst/>
              <a:rect l="textAreaLeft" t="textAreaTop" r="textAreaRight" b="textAreaBottom"/>
              <a:pathLst>
                <a:path w="376" h="844">
                  <a:moveTo>
                    <a:pt x="273" y="0"/>
                  </a:moveTo>
                  <a:lnTo>
                    <a:pt x="375" y="0"/>
                  </a:lnTo>
                  <a:lnTo>
                    <a:pt x="101" y="843"/>
                  </a:lnTo>
                  <a:lnTo>
                    <a:pt x="0" y="843"/>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AutoShape 152"/>
            <p:cNvSpPr/>
            <p:nvPr/>
          </p:nvSpPr>
          <p:spPr>
            <a:xfrm>
              <a:off x="5803920" y="5140440"/>
              <a:ext cx="16776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AutoShape 153"/>
            <p:cNvSpPr/>
            <p:nvPr/>
          </p:nvSpPr>
          <p:spPr>
            <a:xfrm>
              <a:off x="5814720" y="5268960"/>
              <a:ext cx="12996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AutoShape 154"/>
            <p:cNvSpPr/>
            <p:nvPr/>
          </p:nvSpPr>
          <p:spPr>
            <a:xfrm>
              <a:off x="5524920" y="5268960"/>
              <a:ext cx="163080" cy="17280"/>
            </a:xfrm>
            <a:prstGeom prst="roundRect">
              <a:avLst>
                <a:gd name="adj" fmla="val 10000"/>
              </a:avLst>
            </a:prstGeom>
            <a:solidFill>
              <a:srgbClr val="fc0128"/>
            </a:solidFill>
            <a:ln w="0">
              <a:noFill/>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6" name="Group 155"/>
            <p:cNvGrpSpPr/>
            <p:nvPr/>
          </p:nvGrpSpPr>
          <p:grpSpPr>
            <a:xfrm>
              <a:off x="5521680" y="4867200"/>
              <a:ext cx="306000" cy="576000"/>
              <a:chOff x="5521680" y="4867200"/>
              <a:chExt cx="306000" cy="576000"/>
            </a:xfrm>
          </p:grpSpPr>
          <p:sp>
            <p:nvSpPr>
              <p:cNvPr id="367" name="Oval 156"/>
              <p:cNvSpPr/>
              <p:nvPr/>
            </p:nvSpPr>
            <p:spPr>
              <a:xfrm>
                <a:off x="5641560" y="4867200"/>
                <a:ext cx="77040" cy="774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157"/>
              <p:cNvSpPr/>
              <p:nvPr/>
            </p:nvSpPr>
            <p:spPr>
              <a:xfrm>
                <a:off x="5521680" y="4974840"/>
                <a:ext cx="306000" cy="468360"/>
              </a:xfrm>
              <a:custGeom>
                <a:avLst/>
                <a:gdLst>
                  <a:gd name="textAreaLeft" fmla="*/ 0 w 306000"/>
                  <a:gd name="textAreaRight" fmla="*/ 306360 w 306000"/>
                  <a:gd name="textAreaTop" fmla="*/ 0 h 468360"/>
                  <a:gd name="textAreaBottom" fmla="*/ 468720 h 468360"/>
                </a:gdLst>
                <a:ahLst/>
                <a:rect l="textAreaLeft" t="textAreaTop" r="textAreaRight" b="textAreaBottom"/>
                <a:pathLst>
                  <a:path w="856" h="1305">
                    <a:moveTo>
                      <a:pt x="234" y="101"/>
                    </a:moveTo>
                    <a:lnTo>
                      <a:pt x="8" y="605"/>
                    </a:lnTo>
                    <a:lnTo>
                      <a:pt x="4" y="609"/>
                    </a:lnTo>
                    <a:lnTo>
                      <a:pt x="4" y="618"/>
                    </a:lnTo>
                    <a:lnTo>
                      <a:pt x="0" y="627"/>
                    </a:lnTo>
                    <a:lnTo>
                      <a:pt x="0" y="640"/>
                    </a:lnTo>
                    <a:lnTo>
                      <a:pt x="0" y="649"/>
                    </a:lnTo>
                    <a:lnTo>
                      <a:pt x="0" y="662"/>
                    </a:lnTo>
                    <a:lnTo>
                      <a:pt x="4" y="671"/>
                    </a:lnTo>
                    <a:lnTo>
                      <a:pt x="8" y="684"/>
                    </a:lnTo>
                    <a:lnTo>
                      <a:pt x="13" y="693"/>
                    </a:lnTo>
                    <a:lnTo>
                      <a:pt x="17" y="703"/>
                    </a:lnTo>
                    <a:lnTo>
                      <a:pt x="26" y="712"/>
                    </a:lnTo>
                    <a:lnTo>
                      <a:pt x="35" y="721"/>
                    </a:lnTo>
                    <a:lnTo>
                      <a:pt x="44" y="725"/>
                    </a:lnTo>
                    <a:lnTo>
                      <a:pt x="52" y="730"/>
                    </a:lnTo>
                    <a:lnTo>
                      <a:pt x="61" y="730"/>
                    </a:lnTo>
                    <a:lnTo>
                      <a:pt x="70" y="734"/>
                    </a:lnTo>
                    <a:lnTo>
                      <a:pt x="79" y="734"/>
                    </a:lnTo>
                    <a:lnTo>
                      <a:pt x="92" y="734"/>
                    </a:lnTo>
                    <a:lnTo>
                      <a:pt x="558" y="734"/>
                    </a:lnTo>
                    <a:lnTo>
                      <a:pt x="558" y="1304"/>
                    </a:lnTo>
                    <a:lnTo>
                      <a:pt x="704" y="1304"/>
                    </a:lnTo>
                    <a:lnTo>
                      <a:pt x="704" y="627"/>
                    </a:lnTo>
                    <a:lnTo>
                      <a:pt x="704" y="618"/>
                    </a:lnTo>
                    <a:lnTo>
                      <a:pt x="704" y="609"/>
                    </a:lnTo>
                    <a:lnTo>
                      <a:pt x="700" y="605"/>
                    </a:lnTo>
                    <a:lnTo>
                      <a:pt x="695" y="601"/>
                    </a:lnTo>
                    <a:lnTo>
                      <a:pt x="691" y="596"/>
                    </a:lnTo>
                    <a:lnTo>
                      <a:pt x="682" y="587"/>
                    </a:lnTo>
                    <a:lnTo>
                      <a:pt x="678" y="583"/>
                    </a:lnTo>
                    <a:lnTo>
                      <a:pt x="673" y="578"/>
                    </a:lnTo>
                    <a:lnTo>
                      <a:pt x="664" y="578"/>
                    </a:lnTo>
                    <a:lnTo>
                      <a:pt x="656" y="574"/>
                    </a:lnTo>
                    <a:lnTo>
                      <a:pt x="647" y="574"/>
                    </a:lnTo>
                    <a:lnTo>
                      <a:pt x="638" y="570"/>
                    </a:lnTo>
                    <a:lnTo>
                      <a:pt x="629" y="570"/>
                    </a:lnTo>
                    <a:lnTo>
                      <a:pt x="620" y="570"/>
                    </a:lnTo>
                    <a:lnTo>
                      <a:pt x="616" y="570"/>
                    </a:lnTo>
                    <a:lnTo>
                      <a:pt x="607" y="570"/>
                    </a:lnTo>
                    <a:lnTo>
                      <a:pt x="337" y="552"/>
                    </a:lnTo>
                    <a:lnTo>
                      <a:pt x="412" y="331"/>
                    </a:lnTo>
                    <a:lnTo>
                      <a:pt x="465" y="411"/>
                    </a:lnTo>
                    <a:lnTo>
                      <a:pt x="793" y="411"/>
                    </a:lnTo>
                    <a:lnTo>
                      <a:pt x="802" y="406"/>
                    </a:lnTo>
                    <a:lnTo>
                      <a:pt x="811" y="406"/>
                    </a:lnTo>
                    <a:lnTo>
                      <a:pt x="815" y="402"/>
                    </a:lnTo>
                    <a:lnTo>
                      <a:pt x="820" y="402"/>
                    </a:lnTo>
                    <a:lnTo>
                      <a:pt x="829" y="398"/>
                    </a:lnTo>
                    <a:lnTo>
                      <a:pt x="837" y="393"/>
                    </a:lnTo>
                    <a:lnTo>
                      <a:pt x="842" y="384"/>
                    </a:lnTo>
                    <a:lnTo>
                      <a:pt x="846" y="380"/>
                    </a:lnTo>
                    <a:lnTo>
                      <a:pt x="851" y="371"/>
                    </a:lnTo>
                    <a:lnTo>
                      <a:pt x="851" y="367"/>
                    </a:lnTo>
                    <a:lnTo>
                      <a:pt x="855" y="358"/>
                    </a:lnTo>
                    <a:lnTo>
                      <a:pt x="855" y="345"/>
                    </a:lnTo>
                    <a:lnTo>
                      <a:pt x="855" y="336"/>
                    </a:lnTo>
                    <a:lnTo>
                      <a:pt x="851" y="327"/>
                    </a:lnTo>
                    <a:lnTo>
                      <a:pt x="846" y="318"/>
                    </a:lnTo>
                    <a:lnTo>
                      <a:pt x="842" y="309"/>
                    </a:lnTo>
                    <a:lnTo>
                      <a:pt x="837" y="305"/>
                    </a:lnTo>
                    <a:lnTo>
                      <a:pt x="833" y="300"/>
                    </a:lnTo>
                    <a:lnTo>
                      <a:pt x="824" y="291"/>
                    </a:lnTo>
                    <a:lnTo>
                      <a:pt x="815" y="286"/>
                    </a:lnTo>
                    <a:lnTo>
                      <a:pt x="815" y="282"/>
                    </a:lnTo>
                    <a:lnTo>
                      <a:pt x="802" y="282"/>
                    </a:lnTo>
                    <a:lnTo>
                      <a:pt x="793" y="282"/>
                    </a:lnTo>
                    <a:lnTo>
                      <a:pt x="541" y="282"/>
                    </a:lnTo>
                    <a:lnTo>
                      <a:pt x="487" y="194"/>
                    </a:lnTo>
                    <a:lnTo>
                      <a:pt x="496" y="185"/>
                    </a:lnTo>
                    <a:lnTo>
                      <a:pt x="500" y="172"/>
                    </a:lnTo>
                    <a:lnTo>
                      <a:pt x="500" y="163"/>
                    </a:lnTo>
                    <a:lnTo>
                      <a:pt x="505" y="150"/>
                    </a:lnTo>
                    <a:lnTo>
                      <a:pt x="505" y="132"/>
                    </a:lnTo>
                    <a:lnTo>
                      <a:pt x="505" y="123"/>
                    </a:lnTo>
                    <a:lnTo>
                      <a:pt x="505" y="105"/>
                    </a:lnTo>
                    <a:lnTo>
                      <a:pt x="500" y="97"/>
                    </a:lnTo>
                    <a:lnTo>
                      <a:pt x="496" y="83"/>
                    </a:lnTo>
                    <a:lnTo>
                      <a:pt x="491" y="75"/>
                    </a:lnTo>
                    <a:lnTo>
                      <a:pt x="487" y="66"/>
                    </a:lnTo>
                    <a:lnTo>
                      <a:pt x="482" y="57"/>
                    </a:lnTo>
                    <a:lnTo>
                      <a:pt x="474" y="44"/>
                    </a:lnTo>
                    <a:lnTo>
                      <a:pt x="465" y="39"/>
                    </a:lnTo>
                    <a:lnTo>
                      <a:pt x="456" y="30"/>
                    </a:lnTo>
                    <a:lnTo>
                      <a:pt x="447" y="22"/>
                    </a:lnTo>
                    <a:lnTo>
                      <a:pt x="434" y="13"/>
                    </a:lnTo>
                    <a:lnTo>
                      <a:pt x="425" y="13"/>
                    </a:lnTo>
                    <a:lnTo>
                      <a:pt x="412" y="4"/>
                    </a:lnTo>
                    <a:lnTo>
                      <a:pt x="399" y="4"/>
                    </a:lnTo>
                    <a:lnTo>
                      <a:pt x="385" y="0"/>
                    </a:lnTo>
                    <a:lnTo>
                      <a:pt x="372" y="0"/>
                    </a:lnTo>
                    <a:lnTo>
                      <a:pt x="359" y="0"/>
                    </a:lnTo>
                    <a:lnTo>
                      <a:pt x="346" y="0"/>
                    </a:lnTo>
                    <a:lnTo>
                      <a:pt x="332" y="4"/>
                    </a:lnTo>
                    <a:lnTo>
                      <a:pt x="318" y="8"/>
                    </a:lnTo>
                    <a:lnTo>
                      <a:pt x="305" y="13"/>
                    </a:lnTo>
                    <a:lnTo>
                      <a:pt x="292" y="17"/>
                    </a:lnTo>
                    <a:lnTo>
                      <a:pt x="278" y="26"/>
                    </a:lnTo>
                    <a:lnTo>
                      <a:pt x="270" y="39"/>
                    </a:lnTo>
                    <a:lnTo>
                      <a:pt x="261" y="48"/>
                    </a:lnTo>
                    <a:lnTo>
                      <a:pt x="252" y="57"/>
                    </a:lnTo>
                    <a:lnTo>
                      <a:pt x="243" y="75"/>
                    </a:lnTo>
                    <a:lnTo>
                      <a:pt x="234" y="83"/>
                    </a:lnTo>
                    <a:lnTo>
                      <a:pt x="234"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369" name="Group 158"/>
          <p:cNvGrpSpPr/>
          <p:nvPr/>
        </p:nvGrpSpPr>
        <p:grpSpPr>
          <a:xfrm>
            <a:off x="6089760" y="5564160"/>
            <a:ext cx="1532880" cy="709560"/>
            <a:chOff x="6089760" y="5564160"/>
            <a:chExt cx="1532880" cy="709560"/>
          </a:xfrm>
        </p:grpSpPr>
        <p:grpSp>
          <p:nvGrpSpPr>
            <p:cNvPr id="370" name="Group 159"/>
            <p:cNvGrpSpPr/>
            <p:nvPr/>
          </p:nvGrpSpPr>
          <p:grpSpPr>
            <a:xfrm>
              <a:off x="6089760" y="5564160"/>
              <a:ext cx="481680" cy="709560"/>
              <a:chOff x="6089760" y="5564160"/>
              <a:chExt cx="481680" cy="709560"/>
            </a:xfrm>
          </p:grpSpPr>
          <p:grpSp>
            <p:nvGrpSpPr>
              <p:cNvPr id="371" name="Group 160"/>
              <p:cNvGrpSpPr/>
              <p:nvPr/>
            </p:nvGrpSpPr>
            <p:grpSpPr>
              <a:xfrm>
                <a:off x="6089760" y="5564160"/>
                <a:ext cx="481680" cy="709560"/>
                <a:chOff x="6089760" y="5564160"/>
                <a:chExt cx="481680" cy="709560"/>
              </a:xfrm>
            </p:grpSpPr>
            <p:grpSp>
              <p:nvGrpSpPr>
                <p:cNvPr id="372" name="Group 161"/>
                <p:cNvGrpSpPr/>
                <p:nvPr/>
              </p:nvGrpSpPr>
              <p:grpSpPr>
                <a:xfrm>
                  <a:off x="6089760" y="5676840"/>
                  <a:ext cx="481680" cy="596880"/>
                  <a:chOff x="6089760" y="5676840"/>
                  <a:chExt cx="481680" cy="596880"/>
                </a:xfrm>
              </p:grpSpPr>
              <p:sp>
                <p:nvSpPr>
                  <p:cNvPr id="373" name="Freeform 162"/>
                  <p:cNvSpPr/>
                  <p:nvPr/>
                </p:nvSpPr>
                <p:spPr>
                  <a:xfrm>
                    <a:off x="6089760" y="5676840"/>
                    <a:ext cx="480600" cy="596880"/>
                  </a:xfrm>
                  <a:custGeom>
                    <a:avLst/>
                    <a:gdLst>
                      <a:gd name="textAreaLeft" fmla="*/ 0 w 480600"/>
                      <a:gd name="textAreaRight" fmla="*/ 480960 w 480600"/>
                      <a:gd name="textAreaTop" fmla="*/ 0 h 596880"/>
                      <a:gd name="textAreaBottom" fmla="*/ 597240 h 596880"/>
                    </a:gdLst>
                    <a:ahLst/>
                    <a:rect l="textAreaLeft" t="textAreaTop" r="textAreaRight" b="textAreaBottom"/>
                    <a:pathLst>
                      <a:path w="1346" h="1664">
                        <a:moveTo>
                          <a:pt x="0" y="1663"/>
                        </a:moveTo>
                        <a:lnTo>
                          <a:pt x="0" y="336"/>
                        </a:lnTo>
                        <a:lnTo>
                          <a:pt x="335" y="0"/>
                        </a:lnTo>
                        <a:lnTo>
                          <a:pt x="1345" y="0"/>
                        </a:lnTo>
                        <a:lnTo>
                          <a:pt x="1345" y="1327"/>
                        </a:lnTo>
                        <a:lnTo>
                          <a:pt x="1008" y="1663"/>
                        </a:lnTo>
                        <a:lnTo>
                          <a:pt x="0" y="1663"/>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Freeform 163"/>
                  <p:cNvSpPr/>
                  <p:nvPr/>
                </p:nvSpPr>
                <p:spPr>
                  <a:xfrm>
                    <a:off x="6089760" y="5676840"/>
                    <a:ext cx="480600" cy="119880"/>
                  </a:xfrm>
                  <a:custGeom>
                    <a:avLst/>
                    <a:gdLst>
                      <a:gd name="textAreaLeft" fmla="*/ 0 w 480600"/>
                      <a:gd name="textAreaRight" fmla="*/ 480960 w 480600"/>
                      <a:gd name="textAreaTop" fmla="*/ 0 h 119880"/>
                      <a:gd name="textAreaBottom" fmla="*/ 120240 h 119880"/>
                    </a:gdLst>
                    <a:ahLst/>
                    <a:rect l="textAreaLeft" t="textAreaTop" r="textAreaRight" b="textAreaBottom"/>
                    <a:pathLst>
                      <a:path w="1346" h="337">
                        <a:moveTo>
                          <a:pt x="0" y="336"/>
                        </a:moveTo>
                        <a:lnTo>
                          <a:pt x="335" y="0"/>
                        </a:lnTo>
                        <a:lnTo>
                          <a:pt x="1345" y="0"/>
                        </a:lnTo>
                        <a:lnTo>
                          <a:pt x="1008" y="336"/>
                        </a:lnTo>
                        <a:lnTo>
                          <a:pt x="0" y="33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Freeform 164"/>
                  <p:cNvSpPr/>
                  <p:nvPr/>
                </p:nvSpPr>
                <p:spPr>
                  <a:xfrm>
                    <a:off x="6450480" y="5676840"/>
                    <a:ext cx="120960" cy="596880"/>
                  </a:xfrm>
                  <a:custGeom>
                    <a:avLst/>
                    <a:gdLst>
                      <a:gd name="textAreaLeft" fmla="*/ 0 w 120960"/>
                      <a:gd name="textAreaRight" fmla="*/ 121320 w 120960"/>
                      <a:gd name="textAreaTop" fmla="*/ 0 h 596880"/>
                      <a:gd name="textAreaBottom" fmla="*/ 597240 h 596880"/>
                    </a:gdLst>
                    <a:ahLst/>
                    <a:rect l="textAreaLeft" t="textAreaTop" r="textAreaRight" b="textAreaBottom"/>
                    <a:pathLst>
                      <a:path w="338" h="1664">
                        <a:moveTo>
                          <a:pt x="0" y="1663"/>
                        </a:moveTo>
                        <a:lnTo>
                          <a:pt x="0" y="336"/>
                        </a:lnTo>
                        <a:lnTo>
                          <a:pt x="337" y="0"/>
                        </a:lnTo>
                        <a:lnTo>
                          <a:pt x="337" y="1327"/>
                        </a:lnTo>
                        <a:lnTo>
                          <a:pt x="0" y="1663"/>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76" name="Group 165"/>
                <p:cNvGrpSpPr/>
                <p:nvPr/>
              </p:nvGrpSpPr>
              <p:grpSpPr>
                <a:xfrm>
                  <a:off x="6200640" y="5564160"/>
                  <a:ext cx="370800" cy="122400"/>
                  <a:chOff x="6200640" y="5564160"/>
                  <a:chExt cx="370800" cy="122400"/>
                </a:xfrm>
              </p:grpSpPr>
              <p:sp>
                <p:nvSpPr>
                  <p:cNvPr id="377" name="Freeform 166"/>
                  <p:cNvSpPr/>
                  <p:nvPr/>
                </p:nvSpPr>
                <p:spPr>
                  <a:xfrm>
                    <a:off x="6200640" y="5564160"/>
                    <a:ext cx="370800" cy="122400"/>
                  </a:xfrm>
                  <a:custGeom>
                    <a:avLst/>
                    <a:gdLst>
                      <a:gd name="textAreaLeft" fmla="*/ 0 w 370800"/>
                      <a:gd name="textAreaRight" fmla="*/ 371160 w 370800"/>
                      <a:gd name="textAreaTop" fmla="*/ 0 h 122400"/>
                      <a:gd name="textAreaBottom" fmla="*/ 122760 h 122400"/>
                    </a:gdLst>
                    <a:ahLst/>
                    <a:rect l="textAreaLeft" t="textAreaTop" r="textAreaRight" b="textAreaBottom"/>
                    <a:pathLst>
                      <a:path w="1037" h="345">
                        <a:moveTo>
                          <a:pt x="0" y="344"/>
                        </a:moveTo>
                        <a:lnTo>
                          <a:pt x="0" y="85"/>
                        </a:lnTo>
                        <a:lnTo>
                          <a:pt x="85" y="0"/>
                        </a:lnTo>
                        <a:lnTo>
                          <a:pt x="1036" y="0"/>
                        </a:lnTo>
                        <a:lnTo>
                          <a:pt x="1036" y="257"/>
                        </a:lnTo>
                        <a:lnTo>
                          <a:pt x="949"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Freeform 167"/>
                  <p:cNvSpPr/>
                  <p:nvPr/>
                </p:nvSpPr>
                <p:spPr>
                  <a:xfrm>
                    <a:off x="6200640" y="5564160"/>
                    <a:ext cx="370800" cy="30960"/>
                  </a:xfrm>
                  <a:custGeom>
                    <a:avLst/>
                    <a:gdLst>
                      <a:gd name="textAreaLeft" fmla="*/ 0 w 370800"/>
                      <a:gd name="textAreaRight" fmla="*/ 371160 w 370800"/>
                      <a:gd name="textAreaTop" fmla="*/ 0 h 30960"/>
                      <a:gd name="textAreaBottom" fmla="*/ 31320 h 30960"/>
                    </a:gdLst>
                    <a:ahLst/>
                    <a:rect l="textAreaLeft" t="textAreaTop" r="textAreaRight" b="textAreaBottom"/>
                    <a:pathLst>
                      <a:path w="1037" h="86">
                        <a:moveTo>
                          <a:pt x="0" y="85"/>
                        </a:moveTo>
                        <a:lnTo>
                          <a:pt x="85" y="0"/>
                        </a:lnTo>
                        <a:lnTo>
                          <a:pt x="1036" y="0"/>
                        </a:lnTo>
                        <a:lnTo>
                          <a:pt x="949"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379" name="Freeform 168"/>
                  <p:cNvSpPr/>
                  <p:nvPr/>
                </p:nvSpPr>
                <p:spPr>
                  <a:xfrm>
                    <a:off x="6539760" y="5564160"/>
                    <a:ext cx="31320" cy="122400"/>
                  </a:xfrm>
                  <a:custGeom>
                    <a:avLst/>
                    <a:gdLst>
                      <a:gd name="textAreaLeft" fmla="*/ 0 w 31320"/>
                      <a:gd name="textAreaRight" fmla="*/ 31680 w 31320"/>
                      <a:gd name="textAreaTop" fmla="*/ 0 h 122400"/>
                      <a:gd name="textAreaBottom" fmla="*/ 122760 h 122400"/>
                    </a:gdLst>
                    <a:ahLst/>
                    <a:rect l="textAreaLeft" t="textAreaTop" r="textAreaRight" b="textAreaBottom"/>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80" name="Freeform 169"/>
              <p:cNvSpPr/>
              <p:nvPr/>
            </p:nvSpPr>
            <p:spPr>
              <a:xfrm>
                <a:off x="6187680" y="5729400"/>
                <a:ext cx="250200" cy="42840"/>
              </a:xfrm>
              <a:custGeom>
                <a:avLst/>
                <a:gdLst>
                  <a:gd name="textAreaLeft" fmla="*/ 0 w 250200"/>
                  <a:gd name="textAreaRight" fmla="*/ 250560 w 250200"/>
                  <a:gd name="textAreaTop" fmla="*/ 0 h 42840"/>
                  <a:gd name="textAreaBottom" fmla="*/ 43200 h 42840"/>
                </a:gdLst>
                <a:ahLst/>
                <a:rect l="textAreaLeft" t="textAreaTop" r="textAreaRight" b="textAreaBottom"/>
                <a:pathLst>
                  <a:path w="697" h="120">
                    <a:moveTo>
                      <a:pt x="174" y="0"/>
                    </a:moveTo>
                    <a:lnTo>
                      <a:pt x="696" y="0"/>
                    </a:lnTo>
                    <a:lnTo>
                      <a:pt x="522" y="119"/>
                    </a:lnTo>
                    <a:lnTo>
                      <a:pt x="0" y="119"/>
                    </a:lnTo>
                    <a:lnTo>
                      <a:pt x="174" y="0"/>
                    </a:lnTo>
                  </a:path>
                </a:pathLst>
              </a:custGeom>
              <a:solidFill>
                <a:srgbClr val="f6bf69"/>
              </a:solidFill>
              <a:ln w="25560">
                <a:solidFill>
                  <a:srgbClr val="000000"/>
                </a:solidFill>
                <a:round/>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381" name="Group 170"/>
            <p:cNvGrpSpPr/>
            <p:nvPr/>
          </p:nvGrpSpPr>
          <p:grpSpPr>
            <a:xfrm>
              <a:off x="6566760" y="5564160"/>
              <a:ext cx="597600" cy="709560"/>
              <a:chOff x="6566760" y="5564160"/>
              <a:chExt cx="597600" cy="709560"/>
            </a:xfrm>
          </p:grpSpPr>
          <p:grpSp>
            <p:nvGrpSpPr>
              <p:cNvPr id="382" name="Group 171"/>
              <p:cNvGrpSpPr/>
              <p:nvPr/>
            </p:nvGrpSpPr>
            <p:grpSpPr>
              <a:xfrm>
                <a:off x="6566760" y="5564160"/>
                <a:ext cx="597600" cy="709560"/>
                <a:chOff x="6566760" y="5564160"/>
                <a:chExt cx="597600" cy="709560"/>
              </a:xfrm>
            </p:grpSpPr>
            <p:grpSp>
              <p:nvGrpSpPr>
                <p:cNvPr id="383" name="Group 172"/>
                <p:cNvGrpSpPr/>
                <p:nvPr/>
              </p:nvGrpSpPr>
              <p:grpSpPr>
                <a:xfrm>
                  <a:off x="6566760" y="5676840"/>
                  <a:ext cx="597600" cy="596880"/>
                  <a:chOff x="6566760" y="5676840"/>
                  <a:chExt cx="597600" cy="596880"/>
                </a:xfrm>
              </p:grpSpPr>
              <p:sp>
                <p:nvSpPr>
                  <p:cNvPr id="384" name="Freeform 173"/>
                  <p:cNvSpPr/>
                  <p:nvPr/>
                </p:nvSpPr>
                <p:spPr>
                  <a:xfrm>
                    <a:off x="6566760" y="5676840"/>
                    <a:ext cx="596160" cy="596880"/>
                  </a:xfrm>
                  <a:custGeom>
                    <a:avLst/>
                    <a:gdLst>
                      <a:gd name="textAreaLeft" fmla="*/ 0 w 596160"/>
                      <a:gd name="textAreaRight" fmla="*/ 596520 w 596160"/>
                      <a:gd name="textAreaTop" fmla="*/ 0 h 596880"/>
                      <a:gd name="textAreaBottom" fmla="*/ 597240 h 596880"/>
                    </a:gdLst>
                    <a:ahLst/>
                    <a:rect l="textAreaLeft" t="textAreaTop" r="textAreaRight" b="textAreaBottom"/>
                    <a:pathLst>
                      <a:path w="1667" h="1664">
                        <a:moveTo>
                          <a:pt x="0" y="1663"/>
                        </a:moveTo>
                        <a:lnTo>
                          <a:pt x="0" y="415"/>
                        </a:lnTo>
                        <a:lnTo>
                          <a:pt x="414" y="0"/>
                        </a:lnTo>
                        <a:lnTo>
                          <a:pt x="1666" y="0"/>
                        </a:lnTo>
                        <a:lnTo>
                          <a:pt x="1666" y="1248"/>
                        </a:lnTo>
                        <a:lnTo>
                          <a:pt x="1250" y="1663"/>
                        </a:lnTo>
                        <a:lnTo>
                          <a:pt x="0" y="1663"/>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Freeform 174"/>
                  <p:cNvSpPr/>
                  <p:nvPr/>
                </p:nvSpPr>
                <p:spPr>
                  <a:xfrm>
                    <a:off x="6566760" y="5676840"/>
                    <a:ext cx="596160" cy="148680"/>
                  </a:xfrm>
                  <a:custGeom>
                    <a:avLst/>
                    <a:gdLst>
                      <a:gd name="textAreaLeft" fmla="*/ 0 w 596160"/>
                      <a:gd name="textAreaRight" fmla="*/ 596520 w 596160"/>
                      <a:gd name="textAreaTop" fmla="*/ 0 h 148680"/>
                      <a:gd name="textAreaBottom" fmla="*/ 149040 h 148680"/>
                    </a:gdLst>
                    <a:ahLst/>
                    <a:rect l="textAreaLeft" t="textAreaTop" r="textAreaRight" b="textAreaBottom"/>
                    <a:pathLst>
                      <a:path w="1667" h="416">
                        <a:moveTo>
                          <a:pt x="0" y="415"/>
                        </a:moveTo>
                        <a:lnTo>
                          <a:pt x="414" y="0"/>
                        </a:lnTo>
                        <a:lnTo>
                          <a:pt x="1666" y="0"/>
                        </a:lnTo>
                        <a:lnTo>
                          <a:pt x="1250" y="415"/>
                        </a:lnTo>
                        <a:lnTo>
                          <a:pt x="0" y="415"/>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Freeform 175"/>
                  <p:cNvSpPr/>
                  <p:nvPr/>
                </p:nvSpPr>
                <p:spPr>
                  <a:xfrm>
                    <a:off x="7014600" y="5676840"/>
                    <a:ext cx="149760" cy="596880"/>
                  </a:xfrm>
                  <a:custGeom>
                    <a:avLst/>
                    <a:gdLst>
                      <a:gd name="textAreaLeft" fmla="*/ 0 w 149760"/>
                      <a:gd name="textAreaRight" fmla="*/ 150120 w 149760"/>
                      <a:gd name="textAreaTop" fmla="*/ 0 h 596880"/>
                      <a:gd name="textAreaBottom" fmla="*/ 597240 h 596880"/>
                    </a:gdLst>
                    <a:ahLst/>
                    <a:rect l="textAreaLeft" t="textAreaTop" r="textAreaRight" b="textAreaBottom"/>
                    <a:pathLst>
                      <a:path w="417" h="1664">
                        <a:moveTo>
                          <a:pt x="0" y="1663"/>
                        </a:moveTo>
                        <a:lnTo>
                          <a:pt x="0" y="415"/>
                        </a:lnTo>
                        <a:lnTo>
                          <a:pt x="416" y="0"/>
                        </a:lnTo>
                        <a:lnTo>
                          <a:pt x="416" y="1248"/>
                        </a:lnTo>
                        <a:lnTo>
                          <a:pt x="0" y="1663"/>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87" name="Group 176"/>
                <p:cNvGrpSpPr/>
                <p:nvPr/>
              </p:nvGrpSpPr>
              <p:grpSpPr>
                <a:xfrm>
                  <a:off x="6703200" y="5564160"/>
                  <a:ext cx="461160" cy="122400"/>
                  <a:chOff x="6703200" y="5564160"/>
                  <a:chExt cx="461160" cy="122400"/>
                </a:xfrm>
              </p:grpSpPr>
              <p:sp>
                <p:nvSpPr>
                  <p:cNvPr id="388" name="Freeform 177"/>
                  <p:cNvSpPr/>
                  <p:nvPr/>
                </p:nvSpPr>
                <p:spPr>
                  <a:xfrm>
                    <a:off x="6703200" y="5564160"/>
                    <a:ext cx="461160" cy="122400"/>
                  </a:xfrm>
                  <a:custGeom>
                    <a:avLst/>
                    <a:gdLst>
                      <a:gd name="textAreaLeft" fmla="*/ 0 w 461160"/>
                      <a:gd name="textAreaRight" fmla="*/ 461520 w 461160"/>
                      <a:gd name="textAreaTop" fmla="*/ 0 h 122400"/>
                      <a:gd name="textAreaBottom" fmla="*/ 122760 h 122400"/>
                    </a:gdLst>
                    <a:ahLst/>
                    <a:rect l="textAreaLeft" t="textAreaTop" r="textAreaRight" b="textAreaBottom"/>
                    <a:pathLst>
                      <a:path w="1288" h="345">
                        <a:moveTo>
                          <a:pt x="0" y="344"/>
                        </a:moveTo>
                        <a:lnTo>
                          <a:pt x="0" y="85"/>
                        </a:lnTo>
                        <a:lnTo>
                          <a:pt x="85" y="0"/>
                        </a:lnTo>
                        <a:lnTo>
                          <a:pt x="1287" y="0"/>
                        </a:lnTo>
                        <a:lnTo>
                          <a:pt x="1287" y="257"/>
                        </a:lnTo>
                        <a:lnTo>
                          <a:pt x="1200"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Freeform 178"/>
                  <p:cNvSpPr/>
                  <p:nvPr/>
                </p:nvSpPr>
                <p:spPr>
                  <a:xfrm>
                    <a:off x="6703200" y="5564160"/>
                    <a:ext cx="461160" cy="30960"/>
                  </a:xfrm>
                  <a:custGeom>
                    <a:avLst/>
                    <a:gdLst>
                      <a:gd name="textAreaLeft" fmla="*/ 0 w 461160"/>
                      <a:gd name="textAreaRight" fmla="*/ 461520 w 461160"/>
                      <a:gd name="textAreaTop" fmla="*/ 0 h 30960"/>
                      <a:gd name="textAreaBottom" fmla="*/ 31320 h 30960"/>
                    </a:gdLst>
                    <a:ahLst/>
                    <a:rect l="textAreaLeft" t="textAreaTop" r="textAreaRight" b="textAreaBottom"/>
                    <a:pathLst>
                      <a:path w="1288" h="86">
                        <a:moveTo>
                          <a:pt x="0" y="85"/>
                        </a:moveTo>
                        <a:lnTo>
                          <a:pt x="85" y="0"/>
                        </a:lnTo>
                        <a:lnTo>
                          <a:pt x="1287" y="0"/>
                        </a:lnTo>
                        <a:lnTo>
                          <a:pt x="1200"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390" name="Freeform 179"/>
                  <p:cNvSpPr/>
                  <p:nvPr/>
                </p:nvSpPr>
                <p:spPr>
                  <a:xfrm>
                    <a:off x="7132680" y="5564160"/>
                    <a:ext cx="31320" cy="122400"/>
                  </a:xfrm>
                  <a:custGeom>
                    <a:avLst/>
                    <a:gdLst>
                      <a:gd name="textAreaLeft" fmla="*/ 0 w 31320"/>
                      <a:gd name="textAreaRight" fmla="*/ 31680 w 31320"/>
                      <a:gd name="textAreaTop" fmla="*/ 0 h 122400"/>
                      <a:gd name="textAreaBottom" fmla="*/ 122760 h 122400"/>
                    </a:gdLst>
                    <a:ahLst/>
                    <a:rect l="textAreaLeft" t="textAreaTop" r="textAreaRight" b="textAreaBottom"/>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391" name="Oval 180"/>
              <p:cNvSpPr/>
              <p:nvPr/>
            </p:nvSpPr>
            <p:spPr>
              <a:xfrm>
                <a:off x="6748920" y="5621400"/>
                <a:ext cx="77400" cy="4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Freeform 181"/>
              <p:cNvSpPr/>
              <p:nvPr/>
            </p:nvSpPr>
            <p:spPr>
              <a:xfrm>
                <a:off x="6641280" y="5954760"/>
                <a:ext cx="313560" cy="133200"/>
              </a:xfrm>
              <a:custGeom>
                <a:avLst/>
                <a:gdLst>
                  <a:gd name="textAreaLeft" fmla="*/ 0 w 313560"/>
                  <a:gd name="textAreaRight" fmla="*/ 313920 w 313560"/>
                  <a:gd name="textAreaTop" fmla="*/ 0 h 133200"/>
                  <a:gd name="textAreaBottom" fmla="*/ 133560 h 133200"/>
                </a:gdLst>
                <a:ahLst/>
                <a:rect l="textAreaLeft" t="textAreaTop" r="textAreaRight" b="textAreaBottom"/>
                <a:pathLst>
                  <a:path w="874" h="371">
                    <a:moveTo>
                      <a:pt x="107" y="0"/>
                    </a:moveTo>
                    <a:lnTo>
                      <a:pt x="764" y="0"/>
                    </a:lnTo>
                    <a:lnTo>
                      <a:pt x="873" y="108"/>
                    </a:lnTo>
                    <a:lnTo>
                      <a:pt x="873" y="262"/>
                    </a:lnTo>
                    <a:lnTo>
                      <a:pt x="764" y="370"/>
                    </a:lnTo>
                    <a:lnTo>
                      <a:pt x="107" y="370"/>
                    </a:lnTo>
                    <a:lnTo>
                      <a:pt x="0" y="262"/>
                    </a:lnTo>
                    <a:lnTo>
                      <a:pt x="0" y="108"/>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3" name="Freeform 182"/>
            <p:cNvSpPr/>
            <p:nvPr/>
          </p:nvSpPr>
          <p:spPr>
            <a:xfrm>
              <a:off x="7461000" y="5927760"/>
              <a:ext cx="134640" cy="303120"/>
            </a:xfrm>
            <a:custGeom>
              <a:avLst/>
              <a:gdLst>
                <a:gd name="textAreaLeft" fmla="*/ 0 w 134640"/>
                <a:gd name="textAreaRight" fmla="*/ 135000 w 134640"/>
                <a:gd name="textAreaTop" fmla="*/ 0 h 303120"/>
                <a:gd name="textAreaBottom" fmla="*/ 303480 h 303120"/>
              </a:gdLst>
              <a:ahLst/>
              <a:rect l="textAreaLeft" t="textAreaTop" r="textAreaRight" b="textAreaBottom"/>
              <a:pathLst>
                <a:path w="376" h="843">
                  <a:moveTo>
                    <a:pt x="273" y="0"/>
                  </a:moveTo>
                  <a:lnTo>
                    <a:pt x="375" y="0"/>
                  </a:lnTo>
                  <a:lnTo>
                    <a:pt x="101" y="842"/>
                  </a:lnTo>
                  <a:lnTo>
                    <a:pt x="0" y="842"/>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AutoShape 183"/>
            <p:cNvSpPr/>
            <p:nvPr/>
          </p:nvSpPr>
          <p:spPr>
            <a:xfrm>
              <a:off x="7454880" y="5927760"/>
              <a:ext cx="167760" cy="25560"/>
            </a:xfrm>
            <a:prstGeom prst="roundRect">
              <a:avLst>
                <a:gd name="adj" fmla="val 6250"/>
              </a:avLst>
            </a:prstGeom>
            <a:solidFill>
              <a:srgbClr val="fc0128"/>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AutoShape 184"/>
            <p:cNvSpPr/>
            <p:nvPr/>
          </p:nvSpPr>
          <p:spPr>
            <a:xfrm>
              <a:off x="7466040" y="6056280"/>
              <a:ext cx="129600" cy="25560"/>
            </a:xfrm>
            <a:prstGeom prst="roundRect">
              <a:avLst>
                <a:gd name="adj" fmla="val 6250"/>
              </a:avLst>
            </a:prstGeom>
            <a:solidFill>
              <a:srgbClr val="fc0128"/>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AutoShape 185"/>
            <p:cNvSpPr/>
            <p:nvPr/>
          </p:nvSpPr>
          <p:spPr>
            <a:xfrm>
              <a:off x="7175880" y="6056280"/>
              <a:ext cx="163080" cy="17640"/>
            </a:xfrm>
            <a:prstGeom prst="roundRect">
              <a:avLst>
                <a:gd name="adj" fmla="val 10000"/>
              </a:avLst>
            </a:prstGeom>
            <a:solidFill>
              <a:srgbClr val="fc012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7" name="Group 186"/>
            <p:cNvGrpSpPr/>
            <p:nvPr/>
          </p:nvGrpSpPr>
          <p:grpSpPr>
            <a:xfrm>
              <a:off x="7172640" y="5654520"/>
              <a:ext cx="306000" cy="578160"/>
              <a:chOff x="7172640" y="5654520"/>
              <a:chExt cx="306000" cy="578160"/>
            </a:xfrm>
          </p:grpSpPr>
          <p:sp>
            <p:nvSpPr>
              <p:cNvPr id="398" name="Oval 187"/>
              <p:cNvSpPr/>
              <p:nvPr/>
            </p:nvSpPr>
            <p:spPr>
              <a:xfrm>
                <a:off x="7292520" y="5654520"/>
                <a:ext cx="77040" cy="7812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88"/>
              <p:cNvSpPr/>
              <p:nvPr/>
            </p:nvSpPr>
            <p:spPr>
              <a:xfrm>
                <a:off x="7172640" y="5762520"/>
                <a:ext cx="306000" cy="470160"/>
              </a:xfrm>
              <a:custGeom>
                <a:avLst/>
                <a:gdLst>
                  <a:gd name="textAreaLeft" fmla="*/ 0 w 306000"/>
                  <a:gd name="textAreaRight" fmla="*/ 306360 w 306000"/>
                  <a:gd name="textAreaTop" fmla="*/ 0 h 470160"/>
                  <a:gd name="textAreaBottom" fmla="*/ 470520 h 470160"/>
                </a:gdLst>
                <a:ahLst/>
                <a:rect l="textAreaLeft" t="textAreaTop" r="textAreaRight" b="textAreaBottom"/>
                <a:pathLst>
                  <a:path w="857" h="1306">
                    <a:moveTo>
                      <a:pt x="235" y="101"/>
                    </a:moveTo>
                    <a:lnTo>
                      <a:pt x="8" y="606"/>
                    </a:lnTo>
                    <a:lnTo>
                      <a:pt x="4" y="610"/>
                    </a:lnTo>
                    <a:lnTo>
                      <a:pt x="4" y="619"/>
                    </a:lnTo>
                    <a:lnTo>
                      <a:pt x="0" y="628"/>
                    </a:lnTo>
                    <a:lnTo>
                      <a:pt x="0" y="641"/>
                    </a:lnTo>
                    <a:lnTo>
                      <a:pt x="0" y="650"/>
                    </a:lnTo>
                    <a:lnTo>
                      <a:pt x="0" y="663"/>
                    </a:lnTo>
                    <a:lnTo>
                      <a:pt x="4" y="672"/>
                    </a:lnTo>
                    <a:lnTo>
                      <a:pt x="8" y="685"/>
                    </a:lnTo>
                    <a:lnTo>
                      <a:pt x="13" y="694"/>
                    </a:lnTo>
                    <a:lnTo>
                      <a:pt x="17" y="704"/>
                    </a:lnTo>
                    <a:lnTo>
                      <a:pt x="26" y="713"/>
                    </a:lnTo>
                    <a:lnTo>
                      <a:pt x="35" y="722"/>
                    </a:lnTo>
                    <a:lnTo>
                      <a:pt x="44" y="726"/>
                    </a:lnTo>
                    <a:lnTo>
                      <a:pt x="53" y="731"/>
                    </a:lnTo>
                    <a:lnTo>
                      <a:pt x="61" y="731"/>
                    </a:lnTo>
                    <a:lnTo>
                      <a:pt x="70" y="735"/>
                    </a:lnTo>
                    <a:lnTo>
                      <a:pt x="79" y="735"/>
                    </a:lnTo>
                    <a:lnTo>
                      <a:pt x="92" y="735"/>
                    </a:lnTo>
                    <a:lnTo>
                      <a:pt x="559" y="735"/>
                    </a:lnTo>
                    <a:lnTo>
                      <a:pt x="559" y="1305"/>
                    </a:lnTo>
                    <a:lnTo>
                      <a:pt x="705" y="1305"/>
                    </a:lnTo>
                    <a:lnTo>
                      <a:pt x="705" y="628"/>
                    </a:lnTo>
                    <a:lnTo>
                      <a:pt x="705" y="619"/>
                    </a:lnTo>
                    <a:lnTo>
                      <a:pt x="705" y="610"/>
                    </a:lnTo>
                    <a:lnTo>
                      <a:pt x="700" y="606"/>
                    </a:lnTo>
                    <a:lnTo>
                      <a:pt x="696" y="602"/>
                    </a:lnTo>
                    <a:lnTo>
                      <a:pt x="692" y="597"/>
                    </a:lnTo>
                    <a:lnTo>
                      <a:pt x="683" y="588"/>
                    </a:lnTo>
                    <a:lnTo>
                      <a:pt x="678" y="584"/>
                    </a:lnTo>
                    <a:lnTo>
                      <a:pt x="674" y="579"/>
                    </a:lnTo>
                    <a:lnTo>
                      <a:pt x="665" y="579"/>
                    </a:lnTo>
                    <a:lnTo>
                      <a:pt x="656" y="575"/>
                    </a:lnTo>
                    <a:lnTo>
                      <a:pt x="647" y="575"/>
                    </a:lnTo>
                    <a:lnTo>
                      <a:pt x="639" y="571"/>
                    </a:lnTo>
                    <a:lnTo>
                      <a:pt x="630" y="571"/>
                    </a:lnTo>
                    <a:lnTo>
                      <a:pt x="621" y="571"/>
                    </a:lnTo>
                    <a:lnTo>
                      <a:pt x="617" y="571"/>
                    </a:lnTo>
                    <a:lnTo>
                      <a:pt x="608" y="571"/>
                    </a:lnTo>
                    <a:lnTo>
                      <a:pt x="337" y="553"/>
                    </a:lnTo>
                    <a:lnTo>
                      <a:pt x="412" y="331"/>
                    </a:lnTo>
                    <a:lnTo>
                      <a:pt x="465" y="411"/>
                    </a:lnTo>
                    <a:lnTo>
                      <a:pt x="794" y="411"/>
                    </a:lnTo>
                    <a:lnTo>
                      <a:pt x="803" y="406"/>
                    </a:lnTo>
                    <a:lnTo>
                      <a:pt x="812" y="406"/>
                    </a:lnTo>
                    <a:lnTo>
                      <a:pt x="816" y="402"/>
                    </a:lnTo>
                    <a:lnTo>
                      <a:pt x="821" y="402"/>
                    </a:lnTo>
                    <a:lnTo>
                      <a:pt x="830" y="398"/>
                    </a:lnTo>
                    <a:lnTo>
                      <a:pt x="838" y="393"/>
                    </a:lnTo>
                    <a:lnTo>
                      <a:pt x="843" y="384"/>
                    </a:lnTo>
                    <a:lnTo>
                      <a:pt x="847" y="380"/>
                    </a:lnTo>
                    <a:lnTo>
                      <a:pt x="852" y="371"/>
                    </a:lnTo>
                    <a:lnTo>
                      <a:pt x="852" y="367"/>
                    </a:lnTo>
                    <a:lnTo>
                      <a:pt x="856" y="358"/>
                    </a:lnTo>
                    <a:lnTo>
                      <a:pt x="856" y="345"/>
                    </a:lnTo>
                    <a:lnTo>
                      <a:pt x="856" y="336"/>
                    </a:lnTo>
                    <a:lnTo>
                      <a:pt x="852" y="327"/>
                    </a:lnTo>
                    <a:lnTo>
                      <a:pt x="847" y="318"/>
                    </a:lnTo>
                    <a:lnTo>
                      <a:pt x="843" y="309"/>
                    </a:lnTo>
                    <a:lnTo>
                      <a:pt x="838" y="305"/>
                    </a:lnTo>
                    <a:lnTo>
                      <a:pt x="834" y="300"/>
                    </a:lnTo>
                    <a:lnTo>
                      <a:pt x="825" y="291"/>
                    </a:lnTo>
                    <a:lnTo>
                      <a:pt x="816" y="286"/>
                    </a:lnTo>
                    <a:lnTo>
                      <a:pt x="816" y="282"/>
                    </a:lnTo>
                    <a:lnTo>
                      <a:pt x="803" y="282"/>
                    </a:lnTo>
                    <a:lnTo>
                      <a:pt x="794" y="282"/>
                    </a:lnTo>
                    <a:lnTo>
                      <a:pt x="541" y="282"/>
                    </a:lnTo>
                    <a:lnTo>
                      <a:pt x="487" y="194"/>
                    </a:lnTo>
                    <a:lnTo>
                      <a:pt x="496" y="185"/>
                    </a:lnTo>
                    <a:lnTo>
                      <a:pt x="501" y="172"/>
                    </a:lnTo>
                    <a:lnTo>
                      <a:pt x="501" y="163"/>
                    </a:lnTo>
                    <a:lnTo>
                      <a:pt x="505" y="150"/>
                    </a:lnTo>
                    <a:lnTo>
                      <a:pt x="505" y="132"/>
                    </a:lnTo>
                    <a:lnTo>
                      <a:pt x="505" y="123"/>
                    </a:lnTo>
                    <a:lnTo>
                      <a:pt x="505" y="105"/>
                    </a:lnTo>
                    <a:lnTo>
                      <a:pt x="501" y="97"/>
                    </a:lnTo>
                    <a:lnTo>
                      <a:pt x="496" y="83"/>
                    </a:lnTo>
                    <a:lnTo>
                      <a:pt x="492" y="75"/>
                    </a:lnTo>
                    <a:lnTo>
                      <a:pt x="487" y="66"/>
                    </a:lnTo>
                    <a:lnTo>
                      <a:pt x="483" y="57"/>
                    </a:lnTo>
                    <a:lnTo>
                      <a:pt x="474" y="44"/>
                    </a:lnTo>
                    <a:lnTo>
                      <a:pt x="465" y="39"/>
                    </a:lnTo>
                    <a:lnTo>
                      <a:pt x="457" y="30"/>
                    </a:lnTo>
                    <a:lnTo>
                      <a:pt x="448" y="22"/>
                    </a:lnTo>
                    <a:lnTo>
                      <a:pt x="434" y="13"/>
                    </a:lnTo>
                    <a:lnTo>
                      <a:pt x="426" y="13"/>
                    </a:lnTo>
                    <a:lnTo>
                      <a:pt x="412" y="4"/>
                    </a:lnTo>
                    <a:lnTo>
                      <a:pt x="399" y="4"/>
                    </a:lnTo>
                    <a:lnTo>
                      <a:pt x="386" y="0"/>
                    </a:lnTo>
                    <a:lnTo>
                      <a:pt x="373" y="0"/>
                    </a:lnTo>
                    <a:lnTo>
                      <a:pt x="359" y="0"/>
                    </a:lnTo>
                    <a:lnTo>
                      <a:pt x="346" y="0"/>
                    </a:lnTo>
                    <a:lnTo>
                      <a:pt x="333" y="4"/>
                    </a:lnTo>
                    <a:lnTo>
                      <a:pt x="319" y="8"/>
                    </a:lnTo>
                    <a:lnTo>
                      <a:pt x="305" y="13"/>
                    </a:lnTo>
                    <a:lnTo>
                      <a:pt x="292" y="17"/>
                    </a:lnTo>
                    <a:lnTo>
                      <a:pt x="279" y="26"/>
                    </a:lnTo>
                    <a:lnTo>
                      <a:pt x="270" y="39"/>
                    </a:lnTo>
                    <a:lnTo>
                      <a:pt x="261" y="48"/>
                    </a:lnTo>
                    <a:lnTo>
                      <a:pt x="252" y="57"/>
                    </a:lnTo>
                    <a:lnTo>
                      <a:pt x="243" y="75"/>
                    </a:lnTo>
                    <a:lnTo>
                      <a:pt x="235" y="83"/>
                    </a:lnTo>
                    <a:lnTo>
                      <a:pt x="235"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00" name="Line 189"/>
          <p:cNvSpPr/>
          <p:nvPr/>
        </p:nvSpPr>
        <p:spPr>
          <a:xfrm>
            <a:off x="609480" y="3164040"/>
            <a:ext cx="1800" cy="303516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90"/>
          <p:cNvSpPr/>
          <p:nvPr/>
        </p:nvSpPr>
        <p:spPr>
          <a:xfrm>
            <a:off x="4094280" y="2379600"/>
            <a:ext cx="68904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 presetSubtype="2">
                                  <p:stCondLst>
                                    <p:cond delay="0"/>
                                  </p:stCondLst>
                                  <p:childTnLst>
                                    <p:set>
                                      <p:cBhvr>
                                        <p:cTn id="20" dur="1" fill="hold">
                                          <p:stCondLst>
                                            <p:cond delay="0"/>
                                          </p:stCondLst>
                                        </p:cTn>
                                        <p:tgtEl>
                                          <p:spTgt spid="214">
                                            <p:txEl>
                                              <p:pRg st="0" end="0"/>
                                            </p:txEl>
                                          </p:spTgt>
                                        </p:tgtEl>
                                        <p:attrNameLst>
                                          <p:attrName>style.visibility</p:attrName>
                                        </p:attrNameLst>
                                      </p:cBhvr>
                                      <p:to>
                                        <p:strVal val="visible"/>
                                      </p:to>
                                    </p:set>
                                    <p:anim calcmode="lin" valueType="num">
                                      <p:cBhvr additive="base">
                                        <p:cTn id="21" dur="500" fill="hold"/>
                                        <p:tgtEl>
                                          <p:spTgt spid="214">
                                            <p:txEl>
                                              <p:pRg st="0" end="0"/>
                                            </p:txEl>
                                          </p:spTgt>
                                        </p:tgtEl>
                                        <p:attrNameLst>
                                          <p:attrName>ppt_x</p:attrName>
                                        </p:attrNameLst>
                                      </p:cBhvr>
                                      <p:tavLst>
                                        <p:tav tm="0">
                                          <p:val>
                                            <p:strVal val="1+#ppt_w/2"/>
                                          </p:val>
                                        </p:tav>
                                        <p:tav tm="100000">
                                          <p:val>
                                            <p:strVal val="#ppt_x"/>
                                          </p:val>
                                        </p:tav>
                                      </p:tavLst>
                                    </p:anim>
                                    <p:anim calcmode="lin" valueType="num">
                                      <p:cBhvr additive="base">
                                        <p:cTn id="22"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par>
                          <p:cTn id="23" fill="hold">
                            <p:stCondLst>
                              <p:cond delay="500"/>
                            </p:stCondLst>
                            <p:childTnLst>
                              <p:par>
                                <p:cTn id="24" nodeType="afterEffect" fill="hold" presetClass="entr" presetID="2" presetSubtype="2">
                                  <p:stCondLst>
                                    <p:cond delay="0"/>
                                  </p:stCondLst>
                                  <p:childTnLst>
                                    <p:set>
                                      <p:cBhvr>
                                        <p:cTn id="25" dur="1" fill="hold">
                                          <p:stCondLst>
                                            <p:cond delay="0"/>
                                          </p:stCondLst>
                                        </p:cTn>
                                        <p:tgtEl>
                                          <p:spTgt spid="214">
                                            <p:txEl>
                                              <p:pRg st="1" end="1"/>
                                            </p:txEl>
                                          </p:spTgt>
                                        </p:tgtEl>
                                        <p:attrNameLst>
                                          <p:attrName>style.visibility</p:attrName>
                                        </p:attrNameLst>
                                      </p:cBhvr>
                                      <p:to>
                                        <p:strVal val="visible"/>
                                      </p:to>
                                    </p:set>
                                    <p:anim calcmode="lin" valueType="num">
                                      <p:cBhvr additive="base">
                                        <p:cTn id="26" dur="500" fill="hold"/>
                                        <p:tgtEl>
                                          <p:spTgt spid="214">
                                            <p:txEl>
                                              <p:pRg st="1" end="1"/>
                                            </p:txEl>
                                          </p:spTgt>
                                        </p:tgtEl>
                                        <p:attrNameLst>
                                          <p:attrName>ppt_x</p:attrName>
                                        </p:attrNameLst>
                                      </p:cBhvr>
                                      <p:tavLst>
                                        <p:tav tm="0">
                                          <p:val>
                                            <p:strVal val="1+#ppt_w/2"/>
                                          </p:val>
                                        </p:tav>
                                        <p:tav tm="100000">
                                          <p:val>
                                            <p:strVal val="#ppt_x"/>
                                          </p:val>
                                        </p:tav>
                                      </p:tavLst>
                                    </p:anim>
                                    <p:anim calcmode="lin" valueType="num">
                                      <p:cBhvr additive="base">
                                        <p:cTn id="27" dur="500" fill="hold"/>
                                        <p:tgtEl>
                                          <p:spTgt spid="21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Traditional Pipeline Concept</a:t>
            </a:r>
            <a:endParaRPr b="1" lang="en-US" sz="3900" spc="-1" strike="noStrike">
              <a:solidFill>
                <a:srgbClr val="330066"/>
              </a:solidFill>
              <a:latin typeface="Arial"/>
            </a:endParaRPr>
          </a:p>
        </p:txBody>
      </p:sp>
      <p:sp>
        <p:nvSpPr>
          <p:cNvPr id="403" name="PlaceHolder 2"/>
          <p:cNvSpPr>
            <a:spLocks noGrp="1"/>
          </p:cNvSpPr>
          <p:nvPr>
            <p:ph/>
          </p:nvPr>
        </p:nvSpPr>
        <p:spPr>
          <a:xfrm>
            <a:off x="4929120" y="3809880"/>
            <a:ext cx="3478320" cy="914400"/>
          </a:xfrm>
          <a:prstGeom prst="rect">
            <a:avLst/>
          </a:prstGeom>
          <a:noFill/>
          <a:ln w="0">
            <a:noFill/>
          </a:ln>
        </p:spPr>
        <p:txBody>
          <a:bodyPr lIns="63360" rIns="63360" tIns="25560" bIns="25560" anchor="t">
            <a:normAutofit/>
          </a:bodyPr>
          <a:p>
            <a:pPr marL="201600" indent="-201600">
              <a:spcBef>
                <a:spcPts val="524"/>
              </a:spcBef>
              <a:buClr>
                <a:srgbClr val="fc0128"/>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100" spc="-1" strike="noStrike">
                <a:solidFill>
                  <a:srgbClr val="000000"/>
                </a:solidFill>
                <a:latin typeface="Arial"/>
              </a:rPr>
              <a:t>Pipelined laundry takes 3.5 hours for 4 loads </a:t>
            </a:r>
            <a:endParaRPr b="0" lang="en-US" sz="2100" spc="-1" strike="noStrike">
              <a:solidFill>
                <a:srgbClr val="000000"/>
              </a:solidFill>
              <a:latin typeface="Arial"/>
            </a:endParaRPr>
          </a:p>
        </p:txBody>
      </p:sp>
      <p:grpSp>
        <p:nvGrpSpPr>
          <p:cNvPr id="404" name="Group 4"/>
          <p:cNvGrpSpPr/>
          <p:nvPr/>
        </p:nvGrpSpPr>
        <p:grpSpPr>
          <a:xfrm>
            <a:off x="1084320" y="3430440"/>
            <a:ext cx="522000" cy="535320"/>
            <a:chOff x="1084320" y="3430440"/>
            <a:chExt cx="522000" cy="535320"/>
          </a:xfrm>
        </p:grpSpPr>
        <p:sp>
          <p:nvSpPr>
            <p:cNvPr id="405" name="Freeform 5"/>
            <p:cNvSpPr/>
            <p:nvPr/>
          </p:nvSpPr>
          <p:spPr>
            <a:xfrm>
              <a:off x="1084320" y="3430440"/>
              <a:ext cx="522000" cy="466920"/>
            </a:xfrm>
            <a:custGeom>
              <a:avLst/>
              <a:gdLst>
                <a:gd name="textAreaLeft" fmla="*/ 0 w 522000"/>
                <a:gd name="textAreaRight" fmla="*/ 522360 w 522000"/>
                <a:gd name="textAreaTop" fmla="*/ 0 h 466920"/>
                <a:gd name="textAreaBottom" fmla="*/ 467280 h 466920"/>
              </a:gdLst>
              <a:ahLst/>
              <a:rect l="textAreaLeft" t="textAreaTop" r="textAreaRight" b="textAreaBottom"/>
              <a:pathLst>
                <a:path w="1451" h="1297">
                  <a:moveTo>
                    <a:pt x="176" y="17"/>
                  </a:moveTo>
                  <a:lnTo>
                    <a:pt x="411" y="61"/>
                  </a:lnTo>
                  <a:lnTo>
                    <a:pt x="407" y="0"/>
                  </a:lnTo>
                  <a:lnTo>
                    <a:pt x="689" y="70"/>
                  </a:lnTo>
                  <a:lnTo>
                    <a:pt x="689" y="0"/>
                  </a:lnTo>
                  <a:lnTo>
                    <a:pt x="990" y="0"/>
                  </a:lnTo>
                  <a:lnTo>
                    <a:pt x="986" y="66"/>
                  </a:lnTo>
                  <a:lnTo>
                    <a:pt x="1349" y="0"/>
                  </a:lnTo>
                  <a:lnTo>
                    <a:pt x="906" y="366"/>
                  </a:lnTo>
                  <a:lnTo>
                    <a:pt x="950" y="370"/>
                  </a:lnTo>
                  <a:lnTo>
                    <a:pt x="999" y="379"/>
                  </a:lnTo>
                  <a:lnTo>
                    <a:pt x="1056" y="392"/>
                  </a:lnTo>
                  <a:lnTo>
                    <a:pt x="1105" y="410"/>
                  </a:lnTo>
                  <a:lnTo>
                    <a:pt x="1162" y="436"/>
                  </a:lnTo>
                  <a:lnTo>
                    <a:pt x="1212" y="459"/>
                  </a:lnTo>
                  <a:lnTo>
                    <a:pt x="1260" y="489"/>
                  </a:lnTo>
                  <a:lnTo>
                    <a:pt x="1300" y="525"/>
                  </a:lnTo>
                  <a:lnTo>
                    <a:pt x="1335" y="556"/>
                  </a:lnTo>
                  <a:lnTo>
                    <a:pt x="1366" y="595"/>
                  </a:lnTo>
                  <a:lnTo>
                    <a:pt x="1397" y="635"/>
                  </a:lnTo>
                  <a:lnTo>
                    <a:pt x="1419" y="684"/>
                  </a:lnTo>
                  <a:lnTo>
                    <a:pt x="1437" y="728"/>
                  </a:lnTo>
                  <a:lnTo>
                    <a:pt x="1446" y="766"/>
                  </a:lnTo>
                  <a:lnTo>
                    <a:pt x="1450" y="824"/>
                  </a:lnTo>
                  <a:lnTo>
                    <a:pt x="1446" y="881"/>
                  </a:lnTo>
                  <a:lnTo>
                    <a:pt x="1432" y="925"/>
                  </a:lnTo>
                  <a:lnTo>
                    <a:pt x="1419" y="969"/>
                  </a:lnTo>
                  <a:lnTo>
                    <a:pt x="1402" y="1005"/>
                  </a:lnTo>
                  <a:lnTo>
                    <a:pt x="1375" y="1045"/>
                  </a:lnTo>
                  <a:lnTo>
                    <a:pt x="1340" y="1089"/>
                  </a:lnTo>
                  <a:lnTo>
                    <a:pt x="1291" y="1137"/>
                  </a:lnTo>
                  <a:lnTo>
                    <a:pt x="1238" y="1177"/>
                  </a:lnTo>
                  <a:lnTo>
                    <a:pt x="1184" y="1208"/>
                  </a:lnTo>
                  <a:lnTo>
                    <a:pt x="1136" y="1230"/>
                  </a:lnTo>
                  <a:lnTo>
                    <a:pt x="1087" y="1252"/>
                  </a:lnTo>
                  <a:lnTo>
                    <a:pt x="1043" y="1265"/>
                  </a:lnTo>
                  <a:lnTo>
                    <a:pt x="990" y="1278"/>
                  </a:lnTo>
                  <a:lnTo>
                    <a:pt x="950" y="1287"/>
                  </a:lnTo>
                  <a:lnTo>
                    <a:pt x="889" y="1292"/>
                  </a:lnTo>
                  <a:lnTo>
                    <a:pt x="836" y="1296"/>
                  </a:lnTo>
                  <a:lnTo>
                    <a:pt x="587"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4"/>
                  </a:lnTo>
                  <a:lnTo>
                    <a:pt x="30" y="688"/>
                  </a:lnTo>
                  <a:lnTo>
                    <a:pt x="61" y="622"/>
                  </a:lnTo>
                  <a:lnTo>
                    <a:pt x="105" y="569"/>
                  </a:lnTo>
                  <a:lnTo>
                    <a:pt x="154" y="520"/>
                  </a:lnTo>
                  <a:lnTo>
                    <a:pt x="216"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6" name="Text Box 6"/>
            <p:cNvSpPr/>
            <p:nvPr/>
          </p:nvSpPr>
          <p:spPr>
            <a:xfrm>
              <a:off x="1182240" y="3504960"/>
              <a:ext cx="365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a:t>
              </a:r>
              <a:endParaRPr b="0" lang="en-US" sz="2000" spc="-1" strike="noStrike">
                <a:solidFill>
                  <a:srgbClr val="000000"/>
                </a:solidFill>
                <a:latin typeface="Arial"/>
              </a:endParaRPr>
            </a:p>
          </p:txBody>
        </p:sp>
      </p:grpSp>
      <p:grpSp>
        <p:nvGrpSpPr>
          <p:cNvPr id="407" name="Group 7"/>
          <p:cNvGrpSpPr/>
          <p:nvPr/>
        </p:nvGrpSpPr>
        <p:grpSpPr>
          <a:xfrm>
            <a:off x="1071720" y="4281480"/>
            <a:ext cx="522000" cy="535320"/>
            <a:chOff x="1071720" y="4281480"/>
            <a:chExt cx="522000" cy="535320"/>
          </a:xfrm>
        </p:grpSpPr>
        <p:sp>
          <p:nvSpPr>
            <p:cNvPr id="408" name="Freeform 8"/>
            <p:cNvSpPr/>
            <p:nvPr/>
          </p:nvSpPr>
          <p:spPr>
            <a:xfrm>
              <a:off x="1071720" y="4281480"/>
              <a:ext cx="522000" cy="466560"/>
            </a:xfrm>
            <a:custGeom>
              <a:avLst/>
              <a:gdLst>
                <a:gd name="textAreaLeft" fmla="*/ 0 w 522000"/>
                <a:gd name="textAreaRight" fmla="*/ 522360 w 522000"/>
                <a:gd name="textAreaTop" fmla="*/ 0 h 466560"/>
                <a:gd name="textAreaBottom" fmla="*/ 466920 h 466560"/>
              </a:gdLst>
              <a:ahLst/>
              <a:rect l="textAreaLeft" t="textAreaTop" r="textAreaRight" b="textAreaBottom"/>
              <a:pathLst>
                <a:path w="1452" h="1297">
                  <a:moveTo>
                    <a:pt x="177" y="17"/>
                  </a:moveTo>
                  <a:lnTo>
                    <a:pt x="411" y="61"/>
                  </a:lnTo>
                  <a:lnTo>
                    <a:pt x="406" y="0"/>
                  </a:lnTo>
                  <a:lnTo>
                    <a:pt x="690" y="70"/>
                  </a:lnTo>
                  <a:lnTo>
                    <a:pt x="690" y="0"/>
                  </a:lnTo>
                  <a:lnTo>
                    <a:pt x="990" y="0"/>
                  </a:lnTo>
                  <a:lnTo>
                    <a:pt x="986" y="66"/>
                  </a:lnTo>
                  <a:lnTo>
                    <a:pt x="1350" y="0"/>
                  </a:lnTo>
                  <a:lnTo>
                    <a:pt x="907" y="366"/>
                  </a:lnTo>
                  <a:lnTo>
                    <a:pt x="951" y="370"/>
                  </a:lnTo>
                  <a:lnTo>
                    <a:pt x="999" y="379"/>
                  </a:lnTo>
                  <a:lnTo>
                    <a:pt x="1058" y="392"/>
                  </a:lnTo>
                  <a:lnTo>
                    <a:pt x="1106" y="410"/>
                  </a:lnTo>
                  <a:lnTo>
                    <a:pt x="1163" y="436"/>
                  </a:lnTo>
                  <a:lnTo>
                    <a:pt x="1212" y="459"/>
                  </a:lnTo>
                  <a:lnTo>
                    <a:pt x="1260" y="489"/>
                  </a:lnTo>
                  <a:lnTo>
                    <a:pt x="1300" y="525"/>
                  </a:lnTo>
                  <a:lnTo>
                    <a:pt x="1336" y="556"/>
                  </a:lnTo>
                  <a:lnTo>
                    <a:pt x="1367" y="595"/>
                  </a:lnTo>
                  <a:lnTo>
                    <a:pt x="1398" y="635"/>
                  </a:lnTo>
                  <a:lnTo>
                    <a:pt x="1420" y="684"/>
                  </a:lnTo>
                  <a:lnTo>
                    <a:pt x="1438" y="728"/>
                  </a:lnTo>
                  <a:lnTo>
                    <a:pt x="1447" y="766"/>
                  </a:lnTo>
                  <a:lnTo>
                    <a:pt x="1451" y="824"/>
                  </a:lnTo>
                  <a:lnTo>
                    <a:pt x="1447" y="881"/>
                  </a:lnTo>
                  <a:lnTo>
                    <a:pt x="1433" y="925"/>
                  </a:lnTo>
                  <a:lnTo>
                    <a:pt x="1420" y="969"/>
                  </a:lnTo>
                  <a:lnTo>
                    <a:pt x="1403" y="1005"/>
                  </a:lnTo>
                  <a:lnTo>
                    <a:pt x="1376" y="1045"/>
                  </a:lnTo>
                  <a:lnTo>
                    <a:pt x="1341" y="1089"/>
                  </a:lnTo>
                  <a:lnTo>
                    <a:pt x="1291" y="1137"/>
                  </a:lnTo>
                  <a:lnTo>
                    <a:pt x="1238" y="1177"/>
                  </a:lnTo>
                  <a:lnTo>
                    <a:pt x="1185" y="1208"/>
                  </a:lnTo>
                  <a:lnTo>
                    <a:pt x="1137" y="1230"/>
                  </a:lnTo>
                  <a:lnTo>
                    <a:pt x="1088" y="1252"/>
                  </a:lnTo>
                  <a:lnTo>
                    <a:pt x="1044" y="1265"/>
                  </a:lnTo>
                  <a:lnTo>
                    <a:pt x="990" y="1278"/>
                  </a:lnTo>
                  <a:lnTo>
                    <a:pt x="951" y="1287"/>
                  </a:lnTo>
                  <a:lnTo>
                    <a:pt x="889" y="1292"/>
                  </a:lnTo>
                  <a:lnTo>
                    <a:pt x="836" y="1296"/>
                  </a:lnTo>
                  <a:lnTo>
                    <a:pt x="588" y="1296"/>
                  </a:lnTo>
                  <a:lnTo>
                    <a:pt x="540" y="1292"/>
                  </a:lnTo>
                  <a:lnTo>
                    <a:pt x="478" y="1283"/>
                  </a:lnTo>
                  <a:lnTo>
                    <a:pt x="397" y="1265"/>
                  </a:lnTo>
                  <a:lnTo>
                    <a:pt x="322" y="1234"/>
                  </a:lnTo>
                  <a:lnTo>
                    <a:pt x="247" y="1199"/>
                  </a:lnTo>
                  <a:lnTo>
                    <a:pt x="181" y="1155"/>
                  </a:lnTo>
                  <a:lnTo>
                    <a:pt x="132" y="1115"/>
                  </a:lnTo>
                  <a:lnTo>
                    <a:pt x="92" y="1075"/>
                  </a:lnTo>
                  <a:lnTo>
                    <a:pt x="57" y="1022"/>
                  </a:lnTo>
                  <a:lnTo>
                    <a:pt x="30" y="965"/>
                  </a:lnTo>
                  <a:lnTo>
                    <a:pt x="17" y="925"/>
                  </a:lnTo>
                  <a:lnTo>
                    <a:pt x="4" y="886"/>
                  </a:lnTo>
                  <a:lnTo>
                    <a:pt x="0" y="841"/>
                  </a:lnTo>
                  <a:lnTo>
                    <a:pt x="4" y="806"/>
                  </a:lnTo>
                  <a:lnTo>
                    <a:pt x="13" y="744"/>
                  </a:lnTo>
                  <a:lnTo>
                    <a:pt x="30" y="688"/>
                  </a:lnTo>
                  <a:lnTo>
                    <a:pt x="61" y="622"/>
                  </a:lnTo>
                  <a:lnTo>
                    <a:pt x="105" y="569"/>
                  </a:lnTo>
                  <a:lnTo>
                    <a:pt x="155" y="520"/>
                  </a:lnTo>
                  <a:lnTo>
                    <a:pt x="217" y="472"/>
                  </a:lnTo>
                  <a:lnTo>
                    <a:pt x="278" y="436"/>
                  </a:lnTo>
                  <a:lnTo>
                    <a:pt x="362" y="401"/>
                  </a:lnTo>
                  <a:lnTo>
                    <a:pt x="451" y="379"/>
                  </a:lnTo>
                  <a:lnTo>
                    <a:pt x="509" y="366"/>
                  </a:lnTo>
                  <a:lnTo>
                    <a:pt x="177"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9" name="Text Box 9"/>
            <p:cNvSpPr/>
            <p:nvPr/>
          </p:nvSpPr>
          <p:spPr>
            <a:xfrm>
              <a:off x="1169640" y="4356000"/>
              <a:ext cx="365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t>
              </a:r>
              <a:endParaRPr b="0" lang="en-US" sz="2000" spc="-1" strike="noStrike">
                <a:solidFill>
                  <a:srgbClr val="000000"/>
                </a:solidFill>
                <a:latin typeface="Arial"/>
              </a:endParaRPr>
            </a:p>
          </p:txBody>
        </p:sp>
      </p:grpSp>
      <p:grpSp>
        <p:nvGrpSpPr>
          <p:cNvPr id="410" name="Group 10"/>
          <p:cNvGrpSpPr/>
          <p:nvPr/>
        </p:nvGrpSpPr>
        <p:grpSpPr>
          <a:xfrm>
            <a:off x="1033560" y="5030640"/>
            <a:ext cx="522000" cy="535320"/>
            <a:chOff x="1033560" y="5030640"/>
            <a:chExt cx="522000" cy="535320"/>
          </a:xfrm>
        </p:grpSpPr>
        <p:sp>
          <p:nvSpPr>
            <p:cNvPr id="411" name="Freeform 11"/>
            <p:cNvSpPr/>
            <p:nvPr/>
          </p:nvSpPr>
          <p:spPr>
            <a:xfrm>
              <a:off x="1033560" y="5030640"/>
              <a:ext cx="522000" cy="466920"/>
            </a:xfrm>
            <a:custGeom>
              <a:avLst/>
              <a:gdLst>
                <a:gd name="textAreaLeft" fmla="*/ 0 w 522000"/>
                <a:gd name="textAreaRight" fmla="*/ 522360 w 522000"/>
                <a:gd name="textAreaTop" fmla="*/ 0 h 466920"/>
                <a:gd name="textAreaBottom" fmla="*/ 467280 h 466920"/>
              </a:gdLst>
              <a:ahLst/>
              <a:rect l="textAreaLeft" t="textAreaTop" r="textAreaRight" b="textAreaBottom"/>
              <a:pathLst>
                <a:path w="1451" h="1297">
                  <a:moveTo>
                    <a:pt x="176" y="17"/>
                  </a:moveTo>
                  <a:lnTo>
                    <a:pt x="411" y="61"/>
                  </a:lnTo>
                  <a:lnTo>
                    <a:pt x="407" y="0"/>
                  </a:lnTo>
                  <a:lnTo>
                    <a:pt x="689" y="70"/>
                  </a:lnTo>
                  <a:lnTo>
                    <a:pt x="689" y="0"/>
                  </a:lnTo>
                  <a:lnTo>
                    <a:pt x="990" y="0"/>
                  </a:lnTo>
                  <a:lnTo>
                    <a:pt x="986" y="66"/>
                  </a:lnTo>
                  <a:lnTo>
                    <a:pt x="1349" y="0"/>
                  </a:lnTo>
                  <a:lnTo>
                    <a:pt x="906" y="366"/>
                  </a:lnTo>
                  <a:lnTo>
                    <a:pt x="950" y="370"/>
                  </a:lnTo>
                  <a:lnTo>
                    <a:pt x="999" y="379"/>
                  </a:lnTo>
                  <a:lnTo>
                    <a:pt x="1056" y="392"/>
                  </a:lnTo>
                  <a:lnTo>
                    <a:pt x="1105" y="410"/>
                  </a:lnTo>
                  <a:lnTo>
                    <a:pt x="1162" y="436"/>
                  </a:lnTo>
                  <a:lnTo>
                    <a:pt x="1212" y="459"/>
                  </a:lnTo>
                  <a:lnTo>
                    <a:pt x="1260" y="489"/>
                  </a:lnTo>
                  <a:lnTo>
                    <a:pt x="1300" y="525"/>
                  </a:lnTo>
                  <a:lnTo>
                    <a:pt x="1335" y="556"/>
                  </a:lnTo>
                  <a:lnTo>
                    <a:pt x="1366" y="595"/>
                  </a:lnTo>
                  <a:lnTo>
                    <a:pt x="1397" y="635"/>
                  </a:lnTo>
                  <a:lnTo>
                    <a:pt x="1419" y="684"/>
                  </a:lnTo>
                  <a:lnTo>
                    <a:pt x="1437" y="728"/>
                  </a:lnTo>
                  <a:lnTo>
                    <a:pt x="1446" y="766"/>
                  </a:lnTo>
                  <a:lnTo>
                    <a:pt x="1450" y="824"/>
                  </a:lnTo>
                  <a:lnTo>
                    <a:pt x="1446" y="881"/>
                  </a:lnTo>
                  <a:lnTo>
                    <a:pt x="1432" y="925"/>
                  </a:lnTo>
                  <a:lnTo>
                    <a:pt x="1419" y="969"/>
                  </a:lnTo>
                  <a:lnTo>
                    <a:pt x="1402" y="1005"/>
                  </a:lnTo>
                  <a:lnTo>
                    <a:pt x="1375" y="1045"/>
                  </a:lnTo>
                  <a:lnTo>
                    <a:pt x="1340" y="1089"/>
                  </a:lnTo>
                  <a:lnTo>
                    <a:pt x="1291" y="1137"/>
                  </a:lnTo>
                  <a:lnTo>
                    <a:pt x="1238" y="1177"/>
                  </a:lnTo>
                  <a:lnTo>
                    <a:pt x="1184" y="1208"/>
                  </a:lnTo>
                  <a:lnTo>
                    <a:pt x="1136" y="1230"/>
                  </a:lnTo>
                  <a:lnTo>
                    <a:pt x="1087" y="1252"/>
                  </a:lnTo>
                  <a:lnTo>
                    <a:pt x="1043" y="1265"/>
                  </a:lnTo>
                  <a:lnTo>
                    <a:pt x="990" y="1278"/>
                  </a:lnTo>
                  <a:lnTo>
                    <a:pt x="950" y="1287"/>
                  </a:lnTo>
                  <a:lnTo>
                    <a:pt x="889" y="1292"/>
                  </a:lnTo>
                  <a:lnTo>
                    <a:pt x="836" y="1296"/>
                  </a:lnTo>
                  <a:lnTo>
                    <a:pt x="587"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4"/>
                  </a:lnTo>
                  <a:lnTo>
                    <a:pt x="30" y="688"/>
                  </a:lnTo>
                  <a:lnTo>
                    <a:pt x="61" y="622"/>
                  </a:lnTo>
                  <a:lnTo>
                    <a:pt x="105" y="569"/>
                  </a:lnTo>
                  <a:lnTo>
                    <a:pt x="154" y="520"/>
                  </a:lnTo>
                  <a:lnTo>
                    <a:pt x="216"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Text Box 12"/>
            <p:cNvSpPr/>
            <p:nvPr/>
          </p:nvSpPr>
          <p:spPr>
            <a:xfrm>
              <a:off x="1131480" y="5105160"/>
              <a:ext cx="365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
              </a:r>
              <a:endParaRPr b="0" lang="en-US" sz="2000" spc="-1" strike="noStrike">
                <a:solidFill>
                  <a:srgbClr val="000000"/>
                </a:solidFill>
                <a:latin typeface="Arial"/>
              </a:endParaRPr>
            </a:p>
          </p:txBody>
        </p:sp>
      </p:grpSp>
      <p:grpSp>
        <p:nvGrpSpPr>
          <p:cNvPr id="413" name="Group 13"/>
          <p:cNvGrpSpPr/>
          <p:nvPr/>
        </p:nvGrpSpPr>
        <p:grpSpPr>
          <a:xfrm>
            <a:off x="1033560" y="5754600"/>
            <a:ext cx="522000" cy="535320"/>
            <a:chOff x="1033560" y="5754600"/>
            <a:chExt cx="522000" cy="535320"/>
          </a:xfrm>
        </p:grpSpPr>
        <p:sp>
          <p:nvSpPr>
            <p:cNvPr id="414" name="Freeform 14"/>
            <p:cNvSpPr/>
            <p:nvPr/>
          </p:nvSpPr>
          <p:spPr>
            <a:xfrm>
              <a:off x="1033560" y="5754600"/>
              <a:ext cx="522000" cy="466560"/>
            </a:xfrm>
            <a:custGeom>
              <a:avLst/>
              <a:gdLst>
                <a:gd name="textAreaLeft" fmla="*/ 0 w 522000"/>
                <a:gd name="textAreaRight" fmla="*/ 522360 w 522000"/>
                <a:gd name="textAreaTop" fmla="*/ 0 h 466560"/>
                <a:gd name="textAreaBottom" fmla="*/ 466920 h 466560"/>
              </a:gdLst>
              <a:ahLst/>
              <a:rect l="textAreaLeft" t="textAreaTop" r="textAreaRight" b="textAreaBottom"/>
              <a:pathLst>
                <a:path w="1451" h="1297">
                  <a:moveTo>
                    <a:pt x="176" y="17"/>
                  </a:moveTo>
                  <a:lnTo>
                    <a:pt x="411" y="61"/>
                  </a:lnTo>
                  <a:lnTo>
                    <a:pt x="407" y="0"/>
                  </a:lnTo>
                  <a:lnTo>
                    <a:pt x="689" y="70"/>
                  </a:lnTo>
                  <a:lnTo>
                    <a:pt x="689" y="0"/>
                  </a:lnTo>
                  <a:lnTo>
                    <a:pt x="990" y="0"/>
                  </a:lnTo>
                  <a:lnTo>
                    <a:pt x="986" y="66"/>
                  </a:lnTo>
                  <a:lnTo>
                    <a:pt x="1349" y="0"/>
                  </a:lnTo>
                  <a:lnTo>
                    <a:pt x="906" y="366"/>
                  </a:lnTo>
                  <a:lnTo>
                    <a:pt x="950" y="370"/>
                  </a:lnTo>
                  <a:lnTo>
                    <a:pt x="999" y="379"/>
                  </a:lnTo>
                  <a:lnTo>
                    <a:pt x="1056" y="392"/>
                  </a:lnTo>
                  <a:lnTo>
                    <a:pt x="1105" y="410"/>
                  </a:lnTo>
                  <a:lnTo>
                    <a:pt x="1162" y="436"/>
                  </a:lnTo>
                  <a:lnTo>
                    <a:pt x="1212" y="459"/>
                  </a:lnTo>
                  <a:lnTo>
                    <a:pt x="1260" y="489"/>
                  </a:lnTo>
                  <a:lnTo>
                    <a:pt x="1300" y="525"/>
                  </a:lnTo>
                  <a:lnTo>
                    <a:pt x="1335" y="556"/>
                  </a:lnTo>
                  <a:lnTo>
                    <a:pt x="1366" y="595"/>
                  </a:lnTo>
                  <a:lnTo>
                    <a:pt x="1397" y="635"/>
                  </a:lnTo>
                  <a:lnTo>
                    <a:pt x="1419" y="684"/>
                  </a:lnTo>
                  <a:lnTo>
                    <a:pt x="1437" y="728"/>
                  </a:lnTo>
                  <a:lnTo>
                    <a:pt x="1446" y="766"/>
                  </a:lnTo>
                  <a:lnTo>
                    <a:pt x="1450" y="824"/>
                  </a:lnTo>
                  <a:lnTo>
                    <a:pt x="1446" y="881"/>
                  </a:lnTo>
                  <a:lnTo>
                    <a:pt x="1432" y="925"/>
                  </a:lnTo>
                  <a:lnTo>
                    <a:pt x="1419" y="969"/>
                  </a:lnTo>
                  <a:lnTo>
                    <a:pt x="1402" y="1005"/>
                  </a:lnTo>
                  <a:lnTo>
                    <a:pt x="1375" y="1045"/>
                  </a:lnTo>
                  <a:lnTo>
                    <a:pt x="1340" y="1089"/>
                  </a:lnTo>
                  <a:lnTo>
                    <a:pt x="1291" y="1137"/>
                  </a:lnTo>
                  <a:lnTo>
                    <a:pt x="1238" y="1177"/>
                  </a:lnTo>
                  <a:lnTo>
                    <a:pt x="1184" y="1208"/>
                  </a:lnTo>
                  <a:lnTo>
                    <a:pt x="1136" y="1230"/>
                  </a:lnTo>
                  <a:lnTo>
                    <a:pt x="1087" y="1252"/>
                  </a:lnTo>
                  <a:lnTo>
                    <a:pt x="1043" y="1265"/>
                  </a:lnTo>
                  <a:lnTo>
                    <a:pt x="990" y="1278"/>
                  </a:lnTo>
                  <a:lnTo>
                    <a:pt x="950" y="1287"/>
                  </a:lnTo>
                  <a:lnTo>
                    <a:pt x="889" y="1292"/>
                  </a:lnTo>
                  <a:lnTo>
                    <a:pt x="836" y="1296"/>
                  </a:lnTo>
                  <a:lnTo>
                    <a:pt x="587"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4"/>
                  </a:lnTo>
                  <a:lnTo>
                    <a:pt x="30" y="688"/>
                  </a:lnTo>
                  <a:lnTo>
                    <a:pt x="61" y="622"/>
                  </a:lnTo>
                  <a:lnTo>
                    <a:pt x="105" y="569"/>
                  </a:lnTo>
                  <a:lnTo>
                    <a:pt x="154" y="520"/>
                  </a:lnTo>
                  <a:lnTo>
                    <a:pt x="216"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Text Box 15"/>
            <p:cNvSpPr/>
            <p:nvPr/>
          </p:nvSpPr>
          <p:spPr>
            <a:xfrm>
              <a:off x="1131480" y="5829120"/>
              <a:ext cx="365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a:t>
              </a:r>
              <a:endParaRPr b="0" lang="en-US" sz="2000" spc="-1" strike="noStrike">
                <a:solidFill>
                  <a:srgbClr val="000000"/>
                </a:solidFill>
                <a:latin typeface="Arial"/>
              </a:endParaRPr>
            </a:p>
          </p:txBody>
        </p:sp>
      </p:grpSp>
      <p:sp>
        <p:nvSpPr>
          <p:cNvPr id="416" name="Text Box 16"/>
          <p:cNvSpPr/>
          <p:nvPr/>
        </p:nvSpPr>
        <p:spPr>
          <a:xfrm>
            <a:off x="1348920" y="1828800"/>
            <a:ext cx="774360" cy="46080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6 PM</a:t>
            </a:r>
            <a:endParaRPr b="0" lang="en-US" sz="2000" spc="-1" strike="noStrike">
              <a:solidFill>
                <a:srgbClr val="000000"/>
              </a:solidFill>
              <a:latin typeface="Arial"/>
            </a:endParaRPr>
          </a:p>
        </p:txBody>
      </p:sp>
      <p:sp>
        <p:nvSpPr>
          <p:cNvPr id="417" name="Line 17"/>
          <p:cNvSpPr/>
          <p:nvPr/>
        </p:nvSpPr>
        <p:spPr>
          <a:xfrm>
            <a:off x="1719360" y="2421000"/>
            <a:ext cx="6324480" cy="1440"/>
          </a:xfrm>
          <a:prstGeom prst="line">
            <a:avLst/>
          </a:prstGeom>
          <a:ln w="12600">
            <a:solidFill>
              <a:srgbClr val="000000"/>
            </a:solidFill>
            <a:miter/>
            <a:tailEnd len="lg" type="triangle" w="lg"/>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18" name="Line 18"/>
          <p:cNvSpPr/>
          <p:nvPr/>
        </p:nvSpPr>
        <p:spPr>
          <a:xfrm>
            <a:off x="1712880" y="2287440"/>
            <a:ext cx="180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19"/>
          <p:cNvSpPr/>
          <p:nvPr/>
        </p:nvSpPr>
        <p:spPr>
          <a:xfrm>
            <a:off x="2580840" y="1841400"/>
            <a:ext cx="323280" cy="46080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7</a:t>
            </a:r>
            <a:endParaRPr b="0" lang="en-US" sz="2000" spc="-1" strike="noStrike">
              <a:solidFill>
                <a:srgbClr val="000000"/>
              </a:solidFill>
              <a:latin typeface="Arial"/>
            </a:endParaRPr>
          </a:p>
        </p:txBody>
      </p:sp>
      <p:sp>
        <p:nvSpPr>
          <p:cNvPr id="420" name="Text Box 20"/>
          <p:cNvSpPr/>
          <p:nvPr/>
        </p:nvSpPr>
        <p:spPr>
          <a:xfrm>
            <a:off x="3647880" y="1841400"/>
            <a:ext cx="323280" cy="46080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8</a:t>
            </a:r>
            <a:endParaRPr b="0" lang="en-US" sz="2000" spc="-1" strike="noStrike">
              <a:solidFill>
                <a:srgbClr val="000000"/>
              </a:solidFill>
              <a:latin typeface="Arial"/>
            </a:endParaRPr>
          </a:p>
        </p:txBody>
      </p:sp>
      <p:sp>
        <p:nvSpPr>
          <p:cNvPr id="421" name="Text Box 21"/>
          <p:cNvSpPr/>
          <p:nvPr/>
        </p:nvSpPr>
        <p:spPr>
          <a:xfrm>
            <a:off x="4663800" y="1841400"/>
            <a:ext cx="323280" cy="46080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a:t>
            </a:r>
            <a:endParaRPr b="0" lang="en-US" sz="2000" spc="-1" strike="noStrike">
              <a:solidFill>
                <a:srgbClr val="000000"/>
              </a:solidFill>
              <a:latin typeface="Arial"/>
            </a:endParaRPr>
          </a:p>
        </p:txBody>
      </p:sp>
      <p:sp>
        <p:nvSpPr>
          <p:cNvPr id="422" name="Text Box 22"/>
          <p:cNvSpPr/>
          <p:nvPr/>
        </p:nvSpPr>
        <p:spPr>
          <a:xfrm>
            <a:off x="5603400" y="1854360"/>
            <a:ext cx="464760" cy="46080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0</a:t>
            </a:r>
            <a:endParaRPr b="0" lang="en-US" sz="2000" spc="-1" strike="noStrike">
              <a:solidFill>
                <a:srgbClr val="000000"/>
              </a:solidFill>
              <a:latin typeface="Arial"/>
            </a:endParaRPr>
          </a:p>
        </p:txBody>
      </p:sp>
      <p:sp>
        <p:nvSpPr>
          <p:cNvPr id="423" name="Text Box 23"/>
          <p:cNvSpPr/>
          <p:nvPr/>
        </p:nvSpPr>
        <p:spPr>
          <a:xfrm>
            <a:off x="6695640" y="1841400"/>
            <a:ext cx="464760" cy="46080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1</a:t>
            </a:r>
            <a:endParaRPr b="0" lang="en-US" sz="2000" spc="-1" strike="noStrike">
              <a:solidFill>
                <a:srgbClr val="000000"/>
              </a:solidFill>
              <a:latin typeface="Arial"/>
            </a:endParaRPr>
          </a:p>
        </p:txBody>
      </p:sp>
      <p:sp>
        <p:nvSpPr>
          <p:cNvPr id="424" name="Text Box 24"/>
          <p:cNvSpPr/>
          <p:nvPr/>
        </p:nvSpPr>
        <p:spPr>
          <a:xfrm>
            <a:off x="7480800" y="1828800"/>
            <a:ext cx="12405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idnight</a:t>
            </a:r>
            <a:endParaRPr b="0" lang="en-US" sz="2000" spc="-1" strike="noStrike">
              <a:solidFill>
                <a:srgbClr val="000000"/>
              </a:solidFill>
              <a:latin typeface="Arial"/>
            </a:endParaRPr>
          </a:p>
        </p:txBody>
      </p:sp>
      <p:grpSp>
        <p:nvGrpSpPr>
          <p:cNvPr id="425" name="Group 25"/>
          <p:cNvGrpSpPr/>
          <p:nvPr/>
        </p:nvGrpSpPr>
        <p:grpSpPr>
          <a:xfrm>
            <a:off x="1757520" y="3328920"/>
            <a:ext cx="3488400" cy="2932200"/>
            <a:chOff x="1757520" y="3328920"/>
            <a:chExt cx="3488400" cy="2932200"/>
          </a:xfrm>
        </p:grpSpPr>
        <p:grpSp>
          <p:nvGrpSpPr>
            <p:cNvPr id="426" name="Group 26"/>
            <p:cNvGrpSpPr/>
            <p:nvPr/>
          </p:nvGrpSpPr>
          <p:grpSpPr>
            <a:xfrm>
              <a:off x="1757520" y="3328920"/>
              <a:ext cx="1532880" cy="709560"/>
              <a:chOff x="1757520" y="3328920"/>
              <a:chExt cx="1532880" cy="709560"/>
            </a:xfrm>
          </p:grpSpPr>
          <p:grpSp>
            <p:nvGrpSpPr>
              <p:cNvPr id="427" name="Group 27"/>
              <p:cNvGrpSpPr/>
              <p:nvPr/>
            </p:nvGrpSpPr>
            <p:grpSpPr>
              <a:xfrm>
                <a:off x="1757520" y="3328920"/>
                <a:ext cx="482040" cy="709560"/>
                <a:chOff x="1757520" y="3328920"/>
                <a:chExt cx="482040" cy="709560"/>
              </a:xfrm>
            </p:grpSpPr>
            <p:grpSp>
              <p:nvGrpSpPr>
                <p:cNvPr id="428" name="Group 28"/>
                <p:cNvGrpSpPr/>
                <p:nvPr/>
              </p:nvGrpSpPr>
              <p:grpSpPr>
                <a:xfrm>
                  <a:off x="1757520" y="3328920"/>
                  <a:ext cx="482040" cy="709560"/>
                  <a:chOff x="1757520" y="3328920"/>
                  <a:chExt cx="482040" cy="709560"/>
                </a:xfrm>
              </p:grpSpPr>
              <p:grpSp>
                <p:nvGrpSpPr>
                  <p:cNvPr id="429" name="Group 29"/>
                  <p:cNvGrpSpPr/>
                  <p:nvPr/>
                </p:nvGrpSpPr>
                <p:grpSpPr>
                  <a:xfrm>
                    <a:off x="1757520" y="3441600"/>
                    <a:ext cx="482040" cy="596880"/>
                    <a:chOff x="1757520" y="3441600"/>
                    <a:chExt cx="482040" cy="596880"/>
                  </a:xfrm>
                </p:grpSpPr>
                <p:sp>
                  <p:nvSpPr>
                    <p:cNvPr id="430" name="Freeform 30"/>
                    <p:cNvSpPr/>
                    <p:nvPr/>
                  </p:nvSpPr>
                  <p:spPr>
                    <a:xfrm>
                      <a:off x="1757520" y="3441600"/>
                      <a:ext cx="482040" cy="596880"/>
                    </a:xfrm>
                    <a:custGeom>
                      <a:avLst/>
                      <a:gdLst>
                        <a:gd name="textAreaLeft" fmla="*/ 0 w 482040"/>
                        <a:gd name="textAreaRight" fmla="*/ 482400 w 482040"/>
                        <a:gd name="textAreaTop" fmla="*/ 0 h 596880"/>
                        <a:gd name="textAreaBottom" fmla="*/ 597240 h 596880"/>
                      </a:gdLst>
                      <a:ahLst/>
                      <a:rect l="textAreaLeft" t="textAreaTop" r="textAreaRight" b="textAreaBottom"/>
                      <a:pathLst>
                        <a:path w="1346" h="1663">
                          <a:moveTo>
                            <a:pt x="0" y="1662"/>
                          </a:moveTo>
                          <a:lnTo>
                            <a:pt x="0" y="336"/>
                          </a:lnTo>
                          <a:lnTo>
                            <a:pt x="335" y="0"/>
                          </a:lnTo>
                          <a:lnTo>
                            <a:pt x="1345" y="0"/>
                          </a:lnTo>
                          <a:lnTo>
                            <a:pt x="1345" y="1326"/>
                          </a:lnTo>
                          <a:lnTo>
                            <a:pt x="1008" y="1662"/>
                          </a:lnTo>
                          <a:lnTo>
                            <a:pt x="0" y="1662"/>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Freeform 31"/>
                    <p:cNvSpPr/>
                    <p:nvPr/>
                  </p:nvSpPr>
                  <p:spPr>
                    <a:xfrm>
                      <a:off x="1757520" y="3441600"/>
                      <a:ext cx="482040" cy="120240"/>
                    </a:xfrm>
                    <a:custGeom>
                      <a:avLst/>
                      <a:gdLst>
                        <a:gd name="textAreaLeft" fmla="*/ 0 w 482040"/>
                        <a:gd name="textAreaRight" fmla="*/ 482400 w 482040"/>
                        <a:gd name="textAreaTop" fmla="*/ 0 h 120240"/>
                        <a:gd name="textAreaBottom" fmla="*/ 120600 h 120240"/>
                      </a:gdLst>
                      <a:ahLst/>
                      <a:rect l="textAreaLeft" t="textAreaTop" r="textAreaRight" b="textAreaBottom"/>
                      <a:pathLst>
                        <a:path w="1346" h="337">
                          <a:moveTo>
                            <a:pt x="0" y="336"/>
                          </a:moveTo>
                          <a:lnTo>
                            <a:pt x="335" y="0"/>
                          </a:lnTo>
                          <a:lnTo>
                            <a:pt x="1345" y="0"/>
                          </a:lnTo>
                          <a:lnTo>
                            <a:pt x="1008" y="336"/>
                          </a:lnTo>
                          <a:lnTo>
                            <a:pt x="0" y="33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Freeform 32"/>
                    <p:cNvSpPr/>
                    <p:nvPr/>
                  </p:nvSpPr>
                  <p:spPr>
                    <a:xfrm>
                      <a:off x="2117880" y="3441600"/>
                      <a:ext cx="121320" cy="596880"/>
                    </a:xfrm>
                    <a:custGeom>
                      <a:avLst/>
                      <a:gdLst>
                        <a:gd name="textAreaLeft" fmla="*/ 0 w 121320"/>
                        <a:gd name="textAreaRight" fmla="*/ 121680 w 121320"/>
                        <a:gd name="textAreaTop" fmla="*/ 0 h 596880"/>
                        <a:gd name="textAreaBottom" fmla="*/ 597240 h 596880"/>
                      </a:gdLst>
                      <a:ahLst/>
                      <a:rect l="textAreaLeft" t="textAreaTop" r="textAreaRight" b="textAreaBottom"/>
                      <a:pathLst>
                        <a:path w="338" h="1663">
                          <a:moveTo>
                            <a:pt x="0" y="1662"/>
                          </a:moveTo>
                          <a:lnTo>
                            <a:pt x="0" y="336"/>
                          </a:lnTo>
                          <a:lnTo>
                            <a:pt x="337" y="0"/>
                          </a:lnTo>
                          <a:lnTo>
                            <a:pt x="337" y="1326"/>
                          </a:lnTo>
                          <a:lnTo>
                            <a:pt x="0" y="1662"/>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33" name="Group 33"/>
                  <p:cNvGrpSpPr/>
                  <p:nvPr/>
                </p:nvGrpSpPr>
                <p:grpSpPr>
                  <a:xfrm>
                    <a:off x="1868400" y="3328920"/>
                    <a:ext cx="370800" cy="122040"/>
                    <a:chOff x="1868400" y="3328920"/>
                    <a:chExt cx="370800" cy="122040"/>
                  </a:xfrm>
                </p:grpSpPr>
                <p:sp>
                  <p:nvSpPr>
                    <p:cNvPr id="434" name="Freeform 34"/>
                    <p:cNvSpPr/>
                    <p:nvPr/>
                  </p:nvSpPr>
                  <p:spPr>
                    <a:xfrm>
                      <a:off x="1868400" y="3328920"/>
                      <a:ext cx="370800" cy="122040"/>
                    </a:xfrm>
                    <a:custGeom>
                      <a:avLst/>
                      <a:gdLst>
                        <a:gd name="textAreaLeft" fmla="*/ 0 w 370800"/>
                        <a:gd name="textAreaRight" fmla="*/ 371160 w 370800"/>
                        <a:gd name="textAreaTop" fmla="*/ 0 h 122040"/>
                        <a:gd name="textAreaBottom" fmla="*/ 122400 h 122040"/>
                      </a:gdLst>
                      <a:ahLst/>
                      <a:rect l="textAreaLeft" t="textAreaTop" r="textAreaRight" b="textAreaBottom"/>
                      <a:pathLst>
                        <a:path w="1038" h="345">
                          <a:moveTo>
                            <a:pt x="0" y="344"/>
                          </a:moveTo>
                          <a:lnTo>
                            <a:pt x="0" y="85"/>
                          </a:lnTo>
                          <a:lnTo>
                            <a:pt x="85" y="0"/>
                          </a:lnTo>
                          <a:lnTo>
                            <a:pt x="1037" y="0"/>
                          </a:lnTo>
                          <a:lnTo>
                            <a:pt x="1037" y="257"/>
                          </a:lnTo>
                          <a:lnTo>
                            <a:pt x="950"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Freeform 35"/>
                    <p:cNvSpPr/>
                    <p:nvPr/>
                  </p:nvSpPr>
                  <p:spPr>
                    <a:xfrm>
                      <a:off x="1868400" y="3328920"/>
                      <a:ext cx="370800" cy="30960"/>
                    </a:xfrm>
                    <a:custGeom>
                      <a:avLst/>
                      <a:gdLst>
                        <a:gd name="textAreaLeft" fmla="*/ 0 w 370800"/>
                        <a:gd name="textAreaRight" fmla="*/ 371160 w 370800"/>
                        <a:gd name="textAreaTop" fmla="*/ 0 h 30960"/>
                        <a:gd name="textAreaBottom" fmla="*/ 31320 h 30960"/>
                      </a:gdLst>
                      <a:ahLst/>
                      <a:rect l="textAreaLeft" t="textAreaTop" r="textAreaRight" b="textAreaBottom"/>
                      <a:pathLst>
                        <a:path w="1038" h="86">
                          <a:moveTo>
                            <a:pt x="0" y="85"/>
                          </a:moveTo>
                          <a:lnTo>
                            <a:pt x="85" y="0"/>
                          </a:lnTo>
                          <a:lnTo>
                            <a:pt x="1037" y="0"/>
                          </a:lnTo>
                          <a:lnTo>
                            <a:pt x="950"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36" name="Freeform 36"/>
                    <p:cNvSpPr/>
                    <p:nvPr/>
                  </p:nvSpPr>
                  <p:spPr>
                    <a:xfrm>
                      <a:off x="2207520" y="3328920"/>
                      <a:ext cx="31320" cy="122040"/>
                    </a:xfrm>
                    <a:custGeom>
                      <a:avLst/>
                      <a:gdLst>
                        <a:gd name="textAreaLeft" fmla="*/ 0 w 31320"/>
                        <a:gd name="textAreaRight" fmla="*/ 31680 w 31320"/>
                        <a:gd name="textAreaTop" fmla="*/ 0 h 122040"/>
                        <a:gd name="textAreaBottom" fmla="*/ 122400 h 122040"/>
                      </a:gdLst>
                      <a:ahLst/>
                      <a:rect l="textAreaLeft" t="textAreaTop" r="textAreaRight" b="textAreaBottom"/>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37" name="Freeform 37"/>
                <p:cNvSpPr/>
                <p:nvPr/>
              </p:nvSpPr>
              <p:spPr>
                <a:xfrm>
                  <a:off x="1855800" y="3494160"/>
                  <a:ext cx="250200" cy="42840"/>
                </a:xfrm>
                <a:custGeom>
                  <a:avLst/>
                  <a:gdLst>
                    <a:gd name="textAreaLeft" fmla="*/ 0 w 250200"/>
                    <a:gd name="textAreaRight" fmla="*/ 250560 w 250200"/>
                    <a:gd name="textAreaTop" fmla="*/ 0 h 42840"/>
                    <a:gd name="textAreaBottom" fmla="*/ 43200 h 42840"/>
                  </a:gdLst>
                  <a:ahLst/>
                  <a:rect l="textAreaLeft" t="textAreaTop" r="textAreaRight" b="textAreaBottom"/>
                  <a:pathLst>
                    <a:path w="698" h="121">
                      <a:moveTo>
                        <a:pt x="173" y="0"/>
                      </a:moveTo>
                      <a:lnTo>
                        <a:pt x="697" y="0"/>
                      </a:lnTo>
                      <a:lnTo>
                        <a:pt x="522" y="120"/>
                      </a:lnTo>
                      <a:lnTo>
                        <a:pt x="0" y="120"/>
                      </a:lnTo>
                      <a:lnTo>
                        <a:pt x="173" y="0"/>
                      </a:lnTo>
                    </a:path>
                  </a:pathLst>
                </a:custGeom>
                <a:solidFill>
                  <a:srgbClr val="f6bf69"/>
                </a:solidFill>
                <a:ln w="25560">
                  <a:solidFill>
                    <a:srgbClr val="000000"/>
                  </a:solidFill>
                  <a:round/>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438" name="Group 38"/>
              <p:cNvGrpSpPr/>
              <p:nvPr/>
            </p:nvGrpSpPr>
            <p:grpSpPr>
              <a:xfrm>
                <a:off x="2234880" y="3328920"/>
                <a:ext cx="596880" cy="709560"/>
                <a:chOff x="2234880" y="3328920"/>
                <a:chExt cx="596880" cy="709560"/>
              </a:xfrm>
            </p:grpSpPr>
            <p:grpSp>
              <p:nvGrpSpPr>
                <p:cNvPr id="439" name="Group 39"/>
                <p:cNvGrpSpPr/>
                <p:nvPr/>
              </p:nvGrpSpPr>
              <p:grpSpPr>
                <a:xfrm>
                  <a:off x="2234880" y="3328920"/>
                  <a:ext cx="596880" cy="709560"/>
                  <a:chOff x="2234880" y="3328920"/>
                  <a:chExt cx="596880" cy="709560"/>
                </a:xfrm>
              </p:grpSpPr>
              <p:grpSp>
                <p:nvGrpSpPr>
                  <p:cNvPr id="440" name="Group 40"/>
                  <p:cNvGrpSpPr/>
                  <p:nvPr/>
                </p:nvGrpSpPr>
                <p:grpSpPr>
                  <a:xfrm>
                    <a:off x="2234880" y="3441600"/>
                    <a:ext cx="596880" cy="596880"/>
                    <a:chOff x="2234880" y="3441600"/>
                    <a:chExt cx="596880" cy="596880"/>
                  </a:xfrm>
                </p:grpSpPr>
                <p:sp>
                  <p:nvSpPr>
                    <p:cNvPr id="441" name="Freeform 41"/>
                    <p:cNvSpPr/>
                    <p:nvPr/>
                  </p:nvSpPr>
                  <p:spPr>
                    <a:xfrm>
                      <a:off x="2234880" y="3441600"/>
                      <a:ext cx="595800" cy="596880"/>
                    </a:xfrm>
                    <a:custGeom>
                      <a:avLst/>
                      <a:gdLst>
                        <a:gd name="textAreaLeft" fmla="*/ 0 w 595800"/>
                        <a:gd name="textAreaRight" fmla="*/ 596160 w 595800"/>
                        <a:gd name="textAreaTop" fmla="*/ 0 h 596880"/>
                        <a:gd name="textAreaBottom" fmla="*/ 597240 h 596880"/>
                      </a:gdLst>
                      <a:ahLst/>
                      <a:rect l="textAreaLeft" t="textAreaTop" r="textAreaRight" b="textAreaBottom"/>
                      <a:pathLst>
                        <a:path w="1668" h="1663">
                          <a:moveTo>
                            <a:pt x="0" y="1662"/>
                          </a:moveTo>
                          <a:lnTo>
                            <a:pt x="0" y="415"/>
                          </a:lnTo>
                          <a:lnTo>
                            <a:pt x="414" y="0"/>
                          </a:lnTo>
                          <a:lnTo>
                            <a:pt x="1667" y="0"/>
                          </a:lnTo>
                          <a:lnTo>
                            <a:pt x="1667" y="1247"/>
                          </a:lnTo>
                          <a:lnTo>
                            <a:pt x="1251" y="1662"/>
                          </a:lnTo>
                          <a:lnTo>
                            <a:pt x="0" y="1662"/>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Freeform 42"/>
                    <p:cNvSpPr/>
                    <p:nvPr/>
                  </p:nvSpPr>
                  <p:spPr>
                    <a:xfrm>
                      <a:off x="2234880" y="3441600"/>
                      <a:ext cx="595800" cy="149040"/>
                    </a:xfrm>
                    <a:custGeom>
                      <a:avLst/>
                      <a:gdLst>
                        <a:gd name="textAreaLeft" fmla="*/ 0 w 595800"/>
                        <a:gd name="textAreaRight" fmla="*/ 596160 w 595800"/>
                        <a:gd name="textAreaTop" fmla="*/ 0 h 149040"/>
                        <a:gd name="textAreaBottom" fmla="*/ 149400 h 149040"/>
                      </a:gdLst>
                      <a:ahLst/>
                      <a:rect l="textAreaLeft" t="textAreaTop" r="textAreaRight" b="textAreaBottom"/>
                      <a:pathLst>
                        <a:path w="1668" h="416">
                          <a:moveTo>
                            <a:pt x="0" y="415"/>
                          </a:moveTo>
                          <a:lnTo>
                            <a:pt x="414" y="0"/>
                          </a:lnTo>
                          <a:lnTo>
                            <a:pt x="1667" y="0"/>
                          </a:lnTo>
                          <a:lnTo>
                            <a:pt x="1251" y="415"/>
                          </a:lnTo>
                          <a:lnTo>
                            <a:pt x="0" y="415"/>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3" name="Freeform 43"/>
                    <p:cNvSpPr/>
                    <p:nvPr/>
                  </p:nvSpPr>
                  <p:spPr>
                    <a:xfrm>
                      <a:off x="2682360" y="3441600"/>
                      <a:ext cx="149400" cy="596880"/>
                    </a:xfrm>
                    <a:custGeom>
                      <a:avLst/>
                      <a:gdLst>
                        <a:gd name="textAreaLeft" fmla="*/ 0 w 149400"/>
                        <a:gd name="textAreaRight" fmla="*/ 149760 w 149400"/>
                        <a:gd name="textAreaTop" fmla="*/ 0 h 596880"/>
                        <a:gd name="textAreaBottom" fmla="*/ 597240 h 596880"/>
                      </a:gdLst>
                      <a:ahLst/>
                      <a:rect l="textAreaLeft" t="textAreaTop" r="textAreaRight" b="textAreaBottom"/>
                      <a:pathLst>
                        <a:path w="417" h="1663">
                          <a:moveTo>
                            <a:pt x="0" y="1662"/>
                          </a:moveTo>
                          <a:lnTo>
                            <a:pt x="0" y="415"/>
                          </a:lnTo>
                          <a:lnTo>
                            <a:pt x="416" y="0"/>
                          </a:lnTo>
                          <a:lnTo>
                            <a:pt x="416" y="1247"/>
                          </a:lnTo>
                          <a:lnTo>
                            <a:pt x="0" y="1662"/>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44" name="Group 44"/>
                  <p:cNvGrpSpPr/>
                  <p:nvPr/>
                </p:nvGrpSpPr>
                <p:grpSpPr>
                  <a:xfrm>
                    <a:off x="2370960" y="3328920"/>
                    <a:ext cx="460800" cy="122040"/>
                    <a:chOff x="2370960" y="3328920"/>
                    <a:chExt cx="460800" cy="122040"/>
                  </a:xfrm>
                </p:grpSpPr>
                <p:sp>
                  <p:nvSpPr>
                    <p:cNvPr id="445" name="Freeform 45"/>
                    <p:cNvSpPr/>
                    <p:nvPr/>
                  </p:nvSpPr>
                  <p:spPr>
                    <a:xfrm>
                      <a:off x="2370960" y="3328920"/>
                      <a:ext cx="460800" cy="122040"/>
                    </a:xfrm>
                    <a:custGeom>
                      <a:avLst/>
                      <a:gdLst>
                        <a:gd name="textAreaLeft" fmla="*/ 0 w 460800"/>
                        <a:gd name="textAreaRight" fmla="*/ 461160 w 460800"/>
                        <a:gd name="textAreaTop" fmla="*/ 0 h 122040"/>
                        <a:gd name="textAreaBottom" fmla="*/ 122400 h 122040"/>
                      </a:gdLst>
                      <a:ahLst/>
                      <a:rect l="textAreaLeft" t="textAreaTop" r="textAreaRight" b="textAreaBottom"/>
                      <a:pathLst>
                        <a:path w="1289" h="345">
                          <a:moveTo>
                            <a:pt x="0" y="344"/>
                          </a:moveTo>
                          <a:lnTo>
                            <a:pt x="0" y="85"/>
                          </a:lnTo>
                          <a:lnTo>
                            <a:pt x="85" y="0"/>
                          </a:lnTo>
                          <a:lnTo>
                            <a:pt x="1288" y="0"/>
                          </a:lnTo>
                          <a:lnTo>
                            <a:pt x="1288" y="257"/>
                          </a:lnTo>
                          <a:lnTo>
                            <a:pt x="1201"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Freeform 46"/>
                    <p:cNvSpPr/>
                    <p:nvPr/>
                  </p:nvSpPr>
                  <p:spPr>
                    <a:xfrm>
                      <a:off x="2370960" y="3328920"/>
                      <a:ext cx="460800" cy="30960"/>
                    </a:xfrm>
                    <a:custGeom>
                      <a:avLst/>
                      <a:gdLst>
                        <a:gd name="textAreaLeft" fmla="*/ 0 w 460800"/>
                        <a:gd name="textAreaRight" fmla="*/ 461160 w 460800"/>
                        <a:gd name="textAreaTop" fmla="*/ 0 h 30960"/>
                        <a:gd name="textAreaBottom" fmla="*/ 31320 h 30960"/>
                      </a:gdLst>
                      <a:ahLst/>
                      <a:rect l="textAreaLeft" t="textAreaTop" r="textAreaRight" b="textAreaBottom"/>
                      <a:pathLst>
                        <a:path w="1289" h="86">
                          <a:moveTo>
                            <a:pt x="0" y="85"/>
                          </a:moveTo>
                          <a:lnTo>
                            <a:pt x="85" y="0"/>
                          </a:lnTo>
                          <a:lnTo>
                            <a:pt x="1288" y="0"/>
                          </a:lnTo>
                          <a:lnTo>
                            <a:pt x="1201"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47" name="Freeform 47"/>
                    <p:cNvSpPr/>
                    <p:nvPr/>
                  </p:nvSpPr>
                  <p:spPr>
                    <a:xfrm>
                      <a:off x="2799720" y="3328920"/>
                      <a:ext cx="31680" cy="122040"/>
                    </a:xfrm>
                    <a:custGeom>
                      <a:avLst/>
                      <a:gdLst>
                        <a:gd name="textAreaLeft" fmla="*/ 0 w 31680"/>
                        <a:gd name="textAreaRight" fmla="*/ 32040 w 31680"/>
                        <a:gd name="textAreaTop" fmla="*/ 0 h 122040"/>
                        <a:gd name="textAreaBottom" fmla="*/ 122400 h 122040"/>
                      </a:gdLst>
                      <a:ahLst/>
                      <a:rect l="textAreaLeft" t="textAreaTop" r="textAreaRight" b="textAreaBottom"/>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48" name="Oval 48"/>
                <p:cNvSpPr/>
                <p:nvPr/>
              </p:nvSpPr>
              <p:spPr>
                <a:xfrm>
                  <a:off x="2417040" y="3386160"/>
                  <a:ext cx="77400" cy="4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49"/>
                <p:cNvSpPr/>
                <p:nvPr/>
              </p:nvSpPr>
              <p:spPr>
                <a:xfrm>
                  <a:off x="2309040" y="3719520"/>
                  <a:ext cx="313560" cy="133200"/>
                </a:xfrm>
                <a:custGeom>
                  <a:avLst/>
                  <a:gdLst>
                    <a:gd name="textAreaLeft" fmla="*/ 0 w 313560"/>
                    <a:gd name="textAreaRight" fmla="*/ 313920 w 313560"/>
                    <a:gd name="textAreaTop" fmla="*/ 0 h 133200"/>
                    <a:gd name="textAreaBottom" fmla="*/ 133560 h 133200"/>
                  </a:gdLst>
                  <a:ahLst/>
                  <a:rect l="textAreaLeft" t="textAreaTop" r="textAreaRight" b="textAreaBottom"/>
                  <a:pathLst>
                    <a:path w="874" h="371">
                      <a:moveTo>
                        <a:pt x="107" y="0"/>
                      </a:moveTo>
                      <a:lnTo>
                        <a:pt x="764" y="0"/>
                      </a:lnTo>
                      <a:lnTo>
                        <a:pt x="873" y="108"/>
                      </a:lnTo>
                      <a:lnTo>
                        <a:pt x="873" y="262"/>
                      </a:lnTo>
                      <a:lnTo>
                        <a:pt x="764" y="370"/>
                      </a:lnTo>
                      <a:lnTo>
                        <a:pt x="107" y="370"/>
                      </a:lnTo>
                      <a:lnTo>
                        <a:pt x="0" y="262"/>
                      </a:lnTo>
                      <a:lnTo>
                        <a:pt x="0" y="108"/>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0" name="Freeform 50"/>
              <p:cNvSpPr/>
              <p:nvPr/>
            </p:nvSpPr>
            <p:spPr>
              <a:xfrm>
                <a:off x="3128760" y="3692520"/>
                <a:ext cx="134640" cy="303120"/>
              </a:xfrm>
              <a:custGeom>
                <a:avLst/>
                <a:gdLst>
                  <a:gd name="textAreaLeft" fmla="*/ 0 w 134640"/>
                  <a:gd name="textAreaRight" fmla="*/ 135000 w 134640"/>
                  <a:gd name="textAreaTop" fmla="*/ 0 h 303120"/>
                  <a:gd name="textAreaBottom" fmla="*/ 303480 h 303120"/>
                </a:gdLst>
                <a:ahLst/>
                <a:rect l="textAreaLeft" t="textAreaTop" r="textAreaRight" b="textAreaBottom"/>
                <a:pathLst>
                  <a:path w="376" h="843">
                    <a:moveTo>
                      <a:pt x="273" y="0"/>
                    </a:moveTo>
                    <a:lnTo>
                      <a:pt x="375" y="0"/>
                    </a:lnTo>
                    <a:lnTo>
                      <a:pt x="101" y="842"/>
                    </a:lnTo>
                    <a:lnTo>
                      <a:pt x="0" y="842"/>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AutoShape 51"/>
              <p:cNvSpPr/>
              <p:nvPr/>
            </p:nvSpPr>
            <p:spPr>
              <a:xfrm>
                <a:off x="3122280" y="3692520"/>
                <a:ext cx="16812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AutoShape 52"/>
              <p:cNvSpPr/>
              <p:nvPr/>
            </p:nvSpPr>
            <p:spPr>
              <a:xfrm>
                <a:off x="3133440" y="3821040"/>
                <a:ext cx="12996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53"/>
              <p:cNvSpPr/>
              <p:nvPr/>
            </p:nvSpPr>
            <p:spPr>
              <a:xfrm>
                <a:off x="2843280" y="3821040"/>
                <a:ext cx="163080" cy="17280"/>
              </a:xfrm>
              <a:prstGeom prst="roundRect">
                <a:avLst>
                  <a:gd name="adj" fmla="val 10000"/>
                </a:avLst>
              </a:prstGeom>
              <a:solidFill>
                <a:srgbClr val="fc0128"/>
              </a:solidFill>
              <a:ln w="0">
                <a:noFill/>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4" name="Group 54"/>
              <p:cNvGrpSpPr/>
              <p:nvPr/>
            </p:nvGrpSpPr>
            <p:grpSpPr>
              <a:xfrm>
                <a:off x="2840040" y="3419280"/>
                <a:ext cx="305640" cy="576000"/>
                <a:chOff x="2840040" y="3419280"/>
                <a:chExt cx="305640" cy="576000"/>
              </a:xfrm>
            </p:grpSpPr>
            <p:sp>
              <p:nvSpPr>
                <p:cNvPr id="455" name="Oval 55"/>
                <p:cNvSpPr/>
                <p:nvPr/>
              </p:nvSpPr>
              <p:spPr>
                <a:xfrm>
                  <a:off x="2959560" y="3419280"/>
                  <a:ext cx="75600" cy="774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56"/>
                <p:cNvSpPr/>
                <p:nvPr/>
              </p:nvSpPr>
              <p:spPr>
                <a:xfrm>
                  <a:off x="2840040" y="3526920"/>
                  <a:ext cx="305640" cy="468360"/>
                </a:xfrm>
                <a:custGeom>
                  <a:avLst/>
                  <a:gdLst>
                    <a:gd name="textAreaLeft" fmla="*/ 0 w 305640"/>
                    <a:gd name="textAreaRight" fmla="*/ 306000 w 305640"/>
                    <a:gd name="textAreaTop" fmla="*/ 0 h 468360"/>
                    <a:gd name="textAreaBottom" fmla="*/ 468720 h 468360"/>
                  </a:gdLst>
                  <a:ahLst/>
                  <a:rect l="textAreaLeft" t="textAreaTop" r="textAreaRight" b="textAreaBottom"/>
                  <a:pathLst>
                    <a:path w="856" h="1305">
                      <a:moveTo>
                        <a:pt x="234" y="101"/>
                      </a:moveTo>
                      <a:lnTo>
                        <a:pt x="8" y="605"/>
                      </a:lnTo>
                      <a:lnTo>
                        <a:pt x="4" y="609"/>
                      </a:lnTo>
                      <a:lnTo>
                        <a:pt x="4" y="618"/>
                      </a:lnTo>
                      <a:lnTo>
                        <a:pt x="0" y="627"/>
                      </a:lnTo>
                      <a:lnTo>
                        <a:pt x="0" y="640"/>
                      </a:lnTo>
                      <a:lnTo>
                        <a:pt x="0" y="649"/>
                      </a:lnTo>
                      <a:lnTo>
                        <a:pt x="0" y="662"/>
                      </a:lnTo>
                      <a:lnTo>
                        <a:pt x="4" y="671"/>
                      </a:lnTo>
                      <a:lnTo>
                        <a:pt x="8" y="684"/>
                      </a:lnTo>
                      <a:lnTo>
                        <a:pt x="13" y="693"/>
                      </a:lnTo>
                      <a:lnTo>
                        <a:pt x="17" y="703"/>
                      </a:lnTo>
                      <a:lnTo>
                        <a:pt x="26" y="712"/>
                      </a:lnTo>
                      <a:lnTo>
                        <a:pt x="35" y="721"/>
                      </a:lnTo>
                      <a:lnTo>
                        <a:pt x="44" y="725"/>
                      </a:lnTo>
                      <a:lnTo>
                        <a:pt x="52" y="730"/>
                      </a:lnTo>
                      <a:lnTo>
                        <a:pt x="61" y="730"/>
                      </a:lnTo>
                      <a:lnTo>
                        <a:pt x="70" y="734"/>
                      </a:lnTo>
                      <a:lnTo>
                        <a:pt x="79" y="734"/>
                      </a:lnTo>
                      <a:lnTo>
                        <a:pt x="92" y="734"/>
                      </a:lnTo>
                      <a:lnTo>
                        <a:pt x="558" y="734"/>
                      </a:lnTo>
                      <a:lnTo>
                        <a:pt x="558" y="1304"/>
                      </a:lnTo>
                      <a:lnTo>
                        <a:pt x="704" y="1304"/>
                      </a:lnTo>
                      <a:lnTo>
                        <a:pt x="704" y="627"/>
                      </a:lnTo>
                      <a:lnTo>
                        <a:pt x="704" y="618"/>
                      </a:lnTo>
                      <a:lnTo>
                        <a:pt x="704" y="609"/>
                      </a:lnTo>
                      <a:lnTo>
                        <a:pt x="700" y="605"/>
                      </a:lnTo>
                      <a:lnTo>
                        <a:pt x="695" y="601"/>
                      </a:lnTo>
                      <a:lnTo>
                        <a:pt x="691" y="596"/>
                      </a:lnTo>
                      <a:lnTo>
                        <a:pt x="682" y="587"/>
                      </a:lnTo>
                      <a:lnTo>
                        <a:pt x="678" y="583"/>
                      </a:lnTo>
                      <a:lnTo>
                        <a:pt x="673" y="578"/>
                      </a:lnTo>
                      <a:lnTo>
                        <a:pt x="664" y="578"/>
                      </a:lnTo>
                      <a:lnTo>
                        <a:pt x="656" y="574"/>
                      </a:lnTo>
                      <a:lnTo>
                        <a:pt x="647" y="574"/>
                      </a:lnTo>
                      <a:lnTo>
                        <a:pt x="638" y="570"/>
                      </a:lnTo>
                      <a:lnTo>
                        <a:pt x="629" y="570"/>
                      </a:lnTo>
                      <a:lnTo>
                        <a:pt x="620" y="570"/>
                      </a:lnTo>
                      <a:lnTo>
                        <a:pt x="616" y="570"/>
                      </a:lnTo>
                      <a:lnTo>
                        <a:pt x="607" y="570"/>
                      </a:lnTo>
                      <a:lnTo>
                        <a:pt x="337" y="552"/>
                      </a:lnTo>
                      <a:lnTo>
                        <a:pt x="412" y="331"/>
                      </a:lnTo>
                      <a:lnTo>
                        <a:pt x="465" y="411"/>
                      </a:lnTo>
                      <a:lnTo>
                        <a:pt x="793" y="411"/>
                      </a:lnTo>
                      <a:lnTo>
                        <a:pt x="802" y="406"/>
                      </a:lnTo>
                      <a:lnTo>
                        <a:pt x="811" y="406"/>
                      </a:lnTo>
                      <a:lnTo>
                        <a:pt x="815" y="402"/>
                      </a:lnTo>
                      <a:lnTo>
                        <a:pt x="820" y="402"/>
                      </a:lnTo>
                      <a:lnTo>
                        <a:pt x="829" y="398"/>
                      </a:lnTo>
                      <a:lnTo>
                        <a:pt x="837" y="393"/>
                      </a:lnTo>
                      <a:lnTo>
                        <a:pt x="842" y="384"/>
                      </a:lnTo>
                      <a:lnTo>
                        <a:pt x="846" y="380"/>
                      </a:lnTo>
                      <a:lnTo>
                        <a:pt x="851" y="371"/>
                      </a:lnTo>
                      <a:lnTo>
                        <a:pt x="851" y="367"/>
                      </a:lnTo>
                      <a:lnTo>
                        <a:pt x="855" y="358"/>
                      </a:lnTo>
                      <a:lnTo>
                        <a:pt x="855" y="345"/>
                      </a:lnTo>
                      <a:lnTo>
                        <a:pt x="855" y="336"/>
                      </a:lnTo>
                      <a:lnTo>
                        <a:pt x="851" y="327"/>
                      </a:lnTo>
                      <a:lnTo>
                        <a:pt x="846" y="318"/>
                      </a:lnTo>
                      <a:lnTo>
                        <a:pt x="842" y="309"/>
                      </a:lnTo>
                      <a:lnTo>
                        <a:pt x="837" y="305"/>
                      </a:lnTo>
                      <a:lnTo>
                        <a:pt x="833" y="300"/>
                      </a:lnTo>
                      <a:lnTo>
                        <a:pt x="824" y="291"/>
                      </a:lnTo>
                      <a:lnTo>
                        <a:pt x="815" y="286"/>
                      </a:lnTo>
                      <a:lnTo>
                        <a:pt x="815" y="282"/>
                      </a:lnTo>
                      <a:lnTo>
                        <a:pt x="802" y="282"/>
                      </a:lnTo>
                      <a:lnTo>
                        <a:pt x="793" y="282"/>
                      </a:lnTo>
                      <a:lnTo>
                        <a:pt x="541" y="282"/>
                      </a:lnTo>
                      <a:lnTo>
                        <a:pt x="487" y="194"/>
                      </a:lnTo>
                      <a:lnTo>
                        <a:pt x="496" y="185"/>
                      </a:lnTo>
                      <a:lnTo>
                        <a:pt x="500" y="172"/>
                      </a:lnTo>
                      <a:lnTo>
                        <a:pt x="500" y="163"/>
                      </a:lnTo>
                      <a:lnTo>
                        <a:pt x="505" y="150"/>
                      </a:lnTo>
                      <a:lnTo>
                        <a:pt x="505" y="132"/>
                      </a:lnTo>
                      <a:lnTo>
                        <a:pt x="505" y="123"/>
                      </a:lnTo>
                      <a:lnTo>
                        <a:pt x="505" y="105"/>
                      </a:lnTo>
                      <a:lnTo>
                        <a:pt x="500" y="97"/>
                      </a:lnTo>
                      <a:lnTo>
                        <a:pt x="496" y="83"/>
                      </a:lnTo>
                      <a:lnTo>
                        <a:pt x="491" y="75"/>
                      </a:lnTo>
                      <a:lnTo>
                        <a:pt x="487" y="66"/>
                      </a:lnTo>
                      <a:lnTo>
                        <a:pt x="482" y="57"/>
                      </a:lnTo>
                      <a:lnTo>
                        <a:pt x="474" y="44"/>
                      </a:lnTo>
                      <a:lnTo>
                        <a:pt x="465" y="39"/>
                      </a:lnTo>
                      <a:lnTo>
                        <a:pt x="456" y="30"/>
                      </a:lnTo>
                      <a:lnTo>
                        <a:pt x="447" y="22"/>
                      </a:lnTo>
                      <a:lnTo>
                        <a:pt x="434" y="13"/>
                      </a:lnTo>
                      <a:lnTo>
                        <a:pt x="425" y="13"/>
                      </a:lnTo>
                      <a:lnTo>
                        <a:pt x="412" y="4"/>
                      </a:lnTo>
                      <a:lnTo>
                        <a:pt x="399" y="4"/>
                      </a:lnTo>
                      <a:lnTo>
                        <a:pt x="385" y="0"/>
                      </a:lnTo>
                      <a:lnTo>
                        <a:pt x="372" y="0"/>
                      </a:lnTo>
                      <a:lnTo>
                        <a:pt x="359" y="0"/>
                      </a:lnTo>
                      <a:lnTo>
                        <a:pt x="346" y="0"/>
                      </a:lnTo>
                      <a:lnTo>
                        <a:pt x="332" y="4"/>
                      </a:lnTo>
                      <a:lnTo>
                        <a:pt x="318" y="8"/>
                      </a:lnTo>
                      <a:lnTo>
                        <a:pt x="305" y="13"/>
                      </a:lnTo>
                      <a:lnTo>
                        <a:pt x="292" y="17"/>
                      </a:lnTo>
                      <a:lnTo>
                        <a:pt x="278" y="26"/>
                      </a:lnTo>
                      <a:lnTo>
                        <a:pt x="270" y="39"/>
                      </a:lnTo>
                      <a:lnTo>
                        <a:pt x="261" y="48"/>
                      </a:lnTo>
                      <a:lnTo>
                        <a:pt x="252" y="57"/>
                      </a:lnTo>
                      <a:lnTo>
                        <a:pt x="243" y="75"/>
                      </a:lnTo>
                      <a:lnTo>
                        <a:pt x="234" y="83"/>
                      </a:lnTo>
                      <a:lnTo>
                        <a:pt x="234"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457" name="Group 57"/>
            <p:cNvGrpSpPr/>
            <p:nvPr/>
          </p:nvGrpSpPr>
          <p:grpSpPr>
            <a:xfrm>
              <a:off x="2392200" y="4065480"/>
              <a:ext cx="1532880" cy="709560"/>
              <a:chOff x="2392200" y="4065480"/>
              <a:chExt cx="1532880" cy="709560"/>
            </a:xfrm>
          </p:grpSpPr>
          <p:grpSp>
            <p:nvGrpSpPr>
              <p:cNvPr id="458" name="Group 58"/>
              <p:cNvGrpSpPr/>
              <p:nvPr/>
            </p:nvGrpSpPr>
            <p:grpSpPr>
              <a:xfrm>
                <a:off x="2392200" y="4065480"/>
                <a:ext cx="481680" cy="709560"/>
                <a:chOff x="2392200" y="4065480"/>
                <a:chExt cx="481680" cy="709560"/>
              </a:xfrm>
            </p:grpSpPr>
            <p:grpSp>
              <p:nvGrpSpPr>
                <p:cNvPr id="459" name="Group 59"/>
                <p:cNvGrpSpPr/>
                <p:nvPr/>
              </p:nvGrpSpPr>
              <p:grpSpPr>
                <a:xfrm>
                  <a:off x="2392200" y="4065480"/>
                  <a:ext cx="481680" cy="709560"/>
                  <a:chOff x="2392200" y="4065480"/>
                  <a:chExt cx="481680" cy="709560"/>
                </a:xfrm>
              </p:grpSpPr>
              <p:grpSp>
                <p:nvGrpSpPr>
                  <p:cNvPr id="460" name="Group 60"/>
                  <p:cNvGrpSpPr/>
                  <p:nvPr/>
                </p:nvGrpSpPr>
                <p:grpSpPr>
                  <a:xfrm>
                    <a:off x="2392200" y="4178160"/>
                    <a:ext cx="481680" cy="596880"/>
                    <a:chOff x="2392200" y="4178160"/>
                    <a:chExt cx="481680" cy="596880"/>
                  </a:xfrm>
                </p:grpSpPr>
                <p:sp>
                  <p:nvSpPr>
                    <p:cNvPr id="461" name="Freeform 61"/>
                    <p:cNvSpPr/>
                    <p:nvPr/>
                  </p:nvSpPr>
                  <p:spPr>
                    <a:xfrm>
                      <a:off x="2392200" y="4178160"/>
                      <a:ext cx="480240" cy="596880"/>
                    </a:xfrm>
                    <a:custGeom>
                      <a:avLst/>
                      <a:gdLst>
                        <a:gd name="textAreaLeft" fmla="*/ 0 w 480240"/>
                        <a:gd name="textAreaRight" fmla="*/ 480600 w 480240"/>
                        <a:gd name="textAreaTop" fmla="*/ 0 h 596880"/>
                        <a:gd name="textAreaBottom" fmla="*/ 597240 h 596880"/>
                      </a:gdLst>
                      <a:ahLst/>
                      <a:rect l="textAreaLeft" t="textAreaTop" r="textAreaRight" b="textAreaBottom"/>
                      <a:pathLst>
                        <a:path w="1346" h="1664">
                          <a:moveTo>
                            <a:pt x="0" y="1663"/>
                          </a:moveTo>
                          <a:lnTo>
                            <a:pt x="0" y="335"/>
                          </a:lnTo>
                          <a:lnTo>
                            <a:pt x="335" y="0"/>
                          </a:lnTo>
                          <a:lnTo>
                            <a:pt x="1345" y="0"/>
                          </a:lnTo>
                          <a:lnTo>
                            <a:pt x="1345" y="1326"/>
                          </a:lnTo>
                          <a:lnTo>
                            <a:pt x="1008" y="1663"/>
                          </a:lnTo>
                          <a:lnTo>
                            <a:pt x="0" y="1663"/>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Freeform 62"/>
                    <p:cNvSpPr/>
                    <p:nvPr/>
                  </p:nvSpPr>
                  <p:spPr>
                    <a:xfrm>
                      <a:off x="2392200" y="4178160"/>
                      <a:ext cx="480240" cy="119880"/>
                    </a:xfrm>
                    <a:custGeom>
                      <a:avLst/>
                      <a:gdLst>
                        <a:gd name="textAreaLeft" fmla="*/ 0 w 480240"/>
                        <a:gd name="textAreaRight" fmla="*/ 480600 w 480240"/>
                        <a:gd name="textAreaTop" fmla="*/ 0 h 119880"/>
                        <a:gd name="textAreaBottom" fmla="*/ 120240 h 119880"/>
                      </a:gdLst>
                      <a:ahLst/>
                      <a:rect l="textAreaLeft" t="textAreaTop" r="textAreaRight" b="textAreaBottom"/>
                      <a:pathLst>
                        <a:path w="1346" h="336">
                          <a:moveTo>
                            <a:pt x="0" y="335"/>
                          </a:moveTo>
                          <a:lnTo>
                            <a:pt x="335" y="0"/>
                          </a:lnTo>
                          <a:lnTo>
                            <a:pt x="1345" y="0"/>
                          </a:lnTo>
                          <a:lnTo>
                            <a:pt x="1008" y="335"/>
                          </a:lnTo>
                          <a:lnTo>
                            <a:pt x="0" y="335"/>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Freeform 63"/>
                    <p:cNvSpPr/>
                    <p:nvPr/>
                  </p:nvSpPr>
                  <p:spPr>
                    <a:xfrm>
                      <a:off x="2752560" y="4178160"/>
                      <a:ext cx="121320" cy="596880"/>
                    </a:xfrm>
                    <a:custGeom>
                      <a:avLst/>
                      <a:gdLst>
                        <a:gd name="textAreaLeft" fmla="*/ 0 w 121320"/>
                        <a:gd name="textAreaRight" fmla="*/ 121680 w 121320"/>
                        <a:gd name="textAreaTop" fmla="*/ 0 h 596880"/>
                        <a:gd name="textAreaBottom" fmla="*/ 597240 h 596880"/>
                      </a:gdLst>
                      <a:ahLst/>
                      <a:rect l="textAreaLeft" t="textAreaTop" r="textAreaRight" b="textAreaBottom"/>
                      <a:pathLst>
                        <a:path w="338" h="1664">
                          <a:moveTo>
                            <a:pt x="0" y="1663"/>
                          </a:moveTo>
                          <a:lnTo>
                            <a:pt x="0" y="335"/>
                          </a:lnTo>
                          <a:lnTo>
                            <a:pt x="337" y="0"/>
                          </a:lnTo>
                          <a:lnTo>
                            <a:pt x="337" y="1326"/>
                          </a:lnTo>
                          <a:lnTo>
                            <a:pt x="0" y="1663"/>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64" name="Group 64"/>
                  <p:cNvGrpSpPr/>
                  <p:nvPr/>
                </p:nvGrpSpPr>
                <p:grpSpPr>
                  <a:xfrm>
                    <a:off x="2503080" y="4065480"/>
                    <a:ext cx="370800" cy="122400"/>
                    <a:chOff x="2503080" y="4065480"/>
                    <a:chExt cx="370800" cy="122400"/>
                  </a:xfrm>
                </p:grpSpPr>
                <p:sp>
                  <p:nvSpPr>
                    <p:cNvPr id="465" name="Freeform 65"/>
                    <p:cNvSpPr/>
                    <p:nvPr/>
                  </p:nvSpPr>
                  <p:spPr>
                    <a:xfrm>
                      <a:off x="2503080" y="4065480"/>
                      <a:ext cx="370800" cy="122400"/>
                    </a:xfrm>
                    <a:custGeom>
                      <a:avLst/>
                      <a:gdLst>
                        <a:gd name="textAreaLeft" fmla="*/ 0 w 370800"/>
                        <a:gd name="textAreaRight" fmla="*/ 371160 w 370800"/>
                        <a:gd name="textAreaTop" fmla="*/ 0 h 122400"/>
                        <a:gd name="textAreaBottom" fmla="*/ 122760 h 122400"/>
                      </a:gdLst>
                      <a:ahLst/>
                      <a:rect l="textAreaLeft" t="textAreaTop" r="textAreaRight" b="textAreaBottom"/>
                      <a:pathLst>
                        <a:path w="1038" h="345">
                          <a:moveTo>
                            <a:pt x="0" y="344"/>
                          </a:moveTo>
                          <a:lnTo>
                            <a:pt x="0" y="85"/>
                          </a:lnTo>
                          <a:lnTo>
                            <a:pt x="85" y="0"/>
                          </a:lnTo>
                          <a:lnTo>
                            <a:pt x="1037" y="0"/>
                          </a:lnTo>
                          <a:lnTo>
                            <a:pt x="1037" y="257"/>
                          </a:lnTo>
                          <a:lnTo>
                            <a:pt x="950"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Freeform 66"/>
                    <p:cNvSpPr/>
                    <p:nvPr/>
                  </p:nvSpPr>
                  <p:spPr>
                    <a:xfrm>
                      <a:off x="2503080" y="4065480"/>
                      <a:ext cx="370800" cy="30960"/>
                    </a:xfrm>
                    <a:custGeom>
                      <a:avLst/>
                      <a:gdLst>
                        <a:gd name="textAreaLeft" fmla="*/ 0 w 370800"/>
                        <a:gd name="textAreaRight" fmla="*/ 371160 w 370800"/>
                        <a:gd name="textAreaTop" fmla="*/ 0 h 30960"/>
                        <a:gd name="textAreaBottom" fmla="*/ 31320 h 30960"/>
                      </a:gdLst>
                      <a:ahLst/>
                      <a:rect l="textAreaLeft" t="textAreaTop" r="textAreaRight" b="textAreaBottom"/>
                      <a:pathLst>
                        <a:path w="1038" h="86">
                          <a:moveTo>
                            <a:pt x="0" y="85"/>
                          </a:moveTo>
                          <a:lnTo>
                            <a:pt x="85" y="0"/>
                          </a:lnTo>
                          <a:lnTo>
                            <a:pt x="1037" y="0"/>
                          </a:lnTo>
                          <a:lnTo>
                            <a:pt x="950"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67" name="Freeform 67"/>
                    <p:cNvSpPr/>
                    <p:nvPr/>
                  </p:nvSpPr>
                  <p:spPr>
                    <a:xfrm>
                      <a:off x="2842200" y="4065480"/>
                      <a:ext cx="31320" cy="122400"/>
                    </a:xfrm>
                    <a:custGeom>
                      <a:avLst/>
                      <a:gdLst>
                        <a:gd name="textAreaLeft" fmla="*/ 0 w 31320"/>
                        <a:gd name="textAreaRight" fmla="*/ 31680 w 31320"/>
                        <a:gd name="textAreaTop" fmla="*/ 0 h 122400"/>
                        <a:gd name="textAreaBottom" fmla="*/ 122760 h 122400"/>
                      </a:gdLst>
                      <a:ahLst/>
                      <a:rect l="textAreaLeft" t="textAreaTop" r="textAreaRight" b="textAreaBottom"/>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68" name="Freeform 68"/>
                <p:cNvSpPr/>
                <p:nvPr/>
              </p:nvSpPr>
              <p:spPr>
                <a:xfrm>
                  <a:off x="2490480" y="4230720"/>
                  <a:ext cx="249840" cy="42840"/>
                </a:xfrm>
                <a:custGeom>
                  <a:avLst/>
                  <a:gdLst>
                    <a:gd name="textAreaLeft" fmla="*/ 0 w 249840"/>
                    <a:gd name="textAreaRight" fmla="*/ 250200 w 249840"/>
                    <a:gd name="textAreaTop" fmla="*/ 0 h 42840"/>
                    <a:gd name="textAreaBottom" fmla="*/ 43200 h 42840"/>
                  </a:gdLst>
                  <a:ahLst/>
                  <a:rect l="textAreaLeft" t="textAreaTop" r="textAreaRight" b="textAreaBottom"/>
                  <a:pathLst>
                    <a:path w="698" h="120">
                      <a:moveTo>
                        <a:pt x="173" y="0"/>
                      </a:moveTo>
                      <a:lnTo>
                        <a:pt x="697" y="0"/>
                      </a:lnTo>
                      <a:lnTo>
                        <a:pt x="522" y="119"/>
                      </a:lnTo>
                      <a:lnTo>
                        <a:pt x="0" y="119"/>
                      </a:lnTo>
                      <a:lnTo>
                        <a:pt x="173" y="0"/>
                      </a:lnTo>
                    </a:path>
                  </a:pathLst>
                </a:custGeom>
                <a:solidFill>
                  <a:srgbClr val="f6bf69"/>
                </a:solidFill>
                <a:ln w="25560">
                  <a:solidFill>
                    <a:srgbClr val="000000"/>
                  </a:solidFill>
                  <a:round/>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469" name="Group 69"/>
              <p:cNvGrpSpPr/>
              <p:nvPr/>
            </p:nvGrpSpPr>
            <p:grpSpPr>
              <a:xfrm>
                <a:off x="2869560" y="4065480"/>
                <a:ext cx="596880" cy="709560"/>
                <a:chOff x="2869560" y="4065480"/>
                <a:chExt cx="596880" cy="709560"/>
              </a:xfrm>
            </p:grpSpPr>
            <p:grpSp>
              <p:nvGrpSpPr>
                <p:cNvPr id="470" name="Group 70"/>
                <p:cNvGrpSpPr/>
                <p:nvPr/>
              </p:nvGrpSpPr>
              <p:grpSpPr>
                <a:xfrm>
                  <a:off x="2869560" y="4065480"/>
                  <a:ext cx="596880" cy="709560"/>
                  <a:chOff x="2869560" y="4065480"/>
                  <a:chExt cx="596880" cy="709560"/>
                </a:xfrm>
              </p:grpSpPr>
              <p:grpSp>
                <p:nvGrpSpPr>
                  <p:cNvPr id="471" name="Group 71"/>
                  <p:cNvGrpSpPr/>
                  <p:nvPr/>
                </p:nvGrpSpPr>
                <p:grpSpPr>
                  <a:xfrm>
                    <a:off x="2869560" y="4178160"/>
                    <a:ext cx="596880" cy="596880"/>
                    <a:chOff x="2869560" y="4178160"/>
                    <a:chExt cx="596880" cy="596880"/>
                  </a:xfrm>
                </p:grpSpPr>
                <p:sp>
                  <p:nvSpPr>
                    <p:cNvPr id="472" name="Freeform 72"/>
                    <p:cNvSpPr/>
                    <p:nvPr/>
                  </p:nvSpPr>
                  <p:spPr>
                    <a:xfrm>
                      <a:off x="2869560" y="4178160"/>
                      <a:ext cx="595800" cy="596880"/>
                    </a:xfrm>
                    <a:custGeom>
                      <a:avLst/>
                      <a:gdLst>
                        <a:gd name="textAreaLeft" fmla="*/ 0 w 595800"/>
                        <a:gd name="textAreaRight" fmla="*/ 596160 w 595800"/>
                        <a:gd name="textAreaTop" fmla="*/ 0 h 596880"/>
                        <a:gd name="textAreaBottom" fmla="*/ 597240 h 596880"/>
                      </a:gdLst>
                      <a:ahLst/>
                      <a:rect l="textAreaLeft" t="textAreaTop" r="textAreaRight" b="textAreaBottom"/>
                      <a:pathLst>
                        <a:path w="1668" h="1664">
                          <a:moveTo>
                            <a:pt x="0" y="1663"/>
                          </a:moveTo>
                          <a:lnTo>
                            <a:pt x="0" y="414"/>
                          </a:lnTo>
                          <a:lnTo>
                            <a:pt x="414" y="0"/>
                          </a:lnTo>
                          <a:lnTo>
                            <a:pt x="1667" y="0"/>
                          </a:lnTo>
                          <a:lnTo>
                            <a:pt x="1667" y="1247"/>
                          </a:lnTo>
                          <a:lnTo>
                            <a:pt x="1251" y="1663"/>
                          </a:lnTo>
                          <a:lnTo>
                            <a:pt x="0" y="1663"/>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Freeform 73"/>
                    <p:cNvSpPr/>
                    <p:nvPr/>
                  </p:nvSpPr>
                  <p:spPr>
                    <a:xfrm>
                      <a:off x="2869560" y="4178160"/>
                      <a:ext cx="595800" cy="148680"/>
                    </a:xfrm>
                    <a:custGeom>
                      <a:avLst/>
                      <a:gdLst>
                        <a:gd name="textAreaLeft" fmla="*/ 0 w 595800"/>
                        <a:gd name="textAreaRight" fmla="*/ 596160 w 595800"/>
                        <a:gd name="textAreaTop" fmla="*/ 0 h 148680"/>
                        <a:gd name="textAreaBottom" fmla="*/ 149040 h 148680"/>
                      </a:gdLst>
                      <a:ahLst/>
                      <a:rect l="textAreaLeft" t="textAreaTop" r="textAreaRight" b="textAreaBottom"/>
                      <a:pathLst>
                        <a:path w="1668" h="415">
                          <a:moveTo>
                            <a:pt x="0" y="414"/>
                          </a:moveTo>
                          <a:lnTo>
                            <a:pt x="414" y="0"/>
                          </a:lnTo>
                          <a:lnTo>
                            <a:pt x="1667" y="0"/>
                          </a:lnTo>
                          <a:lnTo>
                            <a:pt x="1251" y="414"/>
                          </a:lnTo>
                          <a:lnTo>
                            <a:pt x="0" y="414"/>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Freeform 74"/>
                    <p:cNvSpPr/>
                    <p:nvPr/>
                  </p:nvSpPr>
                  <p:spPr>
                    <a:xfrm>
                      <a:off x="3317040" y="4178160"/>
                      <a:ext cx="149400" cy="596880"/>
                    </a:xfrm>
                    <a:custGeom>
                      <a:avLst/>
                      <a:gdLst>
                        <a:gd name="textAreaLeft" fmla="*/ 0 w 149400"/>
                        <a:gd name="textAreaRight" fmla="*/ 149760 w 149400"/>
                        <a:gd name="textAreaTop" fmla="*/ 0 h 596880"/>
                        <a:gd name="textAreaBottom" fmla="*/ 597240 h 596880"/>
                      </a:gdLst>
                      <a:ahLst/>
                      <a:rect l="textAreaLeft" t="textAreaTop" r="textAreaRight" b="textAreaBottom"/>
                      <a:pathLst>
                        <a:path w="417" h="1664">
                          <a:moveTo>
                            <a:pt x="0" y="1663"/>
                          </a:moveTo>
                          <a:lnTo>
                            <a:pt x="0" y="414"/>
                          </a:lnTo>
                          <a:lnTo>
                            <a:pt x="416" y="0"/>
                          </a:lnTo>
                          <a:lnTo>
                            <a:pt x="416" y="1247"/>
                          </a:lnTo>
                          <a:lnTo>
                            <a:pt x="0" y="1663"/>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75" name="Group 75"/>
                  <p:cNvGrpSpPr/>
                  <p:nvPr/>
                </p:nvGrpSpPr>
                <p:grpSpPr>
                  <a:xfrm>
                    <a:off x="3005640" y="4065480"/>
                    <a:ext cx="460800" cy="122400"/>
                    <a:chOff x="3005640" y="4065480"/>
                    <a:chExt cx="460800" cy="122400"/>
                  </a:xfrm>
                </p:grpSpPr>
                <p:sp>
                  <p:nvSpPr>
                    <p:cNvPr id="476" name="Freeform 76"/>
                    <p:cNvSpPr/>
                    <p:nvPr/>
                  </p:nvSpPr>
                  <p:spPr>
                    <a:xfrm>
                      <a:off x="3005640" y="4065480"/>
                      <a:ext cx="460800" cy="122400"/>
                    </a:xfrm>
                    <a:custGeom>
                      <a:avLst/>
                      <a:gdLst>
                        <a:gd name="textAreaLeft" fmla="*/ 0 w 460800"/>
                        <a:gd name="textAreaRight" fmla="*/ 461160 w 460800"/>
                        <a:gd name="textAreaTop" fmla="*/ 0 h 122400"/>
                        <a:gd name="textAreaBottom" fmla="*/ 122760 h 122400"/>
                      </a:gdLst>
                      <a:ahLst/>
                      <a:rect l="textAreaLeft" t="textAreaTop" r="textAreaRight" b="textAreaBottom"/>
                      <a:pathLst>
                        <a:path w="1289" h="345">
                          <a:moveTo>
                            <a:pt x="0" y="344"/>
                          </a:moveTo>
                          <a:lnTo>
                            <a:pt x="0" y="85"/>
                          </a:lnTo>
                          <a:lnTo>
                            <a:pt x="85" y="0"/>
                          </a:lnTo>
                          <a:lnTo>
                            <a:pt x="1288" y="0"/>
                          </a:lnTo>
                          <a:lnTo>
                            <a:pt x="1288" y="257"/>
                          </a:lnTo>
                          <a:lnTo>
                            <a:pt x="1201"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Freeform 77"/>
                    <p:cNvSpPr/>
                    <p:nvPr/>
                  </p:nvSpPr>
                  <p:spPr>
                    <a:xfrm>
                      <a:off x="3005640" y="4065480"/>
                      <a:ext cx="460800" cy="30960"/>
                    </a:xfrm>
                    <a:custGeom>
                      <a:avLst/>
                      <a:gdLst>
                        <a:gd name="textAreaLeft" fmla="*/ 0 w 460800"/>
                        <a:gd name="textAreaRight" fmla="*/ 461160 w 460800"/>
                        <a:gd name="textAreaTop" fmla="*/ 0 h 30960"/>
                        <a:gd name="textAreaBottom" fmla="*/ 31320 h 30960"/>
                      </a:gdLst>
                      <a:ahLst/>
                      <a:rect l="textAreaLeft" t="textAreaTop" r="textAreaRight" b="textAreaBottom"/>
                      <a:pathLst>
                        <a:path w="1289" h="86">
                          <a:moveTo>
                            <a:pt x="0" y="85"/>
                          </a:moveTo>
                          <a:lnTo>
                            <a:pt x="85" y="0"/>
                          </a:lnTo>
                          <a:lnTo>
                            <a:pt x="1288" y="0"/>
                          </a:lnTo>
                          <a:lnTo>
                            <a:pt x="1201"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78" name="Freeform 78"/>
                    <p:cNvSpPr/>
                    <p:nvPr/>
                  </p:nvSpPr>
                  <p:spPr>
                    <a:xfrm>
                      <a:off x="3434400" y="4065480"/>
                      <a:ext cx="31680" cy="122400"/>
                    </a:xfrm>
                    <a:custGeom>
                      <a:avLst/>
                      <a:gdLst>
                        <a:gd name="textAreaLeft" fmla="*/ 0 w 31680"/>
                        <a:gd name="textAreaRight" fmla="*/ 32040 w 31680"/>
                        <a:gd name="textAreaTop" fmla="*/ 0 h 122400"/>
                        <a:gd name="textAreaBottom" fmla="*/ 122760 h 122400"/>
                      </a:gdLst>
                      <a:ahLst/>
                      <a:rect l="textAreaLeft" t="textAreaTop" r="textAreaRight" b="textAreaBottom"/>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79" name="Oval 79"/>
                <p:cNvSpPr/>
                <p:nvPr/>
              </p:nvSpPr>
              <p:spPr>
                <a:xfrm>
                  <a:off x="3051720" y="4122720"/>
                  <a:ext cx="77400" cy="4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80"/>
                <p:cNvSpPr/>
                <p:nvPr/>
              </p:nvSpPr>
              <p:spPr>
                <a:xfrm>
                  <a:off x="2943720" y="4456080"/>
                  <a:ext cx="313560" cy="133200"/>
                </a:xfrm>
                <a:custGeom>
                  <a:avLst/>
                  <a:gdLst>
                    <a:gd name="textAreaLeft" fmla="*/ 0 w 313560"/>
                    <a:gd name="textAreaRight" fmla="*/ 313920 w 313560"/>
                    <a:gd name="textAreaTop" fmla="*/ 0 h 133200"/>
                    <a:gd name="textAreaBottom" fmla="*/ 133560 h 133200"/>
                  </a:gdLst>
                  <a:ahLst/>
                  <a:rect l="textAreaLeft" t="textAreaTop" r="textAreaRight" b="textAreaBottom"/>
                  <a:pathLst>
                    <a:path w="874" h="371">
                      <a:moveTo>
                        <a:pt x="107" y="0"/>
                      </a:moveTo>
                      <a:lnTo>
                        <a:pt x="764" y="0"/>
                      </a:lnTo>
                      <a:lnTo>
                        <a:pt x="873" y="108"/>
                      </a:lnTo>
                      <a:lnTo>
                        <a:pt x="873" y="262"/>
                      </a:lnTo>
                      <a:lnTo>
                        <a:pt x="764" y="370"/>
                      </a:lnTo>
                      <a:lnTo>
                        <a:pt x="107" y="370"/>
                      </a:lnTo>
                      <a:lnTo>
                        <a:pt x="0" y="262"/>
                      </a:lnTo>
                      <a:lnTo>
                        <a:pt x="0" y="108"/>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81" name="Freeform 81"/>
              <p:cNvSpPr/>
              <p:nvPr/>
            </p:nvSpPr>
            <p:spPr>
              <a:xfrm>
                <a:off x="3763440" y="4429080"/>
                <a:ext cx="134640" cy="303120"/>
              </a:xfrm>
              <a:custGeom>
                <a:avLst/>
                <a:gdLst>
                  <a:gd name="textAreaLeft" fmla="*/ 0 w 134640"/>
                  <a:gd name="textAreaRight" fmla="*/ 135000 w 134640"/>
                  <a:gd name="textAreaTop" fmla="*/ 0 h 303120"/>
                  <a:gd name="textAreaBottom" fmla="*/ 303480 h 303120"/>
                </a:gdLst>
                <a:ahLst/>
                <a:rect l="textAreaLeft" t="textAreaTop" r="textAreaRight" b="textAreaBottom"/>
                <a:pathLst>
                  <a:path w="376" h="843">
                    <a:moveTo>
                      <a:pt x="273" y="0"/>
                    </a:moveTo>
                    <a:lnTo>
                      <a:pt x="375" y="0"/>
                    </a:lnTo>
                    <a:lnTo>
                      <a:pt x="101" y="842"/>
                    </a:lnTo>
                    <a:lnTo>
                      <a:pt x="0" y="842"/>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2" name="AutoShape 82"/>
              <p:cNvSpPr/>
              <p:nvPr/>
            </p:nvSpPr>
            <p:spPr>
              <a:xfrm>
                <a:off x="3756960" y="4429080"/>
                <a:ext cx="16812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AutoShape 83"/>
              <p:cNvSpPr/>
              <p:nvPr/>
            </p:nvSpPr>
            <p:spPr>
              <a:xfrm>
                <a:off x="3768120" y="4557600"/>
                <a:ext cx="129960" cy="25560"/>
              </a:xfrm>
              <a:prstGeom prst="roundRect">
                <a:avLst>
                  <a:gd name="adj" fmla="val 6250"/>
                </a:avLst>
              </a:prstGeom>
              <a:solidFill>
                <a:srgbClr val="fc0128"/>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AutoShape 84"/>
              <p:cNvSpPr/>
              <p:nvPr/>
            </p:nvSpPr>
            <p:spPr>
              <a:xfrm>
                <a:off x="3477960" y="4557600"/>
                <a:ext cx="163080" cy="17640"/>
              </a:xfrm>
              <a:prstGeom prst="roundRect">
                <a:avLst>
                  <a:gd name="adj" fmla="val 10000"/>
                </a:avLst>
              </a:prstGeom>
              <a:solidFill>
                <a:srgbClr val="fc0128"/>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5" name="Group 85"/>
              <p:cNvGrpSpPr/>
              <p:nvPr/>
            </p:nvGrpSpPr>
            <p:grpSpPr>
              <a:xfrm>
                <a:off x="3474720" y="4155840"/>
                <a:ext cx="305640" cy="576000"/>
                <a:chOff x="3474720" y="4155840"/>
                <a:chExt cx="305640" cy="576000"/>
              </a:xfrm>
            </p:grpSpPr>
            <p:sp>
              <p:nvSpPr>
                <p:cNvPr id="486" name="Oval 86"/>
                <p:cNvSpPr/>
                <p:nvPr/>
              </p:nvSpPr>
              <p:spPr>
                <a:xfrm>
                  <a:off x="3594240" y="4155840"/>
                  <a:ext cx="75600" cy="774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87"/>
                <p:cNvSpPr/>
                <p:nvPr/>
              </p:nvSpPr>
              <p:spPr>
                <a:xfrm>
                  <a:off x="3474720" y="4263480"/>
                  <a:ext cx="305640" cy="468360"/>
                </a:xfrm>
                <a:custGeom>
                  <a:avLst/>
                  <a:gdLst>
                    <a:gd name="textAreaLeft" fmla="*/ 0 w 305640"/>
                    <a:gd name="textAreaRight" fmla="*/ 306000 w 305640"/>
                    <a:gd name="textAreaTop" fmla="*/ 0 h 468360"/>
                    <a:gd name="textAreaBottom" fmla="*/ 468720 h 468360"/>
                  </a:gdLst>
                  <a:ahLst/>
                  <a:rect l="textAreaLeft" t="textAreaTop" r="textAreaRight" b="textAreaBottom"/>
                  <a:pathLst>
                    <a:path w="857" h="1305">
                      <a:moveTo>
                        <a:pt x="235" y="101"/>
                      </a:moveTo>
                      <a:lnTo>
                        <a:pt x="8" y="605"/>
                      </a:lnTo>
                      <a:lnTo>
                        <a:pt x="4" y="609"/>
                      </a:lnTo>
                      <a:lnTo>
                        <a:pt x="4" y="618"/>
                      </a:lnTo>
                      <a:lnTo>
                        <a:pt x="0" y="627"/>
                      </a:lnTo>
                      <a:lnTo>
                        <a:pt x="0" y="640"/>
                      </a:lnTo>
                      <a:lnTo>
                        <a:pt x="0" y="649"/>
                      </a:lnTo>
                      <a:lnTo>
                        <a:pt x="0" y="662"/>
                      </a:lnTo>
                      <a:lnTo>
                        <a:pt x="4" y="671"/>
                      </a:lnTo>
                      <a:lnTo>
                        <a:pt x="8" y="684"/>
                      </a:lnTo>
                      <a:lnTo>
                        <a:pt x="13" y="693"/>
                      </a:lnTo>
                      <a:lnTo>
                        <a:pt x="17" y="703"/>
                      </a:lnTo>
                      <a:lnTo>
                        <a:pt x="26" y="712"/>
                      </a:lnTo>
                      <a:lnTo>
                        <a:pt x="35" y="721"/>
                      </a:lnTo>
                      <a:lnTo>
                        <a:pt x="44" y="725"/>
                      </a:lnTo>
                      <a:lnTo>
                        <a:pt x="53" y="730"/>
                      </a:lnTo>
                      <a:lnTo>
                        <a:pt x="61" y="730"/>
                      </a:lnTo>
                      <a:lnTo>
                        <a:pt x="70" y="734"/>
                      </a:lnTo>
                      <a:lnTo>
                        <a:pt x="79" y="734"/>
                      </a:lnTo>
                      <a:lnTo>
                        <a:pt x="92" y="734"/>
                      </a:lnTo>
                      <a:lnTo>
                        <a:pt x="559" y="734"/>
                      </a:lnTo>
                      <a:lnTo>
                        <a:pt x="559" y="1304"/>
                      </a:lnTo>
                      <a:lnTo>
                        <a:pt x="705" y="1304"/>
                      </a:lnTo>
                      <a:lnTo>
                        <a:pt x="705" y="627"/>
                      </a:lnTo>
                      <a:lnTo>
                        <a:pt x="705" y="618"/>
                      </a:lnTo>
                      <a:lnTo>
                        <a:pt x="705" y="609"/>
                      </a:lnTo>
                      <a:lnTo>
                        <a:pt x="700" y="605"/>
                      </a:lnTo>
                      <a:lnTo>
                        <a:pt x="696" y="601"/>
                      </a:lnTo>
                      <a:lnTo>
                        <a:pt x="692" y="596"/>
                      </a:lnTo>
                      <a:lnTo>
                        <a:pt x="683" y="587"/>
                      </a:lnTo>
                      <a:lnTo>
                        <a:pt x="678" y="583"/>
                      </a:lnTo>
                      <a:lnTo>
                        <a:pt x="674" y="578"/>
                      </a:lnTo>
                      <a:lnTo>
                        <a:pt x="665" y="578"/>
                      </a:lnTo>
                      <a:lnTo>
                        <a:pt x="656" y="574"/>
                      </a:lnTo>
                      <a:lnTo>
                        <a:pt x="647" y="574"/>
                      </a:lnTo>
                      <a:lnTo>
                        <a:pt x="639" y="570"/>
                      </a:lnTo>
                      <a:lnTo>
                        <a:pt x="630" y="570"/>
                      </a:lnTo>
                      <a:lnTo>
                        <a:pt x="621" y="570"/>
                      </a:lnTo>
                      <a:lnTo>
                        <a:pt x="617" y="570"/>
                      </a:lnTo>
                      <a:lnTo>
                        <a:pt x="608" y="570"/>
                      </a:lnTo>
                      <a:lnTo>
                        <a:pt x="337" y="552"/>
                      </a:lnTo>
                      <a:lnTo>
                        <a:pt x="412" y="331"/>
                      </a:lnTo>
                      <a:lnTo>
                        <a:pt x="465" y="411"/>
                      </a:lnTo>
                      <a:lnTo>
                        <a:pt x="794" y="411"/>
                      </a:lnTo>
                      <a:lnTo>
                        <a:pt x="803" y="406"/>
                      </a:lnTo>
                      <a:lnTo>
                        <a:pt x="812" y="406"/>
                      </a:lnTo>
                      <a:lnTo>
                        <a:pt x="816" y="402"/>
                      </a:lnTo>
                      <a:lnTo>
                        <a:pt x="821" y="402"/>
                      </a:lnTo>
                      <a:lnTo>
                        <a:pt x="830" y="398"/>
                      </a:lnTo>
                      <a:lnTo>
                        <a:pt x="838" y="393"/>
                      </a:lnTo>
                      <a:lnTo>
                        <a:pt x="843" y="384"/>
                      </a:lnTo>
                      <a:lnTo>
                        <a:pt x="847" y="380"/>
                      </a:lnTo>
                      <a:lnTo>
                        <a:pt x="852" y="371"/>
                      </a:lnTo>
                      <a:lnTo>
                        <a:pt x="852" y="367"/>
                      </a:lnTo>
                      <a:lnTo>
                        <a:pt x="856" y="358"/>
                      </a:lnTo>
                      <a:lnTo>
                        <a:pt x="856" y="345"/>
                      </a:lnTo>
                      <a:lnTo>
                        <a:pt x="856" y="336"/>
                      </a:lnTo>
                      <a:lnTo>
                        <a:pt x="852" y="327"/>
                      </a:lnTo>
                      <a:lnTo>
                        <a:pt x="847" y="318"/>
                      </a:lnTo>
                      <a:lnTo>
                        <a:pt x="843" y="309"/>
                      </a:lnTo>
                      <a:lnTo>
                        <a:pt x="838" y="305"/>
                      </a:lnTo>
                      <a:lnTo>
                        <a:pt x="834" y="300"/>
                      </a:lnTo>
                      <a:lnTo>
                        <a:pt x="825" y="291"/>
                      </a:lnTo>
                      <a:lnTo>
                        <a:pt x="816" y="286"/>
                      </a:lnTo>
                      <a:lnTo>
                        <a:pt x="816" y="282"/>
                      </a:lnTo>
                      <a:lnTo>
                        <a:pt x="803" y="282"/>
                      </a:lnTo>
                      <a:lnTo>
                        <a:pt x="794" y="282"/>
                      </a:lnTo>
                      <a:lnTo>
                        <a:pt x="541" y="282"/>
                      </a:lnTo>
                      <a:lnTo>
                        <a:pt x="487" y="194"/>
                      </a:lnTo>
                      <a:lnTo>
                        <a:pt x="496" y="185"/>
                      </a:lnTo>
                      <a:lnTo>
                        <a:pt x="501" y="172"/>
                      </a:lnTo>
                      <a:lnTo>
                        <a:pt x="501" y="163"/>
                      </a:lnTo>
                      <a:lnTo>
                        <a:pt x="505" y="150"/>
                      </a:lnTo>
                      <a:lnTo>
                        <a:pt x="505" y="132"/>
                      </a:lnTo>
                      <a:lnTo>
                        <a:pt x="505" y="123"/>
                      </a:lnTo>
                      <a:lnTo>
                        <a:pt x="505" y="105"/>
                      </a:lnTo>
                      <a:lnTo>
                        <a:pt x="501" y="97"/>
                      </a:lnTo>
                      <a:lnTo>
                        <a:pt x="496" y="83"/>
                      </a:lnTo>
                      <a:lnTo>
                        <a:pt x="492" y="75"/>
                      </a:lnTo>
                      <a:lnTo>
                        <a:pt x="487" y="66"/>
                      </a:lnTo>
                      <a:lnTo>
                        <a:pt x="483" y="57"/>
                      </a:lnTo>
                      <a:lnTo>
                        <a:pt x="474" y="44"/>
                      </a:lnTo>
                      <a:lnTo>
                        <a:pt x="465" y="39"/>
                      </a:lnTo>
                      <a:lnTo>
                        <a:pt x="457" y="30"/>
                      </a:lnTo>
                      <a:lnTo>
                        <a:pt x="448" y="22"/>
                      </a:lnTo>
                      <a:lnTo>
                        <a:pt x="434" y="13"/>
                      </a:lnTo>
                      <a:lnTo>
                        <a:pt x="426" y="13"/>
                      </a:lnTo>
                      <a:lnTo>
                        <a:pt x="412" y="4"/>
                      </a:lnTo>
                      <a:lnTo>
                        <a:pt x="399" y="4"/>
                      </a:lnTo>
                      <a:lnTo>
                        <a:pt x="386" y="0"/>
                      </a:lnTo>
                      <a:lnTo>
                        <a:pt x="373" y="0"/>
                      </a:lnTo>
                      <a:lnTo>
                        <a:pt x="359" y="0"/>
                      </a:lnTo>
                      <a:lnTo>
                        <a:pt x="346" y="0"/>
                      </a:lnTo>
                      <a:lnTo>
                        <a:pt x="333" y="4"/>
                      </a:lnTo>
                      <a:lnTo>
                        <a:pt x="319" y="8"/>
                      </a:lnTo>
                      <a:lnTo>
                        <a:pt x="305" y="13"/>
                      </a:lnTo>
                      <a:lnTo>
                        <a:pt x="292" y="17"/>
                      </a:lnTo>
                      <a:lnTo>
                        <a:pt x="279" y="26"/>
                      </a:lnTo>
                      <a:lnTo>
                        <a:pt x="270" y="39"/>
                      </a:lnTo>
                      <a:lnTo>
                        <a:pt x="261" y="48"/>
                      </a:lnTo>
                      <a:lnTo>
                        <a:pt x="252" y="57"/>
                      </a:lnTo>
                      <a:lnTo>
                        <a:pt x="243" y="75"/>
                      </a:lnTo>
                      <a:lnTo>
                        <a:pt x="235" y="83"/>
                      </a:lnTo>
                      <a:lnTo>
                        <a:pt x="235"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488" name="Group 88"/>
            <p:cNvGrpSpPr/>
            <p:nvPr/>
          </p:nvGrpSpPr>
          <p:grpSpPr>
            <a:xfrm>
              <a:off x="3052800" y="4840200"/>
              <a:ext cx="1532880" cy="709560"/>
              <a:chOff x="3052800" y="4840200"/>
              <a:chExt cx="1532880" cy="709560"/>
            </a:xfrm>
          </p:grpSpPr>
          <p:grpSp>
            <p:nvGrpSpPr>
              <p:cNvPr id="489" name="Group 89"/>
              <p:cNvGrpSpPr/>
              <p:nvPr/>
            </p:nvGrpSpPr>
            <p:grpSpPr>
              <a:xfrm>
                <a:off x="3052800" y="4840200"/>
                <a:ext cx="481680" cy="709560"/>
                <a:chOff x="3052800" y="4840200"/>
                <a:chExt cx="481680" cy="709560"/>
              </a:xfrm>
            </p:grpSpPr>
            <p:grpSp>
              <p:nvGrpSpPr>
                <p:cNvPr id="490" name="Group 90"/>
                <p:cNvGrpSpPr/>
                <p:nvPr/>
              </p:nvGrpSpPr>
              <p:grpSpPr>
                <a:xfrm>
                  <a:off x="3052800" y="4840200"/>
                  <a:ext cx="481680" cy="709560"/>
                  <a:chOff x="3052800" y="4840200"/>
                  <a:chExt cx="481680" cy="709560"/>
                </a:xfrm>
              </p:grpSpPr>
              <p:grpSp>
                <p:nvGrpSpPr>
                  <p:cNvPr id="491" name="Group 91"/>
                  <p:cNvGrpSpPr/>
                  <p:nvPr/>
                </p:nvGrpSpPr>
                <p:grpSpPr>
                  <a:xfrm>
                    <a:off x="3052800" y="4952880"/>
                    <a:ext cx="481680" cy="596880"/>
                    <a:chOff x="3052800" y="4952880"/>
                    <a:chExt cx="481680" cy="596880"/>
                  </a:xfrm>
                </p:grpSpPr>
                <p:sp>
                  <p:nvSpPr>
                    <p:cNvPr id="492" name="Freeform 92"/>
                    <p:cNvSpPr/>
                    <p:nvPr/>
                  </p:nvSpPr>
                  <p:spPr>
                    <a:xfrm>
                      <a:off x="3052800" y="4952880"/>
                      <a:ext cx="481680" cy="596880"/>
                    </a:xfrm>
                    <a:custGeom>
                      <a:avLst/>
                      <a:gdLst>
                        <a:gd name="textAreaLeft" fmla="*/ 0 w 481680"/>
                        <a:gd name="textAreaRight" fmla="*/ 482040 w 481680"/>
                        <a:gd name="textAreaTop" fmla="*/ 0 h 596880"/>
                        <a:gd name="textAreaBottom" fmla="*/ 597240 h 596880"/>
                      </a:gdLst>
                      <a:ahLst/>
                      <a:rect l="textAreaLeft" t="textAreaTop" r="textAreaRight" b="textAreaBottom"/>
                      <a:pathLst>
                        <a:path w="1346" h="1663">
                          <a:moveTo>
                            <a:pt x="0" y="1662"/>
                          </a:moveTo>
                          <a:lnTo>
                            <a:pt x="0" y="336"/>
                          </a:lnTo>
                          <a:lnTo>
                            <a:pt x="335" y="0"/>
                          </a:lnTo>
                          <a:lnTo>
                            <a:pt x="1345" y="0"/>
                          </a:lnTo>
                          <a:lnTo>
                            <a:pt x="1345" y="1326"/>
                          </a:lnTo>
                          <a:lnTo>
                            <a:pt x="1008" y="1662"/>
                          </a:lnTo>
                          <a:lnTo>
                            <a:pt x="0" y="1662"/>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3" name="Freeform 93"/>
                    <p:cNvSpPr/>
                    <p:nvPr/>
                  </p:nvSpPr>
                  <p:spPr>
                    <a:xfrm>
                      <a:off x="3052800" y="4952880"/>
                      <a:ext cx="481680" cy="119880"/>
                    </a:xfrm>
                    <a:custGeom>
                      <a:avLst/>
                      <a:gdLst>
                        <a:gd name="textAreaLeft" fmla="*/ 0 w 481680"/>
                        <a:gd name="textAreaRight" fmla="*/ 482040 w 481680"/>
                        <a:gd name="textAreaTop" fmla="*/ 0 h 119880"/>
                        <a:gd name="textAreaBottom" fmla="*/ 120240 h 119880"/>
                      </a:gdLst>
                      <a:ahLst/>
                      <a:rect l="textAreaLeft" t="textAreaTop" r="textAreaRight" b="textAreaBottom"/>
                      <a:pathLst>
                        <a:path w="1346" h="337">
                          <a:moveTo>
                            <a:pt x="0" y="336"/>
                          </a:moveTo>
                          <a:lnTo>
                            <a:pt x="335" y="0"/>
                          </a:lnTo>
                          <a:lnTo>
                            <a:pt x="1345" y="0"/>
                          </a:lnTo>
                          <a:lnTo>
                            <a:pt x="1008" y="336"/>
                          </a:lnTo>
                          <a:lnTo>
                            <a:pt x="0" y="33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Freeform 94"/>
                    <p:cNvSpPr/>
                    <p:nvPr/>
                  </p:nvSpPr>
                  <p:spPr>
                    <a:xfrm>
                      <a:off x="3412440" y="4952880"/>
                      <a:ext cx="121680" cy="596880"/>
                    </a:xfrm>
                    <a:custGeom>
                      <a:avLst/>
                      <a:gdLst>
                        <a:gd name="textAreaLeft" fmla="*/ 0 w 121680"/>
                        <a:gd name="textAreaRight" fmla="*/ 121680 w 121680"/>
                        <a:gd name="textAreaTop" fmla="*/ 0 h 596880"/>
                        <a:gd name="textAreaBottom" fmla="*/ 597240 h 596880"/>
                      </a:gdLst>
                      <a:ahLst/>
                      <a:rect l="textAreaLeft" t="textAreaTop" r="textAreaRight" b="textAreaBottom"/>
                      <a:pathLst>
                        <a:path w="338" h="1663">
                          <a:moveTo>
                            <a:pt x="0" y="1662"/>
                          </a:moveTo>
                          <a:lnTo>
                            <a:pt x="0" y="336"/>
                          </a:lnTo>
                          <a:lnTo>
                            <a:pt x="337" y="0"/>
                          </a:lnTo>
                          <a:lnTo>
                            <a:pt x="337" y="1326"/>
                          </a:lnTo>
                          <a:lnTo>
                            <a:pt x="0" y="1662"/>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95" name="Group 95"/>
                  <p:cNvGrpSpPr/>
                  <p:nvPr/>
                </p:nvGrpSpPr>
                <p:grpSpPr>
                  <a:xfrm>
                    <a:off x="3163320" y="4840200"/>
                    <a:ext cx="370800" cy="122400"/>
                    <a:chOff x="3163320" y="4840200"/>
                    <a:chExt cx="370800" cy="122400"/>
                  </a:xfrm>
                </p:grpSpPr>
                <p:sp>
                  <p:nvSpPr>
                    <p:cNvPr id="496" name="Freeform 96"/>
                    <p:cNvSpPr/>
                    <p:nvPr/>
                  </p:nvSpPr>
                  <p:spPr>
                    <a:xfrm>
                      <a:off x="3163320" y="4840200"/>
                      <a:ext cx="370800" cy="122400"/>
                    </a:xfrm>
                    <a:custGeom>
                      <a:avLst/>
                      <a:gdLst>
                        <a:gd name="textAreaLeft" fmla="*/ 0 w 370800"/>
                        <a:gd name="textAreaRight" fmla="*/ 371160 w 370800"/>
                        <a:gd name="textAreaTop" fmla="*/ 0 h 122400"/>
                        <a:gd name="textAreaBottom" fmla="*/ 122760 h 122400"/>
                      </a:gdLst>
                      <a:ahLst/>
                      <a:rect l="textAreaLeft" t="textAreaTop" r="textAreaRight" b="textAreaBottom"/>
                      <a:pathLst>
                        <a:path w="1037" h="345">
                          <a:moveTo>
                            <a:pt x="0" y="344"/>
                          </a:moveTo>
                          <a:lnTo>
                            <a:pt x="0" y="85"/>
                          </a:lnTo>
                          <a:lnTo>
                            <a:pt x="85" y="0"/>
                          </a:lnTo>
                          <a:lnTo>
                            <a:pt x="1036" y="0"/>
                          </a:lnTo>
                          <a:lnTo>
                            <a:pt x="1036" y="257"/>
                          </a:lnTo>
                          <a:lnTo>
                            <a:pt x="949"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7" name="Freeform 97"/>
                    <p:cNvSpPr/>
                    <p:nvPr/>
                  </p:nvSpPr>
                  <p:spPr>
                    <a:xfrm>
                      <a:off x="3163320" y="4840200"/>
                      <a:ext cx="370800" cy="30960"/>
                    </a:xfrm>
                    <a:custGeom>
                      <a:avLst/>
                      <a:gdLst>
                        <a:gd name="textAreaLeft" fmla="*/ 0 w 370800"/>
                        <a:gd name="textAreaRight" fmla="*/ 371160 w 370800"/>
                        <a:gd name="textAreaTop" fmla="*/ 0 h 30960"/>
                        <a:gd name="textAreaBottom" fmla="*/ 31320 h 30960"/>
                      </a:gdLst>
                      <a:ahLst/>
                      <a:rect l="textAreaLeft" t="textAreaTop" r="textAreaRight" b="textAreaBottom"/>
                      <a:pathLst>
                        <a:path w="1037" h="86">
                          <a:moveTo>
                            <a:pt x="0" y="85"/>
                          </a:moveTo>
                          <a:lnTo>
                            <a:pt x="85" y="0"/>
                          </a:lnTo>
                          <a:lnTo>
                            <a:pt x="1036" y="0"/>
                          </a:lnTo>
                          <a:lnTo>
                            <a:pt x="949"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498" name="Freeform 98"/>
                    <p:cNvSpPr/>
                    <p:nvPr/>
                  </p:nvSpPr>
                  <p:spPr>
                    <a:xfrm>
                      <a:off x="3502440" y="4840200"/>
                      <a:ext cx="31320" cy="122400"/>
                    </a:xfrm>
                    <a:custGeom>
                      <a:avLst/>
                      <a:gdLst>
                        <a:gd name="textAreaLeft" fmla="*/ 0 w 31320"/>
                        <a:gd name="textAreaRight" fmla="*/ 31680 w 31320"/>
                        <a:gd name="textAreaTop" fmla="*/ 0 h 122400"/>
                        <a:gd name="textAreaBottom" fmla="*/ 122760 h 122400"/>
                      </a:gdLst>
                      <a:ahLst/>
                      <a:rect l="textAreaLeft" t="textAreaTop" r="textAreaRight" b="textAreaBottom"/>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499" name="Freeform 99"/>
                <p:cNvSpPr/>
                <p:nvPr/>
              </p:nvSpPr>
              <p:spPr>
                <a:xfrm>
                  <a:off x="3150720" y="5005440"/>
                  <a:ext cx="250200" cy="42840"/>
                </a:xfrm>
                <a:custGeom>
                  <a:avLst/>
                  <a:gdLst>
                    <a:gd name="textAreaLeft" fmla="*/ 0 w 250200"/>
                    <a:gd name="textAreaRight" fmla="*/ 250560 w 250200"/>
                    <a:gd name="textAreaTop" fmla="*/ 0 h 42840"/>
                    <a:gd name="textAreaBottom" fmla="*/ 43200 h 42840"/>
                  </a:gdLst>
                  <a:ahLst/>
                  <a:rect l="textAreaLeft" t="textAreaTop" r="textAreaRight" b="textAreaBottom"/>
                  <a:pathLst>
                    <a:path w="698" h="120">
                      <a:moveTo>
                        <a:pt x="173" y="0"/>
                      </a:moveTo>
                      <a:lnTo>
                        <a:pt x="697" y="0"/>
                      </a:lnTo>
                      <a:lnTo>
                        <a:pt x="522" y="119"/>
                      </a:lnTo>
                      <a:lnTo>
                        <a:pt x="0" y="119"/>
                      </a:lnTo>
                      <a:lnTo>
                        <a:pt x="173" y="0"/>
                      </a:lnTo>
                    </a:path>
                  </a:pathLst>
                </a:custGeom>
                <a:solidFill>
                  <a:srgbClr val="f6bf69"/>
                </a:solidFill>
                <a:ln w="25560">
                  <a:solidFill>
                    <a:srgbClr val="000000"/>
                  </a:solidFill>
                  <a:round/>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500" name="Group 100"/>
              <p:cNvGrpSpPr/>
              <p:nvPr/>
            </p:nvGrpSpPr>
            <p:grpSpPr>
              <a:xfrm>
                <a:off x="3529800" y="4840200"/>
                <a:ext cx="597960" cy="709560"/>
                <a:chOff x="3529800" y="4840200"/>
                <a:chExt cx="597960" cy="709560"/>
              </a:xfrm>
            </p:grpSpPr>
            <p:grpSp>
              <p:nvGrpSpPr>
                <p:cNvPr id="501" name="Group 101"/>
                <p:cNvGrpSpPr/>
                <p:nvPr/>
              </p:nvGrpSpPr>
              <p:grpSpPr>
                <a:xfrm>
                  <a:off x="3529800" y="4840200"/>
                  <a:ext cx="597960" cy="709560"/>
                  <a:chOff x="3529800" y="4840200"/>
                  <a:chExt cx="597960" cy="709560"/>
                </a:xfrm>
              </p:grpSpPr>
              <p:grpSp>
                <p:nvGrpSpPr>
                  <p:cNvPr id="502" name="Group 102"/>
                  <p:cNvGrpSpPr/>
                  <p:nvPr/>
                </p:nvGrpSpPr>
                <p:grpSpPr>
                  <a:xfrm>
                    <a:off x="3529800" y="4952880"/>
                    <a:ext cx="597960" cy="596880"/>
                    <a:chOff x="3529800" y="4952880"/>
                    <a:chExt cx="597960" cy="596880"/>
                  </a:xfrm>
                </p:grpSpPr>
                <p:sp>
                  <p:nvSpPr>
                    <p:cNvPr id="503" name="Freeform 103"/>
                    <p:cNvSpPr/>
                    <p:nvPr/>
                  </p:nvSpPr>
                  <p:spPr>
                    <a:xfrm>
                      <a:off x="3529800" y="4952880"/>
                      <a:ext cx="597960" cy="596880"/>
                    </a:xfrm>
                    <a:custGeom>
                      <a:avLst/>
                      <a:gdLst>
                        <a:gd name="textAreaLeft" fmla="*/ 0 w 597960"/>
                        <a:gd name="textAreaRight" fmla="*/ 598320 w 597960"/>
                        <a:gd name="textAreaTop" fmla="*/ 0 h 596880"/>
                        <a:gd name="textAreaBottom" fmla="*/ 597240 h 596880"/>
                      </a:gdLst>
                      <a:ahLst/>
                      <a:rect l="textAreaLeft" t="textAreaTop" r="textAreaRight" b="textAreaBottom"/>
                      <a:pathLst>
                        <a:path w="1668" h="1663">
                          <a:moveTo>
                            <a:pt x="0" y="1662"/>
                          </a:moveTo>
                          <a:lnTo>
                            <a:pt x="0" y="415"/>
                          </a:lnTo>
                          <a:lnTo>
                            <a:pt x="414" y="0"/>
                          </a:lnTo>
                          <a:lnTo>
                            <a:pt x="1667" y="0"/>
                          </a:lnTo>
                          <a:lnTo>
                            <a:pt x="1667" y="1247"/>
                          </a:lnTo>
                          <a:lnTo>
                            <a:pt x="1251" y="1662"/>
                          </a:lnTo>
                          <a:lnTo>
                            <a:pt x="0" y="1662"/>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4" name="Freeform 104"/>
                    <p:cNvSpPr/>
                    <p:nvPr/>
                  </p:nvSpPr>
                  <p:spPr>
                    <a:xfrm>
                      <a:off x="3529800" y="4952880"/>
                      <a:ext cx="597960" cy="148680"/>
                    </a:xfrm>
                    <a:custGeom>
                      <a:avLst/>
                      <a:gdLst>
                        <a:gd name="textAreaLeft" fmla="*/ 0 w 597960"/>
                        <a:gd name="textAreaRight" fmla="*/ 598320 w 597960"/>
                        <a:gd name="textAreaTop" fmla="*/ 0 h 148680"/>
                        <a:gd name="textAreaBottom" fmla="*/ 149040 h 148680"/>
                      </a:gdLst>
                      <a:ahLst/>
                      <a:rect l="textAreaLeft" t="textAreaTop" r="textAreaRight" b="textAreaBottom"/>
                      <a:pathLst>
                        <a:path w="1668" h="416">
                          <a:moveTo>
                            <a:pt x="0" y="415"/>
                          </a:moveTo>
                          <a:lnTo>
                            <a:pt x="414" y="0"/>
                          </a:lnTo>
                          <a:lnTo>
                            <a:pt x="1667" y="0"/>
                          </a:lnTo>
                          <a:lnTo>
                            <a:pt x="1251" y="415"/>
                          </a:lnTo>
                          <a:lnTo>
                            <a:pt x="0" y="415"/>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5" name="Freeform 105"/>
                    <p:cNvSpPr/>
                    <p:nvPr/>
                  </p:nvSpPr>
                  <p:spPr>
                    <a:xfrm>
                      <a:off x="3977280" y="4952880"/>
                      <a:ext cx="150120" cy="596880"/>
                    </a:xfrm>
                    <a:custGeom>
                      <a:avLst/>
                      <a:gdLst>
                        <a:gd name="textAreaLeft" fmla="*/ 0 w 150120"/>
                        <a:gd name="textAreaRight" fmla="*/ 150480 w 150120"/>
                        <a:gd name="textAreaTop" fmla="*/ 0 h 596880"/>
                        <a:gd name="textAreaBottom" fmla="*/ 597240 h 596880"/>
                      </a:gdLst>
                      <a:ahLst/>
                      <a:rect l="textAreaLeft" t="textAreaTop" r="textAreaRight" b="textAreaBottom"/>
                      <a:pathLst>
                        <a:path w="417" h="1663">
                          <a:moveTo>
                            <a:pt x="0" y="1662"/>
                          </a:moveTo>
                          <a:lnTo>
                            <a:pt x="0" y="415"/>
                          </a:lnTo>
                          <a:lnTo>
                            <a:pt x="416" y="0"/>
                          </a:lnTo>
                          <a:lnTo>
                            <a:pt x="416" y="1247"/>
                          </a:lnTo>
                          <a:lnTo>
                            <a:pt x="0" y="1662"/>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06" name="Group 106"/>
                  <p:cNvGrpSpPr/>
                  <p:nvPr/>
                </p:nvGrpSpPr>
                <p:grpSpPr>
                  <a:xfrm>
                    <a:off x="3665880" y="4840200"/>
                    <a:ext cx="461520" cy="122400"/>
                    <a:chOff x="3665880" y="4840200"/>
                    <a:chExt cx="461520" cy="122400"/>
                  </a:xfrm>
                </p:grpSpPr>
                <p:sp>
                  <p:nvSpPr>
                    <p:cNvPr id="507" name="Freeform 107"/>
                    <p:cNvSpPr/>
                    <p:nvPr/>
                  </p:nvSpPr>
                  <p:spPr>
                    <a:xfrm>
                      <a:off x="3665880" y="4840200"/>
                      <a:ext cx="461520" cy="122400"/>
                    </a:xfrm>
                    <a:custGeom>
                      <a:avLst/>
                      <a:gdLst>
                        <a:gd name="textAreaLeft" fmla="*/ 0 w 461520"/>
                        <a:gd name="textAreaRight" fmla="*/ 461880 w 461520"/>
                        <a:gd name="textAreaTop" fmla="*/ 0 h 122400"/>
                        <a:gd name="textAreaBottom" fmla="*/ 122760 h 122400"/>
                      </a:gdLst>
                      <a:ahLst/>
                      <a:rect l="textAreaLeft" t="textAreaTop" r="textAreaRight" b="textAreaBottom"/>
                      <a:pathLst>
                        <a:path w="1288" h="345">
                          <a:moveTo>
                            <a:pt x="0" y="344"/>
                          </a:moveTo>
                          <a:lnTo>
                            <a:pt x="0" y="85"/>
                          </a:lnTo>
                          <a:lnTo>
                            <a:pt x="85" y="0"/>
                          </a:lnTo>
                          <a:lnTo>
                            <a:pt x="1287" y="0"/>
                          </a:lnTo>
                          <a:lnTo>
                            <a:pt x="1287" y="257"/>
                          </a:lnTo>
                          <a:lnTo>
                            <a:pt x="1200"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Freeform 108"/>
                    <p:cNvSpPr/>
                    <p:nvPr/>
                  </p:nvSpPr>
                  <p:spPr>
                    <a:xfrm>
                      <a:off x="3665880" y="4840200"/>
                      <a:ext cx="461520" cy="30960"/>
                    </a:xfrm>
                    <a:custGeom>
                      <a:avLst/>
                      <a:gdLst>
                        <a:gd name="textAreaLeft" fmla="*/ 0 w 461520"/>
                        <a:gd name="textAreaRight" fmla="*/ 461880 w 461520"/>
                        <a:gd name="textAreaTop" fmla="*/ 0 h 30960"/>
                        <a:gd name="textAreaBottom" fmla="*/ 31320 h 30960"/>
                      </a:gdLst>
                      <a:ahLst/>
                      <a:rect l="textAreaLeft" t="textAreaTop" r="textAreaRight" b="textAreaBottom"/>
                      <a:pathLst>
                        <a:path w="1288" h="86">
                          <a:moveTo>
                            <a:pt x="0" y="85"/>
                          </a:moveTo>
                          <a:lnTo>
                            <a:pt x="85" y="0"/>
                          </a:lnTo>
                          <a:lnTo>
                            <a:pt x="1287" y="0"/>
                          </a:lnTo>
                          <a:lnTo>
                            <a:pt x="1200"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509" name="Freeform 109"/>
                    <p:cNvSpPr/>
                    <p:nvPr/>
                  </p:nvSpPr>
                  <p:spPr>
                    <a:xfrm>
                      <a:off x="4095720" y="4840200"/>
                      <a:ext cx="31320" cy="122400"/>
                    </a:xfrm>
                    <a:custGeom>
                      <a:avLst/>
                      <a:gdLst>
                        <a:gd name="textAreaLeft" fmla="*/ 0 w 31320"/>
                        <a:gd name="textAreaRight" fmla="*/ 31680 w 31320"/>
                        <a:gd name="textAreaTop" fmla="*/ 0 h 122400"/>
                        <a:gd name="textAreaBottom" fmla="*/ 122760 h 122400"/>
                      </a:gdLst>
                      <a:ahLst/>
                      <a:rect l="textAreaLeft" t="textAreaTop" r="textAreaRight" b="textAreaBottom"/>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10" name="Oval 110"/>
                <p:cNvSpPr/>
                <p:nvPr/>
              </p:nvSpPr>
              <p:spPr>
                <a:xfrm>
                  <a:off x="3711960" y="4897440"/>
                  <a:ext cx="77400" cy="4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11"/>
                <p:cNvSpPr/>
                <p:nvPr/>
              </p:nvSpPr>
              <p:spPr>
                <a:xfrm>
                  <a:off x="3603960" y="5230800"/>
                  <a:ext cx="313560" cy="133200"/>
                </a:xfrm>
                <a:custGeom>
                  <a:avLst/>
                  <a:gdLst>
                    <a:gd name="textAreaLeft" fmla="*/ 0 w 313560"/>
                    <a:gd name="textAreaRight" fmla="*/ 313920 w 313560"/>
                    <a:gd name="textAreaTop" fmla="*/ 0 h 133200"/>
                    <a:gd name="textAreaBottom" fmla="*/ 133560 h 133200"/>
                  </a:gdLst>
                  <a:ahLst/>
                  <a:rect l="textAreaLeft" t="textAreaTop" r="textAreaRight" b="textAreaBottom"/>
                  <a:pathLst>
                    <a:path w="874" h="371">
                      <a:moveTo>
                        <a:pt x="107" y="0"/>
                      </a:moveTo>
                      <a:lnTo>
                        <a:pt x="764" y="0"/>
                      </a:lnTo>
                      <a:lnTo>
                        <a:pt x="873" y="108"/>
                      </a:lnTo>
                      <a:lnTo>
                        <a:pt x="873" y="262"/>
                      </a:lnTo>
                      <a:lnTo>
                        <a:pt x="764" y="370"/>
                      </a:lnTo>
                      <a:lnTo>
                        <a:pt x="107" y="370"/>
                      </a:lnTo>
                      <a:lnTo>
                        <a:pt x="0" y="262"/>
                      </a:lnTo>
                      <a:lnTo>
                        <a:pt x="0" y="108"/>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2" name="Freeform 112"/>
              <p:cNvSpPr/>
              <p:nvPr/>
            </p:nvSpPr>
            <p:spPr>
              <a:xfrm>
                <a:off x="4424040" y="5203800"/>
                <a:ext cx="134640" cy="303120"/>
              </a:xfrm>
              <a:custGeom>
                <a:avLst/>
                <a:gdLst>
                  <a:gd name="textAreaLeft" fmla="*/ 0 w 134640"/>
                  <a:gd name="textAreaRight" fmla="*/ 135000 w 134640"/>
                  <a:gd name="textAreaTop" fmla="*/ 0 h 303120"/>
                  <a:gd name="textAreaBottom" fmla="*/ 303480 h 303120"/>
                </a:gdLst>
                <a:ahLst/>
                <a:rect l="textAreaLeft" t="textAreaTop" r="textAreaRight" b="textAreaBottom"/>
                <a:pathLst>
                  <a:path w="377" h="843">
                    <a:moveTo>
                      <a:pt x="274" y="0"/>
                    </a:moveTo>
                    <a:lnTo>
                      <a:pt x="376" y="0"/>
                    </a:lnTo>
                    <a:lnTo>
                      <a:pt x="101" y="842"/>
                    </a:lnTo>
                    <a:lnTo>
                      <a:pt x="0" y="842"/>
                    </a:lnTo>
                    <a:lnTo>
                      <a:pt x="274"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AutoShape 113"/>
              <p:cNvSpPr/>
              <p:nvPr/>
            </p:nvSpPr>
            <p:spPr>
              <a:xfrm>
                <a:off x="4417920" y="5203800"/>
                <a:ext cx="16776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AutoShape 114"/>
              <p:cNvSpPr/>
              <p:nvPr/>
            </p:nvSpPr>
            <p:spPr>
              <a:xfrm>
                <a:off x="4428720" y="5332320"/>
                <a:ext cx="129960" cy="25560"/>
              </a:xfrm>
              <a:prstGeom prst="roundRect">
                <a:avLst>
                  <a:gd name="adj" fmla="val 6250"/>
                </a:avLst>
              </a:prstGeom>
              <a:solidFill>
                <a:srgbClr val="fc0128"/>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AutoShape 115"/>
              <p:cNvSpPr/>
              <p:nvPr/>
            </p:nvSpPr>
            <p:spPr>
              <a:xfrm>
                <a:off x="4138560" y="5332320"/>
                <a:ext cx="163440" cy="17280"/>
              </a:xfrm>
              <a:prstGeom prst="roundRect">
                <a:avLst>
                  <a:gd name="adj" fmla="val 10000"/>
                </a:avLst>
              </a:prstGeom>
              <a:solidFill>
                <a:srgbClr val="fc0128"/>
              </a:solidFill>
              <a:ln w="0">
                <a:noFill/>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6" name="Group 116"/>
              <p:cNvGrpSpPr/>
              <p:nvPr/>
            </p:nvGrpSpPr>
            <p:grpSpPr>
              <a:xfrm>
                <a:off x="4135680" y="4930560"/>
                <a:ext cx="306000" cy="576000"/>
                <a:chOff x="4135680" y="4930560"/>
                <a:chExt cx="306000" cy="576000"/>
              </a:xfrm>
            </p:grpSpPr>
            <p:sp>
              <p:nvSpPr>
                <p:cNvPr id="517" name="Oval 117"/>
                <p:cNvSpPr/>
                <p:nvPr/>
              </p:nvSpPr>
              <p:spPr>
                <a:xfrm>
                  <a:off x="4255560" y="4930560"/>
                  <a:ext cx="77040" cy="774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118"/>
                <p:cNvSpPr/>
                <p:nvPr/>
              </p:nvSpPr>
              <p:spPr>
                <a:xfrm>
                  <a:off x="4135680" y="5038200"/>
                  <a:ext cx="306000" cy="468360"/>
                </a:xfrm>
                <a:custGeom>
                  <a:avLst/>
                  <a:gdLst>
                    <a:gd name="textAreaLeft" fmla="*/ 0 w 306000"/>
                    <a:gd name="textAreaRight" fmla="*/ 306360 w 306000"/>
                    <a:gd name="textAreaTop" fmla="*/ 0 h 468360"/>
                    <a:gd name="textAreaBottom" fmla="*/ 468720 h 468360"/>
                  </a:gdLst>
                  <a:ahLst/>
                  <a:rect l="textAreaLeft" t="textAreaTop" r="textAreaRight" b="textAreaBottom"/>
                  <a:pathLst>
                    <a:path w="856" h="1305">
                      <a:moveTo>
                        <a:pt x="234" y="101"/>
                      </a:moveTo>
                      <a:lnTo>
                        <a:pt x="8" y="605"/>
                      </a:lnTo>
                      <a:lnTo>
                        <a:pt x="4" y="609"/>
                      </a:lnTo>
                      <a:lnTo>
                        <a:pt x="4" y="618"/>
                      </a:lnTo>
                      <a:lnTo>
                        <a:pt x="0" y="627"/>
                      </a:lnTo>
                      <a:lnTo>
                        <a:pt x="0" y="640"/>
                      </a:lnTo>
                      <a:lnTo>
                        <a:pt x="0" y="649"/>
                      </a:lnTo>
                      <a:lnTo>
                        <a:pt x="0" y="662"/>
                      </a:lnTo>
                      <a:lnTo>
                        <a:pt x="4" y="671"/>
                      </a:lnTo>
                      <a:lnTo>
                        <a:pt x="8" y="684"/>
                      </a:lnTo>
                      <a:lnTo>
                        <a:pt x="13" y="693"/>
                      </a:lnTo>
                      <a:lnTo>
                        <a:pt x="17" y="703"/>
                      </a:lnTo>
                      <a:lnTo>
                        <a:pt x="26" y="712"/>
                      </a:lnTo>
                      <a:lnTo>
                        <a:pt x="35" y="721"/>
                      </a:lnTo>
                      <a:lnTo>
                        <a:pt x="44" y="725"/>
                      </a:lnTo>
                      <a:lnTo>
                        <a:pt x="52" y="730"/>
                      </a:lnTo>
                      <a:lnTo>
                        <a:pt x="61" y="730"/>
                      </a:lnTo>
                      <a:lnTo>
                        <a:pt x="70" y="734"/>
                      </a:lnTo>
                      <a:lnTo>
                        <a:pt x="79" y="734"/>
                      </a:lnTo>
                      <a:lnTo>
                        <a:pt x="92" y="734"/>
                      </a:lnTo>
                      <a:lnTo>
                        <a:pt x="558" y="734"/>
                      </a:lnTo>
                      <a:lnTo>
                        <a:pt x="558" y="1304"/>
                      </a:lnTo>
                      <a:lnTo>
                        <a:pt x="704" y="1304"/>
                      </a:lnTo>
                      <a:lnTo>
                        <a:pt x="704" y="627"/>
                      </a:lnTo>
                      <a:lnTo>
                        <a:pt x="704" y="618"/>
                      </a:lnTo>
                      <a:lnTo>
                        <a:pt x="704" y="609"/>
                      </a:lnTo>
                      <a:lnTo>
                        <a:pt x="700" y="605"/>
                      </a:lnTo>
                      <a:lnTo>
                        <a:pt x="695" y="601"/>
                      </a:lnTo>
                      <a:lnTo>
                        <a:pt x="691" y="596"/>
                      </a:lnTo>
                      <a:lnTo>
                        <a:pt x="682" y="587"/>
                      </a:lnTo>
                      <a:lnTo>
                        <a:pt x="678" y="583"/>
                      </a:lnTo>
                      <a:lnTo>
                        <a:pt x="673" y="578"/>
                      </a:lnTo>
                      <a:lnTo>
                        <a:pt x="664" y="578"/>
                      </a:lnTo>
                      <a:lnTo>
                        <a:pt x="656" y="574"/>
                      </a:lnTo>
                      <a:lnTo>
                        <a:pt x="647" y="574"/>
                      </a:lnTo>
                      <a:lnTo>
                        <a:pt x="638" y="570"/>
                      </a:lnTo>
                      <a:lnTo>
                        <a:pt x="629" y="570"/>
                      </a:lnTo>
                      <a:lnTo>
                        <a:pt x="620" y="570"/>
                      </a:lnTo>
                      <a:lnTo>
                        <a:pt x="616" y="570"/>
                      </a:lnTo>
                      <a:lnTo>
                        <a:pt x="607" y="570"/>
                      </a:lnTo>
                      <a:lnTo>
                        <a:pt x="337" y="552"/>
                      </a:lnTo>
                      <a:lnTo>
                        <a:pt x="412" y="331"/>
                      </a:lnTo>
                      <a:lnTo>
                        <a:pt x="465" y="411"/>
                      </a:lnTo>
                      <a:lnTo>
                        <a:pt x="793" y="411"/>
                      </a:lnTo>
                      <a:lnTo>
                        <a:pt x="802" y="406"/>
                      </a:lnTo>
                      <a:lnTo>
                        <a:pt x="811" y="406"/>
                      </a:lnTo>
                      <a:lnTo>
                        <a:pt x="815" y="402"/>
                      </a:lnTo>
                      <a:lnTo>
                        <a:pt x="820" y="402"/>
                      </a:lnTo>
                      <a:lnTo>
                        <a:pt x="829" y="398"/>
                      </a:lnTo>
                      <a:lnTo>
                        <a:pt x="837" y="393"/>
                      </a:lnTo>
                      <a:lnTo>
                        <a:pt x="842" y="384"/>
                      </a:lnTo>
                      <a:lnTo>
                        <a:pt x="846" y="380"/>
                      </a:lnTo>
                      <a:lnTo>
                        <a:pt x="851" y="371"/>
                      </a:lnTo>
                      <a:lnTo>
                        <a:pt x="851" y="367"/>
                      </a:lnTo>
                      <a:lnTo>
                        <a:pt x="855" y="358"/>
                      </a:lnTo>
                      <a:lnTo>
                        <a:pt x="855" y="345"/>
                      </a:lnTo>
                      <a:lnTo>
                        <a:pt x="855" y="336"/>
                      </a:lnTo>
                      <a:lnTo>
                        <a:pt x="851" y="327"/>
                      </a:lnTo>
                      <a:lnTo>
                        <a:pt x="846" y="318"/>
                      </a:lnTo>
                      <a:lnTo>
                        <a:pt x="842" y="309"/>
                      </a:lnTo>
                      <a:lnTo>
                        <a:pt x="837" y="305"/>
                      </a:lnTo>
                      <a:lnTo>
                        <a:pt x="833" y="300"/>
                      </a:lnTo>
                      <a:lnTo>
                        <a:pt x="824" y="291"/>
                      </a:lnTo>
                      <a:lnTo>
                        <a:pt x="815" y="286"/>
                      </a:lnTo>
                      <a:lnTo>
                        <a:pt x="815" y="282"/>
                      </a:lnTo>
                      <a:lnTo>
                        <a:pt x="802" y="282"/>
                      </a:lnTo>
                      <a:lnTo>
                        <a:pt x="793" y="282"/>
                      </a:lnTo>
                      <a:lnTo>
                        <a:pt x="541" y="282"/>
                      </a:lnTo>
                      <a:lnTo>
                        <a:pt x="487" y="194"/>
                      </a:lnTo>
                      <a:lnTo>
                        <a:pt x="496" y="185"/>
                      </a:lnTo>
                      <a:lnTo>
                        <a:pt x="500" y="172"/>
                      </a:lnTo>
                      <a:lnTo>
                        <a:pt x="500" y="163"/>
                      </a:lnTo>
                      <a:lnTo>
                        <a:pt x="505" y="150"/>
                      </a:lnTo>
                      <a:lnTo>
                        <a:pt x="505" y="132"/>
                      </a:lnTo>
                      <a:lnTo>
                        <a:pt x="505" y="123"/>
                      </a:lnTo>
                      <a:lnTo>
                        <a:pt x="505" y="105"/>
                      </a:lnTo>
                      <a:lnTo>
                        <a:pt x="500" y="97"/>
                      </a:lnTo>
                      <a:lnTo>
                        <a:pt x="496" y="83"/>
                      </a:lnTo>
                      <a:lnTo>
                        <a:pt x="491" y="75"/>
                      </a:lnTo>
                      <a:lnTo>
                        <a:pt x="487" y="66"/>
                      </a:lnTo>
                      <a:lnTo>
                        <a:pt x="482" y="57"/>
                      </a:lnTo>
                      <a:lnTo>
                        <a:pt x="474" y="44"/>
                      </a:lnTo>
                      <a:lnTo>
                        <a:pt x="465" y="39"/>
                      </a:lnTo>
                      <a:lnTo>
                        <a:pt x="456" y="30"/>
                      </a:lnTo>
                      <a:lnTo>
                        <a:pt x="447" y="22"/>
                      </a:lnTo>
                      <a:lnTo>
                        <a:pt x="434" y="13"/>
                      </a:lnTo>
                      <a:lnTo>
                        <a:pt x="425" y="13"/>
                      </a:lnTo>
                      <a:lnTo>
                        <a:pt x="412" y="4"/>
                      </a:lnTo>
                      <a:lnTo>
                        <a:pt x="399" y="4"/>
                      </a:lnTo>
                      <a:lnTo>
                        <a:pt x="385" y="0"/>
                      </a:lnTo>
                      <a:lnTo>
                        <a:pt x="372" y="0"/>
                      </a:lnTo>
                      <a:lnTo>
                        <a:pt x="359" y="0"/>
                      </a:lnTo>
                      <a:lnTo>
                        <a:pt x="346" y="0"/>
                      </a:lnTo>
                      <a:lnTo>
                        <a:pt x="332" y="4"/>
                      </a:lnTo>
                      <a:lnTo>
                        <a:pt x="318" y="8"/>
                      </a:lnTo>
                      <a:lnTo>
                        <a:pt x="305" y="13"/>
                      </a:lnTo>
                      <a:lnTo>
                        <a:pt x="292" y="17"/>
                      </a:lnTo>
                      <a:lnTo>
                        <a:pt x="278" y="26"/>
                      </a:lnTo>
                      <a:lnTo>
                        <a:pt x="270" y="39"/>
                      </a:lnTo>
                      <a:lnTo>
                        <a:pt x="261" y="48"/>
                      </a:lnTo>
                      <a:lnTo>
                        <a:pt x="252" y="57"/>
                      </a:lnTo>
                      <a:lnTo>
                        <a:pt x="243" y="75"/>
                      </a:lnTo>
                      <a:lnTo>
                        <a:pt x="234" y="83"/>
                      </a:lnTo>
                      <a:lnTo>
                        <a:pt x="234"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519" name="Group 119"/>
            <p:cNvGrpSpPr/>
            <p:nvPr/>
          </p:nvGrpSpPr>
          <p:grpSpPr>
            <a:xfrm>
              <a:off x="3713040" y="5551560"/>
              <a:ext cx="1532880" cy="709560"/>
              <a:chOff x="3713040" y="5551560"/>
              <a:chExt cx="1532880" cy="709560"/>
            </a:xfrm>
          </p:grpSpPr>
          <p:grpSp>
            <p:nvGrpSpPr>
              <p:cNvPr id="520" name="Group 120"/>
              <p:cNvGrpSpPr/>
              <p:nvPr/>
            </p:nvGrpSpPr>
            <p:grpSpPr>
              <a:xfrm>
                <a:off x="3713040" y="5551560"/>
                <a:ext cx="482040" cy="709560"/>
                <a:chOff x="3713040" y="5551560"/>
                <a:chExt cx="482040" cy="709560"/>
              </a:xfrm>
            </p:grpSpPr>
            <p:grpSp>
              <p:nvGrpSpPr>
                <p:cNvPr id="521" name="Group 121"/>
                <p:cNvGrpSpPr/>
                <p:nvPr/>
              </p:nvGrpSpPr>
              <p:grpSpPr>
                <a:xfrm>
                  <a:off x="3713040" y="5551560"/>
                  <a:ext cx="482040" cy="709560"/>
                  <a:chOff x="3713040" y="5551560"/>
                  <a:chExt cx="482040" cy="709560"/>
                </a:xfrm>
              </p:grpSpPr>
              <p:grpSp>
                <p:nvGrpSpPr>
                  <p:cNvPr id="522" name="Group 122"/>
                  <p:cNvGrpSpPr/>
                  <p:nvPr/>
                </p:nvGrpSpPr>
                <p:grpSpPr>
                  <a:xfrm>
                    <a:off x="3713040" y="5664240"/>
                    <a:ext cx="482040" cy="596880"/>
                    <a:chOff x="3713040" y="5664240"/>
                    <a:chExt cx="482040" cy="596880"/>
                  </a:xfrm>
                </p:grpSpPr>
                <p:sp>
                  <p:nvSpPr>
                    <p:cNvPr id="523" name="Freeform 123"/>
                    <p:cNvSpPr/>
                    <p:nvPr/>
                  </p:nvSpPr>
                  <p:spPr>
                    <a:xfrm>
                      <a:off x="3713040" y="5664240"/>
                      <a:ext cx="482040" cy="596880"/>
                    </a:xfrm>
                    <a:custGeom>
                      <a:avLst/>
                      <a:gdLst>
                        <a:gd name="textAreaLeft" fmla="*/ 0 w 482040"/>
                        <a:gd name="textAreaRight" fmla="*/ 482400 w 482040"/>
                        <a:gd name="textAreaTop" fmla="*/ 0 h 596880"/>
                        <a:gd name="textAreaBottom" fmla="*/ 597240 h 596880"/>
                      </a:gdLst>
                      <a:ahLst/>
                      <a:rect l="textAreaLeft" t="textAreaTop" r="textAreaRight" b="textAreaBottom"/>
                      <a:pathLst>
                        <a:path w="1346" h="1663">
                          <a:moveTo>
                            <a:pt x="0" y="1662"/>
                          </a:moveTo>
                          <a:lnTo>
                            <a:pt x="0" y="336"/>
                          </a:lnTo>
                          <a:lnTo>
                            <a:pt x="335" y="0"/>
                          </a:lnTo>
                          <a:lnTo>
                            <a:pt x="1345" y="0"/>
                          </a:lnTo>
                          <a:lnTo>
                            <a:pt x="1345" y="1326"/>
                          </a:lnTo>
                          <a:lnTo>
                            <a:pt x="1008" y="1662"/>
                          </a:lnTo>
                          <a:lnTo>
                            <a:pt x="0" y="1662"/>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4" name="Freeform 124"/>
                    <p:cNvSpPr/>
                    <p:nvPr/>
                  </p:nvSpPr>
                  <p:spPr>
                    <a:xfrm>
                      <a:off x="3713040" y="5664240"/>
                      <a:ext cx="482040" cy="120240"/>
                    </a:xfrm>
                    <a:custGeom>
                      <a:avLst/>
                      <a:gdLst>
                        <a:gd name="textAreaLeft" fmla="*/ 0 w 482040"/>
                        <a:gd name="textAreaRight" fmla="*/ 482400 w 482040"/>
                        <a:gd name="textAreaTop" fmla="*/ 0 h 120240"/>
                        <a:gd name="textAreaBottom" fmla="*/ 120600 h 120240"/>
                      </a:gdLst>
                      <a:ahLst/>
                      <a:rect l="textAreaLeft" t="textAreaTop" r="textAreaRight" b="textAreaBottom"/>
                      <a:pathLst>
                        <a:path w="1346" h="337">
                          <a:moveTo>
                            <a:pt x="0" y="336"/>
                          </a:moveTo>
                          <a:lnTo>
                            <a:pt x="335" y="0"/>
                          </a:lnTo>
                          <a:lnTo>
                            <a:pt x="1345" y="0"/>
                          </a:lnTo>
                          <a:lnTo>
                            <a:pt x="1008" y="336"/>
                          </a:lnTo>
                          <a:lnTo>
                            <a:pt x="0" y="33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Freeform 125"/>
                    <p:cNvSpPr/>
                    <p:nvPr/>
                  </p:nvSpPr>
                  <p:spPr>
                    <a:xfrm>
                      <a:off x="4073400" y="5664240"/>
                      <a:ext cx="121320" cy="596880"/>
                    </a:xfrm>
                    <a:custGeom>
                      <a:avLst/>
                      <a:gdLst>
                        <a:gd name="textAreaLeft" fmla="*/ 0 w 121320"/>
                        <a:gd name="textAreaRight" fmla="*/ 121680 w 121320"/>
                        <a:gd name="textAreaTop" fmla="*/ 0 h 596880"/>
                        <a:gd name="textAreaBottom" fmla="*/ 597240 h 596880"/>
                      </a:gdLst>
                      <a:ahLst/>
                      <a:rect l="textAreaLeft" t="textAreaTop" r="textAreaRight" b="textAreaBottom"/>
                      <a:pathLst>
                        <a:path w="338" h="1663">
                          <a:moveTo>
                            <a:pt x="0" y="1662"/>
                          </a:moveTo>
                          <a:lnTo>
                            <a:pt x="0" y="336"/>
                          </a:lnTo>
                          <a:lnTo>
                            <a:pt x="337" y="0"/>
                          </a:lnTo>
                          <a:lnTo>
                            <a:pt x="337" y="1326"/>
                          </a:lnTo>
                          <a:lnTo>
                            <a:pt x="0" y="1662"/>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6" name="Group 126"/>
                  <p:cNvGrpSpPr/>
                  <p:nvPr/>
                </p:nvGrpSpPr>
                <p:grpSpPr>
                  <a:xfrm>
                    <a:off x="3823920" y="5551560"/>
                    <a:ext cx="370800" cy="122040"/>
                    <a:chOff x="3823920" y="5551560"/>
                    <a:chExt cx="370800" cy="122040"/>
                  </a:xfrm>
                </p:grpSpPr>
                <p:sp>
                  <p:nvSpPr>
                    <p:cNvPr id="527" name="Freeform 127"/>
                    <p:cNvSpPr/>
                    <p:nvPr/>
                  </p:nvSpPr>
                  <p:spPr>
                    <a:xfrm>
                      <a:off x="3823920" y="5551560"/>
                      <a:ext cx="370800" cy="122040"/>
                    </a:xfrm>
                    <a:custGeom>
                      <a:avLst/>
                      <a:gdLst>
                        <a:gd name="textAreaLeft" fmla="*/ 0 w 370800"/>
                        <a:gd name="textAreaRight" fmla="*/ 371160 w 370800"/>
                        <a:gd name="textAreaTop" fmla="*/ 0 h 122040"/>
                        <a:gd name="textAreaBottom" fmla="*/ 122400 h 122040"/>
                      </a:gdLst>
                      <a:ahLst/>
                      <a:rect l="textAreaLeft" t="textAreaTop" r="textAreaRight" b="textAreaBottom"/>
                      <a:pathLst>
                        <a:path w="1037" h="345">
                          <a:moveTo>
                            <a:pt x="0" y="344"/>
                          </a:moveTo>
                          <a:lnTo>
                            <a:pt x="0" y="85"/>
                          </a:lnTo>
                          <a:lnTo>
                            <a:pt x="85" y="0"/>
                          </a:lnTo>
                          <a:lnTo>
                            <a:pt x="1036" y="0"/>
                          </a:lnTo>
                          <a:lnTo>
                            <a:pt x="1036" y="257"/>
                          </a:lnTo>
                          <a:lnTo>
                            <a:pt x="949"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8" name="Freeform 128"/>
                    <p:cNvSpPr/>
                    <p:nvPr/>
                  </p:nvSpPr>
                  <p:spPr>
                    <a:xfrm>
                      <a:off x="3823920" y="5551560"/>
                      <a:ext cx="370800" cy="30960"/>
                    </a:xfrm>
                    <a:custGeom>
                      <a:avLst/>
                      <a:gdLst>
                        <a:gd name="textAreaLeft" fmla="*/ 0 w 370800"/>
                        <a:gd name="textAreaRight" fmla="*/ 371160 w 370800"/>
                        <a:gd name="textAreaTop" fmla="*/ 0 h 30960"/>
                        <a:gd name="textAreaBottom" fmla="*/ 31320 h 30960"/>
                      </a:gdLst>
                      <a:ahLst/>
                      <a:rect l="textAreaLeft" t="textAreaTop" r="textAreaRight" b="textAreaBottom"/>
                      <a:pathLst>
                        <a:path w="1037" h="86">
                          <a:moveTo>
                            <a:pt x="0" y="85"/>
                          </a:moveTo>
                          <a:lnTo>
                            <a:pt x="85" y="0"/>
                          </a:lnTo>
                          <a:lnTo>
                            <a:pt x="1036" y="0"/>
                          </a:lnTo>
                          <a:lnTo>
                            <a:pt x="949"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529" name="Freeform 129"/>
                    <p:cNvSpPr/>
                    <p:nvPr/>
                  </p:nvSpPr>
                  <p:spPr>
                    <a:xfrm>
                      <a:off x="4163040" y="5551560"/>
                      <a:ext cx="31320" cy="122040"/>
                    </a:xfrm>
                    <a:custGeom>
                      <a:avLst/>
                      <a:gdLst>
                        <a:gd name="textAreaLeft" fmla="*/ 0 w 31320"/>
                        <a:gd name="textAreaRight" fmla="*/ 31680 w 31320"/>
                        <a:gd name="textAreaTop" fmla="*/ 0 h 122040"/>
                        <a:gd name="textAreaBottom" fmla="*/ 122400 h 122040"/>
                      </a:gdLst>
                      <a:ahLst/>
                      <a:rect l="textAreaLeft" t="textAreaTop" r="textAreaRight" b="textAreaBottom"/>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30" name="Freeform 130"/>
                <p:cNvSpPr/>
                <p:nvPr/>
              </p:nvSpPr>
              <p:spPr>
                <a:xfrm>
                  <a:off x="3811320" y="5716440"/>
                  <a:ext cx="249840" cy="42840"/>
                </a:xfrm>
                <a:custGeom>
                  <a:avLst/>
                  <a:gdLst>
                    <a:gd name="textAreaLeft" fmla="*/ 0 w 249840"/>
                    <a:gd name="textAreaRight" fmla="*/ 250200 w 249840"/>
                    <a:gd name="textAreaTop" fmla="*/ 0 h 42840"/>
                    <a:gd name="textAreaBottom" fmla="*/ 43200 h 42840"/>
                  </a:gdLst>
                  <a:ahLst/>
                  <a:rect l="textAreaLeft" t="textAreaTop" r="textAreaRight" b="textAreaBottom"/>
                  <a:pathLst>
                    <a:path w="698" h="120">
                      <a:moveTo>
                        <a:pt x="173" y="0"/>
                      </a:moveTo>
                      <a:lnTo>
                        <a:pt x="697" y="0"/>
                      </a:lnTo>
                      <a:lnTo>
                        <a:pt x="522" y="119"/>
                      </a:lnTo>
                      <a:lnTo>
                        <a:pt x="0" y="119"/>
                      </a:lnTo>
                      <a:lnTo>
                        <a:pt x="173" y="0"/>
                      </a:lnTo>
                    </a:path>
                  </a:pathLst>
                </a:custGeom>
                <a:solidFill>
                  <a:srgbClr val="f6bf69"/>
                </a:solidFill>
                <a:ln w="25560">
                  <a:solidFill>
                    <a:srgbClr val="000000"/>
                  </a:solidFill>
                  <a:round/>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531" name="Group 131"/>
              <p:cNvGrpSpPr/>
              <p:nvPr/>
            </p:nvGrpSpPr>
            <p:grpSpPr>
              <a:xfrm>
                <a:off x="4190400" y="5551560"/>
                <a:ext cx="597240" cy="709560"/>
                <a:chOff x="4190400" y="5551560"/>
                <a:chExt cx="597240" cy="709560"/>
              </a:xfrm>
            </p:grpSpPr>
            <p:grpSp>
              <p:nvGrpSpPr>
                <p:cNvPr id="532" name="Group 132"/>
                <p:cNvGrpSpPr/>
                <p:nvPr/>
              </p:nvGrpSpPr>
              <p:grpSpPr>
                <a:xfrm>
                  <a:off x="4190400" y="5551560"/>
                  <a:ext cx="597240" cy="709560"/>
                  <a:chOff x="4190400" y="5551560"/>
                  <a:chExt cx="597240" cy="709560"/>
                </a:xfrm>
              </p:grpSpPr>
              <p:grpSp>
                <p:nvGrpSpPr>
                  <p:cNvPr id="533" name="Group 133"/>
                  <p:cNvGrpSpPr/>
                  <p:nvPr/>
                </p:nvGrpSpPr>
                <p:grpSpPr>
                  <a:xfrm>
                    <a:off x="4190400" y="5664240"/>
                    <a:ext cx="597240" cy="596880"/>
                    <a:chOff x="4190400" y="5664240"/>
                    <a:chExt cx="597240" cy="596880"/>
                  </a:xfrm>
                </p:grpSpPr>
                <p:sp>
                  <p:nvSpPr>
                    <p:cNvPr id="534" name="Freeform 134"/>
                    <p:cNvSpPr/>
                    <p:nvPr/>
                  </p:nvSpPr>
                  <p:spPr>
                    <a:xfrm>
                      <a:off x="4190400" y="5664240"/>
                      <a:ext cx="595800" cy="596880"/>
                    </a:xfrm>
                    <a:custGeom>
                      <a:avLst/>
                      <a:gdLst>
                        <a:gd name="textAreaLeft" fmla="*/ 0 w 595800"/>
                        <a:gd name="textAreaRight" fmla="*/ 596160 w 595800"/>
                        <a:gd name="textAreaTop" fmla="*/ 0 h 596880"/>
                        <a:gd name="textAreaBottom" fmla="*/ 597240 h 596880"/>
                      </a:gdLst>
                      <a:ahLst/>
                      <a:rect l="textAreaLeft" t="textAreaTop" r="textAreaRight" b="textAreaBottom"/>
                      <a:pathLst>
                        <a:path w="1668" h="1663">
                          <a:moveTo>
                            <a:pt x="0" y="1662"/>
                          </a:moveTo>
                          <a:lnTo>
                            <a:pt x="0" y="415"/>
                          </a:lnTo>
                          <a:lnTo>
                            <a:pt x="414" y="0"/>
                          </a:lnTo>
                          <a:lnTo>
                            <a:pt x="1667" y="0"/>
                          </a:lnTo>
                          <a:lnTo>
                            <a:pt x="1667" y="1247"/>
                          </a:lnTo>
                          <a:lnTo>
                            <a:pt x="1251" y="1662"/>
                          </a:lnTo>
                          <a:lnTo>
                            <a:pt x="0" y="1662"/>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5" name="Freeform 135"/>
                    <p:cNvSpPr/>
                    <p:nvPr/>
                  </p:nvSpPr>
                  <p:spPr>
                    <a:xfrm>
                      <a:off x="4190400" y="5664240"/>
                      <a:ext cx="595800" cy="148680"/>
                    </a:xfrm>
                    <a:custGeom>
                      <a:avLst/>
                      <a:gdLst>
                        <a:gd name="textAreaLeft" fmla="*/ 0 w 595800"/>
                        <a:gd name="textAreaRight" fmla="*/ 596160 w 595800"/>
                        <a:gd name="textAreaTop" fmla="*/ 0 h 148680"/>
                        <a:gd name="textAreaBottom" fmla="*/ 149040 h 148680"/>
                      </a:gdLst>
                      <a:ahLst/>
                      <a:rect l="textAreaLeft" t="textAreaTop" r="textAreaRight" b="textAreaBottom"/>
                      <a:pathLst>
                        <a:path w="1668" h="416">
                          <a:moveTo>
                            <a:pt x="0" y="415"/>
                          </a:moveTo>
                          <a:lnTo>
                            <a:pt x="414" y="0"/>
                          </a:lnTo>
                          <a:lnTo>
                            <a:pt x="1667" y="0"/>
                          </a:lnTo>
                          <a:lnTo>
                            <a:pt x="1251" y="415"/>
                          </a:lnTo>
                          <a:lnTo>
                            <a:pt x="0" y="415"/>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6" name="Freeform 136"/>
                    <p:cNvSpPr/>
                    <p:nvPr/>
                  </p:nvSpPr>
                  <p:spPr>
                    <a:xfrm>
                      <a:off x="4637880" y="5664240"/>
                      <a:ext cx="149760" cy="596880"/>
                    </a:xfrm>
                    <a:custGeom>
                      <a:avLst/>
                      <a:gdLst>
                        <a:gd name="textAreaLeft" fmla="*/ 0 w 149760"/>
                        <a:gd name="textAreaRight" fmla="*/ 150120 w 149760"/>
                        <a:gd name="textAreaTop" fmla="*/ 0 h 596880"/>
                        <a:gd name="textAreaBottom" fmla="*/ 597240 h 596880"/>
                      </a:gdLst>
                      <a:ahLst/>
                      <a:rect l="textAreaLeft" t="textAreaTop" r="textAreaRight" b="textAreaBottom"/>
                      <a:pathLst>
                        <a:path w="417" h="1663">
                          <a:moveTo>
                            <a:pt x="0" y="1662"/>
                          </a:moveTo>
                          <a:lnTo>
                            <a:pt x="0" y="415"/>
                          </a:lnTo>
                          <a:lnTo>
                            <a:pt x="416" y="0"/>
                          </a:lnTo>
                          <a:lnTo>
                            <a:pt x="416" y="1247"/>
                          </a:lnTo>
                          <a:lnTo>
                            <a:pt x="0" y="1662"/>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7" name="Group 137"/>
                  <p:cNvGrpSpPr/>
                  <p:nvPr/>
                </p:nvGrpSpPr>
                <p:grpSpPr>
                  <a:xfrm>
                    <a:off x="4326480" y="5551560"/>
                    <a:ext cx="461160" cy="122040"/>
                    <a:chOff x="4326480" y="5551560"/>
                    <a:chExt cx="461160" cy="122040"/>
                  </a:xfrm>
                </p:grpSpPr>
                <p:sp>
                  <p:nvSpPr>
                    <p:cNvPr id="538" name="Freeform 138"/>
                    <p:cNvSpPr/>
                    <p:nvPr/>
                  </p:nvSpPr>
                  <p:spPr>
                    <a:xfrm>
                      <a:off x="4326480" y="5551560"/>
                      <a:ext cx="461160" cy="122040"/>
                    </a:xfrm>
                    <a:custGeom>
                      <a:avLst/>
                      <a:gdLst>
                        <a:gd name="textAreaLeft" fmla="*/ 0 w 461160"/>
                        <a:gd name="textAreaRight" fmla="*/ 461520 w 461160"/>
                        <a:gd name="textAreaTop" fmla="*/ 0 h 122040"/>
                        <a:gd name="textAreaBottom" fmla="*/ 122400 h 122040"/>
                      </a:gdLst>
                      <a:ahLst/>
                      <a:rect l="textAreaLeft" t="textAreaTop" r="textAreaRight" b="textAreaBottom"/>
                      <a:pathLst>
                        <a:path w="1289" h="345">
                          <a:moveTo>
                            <a:pt x="0" y="344"/>
                          </a:moveTo>
                          <a:lnTo>
                            <a:pt x="0" y="85"/>
                          </a:lnTo>
                          <a:lnTo>
                            <a:pt x="85" y="0"/>
                          </a:lnTo>
                          <a:lnTo>
                            <a:pt x="1288" y="0"/>
                          </a:lnTo>
                          <a:lnTo>
                            <a:pt x="1288" y="257"/>
                          </a:lnTo>
                          <a:lnTo>
                            <a:pt x="1201"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9" name="Freeform 139"/>
                    <p:cNvSpPr/>
                    <p:nvPr/>
                  </p:nvSpPr>
                  <p:spPr>
                    <a:xfrm>
                      <a:off x="4326480" y="5551560"/>
                      <a:ext cx="461160" cy="30960"/>
                    </a:xfrm>
                    <a:custGeom>
                      <a:avLst/>
                      <a:gdLst>
                        <a:gd name="textAreaLeft" fmla="*/ 0 w 461160"/>
                        <a:gd name="textAreaRight" fmla="*/ 461520 w 461160"/>
                        <a:gd name="textAreaTop" fmla="*/ 0 h 30960"/>
                        <a:gd name="textAreaBottom" fmla="*/ 31320 h 30960"/>
                      </a:gdLst>
                      <a:ahLst/>
                      <a:rect l="textAreaLeft" t="textAreaTop" r="textAreaRight" b="textAreaBottom"/>
                      <a:pathLst>
                        <a:path w="1289" h="86">
                          <a:moveTo>
                            <a:pt x="0" y="85"/>
                          </a:moveTo>
                          <a:lnTo>
                            <a:pt x="85" y="0"/>
                          </a:lnTo>
                          <a:lnTo>
                            <a:pt x="1288" y="0"/>
                          </a:lnTo>
                          <a:lnTo>
                            <a:pt x="1201"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540" name="Freeform 140"/>
                    <p:cNvSpPr/>
                    <p:nvPr/>
                  </p:nvSpPr>
                  <p:spPr>
                    <a:xfrm>
                      <a:off x="4755960" y="5551560"/>
                      <a:ext cx="31320" cy="122040"/>
                    </a:xfrm>
                    <a:custGeom>
                      <a:avLst/>
                      <a:gdLst>
                        <a:gd name="textAreaLeft" fmla="*/ 0 w 31320"/>
                        <a:gd name="textAreaRight" fmla="*/ 31680 w 31320"/>
                        <a:gd name="textAreaTop" fmla="*/ 0 h 122040"/>
                        <a:gd name="textAreaBottom" fmla="*/ 122400 h 122040"/>
                      </a:gdLst>
                      <a:ahLst/>
                      <a:rect l="textAreaLeft" t="textAreaTop" r="textAreaRight" b="textAreaBottom"/>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541" name="Oval 141"/>
                <p:cNvSpPr/>
                <p:nvPr/>
              </p:nvSpPr>
              <p:spPr>
                <a:xfrm>
                  <a:off x="4372560" y="5608440"/>
                  <a:ext cx="77400" cy="42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142"/>
                <p:cNvSpPr/>
                <p:nvPr/>
              </p:nvSpPr>
              <p:spPr>
                <a:xfrm>
                  <a:off x="4264560" y="5941800"/>
                  <a:ext cx="313560" cy="133560"/>
                </a:xfrm>
                <a:custGeom>
                  <a:avLst/>
                  <a:gdLst>
                    <a:gd name="textAreaLeft" fmla="*/ 0 w 313560"/>
                    <a:gd name="textAreaRight" fmla="*/ 313920 w 313560"/>
                    <a:gd name="textAreaTop" fmla="*/ 0 h 133560"/>
                    <a:gd name="textAreaBottom" fmla="*/ 133920 h 133560"/>
                  </a:gdLst>
                  <a:ahLst/>
                  <a:rect l="textAreaLeft" t="textAreaTop" r="textAreaRight" b="textAreaBottom"/>
                  <a:pathLst>
                    <a:path w="874" h="372">
                      <a:moveTo>
                        <a:pt x="107" y="0"/>
                      </a:moveTo>
                      <a:lnTo>
                        <a:pt x="764" y="0"/>
                      </a:lnTo>
                      <a:lnTo>
                        <a:pt x="873" y="107"/>
                      </a:lnTo>
                      <a:lnTo>
                        <a:pt x="873" y="262"/>
                      </a:lnTo>
                      <a:lnTo>
                        <a:pt x="764" y="371"/>
                      </a:lnTo>
                      <a:lnTo>
                        <a:pt x="107" y="371"/>
                      </a:lnTo>
                      <a:lnTo>
                        <a:pt x="0" y="262"/>
                      </a:lnTo>
                      <a:lnTo>
                        <a:pt x="0" y="107"/>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3" name="Freeform 143"/>
              <p:cNvSpPr/>
              <p:nvPr/>
            </p:nvSpPr>
            <p:spPr>
              <a:xfrm>
                <a:off x="5084640" y="5914800"/>
                <a:ext cx="134280" cy="303480"/>
              </a:xfrm>
              <a:custGeom>
                <a:avLst/>
                <a:gdLst>
                  <a:gd name="textAreaLeft" fmla="*/ 0 w 134280"/>
                  <a:gd name="textAreaRight" fmla="*/ 134640 w 134280"/>
                  <a:gd name="textAreaTop" fmla="*/ 0 h 303480"/>
                  <a:gd name="textAreaBottom" fmla="*/ 303840 h 303480"/>
                </a:gdLst>
                <a:ahLst/>
                <a:rect l="textAreaLeft" t="textAreaTop" r="textAreaRight" b="textAreaBottom"/>
                <a:pathLst>
                  <a:path w="376" h="844">
                    <a:moveTo>
                      <a:pt x="273" y="0"/>
                    </a:moveTo>
                    <a:lnTo>
                      <a:pt x="375" y="0"/>
                    </a:lnTo>
                    <a:lnTo>
                      <a:pt x="101" y="843"/>
                    </a:lnTo>
                    <a:lnTo>
                      <a:pt x="0" y="843"/>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AutoShape 144"/>
              <p:cNvSpPr/>
              <p:nvPr/>
            </p:nvSpPr>
            <p:spPr>
              <a:xfrm>
                <a:off x="5078160" y="5914800"/>
                <a:ext cx="167760" cy="25560"/>
              </a:xfrm>
              <a:prstGeom prst="roundRect">
                <a:avLst>
                  <a:gd name="adj" fmla="val 6250"/>
                </a:avLst>
              </a:prstGeom>
              <a:solidFill>
                <a:srgbClr val="fc0128"/>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AutoShape 145"/>
              <p:cNvSpPr/>
              <p:nvPr/>
            </p:nvSpPr>
            <p:spPr>
              <a:xfrm>
                <a:off x="5089320" y="6043680"/>
                <a:ext cx="12960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46"/>
              <p:cNvSpPr/>
              <p:nvPr/>
            </p:nvSpPr>
            <p:spPr>
              <a:xfrm>
                <a:off x="4799160" y="6043680"/>
                <a:ext cx="163080" cy="17280"/>
              </a:xfrm>
              <a:prstGeom prst="roundRect">
                <a:avLst>
                  <a:gd name="adj" fmla="val 10000"/>
                </a:avLst>
              </a:prstGeom>
              <a:solidFill>
                <a:srgbClr val="fc0128"/>
              </a:solidFill>
              <a:ln w="0">
                <a:noFill/>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7" name="Group 147"/>
              <p:cNvGrpSpPr/>
              <p:nvPr/>
            </p:nvGrpSpPr>
            <p:grpSpPr>
              <a:xfrm>
                <a:off x="4795920" y="5641920"/>
                <a:ext cx="306000" cy="576000"/>
                <a:chOff x="4795920" y="5641920"/>
                <a:chExt cx="306000" cy="576000"/>
              </a:xfrm>
            </p:grpSpPr>
            <p:sp>
              <p:nvSpPr>
                <p:cNvPr id="548" name="Oval 148"/>
                <p:cNvSpPr/>
                <p:nvPr/>
              </p:nvSpPr>
              <p:spPr>
                <a:xfrm>
                  <a:off x="4915440" y="5641920"/>
                  <a:ext cx="77040" cy="756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149"/>
                <p:cNvSpPr/>
                <p:nvPr/>
              </p:nvSpPr>
              <p:spPr>
                <a:xfrm>
                  <a:off x="4795920" y="5750640"/>
                  <a:ext cx="306000" cy="467280"/>
                </a:xfrm>
                <a:custGeom>
                  <a:avLst/>
                  <a:gdLst>
                    <a:gd name="textAreaLeft" fmla="*/ 0 w 306000"/>
                    <a:gd name="textAreaRight" fmla="*/ 306360 w 306000"/>
                    <a:gd name="textAreaTop" fmla="*/ 0 h 467280"/>
                    <a:gd name="textAreaBottom" fmla="*/ 467640 h 467280"/>
                  </a:gdLst>
                  <a:ahLst/>
                  <a:rect l="textAreaLeft" t="textAreaTop" r="textAreaRight" b="textAreaBottom"/>
                  <a:pathLst>
                    <a:path w="857" h="1304">
                      <a:moveTo>
                        <a:pt x="235" y="101"/>
                      </a:moveTo>
                      <a:lnTo>
                        <a:pt x="8" y="605"/>
                      </a:lnTo>
                      <a:lnTo>
                        <a:pt x="4" y="609"/>
                      </a:lnTo>
                      <a:lnTo>
                        <a:pt x="4" y="618"/>
                      </a:lnTo>
                      <a:lnTo>
                        <a:pt x="0" y="627"/>
                      </a:lnTo>
                      <a:lnTo>
                        <a:pt x="0" y="640"/>
                      </a:lnTo>
                      <a:lnTo>
                        <a:pt x="0" y="649"/>
                      </a:lnTo>
                      <a:lnTo>
                        <a:pt x="0" y="662"/>
                      </a:lnTo>
                      <a:lnTo>
                        <a:pt x="4" y="671"/>
                      </a:lnTo>
                      <a:lnTo>
                        <a:pt x="8" y="684"/>
                      </a:lnTo>
                      <a:lnTo>
                        <a:pt x="13" y="693"/>
                      </a:lnTo>
                      <a:lnTo>
                        <a:pt x="17" y="702"/>
                      </a:lnTo>
                      <a:lnTo>
                        <a:pt x="26" y="711"/>
                      </a:lnTo>
                      <a:lnTo>
                        <a:pt x="35" y="720"/>
                      </a:lnTo>
                      <a:lnTo>
                        <a:pt x="44" y="724"/>
                      </a:lnTo>
                      <a:lnTo>
                        <a:pt x="53" y="729"/>
                      </a:lnTo>
                      <a:lnTo>
                        <a:pt x="61" y="729"/>
                      </a:lnTo>
                      <a:lnTo>
                        <a:pt x="70" y="733"/>
                      </a:lnTo>
                      <a:lnTo>
                        <a:pt x="79" y="733"/>
                      </a:lnTo>
                      <a:lnTo>
                        <a:pt x="92" y="733"/>
                      </a:lnTo>
                      <a:lnTo>
                        <a:pt x="559" y="733"/>
                      </a:lnTo>
                      <a:lnTo>
                        <a:pt x="559" y="1303"/>
                      </a:lnTo>
                      <a:lnTo>
                        <a:pt x="705" y="1303"/>
                      </a:lnTo>
                      <a:lnTo>
                        <a:pt x="705" y="627"/>
                      </a:lnTo>
                      <a:lnTo>
                        <a:pt x="705" y="618"/>
                      </a:lnTo>
                      <a:lnTo>
                        <a:pt x="705" y="609"/>
                      </a:lnTo>
                      <a:lnTo>
                        <a:pt x="700" y="605"/>
                      </a:lnTo>
                      <a:lnTo>
                        <a:pt x="696" y="601"/>
                      </a:lnTo>
                      <a:lnTo>
                        <a:pt x="692" y="596"/>
                      </a:lnTo>
                      <a:lnTo>
                        <a:pt x="683" y="587"/>
                      </a:lnTo>
                      <a:lnTo>
                        <a:pt x="678" y="583"/>
                      </a:lnTo>
                      <a:lnTo>
                        <a:pt x="674" y="578"/>
                      </a:lnTo>
                      <a:lnTo>
                        <a:pt x="665" y="578"/>
                      </a:lnTo>
                      <a:lnTo>
                        <a:pt x="656" y="574"/>
                      </a:lnTo>
                      <a:lnTo>
                        <a:pt x="647" y="574"/>
                      </a:lnTo>
                      <a:lnTo>
                        <a:pt x="639" y="570"/>
                      </a:lnTo>
                      <a:lnTo>
                        <a:pt x="630" y="570"/>
                      </a:lnTo>
                      <a:lnTo>
                        <a:pt x="621" y="570"/>
                      </a:lnTo>
                      <a:lnTo>
                        <a:pt x="617" y="570"/>
                      </a:lnTo>
                      <a:lnTo>
                        <a:pt x="608" y="570"/>
                      </a:lnTo>
                      <a:lnTo>
                        <a:pt x="337" y="552"/>
                      </a:lnTo>
                      <a:lnTo>
                        <a:pt x="412" y="330"/>
                      </a:lnTo>
                      <a:lnTo>
                        <a:pt x="465" y="410"/>
                      </a:lnTo>
                      <a:lnTo>
                        <a:pt x="794" y="410"/>
                      </a:lnTo>
                      <a:lnTo>
                        <a:pt x="803" y="405"/>
                      </a:lnTo>
                      <a:lnTo>
                        <a:pt x="812" y="405"/>
                      </a:lnTo>
                      <a:lnTo>
                        <a:pt x="816" y="401"/>
                      </a:lnTo>
                      <a:lnTo>
                        <a:pt x="821" y="401"/>
                      </a:lnTo>
                      <a:lnTo>
                        <a:pt x="830" y="397"/>
                      </a:lnTo>
                      <a:lnTo>
                        <a:pt x="838" y="392"/>
                      </a:lnTo>
                      <a:lnTo>
                        <a:pt x="843" y="383"/>
                      </a:lnTo>
                      <a:lnTo>
                        <a:pt x="847" y="379"/>
                      </a:lnTo>
                      <a:lnTo>
                        <a:pt x="852" y="370"/>
                      </a:lnTo>
                      <a:lnTo>
                        <a:pt x="852" y="366"/>
                      </a:lnTo>
                      <a:lnTo>
                        <a:pt x="856" y="357"/>
                      </a:lnTo>
                      <a:lnTo>
                        <a:pt x="856" y="344"/>
                      </a:lnTo>
                      <a:lnTo>
                        <a:pt x="856" y="335"/>
                      </a:lnTo>
                      <a:lnTo>
                        <a:pt x="852" y="326"/>
                      </a:lnTo>
                      <a:lnTo>
                        <a:pt x="847" y="317"/>
                      </a:lnTo>
                      <a:lnTo>
                        <a:pt x="843" y="308"/>
                      </a:lnTo>
                      <a:lnTo>
                        <a:pt x="838" y="304"/>
                      </a:lnTo>
                      <a:lnTo>
                        <a:pt x="834" y="300"/>
                      </a:lnTo>
                      <a:lnTo>
                        <a:pt x="825" y="291"/>
                      </a:lnTo>
                      <a:lnTo>
                        <a:pt x="816" y="286"/>
                      </a:lnTo>
                      <a:lnTo>
                        <a:pt x="816" y="282"/>
                      </a:lnTo>
                      <a:lnTo>
                        <a:pt x="803" y="282"/>
                      </a:lnTo>
                      <a:lnTo>
                        <a:pt x="794" y="282"/>
                      </a:lnTo>
                      <a:lnTo>
                        <a:pt x="541" y="282"/>
                      </a:lnTo>
                      <a:lnTo>
                        <a:pt x="487" y="194"/>
                      </a:lnTo>
                      <a:lnTo>
                        <a:pt x="496" y="185"/>
                      </a:lnTo>
                      <a:lnTo>
                        <a:pt x="501" y="172"/>
                      </a:lnTo>
                      <a:lnTo>
                        <a:pt x="501" y="163"/>
                      </a:lnTo>
                      <a:lnTo>
                        <a:pt x="505" y="150"/>
                      </a:lnTo>
                      <a:lnTo>
                        <a:pt x="505" y="132"/>
                      </a:lnTo>
                      <a:lnTo>
                        <a:pt x="505" y="123"/>
                      </a:lnTo>
                      <a:lnTo>
                        <a:pt x="505" y="105"/>
                      </a:lnTo>
                      <a:lnTo>
                        <a:pt x="501" y="97"/>
                      </a:lnTo>
                      <a:lnTo>
                        <a:pt x="496" y="83"/>
                      </a:lnTo>
                      <a:lnTo>
                        <a:pt x="492" y="75"/>
                      </a:lnTo>
                      <a:lnTo>
                        <a:pt x="487" y="66"/>
                      </a:lnTo>
                      <a:lnTo>
                        <a:pt x="483" y="57"/>
                      </a:lnTo>
                      <a:lnTo>
                        <a:pt x="474" y="44"/>
                      </a:lnTo>
                      <a:lnTo>
                        <a:pt x="465" y="39"/>
                      </a:lnTo>
                      <a:lnTo>
                        <a:pt x="457" y="30"/>
                      </a:lnTo>
                      <a:lnTo>
                        <a:pt x="448" y="22"/>
                      </a:lnTo>
                      <a:lnTo>
                        <a:pt x="434" y="13"/>
                      </a:lnTo>
                      <a:lnTo>
                        <a:pt x="426" y="13"/>
                      </a:lnTo>
                      <a:lnTo>
                        <a:pt x="412" y="4"/>
                      </a:lnTo>
                      <a:lnTo>
                        <a:pt x="399" y="4"/>
                      </a:lnTo>
                      <a:lnTo>
                        <a:pt x="386" y="0"/>
                      </a:lnTo>
                      <a:lnTo>
                        <a:pt x="373" y="0"/>
                      </a:lnTo>
                      <a:lnTo>
                        <a:pt x="359" y="0"/>
                      </a:lnTo>
                      <a:lnTo>
                        <a:pt x="346" y="0"/>
                      </a:lnTo>
                      <a:lnTo>
                        <a:pt x="333" y="4"/>
                      </a:lnTo>
                      <a:lnTo>
                        <a:pt x="319" y="8"/>
                      </a:lnTo>
                      <a:lnTo>
                        <a:pt x="305" y="13"/>
                      </a:lnTo>
                      <a:lnTo>
                        <a:pt x="292" y="17"/>
                      </a:lnTo>
                      <a:lnTo>
                        <a:pt x="279" y="26"/>
                      </a:lnTo>
                      <a:lnTo>
                        <a:pt x="270" y="39"/>
                      </a:lnTo>
                      <a:lnTo>
                        <a:pt x="261" y="48"/>
                      </a:lnTo>
                      <a:lnTo>
                        <a:pt x="252" y="57"/>
                      </a:lnTo>
                      <a:lnTo>
                        <a:pt x="243" y="75"/>
                      </a:lnTo>
                      <a:lnTo>
                        <a:pt x="235" y="83"/>
                      </a:lnTo>
                      <a:lnTo>
                        <a:pt x="235"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
        <p:nvSpPr>
          <p:cNvPr id="550" name="Text Box 150"/>
          <p:cNvSpPr/>
          <p:nvPr/>
        </p:nvSpPr>
        <p:spPr>
          <a:xfrm>
            <a:off x="380160" y="2514600"/>
            <a:ext cx="379440" cy="380772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a:t>
            </a:r>
            <a:endParaRPr b="0" lang="en-US" sz="20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a:t>
            </a:r>
            <a:endParaRPr b="0" lang="en-US" sz="20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s</a:t>
            </a:r>
            <a:endParaRPr b="0" lang="en-US" sz="20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k</a:t>
            </a:r>
            <a:endParaRPr b="0" lang="en-US" sz="20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O</a:t>
            </a:r>
            <a:endParaRPr b="0" lang="en-US" sz="20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r</a:t>
            </a:r>
            <a:endParaRPr b="0" lang="en-US" sz="20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d</a:t>
            </a:r>
            <a:endParaRPr b="0" lang="en-US" sz="20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e</a:t>
            </a:r>
            <a:endParaRPr b="0" lang="en-US" sz="20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r</a:t>
            </a:r>
            <a:endParaRPr b="0" lang="en-US" sz="2000" spc="-1" strike="noStrike">
              <a:solidFill>
                <a:srgbClr val="000000"/>
              </a:solidFill>
              <a:latin typeface="Arial"/>
            </a:endParaRPr>
          </a:p>
        </p:txBody>
      </p:sp>
      <p:sp>
        <p:nvSpPr>
          <p:cNvPr id="551" name="Line 151"/>
          <p:cNvSpPr/>
          <p:nvPr/>
        </p:nvSpPr>
        <p:spPr>
          <a:xfrm>
            <a:off x="874800" y="3164040"/>
            <a:ext cx="1440" cy="303516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Text Box 152"/>
          <p:cNvSpPr/>
          <p:nvPr/>
        </p:nvSpPr>
        <p:spPr>
          <a:xfrm>
            <a:off x="4358880" y="2379600"/>
            <a:ext cx="747000" cy="46080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ime</a:t>
            </a:r>
            <a:endParaRPr b="0" lang="en-US" sz="2000" spc="-1" strike="noStrike">
              <a:solidFill>
                <a:srgbClr val="000000"/>
              </a:solidFill>
              <a:latin typeface="Arial"/>
            </a:endParaRPr>
          </a:p>
        </p:txBody>
      </p:sp>
      <p:grpSp>
        <p:nvGrpSpPr>
          <p:cNvPr id="553" name="Group 153"/>
          <p:cNvGrpSpPr/>
          <p:nvPr/>
        </p:nvGrpSpPr>
        <p:grpSpPr>
          <a:xfrm>
            <a:off x="1738440" y="2757600"/>
            <a:ext cx="3519720" cy="636840"/>
            <a:chOff x="1738440" y="2757600"/>
            <a:chExt cx="3519720" cy="636840"/>
          </a:xfrm>
        </p:grpSpPr>
        <p:sp>
          <p:nvSpPr>
            <p:cNvPr id="554" name="Text Box 154"/>
            <p:cNvSpPr/>
            <p:nvPr/>
          </p:nvSpPr>
          <p:spPr>
            <a:xfrm>
              <a:off x="1745640" y="2933640"/>
              <a:ext cx="464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0</a:t>
              </a:r>
              <a:endParaRPr b="0" lang="en-US" sz="2000" spc="-1" strike="noStrike">
                <a:solidFill>
                  <a:srgbClr val="000000"/>
                </a:solidFill>
                <a:latin typeface="Arial"/>
              </a:endParaRPr>
            </a:p>
          </p:txBody>
        </p:sp>
        <p:sp>
          <p:nvSpPr>
            <p:cNvPr id="555" name="Line 155"/>
            <p:cNvSpPr/>
            <p:nvPr/>
          </p:nvSpPr>
          <p:spPr>
            <a:xfrm>
              <a:off x="1738440" y="2878200"/>
              <a:ext cx="456840" cy="1080"/>
            </a:xfrm>
            <a:prstGeom prst="line">
              <a:avLst/>
            </a:prstGeom>
            <a:ln w="50760">
              <a:solidFill>
                <a:srgbClr val="f6bf6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6" name="Line 156"/>
            <p:cNvSpPr/>
            <p:nvPr/>
          </p:nvSpPr>
          <p:spPr>
            <a:xfrm>
              <a:off x="2246400" y="2757600"/>
              <a:ext cx="108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57" name="Group 157"/>
            <p:cNvGrpSpPr/>
            <p:nvPr/>
          </p:nvGrpSpPr>
          <p:grpSpPr>
            <a:xfrm>
              <a:off x="2271600" y="2757600"/>
              <a:ext cx="610560" cy="636840"/>
              <a:chOff x="2271600" y="2757600"/>
              <a:chExt cx="610560" cy="636840"/>
            </a:xfrm>
          </p:grpSpPr>
          <p:sp>
            <p:nvSpPr>
              <p:cNvPr id="558" name="Line 158"/>
              <p:cNvSpPr/>
              <p:nvPr/>
            </p:nvSpPr>
            <p:spPr>
              <a:xfrm>
                <a:off x="2271600" y="2928960"/>
                <a:ext cx="571320" cy="1080"/>
              </a:xfrm>
              <a:prstGeom prst="line">
                <a:avLst/>
              </a:prstGeom>
              <a:ln w="50760">
                <a:solidFill>
                  <a:srgbClr val="a2c1fe"/>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9" name="Text Box 159"/>
              <p:cNvSpPr/>
              <p:nvPr/>
            </p:nvSpPr>
            <p:spPr>
              <a:xfrm>
                <a:off x="2329200" y="2933640"/>
                <a:ext cx="464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Arial"/>
                </a:endParaRPr>
              </a:p>
            </p:txBody>
          </p:sp>
          <p:sp>
            <p:nvSpPr>
              <p:cNvPr id="560" name="Line 160"/>
              <p:cNvSpPr/>
              <p:nvPr/>
            </p:nvSpPr>
            <p:spPr>
              <a:xfrm>
                <a:off x="2880720" y="2757600"/>
                <a:ext cx="144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1" name="Group 161"/>
            <p:cNvGrpSpPr/>
            <p:nvPr/>
          </p:nvGrpSpPr>
          <p:grpSpPr>
            <a:xfrm>
              <a:off x="2919240" y="2757600"/>
              <a:ext cx="610560" cy="636840"/>
              <a:chOff x="2919240" y="2757600"/>
              <a:chExt cx="610560" cy="636840"/>
            </a:xfrm>
          </p:grpSpPr>
          <p:sp>
            <p:nvSpPr>
              <p:cNvPr id="562" name="Line 162"/>
              <p:cNvSpPr/>
              <p:nvPr/>
            </p:nvSpPr>
            <p:spPr>
              <a:xfrm>
                <a:off x="2919240" y="2928960"/>
                <a:ext cx="571320" cy="1080"/>
              </a:xfrm>
              <a:prstGeom prst="line">
                <a:avLst/>
              </a:prstGeom>
              <a:ln w="50760">
                <a:solidFill>
                  <a:srgbClr val="a2c1fe"/>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3" name="Text Box 163"/>
              <p:cNvSpPr/>
              <p:nvPr/>
            </p:nvSpPr>
            <p:spPr>
              <a:xfrm>
                <a:off x="2976840" y="2933640"/>
                <a:ext cx="464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Arial"/>
                </a:endParaRPr>
              </a:p>
            </p:txBody>
          </p:sp>
          <p:sp>
            <p:nvSpPr>
              <p:cNvPr id="564" name="Line 164"/>
              <p:cNvSpPr/>
              <p:nvPr/>
            </p:nvSpPr>
            <p:spPr>
              <a:xfrm>
                <a:off x="3528720" y="2757600"/>
                <a:ext cx="108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5" name="Group 165"/>
            <p:cNvGrpSpPr/>
            <p:nvPr/>
          </p:nvGrpSpPr>
          <p:grpSpPr>
            <a:xfrm>
              <a:off x="3566880" y="2757600"/>
              <a:ext cx="610560" cy="636840"/>
              <a:chOff x="3566880" y="2757600"/>
              <a:chExt cx="610560" cy="636840"/>
            </a:xfrm>
          </p:grpSpPr>
          <p:sp>
            <p:nvSpPr>
              <p:cNvPr id="566" name="Line 166"/>
              <p:cNvSpPr/>
              <p:nvPr/>
            </p:nvSpPr>
            <p:spPr>
              <a:xfrm>
                <a:off x="3566880" y="2928960"/>
                <a:ext cx="571320" cy="1080"/>
              </a:xfrm>
              <a:prstGeom prst="line">
                <a:avLst/>
              </a:prstGeom>
              <a:ln w="50760">
                <a:solidFill>
                  <a:srgbClr val="a2c1fe"/>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67" name="Text Box 167"/>
              <p:cNvSpPr/>
              <p:nvPr/>
            </p:nvSpPr>
            <p:spPr>
              <a:xfrm>
                <a:off x="3624840" y="2933640"/>
                <a:ext cx="464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Arial"/>
                </a:endParaRPr>
              </a:p>
            </p:txBody>
          </p:sp>
          <p:sp>
            <p:nvSpPr>
              <p:cNvPr id="568" name="Line 168"/>
              <p:cNvSpPr/>
              <p:nvPr/>
            </p:nvSpPr>
            <p:spPr>
              <a:xfrm>
                <a:off x="4176360" y="2757600"/>
                <a:ext cx="108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Line 169"/>
            <p:cNvSpPr/>
            <p:nvPr/>
          </p:nvSpPr>
          <p:spPr>
            <a:xfrm>
              <a:off x="4214880" y="2928960"/>
              <a:ext cx="570960" cy="1080"/>
            </a:xfrm>
            <a:prstGeom prst="line">
              <a:avLst/>
            </a:prstGeom>
            <a:ln w="50760">
              <a:solidFill>
                <a:srgbClr val="a2c1fe"/>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70" name="Line 170"/>
            <p:cNvSpPr/>
            <p:nvPr/>
          </p:nvSpPr>
          <p:spPr>
            <a:xfrm>
              <a:off x="4849920" y="2979720"/>
              <a:ext cx="342360" cy="1080"/>
            </a:xfrm>
            <a:prstGeom prst="line">
              <a:avLst/>
            </a:prstGeom>
            <a:ln w="50760">
              <a:solidFill>
                <a:srgbClr val="00dfca"/>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71" name="Text Box 171"/>
            <p:cNvSpPr/>
            <p:nvPr/>
          </p:nvSpPr>
          <p:spPr>
            <a:xfrm>
              <a:off x="4272840" y="2933640"/>
              <a:ext cx="464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0</a:t>
              </a:r>
              <a:endParaRPr b="0" lang="en-US" sz="2000" spc="-1" strike="noStrike">
                <a:solidFill>
                  <a:srgbClr val="000000"/>
                </a:solidFill>
                <a:latin typeface="Arial"/>
              </a:endParaRPr>
            </a:p>
          </p:txBody>
        </p:sp>
        <p:sp>
          <p:nvSpPr>
            <p:cNvPr id="572" name="Text Box 172"/>
            <p:cNvSpPr/>
            <p:nvPr/>
          </p:nvSpPr>
          <p:spPr>
            <a:xfrm>
              <a:off x="4793400" y="2933640"/>
              <a:ext cx="464760" cy="46080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a:t>
              </a:r>
              <a:endParaRPr b="0" lang="en-US" sz="2000" spc="-1" strike="noStrike">
                <a:solidFill>
                  <a:srgbClr val="000000"/>
                </a:solidFill>
                <a:latin typeface="Arial"/>
              </a:endParaRPr>
            </a:p>
          </p:txBody>
        </p:sp>
        <p:sp>
          <p:nvSpPr>
            <p:cNvPr id="573" name="Line 173"/>
            <p:cNvSpPr/>
            <p:nvPr/>
          </p:nvSpPr>
          <p:spPr>
            <a:xfrm>
              <a:off x="4824360" y="2757600"/>
              <a:ext cx="108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Line 174"/>
            <p:cNvSpPr/>
            <p:nvPr/>
          </p:nvSpPr>
          <p:spPr>
            <a:xfrm>
              <a:off x="5230800" y="2757600"/>
              <a:ext cx="1080" cy="304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Line 175"/>
            <p:cNvSpPr/>
            <p:nvPr/>
          </p:nvSpPr>
          <p:spPr>
            <a:xfrm>
              <a:off x="2386080" y="2878200"/>
              <a:ext cx="456840" cy="1080"/>
            </a:xfrm>
            <a:prstGeom prst="line">
              <a:avLst/>
            </a:prstGeom>
            <a:ln w="50760">
              <a:solidFill>
                <a:srgbClr val="f6bf6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76" name="Line 176"/>
            <p:cNvSpPr/>
            <p:nvPr/>
          </p:nvSpPr>
          <p:spPr>
            <a:xfrm>
              <a:off x="3033720" y="2878200"/>
              <a:ext cx="456840" cy="1080"/>
            </a:xfrm>
            <a:prstGeom prst="line">
              <a:avLst/>
            </a:prstGeom>
            <a:ln w="50760">
              <a:solidFill>
                <a:srgbClr val="f6bf6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77" name="Line 177"/>
            <p:cNvSpPr/>
            <p:nvPr/>
          </p:nvSpPr>
          <p:spPr>
            <a:xfrm>
              <a:off x="3681360" y="2878200"/>
              <a:ext cx="456840" cy="1080"/>
            </a:xfrm>
            <a:prstGeom prst="line">
              <a:avLst/>
            </a:prstGeom>
            <a:ln w="50760">
              <a:solidFill>
                <a:srgbClr val="f6bf6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78" name="Line 178"/>
            <p:cNvSpPr/>
            <p:nvPr/>
          </p:nvSpPr>
          <p:spPr>
            <a:xfrm>
              <a:off x="2919240" y="2979720"/>
              <a:ext cx="342720" cy="1080"/>
            </a:xfrm>
            <a:prstGeom prst="line">
              <a:avLst/>
            </a:prstGeom>
            <a:ln w="50760">
              <a:solidFill>
                <a:srgbClr val="00dfca"/>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79" name="Line 179"/>
            <p:cNvSpPr/>
            <p:nvPr/>
          </p:nvSpPr>
          <p:spPr>
            <a:xfrm>
              <a:off x="3566880" y="2979720"/>
              <a:ext cx="342720" cy="1080"/>
            </a:xfrm>
            <a:prstGeom prst="line">
              <a:avLst/>
            </a:prstGeom>
            <a:ln w="50760">
              <a:solidFill>
                <a:srgbClr val="00dfca"/>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80" name="Line 180"/>
            <p:cNvSpPr/>
            <p:nvPr/>
          </p:nvSpPr>
          <p:spPr>
            <a:xfrm>
              <a:off x="4214880" y="2979720"/>
              <a:ext cx="342360" cy="1080"/>
            </a:xfrm>
            <a:prstGeom prst="line">
              <a:avLst/>
            </a:prstGeom>
            <a:ln w="50760">
              <a:solidFill>
                <a:srgbClr val="00dfca"/>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ntr" presetID="2" presetSubtype="2">
                                  <p:stCondLst>
                                    <p:cond delay="0"/>
                                  </p:stCondLst>
                                  <p:childTnLst>
                                    <p:set>
                                      <p:cBhvr>
                                        <p:cTn id="33" dur="1" fill="hold">
                                          <p:stCondLst>
                                            <p:cond delay="0"/>
                                          </p:stCondLst>
                                        </p:cTn>
                                        <p:tgtEl>
                                          <p:spTgt spid="403">
                                            <p:txEl>
                                              <p:pRg st="0" end="0"/>
                                            </p:txEl>
                                          </p:spTgt>
                                        </p:tgtEl>
                                        <p:attrNameLst>
                                          <p:attrName>style.visibility</p:attrName>
                                        </p:attrNameLst>
                                      </p:cBhvr>
                                      <p:to>
                                        <p:strVal val="visible"/>
                                      </p:to>
                                    </p:set>
                                    <p:anim calcmode="lin" valueType="num">
                                      <p:cBhvr additive="base">
                                        <p:cTn id="34" dur="500" fill="hold"/>
                                        <p:tgtEl>
                                          <p:spTgt spid="403">
                                            <p:txEl>
                                              <p:pRg st="0" end="0"/>
                                            </p:txEl>
                                          </p:spTgt>
                                        </p:tgtEl>
                                        <p:attrNameLst>
                                          <p:attrName>ppt_x</p:attrName>
                                        </p:attrNameLst>
                                      </p:cBhvr>
                                      <p:tavLst>
                                        <p:tav tm="0">
                                          <p:val>
                                            <p:strVal val="1+#ppt_w/2"/>
                                          </p:val>
                                        </p:tav>
                                        <p:tav tm="100000">
                                          <p:val>
                                            <p:strVal val="#ppt_x"/>
                                          </p:val>
                                        </p:tav>
                                      </p:tavLst>
                                    </p:anim>
                                    <p:anim calcmode="lin" valueType="num">
                                      <p:cBhvr additive="base">
                                        <p:cTn id="35" dur="500" fill="hold"/>
                                        <p:tgtEl>
                                          <p:spTgt spid="4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Traditional Pipeline Concept</a:t>
            </a:r>
            <a:endParaRPr b="1" lang="en-US" sz="3900" spc="-1" strike="noStrike">
              <a:solidFill>
                <a:srgbClr val="330066"/>
              </a:solidFill>
              <a:latin typeface="Arial"/>
            </a:endParaRPr>
          </a:p>
        </p:txBody>
      </p:sp>
      <p:sp>
        <p:nvSpPr>
          <p:cNvPr id="582" name="PlaceHolder 2"/>
          <p:cNvSpPr>
            <a:spLocks noGrp="1"/>
          </p:cNvSpPr>
          <p:nvPr>
            <p:ph/>
          </p:nvPr>
        </p:nvSpPr>
        <p:spPr>
          <a:xfrm>
            <a:off x="5579640" y="1447560"/>
            <a:ext cx="3411720" cy="4398840"/>
          </a:xfrm>
          <a:prstGeom prst="rect">
            <a:avLst/>
          </a:prstGeom>
          <a:noFill/>
          <a:ln w="0">
            <a:noFill/>
          </a:ln>
        </p:spPr>
        <p:txBody>
          <a:bodyPr lIns="63360" rIns="63360" tIns="25560" bIns="25560" anchor="t">
            <a:normAutofit fontScale="91000"/>
          </a:bodyPr>
          <a:p>
            <a:pPr marL="183240" indent="-183240">
              <a:spcBef>
                <a:spcPts val="476"/>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0000"/>
                </a:solidFill>
                <a:latin typeface="Arial"/>
              </a:rPr>
              <a:t>Pipelining doesn’t help latency of single task, it helps throughput of entire workload</a:t>
            </a:r>
            <a:endParaRPr b="0" lang="en-US" sz="1900" spc="-1" strike="noStrike">
              <a:solidFill>
                <a:srgbClr val="000000"/>
              </a:solidFill>
              <a:latin typeface="Arial"/>
            </a:endParaRPr>
          </a:p>
          <a:p>
            <a:pPr marL="183240" indent="-183240">
              <a:spcBef>
                <a:spcPts val="476"/>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0000"/>
                </a:solidFill>
                <a:latin typeface="Arial"/>
              </a:rPr>
              <a:t>Pipeline rate limited by slowest pipeline stage</a:t>
            </a:r>
            <a:endParaRPr b="0" lang="en-US" sz="1900" spc="-1" strike="noStrike">
              <a:solidFill>
                <a:srgbClr val="000000"/>
              </a:solidFill>
              <a:latin typeface="Arial"/>
            </a:endParaRPr>
          </a:p>
          <a:p>
            <a:pPr marL="183240" indent="-183240">
              <a:spcBef>
                <a:spcPts val="476"/>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0000"/>
                </a:solidFill>
                <a:latin typeface="Arial"/>
              </a:rPr>
              <a:t>Multiple tasks operating simultaneously using different resources</a:t>
            </a:r>
            <a:endParaRPr b="0" lang="en-US" sz="1900" spc="-1" strike="noStrike">
              <a:solidFill>
                <a:srgbClr val="000000"/>
              </a:solidFill>
              <a:latin typeface="Arial"/>
            </a:endParaRPr>
          </a:p>
          <a:p>
            <a:pPr marL="183240" indent="-183240">
              <a:spcBef>
                <a:spcPts val="476"/>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0000"/>
                </a:solidFill>
                <a:latin typeface="Arial"/>
              </a:rPr>
              <a:t>Potential speedup = Number pipe stages</a:t>
            </a:r>
            <a:endParaRPr b="0" lang="en-US" sz="1900" spc="-1" strike="noStrike">
              <a:solidFill>
                <a:srgbClr val="000000"/>
              </a:solidFill>
              <a:latin typeface="Arial"/>
            </a:endParaRPr>
          </a:p>
          <a:p>
            <a:pPr marL="183240" indent="-183240">
              <a:spcBef>
                <a:spcPts val="476"/>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0000"/>
                </a:solidFill>
                <a:latin typeface="Arial"/>
              </a:rPr>
              <a:t>Unbalanced lengths of pipe stages reduces speedup</a:t>
            </a:r>
            <a:endParaRPr b="0" lang="en-US" sz="1900" spc="-1" strike="noStrike">
              <a:solidFill>
                <a:srgbClr val="000000"/>
              </a:solidFill>
              <a:latin typeface="Arial"/>
            </a:endParaRPr>
          </a:p>
          <a:p>
            <a:pPr marL="183240" indent="-183240">
              <a:spcBef>
                <a:spcPts val="476"/>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0000"/>
                </a:solidFill>
                <a:latin typeface="Arial"/>
              </a:rPr>
              <a:t>Time to “fill” pipeline and time to “drain” it reduces speedup</a:t>
            </a:r>
            <a:endParaRPr b="0" lang="en-US" sz="1900" spc="-1" strike="noStrike">
              <a:solidFill>
                <a:srgbClr val="000000"/>
              </a:solidFill>
              <a:latin typeface="Arial"/>
            </a:endParaRPr>
          </a:p>
          <a:p>
            <a:pPr marL="183240" indent="-183240">
              <a:spcBef>
                <a:spcPts val="476"/>
              </a:spcBef>
              <a:buClr>
                <a:srgbClr val="330066"/>
              </a:buClr>
              <a:buSzPct val="7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900" spc="-1" strike="noStrike">
                <a:solidFill>
                  <a:srgbClr val="000000"/>
                </a:solidFill>
                <a:latin typeface="Arial"/>
              </a:rPr>
              <a:t>Stall for Dependences</a:t>
            </a:r>
            <a:endParaRPr b="0" lang="en-US" sz="1900" spc="-1" strike="noStrike">
              <a:solidFill>
                <a:srgbClr val="000000"/>
              </a:solidFill>
              <a:latin typeface="Arial"/>
            </a:endParaRPr>
          </a:p>
        </p:txBody>
      </p:sp>
      <p:grpSp>
        <p:nvGrpSpPr>
          <p:cNvPr id="583" name="Group 4"/>
          <p:cNvGrpSpPr/>
          <p:nvPr/>
        </p:nvGrpSpPr>
        <p:grpSpPr>
          <a:xfrm>
            <a:off x="861840" y="3141720"/>
            <a:ext cx="522360" cy="497520"/>
            <a:chOff x="861840" y="3141720"/>
            <a:chExt cx="522360" cy="497520"/>
          </a:xfrm>
        </p:grpSpPr>
        <p:sp>
          <p:nvSpPr>
            <p:cNvPr id="584" name="Freeform 5"/>
            <p:cNvSpPr/>
            <p:nvPr/>
          </p:nvSpPr>
          <p:spPr>
            <a:xfrm>
              <a:off x="861840" y="3141720"/>
              <a:ext cx="522360" cy="466560"/>
            </a:xfrm>
            <a:custGeom>
              <a:avLst/>
              <a:gdLst>
                <a:gd name="textAreaLeft" fmla="*/ 0 w 522360"/>
                <a:gd name="textAreaRight" fmla="*/ 522720 w 522360"/>
                <a:gd name="textAreaTop" fmla="*/ 0 h 466560"/>
                <a:gd name="textAreaBottom" fmla="*/ 466920 h 466560"/>
              </a:gdLst>
              <a:ahLst/>
              <a:rect l="textAreaLeft" t="textAreaTop" r="textAreaRight" b="textAreaBottom"/>
              <a:pathLst>
                <a:path w="1452" h="1297">
                  <a:moveTo>
                    <a:pt x="176" y="17"/>
                  </a:moveTo>
                  <a:lnTo>
                    <a:pt x="411" y="61"/>
                  </a:lnTo>
                  <a:lnTo>
                    <a:pt x="407" y="0"/>
                  </a:lnTo>
                  <a:lnTo>
                    <a:pt x="690" y="70"/>
                  </a:lnTo>
                  <a:lnTo>
                    <a:pt x="690" y="0"/>
                  </a:lnTo>
                  <a:lnTo>
                    <a:pt x="991" y="0"/>
                  </a:lnTo>
                  <a:lnTo>
                    <a:pt x="987" y="66"/>
                  </a:lnTo>
                  <a:lnTo>
                    <a:pt x="1350" y="0"/>
                  </a:lnTo>
                  <a:lnTo>
                    <a:pt x="906" y="366"/>
                  </a:lnTo>
                  <a:lnTo>
                    <a:pt x="951" y="370"/>
                  </a:lnTo>
                  <a:lnTo>
                    <a:pt x="1000" y="379"/>
                  </a:lnTo>
                  <a:lnTo>
                    <a:pt x="1057" y="392"/>
                  </a:lnTo>
                  <a:lnTo>
                    <a:pt x="1106" y="410"/>
                  </a:lnTo>
                  <a:lnTo>
                    <a:pt x="1163" y="436"/>
                  </a:lnTo>
                  <a:lnTo>
                    <a:pt x="1212" y="459"/>
                  </a:lnTo>
                  <a:lnTo>
                    <a:pt x="1260" y="489"/>
                  </a:lnTo>
                  <a:lnTo>
                    <a:pt x="1301" y="525"/>
                  </a:lnTo>
                  <a:lnTo>
                    <a:pt x="1336" y="556"/>
                  </a:lnTo>
                  <a:lnTo>
                    <a:pt x="1367" y="595"/>
                  </a:lnTo>
                  <a:lnTo>
                    <a:pt x="1398" y="635"/>
                  </a:lnTo>
                  <a:lnTo>
                    <a:pt x="1420" y="684"/>
                  </a:lnTo>
                  <a:lnTo>
                    <a:pt x="1438" y="728"/>
                  </a:lnTo>
                  <a:lnTo>
                    <a:pt x="1447" y="766"/>
                  </a:lnTo>
                  <a:lnTo>
                    <a:pt x="1451" y="824"/>
                  </a:lnTo>
                  <a:lnTo>
                    <a:pt x="1447" y="881"/>
                  </a:lnTo>
                  <a:lnTo>
                    <a:pt x="1433" y="925"/>
                  </a:lnTo>
                  <a:lnTo>
                    <a:pt x="1420" y="969"/>
                  </a:lnTo>
                  <a:lnTo>
                    <a:pt x="1403" y="1005"/>
                  </a:lnTo>
                  <a:lnTo>
                    <a:pt x="1376" y="1045"/>
                  </a:lnTo>
                  <a:lnTo>
                    <a:pt x="1341" y="1089"/>
                  </a:lnTo>
                  <a:lnTo>
                    <a:pt x="1292" y="1137"/>
                  </a:lnTo>
                  <a:lnTo>
                    <a:pt x="1238" y="1177"/>
                  </a:lnTo>
                  <a:lnTo>
                    <a:pt x="1185" y="1208"/>
                  </a:lnTo>
                  <a:lnTo>
                    <a:pt x="1137" y="1230"/>
                  </a:lnTo>
                  <a:lnTo>
                    <a:pt x="1088" y="1252"/>
                  </a:lnTo>
                  <a:lnTo>
                    <a:pt x="1044" y="1265"/>
                  </a:lnTo>
                  <a:lnTo>
                    <a:pt x="991" y="1278"/>
                  </a:lnTo>
                  <a:lnTo>
                    <a:pt x="951" y="1287"/>
                  </a:lnTo>
                  <a:lnTo>
                    <a:pt x="889" y="1292"/>
                  </a:lnTo>
                  <a:lnTo>
                    <a:pt x="836" y="1296"/>
                  </a:lnTo>
                  <a:lnTo>
                    <a:pt x="588"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5"/>
                  </a:lnTo>
                  <a:lnTo>
                    <a:pt x="30" y="688"/>
                  </a:lnTo>
                  <a:lnTo>
                    <a:pt x="61" y="622"/>
                  </a:lnTo>
                  <a:lnTo>
                    <a:pt x="105" y="569"/>
                  </a:lnTo>
                  <a:lnTo>
                    <a:pt x="154" y="520"/>
                  </a:lnTo>
                  <a:lnTo>
                    <a:pt x="217"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5" name="Text Box 6"/>
            <p:cNvSpPr/>
            <p:nvPr/>
          </p:nvSpPr>
          <p:spPr>
            <a:xfrm>
              <a:off x="969840" y="3215880"/>
              <a:ext cx="34596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a:t>
              </a:r>
              <a:endParaRPr b="0" lang="en-US" sz="1800" spc="-1" strike="noStrike">
                <a:solidFill>
                  <a:srgbClr val="000000"/>
                </a:solidFill>
                <a:latin typeface="Arial"/>
              </a:endParaRPr>
            </a:p>
          </p:txBody>
        </p:sp>
      </p:grpSp>
      <p:grpSp>
        <p:nvGrpSpPr>
          <p:cNvPr id="586" name="Group 7"/>
          <p:cNvGrpSpPr/>
          <p:nvPr/>
        </p:nvGrpSpPr>
        <p:grpSpPr>
          <a:xfrm>
            <a:off x="849240" y="3992400"/>
            <a:ext cx="522000" cy="497880"/>
            <a:chOff x="849240" y="3992400"/>
            <a:chExt cx="522000" cy="497880"/>
          </a:xfrm>
        </p:grpSpPr>
        <p:sp>
          <p:nvSpPr>
            <p:cNvPr id="587" name="Freeform 8"/>
            <p:cNvSpPr/>
            <p:nvPr/>
          </p:nvSpPr>
          <p:spPr>
            <a:xfrm>
              <a:off x="849240" y="3992400"/>
              <a:ext cx="522000" cy="466560"/>
            </a:xfrm>
            <a:custGeom>
              <a:avLst/>
              <a:gdLst>
                <a:gd name="textAreaLeft" fmla="*/ 0 w 522000"/>
                <a:gd name="textAreaRight" fmla="*/ 522360 w 522000"/>
                <a:gd name="textAreaTop" fmla="*/ 0 h 466560"/>
                <a:gd name="textAreaBottom" fmla="*/ 466920 h 466560"/>
              </a:gdLst>
              <a:ahLst/>
              <a:rect l="textAreaLeft" t="textAreaTop" r="textAreaRight" b="textAreaBottom"/>
              <a:pathLst>
                <a:path w="1451" h="1297">
                  <a:moveTo>
                    <a:pt x="176" y="17"/>
                  </a:moveTo>
                  <a:lnTo>
                    <a:pt x="411" y="61"/>
                  </a:lnTo>
                  <a:lnTo>
                    <a:pt x="406" y="0"/>
                  </a:lnTo>
                  <a:lnTo>
                    <a:pt x="690" y="70"/>
                  </a:lnTo>
                  <a:lnTo>
                    <a:pt x="690" y="0"/>
                  </a:lnTo>
                  <a:lnTo>
                    <a:pt x="990" y="0"/>
                  </a:lnTo>
                  <a:lnTo>
                    <a:pt x="986" y="66"/>
                  </a:lnTo>
                  <a:lnTo>
                    <a:pt x="1349" y="0"/>
                  </a:lnTo>
                  <a:lnTo>
                    <a:pt x="907" y="366"/>
                  </a:lnTo>
                  <a:lnTo>
                    <a:pt x="951" y="370"/>
                  </a:lnTo>
                  <a:lnTo>
                    <a:pt x="999" y="379"/>
                  </a:lnTo>
                  <a:lnTo>
                    <a:pt x="1057" y="392"/>
                  </a:lnTo>
                  <a:lnTo>
                    <a:pt x="1105" y="410"/>
                  </a:lnTo>
                  <a:lnTo>
                    <a:pt x="1162" y="436"/>
                  </a:lnTo>
                  <a:lnTo>
                    <a:pt x="1211" y="459"/>
                  </a:lnTo>
                  <a:lnTo>
                    <a:pt x="1259" y="489"/>
                  </a:lnTo>
                  <a:lnTo>
                    <a:pt x="1300" y="525"/>
                  </a:lnTo>
                  <a:lnTo>
                    <a:pt x="1335" y="556"/>
                  </a:lnTo>
                  <a:lnTo>
                    <a:pt x="1366" y="595"/>
                  </a:lnTo>
                  <a:lnTo>
                    <a:pt x="1397" y="635"/>
                  </a:lnTo>
                  <a:lnTo>
                    <a:pt x="1419" y="684"/>
                  </a:lnTo>
                  <a:lnTo>
                    <a:pt x="1437" y="728"/>
                  </a:lnTo>
                  <a:lnTo>
                    <a:pt x="1446" y="766"/>
                  </a:lnTo>
                  <a:lnTo>
                    <a:pt x="1450" y="824"/>
                  </a:lnTo>
                  <a:lnTo>
                    <a:pt x="1446" y="881"/>
                  </a:lnTo>
                  <a:lnTo>
                    <a:pt x="1432" y="925"/>
                  </a:lnTo>
                  <a:lnTo>
                    <a:pt x="1419" y="969"/>
                  </a:lnTo>
                  <a:lnTo>
                    <a:pt x="1402" y="1005"/>
                  </a:lnTo>
                  <a:lnTo>
                    <a:pt x="1375" y="1045"/>
                  </a:lnTo>
                  <a:lnTo>
                    <a:pt x="1340" y="1089"/>
                  </a:lnTo>
                  <a:lnTo>
                    <a:pt x="1291" y="1137"/>
                  </a:lnTo>
                  <a:lnTo>
                    <a:pt x="1237" y="1177"/>
                  </a:lnTo>
                  <a:lnTo>
                    <a:pt x="1184" y="1208"/>
                  </a:lnTo>
                  <a:lnTo>
                    <a:pt x="1136" y="1230"/>
                  </a:lnTo>
                  <a:lnTo>
                    <a:pt x="1087" y="1252"/>
                  </a:lnTo>
                  <a:lnTo>
                    <a:pt x="1043" y="1265"/>
                  </a:lnTo>
                  <a:lnTo>
                    <a:pt x="990" y="1278"/>
                  </a:lnTo>
                  <a:lnTo>
                    <a:pt x="951" y="1287"/>
                  </a:lnTo>
                  <a:lnTo>
                    <a:pt x="888" y="1292"/>
                  </a:lnTo>
                  <a:lnTo>
                    <a:pt x="835" y="1296"/>
                  </a:lnTo>
                  <a:lnTo>
                    <a:pt x="588" y="1296"/>
                  </a:lnTo>
                  <a:lnTo>
                    <a:pt x="539" y="1292"/>
                  </a:lnTo>
                  <a:lnTo>
                    <a:pt x="477" y="1283"/>
                  </a:lnTo>
                  <a:lnTo>
                    <a:pt x="397" y="1265"/>
                  </a:lnTo>
                  <a:lnTo>
                    <a:pt x="322" y="1234"/>
                  </a:lnTo>
                  <a:lnTo>
                    <a:pt x="247" y="1199"/>
                  </a:lnTo>
                  <a:lnTo>
                    <a:pt x="180" y="1155"/>
                  </a:lnTo>
                  <a:lnTo>
                    <a:pt x="132" y="1115"/>
                  </a:lnTo>
                  <a:lnTo>
                    <a:pt x="92" y="1075"/>
                  </a:lnTo>
                  <a:lnTo>
                    <a:pt x="57" y="1022"/>
                  </a:lnTo>
                  <a:lnTo>
                    <a:pt x="30" y="965"/>
                  </a:lnTo>
                  <a:lnTo>
                    <a:pt x="17" y="925"/>
                  </a:lnTo>
                  <a:lnTo>
                    <a:pt x="4" y="886"/>
                  </a:lnTo>
                  <a:lnTo>
                    <a:pt x="0" y="841"/>
                  </a:lnTo>
                  <a:lnTo>
                    <a:pt x="4" y="806"/>
                  </a:lnTo>
                  <a:lnTo>
                    <a:pt x="13" y="745"/>
                  </a:lnTo>
                  <a:lnTo>
                    <a:pt x="30" y="688"/>
                  </a:lnTo>
                  <a:lnTo>
                    <a:pt x="61" y="622"/>
                  </a:lnTo>
                  <a:lnTo>
                    <a:pt x="105" y="569"/>
                  </a:lnTo>
                  <a:lnTo>
                    <a:pt x="154" y="520"/>
                  </a:lnTo>
                  <a:lnTo>
                    <a:pt x="217" y="472"/>
                  </a:lnTo>
                  <a:lnTo>
                    <a:pt x="278" y="436"/>
                  </a:lnTo>
                  <a:lnTo>
                    <a:pt x="362" y="401"/>
                  </a:lnTo>
                  <a:lnTo>
                    <a:pt x="450"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8" name="Text Box 9"/>
            <p:cNvSpPr/>
            <p:nvPr/>
          </p:nvSpPr>
          <p:spPr>
            <a:xfrm>
              <a:off x="957240" y="4066920"/>
              <a:ext cx="34596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a:t>
              </a:r>
              <a:endParaRPr b="0" lang="en-US" sz="1800" spc="-1" strike="noStrike">
                <a:solidFill>
                  <a:srgbClr val="000000"/>
                </a:solidFill>
                <a:latin typeface="Arial"/>
              </a:endParaRPr>
            </a:p>
          </p:txBody>
        </p:sp>
      </p:grpSp>
      <p:grpSp>
        <p:nvGrpSpPr>
          <p:cNvPr id="589" name="Group 10"/>
          <p:cNvGrpSpPr/>
          <p:nvPr/>
        </p:nvGrpSpPr>
        <p:grpSpPr>
          <a:xfrm>
            <a:off x="811080" y="4741920"/>
            <a:ext cx="522360" cy="497520"/>
            <a:chOff x="811080" y="4741920"/>
            <a:chExt cx="522360" cy="497520"/>
          </a:xfrm>
        </p:grpSpPr>
        <p:sp>
          <p:nvSpPr>
            <p:cNvPr id="590" name="Freeform 11"/>
            <p:cNvSpPr/>
            <p:nvPr/>
          </p:nvSpPr>
          <p:spPr>
            <a:xfrm>
              <a:off x="811080" y="4741920"/>
              <a:ext cx="522360" cy="466560"/>
            </a:xfrm>
            <a:custGeom>
              <a:avLst/>
              <a:gdLst>
                <a:gd name="textAreaLeft" fmla="*/ 0 w 522360"/>
                <a:gd name="textAreaRight" fmla="*/ 522720 w 522360"/>
                <a:gd name="textAreaTop" fmla="*/ 0 h 466560"/>
                <a:gd name="textAreaBottom" fmla="*/ 466920 h 466560"/>
              </a:gdLst>
              <a:ahLst/>
              <a:rect l="textAreaLeft" t="textAreaTop" r="textAreaRight" b="textAreaBottom"/>
              <a:pathLst>
                <a:path w="1452" h="1297">
                  <a:moveTo>
                    <a:pt x="176" y="17"/>
                  </a:moveTo>
                  <a:lnTo>
                    <a:pt x="411" y="61"/>
                  </a:lnTo>
                  <a:lnTo>
                    <a:pt x="407" y="0"/>
                  </a:lnTo>
                  <a:lnTo>
                    <a:pt x="690" y="70"/>
                  </a:lnTo>
                  <a:lnTo>
                    <a:pt x="690" y="0"/>
                  </a:lnTo>
                  <a:lnTo>
                    <a:pt x="991" y="0"/>
                  </a:lnTo>
                  <a:lnTo>
                    <a:pt x="987" y="66"/>
                  </a:lnTo>
                  <a:lnTo>
                    <a:pt x="1350" y="0"/>
                  </a:lnTo>
                  <a:lnTo>
                    <a:pt x="906" y="366"/>
                  </a:lnTo>
                  <a:lnTo>
                    <a:pt x="951" y="370"/>
                  </a:lnTo>
                  <a:lnTo>
                    <a:pt x="1000" y="379"/>
                  </a:lnTo>
                  <a:lnTo>
                    <a:pt x="1057" y="392"/>
                  </a:lnTo>
                  <a:lnTo>
                    <a:pt x="1106" y="410"/>
                  </a:lnTo>
                  <a:lnTo>
                    <a:pt x="1163" y="436"/>
                  </a:lnTo>
                  <a:lnTo>
                    <a:pt x="1212" y="459"/>
                  </a:lnTo>
                  <a:lnTo>
                    <a:pt x="1260" y="489"/>
                  </a:lnTo>
                  <a:lnTo>
                    <a:pt x="1301" y="525"/>
                  </a:lnTo>
                  <a:lnTo>
                    <a:pt x="1336" y="556"/>
                  </a:lnTo>
                  <a:lnTo>
                    <a:pt x="1367" y="595"/>
                  </a:lnTo>
                  <a:lnTo>
                    <a:pt x="1398" y="635"/>
                  </a:lnTo>
                  <a:lnTo>
                    <a:pt x="1420" y="684"/>
                  </a:lnTo>
                  <a:lnTo>
                    <a:pt x="1438" y="728"/>
                  </a:lnTo>
                  <a:lnTo>
                    <a:pt x="1447" y="766"/>
                  </a:lnTo>
                  <a:lnTo>
                    <a:pt x="1451" y="824"/>
                  </a:lnTo>
                  <a:lnTo>
                    <a:pt x="1447" y="881"/>
                  </a:lnTo>
                  <a:lnTo>
                    <a:pt x="1433" y="925"/>
                  </a:lnTo>
                  <a:lnTo>
                    <a:pt x="1420" y="969"/>
                  </a:lnTo>
                  <a:lnTo>
                    <a:pt x="1403" y="1005"/>
                  </a:lnTo>
                  <a:lnTo>
                    <a:pt x="1376" y="1045"/>
                  </a:lnTo>
                  <a:lnTo>
                    <a:pt x="1341" y="1089"/>
                  </a:lnTo>
                  <a:lnTo>
                    <a:pt x="1292" y="1137"/>
                  </a:lnTo>
                  <a:lnTo>
                    <a:pt x="1238" y="1177"/>
                  </a:lnTo>
                  <a:lnTo>
                    <a:pt x="1185" y="1208"/>
                  </a:lnTo>
                  <a:lnTo>
                    <a:pt x="1137" y="1230"/>
                  </a:lnTo>
                  <a:lnTo>
                    <a:pt x="1088" y="1252"/>
                  </a:lnTo>
                  <a:lnTo>
                    <a:pt x="1044" y="1265"/>
                  </a:lnTo>
                  <a:lnTo>
                    <a:pt x="991" y="1278"/>
                  </a:lnTo>
                  <a:lnTo>
                    <a:pt x="951" y="1287"/>
                  </a:lnTo>
                  <a:lnTo>
                    <a:pt x="889" y="1292"/>
                  </a:lnTo>
                  <a:lnTo>
                    <a:pt x="836" y="1296"/>
                  </a:lnTo>
                  <a:lnTo>
                    <a:pt x="588"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5"/>
                  </a:lnTo>
                  <a:lnTo>
                    <a:pt x="30" y="688"/>
                  </a:lnTo>
                  <a:lnTo>
                    <a:pt x="61" y="622"/>
                  </a:lnTo>
                  <a:lnTo>
                    <a:pt x="105" y="569"/>
                  </a:lnTo>
                  <a:lnTo>
                    <a:pt x="154" y="520"/>
                  </a:lnTo>
                  <a:lnTo>
                    <a:pt x="217"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Text Box 12"/>
            <p:cNvSpPr/>
            <p:nvPr/>
          </p:nvSpPr>
          <p:spPr>
            <a:xfrm>
              <a:off x="919080" y="4816080"/>
              <a:ext cx="34596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t>
              </a:r>
              <a:endParaRPr b="0" lang="en-US" sz="1800" spc="-1" strike="noStrike">
                <a:solidFill>
                  <a:srgbClr val="000000"/>
                </a:solidFill>
                <a:latin typeface="Arial"/>
              </a:endParaRPr>
            </a:p>
          </p:txBody>
        </p:sp>
      </p:grpSp>
      <p:grpSp>
        <p:nvGrpSpPr>
          <p:cNvPr id="592" name="Group 13"/>
          <p:cNvGrpSpPr/>
          <p:nvPr/>
        </p:nvGrpSpPr>
        <p:grpSpPr>
          <a:xfrm>
            <a:off x="811080" y="5465880"/>
            <a:ext cx="522360" cy="497520"/>
            <a:chOff x="811080" y="5465880"/>
            <a:chExt cx="522360" cy="497520"/>
          </a:xfrm>
        </p:grpSpPr>
        <p:sp>
          <p:nvSpPr>
            <p:cNvPr id="593" name="Freeform 14"/>
            <p:cNvSpPr/>
            <p:nvPr/>
          </p:nvSpPr>
          <p:spPr>
            <a:xfrm>
              <a:off x="811080" y="5465880"/>
              <a:ext cx="522360" cy="466200"/>
            </a:xfrm>
            <a:custGeom>
              <a:avLst/>
              <a:gdLst>
                <a:gd name="textAreaLeft" fmla="*/ 0 w 522360"/>
                <a:gd name="textAreaRight" fmla="*/ 522720 w 522360"/>
                <a:gd name="textAreaTop" fmla="*/ 0 h 466200"/>
                <a:gd name="textAreaBottom" fmla="*/ 466560 h 466200"/>
              </a:gdLst>
              <a:ahLst/>
              <a:rect l="textAreaLeft" t="textAreaTop" r="textAreaRight" b="textAreaBottom"/>
              <a:pathLst>
                <a:path w="1452" h="1297">
                  <a:moveTo>
                    <a:pt x="176" y="17"/>
                  </a:moveTo>
                  <a:lnTo>
                    <a:pt x="411" y="61"/>
                  </a:lnTo>
                  <a:lnTo>
                    <a:pt x="407" y="0"/>
                  </a:lnTo>
                  <a:lnTo>
                    <a:pt x="690" y="70"/>
                  </a:lnTo>
                  <a:lnTo>
                    <a:pt x="690" y="0"/>
                  </a:lnTo>
                  <a:lnTo>
                    <a:pt x="991" y="0"/>
                  </a:lnTo>
                  <a:lnTo>
                    <a:pt x="987" y="66"/>
                  </a:lnTo>
                  <a:lnTo>
                    <a:pt x="1350" y="0"/>
                  </a:lnTo>
                  <a:lnTo>
                    <a:pt x="906" y="366"/>
                  </a:lnTo>
                  <a:lnTo>
                    <a:pt x="951" y="370"/>
                  </a:lnTo>
                  <a:lnTo>
                    <a:pt x="1000" y="379"/>
                  </a:lnTo>
                  <a:lnTo>
                    <a:pt x="1057" y="392"/>
                  </a:lnTo>
                  <a:lnTo>
                    <a:pt x="1106" y="410"/>
                  </a:lnTo>
                  <a:lnTo>
                    <a:pt x="1163" y="436"/>
                  </a:lnTo>
                  <a:lnTo>
                    <a:pt x="1212" y="459"/>
                  </a:lnTo>
                  <a:lnTo>
                    <a:pt x="1260" y="489"/>
                  </a:lnTo>
                  <a:lnTo>
                    <a:pt x="1301" y="525"/>
                  </a:lnTo>
                  <a:lnTo>
                    <a:pt x="1336" y="556"/>
                  </a:lnTo>
                  <a:lnTo>
                    <a:pt x="1367" y="595"/>
                  </a:lnTo>
                  <a:lnTo>
                    <a:pt x="1398" y="635"/>
                  </a:lnTo>
                  <a:lnTo>
                    <a:pt x="1420" y="684"/>
                  </a:lnTo>
                  <a:lnTo>
                    <a:pt x="1438" y="728"/>
                  </a:lnTo>
                  <a:lnTo>
                    <a:pt x="1447" y="766"/>
                  </a:lnTo>
                  <a:lnTo>
                    <a:pt x="1451" y="824"/>
                  </a:lnTo>
                  <a:lnTo>
                    <a:pt x="1447" y="881"/>
                  </a:lnTo>
                  <a:lnTo>
                    <a:pt x="1433" y="925"/>
                  </a:lnTo>
                  <a:lnTo>
                    <a:pt x="1420" y="969"/>
                  </a:lnTo>
                  <a:lnTo>
                    <a:pt x="1403" y="1005"/>
                  </a:lnTo>
                  <a:lnTo>
                    <a:pt x="1376" y="1045"/>
                  </a:lnTo>
                  <a:lnTo>
                    <a:pt x="1341" y="1089"/>
                  </a:lnTo>
                  <a:lnTo>
                    <a:pt x="1292" y="1137"/>
                  </a:lnTo>
                  <a:lnTo>
                    <a:pt x="1238" y="1177"/>
                  </a:lnTo>
                  <a:lnTo>
                    <a:pt x="1185" y="1208"/>
                  </a:lnTo>
                  <a:lnTo>
                    <a:pt x="1137" y="1230"/>
                  </a:lnTo>
                  <a:lnTo>
                    <a:pt x="1088" y="1252"/>
                  </a:lnTo>
                  <a:lnTo>
                    <a:pt x="1044" y="1265"/>
                  </a:lnTo>
                  <a:lnTo>
                    <a:pt x="991" y="1278"/>
                  </a:lnTo>
                  <a:lnTo>
                    <a:pt x="951" y="1287"/>
                  </a:lnTo>
                  <a:lnTo>
                    <a:pt x="889" y="1292"/>
                  </a:lnTo>
                  <a:lnTo>
                    <a:pt x="836" y="1296"/>
                  </a:lnTo>
                  <a:lnTo>
                    <a:pt x="588" y="1296"/>
                  </a:lnTo>
                  <a:lnTo>
                    <a:pt x="539" y="1292"/>
                  </a:lnTo>
                  <a:lnTo>
                    <a:pt x="477" y="1283"/>
                  </a:lnTo>
                  <a:lnTo>
                    <a:pt x="398" y="1265"/>
                  </a:lnTo>
                  <a:lnTo>
                    <a:pt x="323" y="1234"/>
                  </a:lnTo>
                  <a:lnTo>
                    <a:pt x="248" y="1199"/>
                  </a:lnTo>
                  <a:lnTo>
                    <a:pt x="180" y="1155"/>
                  </a:lnTo>
                  <a:lnTo>
                    <a:pt x="132" y="1115"/>
                  </a:lnTo>
                  <a:lnTo>
                    <a:pt x="92" y="1075"/>
                  </a:lnTo>
                  <a:lnTo>
                    <a:pt x="57" y="1022"/>
                  </a:lnTo>
                  <a:lnTo>
                    <a:pt x="30" y="965"/>
                  </a:lnTo>
                  <a:lnTo>
                    <a:pt x="17" y="925"/>
                  </a:lnTo>
                  <a:lnTo>
                    <a:pt x="4" y="886"/>
                  </a:lnTo>
                  <a:lnTo>
                    <a:pt x="0" y="841"/>
                  </a:lnTo>
                  <a:lnTo>
                    <a:pt x="4" y="806"/>
                  </a:lnTo>
                  <a:lnTo>
                    <a:pt x="13" y="745"/>
                  </a:lnTo>
                  <a:lnTo>
                    <a:pt x="30" y="688"/>
                  </a:lnTo>
                  <a:lnTo>
                    <a:pt x="61" y="622"/>
                  </a:lnTo>
                  <a:lnTo>
                    <a:pt x="105" y="569"/>
                  </a:lnTo>
                  <a:lnTo>
                    <a:pt x="154" y="520"/>
                  </a:lnTo>
                  <a:lnTo>
                    <a:pt x="217" y="472"/>
                  </a:lnTo>
                  <a:lnTo>
                    <a:pt x="279" y="436"/>
                  </a:lnTo>
                  <a:lnTo>
                    <a:pt x="362" y="401"/>
                  </a:lnTo>
                  <a:lnTo>
                    <a:pt x="451" y="379"/>
                  </a:lnTo>
                  <a:lnTo>
                    <a:pt x="508" y="366"/>
                  </a:lnTo>
                  <a:lnTo>
                    <a:pt x="176" y="17"/>
                  </a:lnTo>
                </a:path>
              </a:pathLst>
            </a:custGeom>
            <a:solidFill>
              <a:srgbClr val="d49f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Text Box 15"/>
            <p:cNvSpPr/>
            <p:nvPr/>
          </p:nvSpPr>
          <p:spPr>
            <a:xfrm>
              <a:off x="919080" y="5540040"/>
              <a:ext cx="34596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
              </a:r>
              <a:endParaRPr b="0" lang="en-US" sz="1800" spc="-1" strike="noStrike">
                <a:solidFill>
                  <a:srgbClr val="000000"/>
                </a:solidFill>
                <a:latin typeface="Arial"/>
              </a:endParaRPr>
            </a:p>
          </p:txBody>
        </p:sp>
      </p:grpSp>
      <p:sp>
        <p:nvSpPr>
          <p:cNvPr id="595" name="Text Box 16"/>
          <p:cNvSpPr/>
          <p:nvPr/>
        </p:nvSpPr>
        <p:spPr>
          <a:xfrm>
            <a:off x="1126800" y="1539720"/>
            <a:ext cx="71496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 PM</a:t>
            </a:r>
            <a:endParaRPr b="0" lang="en-US" sz="1800" spc="-1" strike="noStrike">
              <a:solidFill>
                <a:srgbClr val="000000"/>
              </a:solidFill>
              <a:latin typeface="Arial"/>
            </a:endParaRPr>
          </a:p>
        </p:txBody>
      </p:sp>
      <p:sp>
        <p:nvSpPr>
          <p:cNvPr id="596" name="Line 17"/>
          <p:cNvSpPr/>
          <p:nvPr/>
        </p:nvSpPr>
        <p:spPr>
          <a:xfrm>
            <a:off x="1496880" y="2131920"/>
            <a:ext cx="3492720" cy="1800"/>
          </a:xfrm>
          <a:prstGeom prst="line">
            <a:avLst/>
          </a:prstGeom>
          <a:ln w="12600">
            <a:solidFill>
              <a:srgbClr val="000000"/>
            </a:solidFill>
            <a:miter/>
            <a:tailEnd len="lg" type="triangle" w="lg"/>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97" name="Line 18"/>
          <p:cNvSpPr/>
          <p:nvPr/>
        </p:nvSpPr>
        <p:spPr>
          <a:xfrm>
            <a:off x="1490760" y="1998720"/>
            <a:ext cx="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Text Box 19"/>
          <p:cNvSpPr/>
          <p:nvPr/>
        </p:nvSpPr>
        <p:spPr>
          <a:xfrm>
            <a:off x="2359080" y="1552680"/>
            <a:ext cx="30780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a:t>
            </a:r>
            <a:endParaRPr b="0" lang="en-US" sz="1800" spc="-1" strike="noStrike">
              <a:solidFill>
                <a:srgbClr val="000000"/>
              </a:solidFill>
              <a:latin typeface="Arial"/>
            </a:endParaRPr>
          </a:p>
        </p:txBody>
      </p:sp>
      <p:sp>
        <p:nvSpPr>
          <p:cNvPr id="599" name="Text Box 20"/>
          <p:cNvSpPr/>
          <p:nvPr/>
        </p:nvSpPr>
        <p:spPr>
          <a:xfrm>
            <a:off x="3425760" y="1552680"/>
            <a:ext cx="30780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a:t>
            </a:r>
            <a:endParaRPr b="0" lang="en-US" sz="1800" spc="-1" strike="noStrike">
              <a:solidFill>
                <a:srgbClr val="000000"/>
              </a:solidFill>
              <a:latin typeface="Arial"/>
            </a:endParaRPr>
          </a:p>
        </p:txBody>
      </p:sp>
      <p:sp>
        <p:nvSpPr>
          <p:cNvPr id="600" name="Text Box 21"/>
          <p:cNvSpPr/>
          <p:nvPr/>
        </p:nvSpPr>
        <p:spPr>
          <a:xfrm>
            <a:off x="4441680" y="1552680"/>
            <a:ext cx="30780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a:t>
            </a:r>
            <a:endParaRPr b="0" lang="en-US" sz="1800" spc="-1" strike="noStrike">
              <a:solidFill>
                <a:srgbClr val="000000"/>
              </a:solidFill>
              <a:latin typeface="Arial"/>
            </a:endParaRPr>
          </a:p>
        </p:txBody>
      </p:sp>
      <p:sp>
        <p:nvSpPr>
          <p:cNvPr id="601" name="Text Box 22"/>
          <p:cNvSpPr/>
          <p:nvPr/>
        </p:nvSpPr>
        <p:spPr>
          <a:xfrm>
            <a:off x="167760" y="2408400"/>
            <a:ext cx="359640" cy="343332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a:t>
            </a:r>
            <a:endParaRPr b="0" lang="en-US" sz="18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a:t>
            </a:r>
            <a:endParaRPr b="0" lang="en-US" sz="18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a:t>
            </a:r>
            <a:endParaRPr b="0" lang="en-US" sz="18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k</a:t>
            </a:r>
            <a:endParaRPr b="0" lang="en-US" sz="18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O</a:t>
            </a:r>
            <a:endParaRPr b="0" lang="en-US" sz="18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a:t>
            </a:r>
            <a:endParaRPr b="0" lang="en-US" sz="18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d</a:t>
            </a:r>
            <a:endParaRPr b="0" lang="en-US" sz="18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e</a:t>
            </a:r>
            <a:endParaRPr b="0" lang="en-US" sz="1800" spc="-1" strike="noStrike">
              <a:solidFill>
                <a:srgbClr val="000000"/>
              </a:solidFill>
              <a:latin typeface="Arial"/>
            </a:endParaRPr>
          </a:p>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r</a:t>
            </a:r>
            <a:endParaRPr b="0" lang="en-US" sz="1800" spc="-1" strike="noStrike">
              <a:solidFill>
                <a:srgbClr val="000000"/>
              </a:solidFill>
              <a:latin typeface="Arial"/>
            </a:endParaRPr>
          </a:p>
        </p:txBody>
      </p:sp>
      <p:sp>
        <p:nvSpPr>
          <p:cNvPr id="602" name="Line 23"/>
          <p:cNvSpPr/>
          <p:nvPr/>
        </p:nvSpPr>
        <p:spPr>
          <a:xfrm>
            <a:off x="652320" y="2874960"/>
            <a:ext cx="1800" cy="303516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Text Box 24"/>
          <p:cNvSpPr/>
          <p:nvPr/>
        </p:nvSpPr>
        <p:spPr>
          <a:xfrm>
            <a:off x="4137120" y="2090880"/>
            <a:ext cx="689040" cy="423360"/>
          </a:xfrm>
          <a:prstGeom prst="rect">
            <a:avLst/>
          </a:prstGeom>
          <a:noFill/>
          <a:ln w="0">
            <a:noFill/>
          </a:ln>
        </p:spPr>
        <p:style>
          <a:lnRef idx="0"/>
          <a:fillRef idx="0"/>
          <a:effectRef idx="0"/>
          <a:fontRef idx="minor"/>
        </p:style>
        <p:txBody>
          <a:bodyPr wrap="none" lIns="90360" rIns="90360" tIns="44280" bIns="44280" anchor="t">
            <a:spAutoFit/>
          </a:bodyPr>
          <a:p>
            <a:pP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Time</a:t>
            </a:r>
            <a:endParaRPr b="0" lang="en-US" sz="1800" spc="-1" strike="noStrike">
              <a:solidFill>
                <a:srgbClr val="000000"/>
              </a:solidFill>
              <a:latin typeface="Arial"/>
            </a:endParaRPr>
          </a:p>
        </p:txBody>
      </p:sp>
      <p:grpSp>
        <p:nvGrpSpPr>
          <p:cNvPr id="604" name="Group 25"/>
          <p:cNvGrpSpPr/>
          <p:nvPr/>
        </p:nvGrpSpPr>
        <p:grpSpPr>
          <a:xfrm>
            <a:off x="1509840" y="2468520"/>
            <a:ext cx="3515400" cy="599760"/>
            <a:chOff x="1509840" y="2468520"/>
            <a:chExt cx="3515400" cy="599760"/>
          </a:xfrm>
        </p:grpSpPr>
        <p:sp>
          <p:nvSpPr>
            <p:cNvPr id="605" name="Text Box 26"/>
            <p:cNvSpPr/>
            <p:nvPr/>
          </p:nvSpPr>
          <p:spPr>
            <a:xfrm>
              <a:off x="1531800" y="264492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0</a:t>
              </a:r>
              <a:endParaRPr b="0" lang="en-US" sz="1800" spc="-1" strike="noStrike">
                <a:solidFill>
                  <a:srgbClr val="000000"/>
                </a:solidFill>
                <a:latin typeface="Arial"/>
              </a:endParaRPr>
            </a:p>
          </p:txBody>
        </p:sp>
        <p:sp>
          <p:nvSpPr>
            <p:cNvPr id="606" name="Line 27"/>
            <p:cNvSpPr/>
            <p:nvPr/>
          </p:nvSpPr>
          <p:spPr>
            <a:xfrm>
              <a:off x="1509840" y="2589480"/>
              <a:ext cx="458640" cy="1440"/>
            </a:xfrm>
            <a:prstGeom prst="line">
              <a:avLst/>
            </a:prstGeom>
            <a:ln w="50760">
              <a:solidFill>
                <a:srgbClr val="f6bf6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07" name="Line 28"/>
            <p:cNvSpPr/>
            <p:nvPr/>
          </p:nvSpPr>
          <p:spPr>
            <a:xfrm>
              <a:off x="2019240" y="2468520"/>
              <a:ext cx="108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8" name="Group 29"/>
            <p:cNvGrpSpPr/>
            <p:nvPr/>
          </p:nvGrpSpPr>
          <p:grpSpPr>
            <a:xfrm>
              <a:off x="2044440" y="2468520"/>
              <a:ext cx="613800" cy="599760"/>
              <a:chOff x="2044440" y="2468520"/>
              <a:chExt cx="613800" cy="599760"/>
            </a:xfrm>
          </p:grpSpPr>
          <p:sp>
            <p:nvSpPr>
              <p:cNvPr id="609" name="Line 30"/>
              <p:cNvSpPr/>
              <p:nvPr/>
            </p:nvSpPr>
            <p:spPr>
              <a:xfrm>
                <a:off x="2044440" y="2640240"/>
                <a:ext cx="572760" cy="1440"/>
              </a:xfrm>
              <a:prstGeom prst="line">
                <a:avLst/>
              </a:prstGeom>
              <a:ln w="50760">
                <a:solidFill>
                  <a:srgbClr val="a2c1f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0" name="Text Box 31"/>
              <p:cNvSpPr/>
              <p:nvPr/>
            </p:nvSpPr>
            <p:spPr>
              <a:xfrm>
                <a:off x="2117160" y="264492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Arial"/>
                </a:endParaRPr>
              </a:p>
            </p:txBody>
          </p:sp>
          <p:sp>
            <p:nvSpPr>
              <p:cNvPr id="611" name="Line 32"/>
              <p:cNvSpPr/>
              <p:nvPr/>
            </p:nvSpPr>
            <p:spPr>
              <a:xfrm>
                <a:off x="2656800" y="2468520"/>
                <a:ext cx="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Group 33"/>
            <p:cNvGrpSpPr/>
            <p:nvPr/>
          </p:nvGrpSpPr>
          <p:grpSpPr>
            <a:xfrm>
              <a:off x="2695320" y="2468520"/>
              <a:ext cx="612000" cy="599760"/>
              <a:chOff x="2695320" y="2468520"/>
              <a:chExt cx="612000" cy="599760"/>
            </a:xfrm>
          </p:grpSpPr>
          <p:sp>
            <p:nvSpPr>
              <p:cNvPr id="613" name="Line 34"/>
              <p:cNvSpPr/>
              <p:nvPr/>
            </p:nvSpPr>
            <p:spPr>
              <a:xfrm>
                <a:off x="2695320" y="2640240"/>
                <a:ext cx="572760" cy="1440"/>
              </a:xfrm>
              <a:prstGeom prst="line">
                <a:avLst/>
              </a:prstGeom>
              <a:ln w="50760">
                <a:solidFill>
                  <a:srgbClr val="a2c1f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4" name="Text Box 35"/>
              <p:cNvSpPr/>
              <p:nvPr/>
            </p:nvSpPr>
            <p:spPr>
              <a:xfrm>
                <a:off x="2768040" y="264492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Arial"/>
                </a:endParaRPr>
              </a:p>
            </p:txBody>
          </p:sp>
          <p:sp>
            <p:nvSpPr>
              <p:cNvPr id="615" name="Line 36"/>
              <p:cNvSpPr/>
              <p:nvPr/>
            </p:nvSpPr>
            <p:spPr>
              <a:xfrm>
                <a:off x="3306240" y="2468520"/>
                <a:ext cx="108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6" name="Group 37"/>
            <p:cNvGrpSpPr/>
            <p:nvPr/>
          </p:nvGrpSpPr>
          <p:grpSpPr>
            <a:xfrm>
              <a:off x="3344760" y="2468520"/>
              <a:ext cx="613440" cy="599760"/>
              <a:chOff x="3344760" y="2468520"/>
              <a:chExt cx="613440" cy="599760"/>
            </a:xfrm>
          </p:grpSpPr>
          <p:sp>
            <p:nvSpPr>
              <p:cNvPr id="617" name="Line 38"/>
              <p:cNvSpPr/>
              <p:nvPr/>
            </p:nvSpPr>
            <p:spPr>
              <a:xfrm>
                <a:off x="3344760" y="2640240"/>
                <a:ext cx="572760" cy="1440"/>
              </a:xfrm>
              <a:prstGeom prst="line">
                <a:avLst/>
              </a:prstGeom>
              <a:ln w="50760">
                <a:solidFill>
                  <a:srgbClr val="a2c1f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18" name="Text Box 39"/>
              <p:cNvSpPr/>
              <p:nvPr/>
            </p:nvSpPr>
            <p:spPr>
              <a:xfrm>
                <a:off x="3418920" y="264492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Arial"/>
                </a:endParaRPr>
              </a:p>
            </p:txBody>
          </p:sp>
          <p:sp>
            <p:nvSpPr>
              <p:cNvPr id="619" name="Line 40"/>
              <p:cNvSpPr/>
              <p:nvPr/>
            </p:nvSpPr>
            <p:spPr>
              <a:xfrm>
                <a:off x="3957120" y="2468520"/>
                <a:ext cx="108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0" name="Line 41"/>
            <p:cNvSpPr/>
            <p:nvPr/>
          </p:nvSpPr>
          <p:spPr>
            <a:xfrm>
              <a:off x="3995640" y="2640240"/>
              <a:ext cx="572760" cy="1440"/>
            </a:xfrm>
            <a:prstGeom prst="line">
              <a:avLst/>
            </a:prstGeom>
            <a:ln w="50760">
              <a:solidFill>
                <a:srgbClr val="a2c1fe"/>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1" name="Line 42"/>
            <p:cNvSpPr/>
            <p:nvPr/>
          </p:nvSpPr>
          <p:spPr>
            <a:xfrm>
              <a:off x="4632120" y="2691000"/>
              <a:ext cx="344160" cy="1440"/>
            </a:xfrm>
            <a:prstGeom prst="line">
              <a:avLst/>
            </a:prstGeom>
            <a:ln w="50760">
              <a:solidFill>
                <a:srgbClr val="00dfc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2" name="Text Box 43"/>
            <p:cNvSpPr/>
            <p:nvPr/>
          </p:nvSpPr>
          <p:spPr>
            <a:xfrm>
              <a:off x="4068720" y="264492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40</a:t>
              </a:r>
              <a:endParaRPr b="0" lang="en-US" sz="1800" spc="-1" strike="noStrike">
                <a:solidFill>
                  <a:srgbClr val="000000"/>
                </a:solidFill>
                <a:latin typeface="Arial"/>
              </a:endParaRPr>
            </a:p>
          </p:txBody>
        </p:sp>
        <p:sp>
          <p:nvSpPr>
            <p:cNvPr id="623" name="Text Box 44"/>
            <p:cNvSpPr/>
            <p:nvPr/>
          </p:nvSpPr>
          <p:spPr>
            <a:xfrm>
              <a:off x="4590720" y="2644920"/>
              <a:ext cx="434520" cy="423360"/>
            </a:xfrm>
            <a:prstGeom prst="rect">
              <a:avLst/>
            </a:prstGeom>
            <a:noFill/>
            <a:ln w="0">
              <a:noFill/>
            </a:ln>
          </p:spPr>
          <p:style>
            <a:lnRef idx="0"/>
            <a:fillRef idx="0"/>
            <a:effectRef idx="0"/>
            <a:fontRef idx="minor"/>
          </p:style>
          <p:txBody>
            <a:bodyPr wrap="none" lIns="90360" rIns="90360" tIns="44280" bIns="44280" anchor="t">
              <a:spAutoFit/>
            </a:bodyPr>
            <a:p>
              <a:pPr algn="ctr">
                <a:lnSpc>
                  <a:spcPct val="12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0</a:t>
              </a:r>
              <a:endParaRPr b="0" lang="en-US" sz="1800" spc="-1" strike="noStrike">
                <a:solidFill>
                  <a:srgbClr val="000000"/>
                </a:solidFill>
                <a:latin typeface="Arial"/>
              </a:endParaRPr>
            </a:p>
          </p:txBody>
        </p:sp>
        <p:sp>
          <p:nvSpPr>
            <p:cNvPr id="624" name="Line 45"/>
            <p:cNvSpPr/>
            <p:nvPr/>
          </p:nvSpPr>
          <p:spPr>
            <a:xfrm>
              <a:off x="4606920" y="2468520"/>
              <a:ext cx="108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46"/>
            <p:cNvSpPr/>
            <p:nvPr/>
          </p:nvSpPr>
          <p:spPr>
            <a:xfrm>
              <a:off x="5014800" y="2468520"/>
              <a:ext cx="108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6" name="Line 47"/>
            <p:cNvSpPr/>
            <p:nvPr/>
          </p:nvSpPr>
          <p:spPr>
            <a:xfrm>
              <a:off x="2160360" y="2589480"/>
              <a:ext cx="458640" cy="1440"/>
            </a:xfrm>
            <a:prstGeom prst="line">
              <a:avLst/>
            </a:prstGeom>
            <a:ln w="50760">
              <a:solidFill>
                <a:srgbClr val="f6bf6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7" name="Line 48"/>
            <p:cNvSpPr/>
            <p:nvPr/>
          </p:nvSpPr>
          <p:spPr>
            <a:xfrm>
              <a:off x="2809800" y="2589480"/>
              <a:ext cx="458280" cy="1440"/>
            </a:xfrm>
            <a:prstGeom prst="line">
              <a:avLst/>
            </a:prstGeom>
            <a:ln w="50760">
              <a:solidFill>
                <a:srgbClr val="f6bf6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Line 49"/>
            <p:cNvSpPr/>
            <p:nvPr/>
          </p:nvSpPr>
          <p:spPr>
            <a:xfrm>
              <a:off x="3458880" y="2589480"/>
              <a:ext cx="458640" cy="1440"/>
            </a:xfrm>
            <a:prstGeom prst="line">
              <a:avLst/>
            </a:prstGeom>
            <a:ln w="50760">
              <a:solidFill>
                <a:srgbClr val="f6bf6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9" name="Line 50"/>
            <p:cNvSpPr/>
            <p:nvPr/>
          </p:nvSpPr>
          <p:spPr>
            <a:xfrm>
              <a:off x="2695320" y="2691000"/>
              <a:ext cx="344160" cy="1440"/>
            </a:xfrm>
            <a:prstGeom prst="line">
              <a:avLst/>
            </a:prstGeom>
            <a:ln w="50760">
              <a:solidFill>
                <a:srgbClr val="00dfc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0" name="Line 51"/>
            <p:cNvSpPr/>
            <p:nvPr/>
          </p:nvSpPr>
          <p:spPr>
            <a:xfrm>
              <a:off x="3344760" y="2691000"/>
              <a:ext cx="344160" cy="1440"/>
            </a:xfrm>
            <a:prstGeom prst="line">
              <a:avLst/>
            </a:prstGeom>
            <a:ln w="50760">
              <a:solidFill>
                <a:srgbClr val="00dfc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1" name="Line 52"/>
            <p:cNvSpPr/>
            <p:nvPr/>
          </p:nvSpPr>
          <p:spPr>
            <a:xfrm>
              <a:off x="3995640" y="2691000"/>
              <a:ext cx="344160" cy="1440"/>
            </a:xfrm>
            <a:prstGeom prst="line">
              <a:avLst/>
            </a:prstGeom>
            <a:ln w="50760">
              <a:solidFill>
                <a:srgbClr val="00dfca"/>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32" name="Group 53"/>
          <p:cNvGrpSpPr/>
          <p:nvPr/>
        </p:nvGrpSpPr>
        <p:grpSpPr>
          <a:xfrm>
            <a:off x="1535040" y="3040200"/>
            <a:ext cx="3488760" cy="2931120"/>
            <a:chOff x="1535040" y="3040200"/>
            <a:chExt cx="3488760" cy="2931120"/>
          </a:xfrm>
        </p:grpSpPr>
        <p:grpSp>
          <p:nvGrpSpPr>
            <p:cNvPr id="633" name="Group 54"/>
            <p:cNvGrpSpPr/>
            <p:nvPr/>
          </p:nvGrpSpPr>
          <p:grpSpPr>
            <a:xfrm>
              <a:off x="1535040" y="3040200"/>
              <a:ext cx="1532880" cy="708840"/>
              <a:chOff x="1535040" y="3040200"/>
              <a:chExt cx="1532880" cy="708840"/>
            </a:xfrm>
          </p:grpSpPr>
          <p:grpSp>
            <p:nvGrpSpPr>
              <p:cNvPr id="634" name="Group 55"/>
              <p:cNvGrpSpPr/>
              <p:nvPr/>
            </p:nvGrpSpPr>
            <p:grpSpPr>
              <a:xfrm>
                <a:off x="1535040" y="3040200"/>
                <a:ext cx="481320" cy="708840"/>
                <a:chOff x="1535040" y="3040200"/>
                <a:chExt cx="481320" cy="708840"/>
              </a:xfrm>
            </p:grpSpPr>
            <p:grpSp>
              <p:nvGrpSpPr>
                <p:cNvPr id="635" name="Group 56"/>
                <p:cNvGrpSpPr/>
                <p:nvPr/>
              </p:nvGrpSpPr>
              <p:grpSpPr>
                <a:xfrm>
                  <a:off x="1535040" y="3040200"/>
                  <a:ext cx="481320" cy="708840"/>
                  <a:chOff x="1535040" y="3040200"/>
                  <a:chExt cx="481320" cy="708840"/>
                </a:xfrm>
              </p:grpSpPr>
              <p:grpSp>
                <p:nvGrpSpPr>
                  <p:cNvPr id="636" name="Group 57"/>
                  <p:cNvGrpSpPr/>
                  <p:nvPr/>
                </p:nvGrpSpPr>
                <p:grpSpPr>
                  <a:xfrm>
                    <a:off x="1535040" y="3152520"/>
                    <a:ext cx="481320" cy="596520"/>
                    <a:chOff x="1535040" y="3152520"/>
                    <a:chExt cx="481320" cy="596520"/>
                  </a:xfrm>
                </p:grpSpPr>
                <p:sp>
                  <p:nvSpPr>
                    <p:cNvPr id="637" name="Freeform 58"/>
                    <p:cNvSpPr/>
                    <p:nvPr/>
                  </p:nvSpPr>
                  <p:spPr>
                    <a:xfrm>
                      <a:off x="1535040" y="3152520"/>
                      <a:ext cx="480240" cy="596520"/>
                    </a:xfrm>
                    <a:custGeom>
                      <a:avLst/>
                      <a:gdLst>
                        <a:gd name="textAreaLeft" fmla="*/ 0 w 480240"/>
                        <a:gd name="textAreaRight" fmla="*/ 480600 w 480240"/>
                        <a:gd name="textAreaTop" fmla="*/ 0 h 596520"/>
                        <a:gd name="textAreaBottom" fmla="*/ 596880 h 596520"/>
                      </a:gdLst>
                      <a:ahLst/>
                      <a:rect l="textAreaLeft" t="textAreaTop" r="textAreaRight" b="textAreaBottom"/>
                      <a:pathLst>
                        <a:path w="1346" h="1663">
                          <a:moveTo>
                            <a:pt x="0" y="1662"/>
                          </a:moveTo>
                          <a:lnTo>
                            <a:pt x="0" y="336"/>
                          </a:lnTo>
                          <a:lnTo>
                            <a:pt x="335" y="0"/>
                          </a:lnTo>
                          <a:lnTo>
                            <a:pt x="1345" y="0"/>
                          </a:lnTo>
                          <a:lnTo>
                            <a:pt x="1345" y="1326"/>
                          </a:lnTo>
                          <a:lnTo>
                            <a:pt x="1008" y="1662"/>
                          </a:lnTo>
                          <a:lnTo>
                            <a:pt x="0" y="1662"/>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Freeform 59"/>
                    <p:cNvSpPr/>
                    <p:nvPr/>
                  </p:nvSpPr>
                  <p:spPr>
                    <a:xfrm>
                      <a:off x="1535040" y="3152520"/>
                      <a:ext cx="480240" cy="119880"/>
                    </a:xfrm>
                    <a:custGeom>
                      <a:avLst/>
                      <a:gdLst>
                        <a:gd name="textAreaLeft" fmla="*/ 0 w 480240"/>
                        <a:gd name="textAreaRight" fmla="*/ 480600 w 480240"/>
                        <a:gd name="textAreaTop" fmla="*/ 0 h 119880"/>
                        <a:gd name="textAreaBottom" fmla="*/ 120240 h 119880"/>
                      </a:gdLst>
                      <a:ahLst/>
                      <a:rect l="textAreaLeft" t="textAreaTop" r="textAreaRight" b="textAreaBottom"/>
                      <a:pathLst>
                        <a:path w="1346" h="337">
                          <a:moveTo>
                            <a:pt x="0" y="336"/>
                          </a:moveTo>
                          <a:lnTo>
                            <a:pt x="335" y="0"/>
                          </a:lnTo>
                          <a:lnTo>
                            <a:pt x="1345" y="0"/>
                          </a:lnTo>
                          <a:lnTo>
                            <a:pt x="1008" y="336"/>
                          </a:lnTo>
                          <a:lnTo>
                            <a:pt x="0" y="33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9" name="Freeform 60"/>
                    <p:cNvSpPr/>
                    <p:nvPr/>
                  </p:nvSpPr>
                  <p:spPr>
                    <a:xfrm>
                      <a:off x="1895400" y="3152520"/>
                      <a:ext cx="120960" cy="596520"/>
                    </a:xfrm>
                    <a:custGeom>
                      <a:avLst/>
                      <a:gdLst>
                        <a:gd name="textAreaLeft" fmla="*/ 0 w 120960"/>
                        <a:gd name="textAreaRight" fmla="*/ 121320 w 120960"/>
                        <a:gd name="textAreaTop" fmla="*/ 0 h 596520"/>
                        <a:gd name="textAreaBottom" fmla="*/ 596880 h 596520"/>
                      </a:gdLst>
                      <a:ahLst/>
                      <a:rect l="textAreaLeft" t="textAreaTop" r="textAreaRight" b="textAreaBottom"/>
                      <a:pathLst>
                        <a:path w="338" h="1663">
                          <a:moveTo>
                            <a:pt x="0" y="1662"/>
                          </a:moveTo>
                          <a:lnTo>
                            <a:pt x="0" y="336"/>
                          </a:lnTo>
                          <a:lnTo>
                            <a:pt x="337" y="0"/>
                          </a:lnTo>
                          <a:lnTo>
                            <a:pt x="337" y="1326"/>
                          </a:lnTo>
                          <a:lnTo>
                            <a:pt x="0" y="1662"/>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40" name="Group 61"/>
                  <p:cNvGrpSpPr/>
                  <p:nvPr/>
                </p:nvGrpSpPr>
                <p:grpSpPr>
                  <a:xfrm>
                    <a:off x="1645560" y="3040200"/>
                    <a:ext cx="370800" cy="121680"/>
                    <a:chOff x="1645560" y="3040200"/>
                    <a:chExt cx="370800" cy="121680"/>
                  </a:xfrm>
                </p:grpSpPr>
                <p:sp>
                  <p:nvSpPr>
                    <p:cNvPr id="641" name="Freeform 62"/>
                    <p:cNvSpPr/>
                    <p:nvPr/>
                  </p:nvSpPr>
                  <p:spPr>
                    <a:xfrm>
                      <a:off x="1645560" y="3040200"/>
                      <a:ext cx="370800" cy="121680"/>
                    </a:xfrm>
                    <a:custGeom>
                      <a:avLst/>
                      <a:gdLst>
                        <a:gd name="textAreaLeft" fmla="*/ 0 w 370800"/>
                        <a:gd name="textAreaRight" fmla="*/ 371160 w 370800"/>
                        <a:gd name="textAreaTop" fmla="*/ 0 h 121680"/>
                        <a:gd name="textAreaBottom" fmla="*/ 122040 h 121680"/>
                      </a:gdLst>
                      <a:ahLst/>
                      <a:rect l="textAreaLeft" t="textAreaTop" r="textAreaRight" b="textAreaBottom"/>
                      <a:pathLst>
                        <a:path w="1038" h="345">
                          <a:moveTo>
                            <a:pt x="0" y="344"/>
                          </a:moveTo>
                          <a:lnTo>
                            <a:pt x="0" y="85"/>
                          </a:lnTo>
                          <a:lnTo>
                            <a:pt x="85" y="0"/>
                          </a:lnTo>
                          <a:lnTo>
                            <a:pt x="1037" y="0"/>
                          </a:lnTo>
                          <a:lnTo>
                            <a:pt x="1037" y="257"/>
                          </a:lnTo>
                          <a:lnTo>
                            <a:pt x="950"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2" name="Freeform 63"/>
                    <p:cNvSpPr/>
                    <p:nvPr/>
                  </p:nvSpPr>
                  <p:spPr>
                    <a:xfrm>
                      <a:off x="1645560" y="3040200"/>
                      <a:ext cx="370800" cy="30960"/>
                    </a:xfrm>
                    <a:custGeom>
                      <a:avLst/>
                      <a:gdLst>
                        <a:gd name="textAreaLeft" fmla="*/ 0 w 370800"/>
                        <a:gd name="textAreaRight" fmla="*/ 371160 w 370800"/>
                        <a:gd name="textAreaTop" fmla="*/ 0 h 30960"/>
                        <a:gd name="textAreaBottom" fmla="*/ 31320 h 30960"/>
                      </a:gdLst>
                      <a:ahLst/>
                      <a:rect l="textAreaLeft" t="textAreaTop" r="textAreaRight" b="textAreaBottom"/>
                      <a:pathLst>
                        <a:path w="1038" h="86">
                          <a:moveTo>
                            <a:pt x="0" y="85"/>
                          </a:moveTo>
                          <a:lnTo>
                            <a:pt x="85" y="0"/>
                          </a:lnTo>
                          <a:lnTo>
                            <a:pt x="1037" y="0"/>
                          </a:lnTo>
                          <a:lnTo>
                            <a:pt x="950"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643" name="Freeform 64"/>
                    <p:cNvSpPr/>
                    <p:nvPr/>
                  </p:nvSpPr>
                  <p:spPr>
                    <a:xfrm>
                      <a:off x="1984320" y="3040200"/>
                      <a:ext cx="31680" cy="121680"/>
                    </a:xfrm>
                    <a:custGeom>
                      <a:avLst/>
                      <a:gdLst>
                        <a:gd name="textAreaLeft" fmla="*/ 0 w 31680"/>
                        <a:gd name="textAreaRight" fmla="*/ 32040 w 31680"/>
                        <a:gd name="textAreaTop" fmla="*/ 0 h 121680"/>
                        <a:gd name="textAreaBottom" fmla="*/ 122040 h 121680"/>
                      </a:gdLst>
                      <a:ahLst/>
                      <a:rect l="textAreaLeft" t="textAreaTop" r="textAreaRight" b="textAreaBottom"/>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4" name="Freeform 65"/>
                <p:cNvSpPr/>
                <p:nvPr/>
              </p:nvSpPr>
              <p:spPr>
                <a:xfrm>
                  <a:off x="1632960" y="3204720"/>
                  <a:ext cx="250200" cy="42840"/>
                </a:xfrm>
                <a:custGeom>
                  <a:avLst/>
                  <a:gdLst>
                    <a:gd name="textAreaLeft" fmla="*/ 0 w 250200"/>
                    <a:gd name="textAreaRight" fmla="*/ 250560 w 250200"/>
                    <a:gd name="textAreaTop" fmla="*/ 0 h 42840"/>
                    <a:gd name="textAreaBottom" fmla="*/ 43200 h 42840"/>
                  </a:gdLst>
                  <a:ahLst/>
                  <a:rect l="textAreaLeft" t="textAreaTop" r="textAreaRight" b="textAreaBottom"/>
                  <a:pathLst>
                    <a:path w="698" h="121">
                      <a:moveTo>
                        <a:pt x="173" y="0"/>
                      </a:moveTo>
                      <a:lnTo>
                        <a:pt x="697" y="0"/>
                      </a:lnTo>
                      <a:lnTo>
                        <a:pt x="522" y="120"/>
                      </a:lnTo>
                      <a:lnTo>
                        <a:pt x="0" y="120"/>
                      </a:lnTo>
                      <a:lnTo>
                        <a:pt x="173" y="0"/>
                      </a:lnTo>
                    </a:path>
                  </a:pathLst>
                </a:custGeom>
                <a:solidFill>
                  <a:srgbClr val="f6bf69"/>
                </a:solidFill>
                <a:ln w="25560">
                  <a:solidFill>
                    <a:srgbClr val="000000"/>
                  </a:solidFill>
                  <a:round/>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nvGrpSpPr>
              <p:cNvPr id="645" name="Group 66"/>
              <p:cNvGrpSpPr/>
              <p:nvPr/>
            </p:nvGrpSpPr>
            <p:grpSpPr>
              <a:xfrm>
                <a:off x="2012040" y="3040200"/>
                <a:ext cx="597240" cy="708840"/>
                <a:chOff x="2012040" y="3040200"/>
                <a:chExt cx="597240" cy="708840"/>
              </a:xfrm>
            </p:grpSpPr>
            <p:grpSp>
              <p:nvGrpSpPr>
                <p:cNvPr id="646" name="Group 67"/>
                <p:cNvGrpSpPr/>
                <p:nvPr/>
              </p:nvGrpSpPr>
              <p:grpSpPr>
                <a:xfrm>
                  <a:off x="2012040" y="3040200"/>
                  <a:ext cx="597240" cy="708840"/>
                  <a:chOff x="2012040" y="3040200"/>
                  <a:chExt cx="597240" cy="708840"/>
                </a:xfrm>
              </p:grpSpPr>
              <p:grpSp>
                <p:nvGrpSpPr>
                  <p:cNvPr id="647" name="Group 68"/>
                  <p:cNvGrpSpPr/>
                  <p:nvPr/>
                </p:nvGrpSpPr>
                <p:grpSpPr>
                  <a:xfrm>
                    <a:off x="2012040" y="3152520"/>
                    <a:ext cx="597240" cy="596520"/>
                    <a:chOff x="2012040" y="3152520"/>
                    <a:chExt cx="597240" cy="596520"/>
                  </a:xfrm>
                </p:grpSpPr>
                <p:sp>
                  <p:nvSpPr>
                    <p:cNvPr id="648" name="Freeform 69"/>
                    <p:cNvSpPr/>
                    <p:nvPr/>
                  </p:nvSpPr>
                  <p:spPr>
                    <a:xfrm>
                      <a:off x="2012040" y="3152520"/>
                      <a:ext cx="596160" cy="596520"/>
                    </a:xfrm>
                    <a:custGeom>
                      <a:avLst/>
                      <a:gdLst>
                        <a:gd name="textAreaLeft" fmla="*/ 0 w 596160"/>
                        <a:gd name="textAreaRight" fmla="*/ 596520 w 596160"/>
                        <a:gd name="textAreaTop" fmla="*/ 0 h 596520"/>
                        <a:gd name="textAreaBottom" fmla="*/ 596880 h 596520"/>
                      </a:gdLst>
                      <a:ahLst/>
                      <a:rect l="textAreaLeft" t="textAreaTop" r="textAreaRight" b="textAreaBottom"/>
                      <a:pathLst>
                        <a:path w="1668" h="1663">
                          <a:moveTo>
                            <a:pt x="0" y="1662"/>
                          </a:moveTo>
                          <a:lnTo>
                            <a:pt x="0" y="415"/>
                          </a:lnTo>
                          <a:lnTo>
                            <a:pt x="414" y="0"/>
                          </a:lnTo>
                          <a:lnTo>
                            <a:pt x="1667" y="0"/>
                          </a:lnTo>
                          <a:lnTo>
                            <a:pt x="1667" y="1247"/>
                          </a:lnTo>
                          <a:lnTo>
                            <a:pt x="1251" y="1662"/>
                          </a:lnTo>
                          <a:lnTo>
                            <a:pt x="0" y="1662"/>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9" name="Freeform 70"/>
                    <p:cNvSpPr/>
                    <p:nvPr/>
                  </p:nvSpPr>
                  <p:spPr>
                    <a:xfrm>
                      <a:off x="2012040" y="3152520"/>
                      <a:ext cx="596160" cy="148320"/>
                    </a:xfrm>
                    <a:custGeom>
                      <a:avLst/>
                      <a:gdLst>
                        <a:gd name="textAreaLeft" fmla="*/ 0 w 596160"/>
                        <a:gd name="textAreaRight" fmla="*/ 596520 w 596160"/>
                        <a:gd name="textAreaTop" fmla="*/ 0 h 148320"/>
                        <a:gd name="textAreaBottom" fmla="*/ 148680 h 148320"/>
                      </a:gdLst>
                      <a:ahLst/>
                      <a:rect l="textAreaLeft" t="textAreaTop" r="textAreaRight" b="textAreaBottom"/>
                      <a:pathLst>
                        <a:path w="1668" h="416">
                          <a:moveTo>
                            <a:pt x="0" y="415"/>
                          </a:moveTo>
                          <a:lnTo>
                            <a:pt x="414" y="0"/>
                          </a:lnTo>
                          <a:lnTo>
                            <a:pt x="1667" y="0"/>
                          </a:lnTo>
                          <a:lnTo>
                            <a:pt x="1251" y="415"/>
                          </a:lnTo>
                          <a:lnTo>
                            <a:pt x="0" y="415"/>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0" name="Freeform 71"/>
                    <p:cNvSpPr/>
                    <p:nvPr/>
                  </p:nvSpPr>
                  <p:spPr>
                    <a:xfrm>
                      <a:off x="2459520" y="3152520"/>
                      <a:ext cx="149760" cy="596520"/>
                    </a:xfrm>
                    <a:custGeom>
                      <a:avLst/>
                      <a:gdLst>
                        <a:gd name="textAreaLeft" fmla="*/ 0 w 149760"/>
                        <a:gd name="textAreaRight" fmla="*/ 150120 w 149760"/>
                        <a:gd name="textAreaTop" fmla="*/ 0 h 596520"/>
                        <a:gd name="textAreaBottom" fmla="*/ 596880 h 596520"/>
                      </a:gdLst>
                      <a:ahLst/>
                      <a:rect l="textAreaLeft" t="textAreaTop" r="textAreaRight" b="textAreaBottom"/>
                      <a:pathLst>
                        <a:path w="417" h="1663">
                          <a:moveTo>
                            <a:pt x="0" y="1662"/>
                          </a:moveTo>
                          <a:lnTo>
                            <a:pt x="0" y="415"/>
                          </a:lnTo>
                          <a:lnTo>
                            <a:pt x="416" y="0"/>
                          </a:lnTo>
                          <a:lnTo>
                            <a:pt x="416" y="1247"/>
                          </a:lnTo>
                          <a:lnTo>
                            <a:pt x="0" y="1662"/>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51" name="Group 72"/>
                  <p:cNvGrpSpPr/>
                  <p:nvPr/>
                </p:nvGrpSpPr>
                <p:grpSpPr>
                  <a:xfrm>
                    <a:off x="2148120" y="3040200"/>
                    <a:ext cx="461160" cy="121680"/>
                    <a:chOff x="2148120" y="3040200"/>
                    <a:chExt cx="461160" cy="121680"/>
                  </a:xfrm>
                </p:grpSpPr>
                <p:sp>
                  <p:nvSpPr>
                    <p:cNvPr id="652" name="Freeform 73"/>
                    <p:cNvSpPr/>
                    <p:nvPr/>
                  </p:nvSpPr>
                  <p:spPr>
                    <a:xfrm>
                      <a:off x="2148120" y="3040200"/>
                      <a:ext cx="461160" cy="121680"/>
                    </a:xfrm>
                    <a:custGeom>
                      <a:avLst/>
                      <a:gdLst>
                        <a:gd name="textAreaLeft" fmla="*/ 0 w 461160"/>
                        <a:gd name="textAreaRight" fmla="*/ 461520 w 461160"/>
                        <a:gd name="textAreaTop" fmla="*/ 0 h 121680"/>
                        <a:gd name="textAreaBottom" fmla="*/ 122040 h 121680"/>
                      </a:gdLst>
                      <a:ahLst/>
                      <a:rect l="textAreaLeft" t="textAreaTop" r="textAreaRight" b="textAreaBottom"/>
                      <a:pathLst>
                        <a:path w="1289" h="345">
                          <a:moveTo>
                            <a:pt x="0" y="344"/>
                          </a:moveTo>
                          <a:lnTo>
                            <a:pt x="0" y="85"/>
                          </a:lnTo>
                          <a:lnTo>
                            <a:pt x="85" y="0"/>
                          </a:lnTo>
                          <a:lnTo>
                            <a:pt x="1288" y="0"/>
                          </a:lnTo>
                          <a:lnTo>
                            <a:pt x="1288" y="257"/>
                          </a:lnTo>
                          <a:lnTo>
                            <a:pt x="1201"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3" name="Freeform 74"/>
                    <p:cNvSpPr/>
                    <p:nvPr/>
                  </p:nvSpPr>
                  <p:spPr>
                    <a:xfrm>
                      <a:off x="2148120" y="3040200"/>
                      <a:ext cx="461160" cy="30960"/>
                    </a:xfrm>
                    <a:custGeom>
                      <a:avLst/>
                      <a:gdLst>
                        <a:gd name="textAreaLeft" fmla="*/ 0 w 461160"/>
                        <a:gd name="textAreaRight" fmla="*/ 461520 w 461160"/>
                        <a:gd name="textAreaTop" fmla="*/ 0 h 30960"/>
                        <a:gd name="textAreaBottom" fmla="*/ 31320 h 30960"/>
                      </a:gdLst>
                      <a:ahLst/>
                      <a:rect l="textAreaLeft" t="textAreaTop" r="textAreaRight" b="textAreaBottom"/>
                      <a:pathLst>
                        <a:path w="1289" h="86">
                          <a:moveTo>
                            <a:pt x="0" y="85"/>
                          </a:moveTo>
                          <a:lnTo>
                            <a:pt x="85" y="0"/>
                          </a:lnTo>
                          <a:lnTo>
                            <a:pt x="1288" y="0"/>
                          </a:lnTo>
                          <a:lnTo>
                            <a:pt x="1201"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654" name="Freeform 75"/>
                    <p:cNvSpPr/>
                    <p:nvPr/>
                  </p:nvSpPr>
                  <p:spPr>
                    <a:xfrm>
                      <a:off x="2577600" y="3040200"/>
                      <a:ext cx="31320" cy="121680"/>
                    </a:xfrm>
                    <a:custGeom>
                      <a:avLst/>
                      <a:gdLst>
                        <a:gd name="textAreaLeft" fmla="*/ 0 w 31320"/>
                        <a:gd name="textAreaRight" fmla="*/ 31680 w 31320"/>
                        <a:gd name="textAreaTop" fmla="*/ 0 h 121680"/>
                        <a:gd name="textAreaBottom" fmla="*/ 122040 h 121680"/>
                      </a:gdLst>
                      <a:ahLst/>
                      <a:rect l="textAreaLeft" t="textAreaTop" r="textAreaRight" b="textAreaBottom"/>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55" name="Oval 76"/>
                <p:cNvSpPr/>
                <p:nvPr/>
              </p:nvSpPr>
              <p:spPr>
                <a:xfrm>
                  <a:off x="2194200" y="3097080"/>
                  <a:ext cx="77400" cy="42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77"/>
                <p:cNvSpPr/>
                <p:nvPr/>
              </p:nvSpPr>
              <p:spPr>
                <a:xfrm>
                  <a:off x="2086200" y="3430440"/>
                  <a:ext cx="313560" cy="132840"/>
                </a:xfrm>
                <a:custGeom>
                  <a:avLst/>
                  <a:gdLst>
                    <a:gd name="textAreaLeft" fmla="*/ 0 w 313560"/>
                    <a:gd name="textAreaRight" fmla="*/ 313920 w 313560"/>
                    <a:gd name="textAreaTop" fmla="*/ 0 h 132840"/>
                    <a:gd name="textAreaBottom" fmla="*/ 133200 h 132840"/>
                  </a:gdLst>
                  <a:ahLst/>
                  <a:rect l="textAreaLeft" t="textAreaTop" r="textAreaRight" b="textAreaBottom"/>
                  <a:pathLst>
                    <a:path w="874" h="371">
                      <a:moveTo>
                        <a:pt x="107" y="0"/>
                      </a:moveTo>
                      <a:lnTo>
                        <a:pt x="764" y="0"/>
                      </a:lnTo>
                      <a:lnTo>
                        <a:pt x="873" y="108"/>
                      </a:lnTo>
                      <a:lnTo>
                        <a:pt x="873" y="262"/>
                      </a:lnTo>
                      <a:lnTo>
                        <a:pt x="764" y="370"/>
                      </a:lnTo>
                      <a:lnTo>
                        <a:pt x="107" y="370"/>
                      </a:lnTo>
                      <a:lnTo>
                        <a:pt x="0" y="262"/>
                      </a:lnTo>
                      <a:lnTo>
                        <a:pt x="0" y="108"/>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57" name="Freeform 78"/>
              <p:cNvSpPr/>
              <p:nvPr/>
            </p:nvSpPr>
            <p:spPr>
              <a:xfrm>
                <a:off x="2906280" y="3403440"/>
                <a:ext cx="134640" cy="302760"/>
              </a:xfrm>
              <a:custGeom>
                <a:avLst/>
                <a:gdLst>
                  <a:gd name="textAreaLeft" fmla="*/ 0 w 134640"/>
                  <a:gd name="textAreaRight" fmla="*/ 135000 w 134640"/>
                  <a:gd name="textAreaTop" fmla="*/ 0 h 302760"/>
                  <a:gd name="textAreaBottom" fmla="*/ 303120 h 302760"/>
                </a:gdLst>
                <a:ahLst/>
                <a:rect l="textAreaLeft" t="textAreaTop" r="textAreaRight" b="textAreaBottom"/>
                <a:pathLst>
                  <a:path w="376" h="843">
                    <a:moveTo>
                      <a:pt x="273" y="0"/>
                    </a:moveTo>
                    <a:lnTo>
                      <a:pt x="375" y="0"/>
                    </a:lnTo>
                    <a:lnTo>
                      <a:pt x="101" y="842"/>
                    </a:lnTo>
                    <a:lnTo>
                      <a:pt x="0" y="842"/>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8" name="AutoShape 79"/>
              <p:cNvSpPr/>
              <p:nvPr/>
            </p:nvSpPr>
            <p:spPr>
              <a:xfrm>
                <a:off x="2899800" y="3403440"/>
                <a:ext cx="168120" cy="24840"/>
              </a:xfrm>
              <a:prstGeom prst="roundRect">
                <a:avLst>
                  <a:gd name="adj" fmla="val 6250"/>
                </a:avLst>
              </a:prstGeom>
              <a:solidFill>
                <a:srgbClr val="fc0128"/>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80"/>
              <p:cNvSpPr/>
              <p:nvPr/>
            </p:nvSpPr>
            <p:spPr>
              <a:xfrm>
                <a:off x="2910960" y="3531960"/>
                <a:ext cx="129960" cy="24840"/>
              </a:xfrm>
              <a:prstGeom prst="roundRect">
                <a:avLst>
                  <a:gd name="adj" fmla="val 6250"/>
                </a:avLst>
              </a:prstGeom>
              <a:solidFill>
                <a:srgbClr val="fc0128"/>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81"/>
              <p:cNvSpPr/>
              <p:nvPr/>
            </p:nvSpPr>
            <p:spPr>
              <a:xfrm>
                <a:off x="2620800" y="3531960"/>
                <a:ext cx="163440" cy="16920"/>
              </a:xfrm>
              <a:prstGeom prst="roundRect">
                <a:avLst>
                  <a:gd name="adj" fmla="val 10000"/>
                </a:avLst>
              </a:prstGeom>
              <a:solidFill>
                <a:srgbClr val="fc0128"/>
              </a:solidFill>
              <a:ln w="0">
                <a:noFill/>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1" name="Group 82"/>
              <p:cNvGrpSpPr/>
              <p:nvPr/>
            </p:nvGrpSpPr>
            <p:grpSpPr>
              <a:xfrm>
                <a:off x="2617920" y="3130200"/>
                <a:ext cx="306000" cy="575640"/>
                <a:chOff x="2617920" y="3130200"/>
                <a:chExt cx="306000" cy="575640"/>
              </a:xfrm>
            </p:grpSpPr>
            <p:sp>
              <p:nvSpPr>
                <p:cNvPr id="662" name="Oval 83"/>
                <p:cNvSpPr/>
                <p:nvPr/>
              </p:nvSpPr>
              <p:spPr>
                <a:xfrm>
                  <a:off x="2739240" y="3130200"/>
                  <a:ext cx="75600" cy="774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84"/>
                <p:cNvSpPr/>
                <p:nvPr/>
              </p:nvSpPr>
              <p:spPr>
                <a:xfrm>
                  <a:off x="2617920" y="3237840"/>
                  <a:ext cx="306000" cy="468000"/>
                </a:xfrm>
                <a:custGeom>
                  <a:avLst/>
                  <a:gdLst>
                    <a:gd name="textAreaLeft" fmla="*/ 0 w 306000"/>
                    <a:gd name="textAreaRight" fmla="*/ 306360 w 306000"/>
                    <a:gd name="textAreaTop" fmla="*/ 0 h 468000"/>
                    <a:gd name="textAreaBottom" fmla="*/ 468360 h 468000"/>
                  </a:gdLst>
                  <a:ahLst/>
                  <a:rect l="textAreaLeft" t="textAreaTop" r="textAreaRight" b="textAreaBottom"/>
                  <a:pathLst>
                    <a:path w="856" h="1305">
                      <a:moveTo>
                        <a:pt x="234" y="101"/>
                      </a:moveTo>
                      <a:lnTo>
                        <a:pt x="8" y="605"/>
                      </a:lnTo>
                      <a:lnTo>
                        <a:pt x="4" y="609"/>
                      </a:lnTo>
                      <a:lnTo>
                        <a:pt x="4" y="618"/>
                      </a:lnTo>
                      <a:lnTo>
                        <a:pt x="0" y="627"/>
                      </a:lnTo>
                      <a:lnTo>
                        <a:pt x="0" y="640"/>
                      </a:lnTo>
                      <a:lnTo>
                        <a:pt x="0" y="649"/>
                      </a:lnTo>
                      <a:lnTo>
                        <a:pt x="0" y="662"/>
                      </a:lnTo>
                      <a:lnTo>
                        <a:pt x="4" y="671"/>
                      </a:lnTo>
                      <a:lnTo>
                        <a:pt x="8" y="684"/>
                      </a:lnTo>
                      <a:lnTo>
                        <a:pt x="13" y="693"/>
                      </a:lnTo>
                      <a:lnTo>
                        <a:pt x="17" y="703"/>
                      </a:lnTo>
                      <a:lnTo>
                        <a:pt x="26" y="712"/>
                      </a:lnTo>
                      <a:lnTo>
                        <a:pt x="35" y="721"/>
                      </a:lnTo>
                      <a:lnTo>
                        <a:pt x="44" y="725"/>
                      </a:lnTo>
                      <a:lnTo>
                        <a:pt x="52" y="730"/>
                      </a:lnTo>
                      <a:lnTo>
                        <a:pt x="61" y="730"/>
                      </a:lnTo>
                      <a:lnTo>
                        <a:pt x="70" y="734"/>
                      </a:lnTo>
                      <a:lnTo>
                        <a:pt x="79" y="734"/>
                      </a:lnTo>
                      <a:lnTo>
                        <a:pt x="92" y="734"/>
                      </a:lnTo>
                      <a:lnTo>
                        <a:pt x="558" y="734"/>
                      </a:lnTo>
                      <a:lnTo>
                        <a:pt x="558" y="1304"/>
                      </a:lnTo>
                      <a:lnTo>
                        <a:pt x="704" y="1304"/>
                      </a:lnTo>
                      <a:lnTo>
                        <a:pt x="704" y="627"/>
                      </a:lnTo>
                      <a:lnTo>
                        <a:pt x="704" y="618"/>
                      </a:lnTo>
                      <a:lnTo>
                        <a:pt x="704" y="609"/>
                      </a:lnTo>
                      <a:lnTo>
                        <a:pt x="700" y="605"/>
                      </a:lnTo>
                      <a:lnTo>
                        <a:pt x="695" y="601"/>
                      </a:lnTo>
                      <a:lnTo>
                        <a:pt x="691" y="596"/>
                      </a:lnTo>
                      <a:lnTo>
                        <a:pt x="682" y="587"/>
                      </a:lnTo>
                      <a:lnTo>
                        <a:pt x="678" y="583"/>
                      </a:lnTo>
                      <a:lnTo>
                        <a:pt x="673" y="578"/>
                      </a:lnTo>
                      <a:lnTo>
                        <a:pt x="664" y="578"/>
                      </a:lnTo>
                      <a:lnTo>
                        <a:pt x="656" y="574"/>
                      </a:lnTo>
                      <a:lnTo>
                        <a:pt x="647" y="574"/>
                      </a:lnTo>
                      <a:lnTo>
                        <a:pt x="638" y="570"/>
                      </a:lnTo>
                      <a:lnTo>
                        <a:pt x="629" y="570"/>
                      </a:lnTo>
                      <a:lnTo>
                        <a:pt x="620" y="570"/>
                      </a:lnTo>
                      <a:lnTo>
                        <a:pt x="616" y="570"/>
                      </a:lnTo>
                      <a:lnTo>
                        <a:pt x="607" y="570"/>
                      </a:lnTo>
                      <a:lnTo>
                        <a:pt x="337" y="552"/>
                      </a:lnTo>
                      <a:lnTo>
                        <a:pt x="412" y="331"/>
                      </a:lnTo>
                      <a:lnTo>
                        <a:pt x="465" y="411"/>
                      </a:lnTo>
                      <a:lnTo>
                        <a:pt x="793" y="411"/>
                      </a:lnTo>
                      <a:lnTo>
                        <a:pt x="802" y="406"/>
                      </a:lnTo>
                      <a:lnTo>
                        <a:pt x="811" y="406"/>
                      </a:lnTo>
                      <a:lnTo>
                        <a:pt x="815" y="402"/>
                      </a:lnTo>
                      <a:lnTo>
                        <a:pt x="820" y="402"/>
                      </a:lnTo>
                      <a:lnTo>
                        <a:pt x="829" y="398"/>
                      </a:lnTo>
                      <a:lnTo>
                        <a:pt x="837" y="393"/>
                      </a:lnTo>
                      <a:lnTo>
                        <a:pt x="842" y="384"/>
                      </a:lnTo>
                      <a:lnTo>
                        <a:pt x="846" y="380"/>
                      </a:lnTo>
                      <a:lnTo>
                        <a:pt x="851" y="371"/>
                      </a:lnTo>
                      <a:lnTo>
                        <a:pt x="851" y="367"/>
                      </a:lnTo>
                      <a:lnTo>
                        <a:pt x="855" y="358"/>
                      </a:lnTo>
                      <a:lnTo>
                        <a:pt x="855" y="345"/>
                      </a:lnTo>
                      <a:lnTo>
                        <a:pt x="855" y="336"/>
                      </a:lnTo>
                      <a:lnTo>
                        <a:pt x="851" y="327"/>
                      </a:lnTo>
                      <a:lnTo>
                        <a:pt x="846" y="318"/>
                      </a:lnTo>
                      <a:lnTo>
                        <a:pt x="842" y="309"/>
                      </a:lnTo>
                      <a:lnTo>
                        <a:pt x="837" y="305"/>
                      </a:lnTo>
                      <a:lnTo>
                        <a:pt x="833" y="300"/>
                      </a:lnTo>
                      <a:lnTo>
                        <a:pt x="824" y="291"/>
                      </a:lnTo>
                      <a:lnTo>
                        <a:pt x="815" y="286"/>
                      </a:lnTo>
                      <a:lnTo>
                        <a:pt x="815" y="282"/>
                      </a:lnTo>
                      <a:lnTo>
                        <a:pt x="802" y="282"/>
                      </a:lnTo>
                      <a:lnTo>
                        <a:pt x="793" y="282"/>
                      </a:lnTo>
                      <a:lnTo>
                        <a:pt x="541" y="282"/>
                      </a:lnTo>
                      <a:lnTo>
                        <a:pt x="487" y="194"/>
                      </a:lnTo>
                      <a:lnTo>
                        <a:pt x="496" y="185"/>
                      </a:lnTo>
                      <a:lnTo>
                        <a:pt x="500" y="172"/>
                      </a:lnTo>
                      <a:lnTo>
                        <a:pt x="500" y="163"/>
                      </a:lnTo>
                      <a:lnTo>
                        <a:pt x="505" y="150"/>
                      </a:lnTo>
                      <a:lnTo>
                        <a:pt x="505" y="132"/>
                      </a:lnTo>
                      <a:lnTo>
                        <a:pt x="505" y="123"/>
                      </a:lnTo>
                      <a:lnTo>
                        <a:pt x="505" y="105"/>
                      </a:lnTo>
                      <a:lnTo>
                        <a:pt x="500" y="97"/>
                      </a:lnTo>
                      <a:lnTo>
                        <a:pt x="496" y="83"/>
                      </a:lnTo>
                      <a:lnTo>
                        <a:pt x="491" y="75"/>
                      </a:lnTo>
                      <a:lnTo>
                        <a:pt x="487" y="66"/>
                      </a:lnTo>
                      <a:lnTo>
                        <a:pt x="482" y="57"/>
                      </a:lnTo>
                      <a:lnTo>
                        <a:pt x="474" y="44"/>
                      </a:lnTo>
                      <a:lnTo>
                        <a:pt x="465" y="39"/>
                      </a:lnTo>
                      <a:lnTo>
                        <a:pt x="456" y="30"/>
                      </a:lnTo>
                      <a:lnTo>
                        <a:pt x="447" y="22"/>
                      </a:lnTo>
                      <a:lnTo>
                        <a:pt x="434" y="13"/>
                      </a:lnTo>
                      <a:lnTo>
                        <a:pt x="425" y="13"/>
                      </a:lnTo>
                      <a:lnTo>
                        <a:pt x="412" y="4"/>
                      </a:lnTo>
                      <a:lnTo>
                        <a:pt x="399" y="4"/>
                      </a:lnTo>
                      <a:lnTo>
                        <a:pt x="385" y="0"/>
                      </a:lnTo>
                      <a:lnTo>
                        <a:pt x="372" y="0"/>
                      </a:lnTo>
                      <a:lnTo>
                        <a:pt x="359" y="0"/>
                      </a:lnTo>
                      <a:lnTo>
                        <a:pt x="346" y="0"/>
                      </a:lnTo>
                      <a:lnTo>
                        <a:pt x="332" y="4"/>
                      </a:lnTo>
                      <a:lnTo>
                        <a:pt x="318" y="8"/>
                      </a:lnTo>
                      <a:lnTo>
                        <a:pt x="305" y="13"/>
                      </a:lnTo>
                      <a:lnTo>
                        <a:pt x="292" y="17"/>
                      </a:lnTo>
                      <a:lnTo>
                        <a:pt x="278" y="26"/>
                      </a:lnTo>
                      <a:lnTo>
                        <a:pt x="270" y="39"/>
                      </a:lnTo>
                      <a:lnTo>
                        <a:pt x="261" y="48"/>
                      </a:lnTo>
                      <a:lnTo>
                        <a:pt x="252" y="57"/>
                      </a:lnTo>
                      <a:lnTo>
                        <a:pt x="243" y="75"/>
                      </a:lnTo>
                      <a:lnTo>
                        <a:pt x="234" y="83"/>
                      </a:lnTo>
                      <a:lnTo>
                        <a:pt x="234"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664" name="Group 85"/>
            <p:cNvGrpSpPr/>
            <p:nvPr/>
          </p:nvGrpSpPr>
          <p:grpSpPr>
            <a:xfrm>
              <a:off x="2170080" y="3776400"/>
              <a:ext cx="1532880" cy="708840"/>
              <a:chOff x="2170080" y="3776400"/>
              <a:chExt cx="1532880" cy="708840"/>
            </a:xfrm>
          </p:grpSpPr>
          <p:grpSp>
            <p:nvGrpSpPr>
              <p:cNvPr id="665" name="Group 86"/>
              <p:cNvGrpSpPr/>
              <p:nvPr/>
            </p:nvGrpSpPr>
            <p:grpSpPr>
              <a:xfrm>
                <a:off x="2170080" y="3776400"/>
                <a:ext cx="481320" cy="708840"/>
                <a:chOff x="2170080" y="3776400"/>
                <a:chExt cx="481320" cy="708840"/>
              </a:xfrm>
            </p:grpSpPr>
            <p:grpSp>
              <p:nvGrpSpPr>
                <p:cNvPr id="666" name="Group 87"/>
                <p:cNvGrpSpPr/>
                <p:nvPr/>
              </p:nvGrpSpPr>
              <p:grpSpPr>
                <a:xfrm>
                  <a:off x="2170080" y="3776400"/>
                  <a:ext cx="481320" cy="708840"/>
                  <a:chOff x="2170080" y="3776400"/>
                  <a:chExt cx="481320" cy="708840"/>
                </a:xfrm>
              </p:grpSpPr>
              <p:grpSp>
                <p:nvGrpSpPr>
                  <p:cNvPr id="667" name="Group 88"/>
                  <p:cNvGrpSpPr/>
                  <p:nvPr/>
                </p:nvGrpSpPr>
                <p:grpSpPr>
                  <a:xfrm>
                    <a:off x="2170080" y="3888720"/>
                    <a:ext cx="481320" cy="596520"/>
                    <a:chOff x="2170080" y="3888720"/>
                    <a:chExt cx="481320" cy="596520"/>
                  </a:xfrm>
                </p:grpSpPr>
                <p:sp>
                  <p:nvSpPr>
                    <p:cNvPr id="668" name="Freeform 89"/>
                    <p:cNvSpPr/>
                    <p:nvPr/>
                  </p:nvSpPr>
                  <p:spPr>
                    <a:xfrm>
                      <a:off x="2170080" y="3888720"/>
                      <a:ext cx="480240" cy="596520"/>
                    </a:xfrm>
                    <a:custGeom>
                      <a:avLst/>
                      <a:gdLst>
                        <a:gd name="textAreaLeft" fmla="*/ 0 w 480240"/>
                        <a:gd name="textAreaRight" fmla="*/ 480600 w 480240"/>
                        <a:gd name="textAreaTop" fmla="*/ 0 h 596520"/>
                        <a:gd name="textAreaBottom" fmla="*/ 596880 h 596520"/>
                      </a:gdLst>
                      <a:ahLst/>
                      <a:rect l="textAreaLeft" t="textAreaTop" r="textAreaRight" b="textAreaBottom"/>
                      <a:pathLst>
                        <a:path w="1346" h="1664">
                          <a:moveTo>
                            <a:pt x="0" y="1663"/>
                          </a:moveTo>
                          <a:lnTo>
                            <a:pt x="0" y="335"/>
                          </a:lnTo>
                          <a:lnTo>
                            <a:pt x="335" y="0"/>
                          </a:lnTo>
                          <a:lnTo>
                            <a:pt x="1345" y="0"/>
                          </a:lnTo>
                          <a:lnTo>
                            <a:pt x="1345" y="1326"/>
                          </a:lnTo>
                          <a:lnTo>
                            <a:pt x="1008" y="1663"/>
                          </a:lnTo>
                          <a:lnTo>
                            <a:pt x="0" y="1663"/>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9" name="Freeform 90"/>
                    <p:cNvSpPr/>
                    <p:nvPr/>
                  </p:nvSpPr>
                  <p:spPr>
                    <a:xfrm>
                      <a:off x="2170080" y="3888720"/>
                      <a:ext cx="480240" cy="119880"/>
                    </a:xfrm>
                    <a:custGeom>
                      <a:avLst/>
                      <a:gdLst>
                        <a:gd name="textAreaLeft" fmla="*/ 0 w 480240"/>
                        <a:gd name="textAreaRight" fmla="*/ 480600 w 480240"/>
                        <a:gd name="textAreaTop" fmla="*/ 0 h 119880"/>
                        <a:gd name="textAreaBottom" fmla="*/ 120240 h 119880"/>
                      </a:gdLst>
                      <a:ahLst/>
                      <a:rect l="textAreaLeft" t="textAreaTop" r="textAreaRight" b="textAreaBottom"/>
                      <a:pathLst>
                        <a:path w="1346" h="336">
                          <a:moveTo>
                            <a:pt x="0" y="335"/>
                          </a:moveTo>
                          <a:lnTo>
                            <a:pt x="335" y="0"/>
                          </a:lnTo>
                          <a:lnTo>
                            <a:pt x="1345" y="0"/>
                          </a:lnTo>
                          <a:lnTo>
                            <a:pt x="1008" y="335"/>
                          </a:lnTo>
                          <a:lnTo>
                            <a:pt x="0" y="335"/>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0" name="Freeform 91"/>
                    <p:cNvSpPr/>
                    <p:nvPr/>
                  </p:nvSpPr>
                  <p:spPr>
                    <a:xfrm>
                      <a:off x="2530080" y="3888720"/>
                      <a:ext cx="121320" cy="596520"/>
                    </a:xfrm>
                    <a:custGeom>
                      <a:avLst/>
                      <a:gdLst>
                        <a:gd name="textAreaLeft" fmla="*/ 0 w 121320"/>
                        <a:gd name="textAreaRight" fmla="*/ 121680 w 121320"/>
                        <a:gd name="textAreaTop" fmla="*/ 0 h 596520"/>
                        <a:gd name="textAreaBottom" fmla="*/ 596880 h 596520"/>
                      </a:gdLst>
                      <a:ahLst/>
                      <a:rect l="textAreaLeft" t="textAreaTop" r="textAreaRight" b="textAreaBottom"/>
                      <a:pathLst>
                        <a:path w="338" h="1664">
                          <a:moveTo>
                            <a:pt x="0" y="1663"/>
                          </a:moveTo>
                          <a:lnTo>
                            <a:pt x="0" y="335"/>
                          </a:lnTo>
                          <a:lnTo>
                            <a:pt x="337" y="0"/>
                          </a:lnTo>
                          <a:lnTo>
                            <a:pt x="337" y="1326"/>
                          </a:lnTo>
                          <a:lnTo>
                            <a:pt x="0" y="1663"/>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71" name="Group 92"/>
                  <p:cNvGrpSpPr/>
                  <p:nvPr/>
                </p:nvGrpSpPr>
                <p:grpSpPr>
                  <a:xfrm>
                    <a:off x="2280600" y="3776400"/>
                    <a:ext cx="370800" cy="122040"/>
                    <a:chOff x="2280600" y="3776400"/>
                    <a:chExt cx="370800" cy="122040"/>
                  </a:xfrm>
                </p:grpSpPr>
                <p:sp>
                  <p:nvSpPr>
                    <p:cNvPr id="672" name="Freeform 93"/>
                    <p:cNvSpPr/>
                    <p:nvPr/>
                  </p:nvSpPr>
                  <p:spPr>
                    <a:xfrm>
                      <a:off x="2280600" y="3776400"/>
                      <a:ext cx="370800" cy="122040"/>
                    </a:xfrm>
                    <a:custGeom>
                      <a:avLst/>
                      <a:gdLst>
                        <a:gd name="textAreaLeft" fmla="*/ 0 w 370800"/>
                        <a:gd name="textAreaRight" fmla="*/ 371160 w 370800"/>
                        <a:gd name="textAreaTop" fmla="*/ 0 h 122040"/>
                        <a:gd name="textAreaBottom" fmla="*/ 122400 h 122040"/>
                      </a:gdLst>
                      <a:ahLst/>
                      <a:rect l="textAreaLeft" t="textAreaTop" r="textAreaRight" b="textAreaBottom"/>
                      <a:pathLst>
                        <a:path w="1038" h="345">
                          <a:moveTo>
                            <a:pt x="0" y="344"/>
                          </a:moveTo>
                          <a:lnTo>
                            <a:pt x="0" y="85"/>
                          </a:lnTo>
                          <a:lnTo>
                            <a:pt x="85" y="0"/>
                          </a:lnTo>
                          <a:lnTo>
                            <a:pt x="1037" y="0"/>
                          </a:lnTo>
                          <a:lnTo>
                            <a:pt x="1037" y="257"/>
                          </a:lnTo>
                          <a:lnTo>
                            <a:pt x="950"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Freeform 94"/>
                    <p:cNvSpPr/>
                    <p:nvPr/>
                  </p:nvSpPr>
                  <p:spPr>
                    <a:xfrm>
                      <a:off x="2280600" y="3776400"/>
                      <a:ext cx="370800" cy="30960"/>
                    </a:xfrm>
                    <a:custGeom>
                      <a:avLst/>
                      <a:gdLst>
                        <a:gd name="textAreaLeft" fmla="*/ 0 w 370800"/>
                        <a:gd name="textAreaRight" fmla="*/ 371160 w 370800"/>
                        <a:gd name="textAreaTop" fmla="*/ 0 h 30960"/>
                        <a:gd name="textAreaBottom" fmla="*/ 31320 h 30960"/>
                      </a:gdLst>
                      <a:ahLst/>
                      <a:rect l="textAreaLeft" t="textAreaTop" r="textAreaRight" b="textAreaBottom"/>
                      <a:pathLst>
                        <a:path w="1038" h="86">
                          <a:moveTo>
                            <a:pt x="0" y="85"/>
                          </a:moveTo>
                          <a:lnTo>
                            <a:pt x="85" y="0"/>
                          </a:lnTo>
                          <a:lnTo>
                            <a:pt x="1037" y="0"/>
                          </a:lnTo>
                          <a:lnTo>
                            <a:pt x="950"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674" name="Freeform 95"/>
                    <p:cNvSpPr/>
                    <p:nvPr/>
                  </p:nvSpPr>
                  <p:spPr>
                    <a:xfrm>
                      <a:off x="2619360" y="3776400"/>
                      <a:ext cx="31680" cy="122040"/>
                    </a:xfrm>
                    <a:custGeom>
                      <a:avLst/>
                      <a:gdLst>
                        <a:gd name="textAreaLeft" fmla="*/ 0 w 31680"/>
                        <a:gd name="textAreaRight" fmla="*/ 32040 w 31680"/>
                        <a:gd name="textAreaTop" fmla="*/ 0 h 122040"/>
                        <a:gd name="textAreaBottom" fmla="*/ 122400 h 122040"/>
                      </a:gdLst>
                      <a:ahLst/>
                      <a:rect l="textAreaLeft" t="textAreaTop" r="textAreaRight" b="textAreaBottom"/>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75" name="Freeform 96"/>
                <p:cNvSpPr/>
                <p:nvPr/>
              </p:nvSpPr>
              <p:spPr>
                <a:xfrm>
                  <a:off x="2268000" y="3941280"/>
                  <a:ext cx="250200" cy="42480"/>
                </a:xfrm>
                <a:custGeom>
                  <a:avLst/>
                  <a:gdLst>
                    <a:gd name="textAreaLeft" fmla="*/ 0 w 250200"/>
                    <a:gd name="textAreaRight" fmla="*/ 250560 w 250200"/>
                    <a:gd name="textAreaTop" fmla="*/ 0 h 42480"/>
                    <a:gd name="textAreaBottom" fmla="*/ 42840 h 42480"/>
                  </a:gdLst>
                  <a:ahLst/>
                  <a:rect l="textAreaLeft" t="textAreaTop" r="textAreaRight" b="textAreaBottom"/>
                  <a:pathLst>
                    <a:path w="698" h="120">
                      <a:moveTo>
                        <a:pt x="173" y="0"/>
                      </a:moveTo>
                      <a:lnTo>
                        <a:pt x="697" y="0"/>
                      </a:lnTo>
                      <a:lnTo>
                        <a:pt x="522" y="119"/>
                      </a:lnTo>
                      <a:lnTo>
                        <a:pt x="0" y="119"/>
                      </a:lnTo>
                      <a:lnTo>
                        <a:pt x="173" y="0"/>
                      </a:lnTo>
                    </a:path>
                  </a:pathLst>
                </a:custGeom>
                <a:solidFill>
                  <a:srgbClr val="f6bf69"/>
                </a:solidFill>
                <a:ln w="25560">
                  <a:solidFill>
                    <a:srgbClr val="000000"/>
                  </a:solidFill>
                  <a:round/>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grpSp>
            <p:nvGrpSpPr>
              <p:cNvPr id="676" name="Group 97"/>
              <p:cNvGrpSpPr/>
              <p:nvPr/>
            </p:nvGrpSpPr>
            <p:grpSpPr>
              <a:xfrm>
                <a:off x="2647080" y="3776400"/>
                <a:ext cx="597240" cy="708840"/>
                <a:chOff x="2647080" y="3776400"/>
                <a:chExt cx="597240" cy="708840"/>
              </a:xfrm>
            </p:grpSpPr>
            <p:grpSp>
              <p:nvGrpSpPr>
                <p:cNvPr id="677" name="Group 98"/>
                <p:cNvGrpSpPr/>
                <p:nvPr/>
              </p:nvGrpSpPr>
              <p:grpSpPr>
                <a:xfrm>
                  <a:off x="2647080" y="3776400"/>
                  <a:ext cx="597240" cy="708840"/>
                  <a:chOff x="2647080" y="3776400"/>
                  <a:chExt cx="597240" cy="708840"/>
                </a:xfrm>
              </p:grpSpPr>
              <p:grpSp>
                <p:nvGrpSpPr>
                  <p:cNvPr id="678" name="Group 99"/>
                  <p:cNvGrpSpPr/>
                  <p:nvPr/>
                </p:nvGrpSpPr>
                <p:grpSpPr>
                  <a:xfrm>
                    <a:off x="2647080" y="3888720"/>
                    <a:ext cx="597240" cy="596520"/>
                    <a:chOff x="2647080" y="3888720"/>
                    <a:chExt cx="597240" cy="596520"/>
                  </a:xfrm>
                </p:grpSpPr>
                <p:sp>
                  <p:nvSpPr>
                    <p:cNvPr id="679" name="Freeform 100"/>
                    <p:cNvSpPr/>
                    <p:nvPr/>
                  </p:nvSpPr>
                  <p:spPr>
                    <a:xfrm>
                      <a:off x="2647080" y="3888720"/>
                      <a:ext cx="596160" cy="596520"/>
                    </a:xfrm>
                    <a:custGeom>
                      <a:avLst/>
                      <a:gdLst>
                        <a:gd name="textAreaLeft" fmla="*/ 0 w 596160"/>
                        <a:gd name="textAreaRight" fmla="*/ 596520 w 596160"/>
                        <a:gd name="textAreaTop" fmla="*/ 0 h 596520"/>
                        <a:gd name="textAreaBottom" fmla="*/ 596880 h 596520"/>
                      </a:gdLst>
                      <a:ahLst/>
                      <a:rect l="textAreaLeft" t="textAreaTop" r="textAreaRight" b="textAreaBottom"/>
                      <a:pathLst>
                        <a:path w="1668" h="1664">
                          <a:moveTo>
                            <a:pt x="0" y="1663"/>
                          </a:moveTo>
                          <a:lnTo>
                            <a:pt x="0" y="414"/>
                          </a:lnTo>
                          <a:lnTo>
                            <a:pt x="414" y="0"/>
                          </a:lnTo>
                          <a:lnTo>
                            <a:pt x="1667" y="0"/>
                          </a:lnTo>
                          <a:lnTo>
                            <a:pt x="1667" y="1247"/>
                          </a:lnTo>
                          <a:lnTo>
                            <a:pt x="1251" y="1663"/>
                          </a:lnTo>
                          <a:lnTo>
                            <a:pt x="0" y="1663"/>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Freeform 101"/>
                    <p:cNvSpPr/>
                    <p:nvPr/>
                  </p:nvSpPr>
                  <p:spPr>
                    <a:xfrm>
                      <a:off x="2647080" y="3888720"/>
                      <a:ext cx="596160" cy="148680"/>
                    </a:xfrm>
                    <a:custGeom>
                      <a:avLst/>
                      <a:gdLst>
                        <a:gd name="textAreaLeft" fmla="*/ 0 w 596160"/>
                        <a:gd name="textAreaRight" fmla="*/ 596520 w 596160"/>
                        <a:gd name="textAreaTop" fmla="*/ 0 h 148680"/>
                        <a:gd name="textAreaBottom" fmla="*/ 149040 h 148680"/>
                      </a:gdLst>
                      <a:ahLst/>
                      <a:rect l="textAreaLeft" t="textAreaTop" r="textAreaRight" b="textAreaBottom"/>
                      <a:pathLst>
                        <a:path w="1668" h="415">
                          <a:moveTo>
                            <a:pt x="0" y="414"/>
                          </a:moveTo>
                          <a:lnTo>
                            <a:pt x="414" y="0"/>
                          </a:lnTo>
                          <a:lnTo>
                            <a:pt x="1667" y="0"/>
                          </a:lnTo>
                          <a:lnTo>
                            <a:pt x="1251" y="414"/>
                          </a:lnTo>
                          <a:lnTo>
                            <a:pt x="0" y="414"/>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1" name="Freeform 102"/>
                    <p:cNvSpPr/>
                    <p:nvPr/>
                  </p:nvSpPr>
                  <p:spPr>
                    <a:xfrm>
                      <a:off x="3094560" y="3888720"/>
                      <a:ext cx="149760" cy="596520"/>
                    </a:xfrm>
                    <a:custGeom>
                      <a:avLst/>
                      <a:gdLst>
                        <a:gd name="textAreaLeft" fmla="*/ 0 w 149760"/>
                        <a:gd name="textAreaRight" fmla="*/ 150120 w 149760"/>
                        <a:gd name="textAreaTop" fmla="*/ 0 h 596520"/>
                        <a:gd name="textAreaBottom" fmla="*/ 596880 h 596520"/>
                      </a:gdLst>
                      <a:ahLst/>
                      <a:rect l="textAreaLeft" t="textAreaTop" r="textAreaRight" b="textAreaBottom"/>
                      <a:pathLst>
                        <a:path w="417" h="1664">
                          <a:moveTo>
                            <a:pt x="0" y="1663"/>
                          </a:moveTo>
                          <a:lnTo>
                            <a:pt x="0" y="414"/>
                          </a:lnTo>
                          <a:lnTo>
                            <a:pt x="416" y="0"/>
                          </a:lnTo>
                          <a:lnTo>
                            <a:pt x="416" y="1247"/>
                          </a:lnTo>
                          <a:lnTo>
                            <a:pt x="0" y="1663"/>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82" name="Group 103"/>
                  <p:cNvGrpSpPr/>
                  <p:nvPr/>
                </p:nvGrpSpPr>
                <p:grpSpPr>
                  <a:xfrm>
                    <a:off x="2783160" y="3776400"/>
                    <a:ext cx="461160" cy="122040"/>
                    <a:chOff x="2783160" y="3776400"/>
                    <a:chExt cx="461160" cy="122040"/>
                  </a:xfrm>
                </p:grpSpPr>
                <p:sp>
                  <p:nvSpPr>
                    <p:cNvPr id="683" name="Freeform 104"/>
                    <p:cNvSpPr/>
                    <p:nvPr/>
                  </p:nvSpPr>
                  <p:spPr>
                    <a:xfrm>
                      <a:off x="2783160" y="3776400"/>
                      <a:ext cx="461160" cy="122040"/>
                    </a:xfrm>
                    <a:custGeom>
                      <a:avLst/>
                      <a:gdLst>
                        <a:gd name="textAreaLeft" fmla="*/ 0 w 461160"/>
                        <a:gd name="textAreaRight" fmla="*/ 461520 w 461160"/>
                        <a:gd name="textAreaTop" fmla="*/ 0 h 122040"/>
                        <a:gd name="textAreaBottom" fmla="*/ 122400 h 122040"/>
                      </a:gdLst>
                      <a:ahLst/>
                      <a:rect l="textAreaLeft" t="textAreaTop" r="textAreaRight" b="textAreaBottom"/>
                      <a:pathLst>
                        <a:path w="1289" h="345">
                          <a:moveTo>
                            <a:pt x="0" y="344"/>
                          </a:moveTo>
                          <a:lnTo>
                            <a:pt x="0" y="85"/>
                          </a:lnTo>
                          <a:lnTo>
                            <a:pt x="85" y="0"/>
                          </a:lnTo>
                          <a:lnTo>
                            <a:pt x="1288" y="0"/>
                          </a:lnTo>
                          <a:lnTo>
                            <a:pt x="1288" y="257"/>
                          </a:lnTo>
                          <a:lnTo>
                            <a:pt x="1201"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Freeform 105"/>
                    <p:cNvSpPr/>
                    <p:nvPr/>
                  </p:nvSpPr>
                  <p:spPr>
                    <a:xfrm>
                      <a:off x="2783160" y="3776400"/>
                      <a:ext cx="461160" cy="30960"/>
                    </a:xfrm>
                    <a:custGeom>
                      <a:avLst/>
                      <a:gdLst>
                        <a:gd name="textAreaLeft" fmla="*/ 0 w 461160"/>
                        <a:gd name="textAreaRight" fmla="*/ 461520 w 461160"/>
                        <a:gd name="textAreaTop" fmla="*/ 0 h 30960"/>
                        <a:gd name="textAreaBottom" fmla="*/ 31320 h 30960"/>
                      </a:gdLst>
                      <a:ahLst/>
                      <a:rect l="textAreaLeft" t="textAreaTop" r="textAreaRight" b="textAreaBottom"/>
                      <a:pathLst>
                        <a:path w="1289" h="86">
                          <a:moveTo>
                            <a:pt x="0" y="85"/>
                          </a:moveTo>
                          <a:lnTo>
                            <a:pt x="85" y="0"/>
                          </a:lnTo>
                          <a:lnTo>
                            <a:pt x="1288" y="0"/>
                          </a:lnTo>
                          <a:lnTo>
                            <a:pt x="1201"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685" name="Freeform 106"/>
                    <p:cNvSpPr/>
                    <p:nvPr/>
                  </p:nvSpPr>
                  <p:spPr>
                    <a:xfrm>
                      <a:off x="3212640" y="3776400"/>
                      <a:ext cx="31320" cy="122040"/>
                    </a:xfrm>
                    <a:custGeom>
                      <a:avLst/>
                      <a:gdLst>
                        <a:gd name="textAreaLeft" fmla="*/ 0 w 31320"/>
                        <a:gd name="textAreaRight" fmla="*/ 31680 w 31320"/>
                        <a:gd name="textAreaTop" fmla="*/ 0 h 122040"/>
                        <a:gd name="textAreaBottom" fmla="*/ 122400 h 122040"/>
                      </a:gdLst>
                      <a:ahLst/>
                      <a:rect l="textAreaLeft" t="textAreaTop" r="textAreaRight" b="textAreaBottom"/>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86" name="Oval 107"/>
                <p:cNvSpPr/>
                <p:nvPr/>
              </p:nvSpPr>
              <p:spPr>
                <a:xfrm>
                  <a:off x="2829240" y="3833280"/>
                  <a:ext cx="77400" cy="42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08"/>
                <p:cNvSpPr/>
                <p:nvPr/>
              </p:nvSpPr>
              <p:spPr>
                <a:xfrm>
                  <a:off x="2721240" y="4166640"/>
                  <a:ext cx="313560" cy="132840"/>
                </a:xfrm>
                <a:custGeom>
                  <a:avLst/>
                  <a:gdLst>
                    <a:gd name="textAreaLeft" fmla="*/ 0 w 313560"/>
                    <a:gd name="textAreaRight" fmla="*/ 313920 w 313560"/>
                    <a:gd name="textAreaTop" fmla="*/ 0 h 132840"/>
                    <a:gd name="textAreaBottom" fmla="*/ 133200 h 132840"/>
                  </a:gdLst>
                  <a:ahLst/>
                  <a:rect l="textAreaLeft" t="textAreaTop" r="textAreaRight" b="textAreaBottom"/>
                  <a:pathLst>
                    <a:path w="874" h="371">
                      <a:moveTo>
                        <a:pt x="107" y="0"/>
                      </a:moveTo>
                      <a:lnTo>
                        <a:pt x="764" y="0"/>
                      </a:lnTo>
                      <a:lnTo>
                        <a:pt x="873" y="108"/>
                      </a:lnTo>
                      <a:lnTo>
                        <a:pt x="873" y="262"/>
                      </a:lnTo>
                      <a:lnTo>
                        <a:pt x="764" y="370"/>
                      </a:lnTo>
                      <a:lnTo>
                        <a:pt x="107" y="370"/>
                      </a:lnTo>
                      <a:lnTo>
                        <a:pt x="0" y="262"/>
                      </a:lnTo>
                      <a:lnTo>
                        <a:pt x="0" y="108"/>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88" name="Freeform 109"/>
              <p:cNvSpPr/>
              <p:nvPr/>
            </p:nvSpPr>
            <p:spPr>
              <a:xfrm>
                <a:off x="3541320" y="4139640"/>
                <a:ext cx="134640" cy="302760"/>
              </a:xfrm>
              <a:custGeom>
                <a:avLst/>
                <a:gdLst>
                  <a:gd name="textAreaLeft" fmla="*/ 0 w 134640"/>
                  <a:gd name="textAreaRight" fmla="*/ 135000 w 134640"/>
                  <a:gd name="textAreaTop" fmla="*/ 0 h 302760"/>
                  <a:gd name="textAreaBottom" fmla="*/ 303120 h 302760"/>
                </a:gdLst>
                <a:ahLst/>
                <a:rect l="textAreaLeft" t="textAreaTop" r="textAreaRight" b="textAreaBottom"/>
                <a:pathLst>
                  <a:path w="376" h="843">
                    <a:moveTo>
                      <a:pt x="273" y="0"/>
                    </a:moveTo>
                    <a:lnTo>
                      <a:pt x="375" y="0"/>
                    </a:lnTo>
                    <a:lnTo>
                      <a:pt x="101" y="842"/>
                    </a:lnTo>
                    <a:lnTo>
                      <a:pt x="0" y="842"/>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AutoShape 110"/>
              <p:cNvSpPr/>
              <p:nvPr/>
            </p:nvSpPr>
            <p:spPr>
              <a:xfrm>
                <a:off x="3534840" y="4139640"/>
                <a:ext cx="168120" cy="24840"/>
              </a:xfrm>
              <a:prstGeom prst="roundRect">
                <a:avLst>
                  <a:gd name="adj" fmla="val 6250"/>
                </a:avLst>
              </a:prstGeom>
              <a:solidFill>
                <a:srgbClr val="fc0128"/>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AutoShape 111"/>
              <p:cNvSpPr/>
              <p:nvPr/>
            </p:nvSpPr>
            <p:spPr>
              <a:xfrm>
                <a:off x="3546000" y="4268160"/>
                <a:ext cx="12996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AutoShape 112"/>
              <p:cNvSpPr/>
              <p:nvPr/>
            </p:nvSpPr>
            <p:spPr>
              <a:xfrm>
                <a:off x="3255840" y="4268160"/>
                <a:ext cx="163080" cy="16920"/>
              </a:xfrm>
              <a:prstGeom prst="roundRect">
                <a:avLst>
                  <a:gd name="adj" fmla="val 10000"/>
                </a:avLst>
              </a:prstGeom>
              <a:solidFill>
                <a:srgbClr val="fc0128"/>
              </a:solidFill>
              <a:ln w="0">
                <a:noFill/>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2" name="Group 113"/>
              <p:cNvGrpSpPr/>
              <p:nvPr/>
            </p:nvGrpSpPr>
            <p:grpSpPr>
              <a:xfrm>
                <a:off x="3252600" y="3866400"/>
                <a:ext cx="306360" cy="575640"/>
                <a:chOff x="3252600" y="3866400"/>
                <a:chExt cx="306360" cy="575640"/>
              </a:xfrm>
            </p:grpSpPr>
            <p:sp>
              <p:nvSpPr>
                <p:cNvPr id="693" name="Oval 114"/>
                <p:cNvSpPr/>
                <p:nvPr/>
              </p:nvSpPr>
              <p:spPr>
                <a:xfrm>
                  <a:off x="3374280" y="3866400"/>
                  <a:ext cx="75600" cy="774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115"/>
                <p:cNvSpPr/>
                <p:nvPr/>
              </p:nvSpPr>
              <p:spPr>
                <a:xfrm>
                  <a:off x="3252600" y="3974040"/>
                  <a:ext cx="306360" cy="468000"/>
                </a:xfrm>
                <a:custGeom>
                  <a:avLst/>
                  <a:gdLst>
                    <a:gd name="textAreaLeft" fmla="*/ 0 w 306360"/>
                    <a:gd name="textAreaRight" fmla="*/ 306720 w 306360"/>
                    <a:gd name="textAreaTop" fmla="*/ 0 h 468000"/>
                    <a:gd name="textAreaBottom" fmla="*/ 468360 h 468000"/>
                  </a:gdLst>
                  <a:ahLst/>
                  <a:rect l="textAreaLeft" t="textAreaTop" r="textAreaRight" b="textAreaBottom"/>
                  <a:pathLst>
                    <a:path w="857" h="1305">
                      <a:moveTo>
                        <a:pt x="235" y="101"/>
                      </a:moveTo>
                      <a:lnTo>
                        <a:pt x="8" y="605"/>
                      </a:lnTo>
                      <a:lnTo>
                        <a:pt x="4" y="609"/>
                      </a:lnTo>
                      <a:lnTo>
                        <a:pt x="4" y="618"/>
                      </a:lnTo>
                      <a:lnTo>
                        <a:pt x="0" y="627"/>
                      </a:lnTo>
                      <a:lnTo>
                        <a:pt x="0" y="640"/>
                      </a:lnTo>
                      <a:lnTo>
                        <a:pt x="0" y="649"/>
                      </a:lnTo>
                      <a:lnTo>
                        <a:pt x="0" y="662"/>
                      </a:lnTo>
                      <a:lnTo>
                        <a:pt x="4" y="671"/>
                      </a:lnTo>
                      <a:lnTo>
                        <a:pt x="8" y="684"/>
                      </a:lnTo>
                      <a:lnTo>
                        <a:pt x="13" y="693"/>
                      </a:lnTo>
                      <a:lnTo>
                        <a:pt x="17" y="703"/>
                      </a:lnTo>
                      <a:lnTo>
                        <a:pt x="26" y="712"/>
                      </a:lnTo>
                      <a:lnTo>
                        <a:pt x="35" y="721"/>
                      </a:lnTo>
                      <a:lnTo>
                        <a:pt x="44" y="725"/>
                      </a:lnTo>
                      <a:lnTo>
                        <a:pt x="53" y="730"/>
                      </a:lnTo>
                      <a:lnTo>
                        <a:pt x="61" y="730"/>
                      </a:lnTo>
                      <a:lnTo>
                        <a:pt x="70" y="734"/>
                      </a:lnTo>
                      <a:lnTo>
                        <a:pt x="79" y="734"/>
                      </a:lnTo>
                      <a:lnTo>
                        <a:pt x="92" y="734"/>
                      </a:lnTo>
                      <a:lnTo>
                        <a:pt x="559" y="734"/>
                      </a:lnTo>
                      <a:lnTo>
                        <a:pt x="559" y="1304"/>
                      </a:lnTo>
                      <a:lnTo>
                        <a:pt x="705" y="1304"/>
                      </a:lnTo>
                      <a:lnTo>
                        <a:pt x="705" y="627"/>
                      </a:lnTo>
                      <a:lnTo>
                        <a:pt x="705" y="618"/>
                      </a:lnTo>
                      <a:lnTo>
                        <a:pt x="705" y="609"/>
                      </a:lnTo>
                      <a:lnTo>
                        <a:pt x="700" y="605"/>
                      </a:lnTo>
                      <a:lnTo>
                        <a:pt x="696" y="601"/>
                      </a:lnTo>
                      <a:lnTo>
                        <a:pt x="692" y="596"/>
                      </a:lnTo>
                      <a:lnTo>
                        <a:pt x="683" y="587"/>
                      </a:lnTo>
                      <a:lnTo>
                        <a:pt x="678" y="583"/>
                      </a:lnTo>
                      <a:lnTo>
                        <a:pt x="674" y="578"/>
                      </a:lnTo>
                      <a:lnTo>
                        <a:pt x="665" y="578"/>
                      </a:lnTo>
                      <a:lnTo>
                        <a:pt x="656" y="574"/>
                      </a:lnTo>
                      <a:lnTo>
                        <a:pt x="647" y="574"/>
                      </a:lnTo>
                      <a:lnTo>
                        <a:pt x="639" y="570"/>
                      </a:lnTo>
                      <a:lnTo>
                        <a:pt x="630" y="570"/>
                      </a:lnTo>
                      <a:lnTo>
                        <a:pt x="621" y="570"/>
                      </a:lnTo>
                      <a:lnTo>
                        <a:pt x="617" y="570"/>
                      </a:lnTo>
                      <a:lnTo>
                        <a:pt x="608" y="570"/>
                      </a:lnTo>
                      <a:lnTo>
                        <a:pt x="337" y="552"/>
                      </a:lnTo>
                      <a:lnTo>
                        <a:pt x="412" y="331"/>
                      </a:lnTo>
                      <a:lnTo>
                        <a:pt x="465" y="411"/>
                      </a:lnTo>
                      <a:lnTo>
                        <a:pt x="794" y="411"/>
                      </a:lnTo>
                      <a:lnTo>
                        <a:pt x="803" y="406"/>
                      </a:lnTo>
                      <a:lnTo>
                        <a:pt x="812" y="406"/>
                      </a:lnTo>
                      <a:lnTo>
                        <a:pt x="816" y="402"/>
                      </a:lnTo>
                      <a:lnTo>
                        <a:pt x="821" y="402"/>
                      </a:lnTo>
                      <a:lnTo>
                        <a:pt x="830" y="398"/>
                      </a:lnTo>
                      <a:lnTo>
                        <a:pt x="838" y="393"/>
                      </a:lnTo>
                      <a:lnTo>
                        <a:pt x="843" y="384"/>
                      </a:lnTo>
                      <a:lnTo>
                        <a:pt x="847" y="380"/>
                      </a:lnTo>
                      <a:lnTo>
                        <a:pt x="852" y="371"/>
                      </a:lnTo>
                      <a:lnTo>
                        <a:pt x="852" y="367"/>
                      </a:lnTo>
                      <a:lnTo>
                        <a:pt x="856" y="358"/>
                      </a:lnTo>
                      <a:lnTo>
                        <a:pt x="856" y="345"/>
                      </a:lnTo>
                      <a:lnTo>
                        <a:pt x="856" y="336"/>
                      </a:lnTo>
                      <a:lnTo>
                        <a:pt x="852" y="327"/>
                      </a:lnTo>
                      <a:lnTo>
                        <a:pt x="847" y="318"/>
                      </a:lnTo>
                      <a:lnTo>
                        <a:pt x="843" y="309"/>
                      </a:lnTo>
                      <a:lnTo>
                        <a:pt x="838" y="305"/>
                      </a:lnTo>
                      <a:lnTo>
                        <a:pt x="834" y="300"/>
                      </a:lnTo>
                      <a:lnTo>
                        <a:pt x="825" y="291"/>
                      </a:lnTo>
                      <a:lnTo>
                        <a:pt x="816" y="286"/>
                      </a:lnTo>
                      <a:lnTo>
                        <a:pt x="816" y="282"/>
                      </a:lnTo>
                      <a:lnTo>
                        <a:pt x="803" y="282"/>
                      </a:lnTo>
                      <a:lnTo>
                        <a:pt x="794" y="282"/>
                      </a:lnTo>
                      <a:lnTo>
                        <a:pt x="541" y="282"/>
                      </a:lnTo>
                      <a:lnTo>
                        <a:pt x="487" y="194"/>
                      </a:lnTo>
                      <a:lnTo>
                        <a:pt x="496" y="185"/>
                      </a:lnTo>
                      <a:lnTo>
                        <a:pt x="501" y="172"/>
                      </a:lnTo>
                      <a:lnTo>
                        <a:pt x="501" y="163"/>
                      </a:lnTo>
                      <a:lnTo>
                        <a:pt x="505" y="150"/>
                      </a:lnTo>
                      <a:lnTo>
                        <a:pt x="505" y="132"/>
                      </a:lnTo>
                      <a:lnTo>
                        <a:pt x="505" y="123"/>
                      </a:lnTo>
                      <a:lnTo>
                        <a:pt x="505" y="105"/>
                      </a:lnTo>
                      <a:lnTo>
                        <a:pt x="501" y="97"/>
                      </a:lnTo>
                      <a:lnTo>
                        <a:pt x="496" y="83"/>
                      </a:lnTo>
                      <a:lnTo>
                        <a:pt x="492" y="75"/>
                      </a:lnTo>
                      <a:lnTo>
                        <a:pt x="487" y="66"/>
                      </a:lnTo>
                      <a:lnTo>
                        <a:pt x="483" y="57"/>
                      </a:lnTo>
                      <a:lnTo>
                        <a:pt x="474" y="44"/>
                      </a:lnTo>
                      <a:lnTo>
                        <a:pt x="465" y="39"/>
                      </a:lnTo>
                      <a:lnTo>
                        <a:pt x="457" y="30"/>
                      </a:lnTo>
                      <a:lnTo>
                        <a:pt x="448" y="22"/>
                      </a:lnTo>
                      <a:lnTo>
                        <a:pt x="434" y="13"/>
                      </a:lnTo>
                      <a:lnTo>
                        <a:pt x="426" y="13"/>
                      </a:lnTo>
                      <a:lnTo>
                        <a:pt x="412" y="4"/>
                      </a:lnTo>
                      <a:lnTo>
                        <a:pt x="399" y="4"/>
                      </a:lnTo>
                      <a:lnTo>
                        <a:pt x="386" y="0"/>
                      </a:lnTo>
                      <a:lnTo>
                        <a:pt x="373" y="0"/>
                      </a:lnTo>
                      <a:lnTo>
                        <a:pt x="359" y="0"/>
                      </a:lnTo>
                      <a:lnTo>
                        <a:pt x="346" y="0"/>
                      </a:lnTo>
                      <a:lnTo>
                        <a:pt x="333" y="4"/>
                      </a:lnTo>
                      <a:lnTo>
                        <a:pt x="319" y="8"/>
                      </a:lnTo>
                      <a:lnTo>
                        <a:pt x="305" y="13"/>
                      </a:lnTo>
                      <a:lnTo>
                        <a:pt x="292" y="17"/>
                      </a:lnTo>
                      <a:lnTo>
                        <a:pt x="279" y="26"/>
                      </a:lnTo>
                      <a:lnTo>
                        <a:pt x="270" y="39"/>
                      </a:lnTo>
                      <a:lnTo>
                        <a:pt x="261" y="48"/>
                      </a:lnTo>
                      <a:lnTo>
                        <a:pt x="252" y="57"/>
                      </a:lnTo>
                      <a:lnTo>
                        <a:pt x="243" y="75"/>
                      </a:lnTo>
                      <a:lnTo>
                        <a:pt x="235" y="83"/>
                      </a:lnTo>
                      <a:lnTo>
                        <a:pt x="235"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695" name="Group 116"/>
            <p:cNvGrpSpPr/>
            <p:nvPr/>
          </p:nvGrpSpPr>
          <p:grpSpPr>
            <a:xfrm>
              <a:off x="2830320" y="4551120"/>
              <a:ext cx="1533240" cy="708840"/>
              <a:chOff x="2830320" y="4551120"/>
              <a:chExt cx="1533240" cy="708840"/>
            </a:xfrm>
          </p:grpSpPr>
          <p:grpSp>
            <p:nvGrpSpPr>
              <p:cNvPr id="696" name="Group 117"/>
              <p:cNvGrpSpPr/>
              <p:nvPr/>
            </p:nvGrpSpPr>
            <p:grpSpPr>
              <a:xfrm>
                <a:off x="2830320" y="4551120"/>
                <a:ext cx="481680" cy="708840"/>
                <a:chOff x="2830320" y="4551120"/>
                <a:chExt cx="481680" cy="708840"/>
              </a:xfrm>
            </p:grpSpPr>
            <p:grpSp>
              <p:nvGrpSpPr>
                <p:cNvPr id="697" name="Group 118"/>
                <p:cNvGrpSpPr/>
                <p:nvPr/>
              </p:nvGrpSpPr>
              <p:grpSpPr>
                <a:xfrm>
                  <a:off x="2830320" y="4551120"/>
                  <a:ext cx="481680" cy="708840"/>
                  <a:chOff x="2830320" y="4551120"/>
                  <a:chExt cx="481680" cy="708840"/>
                </a:xfrm>
              </p:grpSpPr>
              <p:grpSp>
                <p:nvGrpSpPr>
                  <p:cNvPr id="698" name="Group 119"/>
                  <p:cNvGrpSpPr/>
                  <p:nvPr/>
                </p:nvGrpSpPr>
                <p:grpSpPr>
                  <a:xfrm>
                    <a:off x="2830320" y="4663440"/>
                    <a:ext cx="481680" cy="596520"/>
                    <a:chOff x="2830320" y="4663440"/>
                    <a:chExt cx="481680" cy="596520"/>
                  </a:xfrm>
                </p:grpSpPr>
                <p:sp>
                  <p:nvSpPr>
                    <p:cNvPr id="699" name="Freeform 120"/>
                    <p:cNvSpPr/>
                    <p:nvPr/>
                  </p:nvSpPr>
                  <p:spPr>
                    <a:xfrm>
                      <a:off x="2830320" y="4663440"/>
                      <a:ext cx="480600" cy="596520"/>
                    </a:xfrm>
                    <a:custGeom>
                      <a:avLst/>
                      <a:gdLst>
                        <a:gd name="textAreaLeft" fmla="*/ 0 w 480600"/>
                        <a:gd name="textAreaRight" fmla="*/ 480960 w 480600"/>
                        <a:gd name="textAreaTop" fmla="*/ 0 h 596520"/>
                        <a:gd name="textAreaBottom" fmla="*/ 596880 h 596520"/>
                      </a:gdLst>
                      <a:ahLst/>
                      <a:rect l="textAreaLeft" t="textAreaTop" r="textAreaRight" b="textAreaBottom"/>
                      <a:pathLst>
                        <a:path w="1346" h="1663">
                          <a:moveTo>
                            <a:pt x="0" y="1662"/>
                          </a:moveTo>
                          <a:lnTo>
                            <a:pt x="0" y="336"/>
                          </a:lnTo>
                          <a:lnTo>
                            <a:pt x="335" y="0"/>
                          </a:lnTo>
                          <a:lnTo>
                            <a:pt x="1345" y="0"/>
                          </a:lnTo>
                          <a:lnTo>
                            <a:pt x="1345" y="1326"/>
                          </a:lnTo>
                          <a:lnTo>
                            <a:pt x="1008" y="1662"/>
                          </a:lnTo>
                          <a:lnTo>
                            <a:pt x="0" y="1662"/>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0" name="Freeform 121"/>
                    <p:cNvSpPr/>
                    <p:nvPr/>
                  </p:nvSpPr>
                  <p:spPr>
                    <a:xfrm>
                      <a:off x="2830320" y="4663440"/>
                      <a:ext cx="480600" cy="119880"/>
                    </a:xfrm>
                    <a:custGeom>
                      <a:avLst/>
                      <a:gdLst>
                        <a:gd name="textAreaLeft" fmla="*/ 0 w 480600"/>
                        <a:gd name="textAreaRight" fmla="*/ 480960 w 480600"/>
                        <a:gd name="textAreaTop" fmla="*/ 0 h 119880"/>
                        <a:gd name="textAreaBottom" fmla="*/ 120240 h 119880"/>
                      </a:gdLst>
                      <a:ahLst/>
                      <a:rect l="textAreaLeft" t="textAreaTop" r="textAreaRight" b="textAreaBottom"/>
                      <a:pathLst>
                        <a:path w="1346" h="337">
                          <a:moveTo>
                            <a:pt x="0" y="336"/>
                          </a:moveTo>
                          <a:lnTo>
                            <a:pt x="335" y="0"/>
                          </a:lnTo>
                          <a:lnTo>
                            <a:pt x="1345" y="0"/>
                          </a:lnTo>
                          <a:lnTo>
                            <a:pt x="1008" y="336"/>
                          </a:lnTo>
                          <a:lnTo>
                            <a:pt x="0" y="33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Freeform 122"/>
                    <p:cNvSpPr/>
                    <p:nvPr/>
                  </p:nvSpPr>
                  <p:spPr>
                    <a:xfrm>
                      <a:off x="3191040" y="4663440"/>
                      <a:ext cx="120960" cy="596520"/>
                    </a:xfrm>
                    <a:custGeom>
                      <a:avLst/>
                      <a:gdLst>
                        <a:gd name="textAreaLeft" fmla="*/ 0 w 120960"/>
                        <a:gd name="textAreaRight" fmla="*/ 121320 w 120960"/>
                        <a:gd name="textAreaTop" fmla="*/ 0 h 596520"/>
                        <a:gd name="textAreaBottom" fmla="*/ 596880 h 596520"/>
                      </a:gdLst>
                      <a:ahLst/>
                      <a:rect l="textAreaLeft" t="textAreaTop" r="textAreaRight" b="textAreaBottom"/>
                      <a:pathLst>
                        <a:path w="338" h="1663">
                          <a:moveTo>
                            <a:pt x="0" y="1662"/>
                          </a:moveTo>
                          <a:lnTo>
                            <a:pt x="0" y="336"/>
                          </a:lnTo>
                          <a:lnTo>
                            <a:pt x="337" y="0"/>
                          </a:lnTo>
                          <a:lnTo>
                            <a:pt x="337" y="1326"/>
                          </a:lnTo>
                          <a:lnTo>
                            <a:pt x="0" y="1662"/>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02" name="Group 123"/>
                  <p:cNvGrpSpPr/>
                  <p:nvPr/>
                </p:nvGrpSpPr>
                <p:grpSpPr>
                  <a:xfrm>
                    <a:off x="2941200" y="4551120"/>
                    <a:ext cx="370800" cy="121680"/>
                    <a:chOff x="2941200" y="4551120"/>
                    <a:chExt cx="370800" cy="121680"/>
                  </a:xfrm>
                </p:grpSpPr>
                <p:sp>
                  <p:nvSpPr>
                    <p:cNvPr id="703" name="Freeform 124"/>
                    <p:cNvSpPr/>
                    <p:nvPr/>
                  </p:nvSpPr>
                  <p:spPr>
                    <a:xfrm>
                      <a:off x="2941200" y="4551120"/>
                      <a:ext cx="370800" cy="121680"/>
                    </a:xfrm>
                    <a:custGeom>
                      <a:avLst/>
                      <a:gdLst>
                        <a:gd name="textAreaLeft" fmla="*/ 0 w 370800"/>
                        <a:gd name="textAreaRight" fmla="*/ 371160 w 370800"/>
                        <a:gd name="textAreaTop" fmla="*/ 0 h 121680"/>
                        <a:gd name="textAreaBottom" fmla="*/ 122040 h 121680"/>
                      </a:gdLst>
                      <a:ahLst/>
                      <a:rect l="textAreaLeft" t="textAreaTop" r="textAreaRight" b="textAreaBottom"/>
                      <a:pathLst>
                        <a:path w="1037" h="345">
                          <a:moveTo>
                            <a:pt x="0" y="344"/>
                          </a:moveTo>
                          <a:lnTo>
                            <a:pt x="0" y="85"/>
                          </a:lnTo>
                          <a:lnTo>
                            <a:pt x="85" y="0"/>
                          </a:lnTo>
                          <a:lnTo>
                            <a:pt x="1036" y="0"/>
                          </a:lnTo>
                          <a:lnTo>
                            <a:pt x="1036" y="257"/>
                          </a:lnTo>
                          <a:lnTo>
                            <a:pt x="949"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4" name="Freeform 125"/>
                    <p:cNvSpPr/>
                    <p:nvPr/>
                  </p:nvSpPr>
                  <p:spPr>
                    <a:xfrm>
                      <a:off x="2941200" y="4551120"/>
                      <a:ext cx="370800" cy="30960"/>
                    </a:xfrm>
                    <a:custGeom>
                      <a:avLst/>
                      <a:gdLst>
                        <a:gd name="textAreaLeft" fmla="*/ 0 w 370800"/>
                        <a:gd name="textAreaRight" fmla="*/ 371160 w 370800"/>
                        <a:gd name="textAreaTop" fmla="*/ 0 h 30960"/>
                        <a:gd name="textAreaBottom" fmla="*/ 31320 h 30960"/>
                      </a:gdLst>
                      <a:ahLst/>
                      <a:rect l="textAreaLeft" t="textAreaTop" r="textAreaRight" b="textAreaBottom"/>
                      <a:pathLst>
                        <a:path w="1037" h="86">
                          <a:moveTo>
                            <a:pt x="0" y="85"/>
                          </a:moveTo>
                          <a:lnTo>
                            <a:pt x="85" y="0"/>
                          </a:lnTo>
                          <a:lnTo>
                            <a:pt x="1036" y="0"/>
                          </a:lnTo>
                          <a:lnTo>
                            <a:pt x="949"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05" name="Freeform 126"/>
                    <p:cNvSpPr/>
                    <p:nvPr/>
                  </p:nvSpPr>
                  <p:spPr>
                    <a:xfrm>
                      <a:off x="3280320" y="4551120"/>
                      <a:ext cx="31320" cy="121680"/>
                    </a:xfrm>
                    <a:custGeom>
                      <a:avLst/>
                      <a:gdLst>
                        <a:gd name="textAreaLeft" fmla="*/ 0 w 31320"/>
                        <a:gd name="textAreaRight" fmla="*/ 31680 w 31320"/>
                        <a:gd name="textAreaTop" fmla="*/ 0 h 121680"/>
                        <a:gd name="textAreaBottom" fmla="*/ 122040 h 121680"/>
                      </a:gdLst>
                      <a:ahLst/>
                      <a:rect l="textAreaLeft" t="textAreaTop" r="textAreaRight" b="textAreaBottom"/>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06" name="Freeform 127"/>
                <p:cNvSpPr/>
                <p:nvPr/>
              </p:nvSpPr>
              <p:spPr>
                <a:xfrm>
                  <a:off x="2928240" y="4716000"/>
                  <a:ext cx="250200" cy="42480"/>
                </a:xfrm>
                <a:custGeom>
                  <a:avLst/>
                  <a:gdLst>
                    <a:gd name="textAreaLeft" fmla="*/ 0 w 250200"/>
                    <a:gd name="textAreaRight" fmla="*/ 250560 w 250200"/>
                    <a:gd name="textAreaTop" fmla="*/ 0 h 42480"/>
                    <a:gd name="textAreaBottom" fmla="*/ 42840 h 42480"/>
                  </a:gdLst>
                  <a:ahLst/>
                  <a:rect l="textAreaLeft" t="textAreaTop" r="textAreaRight" b="textAreaBottom"/>
                  <a:pathLst>
                    <a:path w="698" h="120">
                      <a:moveTo>
                        <a:pt x="173" y="0"/>
                      </a:moveTo>
                      <a:lnTo>
                        <a:pt x="697" y="0"/>
                      </a:lnTo>
                      <a:lnTo>
                        <a:pt x="522" y="119"/>
                      </a:lnTo>
                      <a:lnTo>
                        <a:pt x="0" y="119"/>
                      </a:lnTo>
                      <a:lnTo>
                        <a:pt x="173" y="0"/>
                      </a:lnTo>
                    </a:path>
                  </a:pathLst>
                </a:custGeom>
                <a:solidFill>
                  <a:srgbClr val="f6bf69"/>
                </a:solidFill>
                <a:ln w="25560">
                  <a:solidFill>
                    <a:srgbClr val="000000"/>
                  </a:solidFill>
                  <a:round/>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grpSp>
            <p:nvGrpSpPr>
              <p:cNvPr id="707" name="Group 128"/>
              <p:cNvGrpSpPr/>
              <p:nvPr/>
            </p:nvGrpSpPr>
            <p:grpSpPr>
              <a:xfrm>
                <a:off x="3307320" y="4551120"/>
                <a:ext cx="597600" cy="708840"/>
                <a:chOff x="3307320" y="4551120"/>
                <a:chExt cx="597600" cy="708840"/>
              </a:xfrm>
            </p:grpSpPr>
            <p:grpSp>
              <p:nvGrpSpPr>
                <p:cNvPr id="708" name="Group 129"/>
                <p:cNvGrpSpPr/>
                <p:nvPr/>
              </p:nvGrpSpPr>
              <p:grpSpPr>
                <a:xfrm>
                  <a:off x="3307320" y="4551120"/>
                  <a:ext cx="597600" cy="708840"/>
                  <a:chOff x="3307320" y="4551120"/>
                  <a:chExt cx="597600" cy="708840"/>
                </a:xfrm>
              </p:grpSpPr>
              <p:grpSp>
                <p:nvGrpSpPr>
                  <p:cNvPr id="709" name="Group 130"/>
                  <p:cNvGrpSpPr/>
                  <p:nvPr/>
                </p:nvGrpSpPr>
                <p:grpSpPr>
                  <a:xfrm>
                    <a:off x="3307320" y="4663440"/>
                    <a:ext cx="597600" cy="596520"/>
                    <a:chOff x="3307320" y="4663440"/>
                    <a:chExt cx="597600" cy="596520"/>
                  </a:xfrm>
                </p:grpSpPr>
                <p:sp>
                  <p:nvSpPr>
                    <p:cNvPr id="710" name="Freeform 131"/>
                    <p:cNvSpPr/>
                    <p:nvPr/>
                  </p:nvSpPr>
                  <p:spPr>
                    <a:xfrm>
                      <a:off x="3307320" y="4663440"/>
                      <a:ext cx="596160" cy="596520"/>
                    </a:xfrm>
                    <a:custGeom>
                      <a:avLst/>
                      <a:gdLst>
                        <a:gd name="textAreaLeft" fmla="*/ 0 w 596160"/>
                        <a:gd name="textAreaRight" fmla="*/ 596520 w 596160"/>
                        <a:gd name="textAreaTop" fmla="*/ 0 h 596520"/>
                        <a:gd name="textAreaBottom" fmla="*/ 596880 h 596520"/>
                      </a:gdLst>
                      <a:ahLst/>
                      <a:rect l="textAreaLeft" t="textAreaTop" r="textAreaRight" b="textAreaBottom"/>
                      <a:pathLst>
                        <a:path w="1668" h="1663">
                          <a:moveTo>
                            <a:pt x="0" y="1662"/>
                          </a:moveTo>
                          <a:lnTo>
                            <a:pt x="0" y="415"/>
                          </a:lnTo>
                          <a:lnTo>
                            <a:pt x="414" y="0"/>
                          </a:lnTo>
                          <a:lnTo>
                            <a:pt x="1667" y="0"/>
                          </a:lnTo>
                          <a:lnTo>
                            <a:pt x="1667" y="1247"/>
                          </a:lnTo>
                          <a:lnTo>
                            <a:pt x="1251" y="1662"/>
                          </a:lnTo>
                          <a:lnTo>
                            <a:pt x="0" y="1662"/>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Freeform 132"/>
                    <p:cNvSpPr/>
                    <p:nvPr/>
                  </p:nvSpPr>
                  <p:spPr>
                    <a:xfrm>
                      <a:off x="3307320" y="4663440"/>
                      <a:ext cx="596160" cy="148680"/>
                    </a:xfrm>
                    <a:custGeom>
                      <a:avLst/>
                      <a:gdLst>
                        <a:gd name="textAreaLeft" fmla="*/ 0 w 596160"/>
                        <a:gd name="textAreaRight" fmla="*/ 596520 w 596160"/>
                        <a:gd name="textAreaTop" fmla="*/ 0 h 148680"/>
                        <a:gd name="textAreaBottom" fmla="*/ 149040 h 148680"/>
                      </a:gdLst>
                      <a:ahLst/>
                      <a:rect l="textAreaLeft" t="textAreaTop" r="textAreaRight" b="textAreaBottom"/>
                      <a:pathLst>
                        <a:path w="1668" h="416">
                          <a:moveTo>
                            <a:pt x="0" y="415"/>
                          </a:moveTo>
                          <a:lnTo>
                            <a:pt x="414" y="0"/>
                          </a:lnTo>
                          <a:lnTo>
                            <a:pt x="1667" y="0"/>
                          </a:lnTo>
                          <a:lnTo>
                            <a:pt x="1251" y="415"/>
                          </a:lnTo>
                          <a:lnTo>
                            <a:pt x="0" y="415"/>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Freeform 133"/>
                    <p:cNvSpPr/>
                    <p:nvPr/>
                  </p:nvSpPr>
                  <p:spPr>
                    <a:xfrm>
                      <a:off x="3755160" y="4663440"/>
                      <a:ext cx="149760" cy="596520"/>
                    </a:xfrm>
                    <a:custGeom>
                      <a:avLst/>
                      <a:gdLst>
                        <a:gd name="textAreaLeft" fmla="*/ 0 w 149760"/>
                        <a:gd name="textAreaRight" fmla="*/ 150120 w 149760"/>
                        <a:gd name="textAreaTop" fmla="*/ 0 h 596520"/>
                        <a:gd name="textAreaBottom" fmla="*/ 596880 h 596520"/>
                      </a:gdLst>
                      <a:ahLst/>
                      <a:rect l="textAreaLeft" t="textAreaTop" r="textAreaRight" b="textAreaBottom"/>
                      <a:pathLst>
                        <a:path w="417" h="1663">
                          <a:moveTo>
                            <a:pt x="0" y="1662"/>
                          </a:moveTo>
                          <a:lnTo>
                            <a:pt x="0" y="415"/>
                          </a:lnTo>
                          <a:lnTo>
                            <a:pt x="416" y="0"/>
                          </a:lnTo>
                          <a:lnTo>
                            <a:pt x="416" y="1247"/>
                          </a:lnTo>
                          <a:lnTo>
                            <a:pt x="0" y="1662"/>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13" name="Group 134"/>
                  <p:cNvGrpSpPr/>
                  <p:nvPr/>
                </p:nvGrpSpPr>
                <p:grpSpPr>
                  <a:xfrm>
                    <a:off x="3443760" y="4551120"/>
                    <a:ext cx="461160" cy="121680"/>
                    <a:chOff x="3443760" y="4551120"/>
                    <a:chExt cx="461160" cy="121680"/>
                  </a:xfrm>
                </p:grpSpPr>
                <p:sp>
                  <p:nvSpPr>
                    <p:cNvPr id="714" name="Freeform 135"/>
                    <p:cNvSpPr/>
                    <p:nvPr/>
                  </p:nvSpPr>
                  <p:spPr>
                    <a:xfrm>
                      <a:off x="3443760" y="4551120"/>
                      <a:ext cx="461160" cy="121680"/>
                    </a:xfrm>
                    <a:custGeom>
                      <a:avLst/>
                      <a:gdLst>
                        <a:gd name="textAreaLeft" fmla="*/ 0 w 461160"/>
                        <a:gd name="textAreaRight" fmla="*/ 461520 w 461160"/>
                        <a:gd name="textAreaTop" fmla="*/ 0 h 121680"/>
                        <a:gd name="textAreaBottom" fmla="*/ 122040 h 121680"/>
                      </a:gdLst>
                      <a:ahLst/>
                      <a:rect l="textAreaLeft" t="textAreaTop" r="textAreaRight" b="textAreaBottom"/>
                      <a:pathLst>
                        <a:path w="1288" h="345">
                          <a:moveTo>
                            <a:pt x="0" y="344"/>
                          </a:moveTo>
                          <a:lnTo>
                            <a:pt x="0" y="85"/>
                          </a:lnTo>
                          <a:lnTo>
                            <a:pt x="85" y="0"/>
                          </a:lnTo>
                          <a:lnTo>
                            <a:pt x="1287" y="0"/>
                          </a:lnTo>
                          <a:lnTo>
                            <a:pt x="1287" y="257"/>
                          </a:lnTo>
                          <a:lnTo>
                            <a:pt x="1200"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Freeform 136"/>
                    <p:cNvSpPr/>
                    <p:nvPr/>
                  </p:nvSpPr>
                  <p:spPr>
                    <a:xfrm>
                      <a:off x="3443760" y="4551120"/>
                      <a:ext cx="461160" cy="30960"/>
                    </a:xfrm>
                    <a:custGeom>
                      <a:avLst/>
                      <a:gdLst>
                        <a:gd name="textAreaLeft" fmla="*/ 0 w 461160"/>
                        <a:gd name="textAreaRight" fmla="*/ 461520 w 461160"/>
                        <a:gd name="textAreaTop" fmla="*/ 0 h 30960"/>
                        <a:gd name="textAreaBottom" fmla="*/ 31320 h 30960"/>
                      </a:gdLst>
                      <a:ahLst/>
                      <a:rect l="textAreaLeft" t="textAreaTop" r="textAreaRight" b="textAreaBottom"/>
                      <a:pathLst>
                        <a:path w="1288" h="86">
                          <a:moveTo>
                            <a:pt x="0" y="85"/>
                          </a:moveTo>
                          <a:lnTo>
                            <a:pt x="85" y="0"/>
                          </a:lnTo>
                          <a:lnTo>
                            <a:pt x="1287" y="0"/>
                          </a:lnTo>
                          <a:lnTo>
                            <a:pt x="1200"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16" name="Freeform 137"/>
                    <p:cNvSpPr/>
                    <p:nvPr/>
                  </p:nvSpPr>
                  <p:spPr>
                    <a:xfrm>
                      <a:off x="3873240" y="4551120"/>
                      <a:ext cx="31320" cy="121680"/>
                    </a:xfrm>
                    <a:custGeom>
                      <a:avLst/>
                      <a:gdLst>
                        <a:gd name="textAreaLeft" fmla="*/ 0 w 31320"/>
                        <a:gd name="textAreaRight" fmla="*/ 31680 w 31320"/>
                        <a:gd name="textAreaTop" fmla="*/ 0 h 121680"/>
                        <a:gd name="textAreaBottom" fmla="*/ 122040 h 121680"/>
                      </a:gdLst>
                      <a:ahLst/>
                      <a:rect l="textAreaLeft" t="textAreaTop" r="textAreaRight" b="textAreaBottom"/>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17" name="Oval 138"/>
                <p:cNvSpPr/>
                <p:nvPr/>
              </p:nvSpPr>
              <p:spPr>
                <a:xfrm>
                  <a:off x="3489480" y="4608000"/>
                  <a:ext cx="77760" cy="42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139"/>
                <p:cNvSpPr/>
                <p:nvPr/>
              </p:nvSpPr>
              <p:spPr>
                <a:xfrm>
                  <a:off x="3381840" y="4941360"/>
                  <a:ext cx="313560" cy="132840"/>
                </a:xfrm>
                <a:custGeom>
                  <a:avLst/>
                  <a:gdLst>
                    <a:gd name="textAreaLeft" fmla="*/ 0 w 313560"/>
                    <a:gd name="textAreaRight" fmla="*/ 313920 w 313560"/>
                    <a:gd name="textAreaTop" fmla="*/ 0 h 132840"/>
                    <a:gd name="textAreaBottom" fmla="*/ 133200 h 132840"/>
                  </a:gdLst>
                  <a:ahLst/>
                  <a:rect l="textAreaLeft" t="textAreaTop" r="textAreaRight" b="textAreaBottom"/>
                  <a:pathLst>
                    <a:path w="874" h="371">
                      <a:moveTo>
                        <a:pt x="107" y="0"/>
                      </a:moveTo>
                      <a:lnTo>
                        <a:pt x="764" y="0"/>
                      </a:lnTo>
                      <a:lnTo>
                        <a:pt x="873" y="108"/>
                      </a:lnTo>
                      <a:lnTo>
                        <a:pt x="873" y="262"/>
                      </a:lnTo>
                      <a:lnTo>
                        <a:pt x="764" y="370"/>
                      </a:lnTo>
                      <a:lnTo>
                        <a:pt x="107" y="370"/>
                      </a:lnTo>
                      <a:lnTo>
                        <a:pt x="0" y="262"/>
                      </a:lnTo>
                      <a:lnTo>
                        <a:pt x="0" y="108"/>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19" name="Freeform 140"/>
              <p:cNvSpPr/>
              <p:nvPr/>
            </p:nvSpPr>
            <p:spPr>
              <a:xfrm>
                <a:off x="4201920" y="4914360"/>
                <a:ext cx="134640" cy="302760"/>
              </a:xfrm>
              <a:custGeom>
                <a:avLst/>
                <a:gdLst>
                  <a:gd name="textAreaLeft" fmla="*/ 0 w 134640"/>
                  <a:gd name="textAreaRight" fmla="*/ 135000 w 134640"/>
                  <a:gd name="textAreaTop" fmla="*/ 0 h 302760"/>
                  <a:gd name="textAreaBottom" fmla="*/ 303120 h 302760"/>
                </a:gdLst>
                <a:ahLst/>
                <a:rect l="textAreaLeft" t="textAreaTop" r="textAreaRight" b="textAreaBottom"/>
                <a:pathLst>
                  <a:path w="377" h="843">
                    <a:moveTo>
                      <a:pt x="274" y="0"/>
                    </a:moveTo>
                    <a:lnTo>
                      <a:pt x="376" y="0"/>
                    </a:lnTo>
                    <a:lnTo>
                      <a:pt x="101" y="842"/>
                    </a:lnTo>
                    <a:lnTo>
                      <a:pt x="0" y="842"/>
                    </a:lnTo>
                    <a:lnTo>
                      <a:pt x="274"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0" name="AutoShape 141"/>
              <p:cNvSpPr/>
              <p:nvPr/>
            </p:nvSpPr>
            <p:spPr>
              <a:xfrm>
                <a:off x="4195800" y="4914360"/>
                <a:ext cx="167760" cy="24840"/>
              </a:xfrm>
              <a:prstGeom prst="roundRect">
                <a:avLst>
                  <a:gd name="adj" fmla="val 6250"/>
                </a:avLst>
              </a:prstGeom>
              <a:solidFill>
                <a:srgbClr val="fc0128"/>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42"/>
              <p:cNvSpPr/>
              <p:nvPr/>
            </p:nvSpPr>
            <p:spPr>
              <a:xfrm>
                <a:off x="4206960" y="5042880"/>
                <a:ext cx="129600" cy="24840"/>
              </a:xfrm>
              <a:prstGeom prst="roundRect">
                <a:avLst>
                  <a:gd name="adj" fmla="val 6250"/>
                </a:avLst>
              </a:prstGeom>
              <a:solidFill>
                <a:srgbClr val="fc0128"/>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43"/>
              <p:cNvSpPr/>
              <p:nvPr/>
            </p:nvSpPr>
            <p:spPr>
              <a:xfrm>
                <a:off x="3916800" y="5042880"/>
                <a:ext cx="163080" cy="16920"/>
              </a:xfrm>
              <a:prstGeom prst="roundRect">
                <a:avLst>
                  <a:gd name="adj" fmla="val 10000"/>
                </a:avLst>
              </a:prstGeom>
              <a:solidFill>
                <a:srgbClr val="fc0128"/>
              </a:solidFill>
              <a:ln w="0">
                <a:noFill/>
              </a:ln>
            </p:spPr>
            <p:style>
              <a:lnRef idx="0"/>
              <a:fillRef idx="0"/>
              <a:effectRef idx="0"/>
              <a:fontRef idx="minor"/>
            </p:style>
            <p:txBody>
              <a:bodyPr wrap="none" lIns="90000" rIns="90000" tIns="-30600" bIns="-30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3" name="Group 144"/>
              <p:cNvGrpSpPr/>
              <p:nvPr/>
            </p:nvGrpSpPr>
            <p:grpSpPr>
              <a:xfrm>
                <a:off x="3913560" y="4641120"/>
                <a:ext cx="306000" cy="575640"/>
                <a:chOff x="3913560" y="4641120"/>
                <a:chExt cx="306000" cy="575640"/>
              </a:xfrm>
            </p:grpSpPr>
            <p:sp>
              <p:nvSpPr>
                <p:cNvPr id="724" name="Oval 145"/>
                <p:cNvSpPr/>
                <p:nvPr/>
              </p:nvSpPr>
              <p:spPr>
                <a:xfrm>
                  <a:off x="4033440" y="4641120"/>
                  <a:ext cx="77040" cy="7740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8280" bIns="8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146"/>
                <p:cNvSpPr/>
                <p:nvPr/>
              </p:nvSpPr>
              <p:spPr>
                <a:xfrm>
                  <a:off x="3913560" y="4748760"/>
                  <a:ext cx="306000" cy="468000"/>
                </a:xfrm>
                <a:custGeom>
                  <a:avLst/>
                  <a:gdLst>
                    <a:gd name="textAreaLeft" fmla="*/ 0 w 306000"/>
                    <a:gd name="textAreaRight" fmla="*/ 306360 w 306000"/>
                    <a:gd name="textAreaTop" fmla="*/ 0 h 468000"/>
                    <a:gd name="textAreaBottom" fmla="*/ 468360 h 468000"/>
                  </a:gdLst>
                  <a:ahLst/>
                  <a:rect l="textAreaLeft" t="textAreaTop" r="textAreaRight" b="textAreaBottom"/>
                  <a:pathLst>
                    <a:path w="856" h="1305">
                      <a:moveTo>
                        <a:pt x="234" y="101"/>
                      </a:moveTo>
                      <a:lnTo>
                        <a:pt x="8" y="605"/>
                      </a:lnTo>
                      <a:lnTo>
                        <a:pt x="4" y="609"/>
                      </a:lnTo>
                      <a:lnTo>
                        <a:pt x="4" y="618"/>
                      </a:lnTo>
                      <a:lnTo>
                        <a:pt x="0" y="627"/>
                      </a:lnTo>
                      <a:lnTo>
                        <a:pt x="0" y="640"/>
                      </a:lnTo>
                      <a:lnTo>
                        <a:pt x="0" y="649"/>
                      </a:lnTo>
                      <a:lnTo>
                        <a:pt x="0" y="662"/>
                      </a:lnTo>
                      <a:lnTo>
                        <a:pt x="4" y="671"/>
                      </a:lnTo>
                      <a:lnTo>
                        <a:pt x="8" y="684"/>
                      </a:lnTo>
                      <a:lnTo>
                        <a:pt x="13" y="693"/>
                      </a:lnTo>
                      <a:lnTo>
                        <a:pt x="17" y="703"/>
                      </a:lnTo>
                      <a:lnTo>
                        <a:pt x="26" y="712"/>
                      </a:lnTo>
                      <a:lnTo>
                        <a:pt x="35" y="721"/>
                      </a:lnTo>
                      <a:lnTo>
                        <a:pt x="44" y="725"/>
                      </a:lnTo>
                      <a:lnTo>
                        <a:pt x="52" y="730"/>
                      </a:lnTo>
                      <a:lnTo>
                        <a:pt x="61" y="730"/>
                      </a:lnTo>
                      <a:lnTo>
                        <a:pt x="70" y="734"/>
                      </a:lnTo>
                      <a:lnTo>
                        <a:pt x="79" y="734"/>
                      </a:lnTo>
                      <a:lnTo>
                        <a:pt x="92" y="734"/>
                      </a:lnTo>
                      <a:lnTo>
                        <a:pt x="558" y="734"/>
                      </a:lnTo>
                      <a:lnTo>
                        <a:pt x="558" y="1304"/>
                      </a:lnTo>
                      <a:lnTo>
                        <a:pt x="704" y="1304"/>
                      </a:lnTo>
                      <a:lnTo>
                        <a:pt x="704" y="627"/>
                      </a:lnTo>
                      <a:lnTo>
                        <a:pt x="704" y="618"/>
                      </a:lnTo>
                      <a:lnTo>
                        <a:pt x="704" y="609"/>
                      </a:lnTo>
                      <a:lnTo>
                        <a:pt x="700" y="605"/>
                      </a:lnTo>
                      <a:lnTo>
                        <a:pt x="695" y="601"/>
                      </a:lnTo>
                      <a:lnTo>
                        <a:pt x="691" y="596"/>
                      </a:lnTo>
                      <a:lnTo>
                        <a:pt x="682" y="587"/>
                      </a:lnTo>
                      <a:lnTo>
                        <a:pt x="678" y="583"/>
                      </a:lnTo>
                      <a:lnTo>
                        <a:pt x="673" y="578"/>
                      </a:lnTo>
                      <a:lnTo>
                        <a:pt x="664" y="578"/>
                      </a:lnTo>
                      <a:lnTo>
                        <a:pt x="656" y="574"/>
                      </a:lnTo>
                      <a:lnTo>
                        <a:pt x="647" y="574"/>
                      </a:lnTo>
                      <a:lnTo>
                        <a:pt x="638" y="570"/>
                      </a:lnTo>
                      <a:lnTo>
                        <a:pt x="629" y="570"/>
                      </a:lnTo>
                      <a:lnTo>
                        <a:pt x="620" y="570"/>
                      </a:lnTo>
                      <a:lnTo>
                        <a:pt x="616" y="570"/>
                      </a:lnTo>
                      <a:lnTo>
                        <a:pt x="607" y="570"/>
                      </a:lnTo>
                      <a:lnTo>
                        <a:pt x="337" y="552"/>
                      </a:lnTo>
                      <a:lnTo>
                        <a:pt x="412" y="331"/>
                      </a:lnTo>
                      <a:lnTo>
                        <a:pt x="465" y="411"/>
                      </a:lnTo>
                      <a:lnTo>
                        <a:pt x="793" y="411"/>
                      </a:lnTo>
                      <a:lnTo>
                        <a:pt x="802" y="406"/>
                      </a:lnTo>
                      <a:lnTo>
                        <a:pt x="811" y="406"/>
                      </a:lnTo>
                      <a:lnTo>
                        <a:pt x="815" y="402"/>
                      </a:lnTo>
                      <a:lnTo>
                        <a:pt x="820" y="402"/>
                      </a:lnTo>
                      <a:lnTo>
                        <a:pt x="829" y="398"/>
                      </a:lnTo>
                      <a:lnTo>
                        <a:pt x="837" y="393"/>
                      </a:lnTo>
                      <a:lnTo>
                        <a:pt x="842" y="384"/>
                      </a:lnTo>
                      <a:lnTo>
                        <a:pt x="846" y="380"/>
                      </a:lnTo>
                      <a:lnTo>
                        <a:pt x="851" y="371"/>
                      </a:lnTo>
                      <a:lnTo>
                        <a:pt x="851" y="367"/>
                      </a:lnTo>
                      <a:lnTo>
                        <a:pt x="855" y="358"/>
                      </a:lnTo>
                      <a:lnTo>
                        <a:pt x="855" y="345"/>
                      </a:lnTo>
                      <a:lnTo>
                        <a:pt x="855" y="336"/>
                      </a:lnTo>
                      <a:lnTo>
                        <a:pt x="851" y="327"/>
                      </a:lnTo>
                      <a:lnTo>
                        <a:pt x="846" y="318"/>
                      </a:lnTo>
                      <a:lnTo>
                        <a:pt x="842" y="309"/>
                      </a:lnTo>
                      <a:lnTo>
                        <a:pt x="837" y="305"/>
                      </a:lnTo>
                      <a:lnTo>
                        <a:pt x="833" y="300"/>
                      </a:lnTo>
                      <a:lnTo>
                        <a:pt x="824" y="291"/>
                      </a:lnTo>
                      <a:lnTo>
                        <a:pt x="815" y="286"/>
                      </a:lnTo>
                      <a:lnTo>
                        <a:pt x="815" y="282"/>
                      </a:lnTo>
                      <a:lnTo>
                        <a:pt x="802" y="282"/>
                      </a:lnTo>
                      <a:lnTo>
                        <a:pt x="793" y="282"/>
                      </a:lnTo>
                      <a:lnTo>
                        <a:pt x="541" y="282"/>
                      </a:lnTo>
                      <a:lnTo>
                        <a:pt x="487" y="194"/>
                      </a:lnTo>
                      <a:lnTo>
                        <a:pt x="496" y="185"/>
                      </a:lnTo>
                      <a:lnTo>
                        <a:pt x="500" y="172"/>
                      </a:lnTo>
                      <a:lnTo>
                        <a:pt x="500" y="163"/>
                      </a:lnTo>
                      <a:lnTo>
                        <a:pt x="505" y="150"/>
                      </a:lnTo>
                      <a:lnTo>
                        <a:pt x="505" y="132"/>
                      </a:lnTo>
                      <a:lnTo>
                        <a:pt x="505" y="123"/>
                      </a:lnTo>
                      <a:lnTo>
                        <a:pt x="505" y="105"/>
                      </a:lnTo>
                      <a:lnTo>
                        <a:pt x="500" y="97"/>
                      </a:lnTo>
                      <a:lnTo>
                        <a:pt x="496" y="83"/>
                      </a:lnTo>
                      <a:lnTo>
                        <a:pt x="491" y="75"/>
                      </a:lnTo>
                      <a:lnTo>
                        <a:pt x="487" y="66"/>
                      </a:lnTo>
                      <a:lnTo>
                        <a:pt x="482" y="57"/>
                      </a:lnTo>
                      <a:lnTo>
                        <a:pt x="474" y="44"/>
                      </a:lnTo>
                      <a:lnTo>
                        <a:pt x="465" y="39"/>
                      </a:lnTo>
                      <a:lnTo>
                        <a:pt x="456" y="30"/>
                      </a:lnTo>
                      <a:lnTo>
                        <a:pt x="447" y="22"/>
                      </a:lnTo>
                      <a:lnTo>
                        <a:pt x="434" y="13"/>
                      </a:lnTo>
                      <a:lnTo>
                        <a:pt x="425" y="13"/>
                      </a:lnTo>
                      <a:lnTo>
                        <a:pt x="412" y="4"/>
                      </a:lnTo>
                      <a:lnTo>
                        <a:pt x="399" y="4"/>
                      </a:lnTo>
                      <a:lnTo>
                        <a:pt x="385" y="0"/>
                      </a:lnTo>
                      <a:lnTo>
                        <a:pt x="372" y="0"/>
                      </a:lnTo>
                      <a:lnTo>
                        <a:pt x="359" y="0"/>
                      </a:lnTo>
                      <a:lnTo>
                        <a:pt x="346" y="0"/>
                      </a:lnTo>
                      <a:lnTo>
                        <a:pt x="332" y="4"/>
                      </a:lnTo>
                      <a:lnTo>
                        <a:pt x="318" y="8"/>
                      </a:lnTo>
                      <a:lnTo>
                        <a:pt x="305" y="13"/>
                      </a:lnTo>
                      <a:lnTo>
                        <a:pt x="292" y="17"/>
                      </a:lnTo>
                      <a:lnTo>
                        <a:pt x="278" y="26"/>
                      </a:lnTo>
                      <a:lnTo>
                        <a:pt x="270" y="39"/>
                      </a:lnTo>
                      <a:lnTo>
                        <a:pt x="261" y="48"/>
                      </a:lnTo>
                      <a:lnTo>
                        <a:pt x="252" y="57"/>
                      </a:lnTo>
                      <a:lnTo>
                        <a:pt x="243" y="75"/>
                      </a:lnTo>
                      <a:lnTo>
                        <a:pt x="234" y="83"/>
                      </a:lnTo>
                      <a:lnTo>
                        <a:pt x="234"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nvGrpSpPr>
            <p:cNvPr id="726" name="Group 147"/>
            <p:cNvGrpSpPr/>
            <p:nvPr/>
          </p:nvGrpSpPr>
          <p:grpSpPr>
            <a:xfrm>
              <a:off x="3490560" y="5262120"/>
              <a:ext cx="1533240" cy="709200"/>
              <a:chOff x="3490560" y="5262120"/>
              <a:chExt cx="1533240" cy="709200"/>
            </a:xfrm>
          </p:grpSpPr>
          <p:grpSp>
            <p:nvGrpSpPr>
              <p:cNvPr id="727" name="Group 148"/>
              <p:cNvGrpSpPr/>
              <p:nvPr/>
            </p:nvGrpSpPr>
            <p:grpSpPr>
              <a:xfrm>
                <a:off x="3490560" y="5262120"/>
                <a:ext cx="482040" cy="709200"/>
                <a:chOff x="3490560" y="5262120"/>
                <a:chExt cx="482040" cy="709200"/>
              </a:xfrm>
            </p:grpSpPr>
            <p:grpSp>
              <p:nvGrpSpPr>
                <p:cNvPr id="728" name="Group 149"/>
                <p:cNvGrpSpPr/>
                <p:nvPr/>
              </p:nvGrpSpPr>
              <p:grpSpPr>
                <a:xfrm>
                  <a:off x="3490560" y="5262120"/>
                  <a:ext cx="482040" cy="709200"/>
                  <a:chOff x="3490560" y="5262120"/>
                  <a:chExt cx="482040" cy="709200"/>
                </a:xfrm>
              </p:grpSpPr>
              <p:grpSp>
                <p:nvGrpSpPr>
                  <p:cNvPr id="729" name="Group 150"/>
                  <p:cNvGrpSpPr/>
                  <p:nvPr/>
                </p:nvGrpSpPr>
                <p:grpSpPr>
                  <a:xfrm>
                    <a:off x="3490560" y="5374800"/>
                    <a:ext cx="482040" cy="596520"/>
                    <a:chOff x="3490560" y="5374800"/>
                    <a:chExt cx="482040" cy="596520"/>
                  </a:xfrm>
                </p:grpSpPr>
                <p:sp>
                  <p:nvSpPr>
                    <p:cNvPr id="730" name="Freeform 151"/>
                    <p:cNvSpPr/>
                    <p:nvPr/>
                  </p:nvSpPr>
                  <p:spPr>
                    <a:xfrm>
                      <a:off x="3490560" y="5374800"/>
                      <a:ext cx="482040" cy="596520"/>
                    </a:xfrm>
                    <a:custGeom>
                      <a:avLst/>
                      <a:gdLst>
                        <a:gd name="textAreaLeft" fmla="*/ 0 w 482040"/>
                        <a:gd name="textAreaRight" fmla="*/ 482400 w 482040"/>
                        <a:gd name="textAreaTop" fmla="*/ 0 h 596520"/>
                        <a:gd name="textAreaBottom" fmla="*/ 596880 h 596520"/>
                      </a:gdLst>
                      <a:ahLst/>
                      <a:rect l="textAreaLeft" t="textAreaTop" r="textAreaRight" b="textAreaBottom"/>
                      <a:pathLst>
                        <a:path w="1346" h="1663">
                          <a:moveTo>
                            <a:pt x="0" y="1662"/>
                          </a:moveTo>
                          <a:lnTo>
                            <a:pt x="0" y="336"/>
                          </a:lnTo>
                          <a:lnTo>
                            <a:pt x="335" y="0"/>
                          </a:lnTo>
                          <a:lnTo>
                            <a:pt x="1345" y="0"/>
                          </a:lnTo>
                          <a:lnTo>
                            <a:pt x="1345" y="1326"/>
                          </a:lnTo>
                          <a:lnTo>
                            <a:pt x="1008" y="1662"/>
                          </a:lnTo>
                          <a:lnTo>
                            <a:pt x="0" y="1662"/>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Freeform 152"/>
                    <p:cNvSpPr/>
                    <p:nvPr/>
                  </p:nvSpPr>
                  <p:spPr>
                    <a:xfrm>
                      <a:off x="3490560" y="5374800"/>
                      <a:ext cx="482040" cy="119880"/>
                    </a:xfrm>
                    <a:custGeom>
                      <a:avLst/>
                      <a:gdLst>
                        <a:gd name="textAreaLeft" fmla="*/ 0 w 482040"/>
                        <a:gd name="textAreaRight" fmla="*/ 482400 w 482040"/>
                        <a:gd name="textAreaTop" fmla="*/ 0 h 119880"/>
                        <a:gd name="textAreaBottom" fmla="*/ 120240 h 119880"/>
                      </a:gdLst>
                      <a:ahLst/>
                      <a:rect l="textAreaLeft" t="textAreaTop" r="textAreaRight" b="textAreaBottom"/>
                      <a:pathLst>
                        <a:path w="1346" h="337">
                          <a:moveTo>
                            <a:pt x="0" y="336"/>
                          </a:moveTo>
                          <a:lnTo>
                            <a:pt x="335" y="0"/>
                          </a:lnTo>
                          <a:lnTo>
                            <a:pt x="1345" y="0"/>
                          </a:lnTo>
                          <a:lnTo>
                            <a:pt x="1008" y="336"/>
                          </a:lnTo>
                          <a:lnTo>
                            <a:pt x="0" y="336"/>
                          </a:lnTo>
                        </a:path>
                      </a:pathLst>
                    </a:custGeom>
                    <a:solidFill>
                      <a:srgbClr val="ffd072"/>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2" name="Freeform 153"/>
                    <p:cNvSpPr/>
                    <p:nvPr/>
                  </p:nvSpPr>
                  <p:spPr>
                    <a:xfrm>
                      <a:off x="3850920" y="5374800"/>
                      <a:ext cx="121320" cy="596520"/>
                    </a:xfrm>
                    <a:custGeom>
                      <a:avLst/>
                      <a:gdLst>
                        <a:gd name="textAreaLeft" fmla="*/ 0 w 121320"/>
                        <a:gd name="textAreaRight" fmla="*/ 121680 w 121320"/>
                        <a:gd name="textAreaTop" fmla="*/ 0 h 596520"/>
                        <a:gd name="textAreaBottom" fmla="*/ 596880 h 596520"/>
                      </a:gdLst>
                      <a:ahLst/>
                      <a:rect l="textAreaLeft" t="textAreaTop" r="textAreaRight" b="textAreaBottom"/>
                      <a:pathLst>
                        <a:path w="338" h="1663">
                          <a:moveTo>
                            <a:pt x="0" y="1662"/>
                          </a:moveTo>
                          <a:lnTo>
                            <a:pt x="0" y="336"/>
                          </a:lnTo>
                          <a:lnTo>
                            <a:pt x="337" y="0"/>
                          </a:lnTo>
                          <a:lnTo>
                            <a:pt x="337" y="1326"/>
                          </a:lnTo>
                          <a:lnTo>
                            <a:pt x="0" y="1662"/>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33" name="Group 154"/>
                  <p:cNvGrpSpPr/>
                  <p:nvPr/>
                </p:nvGrpSpPr>
                <p:grpSpPr>
                  <a:xfrm>
                    <a:off x="3601440" y="5262120"/>
                    <a:ext cx="370800" cy="122040"/>
                    <a:chOff x="3601440" y="5262120"/>
                    <a:chExt cx="370800" cy="122040"/>
                  </a:xfrm>
                </p:grpSpPr>
                <p:sp>
                  <p:nvSpPr>
                    <p:cNvPr id="734" name="Freeform 155"/>
                    <p:cNvSpPr/>
                    <p:nvPr/>
                  </p:nvSpPr>
                  <p:spPr>
                    <a:xfrm>
                      <a:off x="3601440" y="5262120"/>
                      <a:ext cx="370800" cy="122040"/>
                    </a:xfrm>
                    <a:custGeom>
                      <a:avLst/>
                      <a:gdLst>
                        <a:gd name="textAreaLeft" fmla="*/ 0 w 370800"/>
                        <a:gd name="textAreaRight" fmla="*/ 371160 w 370800"/>
                        <a:gd name="textAreaTop" fmla="*/ 0 h 122040"/>
                        <a:gd name="textAreaBottom" fmla="*/ 122400 h 122040"/>
                      </a:gdLst>
                      <a:ahLst/>
                      <a:rect l="textAreaLeft" t="textAreaTop" r="textAreaRight" b="textAreaBottom"/>
                      <a:pathLst>
                        <a:path w="1037" h="345">
                          <a:moveTo>
                            <a:pt x="0" y="344"/>
                          </a:moveTo>
                          <a:lnTo>
                            <a:pt x="0" y="85"/>
                          </a:lnTo>
                          <a:lnTo>
                            <a:pt x="85" y="0"/>
                          </a:lnTo>
                          <a:lnTo>
                            <a:pt x="1036" y="0"/>
                          </a:lnTo>
                          <a:lnTo>
                            <a:pt x="1036" y="257"/>
                          </a:lnTo>
                          <a:lnTo>
                            <a:pt x="949" y="344"/>
                          </a:lnTo>
                          <a:lnTo>
                            <a:pt x="0" y="344"/>
                          </a:lnTo>
                        </a:path>
                      </a:pathLst>
                    </a:custGeom>
                    <a:solidFill>
                      <a:srgbClr val="f6bf69"/>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Freeform 156"/>
                    <p:cNvSpPr/>
                    <p:nvPr/>
                  </p:nvSpPr>
                  <p:spPr>
                    <a:xfrm>
                      <a:off x="3601440" y="5262120"/>
                      <a:ext cx="370800" cy="31320"/>
                    </a:xfrm>
                    <a:custGeom>
                      <a:avLst/>
                      <a:gdLst>
                        <a:gd name="textAreaLeft" fmla="*/ 0 w 370800"/>
                        <a:gd name="textAreaRight" fmla="*/ 371160 w 370800"/>
                        <a:gd name="textAreaTop" fmla="*/ 0 h 31320"/>
                        <a:gd name="textAreaBottom" fmla="*/ 31680 h 31320"/>
                      </a:gdLst>
                      <a:ahLst/>
                      <a:rect l="textAreaLeft" t="textAreaTop" r="textAreaRight" b="textAreaBottom"/>
                      <a:pathLst>
                        <a:path w="1037" h="86">
                          <a:moveTo>
                            <a:pt x="0" y="85"/>
                          </a:moveTo>
                          <a:lnTo>
                            <a:pt x="85" y="0"/>
                          </a:lnTo>
                          <a:lnTo>
                            <a:pt x="1036" y="0"/>
                          </a:lnTo>
                          <a:lnTo>
                            <a:pt x="949" y="85"/>
                          </a:lnTo>
                          <a:lnTo>
                            <a:pt x="0" y="85"/>
                          </a:lnTo>
                        </a:path>
                      </a:pathLst>
                    </a:custGeom>
                    <a:solidFill>
                      <a:srgbClr val="ffd072"/>
                    </a:solidFill>
                    <a:ln w="12600">
                      <a:solidFill>
                        <a:srgbClr val="000000"/>
                      </a:solidFill>
                      <a:round/>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736" name="Freeform 157"/>
                    <p:cNvSpPr/>
                    <p:nvPr/>
                  </p:nvSpPr>
                  <p:spPr>
                    <a:xfrm>
                      <a:off x="3940560" y="5262120"/>
                      <a:ext cx="31320" cy="122040"/>
                    </a:xfrm>
                    <a:custGeom>
                      <a:avLst/>
                      <a:gdLst>
                        <a:gd name="textAreaLeft" fmla="*/ 0 w 31320"/>
                        <a:gd name="textAreaRight" fmla="*/ 31680 w 31320"/>
                        <a:gd name="textAreaTop" fmla="*/ 0 h 122040"/>
                        <a:gd name="textAreaBottom" fmla="*/ 122400 h 122040"/>
                      </a:gdLst>
                      <a:ahLst/>
                      <a:rect l="textAreaLeft" t="textAreaTop" r="textAreaRight" b="textAreaBottom"/>
                      <a:pathLst>
                        <a:path w="88" h="345">
                          <a:moveTo>
                            <a:pt x="0" y="344"/>
                          </a:moveTo>
                          <a:lnTo>
                            <a:pt x="0" y="85"/>
                          </a:lnTo>
                          <a:lnTo>
                            <a:pt x="87" y="0"/>
                          </a:lnTo>
                          <a:lnTo>
                            <a:pt x="87" y="257"/>
                          </a:lnTo>
                          <a:lnTo>
                            <a:pt x="0" y="344"/>
                          </a:lnTo>
                        </a:path>
                      </a:pathLst>
                    </a:custGeom>
                    <a:solidFill>
                      <a:srgbClr val="d3a45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37" name="Freeform 158"/>
                <p:cNvSpPr/>
                <p:nvPr/>
              </p:nvSpPr>
              <p:spPr>
                <a:xfrm>
                  <a:off x="3588840" y="5427000"/>
                  <a:ext cx="250200" cy="42480"/>
                </a:xfrm>
                <a:custGeom>
                  <a:avLst/>
                  <a:gdLst>
                    <a:gd name="textAreaLeft" fmla="*/ 0 w 250200"/>
                    <a:gd name="textAreaRight" fmla="*/ 250560 w 250200"/>
                    <a:gd name="textAreaTop" fmla="*/ 0 h 42480"/>
                    <a:gd name="textAreaBottom" fmla="*/ 42840 h 42480"/>
                  </a:gdLst>
                  <a:ahLst/>
                  <a:rect l="textAreaLeft" t="textAreaTop" r="textAreaRight" b="textAreaBottom"/>
                  <a:pathLst>
                    <a:path w="698" h="120">
                      <a:moveTo>
                        <a:pt x="173" y="0"/>
                      </a:moveTo>
                      <a:lnTo>
                        <a:pt x="697" y="0"/>
                      </a:lnTo>
                      <a:lnTo>
                        <a:pt x="522" y="119"/>
                      </a:lnTo>
                      <a:lnTo>
                        <a:pt x="0" y="119"/>
                      </a:lnTo>
                      <a:lnTo>
                        <a:pt x="173" y="0"/>
                      </a:lnTo>
                    </a:path>
                  </a:pathLst>
                </a:custGeom>
                <a:solidFill>
                  <a:srgbClr val="f6bf69"/>
                </a:solidFill>
                <a:ln w="25560">
                  <a:solidFill>
                    <a:srgbClr val="000000"/>
                  </a:solidFill>
                  <a:round/>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grpSp>
            <p:nvGrpSpPr>
              <p:cNvPr id="738" name="Group 159"/>
              <p:cNvGrpSpPr/>
              <p:nvPr/>
            </p:nvGrpSpPr>
            <p:grpSpPr>
              <a:xfrm>
                <a:off x="3967920" y="5262120"/>
                <a:ext cx="597240" cy="709200"/>
                <a:chOff x="3967920" y="5262120"/>
                <a:chExt cx="597240" cy="709200"/>
              </a:xfrm>
            </p:grpSpPr>
            <p:grpSp>
              <p:nvGrpSpPr>
                <p:cNvPr id="739" name="Group 160"/>
                <p:cNvGrpSpPr/>
                <p:nvPr/>
              </p:nvGrpSpPr>
              <p:grpSpPr>
                <a:xfrm>
                  <a:off x="3967920" y="5262120"/>
                  <a:ext cx="597240" cy="709200"/>
                  <a:chOff x="3967920" y="5262120"/>
                  <a:chExt cx="597240" cy="709200"/>
                </a:xfrm>
              </p:grpSpPr>
              <p:grpSp>
                <p:nvGrpSpPr>
                  <p:cNvPr id="740" name="Group 161"/>
                  <p:cNvGrpSpPr/>
                  <p:nvPr/>
                </p:nvGrpSpPr>
                <p:grpSpPr>
                  <a:xfrm>
                    <a:off x="3967920" y="5374800"/>
                    <a:ext cx="597240" cy="596520"/>
                    <a:chOff x="3967920" y="5374800"/>
                    <a:chExt cx="597240" cy="596520"/>
                  </a:xfrm>
                </p:grpSpPr>
                <p:sp>
                  <p:nvSpPr>
                    <p:cNvPr id="741" name="Freeform 162"/>
                    <p:cNvSpPr/>
                    <p:nvPr/>
                  </p:nvSpPr>
                  <p:spPr>
                    <a:xfrm>
                      <a:off x="3967920" y="5374800"/>
                      <a:ext cx="596160" cy="596520"/>
                    </a:xfrm>
                    <a:custGeom>
                      <a:avLst/>
                      <a:gdLst>
                        <a:gd name="textAreaLeft" fmla="*/ 0 w 596160"/>
                        <a:gd name="textAreaRight" fmla="*/ 596520 w 596160"/>
                        <a:gd name="textAreaTop" fmla="*/ 0 h 596520"/>
                        <a:gd name="textAreaBottom" fmla="*/ 596880 h 596520"/>
                      </a:gdLst>
                      <a:ahLst/>
                      <a:rect l="textAreaLeft" t="textAreaTop" r="textAreaRight" b="textAreaBottom"/>
                      <a:pathLst>
                        <a:path w="1668" h="1663">
                          <a:moveTo>
                            <a:pt x="0" y="1662"/>
                          </a:moveTo>
                          <a:lnTo>
                            <a:pt x="0" y="415"/>
                          </a:lnTo>
                          <a:lnTo>
                            <a:pt x="414" y="0"/>
                          </a:lnTo>
                          <a:lnTo>
                            <a:pt x="1667" y="0"/>
                          </a:lnTo>
                          <a:lnTo>
                            <a:pt x="1667" y="1247"/>
                          </a:lnTo>
                          <a:lnTo>
                            <a:pt x="1251" y="1662"/>
                          </a:lnTo>
                          <a:lnTo>
                            <a:pt x="0" y="1662"/>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Freeform 163"/>
                    <p:cNvSpPr/>
                    <p:nvPr/>
                  </p:nvSpPr>
                  <p:spPr>
                    <a:xfrm>
                      <a:off x="3967920" y="5374800"/>
                      <a:ext cx="596160" cy="148320"/>
                    </a:xfrm>
                    <a:custGeom>
                      <a:avLst/>
                      <a:gdLst>
                        <a:gd name="textAreaLeft" fmla="*/ 0 w 596160"/>
                        <a:gd name="textAreaRight" fmla="*/ 596520 w 596160"/>
                        <a:gd name="textAreaTop" fmla="*/ 0 h 148320"/>
                        <a:gd name="textAreaBottom" fmla="*/ 148680 h 148320"/>
                      </a:gdLst>
                      <a:ahLst/>
                      <a:rect l="textAreaLeft" t="textAreaTop" r="textAreaRight" b="textAreaBottom"/>
                      <a:pathLst>
                        <a:path w="1668" h="416">
                          <a:moveTo>
                            <a:pt x="0" y="415"/>
                          </a:moveTo>
                          <a:lnTo>
                            <a:pt x="414" y="0"/>
                          </a:lnTo>
                          <a:lnTo>
                            <a:pt x="1667" y="0"/>
                          </a:lnTo>
                          <a:lnTo>
                            <a:pt x="1251" y="415"/>
                          </a:lnTo>
                          <a:lnTo>
                            <a:pt x="0" y="415"/>
                          </a:lnTo>
                        </a:path>
                      </a:pathLst>
                    </a:custGeom>
                    <a:solidFill>
                      <a:srgbClr val="b1d3ff"/>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Freeform 164"/>
                    <p:cNvSpPr/>
                    <p:nvPr/>
                  </p:nvSpPr>
                  <p:spPr>
                    <a:xfrm>
                      <a:off x="4415400" y="5374800"/>
                      <a:ext cx="149760" cy="596520"/>
                    </a:xfrm>
                    <a:custGeom>
                      <a:avLst/>
                      <a:gdLst>
                        <a:gd name="textAreaLeft" fmla="*/ 0 w 149760"/>
                        <a:gd name="textAreaRight" fmla="*/ 150120 w 149760"/>
                        <a:gd name="textAreaTop" fmla="*/ 0 h 596520"/>
                        <a:gd name="textAreaBottom" fmla="*/ 596880 h 596520"/>
                      </a:gdLst>
                      <a:ahLst/>
                      <a:rect l="textAreaLeft" t="textAreaTop" r="textAreaRight" b="textAreaBottom"/>
                      <a:pathLst>
                        <a:path w="417" h="1663">
                          <a:moveTo>
                            <a:pt x="0" y="1662"/>
                          </a:moveTo>
                          <a:lnTo>
                            <a:pt x="0" y="415"/>
                          </a:lnTo>
                          <a:lnTo>
                            <a:pt x="416" y="0"/>
                          </a:lnTo>
                          <a:lnTo>
                            <a:pt x="416" y="1247"/>
                          </a:lnTo>
                          <a:lnTo>
                            <a:pt x="0" y="1662"/>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44" name="Group 165"/>
                  <p:cNvGrpSpPr/>
                  <p:nvPr/>
                </p:nvGrpSpPr>
                <p:grpSpPr>
                  <a:xfrm>
                    <a:off x="4104000" y="5262120"/>
                    <a:ext cx="461160" cy="122040"/>
                    <a:chOff x="4104000" y="5262120"/>
                    <a:chExt cx="461160" cy="122040"/>
                  </a:xfrm>
                </p:grpSpPr>
                <p:sp>
                  <p:nvSpPr>
                    <p:cNvPr id="745" name="Freeform 166"/>
                    <p:cNvSpPr/>
                    <p:nvPr/>
                  </p:nvSpPr>
                  <p:spPr>
                    <a:xfrm>
                      <a:off x="4104000" y="5262120"/>
                      <a:ext cx="461160" cy="122040"/>
                    </a:xfrm>
                    <a:custGeom>
                      <a:avLst/>
                      <a:gdLst>
                        <a:gd name="textAreaLeft" fmla="*/ 0 w 461160"/>
                        <a:gd name="textAreaRight" fmla="*/ 461520 w 461160"/>
                        <a:gd name="textAreaTop" fmla="*/ 0 h 122040"/>
                        <a:gd name="textAreaBottom" fmla="*/ 122400 h 122040"/>
                      </a:gdLst>
                      <a:ahLst/>
                      <a:rect l="textAreaLeft" t="textAreaTop" r="textAreaRight" b="textAreaBottom"/>
                      <a:pathLst>
                        <a:path w="1289" h="345">
                          <a:moveTo>
                            <a:pt x="0" y="344"/>
                          </a:moveTo>
                          <a:lnTo>
                            <a:pt x="0" y="85"/>
                          </a:lnTo>
                          <a:lnTo>
                            <a:pt x="85" y="0"/>
                          </a:lnTo>
                          <a:lnTo>
                            <a:pt x="1288" y="0"/>
                          </a:lnTo>
                          <a:lnTo>
                            <a:pt x="1288" y="257"/>
                          </a:lnTo>
                          <a:lnTo>
                            <a:pt x="1201" y="344"/>
                          </a:lnTo>
                          <a:lnTo>
                            <a:pt x="0" y="344"/>
                          </a:lnTo>
                        </a:path>
                      </a:pathLst>
                    </a:custGeom>
                    <a:solidFill>
                      <a:srgbClr val="a2c1fe"/>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6" name="Freeform 167"/>
                    <p:cNvSpPr/>
                    <p:nvPr/>
                  </p:nvSpPr>
                  <p:spPr>
                    <a:xfrm>
                      <a:off x="4104000" y="5262120"/>
                      <a:ext cx="461160" cy="31320"/>
                    </a:xfrm>
                    <a:custGeom>
                      <a:avLst/>
                      <a:gdLst>
                        <a:gd name="textAreaLeft" fmla="*/ 0 w 461160"/>
                        <a:gd name="textAreaRight" fmla="*/ 461520 w 461160"/>
                        <a:gd name="textAreaTop" fmla="*/ 0 h 31320"/>
                        <a:gd name="textAreaBottom" fmla="*/ 31680 h 31320"/>
                      </a:gdLst>
                      <a:ahLst/>
                      <a:rect l="textAreaLeft" t="textAreaTop" r="textAreaRight" b="textAreaBottom"/>
                      <a:pathLst>
                        <a:path w="1289" h="86">
                          <a:moveTo>
                            <a:pt x="0" y="85"/>
                          </a:moveTo>
                          <a:lnTo>
                            <a:pt x="85" y="0"/>
                          </a:lnTo>
                          <a:lnTo>
                            <a:pt x="1288" y="0"/>
                          </a:lnTo>
                          <a:lnTo>
                            <a:pt x="1201" y="85"/>
                          </a:lnTo>
                          <a:lnTo>
                            <a:pt x="0" y="85"/>
                          </a:lnTo>
                        </a:path>
                      </a:pathLst>
                    </a:custGeom>
                    <a:solidFill>
                      <a:srgbClr val="b1d3ff"/>
                    </a:solidFill>
                    <a:ln w="12600">
                      <a:solidFill>
                        <a:srgbClr val="000000"/>
                      </a:solidFill>
                      <a:round/>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747" name="Freeform 168"/>
                    <p:cNvSpPr/>
                    <p:nvPr/>
                  </p:nvSpPr>
                  <p:spPr>
                    <a:xfrm>
                      <a:off x="4533120" y="5262120"/>
                      <a:ext cx="31680" cy="122040"/>
                    </a:xfrm>
                    <a:custGeom>
                      <a:avLst/>
                      <a:gdLst>
                        <a:gd name="textAreaLeft" fmla="*/ 0 w 31680"/>
                        <a:gd name="textAreaRight" fmla="*/ 32040 w 31680"/>
                        <a:gd name="textAreaTop" fmla="*/ 0 h 122040"/>
                        <a:gd name="textAreaBottom" fmla="*/ 122400 h 122040"/>
                      </a:gdLst>
                      <a:ahLst/>
                      <a:rect l="textAreaLeft" t="textAreaTop" r="textAreaRight" b="textAreaBottom"/>
                      <a:pathLst>
                        <a:path w="88" h="345">
                          <a:moveTo>
                            <a:pt x="0" y="344"/>
                          </a:moveTo>
                          <a:lnTo>
                            <a:pt x="0" y="85"/>
                          </a:lnTo>
                          <a:lnTo>
                            <a:pt x="87" y="0"/>
                          </a:lnTo>
                          <a:lnTo>
                            <a:pt x="87" y="257"/>
                          </a:lnTo>
                          <a:lnTo>
                            <a:pt x="0" y="344"/>
                          </a:lnTo>
                        </a:path>
                      </a:pathLst>
                    </a:custGeom>
                    <a:solidFill>
                      <a:srgbClr val="8ba5da"/>
                    </a:solidFill>
                    <a:ln w="126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48" name="Oval 169"/>
                <p:cNvSpPr/>
                <p:nvPr/>
              </p:nvSpPr>
              <p:spPr>
                <a:xfrm>
                  <a:off x="4150080" y="5319000"/>
                  <a:ext cx="77400" cy="42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170"/>
                <p:cNvSpPr/>
                <p:nvPr/>
              </p:nvSpPr>
              <p:spPr>
                <a:xfrm>
                  <a:off x="4042080" y="5652360"/>
                  <a:ext cx="313560" cy="133200"/>
                </a:xfrm>
                <a:custGeom>
                  <a:avLst/>
                  <a:gdLst>
                    <a:gd name="textAreaLeft" fmla="*/ 0 w 313560"/>
                    <a:gd name="textAreaRight" fmla="*/ 313920 w 313560"/>
                    <a:gd name="textAreaTop" fmla="*/ 0 h 133200"/>
                    <a:gd name="textAreaBottom" fmla="*/ 133560 h 133200"/>
                  </a:gdLst>
                  <a:ahLst/>
                  <a:rect l="textAreaLeft" t="textAreaTop" r="textAreaRight" b="textAreaBottom"/>
                  <a:pathLst>
                    <a:path w="874" h="372">
                      <a:moveTo>
                        <a:pt x="107" y="0"/>
                      </a:moveTo>
                      <a:lnTo>
                        <a:pt x="764" y="0"/>
                      </a:lnTo>
                      <a:lnTo>
                        <a:pt x="873" y="107"/>
                      </a:lnTo>
                      <a:lnTo>
                        <a:pt x="873" y="262"/>
                      </a:lnTo>
                      <a:lnTo>
                        <a:pt x="764" y="371"/>
                      </a:lnTo>
                      <a:lnTo>
                        <a:pt x="107" y="371"/>
                      </a:lnTo>
                      <a:lnTo>
                        <a:pt x="0" y="262"/>
                      </a:lnTo>
                      <a:lnTo>
                        <a:pt x="0" y="107"/>
                      </a:lnTo>
                      <a:lnTo>
                        <a:pt x="107" y="0"/>
                      </a:lnTo>
                    </a:path>
                  </a:pathLst>
                </a:custGeom>
                <a:solidFill>
                  <a:srgbClr val="a2c1fe"/>
                </a:solidFill>
                <a:ln w="255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50" name="Freeform 171"/>
              <p:cNvSpPr/>
              <p:nvPr/>
            </p:nvSpPr>
            <p:spPr>
              <a:xfrm>
                <a:off x="4862160" y="5625360"/>
                <a:ext cx="134640" cy="303120"/>
              </a:xfrm>
              <a:custGeom>
                <a:avLst/>
                <a:gdLst>
                  <a:gd name="textAreaLeft" fmla="*/ 0 w 134640"/>
                  <a:gd name="textAreaRight" fmla="*/ 135000 w 134640"/>
                  <a:gd name="textAreaTop" fmla="*/ 0 h 303120"/>
                  <a:gd name="textAreaBottom" fmla="*/ 303480 h 303120"/>
                </a:gdLst>
                <a:ahLst/>
                <a:rect l="textAreaLeft" t="textAreaTop" r="textAreaRight" b="textAreaBottom"/>
                <a:pathLst>
                  <a:path w="376" h="844">
                    <a:moveTo>
                      <a:pt x="273" y="0"/>
                    </a:moveTo>
                    <a:lnTo>
                      <a:pt x="375" y="0"/>
                    </a:lnTo>
                    <a:lnTo>
                      <a:pt x="101" y="843"/>
                    </a:lnTo>
                    <a:lnTo>
                      <a:pt x="0" y="843"/>
                    </a:lnTo>
                    <a:lnTo>
                      <a:pt x="273" y="0"/>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1" name="AutoShape 172"/>
              <p:cNvSpPr/>
              <p:nvPr/>
            </p:nvSpPr>
            <p:spPr>
              <a:xfrm>
                <a:off x="4855680" y="5625360"/>
                <a:ext cx="16812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AutoShape 173"/>
              <p:cNvSpPr/>
              <p:nvPr/>
            </p:nvSpPr>
            <p:spPr>
              <a:xfrm>
                <a:off x="4866840" y="5753880"/>
                <a:ext cx="129960" cy="25200"/>
              </a:xfrm>
              <a:prstGeom prst="roundRect">
                <a:avLst>
                  <a:gd name="adj" fmla="val 6250"/>
                </a:avLst>
              </a:prstGeom>
              <a:solidFill>
                <a:srgbClr val="fc0128"/>
              </a:solidFill>
              <a:ln w="0">
                <a:noFill/>
              </a:ln>
            </p:spPr>
            <p:style>
              <a:lnRef idx="0"/>
              <a:fillRef idx="0"/>
              <a:effectRef idx="0"/>
              <a:fontRef idx="minor"/>
            </p:style>
            <p:txBody>
              <a:bodyPr wrap="none" lIns="90000" rIns="90000" tIns="-22320" bIns="-22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AutoShape 174"/>
              <p:cNvSpPr/>
              <p:nvPr/>
            </p:nvSpPr>
            <p:spPr>
              <a:xfrm>
                <a:off x="4576680" y="5753880"/>
                <a:ext cx="163080" cy="17280"/>
              </a:xfrm>
              <a:prstGeom prst="roundRect">
                <a:avLst>
                  <a:gd name="adj" fmla="val 10000"/>
                </a:avLst>
              </a:prstGeom>
              <a:solidFill>
                <a:srgbClr val="fc0128"/>
              </a:solidFill>
              <a:ln w="0">
                <a:noFill/>
              </a:ln>
            </p:spPr>
            <p:style>
              <a:lnRef idx="0"/>
              <a:fillRef idx="0"/>
              <a:effectRef idx="0"/>
              <a:fontRef idx="minor"/>
            </p:style>
            <p:txBody>
              <a:bodyPr wrap="none" lIns="90000" rIns="90000" tIns="-30240" bIns="-30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4" name="Group 175"/>
              <p:cNvGrpSpPr/>
              <p:nvPr/>
            </p:nvGrpSpPr>
            <p:grpSpPr>
              <a:xfrm>
                <a:off x="4573440" y="5352480"/>
                <a:ext cx="306000" cy="575640"/>
                <a:chOff x="4573440" y="5352480"/>
                <a:chExt cx="306000" cy="575640"/>
              </a:xfrm>
            </p:grpSpPr>
            <p:sp>
              <p:nvSpPr>
                <p:cNvPr id="755" name="Oval 176"/>
                <p:cNvSpPr/>
                <p:nvPr/>
              </p:nvSpPr>
              <p:spPr>
                <a:xfrm>
                  <a:off x="4692960" y="5352480"/>
                  <a:ext cx="77400" cy="75240"/>
                </a:xfrm>
                <a:prstGeom prst="ellipse">
                  <a:avLst/>
                </a:prstGeom>
                <a:solidFill>
                  <a:srgbClr val="fc0128"/>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177"/>
                <p:cNvSpPr/>
                <p:nvPr/>
              </p:nvSpPr>
              <p:spPr>
                <a:xfrm>
                  <a:off x="4573440" y="5461200"/>
                  <a:ext cx="306000" cy="466920"/>
                </a:xfrm>
                <a:custGeom>
                  <a:avLst/>
                  <a:gdLst>
                    <a:gd name="textAreaLeft" fmla="*/ 0 w 306000"/>
                    <a:gd name="textAreaRight" fmla="*/ 306360 w 306000"/>
                    <a:gd name="textAreaTop" fmla="*/ 0 h 466920"/>
                    <a:gd name="textAreaBottom" fmla="*/ 467280 h 466920"/>
                  </a:gdLst>
                  <a:ahLst/>
                  <a:rect l="textAreaLeft" t="textAreaTop" r="textAreaRight" b="textAreaBottom"/>
                  <a:pathLst>
                    <a:path w="857" h="1304">
                      <a:moveTo>
                        <a:pt x="235" y="101"/>
                      </a:moveTo>
                      <a:lnTo>
                        <a:pt x="8" y="605"/>
                      </a:lnTo>
                      <a:lnTo>
                        <a:pt x="4" y="609"/>
                      </a:lnTo>
                      <a:lnTo>
                        <a:pt x="4" y="618"/>
                      </a:lnTo>
                      <a:lnTo>
                        <a:pt x="0" y="627"/>
                      </a:lnTo>
                      <a:lnTo>
                        <a:pt x="0" y="640"/>
                      </a:lnTo>
                      <a:lnTo>
                        <a:pt x="0" y="649"/>
                      </a:lnTo>
                      <a:lnTo>
                        <a:pt x="0" y="662"/>
                      </a:lnTo>
                      <a:lnTo>
                        <a:pt x="4" y="671"/>
                      </a:lnTo>
                      <a:lnTo>
                        <a:pt x="8" y="684"/>
                      </a:lnTo>
                      <a:lnTo>
                        <a:pt x="13" y="693"/>
                      </a:lnTo>
                      <a:lnTo>
                        <a:pt x="17" y="702"/>
                      </a:lnTo>
                      <a:lnTo>
                        <a:pt x="26" y="711"/>
                      </a:lnTo>
                      <a:lnTo>
                        <a:pt x="35" y="720"/>
                      </a:lnTo>
                      <a:lnTo>
                        <a:pt x="44" y="724"/>
                      </a:lnTo>
                      <a:lnTo>
                        <a:pt x="53" y="729"/>
                      </a:lnTo>
                      <a:lnTo>
                        <a:pt x="61" y="729"/>
                      </a:lnTo>
                      <a:lnTo>
                        <a:pt x="70" y="733"/>
                      </a:lnTo>
                      <a:lnTo>
                        <a:pt x="79" y="733"/>
                      </a:lnTo>
                      <a:lnTo>
                        <a:pt x="92" y="733"/>
                      </a:lnTo>
                      <a:lnTo>
                        <a:pt x="559" y="733"/>
                      </a:lnTo>
                      <a:lnTo>
                        <a:pt x="559" y="1303"/>
                      </a:lnTo>
                      <a:lnTo>
                        <a:pt x="705" y="1303"/>
                      </a:lnTo>
                      <a:lnTo>
                        <a:pt x="705" y="627"/>
                      </a:lnTo>
                      <a:lnTo>
                        <a:pt x="705" y="618"/>
                      </a:lnTo>
                      <a:lnTo>
                        <a:pt x="705" y="609"/>
                      </a:lnTo>
                      <a:lnTo>
                        <a:pt x="700" y="605"/>
                      </a:lnTo>
                      <a:lnTo>
                        <a:pt x="696" y="601"/>
                      </a:lnTo>
                      <a:lnTo>
                        <a:pt x="692" y="596"/>
                      </a:lnTo>
                      <a:lnTo>
                        <a:pt x="683" y="587"/>
                      </a:lnTo>
                      <a:lnTo>
                        <a:pt x="678" y="583"/>
                      </a:lnTo>
                      <a:lnTo>
                        <a:pt x="674" y="578"/>
                      </a:lnTo>
                      <a:lnTo>
                        <a:pt x="665" y="578"/>
                      </a:lnTo>
                      <a:lnTo>
                        <a:pt x="656" y="574"/>
                      </a:lnTo>
                      <a:lnTo>
                        <a:pt x="647" y="574"/>
                      </a:lnTo>
                      <a:lnTo>
                        <a:pt x="639" y="570"/>
                      </a:lnTo>
                      <a:lnTo>
                        <a:pt x="630" y="570"/>
                      </a:lnTo>
                      <a:lnTo>
                        <a:pt x="621" y="570"/>
                      </a:lnTo>
                      <a:lnTo>
                        <a:pt x="617" y="570"/>
                      </a:lnTo>
                      <a:lnTo>
                        <a:pt x="608" y="570"/>
                      </a:lnTo>
                      <a:lnTo>
                        <a:pt x="337" y="552"/>
                      </a:lnTo>
                      <a:lnTo>
                        <a:pt x="412" y="330"/>
                      </a:lnTo>
                      <a:lnTo>
                        <a:pt x="465" y="410"/>
                      </a:lnTo>
                      <a:lnTo>
                        <a:pt x="794" y="410"/>
                      </a:lnTo>
                      <a:lnTo>
                        <a:pt x="803" y="405"/>
                      </a:lnTo>
                      <a:lnTo>
                        <a:pt x="812" y="405"/>
                      </a:lnTo>
                      <a:lnTo>
                        <a:pt x="816" y="401"/>
                      </a:lnTo>
                      <a:lnTo>
                        <a:pt x="821" y="401"/>
                      </a:lnTo>
                      <a:lnTo>
                        <a:pt x="830" y="397"/>
                      </a:lnTo>
                      <a:lnTo>
                        <a:pt x="838" y="392"/>
                      </a:lnTo>
                      <a:lnTo>
                        <a:pt x="843" y="383"/>
                      </a:lnTo>
                      <a:lnTo>
                        <a:pt x="847" y="379"/>
                      </a:lnTo>
                      <a:lnTo>
                        <a:pt x="852" y="370"/>
                      </a:lnTo>
                      <a:lnTo>
                        <a:pt x="852" y="366"/>
                      </a:lnTo>
                      <a:lnTo>
                        <a:pt x="856" y="357"/>
                      </a:lnTo>
                      <a:lnTo>
                        <a:pt x="856" y="344"/>
                      </a:lnTo>
                      <a:lnTo>
                        <a:pt x="856" y="335"/>
                      </a:lnTo>
                      <a:lnTo>
                        <a:pt x="852" y="326"/>
                      </a:lnTo>
                      <a:lnTo>
                        <a:pt x="847" y="317"/>
                      </a:lnTo>
                      <a:lnTo>
                        <a:pt x="843" y="308"/>
                      </a:lnTo>
                      <a:lnTo>
                        <a:pt x="838" y="304"/>
                      </a:lnTo>
                      <a:lnTo>
                        <a:pt x="834" y="300"/>
                      </a:lnTo>
                      <a:lnTo>
                        <a:pt x="825" y="291"/>
                      </a:lnTo>
                      <a:lnTo>
                        <a:pt x="816" y="286"/>
                      </a:lnTo>
                      <a:lnTo>
                        <a:pt x="816" y="282"/>
                      </a:lnTo>
                      <a:lnTo>
                        <a:pt x="803" y="282"/>
                      </a:lnTo>
                      <a:lnTo>
                        <a:pt x="794" y="282"/>
                      </a:lnTo>
                      <a:lnTo>
                        <a:pt x="541" y="282"/>
                      </a:lnTo>
                      <a:lnTo>
                        <a:pt x="487" y="194"/>
                      </a:lnTo>
                      <a:lnTo>
                        <a:pt x="496" y="185"/>
                      </a:lnTo>
                      <a:lnTo>
                        <a:pt x="501" y="172"/>
                      </a:lnTo>
                      <a:lnTo>
                        <a:pt x="501" y="163"/>
                      </a:lnTo>
                      <a:lnTo>
                        <a:pt x="505" y="150"/>
                      </a:lnTo>
                      <a:lnTo>
                        <a:pt x="505" y="132"/>
                      </a:lnTo>
                      <a:lnTo>
                        <a:pt x="505" y="123"/>
                      </a:lnTo>
                      <a:lnTo>
                        <a:pt x="505" y="105"/>
                      </a:lnTo>
                      <a:lnTo>
                        <a:pt x="501" y="97"/>
                      </a:lnTo>
                      <a:lnTo>
                        <a:pt x="496" y="83"/>
                      </a:lnTo>
                      <a:lnTo>
                        <a:pt x="492" y="75"/>
                      </a:lnTo>
                      <a:lnTo>
                        <a:pt x="487" y="66"/>
                      </a:lnTo>
                      <a:lnTo>
                        <a:pt x="483" y="57"/>
                      </a:lnTo>
                      <a:lnTo>
                        <a:pt x="474" y="44"/>
                      </a:lnTo>
                      <a:lnTo>
                        <a:pt x="465" y="39"/>
                      </a:lnTo>
                      <a:lnTo>
                        <a:pt x="457" y="30"/>
                      </a:lnTo>
                      <a:lnTo>
                        <a:pt x="448" y="22"/>
                      </a:lnTo>
                      <a:lnTo>
                        <a:pt x="434" y="13"/>
                      </a:lnTo>
                      <a:lnTo>
                        <a:pt x="426" y="13"/>
                      </a:lnTo>
                      <a:lnTo>
                        <a:pt x="412" y="4"/>
                      </a:lnTo>
                      <a:lnTo>
                        <a:pt x="399" y="4"/>
                      </a:lnTo>
                      <a:lnTo>
                        <a:pt x="386" y="0"/>
                      </a:lnTo>
                      <a:lnTo>
                        <a:pt x="373" y="0"/>
                      </a:lnTo>
                      <a:lnTo>
                        <a:pt x="359" y="0"/>
                      </a:lnTo>
                      <a:lnTo>
                        <a:pt x="346" y="0"/>
                      </a:lnTo>
                      <a:lnTo>
                        <a:pt x="333" y="4"/>
                      </a:lnTo>
                      <a:lnTo>
                        <a:pt x="319" y="8"/>
                      </a:lnTo>
                      <a:lnTo>
                        <a:pt x="305" y="13"/>
                      </a:lnTo>
                      <a:lnTo>
                        <a:pt x="292" y="17"/>
                      </a:lnTo>
                      <a:lnTo>
                        <a:pt x="279" y="26"/>
                      </a:lnTo>
                      <a:lnTo>
                        <a:pt x="270" y="39"/>
                      </a:lnTo>
                      <a:lnTo>
                        <a:pt x="261" y="48"/>
                      </a:lnTo>
                      <a:lnTo>
                        <a:pt x="252" y="57"/>
                      </a:lnTo>
                      <a:lnTo>
                        <a:pt x="243" y="75"/>
                      </a:lnTo>
                      <a:lnTo>
                        <a:pt x="235" y="83"/>
                      </a:lnTo>
                      <a:lnTo>
                        <a:pt x="235" y="101"/>
                      </a:lnTo>
                    </a:path>
                  </a:pathLst>
                </a:custGeom>
                <a:solidFill>
                  <a:srgbClr val="fc0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583"/>
                                        </p:tgtEl>
                                        <p:attrNameLst>
                                          <p:attrName>style.visibility</p:attrName>
                                        </p:attrNameLst>
                                      </p:cBhvr>
                                      <p:to>
                                        <p:strVal val="visible"/>
                                      </p:to>
                                    </p:set>
                                  </p:childTnLst>
                                </p:cTn>
                              </p:par>
                              <p:par>
                                <p:cTn id="42" nodeType="withEffect" fill="hold" presetClass="entr" presetID="1">
                                  <p:stCondLst>
                                    <p:cond delay="0"/>
                                  </p:stCondLst>
                                  <p:childTnLst>
                                    <p:set>
                                      <p:cBhvr>
                                        <p:cTn id="43" dur="1" fill="hold">
                                          <p:stCondLst>
                                            <p:cond delay="0"/>
                                          </p:stCondLst>
                                        </p:cTn>
                                        <p:tgtEl>
                                          <p:spTgt spid="586"/>
                                        </p:tgtEl>
                                        <p:attrNameLst>
                                          <p:attrName>style.visibility</p:attrName>
                                        </p:attrNameLst>
                                      </p:cBhvr>
                                      <p:to>
                                        <p:strVal val="visible"/>
                                      </p:to>
                                    </p:set>
                                  </p:childTnLst>
                                </p:cTn>
                              </p:par>
                              <p:par>
                                <p:cTn id="44" nodeType="withEffect" fill="hold" presetClass="entr" presetID="1">
                                  <p:stCondLst>
                                    <p:cond delay="0"/>
                                  </p:stCondLst>
                                  <p:childTnLst>
                                    <p:set>
                                      <p:cBhvr>
                                        <p:cTn id="45" dur="1" fill="hold">
                                          <p:stCondLst>
                                            <p:cond delay="0"/>
                                          </p:stCondLst>
                                        </p:cTn>
                                        <p:tgtEl>
                                          <p:spTgt spid="589"/>
                                        </p:tgtEl>
                                        <p:attrNameLst>
                                          <p:attrName>style.visibility</p:attrName>
                                        </p:attrNameLst>
                                      </p:cBhvr>
                                      <p:to>
                                        <p:strVal val="visible"/>
                                      </p:to>
                                    </p:set>
                                  </p:childTnLst>
                                </p:cTn>
                              </p:par>
                              <p:par>
                                <p:cTn id="46" nodeType="withEffect" fill="hold" presetClass="entr" presetID="1">
                                  <p:stCondLst>
                                    <p:cond delay="0"/>
                                  </p:stCondLst>
                                  <p:childTnLst>
                                    <p:set>
                                      <p:cBhvr>
                                        <p:cTn id="47" dur="1" fill="hold">
                                          <p:stCondLst>
                                            <p:cond delay="0"/>
                                          </p:stCondLst>
                                        </p:cTn>
                                        <p:tgtEl>
                                          <p:spTgt spid="592"/>
                                        </p:tgtEl>
                                        <p:attrNameLst>
                                          <p:attrName>style.visibility</p:attrName>
                                        </p:attrNameLst>
                                      </p:cBhvr>
                                      <p:to>
                                        <p:strVal val="visible"/>
                                      </p:to>
                                    </p:set>
                                  </p:childTnLst>
                                </p:cTn>
                              </p:par>
                              <p:par>
                                <p:cTn id="48" nodeType="withEffect" fill="hold" presetClass="entr" presetID="1">
                                  <p:stCondLst>
                                    <p:cond delay="0"/>
                                  </p:stCondLst>
                                  <p:childTnLst>
                                    <p:set>
                                      <p:cBhvr>
                                        <p:cTn id="49" dur="1" fill="hold">
                                          <p:stCondLst>
                                            <p:cond delay="0"/>
                                          </p:stCondLst>
                                        </p:cTn>
                                        <p:tgtEl>
                                          <p:spTgt spid="595"/>
                                        </p:tgtEl>
                                        <p:attrNameLst>
                                          <p:attrName>style.visibility</p:attrName>
                                        </p:attrNameLst>
                                      </p:cBhvr>
                                      <p:to>
                                        <p:strVal val="visible"/>
                                      </p:to>
                                    </p:set>
                                  </p:childTnLst>
                                </p:cTn>
                              </p:par>
                              <p:par>
                                <p:cTn id="50" nodeType="withEffect" fill="hold" presetClass="entr" presetID="1">
                                  <p:stCondLst>
                                    <p:cond delay="0"/>
                                  </p:stCondLst>
                                  <p:childTnLst>
                                    <p:set>
                                      <p:cBhvr>
                                        <p:cTn id="51" dur="1" fill="hold">
                                          <p:stCondLst>
                                            <p:cond delay="0"/>
                                          </p:stCondLst>
                                        </p:cTn>
                                        <p:tgtEl>
                                          <p:spTgt spid="596"/>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597"/>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598"/>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599"/>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600"/>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601"/>
                                        </p:tgtEl>
                                        <p:attrNameLst>
                                          <p:attrName>style.visibility</p:attrName>
                                        </p:attrNameLst>
                                      </p:cBhvr>
                                      <p:to>
                                        <p:strVal val="visible"/>
                                      </p:to>
                                    </p:set>
                                  </p:childTnLst>
                                </p:cTn>
                              </p:par>
                              <p:par>
                                <p:cTn id="62" nodeType="withEffect" fill="hold" presetClass="entr" presetID="1">
                                  <p:stCondLst>
                                    <p:cond delay="0"/>
                                  </p:stCondLst>
                                  <p:childTnLst>
                                    <p:set>
                                      <p:cBhvr>
                                        <p:cTn id="63" dur="1" fill="hold">
                                          <p:stCondLst>
                                            <p:cond delay="0"/>
                                          </p:stCondLst>
                                        </p:cTn>
                                        <p:tgtEl>
                                          <p:spTgt spid="602"/>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0"/>
                                          </p:stCondLst>
                                        </p:cTn>
                                        <p:tgtEl>
                                          <p:spTgt spid="603"/>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604"/>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632"/>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582">
                                            <p:txEl>
                                              <p:pRg st="0" end="0"/>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582">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582">
                                            <p:txEl>
                                              <p:pRg st="2" end="2"/>
                                            </p:txEl>
                                          </p:spTgt>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582">
                                            <p:txEl>
                                              <p:pRg st="3" end="3"/>
                                            </p:txEl>
                                          </p:spTgt>
                                        </p:tgtEl>
                                        <p:attrNameLst>
                                          <p:attrName>style.visibility</p:attrName>
                                        </p:attrNameLst>
                                      </p:cBhvr>
                                      <p:to>
                                        <p:strVal val="visible"/>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582">
                                            <p:txEl>
                                              <p:pRg st="4" end="4"/>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582">
                                            <p:txEl>
                                              <p:pRg st="5" end="5"/>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58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ea typeface="SimSun"/>
              </a:rPr>
              <a:t>Use the Idea of Pipelining in a Computer</a:t>
            </a:r>
            <a:endParaRPr b="1" lang="en-US" sz="3900" spc="-1" strike="noStrike">
              <a:solidFill>
                <a:srgbClr val="330066"/>
              </a:solidFill>
              <a:latin typeface="Arial"/>
            </a:endParaRPr>
          </a:p>
        </p:txBody>
      </p:sp>
      <p:sp>
        <p:nvSpPr>
          <p:cNvPr id="758" name="Freeform 4"/>
          <p:cNvSpPr/>
          <p:nvPr/>
        </p:nvSpPr>
        <p:spPr>
          <a:xfrm>
            <a:off x="2479680" y="4975200"/>
            <a:ext cx="754200" cy="244440"/>
          </a:xfrm>
          <a:custGeom>
            <a:avLst/>
            <a:gdLst>
              <a:gd name="textAreaLeft" fmla="*/ 0 w 754200"/>
              <a:gd name="textAreaRight" fmla="*/ 754560 w 754200"/>
              <a:gd name="textAreaTop" fmla="*/ 0 h 244440"/>
              <a:gd name="textAreaBottom" fmla="*/ 244800 h 244440"/>
            </a:gdLst>
            <a:ahLst/>
            <a:rect l="textAreaLeft" t="textAreaTop" r="textAreaRight" b="textAreaBottom"/>
            <a:pathLst>
              <a:path w="43" h="14">
                <a:moveTo>
                  <a:pt x="0" y="10"/>
                </a:moveTo>
                <a:lnTo>
                  <a:pt x="32" y="10"/>
                </a:lnTo>
                <a:lnTo>
                  <a:pt x="32" y="14"/>
                </a:lnTo>
                <a:lnTo>
                  <a:pt x="43" y="7"/>
                </a:lnTo>
                <a:lnTo>
                  <a:pt x="32" y="0"/>
                </a:lnTo>
                <a:lnTo>
                  <a:pt x="32" y="3"/>
                </a:lnTo>
                <a:lnTo>
                  <a:pt x="0" y="3"/>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5"/>
          <p:cNvSpPr/>
          <p:nvPr/>
        </p:nvSpPr>
        <p:spPr>
          <a:xfrm>
            <a:off x="1496880" y="4975200"/>
            <a:ext cx="736560" cy="244440"/>
          </a:xfrm>
          <a:custGeom>
            <a:avLst/>
            <a:gdLst>
              <a:gd name="textAreaLeft" fmla="*/ 0 w 736560"/>
              <a:gd name="textAreaRight" fmla="*/ 736920 w 736560"/>
              <a:gd name="textAreaTop" fmla="*/ 0 h 244440"/>
              <a:gd name="textAreaBottom" fmla="*/ 244800 h 244440"/>
            </a:gdLst>
            <a:ahLst/>
            <a:rect l="textAreaLeft" t="textAreaTop" r="textAreaRight" b="textAreaBottom"/>
            <a:pathLst>
              <a:path w="42" h="14">
                <a:moveTo>
                  <a:pt x="0" y="10"/>
                </a:moveTo>
                <a:lnTo>
                  <a:pt x="32" y="10"/>
                </a:lnTo>
                <a:lnTo>
                  <a:pt x="32" y="14"/>
                </a:lnTo>
                <a:lnTo>
                  <a:pt x="42" y="7"/>
                </a:lnTo>
                <a:lnTo>
                  <a:pt x="32" y="0"/>
                </a:lnTo>
                <a:lnTo>
                  <a:pt x="32" y="3"/>
                </a:lnTo>
                <a:lnTo>
                  <a:pt x="0" y="3"/>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Rectangle 6"/>
          <p:cNvSpPr/>
          <p:nvPr/>
        </p:nvSpPr>
        <p:spPr>
          <a:xfrm>
            <a:off x="372960" y="2746440"/>
            <a:ext cx="3579840" cy="4032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Line 7"/>
          <p:cNvSpPr/>
          <p:nvPr/>
        </p:nvSpPr>
        <p:spPr>
          <a:xfrm flipV="1">
            <a:off x="969840" y="2746440"/>
            <a:ext cx="1800" cy="40320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Line 8"/>
          <p:cNvSpPr/>
          <p:nvPr/>
        </p:nvSpPr>
        <p:spPr>
          <a:xfrm>
            <a:off x="1566720" y="2746440"/>
            <a:ext cx="1800" cy="40320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Line 9"/>
          <p:cNvSpPr/>
          <p:nvPr/>
        </p:nvSpPr>
        <p:spPr>
          <a:xfrm flipV="1">
            <a:off x="2163600" y="2746440"/>
            <a:ext cx="1800" cy="40320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Line 10"/>
          <p:cNvSpPr/>
          <p:nvPr/>
        </p:nvSpPr>
        <p:spPr>
          <a:xfrm>
            <a:off x="3355920" y="2746440"/>
            <a:ext cx="1800" cy="40320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Line 11"/>
          <p:cNvSpPr/>
          <p:nvPr/>
        </p:nvSpPr>
        <p:spPr>
          <a:xfrm flipV="1">
            <a:off x="2759040" y="2746440"/>
            <a:ext cx="1800" cy="40320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Line 12"/>
          <p:cNvSpPr/>
          <p:nvPr/>
        </p:nvSpPr>
        <p:spPr>
          <a:xfrm flipH="1">
            <a:off x="3952440" y="2746440"/>
            <a:ext cx="211320" cy="1440"/>
          </a:xfrm>
          <a:prstGeom prst="line">
            <a:avLst/>
          </a:prstGeom>
          <a:ln w="176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7" name="Line 13"/>
          <p:cNvSpPr/>
          <p:nvPr/>
        </p:nvSpPr>
        <p:spPr>
          <a:xfrm flipH="1">
            <a:off x="3952440" y="3149640"/>
            <a:ext cx="211320" cy="1440"/>
          </a:xfrm>
          <a:prstGeom prst="line">
            <a:avLst/>
          </a:prstGeom>
          <a:ln w="17640">
            <a:solidFill>
              <a:srgbClr val="00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8" name="Freeform 14"/>
          <p:cNvSpPr/>
          <p:nvPr/>
        </p:nvSpPr>
        <p:spPr>
          <a:xfrm>
            <a:off x="407880" y="2552760"/>
            <a:ext cx="561960" cy="71280"/>
          </a:xfrm>
          <a:custGeom>
            <a:avLst/>
            <a:gdLst>
              <a:gd name="textAreaLeft" fmla="*/ 0 w 561960"/>
              <a:gd name="textAreaRight" fmla="*/ 562320 w 561960"/>
              <a:gd name="textAreaTop" fmla="*/ 0 h 71280"/>
              <a:gd name="textAreaBottom" fmla="*/ 71640 h 71280"/>
            </a:gdLst>
            <a:ahLst/>
            <a:rect l="textAreaLeft" t="textAreaTop" r="textAreaRight" b="textAreaBottom"/>
            <a:pathLst>
              <a:path w="32" h="4">
                <a:moveTo>
                  <a:pt x="0" y="4"/>
                </a:moveTo>
                <a:lnTo>
                  <a:pt x="0" y="3"/>
                </a:lnTo>
                <a:lnTo>
                  <a:pt x="1" y="3"/>
                </a:lnTo>
                <a:lnTo>
                  <a:pt x="1" y="3"/>
                </a:lnTo>
                <a:lnTo>
                  <a:pt x="2" y="2"/>
                </a:lnTo>
                <a:lnTo>
                  <a:pt x="2" y="2"/>
                </a:lnTo>
                <a:lnTo>
                  <a:pt x="11" y="2"/>
                </a:lnTo>
                <a:lnTo>
                  <a:pt x="16" y="2"/>
                </a:lnTo>
                <a:lnTo>
                  <a:pt x="20" y="2"/>
                </a:lnTo>
                <a:lnTo>
                  <a:pt x="30" y="2"/>
                </a:lnTo>
                <a:lnTo>
                  <a:pt x="30" y="2"/>
                </a:lnTo>
                <a:lnTo>
                  <a:pt x="31" y="2"/>
                </a:lnTo>
                <a:lnTo>
                  <a:pt x="31" y="1"/>
                </a:lnTo>
                <a:lnTo>
                  <a:pt x="32" y="0"/>
                </a:lnTo>
              </a:path>
            </a:pathLst>
          </a:custGeom>
          <a:noFill/>
          <a:ln w="176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69" name="Freeform 15"/>
          <p:cNvSpPr/>
          <p:nvPr/>
        </p:nvSpPr>
        <p:spPr>
          <a:xfrm>
            <a:off x="969840" y="2552760"/>
            <a:ext cx="579600" cy="71280"/>
          </a:xfrm>
          <a:custGeom>
            <a:avLst/>
            <a:gdLst>
              <a:gd name="textAreaLeft" fmla="*/ 0 w 579600"/>
              <a:gd name="textAreaRight" fmla="*/ 579960 w 579600"/>
              <a:gd name="textAreaTop" fmla="*/ 0 h 71280"/>
              <a:gd name="textAreaBottom" fmla="*/ 71640 h 71280"/>
            </a:gdLst>
            <a:ahLst/>
            <a:rect l="textAreaLeft" t="textAreaTop" r="textAreaRight" b="textAreaBottom"/>
            <a:pathLst>
              <a:path w="33" h="4">
                <a:moveTo>
                  <a:pt x="33" y="4"/>
                </a:moveTo>
                <a:lnTo>
                  <a:pt x="32" y="3"/>
                </a:lnTo>
                <a:lnTo>
                  <a:pt x="32" y="3"/>
                </a:lnTo>
                <a:lnTo>
                  <a:pt x="31" y="3"/>
                </a:lnTo>
                <a:lnTo>
                  <a:pt x="31" y="2"/>
                </a:lnTo>
                <a:lnTo>
                  <a:pt x="30" y="2"/>
                </a:lnTo>
                <a:lnTo>
                  <a:pt x="21" y="2"/>
                </a:lnTo>
                <a:lnTo>
                  <a:pt x="17" y="2"/>
                </a:lnTo>
                <a:lnTo>
                  <a:pt x="12" y="2"/>
                </a:lnTo>
                <a:lnTo>
                  <a:pt x="3" y="2"/>
                </a:lnTo>
                <a:lnTo>
                  <a:pt x="2" y="2"/>
                </a:lnTo>
                <a:lnTo>
                  <a:pt x="2" y="2"/>
                </a:lnTo>
                <a:lnTo>
                  <a:pt x="1" y="1"/>
                </a:lnTo>
                <a:lnTo>
                  <a:pt x="0" y="0"/>
                </a:lnTo>
              </a:path>
            </a:pathLst>
          </a:custGeom>
          <a:noFill/>
          <a:ln w="176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70" name="Freeform 16"/>
          <p:cNvSpPr/>
          <p:nvPr/>
        </p:nvSpPr>
        <p:spPr>
          <a:xfrm>
            <a:off x="1601640" y="2552760"/>
            <a:ext cx="561960" cy="71280"/>
          </a:xfrm>
          <a:custGeom>
            <a:avLst/>
            <a:gdLst>
              <a:gd name="textAreaLeft" fmla="*/ 0 w 561960"/>
              <a:gd name="textAreaRight" fmla="*/ 562320 w 561960"/>
              <a:gd name="textAreaTop" fmla="*/ 0 h 71280"/>
              <a:gd name="textAreaBottom" fmla="*/ 71640 h 71280"/>
            </a:gdLst>
            <a:ahLst/>
            <a:rect l="textAreaLeft" t="textAreaTop" r="textAreaRight" b="textAreaBottom"/>
            <a:pathLst>
              <a:path w="32" h="4">
                <a:moveTo>
                  <a:pt x="0" y="4"/>
                </a:moveTo>
                <a:lnTo>
                  <a:pt x="0" y="3"/>
                </a:lnTo>
                <a:lnTo>
                  <a:pt x="1" y="3"/>
                </a:lnTo>
                <a:lnTo>
                  <a:pt x="1" y="3"/>
                </a:lnTo>
                <a:lnTo>
                  <a:pt x="2" y="2"/>
                </a:lnTo>
                <a:lnTo>
                  <a:pt x="2" y="2"/>
                </a:lnTo>
                <a:lnTo>
                  <a:pt x="11" y="2"/>
                </a:lnTo>
                <a:lnTo>
                  <a:pt x="16" y="2"/>
                </a:lnTo>
                <a:lnTo>
                  <a:pt x="20" y="2"/>
                </a:lnTo>
                <a:lnTo>
                  <a:pt x="30" y="2"/>
                </a:lnTo>
                <a:lnTo>
                  <a:pt x="30" y="2"/>
                </a:lnTo>
                <a:lnTo>
                  <a:pt x="31" y="2"/>
                </a:lnTo>
                <a:lnTo>
                  <a:pt x="31" y="1"/>
                </a:lnTo>
                <a:lnTo>
                  <a:pt x="32" y="0"/>
                </a:lnTo>
              </a:path>
            </a:pathLst>
          </a:custGeom>
          <a:noFill/>
          <a:ln w="176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71" name="Freeform 17"/>
          <p:cNvSpPr/>
          <p:nvPr/>
        </p:nvSpPr>
        <p:spPr>
          <a:xfrm>
            <a:off x="2163600" y="2552760"/>
            <a:ext cx="578160" cy="71280"/>
          </a:xfrm>
          <a:custGeom>
            <a:avLst/>
            <a:gdLst>
              <a:gd name="textAreaLeft" fmla="*/ 0 w 578160"/>
              <a:gd name="textAreaRight" fmla="*/ 578520 w 578160"/>
              <a:gd name="textAreaTop" fmla="*/ 0 h 71280"/>
              <a:gd name="textAreaBottom" fmla="*/ 71640 h 71280"/>
            </a:gdLst>
            <a:ahLst/>
            <a:rect l="textAreaLeft" t="textAreaTop" r="textAreaRight" b="textAreaBottom"/>
            <a:pathLst>
              <a:path w="33" h="4">
                <a:moveTo>
                  <a:pt x="33" y="4"/>
                </a:moveTo>
                <a:lnTo>
                  <a:pt x="32" y="3"/>
                </a:lnTo>
                <a:lnTo>
                  <a:pt x="32" y="3"/>
                </a:lnTo>
                <a:lnTo>
                  <a:pt x="31" y="3"/>
                </a:lnTo>
                <a:lnTo>
                  <a:pt x="31" y="2"/>
                </a:lnTo>
                <a:lnTo>
                  <a:pt x="30" y="2"/>
                </a:lnTo>
                <a:lnTo>
                  <a:pt x="21" y="2"/>
                </a:lnTo>
                <a:lnTo>
                  <a:pt x="17" y="2"/>
                </a:lnTo>
                <a:lnTo>
                  <a:pt x="12" y="2"/>
                </a:lnTo>
                <a:lnTo>
                  <a:pt x="3" y="2"/>
                </a:lnTo>
                <a:lnTo>
                  <a:pt x="2" y="2"/>
                </a:lnTo>
                <a:lnTo>
                  <a:pt x="2" y="2"/>
                </a:lnTo>
                <a:lnTo>
                  <a:pt x="1" y="1"/>
                </a:lnTo>
                <a:lnTo>
                  <a:pt x="0" y="0"/>
                </a:lnTo>
              </a:path>
            </a:pathLst>
          </a:custGeom>
          <a:noFill/>
          <a:ln w="176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72" name="Freeform 18"/>
          <p:cNvSpPr/>
          <p:nvPr/>
        </p:nvSpPr>
        <p:spPr>
          <a:xfrm>
            <a:off x="2793960" y="2552760"/>
            <a:ext cx="561960" cy="71280"/>
          </a:xfrm>
          <a:custGeom>
            <a:avLst/>
            <a:gdLst>
              <a:gd name="textAreaLeft" fmla="*/ 0 w 561960"/>
              <a:gd name="textAreaRight" fmla="*/ 562320 w 561960"/>
              <a:gd name="textAreaTop" fmla="*/ 0 h 71280"/>
              <a:gd name="textAreaBottom" fmla="*/ 71640 h 71280"/>
            </a:gdLst>
            <a:ahLst/>
            <a:rect l="textAreaLeft" t="textAreaTop" r="textAreaRight" b="textAreaBottom"/>
            <a:pathLst>
              <a:path w="32" h="4">
                <a:moveTo>
                  <a:pt x="0" y="4"/>
                </a:moveTo>
                <a:lnTo>
                  <a:pt x="0" y="3"/>
                </a:lnTo>
                <a:lnTo>
                  <a:pt x="1" y="3"/>
                </a:lnTo>
                <a:lnTo>
                  <a:pt x="1" y="3"/>
                </a:lnTo>
                <a:lnTo>
                  <a:pt x="2" y="2"/>
                </a:lnTo>
                <a:lnTo>
                  <a:pt x="2" y="2"/>
                </a:lnTo>
                <a:lnTo>
                  <a:pt x="11" y="2"/>
                </a:lnTo>
                <a:lnTo>
                  <a:pt x="16" y="2"/>
                </a:lnTo>
                <a:lnTo>
                  <a:pt x="20" y="2"/>
                </a:lnTo>
                <a:lnTo>
                  <a:pt x="30" y="2"/>
                </a:lnTo>
                <a:lnTo>
                  <a:pt x="30" y="2"/>
                </a:lnTo>
                <a:lnTo>
                  <a:pt x="31" y="2"/>
                </a:lnTo>
                <a:lnTo>
                  <a:pt x="31" y="2"/>
                </a:lnTo>
                <a:lnTo>
                  <a:pt x="32" y="1"/>
                </a:lnTo>
                <a:lnTo>
                  <a:pt x="32" y="0"/>
                </a:lnTo>
              </a:path>
            </a:pathLst>
          </a:custGeom>
          <a:noFill/>
          <a:ln w="176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73" name="Freeform 19"/>
          <p:cNvSpPr/>
          <p:nvPr/>
        </p:nvSpPr>
        <p:spPr>
          <a:xfrm>
            <a:off x="3355920" y="2552760"/>
            <a:ext cx="579600" cy="71280"/>
          </a:xfrm>
          <a:custGeom>
            <a:avLst/>
            <a:gdLst>
              <a:gd name="textAreaLeft" fmla="*/ 0 w 579600"/>
              <a:gd name="textAreaRight" fmla="*/ 579960 w 579600"/>
              <a:gd name="textAreaTop" fmla="*/ 0 h 71280"/>
              <a:gd name="textAreaBottom" fmla="*/ 71640 h 71280"/>
            </a:gdLst>
            <a:ahLst/>
            <a:rect l="textAreaLeft" t="textAreaTop" r="textAreaRight" b="textAreaBottom"/>
            <a:pathLst>
              <a:path w="33" h="4">
                <a:moveTo>
                  <a:pt x="33" y="4"/>
                </a:moveTo>
                <a:lnTo>
                  <a:pt x="32" y="3"/>
                </a:lnTo>
                <a:lnTo>
                  <a:pt x="32" y="3"/>
                </a:lnTo>
                <a:lnTo>
                  <a:pt x="31" y="3"/>
                </a:lnTo>
                <a:lnTo>
                  <a:pt x="31" y="2"/>
                </a:lnTo>
                <a:lnTo>
                  <a:pt x="30" y="2"/>
                </a:lnTo>
                <a:lnTo>
                  <a:pt x="21" y="2"/>
                </a:lnTo>
                <a:lnTo>
                  <a:pt x="17" y="2"/>
                </a:lnTo>
                <a:lnTo>
                  <a:pt x="12" y="2"/>
                </a:lnTo>
                <a:lnTo>
                  <a:pt x="3" y="2"/>
                </a:lnTo>
                <a:lnTo>
                  <a:pt x="2" y="2"/>
                </a:lnTo>
                <a:lnTo>
                  <a:pt x="2" y="2"/>
                </a:lnTo>
                <a:lnTo>
                  <a:pt x="1" y="1"/>
                </a:lnTo>
                <a:lnTo>
                  <a:pt x="0" y="0"/>
                </a:lnTo>
              </a:path>
            </a:pathLst>
          </a:custGeom>
          <a:noFill/>
          <a:ln w="17640">
            <a:solidFill>
              <a:srgbClr val="00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774" name="Freeform 20"/>
          <p:cNvSpPr/>
          <p:nvPr/>
        </p:nvSpPr>
        <p:spPr>
          <a:xfrm>
            <a:off x="4129200" y="2922480"/>
            <a:ext cx="34920" cy="34920"/>
          </a:xfrm>
          <a:custGeom>
            <a:avLst/>
            <a:gdLst/>
            <a:ahLst/>
            <a:rect l="l" t="t" r="r" b="b"/>
            <a:pathLst>
              <a:path w="22" h="22">
                <a:moveTo>
                  <a:pt x="11" y="11"/>
                </a:moveTo>
                <a:lnTo>
                  <a:pt x="11" y="0"/>
                </a:lnTo>
                <a:lnTo>
                  <a:pt x="0" y="0"/>
                </a:lnTo>
                <a:lnTo>
                  <a:pt x="0" y="11"/>
                </a:lnTo>
                <a:lnTo>
                  <a:pt x="0" y="22"/>
                </a:lnTo>
                <a:lnTo>
                  <a:pt x="11" y="22"/>
                </a:lnTo>
                <a:lnTo>
                  <a:pt x="22" y="22"/>
                </a:lnTo>
                <a:lnTo>
                  <a:pt x="22" y="11"/>
                </a:lnTo>
                <a:lnTo>
                  <a:pt x="22" y="0"/>
                </a:lnTo>
                <a:lnTo>
                  <a:pt x="11" y="0"/>
                </a:lnTo>
                <a:lnTo>
                  <a:pt x="11" y="11"/>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75" name="Freeform 21"/>
          <p:cNvSpPr/>
          <p:nvPr/>
        </p:nvSpPr>
        <p:spPr>
          <a:xfrm>
            <a:off x="4129200" y="294012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1" h="1">
                <a:moveTo>
                  <a:pt x="0" y="0"/>
                </a:moveTo>
                <a:lnTo>
                  <a:pt x="0" y="0"/>
                </a:lnTo>
                <a:lnTo>
                  <a:pt x="0" y="1"/>
                </a:lnTo>
                <a:lnTo>
                  <a:pt x="1" y="0"/>
                </a:lnTo>
                <a:lnTo>
                  <a:pt x="0" y="0"/>
                </a:lnTo>
              </a:path>
            </a:pathLst>
          </a:custGeom>
          <a:noFill/>
          <a:ln w="1764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76" name="Freeform 22"/>
          <p:cNvSpPr/>
          <p:nvPr/>
        </p:nvSpPr>
        <p:spPr>
          <a:xfrm>
            <a:off x="4216320" y="2922480"/>
            <a:ext cx="34920" cy="34920"/>
          </a:xfrm>
          <a:custGeom>
            <a:avLst/>
            <a:gdLst/>
            <a:ahLst/>
            <a:rect l="l" t="t" r="r" b="b"/>
            <a:pathLst>
              <a:path w="22" h="22">
                <a:moveTo>
                  <a:pt x="11" y="11"/>
                </a:moveTo>
                <a:lnTo>
                  <a:pt x="11" y="0"/>
                </a:lnTo>
                <a:lnTo>
                  <a:pt x="0" y="0"/>
                </a:lnTo>
                <a:lnTo>
                  <a:pt x="0" y="11"/>
                </a:lnTo>
                <a:lnTo>
                  <a:pt x="0" y="22"/>
                </a:lnTo>
                <a:lnTo>
                  <a:pt x="11" y="22"/>
                </a:lnTo>
                <a:lnTo>
                  <a:pt x="22" y="22"/>
                </a:lnTo>
                <a:lnTo>
                  <a:pt x="22" y="11"/>
                </a:lnTo>
                <a:lnTo>
                  <a:pt x="22" y="0"/>
                </a:lnTo>
                <a:lnTo>
                  <a:pt x="11" y="0"/>
                </a:lnTo>
                <a:lnTo>
                  <a:pt x="11" y="11"/>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77" name="Freeform 23"/>
          <p:cNvSpPr/>
          <p:nvPr/>
        </p:nvSpPr>
        <p:spPr>
          <a:xfrm>
            <a:off x="4216320" y="2940120"/>
            <a:ext cx="17640" cy="17280"/>
          </a:xfrm>
          <a:custGeom>
            <a:avLst/>
            <a:gdLst>
              <a:gd name="textAreaLeft" fmla="*/ 0 w 17640"/>
              <a:gd name="textAreaRight" fmla="*/ 18000 w 17640"/>
              <a:gd name="textAreaTop" fmla="*/ 0 h 17280"/>
              <a:gd name="textAreaBottom" fmla="*/ 17640 h 17280"/>
            </a:gdLst>
            <a:ahLst/>
            <a:rect l="textAreaLeft" t="textAreaTop" r="textAreaRight" b="textAreaBottom"/>
            <a:pathLst>
              <a:path w="1" h="1">
                <a:moveTo>
                  <a:pt x="0" y="0"/>
                </a:moveTo>
                <a:lnTo>
                  <a:pt x="0" y="0"/>
                </a:lnTo>
                <a:lnTo>
                  <a:pt x="0" y="1"/>
                </a:lnTo>
                <a:lnTo>
                  <a:pt x="1" y="0"/>
                </a:lnTo>
                <a:lnTo>
                  <a:pt x="0" y="0"/>
                </a:lnTo>
              </a:path>
            </a:pathLst>
          </a:custGeom>
          <a:noFill/>
          <a:ln w="1764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78" name="Freeform 24"/>
          <p:cNvSpPr/>
          <p:nvPr/>
        </p:nvSpPr>
        <p:spPr>
          <a:xfrm>
            <a:off x="4303800" y="2922480"/>
            <a:ext cx="34920" cy="34920"/>
          </a:xfrm>
          <a:custGeom>
            <a:avLst/>
            <a:gdLst/>
            <a:ahLst/>
            <a:rect l="l" t="t" r="r" b="b"/>
            <a:pathLst>
              <a:path w="22" h="22">
                <a:moveTo>
                  <a:pt x="11" y="11"/>
                </a:moveTo>
                <a:lnTo>
                  <a:pt x="11" y="0"/>
                </a:lnTo>
                <a:lnTo>
                  <a:pt x="0" y="0"/>
                </a:lnTo>
                <a:lnTo>
                  <a:pt x="0" y="11"/>
                </a:lnTo>
                <a:lnTo>
                  <a:pt x="0" y="22"/>
                </a:lnTo>
                <a:lnTo>
                  <a:pt x="11" y="22"/>
                </a:lnTo>
                <a:lnTo>
                  <a:pt x="22" y="22"/>
                </a:lnTo>
                <a:lnTo>
                  <a:pt x="22" y="11"/>
                </a:lnTo>
                <a:lnTo>
                  <a:pt x="22" y="0"/>
                </a:lnTo>
                <a:lnTo>
                  <a:pt x="11" y="0"/>
                </a:lnTo>
                <a:lnTo>
                  <a:pt x="11" y="11"/>
                </a:lnTo>
                <a:close/>
              </a:path>
            </a:pathLst>
          </a:custGeom>
          <a:solidFill>
            <a:srgbClr val="000000"/>
          </a:solidFill>
          <a:ln w="0">
            <a:solidFill>
              <a:srgbClr val="000000"/>
            </a:solid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779" name="Freeform 25"/>
          <p:cNvSpPr/>
          <p:nvPr/>
        </p:nvSpPr>
        <p:spPr>
          <a:xfrm>
            <a:off x="4321080" y="2940120"/>
            <a:ext cx="17640" cy="17280"/>
          </a:xfrm>
          <a:custGeom>
            <a:avLst/>
            <a:gdLst>
              <a:gd name="textAreaLeft" fmla="*/ 0 w 17640"/>
              <a:gd name="textAreaRight" fmla="*/ 18000 w 17640"/>
              <a:gd name="textAreaTop" fmla="*/ 0 h 17280"/>
              <a:gd name="textAreaBottom" fmla="*/ 17640 h 17280"/>
            </a:gdLst>
            <a:ahLst/>
            <a:rect l="textAreaLeft" t="textAreaTop" r="textAreaRight" b="textAreaBottom"/>
            <a:pathLst>
              <a:path w="1" h="1">
                <a:moveTo>
                  <a:pt x="0" y="0"/>
                </a:moveTo>
                <a:lnTo>
                  <a:pt x="0" y="0"/>
                </a:lnTo>
                <a:lnTo>
                  <a:pt x="0" y="1"/>
                </a:lnTo>
                <a:lnTo>
                  <a:pt x="1" y="0"/>
                </a:lnTo>
                <a:lnTo>
                  <a:pt x="0" y="0"/>
                </a:lnTo>
              </a:path>
            </a:pathLst>
          </a:custGeom>
          <a:noFill/>
          <a:ln w="17640">
            <a:solidFill>
              <a:srgbClr val="000000"/>
            </a:solidFill>
            <a:roun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780" name="Rectangle 26"/>
          <p:cNvSpPr/>
          <p:nvPr/>
        </p:nvSpPr>
        <p:spPr>
          <a:xfrm>
            <a:off x="605160" y="2835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781" name="Rectangle 27"/>
          <p:cNvSpPr/>
          <p:nvPr/>
        </p:nvSpPr>
        <p:spPr>
          <a:xfrm>
            <a:off x="691560" y="29401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1</a:t>
            </a:r>
            <a:endParaRPr b="0" lang="en-US" sz="1000" spc="-1" strike="noStrike">
              <a:solidFill>
                <a:srgbClr val="000000"/>
              </a:solidFill>
              <a:latin typeface="Arial"/>
            </a:endParaRPr>
          </a:p>
        </p:txBody>
      </p:sp>
      <p:sp>
        <p:nvSpPr>
          <p:cNvPr id="782" name="Rectangle 28"/>
          <p:cNvSpPr/>
          <p:nvPr/>
        </p:nvSpPr>
        <p:spPr>
          <a:xfrm>
            <a:off x="1202400" y="2835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t>
            </a:r>
            <a:endParaRPr b="0" lang="en-US" sz="1200" spc="-1" strike="noStrike">
              <a:solidFill>
                <a:srgbClr val="000000"/>
              </a:solidFill>
              <a:latin typeface="Arial"/>
            </a:endParaRPr>
          </a:p>
        </p:txBody>
      </p:sp>
      <p:sp>
        <p:nvSpPr>
          <p:cNvPr id="783" name="Rectangle 29"/>
          <p:cNvSpPr/>
          <p:nvPr/>
        </p:nvSpPr>
        <p:spPr>
          <a:xfrm>
            <a:off x="1288440" y="29401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1</a:t>
            </a:r>
            <a:endParaRPr b="0" lang="en-US" sz="1000" spc="-1" strike="noStrike">
              <a:solidFill>
                <a:srgbClr val="000000"/>
              </a:solidFill>
              <a:latin typeface="Arial"/>
            </a:endParaRPr>
          </a:p>
        </p:txBody>
      </p:sp>
      <p:sp>
        <p:nvSpPr>
          <p:cNvPr id="784" name="Rectangle 30"/>
          <p:cNvSpPr/>
          <p:nvPr/>
        </p:nvSpPr>
        <p:spPr>
          <a:xfrm>
            <a:off x="1797480" y="2835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785" name="Rectangle 31"/>
          <p:cNvSpPr/>
          <p:nvPr/>
        </p:nvSpPr>
        <p:spPr>
          <a:xfrm>
            <a:off x="1885320" y="29401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2</a:t>
            </a:r>
            <a:endParaRPr b="0" lang="en-US" sz="1000" spc="-1" strike="noStrike">
              <a:solidFill>
                <a:srgbClr val="000000"/>
              </a:solidFill>
              <a:latin typeface="Arial"/>
            </a:endParaRPr>
          </a:p>
        </p:txBody>
      </p:sp>
      <p:sp>
        <p:nvSpPr>
          <p:cNvPr id="786" name="Rectangle 32"/>
          <p:cNvSpPr/>
          <p:nvPr/>
        </p:nvSpPr>
        <p:spPr>
          <a:xfrm>
            <a:off x="2394720" y="2835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t>
            </a:r>
            <a:endParaRPr b="0" lang="en-US" sz="1200" spc="-1" strike="noStrike">
              <a:solidFill>
                <a:srgbClr val="000000"/>
              </a:solidFill>
              <a:latin typeface="Arial"/>
            </a:endParaRPr>
          </a:p>
        </p:txBody>
      </p:sp>
      <p:sp>
        <p:nvSpPr>
          <p:cNvPr id="787" name="Rectangle 33"/>
          <p:cNvSpPr/>
          <p:nvPr/>
        </p:nvSpPr>
        <p:spPr>
          <a:xfrm>
            <a:off x="2482200" y="29401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2</a:t>
            </a:r>
            <a:endParaRPr b="0" lang="en-US" sz="1000" spc="-1" strike="noStrike">
              <a:solidFill>
                <a:srgbClr val="000000"/>
              </a:solidFill>
              <a:latin typeface="Arial"/>
            </a:endParaRPr>
          </a:p>
        </p:txBody>
      </p:sp>
      <p:sp>
        <p:nvSpPr>
          <p:cNvPr id="788" name="Rectangle 34"/>
          <p:cNvSpPr/>
          <p:nvPr/>
        </p:nvSpPr>
        <p:spPr>
          <a:xfrm>
            <a:off x="2991240" y="28353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789" name="Rectangle 35"/>
          <p:cNvSpPr/>
          <p:nvPr/>
        </p:nvSpPr>
        <p:spPr>
          <a:xfrm>
            <a:off x="3077640" y="29401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3</a:t>
            </a:r>
            <a:endParaRPr b="0" lang="en-US" sz="1000" spc="-1" strike="noStrike">
              <a:solidFill>
                <a:srgbClr val="000000"/>
              </a:solidFill>
              <a:latin typeface="Arial"/>
            </a:endParaRPr>
          </a:p>
        </p:txBody>
      </p:sp>
      <p:sp>
        <p:nvSpPr>
          <p:cNvPr id="790" name="Rectangle 36"/>
          <p:cNvSpPr/>
          <p:nvPr/>
        </p:nvSpPr>
        <p:spPr>
          <a:xfrm>
            <a:off x="3588480" y="28353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t>
            </a:r>
            <a:endParaRPr b="0" lang="en-US" sz="1200" spc="-1" strike="noStrike">
              <a:solidFill>
                <a:srgbClr val="000000"/>
              </a:solidFill>
              <a:latin typeface="Arial"/>
            </a:endParaRPr>
          </a:p>
        </p:txBody>
      </p:sp>
      <p:sp>
        <p:nvSpPr>
          <p:cNvPr id="791" name="Rectangle 37"/>
          <p:cNvSpPr/>
          <p:nvPr/>
        </p:nvSpPr>
        <p:spPr>
          <a:xfrm>
            <a:off x="3674520" y="29401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3</a:t>
            </a:r>
            <a:endParaRPr b="0" lang="en-US" sz="1000" spc="-1" strike="noStrike">
              <a:solidFill>
                <a:srgbClr val="000000"/>
              </a:solidFill>
              <a:latin typeface="Arial"/>
            </a:endParaRPr>
          </a:p>
        </p:txBody>
      </p:sp>
      <p:sp>
        <p:nvSpPr>
          <p:cNvPr id="792" name="Rectangle 38"/>
          <p:cNvSpPr/>
          <p:nvPr/>
        </p:nvSpPr>
        <p:spPr>
          <a:xfrm>
            <a:off x="913680" y="22734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a:t>
            </a:r>
            <a:endParaRPr b="0" lang="en-US" sz="1200" spc="-1" strike="noStrike">
              <a:solidFill>
                <a:srgbClr val="000000"/>
              </a:solidFill>
              <a:latin typeface="Arial"/>
            </a:endParaRPr>
          </a:p>
        </p:txBody>
      </p:sp>
      <p:sp>
        <p:nvSpPr>
          <p:cNvPr id="793" name="Rectangle 39"/>
          <p:cNvSpPr/>
          <p:nvPr/>
        </p:nvSpPr>
        <p:spPr>
          <a:xfrm>
            <a:off x="972360" y="23605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1</a:t>
            </a:r>
            <a:endParaRPr b="0" lang="en-US" sz="1000" spc="-1" strike="noStrike">
              <a:solidFill>
                <a:srgbClr val="000000"/>
              </a:solidFill>
              <a:latin typeface="Arial"/>
            </a:endParaRPr>
          </a:p>
        </p:txBody>
      </p:sp>
      <p:sp>
        <p:nvSpPr>
          <p:cNvPr id="794" name="Rectangle 40"/>
          <p:cNvSpPr/>
          <p:nvPr/>
        </p:nvSpPr>
        <p:spPr>
          <a:xfrm>
            <a:off x="2106000" y="22734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a:t>
            </a:r>
            <a:endParaRPr b="0" lang="en-US" sz="1200" spc="-1" strike="noStrike">
              <a:solidFill>
                <a:srgbClr val="000000"/>
              </a:solidFill>
              <a:latin typeface="Arial"/>
            </a:endParaRPr>
          </a:p>
        </p:txBody>
      </p:sp>
      <p:sp>
        <p:nvSpPr>
          <p:cNvPr id="795" name="Rectangle 41"/>
          <p:cNvSpPr/>
          <p:nvPr/>
        </p:nvSpPr>
        <p:spPr>
          <a:xfrm>
            <a:off x="2166120" y="23605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2</a:t>
            </a:r>
            <a:endParaRPr b="0" lang="en-US" sz="1000" spc="-1" strike="noStrike">
              <a:solidFill>
                <a:srgbClr val="000000"/>
              </a:solidFill>
              <a:latin typeface="Arial"/>
            </a:endParaRPr>
          </a:p>
        </p:txBody>
      </p:sp>
      <p:sp>
        <p:nvSpPr>
          <p:cNvPr id="796" name="Rectangle 42"/>
          <p:cNvSpPr/>
          <p:nvPr/>
        </p:nvSpPr>
        <p:spPr>
          <a:xfrm>
            <a:off x="3299760" y="227340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a:t>
            </a:r>
            <a:endParaRPr b="0" lang="en-US" sz="1200" spc="-1" strike="noStrike">
              <a:solidFill>
                <a:srgbClr val="000000"/>
              </a:solidFill>
              <a:latin typeface="Arial"/>
            </a:endParaRPr>
          </a:p>
        </p:txBody>
      </p:sp>
      <p:sp>
        <p:nvSpPr>
          <p:cNvPr id="797" name="Rectangle 43"/>
          <p:cNvSpPr/>
          <p:nvPr/>
        </p:nvSpPr>
        <p:spPr>
          <a:xfrm>
            <a:off x="3358440" y="236052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3</a:t>
            </a:r>
            <a:endParaRPr b="0" lang="en-US" sz="1000" spc="-1" strike="noStrike">
              <a:solidFill>
                <a:srgbClr val="000000"/>
              </a:solidFill>
              <a:latin typeface="Arial"/>
            </a:endParaRPr>
          </a:p>
        </p:txBody>
      </p:sp>
      <p:sp>
        <p:nvSpPr>
          <p:cNvPr id="798" name="Rectangle 44"/>
          <p:cNvSpPr/>
          <p:nvPr/>
        </p:nvSpPr>
        <p:spPr>
          <a:xfrm>
            <a:off x="1524600" y="3395520"/>
            <a:ext cx="1651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a) Sequential execution</a:t>
            </a:r>
            <a:endParaRPr b="0" lang="en-US" sz="1200" spc="-1" strike="noStrike">
              <a:solidFill>
                <a:srgbClr val="000000"/>
              </a:solidFill>
              <a:latin typeface="Arial"/>
            </a:endParaRPr>
          </a:p>
        </p:txBody>
      </p:sp>
      <p:sp>
        <p:nvSpPr>
          <p:cNvPr id="799" name="Rectangle 45"/>
          <p:cNvSpPr/>
          <p:nvPr/>
        </p:nvSpPr>
        <p:spPr>
          <a:xfrm>
            <a:off x="512640" y="4589640"/>
            <a:ext cx="984240" cy="10000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46"/>
          <p:cNvSpPr/>
          <p:nvPr/>
        </p:nvSpPr>
        <p:spPr>
          <a:xfrm>
            <a:off x="512640" y="4589640"/>
            <a:ext cx="984240" cy="100008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47"/>
          <p:cNvSpPr/>
          <p:nvPr/>
        </p:nvSpPr>
        <p:spPr>
          <a:xfrm>
            <a:off x="691920" y="4818240"/>
            <a:ext cx="660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nstruction</a:t>
            </a:r>
            <a:endParaRPr b="0" lang="en-US" sz="1200" spc="-1" strike="noStrike">
              <a:solidFill>
                <a:srgbClr val="000000"/>
              </a:solidFill>
              <a:latin typeface="Arial"/>
            </a:endParaRPr>
          </a:p>
        </p:txBody>
      </p:sp>
      <p:sp>
        <p:nvSpPr>
          <p:cNvPr id="802" name="Rectangle 48"/>
          <p:cNvSpPr/>
          <p:nvPr/>
        </p:nvSpPr>
        <p:spPr>
          <a:xfrm>
            <a:off x="860760" y="4975200"/>
            <a:ext cx="303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etch</a:t>
            </a:r>
            <a:endParaRPr b="0" lang="en-US" sz="1200" spc="-1" strike="noStrike">
              <a:solidFill>
                <a:srgbClr val="000000"/>
              </a:solidFill>
              <a:latin typeface="Arial"/>
            </a:endParaRPr>
          </a:p>
        </p:txBody>
      </p:sp>
      <p:sp>
        <p:nvSpPr>
          <p:cNvPr id="803" name="Rectangle 49"/>
          <p:cNvSpPr/>
          <p:nvPr/>
        </p:nvSpPr>
        <p:spPr>
          <a:xfrm>
            <a:off x="885600" y="5133960"/>
            <a:ext cx="23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unit</a:t>
            </a:r>
            <a:endParaRPr b="0" lang="en-US" sz="1200" spc="-1" strike="noStrike">
              <a:solidFill>
                <a:srgbClr val="000000"/>
              </a:solidFill>
              <a:latin typeface="Arial"/>
            </a:endParaRPr>
          </a:p>
        </p:txBody>
      </p:sp>
      <p:sp>
        <p:nvSpPr>
          <p:cNvPr id="804" name="Rectangle 50"/>
          <p:cNvSpPr/>
          <p:nvPr/>
        </p:nvSpPr>
        <p:spPr>
          <a:xfrm>
            <a:off x="2251080" y="4589640"/>
            <a:ext cx="245880" cy="100008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51"/>
          <p:cNvSpPr/>
          <p:nvPr/>
        </p:nvSpPr>
        <p:spPr>
          <a:xfrm>
            <a:off x="2251080" y="4589640"/>
            <a:ext cx="245880" cy="100008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Rectangle 52"/>
          <p:cNvSpPr/>
          <p:nvPr/>
        </p:nvSpPr>
        <p:spPr>
          <a:xfrm>
            <a:off x="3251160" y="4589640"/>
            <a:ext cx="982800" cy="100008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ectangle 53"/>
          <p:cNvSpPr/>
          <p:nvPr/>
        </p:nvSpPr>
        <p:spPr>
          <a:xfrm>
            <a:off x="3429720" y="4888080"/>
            <a:ext cx="16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x</a:t>
            </a:r>
            <a:endParaRPr b="0" lang="en-US" sz="1200" spc="-1" strike="noStrike">
              <a:solidFill>
                <a:srgbClr val="000000"/>
              </a:solidFill>
              <a:latin typeface="Arial"/>
            </a:endParaRPr>
          </a:p>
        </p:txBody>
      </p:sp>
      <p:sp>
        <p:nvSpPr>
          <p:cNvPr id="808" name="Rectangle 54"/>
          <p:cNvSpPr/>
          <p:nvPr/>
        </p:nvSpPr>
        <p:spPr>
          <a:xfrm>
            <a:off x="3606120" y="4888080"/>
            <a:ext cx="44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cution</a:t>
            </a:r>
            <a:endParaRPr b="0" lang="en-US" sz="1200" spc="-1" strike="noStrike">
              <a:solidFill>
                <a:srgbClr val="000000"/>
              </a:solidFill>
              <a:latin typeface="Arial"/>
            </a:endParaRPr>
          </a:p>
        </p:txBody>
      </p:sp>
      <p:sp>
        <p:nvSpPr>
          <p:cNvPr id="809" name="Rectangle 55"/>
          <p:cNvSpPr/>
          <p:nvPr/>
        </p:nvSpPr>
        <p:spPr>
          <a:xfrm>
            <a:off x="3622320" y="5045040"/>
            <a:ext cx="238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unit</a:t>
            </a:r>
            <a:endParaRPr b="0" lang="en-US" sz="1200" spc="-1" strike="noStrike">
              <a:solidFill>
                <a:srgbClr val="000000"/>
              </a:solidFill>
              <a:latin typeface="Arial"/>
            </a:endParaRPr>
          </a:p>
        </p:txBody>
      </p:sp>
      <p:sp>
        <p:nvSpPr>
          <p:cNvPr id="810" name="Rectangle 56"/>
          <p:cNvSpPr/>
          <p:nvPr/>
        </p:nvSpPr>
        <p:spPr>
          <a:xfrm>
            <a:off x="1897920" y="4133880"/>
            <a:ext cx="1008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nterstage buffer</a:t>
            </a:r>
            <a:endParaRPr b="0" lang="en-US" sz="1200" spc="-1" strike="noStrike">
              <a:solidFill>
                <a:srgbClr val="000000"/>
              </a:solidFill>
              <a:latin typeface="Arial"/>
            </a:endParaRPr>
          </a:p>
        </p:txBody>
      </p:sp>
      <p:sp>
        <p:nvSpPr>
          <p:cNvPr id="811" name="Rectangle 57"/>
          <p:cNvSpPr/>
          <p:nvPr/>
        </p:nvSpPr>
        <p:spPr>
          <a:xfrm>
            <a:off x="2289240" y="4343400"/>
            <a:ext cx="17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B1</a:t>
            </a:r>
            <a:endParaRPr b="0" lang="en-US" sz="1200" spc="-1" strike="noStrike">
              <a:solidFill>
                <a:srgbClr val="000000"/>
              </a:solidFill>
              <a:latin typeface="Arial"/>
            </a:endParaRPr>
          </a:p>
        </p:txBody>
      </p:sp>
      <p:sp>
        <p:nvSpPr>
          <p:cNvPr id="812" name="Rectangle 58"/>
          <p:cNvSpPr/>
          <p:nvPr/>
        </p:nvSpPr>
        <p:spPr>
          <a:xfrm>
            <a:off x="1454400" y="5835600"/>
            <a:ext cx="176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b) Hardware organization</a:t>
            </a:r>
            <a:endParaRPr b="0" lang="en-US" sz="1200" spc="-1" strike="noStrike">
              <a:solidFill>
                <a:srgbClr val="000000"/>
              </a:solidFill>
              <a:latin typeface="Arial"/>
            </a:endParaRPr>
          </a:p>
        </p:txBody>
      </p:sp>
      <p:sp>
        <p:nvSpPr>
          <p:cNvPr id="813" name="Rectangle 59"/>
          <p:cNvSpPr/>
          <p:nvPr/>
        </p:nvSpPr>
        <p:spPr>
          <a:xfrm>
            <a:off x="4251240" y="209700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a:t>
            </a:r>
            <a:endParaRPr b="0" lang="en-US" sz="1200" spc="-1" strike="noStrike">
              <a:solidFill>
                <a:srgbClr val="000000"/>
              </a:solidFill>
              <a:latin typeface="Arial"/>
            </a:endParaRPr>
          </a:p>
        </p:txBody>
      </p:sp>
      <p:sp>
        <p:nvSpPr>
          <p:cNvPr id="814" name="Rectangle 60"/>
          <p:cNvSpPr/>
          <p:nvPr/>
        </p:nvSpPr>
        <p:spPr>
          <a:xfrm>
            <a:off x="4363560" y="2097000"/>
            <a:ext cx="22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me</a:t>
            </a:r>
            <a:endParaRPr b="0" lang="en-US" sz="1200" spc="-1" strike="noStrike">
              <a:solidFill>
                <a:srgbClr val="000000"/>
              </a:solidFill>
              <a:latin typeface="Arial"/>
            </a:endParaRPr>
          </a:p>
        </p:txBody>
      </p:sp>
      <p:sp>
        <p:nvSpPr>
          <p:cNvPr id="815" name="Freeform 61"/>
          <p:cNvSpPr/>
          <p:nvPr/>
        </p:nvSpPr>
        <p:spPr>
          <a:xfrm>
            <a:off x="4057560" y="2201760"/>
            <a:ext cx="106560" cy="52560"/>
          </a:xfrm>
          <a:custGeom>
            <a:avLst/>
            <a:gdLst>
              <a:gd name="textAreaLeft" fmla="*/ 0 w 106560"/>
              <a:gd name="textAreaRight" fmla="*/ 106920 w 106560"/>
              <a:gd name="textAreaTop" fmla="*/ 0 h 52560"/>
              <a:gd name="textAreaBottom" fmla="*/ 52920 h 52560"/>
            </a:gdLst>
            <a:ahLst/>
            <a:rect l="textAreaLeft" t="textAreaTop" r="textAreaRight" b="textAreaBottom"/>
            <a:pathLst>
              <a:path w="6" h="3">
                <a:moveTo>
                  <a:pt x="0" y="3"/>
                </a:moveTo>
                <a:lnTo>
                  <a:pt x="6" y="2"/>
                </a:lnTo>
                <a:lnTo>
                  <a:pt x="0" y="0"/>
                </a:lnTo>
                <a:lnTo>
                  <a:pt x="0" y="2"/>
                </a:lnTo>
                <a:lnTo>
                  <a:pt x="0" y="3"/>
                </a:lnTo>
              </a:path>
            </a:pathLst>
          </a:custGeom>
          <a:noFill/>
          <a:ln w="1764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16" name="Freeform 62"/>
          <p:cNvSpPr/>
          <p:nvPr/>
        </p:nvSpPr>
        <p:spPr>
          <a:xfrm>
            <a:off x="4057560" y="2201760"/>
            <a:ext cx="106560" cy="52560"/>
          </a:xfrm>
          <a:custGeom>
            <a:avLst/>
            <a:gdLst>
              <a:gd name="textAreaLeft" fmla="*/ 0 w 106560"/>
              <a:gd name="textAreaRight" fmla="*/ 106920 w 106560"/>
              <a:gd name="textAreaTop" fmla="*/ 0 h 52560"/>
              <a:gd name="textAreaBottom" fmla="*/ 52920 h 52560"/>
            </a:gdLst>
            <a:ahLst/>
            <a:rect l="textAreaLeft" t="textAreaTop" r="textAreaRight" b="textAreaBottom"/>
            <a:pathLst>
              <a:path w="67" h="33">
                <a:moveTo>
                  <a:pt x="0" y="33"/>
                </a:moveTo>
                <a:lnTo>
                  <a:pt x="67" y="22"/>
                </a:lnTo>
                <a:lnTo>
                  <a:pt x="0" y="0"/>
                </a:lnTo>
                <a:lnTo>
                  <a:pt x="0" y="22"/>
                </a:lnTo>
                <a:lnTo>
                  <a:pt x="0" y="33"/>
                </a:lnTo>
                <a:close/>
              </a:path>
            </a:pathLst>
          </a:custGeom>
          <a:solidFill>
            <a:srgbClr val="000000"/>
          </a:solidFill>
          <a:ln w="0">
            <a:solidFill>
              <a:srgbClr val="000000"/>
            </a:solid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17" name="Line 63"/>
          <p:cNvSpPr/>
          <p:nvPr/>
        </p:nvSpPr>
        <p:spPr>
          <a:xfrm flipH="1">
            <a:off x="3758760" y="2236680"/>
            <a:ext cx="28116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18" name="Rectangle 64"/>
          <p:cNvSpPr/>
          <p:nvPr/>
        </p:nvSpPr>
        <p:spPr>
          <a:xfrm>
            <a:off x="5724360" y="3186000"/>
            <a:ext cx="1194120" cy="4032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Line 65"/>
          <p:cNvSpPr/>
          <p:nvPr/>
        </p:nvSpPr>
        <p:spPr>
          <a:xfrm flipV="1">
            <a:off x="6321600" y="3186000"/>
            <a:ext cx="1440" cy="40320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Rectangle 66"/>
          <p:cNvSpPr/>
          <p:nvPr/>
        </p:nvSpPr>
        <p:spPr>
          <a:xfrm>
            <a:off x="6321600" y="3782880"/>
            <a:ext cx="1191960" cy="4032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Line 67"/>
          <p:cNvSpPr/>
          <p:nvPr/>
        </p:nvSpPr>
        <p:spPr>
          <a:xfrm flipV="1">
            <a:off x="6918480" y="3782880"/>
            <a:ext cx="1440" cy="40320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Rectangle 68"/>
          <p:cNvSpPr/>
          <p:nvPr/>
        </p:nvSpPr>
        <p:spPr>
          <a:xfrm>
            <a:off x="6918480" y="4379760"/>
            <a:ext cx="1191960" cy="403200"/>
          </a:xfrm>
          <a:prstGeom prst="rect">
            <a:avLst/>
          </a:prstGeom>
          <a:noFill/>
          <a:ln w="17640">
            <a:solidFill>
              <a:srgbClr val="00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Line 69"/>
          <p:cNvSpPr/>
          <p:nvPr/>
        </p:nvSpPr>
        <p:spPr>
          <a:xfrm flipV="1">
            <a:off x="7513560" y="4379760"/>
            <a:ext cx="1800" cy="403200"/>
          </a:xfrm>
          <a:prstGeom prst="line">
            <a:avLst/>
          </a:prstGeom>
          <a:ln w="1764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Rectangle 70"/>
          <p:cNvSpPr/>
          <p:nvPr/>
        </p:nvSpPr>
        <p:spPr>
          <a:xfrm>
            <a:off x="5939280" y="329256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825" name="Rectangle 71"/>
          <p:cNvSpPr/>
          <p:nvPr/>
        </p:nvSpPr>
        <p:spPr>
          <a:xfrm>
            <a:off x="6025320" y="33796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1</a:t>
            </a:r>
            <a:endParaRPr b="0" lang="en-US" sz="1000" spc="-1" strike="noStrike">
              <a:solidFill>
                <a:srgbClr val="000000"/>
              </a:solidFill>
              <a:latin typeface="Arial"/>
            </a:endParaRPr>
          </a:p>
        </p:txBody>
      </p:sp>
      <p:sp>
        <p:nvSpPr>
          <p:cNvPr id="826" name="Rectangle 72"/>
          <p:cNvSpPr/>
          <p:nvPr/>
        </p:nvSpPr>
        <p:spPr>
          <a:xfrm>
            <a:off x="6535080" y="329256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t>
            </a:r>
            <a:endParaRPr b="0" lang="en-US" sz="1200" spc="-1" strike="noStrike">
              <a:solidFill>
                <a:srgbClr val="000000"/>
              </a:solidFill>
              <a:latin typeface="Arial"/>
            </a:endParaRPr>
          </a:p>
        </p:txBody>
      </p:sp>
      <p:sp>
        <p:nvSpPr>
          <p:cNvPr id="827" name="Rectangle 73"/>
          <p:cNvSpPr/>
          <p:nvPr/>
        </p:nvSpPr>
        <p:spPr>
          <a:xfrm>
            <a:off x="6639840" y="33796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1</a:t>
            </a:r>
            <a:endParaRPr b="0" lang="en-US" sz="1000" spc="-1" strike="noStrike">
              <a:solidFill>
                <a:srgbClr val="000000"/>
              </a:solidFill>
              <a:latin typeface="Arial"/>
            </a:endParaRPr>
          </a:p>
        </p:txBody>
      </p:sp>
      <p:sp>
        <p:nvSpPr>
          <p:cNvPr id="828" name="Rectangle 74"/>
          <p:cNvSpPr/>
          <p:nvPr/>
        </p:nvSpPr>
        <p:spPr>
          <a:xfrm>
            <a:off x="6534720" y="388944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829" name="Rectangle 75"/>
          <p:cNvSpPr/>
          <p:nvPr/>
        </p:nvSpPr>
        <p:spPr>
          <a:xfrm>
            <a:off x="6622560" y="39765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2</a:t>
            </a:r>
            <a:endParaRPr b="0" lang="en-US" sz="1000" spc="-1" strike="noStrike">
              <a:solidFill>
                <a:srgbClr val="000000"/>
              </a:solidFill>
              <a:latin typeface="Arial"/>
            </a:endParaRPr>
          </a:p>
        </p:txBody>
      </p:sp>
      <p:sp>
        <p:nvSpPr>
          <p:cNvPr id="830" name="Rectangle 76"/>
          <p:cNvSpPr/>
          <p:nvPr/>
        </p:nvSpPr>
        <p:spPr>
          <a:xfrm>
            <a:off x="7131960" y="388944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t>
            </a:r>
            <a:endParaRPr b="0" lang="en-US" sz="1200" spc="-1" strike="noStrike">
              <a:solidFill>
                <a:srgbClr val="000000"/>
              </a:solidFill>
              <a:latin typeface="Arial"/>
            </a:endParaRPr>
          </a:p>
        </p:txBody>
      </p:sp>
      <p:sp>
        <p:nvSpPr>
          <p:cNvPr id="831" name="Rectangle 77"/>
          <p:cNvSpPr/>
          <p:nvPr/>
        </p:nvSpPr>
        <p:spPr>
          <a:xfrm>
            <a:off x="7236720" y="39765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2</a:t>
            </a:r>
            <a:endParaRPr b="0" lang="en-US" sz="1000" spc="-1" strike="noStrike">
              <a:solidFill>
                <a:srgbClr val="000000"/>
              </a:solidFill>
              <a:latin typeface="Arial"/>
            </a:endParaRPr>
          </a:p>
        </p:txBody>
      </p:sp>
      <p:sp>
        <p:nvSpPr>
          <p:cNvPr id="832" name="Rectangle 78"/>
          <p:cNvSpPr/>
          <p:nvPr/>
        </p:nvSpPr>
        <p:spPr>
          <a:xfrm>
            <a:off x="7131600" y="4484520"/>
            <a:ext cx="86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F</a:t>
            </a:r>
            <a:endParaRPr b="0" lang="en-US" sz="1200" spc="-1" strike="noStrike">
              <a:solidFill>
                <a:srgbClr val="000000"/>
              </a:solidFill>
              <a:latin typeface="Arial"/>
            </a:endParaRPr>
          </a:p>
        </p:txBody>
      </p:sp>
      <p:sp>
        <p:nvSpPr>
          <p:cNvPr id="833" name="Rectangle 79"/>
          <p:cNvSpPr/>
          <p:nvPr/>
        </p:nvSpPr>
        <p:spPr>
          <a:xfrm>
            <a:off x="7219440" y="457200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3</a:t>
            </a:r>
            <a:endParaRPr b="0" lang="en-US" sz="1000" spc="-1" strike="noStrike">
              <a:solidFill>
                <a:srgbClr val="000000"/>
              </a:solidFill>
              <a:latin typeface="Arial"/>
            </a:endParaRPr>
          </a:p>
        </p:txBody>
      </p:sp>
      <p:sp>
        <p:nvSpPr>
          <p:cNvPr id="834" name="Rectangle 80"/>
          <p:cNvSpPr/>
          <p:nvPr/>
        </p:nvSpPr>
        <p:spPr>
          <a:xfrm>
            <a:off x="7728840" y="448452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E</a:t>
            </a:r>
            <a:endParaRPr b="0" lang="en-US" sz="1200" spc="-1" strike="noStrike">
              <a:solidFill>
                <a:srgbClr val="000000"/>
              </a:solidFill>
              <a:latin typeface="Arial"/>
            </a:endParaRPr>
          </a:p>
        </p:txBody>
      </p:sp>
      <p:sp>
        <p:nvSpPr>
          <p:cNvPr id="835" name="Rectangle 81"/>
          <p:cNvSpPr/>
          <p:nvPr/>
        </p:nvSpPr>
        <p:spPr>
          <a:xfrm>
            <a:off x="7832160" y="457200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3</a:t>
            </a:r>
            <a:endParaRPr b="0" lang="en-US" sz="1000" spc="-1" strike="noStrike">
              <a:solidFill>
                <a:srgbClr val="000000"/>
              </a:solidFill>
              <a:latin typeface="Arial"/>
            </a:endParaRPr>
          </a:p>
        </p:txBody>
      </p:sp>
      <p:sp>
        <p:nvSpPr>
          <p:cNvPr id="836" name="Rectangle 82"/>
          <p:cNvSpPr/>
          <p:nvPr/>
        </p:nvSpPr>
        <p:spPr>
          <a:xfrm>
            <a:off x="5123520" y="329256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a:t>
            </a:r>
            <a:endParaRPr b="0" lang="en-US" sz="1200" spc="-1" strike="noStrike">
              <a:solidFill>
                <a:srgbClr val="000000"/>
              </a:solidFill>
              <a:latin typeface="Arial"/>
            </a:endParaRPr>
          </a:p>
        </p:txBody>
      </p:sp>
      <p:sp>
        <p:nvSpPr>
          <p:cNvPr id="837" name="Rectangle 83"/>
          <p:cNvSpPr/>
          <p:nvPr/>
        </p:nvSpPr>
        <p:spPr>
          <a:xfrm>
            <a:off x="5182560" y="337968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1</a:t>
            </a:r>
            <a:endParaRPr b="0" lang="en-US" sz="1000" spc="-1" strike="noStrike">
              <a:solidFill>
                <a:srgbClr val="000000"/>
              </a:solidFill>
              <a:latin typeface="Arial"/>
            </a:endParaRPr>
          </a:p>
        </p:txBody>
      </p:sp>
      <p:sp>
        <p:nvSpPr>
          <p:cNvPr id="838" name="Rectangle 84"/>
          <p:cNvSpPr/>
          <p:nvPr/>
        </p:nvSpPr>
        <p:spPr>
          <a:xfrm>
            <a:off x="5123520" y="388944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a:t>
            </a:r>
            <a:endParaRPr b="0" lang="en-US" sz="1200" spc="-1" strike="noStrike">
              <a:solidFill>
                <a:srgbClr val="000000"/>
              </a:solidFill>
              <a:latin typeface="Arial"/>
            </a:endParaRPr>
          </a:p>
        </p:txBody>
      </p:sp>
      <p:sp>
        <p:nvSpPr>
          <p:cNvPr id="839" name="Rectangle 85"/>
          <p:cNvSpPr/>
          <p:nvPr/>
        </p:nvSpPr>
        <p:spPr>
          <a:xfrm>
            <a:off x="5182560" y="39765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2</a:t>
            </a:r>
            <a:endParaRPr b="0" lang="en-US" sz="1000" spc="-1" strike="noStrike">
              <a:solidFill>
                <a:srgbClr val="000000"/>
              </a:solidFill>
              <a:latin typeface="Arial"/>
            </a:endParaRPr>
          </a:p>
        </p:txBody>
      </p:sp>
      <p:sp>
        <p:nvSpPr>
          <p:cNvPr id="840" name="Rectangle 86"/>
          <p:cNvSpPr/>
          <p:nvPr/>
        </p:nvSpPr>
        <p:spPr>
          <a:xfrm>
            <a:off x="5123520" y="4484520"/>
            <a:ext cx="51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a:t>
            </a:r>
            <a:endParaRPr b="0" lang="en-US" sz="1200" spc="-1" strike="noStrike">
              <a:solidFill>
                <a:srgbClr val="000000"/>
              </a:solidFill>
              <a:latin typeface="Arial"/>
            </a:endParaRPr>
          </a:p>
        </p:txBody>
      </p:sp>
      <p:sp>
        <p:nvSpPr>
          <p:cNvPr id="841" name="Rectangle 87"/>
          <p:cNvSpPr/>
          <p:nvPr/>
        </p:nvSpPr>
        <p:spPr>
          <a:xfrm>
            <a:off x="5182560" y="457200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SimSun"/>
              </a:rPr>
              <a:t>3</a:t>
            </a:r>
            <a:endParaRPr b="0" lang="en-US" sz="1000" spc="-1" strike="noStrike">
              <a:solidFill>
                <a:srgbClr val="000000"/>
              </a:solidFill>
              <a:latin typeface="Arial"/>
            </a:endParaRPr>
          </a:p>
        </p:txBody>
      </p:sp>
      <p:sp>
        <p:nvSpPr>
          <p:cNvPr id="842" name="Rectangle 88"/>
          <p:cNvSpPr/>
          <p:nvPr/>
        </p:nvSpPr>
        <p:spPr>
          <a:xfrm>
            <a:off x="4841640" y="2976480"/>
            <a:ext cx="729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SimSun"/>
              </a:rPr>
              <a:t>Instruction</a:t>
            </a:r>
            <a:endParaRPr b="0" lang="en-US" sz="1200" spc="-1" strike="noStrike">
              <a:solidFill>
                <a:srgbClr val="000000"/>
              </a:solidFill>
              <a:latin typeface="Arial"/>
            </a:endParaRPr>
          </a:p>
        </p:txBody>
      </p:sp>
      <p:sp>
        <p:nvSpPr>
          <p:cNvPr id="843" name="Rectangle 89"/>
          <p:cNvSpPr/>
          <p:nvPr/>
        </p:nvSpPr>
        <p:spPr>
          <a:xfrm>
            <a:off x="5666040" y="4994280"/>
            <a:ext cx="1547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c) Pipelined execution</a:t>
            </a:r>
            <a:endParaRPr b="0" lang="en-US" sz="1200" spc="-1" strike="noStrike">
              <a:solidFill>
                <a:srgbClr val="000000"/>
              </a:solidFill>
              <a:latin typeface="Arial"/>
            </a:endParaRPr>
          </a:p>
        </p:txBody>
      </p:sp>
      <p:sp>
        <p:nvSpPr>
          <p:cNvPr id="844" name="Rectangle 90"/>
          <p:cNvSpPr/>
          <p:nvPr/>
        </p:nvSpPr>
        <p:spPr>
          <a:xfrm>
            <a:off x="4854240" y="5705640"/>
            <a:ext cx="3391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SimSun"/>
              </a:rPr>
              <a:t>Figure 8.1. Basic idea of instruction pipelining.</a:t>
            </a:r>
            <a:endParaRPr b="0" lang="en-US" sz="1400" spc="-1" strike="noStrike">
              <a:solidFill>
                <a:srgbClr val="000000"/>
              </a:solidFill>
              <a:latin typeface="Arial"/>
            </a:endParaRPr>
          </a:p>
        </p:txBody>
      </p:sp>
      <p:sp>
        <p:nvSpPr>
          <p:cNvPr id="845" name="Rectangle 91"/>
          <p:cNvSpPr/>
          <p:nvPr/>
        </p:nvSpPr>
        <p:spPr>
          <a:xfrm>
            <a:off x="4834080" y="2590920"/>
            <a:ext cx="723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Clock cycle</a:t>
            </a:r>
            <a:endParaRPr b="0" lang="en-US" sz="1200" spc="-1" strike="noStrike">
              <a:solidFill>
                <a:srgbClr val="000000"/>
              </a:solidFill>
              <a:latin typeface="Arial"/>
            </a:endParaRPr>
          </a:p>
        </p:txBody>
      </p:sp>
      <p:sp>
        <p:nvSpPr>
          <p:cNvPr id="846" name="Rectangle 92"/>
          <p:cNvSpPr/>
          <p:nvPr/>
        </p:nvSpPr>
        <p:spPr>
          <a:xfrm>
            <a:off x="5974200" y="25909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1</a:t>
            </a:r>
            <a:endParaRPr b="0" lang="en-US" sz="1200" spc="-1" strike="noStrike">
              <a:solidFill>
                <a:srgbClr val="000000"/>
              </a:solidFill>
              <a:latin typeface="Arial"/>
            </a:endParaRPr>
          </a:p>
        </p:txBody>
      </p:sp>
      <p:sp>
        <p:nvSpPr>
          <p:cNvPr id="847" name="Rectangle 93"/>
          <p:cNvSpPr/>
          <p:nvPr/>
        </p:nvSpPr>
        <p:spPr>
          <a:xfrm>
            <a:off x="6571080" y="25909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2</a:t>
            </a:r>
            <a:endParaRPr b="0" lang="en-US" sz="1200" spc="-1" strike="noStrike">
              <a:solidFill>
                <a:srgbClr val="000000"/>
              </a:solidFill>
              <a:latin typeface="Arial"/>
            </a:endParaRPr>
          </a:p>
        </p:txBody>
      </p:sp>
      <p:sp>
        <p:nvSpPr>
          <p:cNvPr id="848" name="Rectangle 94"/>
          <p:cNvSpPr/>
          <p:nvPr/>
        </p:nvSpPr>
        <p:spPr>
          <a:xfrm>
            <a:off x="7166160" y="25909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3</a:t>
            </a:r>
            <a:endParaRPr b="0" lang="en-US" sz="1200" spc="-1" strike="noStrike">
              <a:solidFill>
                <a:srgbClr val="000000"/>
              </a:solidFill>
              <a:latin typeface="Arial"/>
            </a:endParaRPr>
          </a:p>
        </p:txBody>
      </p:sp>
      <p:sp>
        <p:nvSpPr>
          <p:cNvPr id="849" name="Rectangle 95"/>
          <p:cNvSpPr/>
          <p:nvPr/>
        </p:nvSpPr>
        <p:spPr>
          <a:xfrm>
            <a:off x="7763040" y="2590920"/>
            <a:ext cx="77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4</a:t>
            </a:r>
            <a:endParaRPr b="0" lang="en-US" sz="1200" spc="-1" strike="noStrike">
              <a:solidFill>
                <a:srgbClr val="000000"/>
              </a:solidFill>
              <a:latin typeface="Arial"/>
            </a:endParaRPr>
          </a:p>
        </p:txBody>
      </p:sp>
      <p:sp>
        <p:nvSpPr>
          <p:cNvPr id="850" name="Rectangle 96"/>
          <p:cNvSpPr/>
          <p:nvPr/>
        </p:nvSpPr>
        <p:spPr>
          <a:xfrm>
            <a:off x="8075520" y="2414520"/>
            <a:ext cx="936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T</a:t>
            </a:r>
            <a:endParaRPr b="0" lang="en-US" sz="1200" spc="-1" strike="noStrike">
              <a:solidFill>
                <a:srgbClr val="000000"/>
              </a:solidFill>
              <a:latin typeface="Arial"/>
            </a:endParaRPr>
          </a:p>
        </p:txBody>
      </p:sp>
      <p:sp>
        <p:nvSpPr>
          <p:cNvPr id="851" name="Rectangle 97"/>
          <p:cNvSpPr/>
          <p:nvPr/>
        </p:nvSpPr>
        <p:spPr>
          <a:xfrm>
            <a:off x="8170560" y="2414520"/>
            <a:ext cx="229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SimSun"/>
              </a:rPr>
              <a:t>ime</a:t>
            </a:r>
            <a:endParaRPr b="0" lang="en-US" sz="1200" spc="-1" strike="noStrike">
              <a:solidFill>
                <a:srgbClr val="000000"/>
              </a:solidFill>
              <a:latin typeface="Arial"/>
            </a:endParaRPr>
          </a:p>
        </p:txBody>
      </p:sp>
      <p:sp>
        <p:nvSpPr>
          <p:cNvPr id="852" name="Freeform 98"/>
          <p:cNvSpPr/>
          <p:nvPr/>
        </p:nvSpPr>
        <p:spPr>
          <a:xfrm>
            <a:off x="7866000" y="2519280"/>
            <a:ext cx="104760" cy="52560"/>
          </a:xfrm>
          <a:custGeom>
            <a:avLst/>
            <a:gdLst>
              <a:gd name="textAreaLeft" fmla="*/ 0 w 104760"/>
              <a:gd name="textAreaRight" fmla="*/ 105120 w 104760"/>
              <a:gd name="textAreaTop" fmla="*/ 0 h 52560"/>
              <a:gd name="textAreaBottom" fmla="*/ 52920 h 52560"/>
            </a:gdLst>
            <a:ahLst/>
            <a:rect l="textAreaLeft" t="textAreaTop" r="textAreaRight" b="textAreaBottom"/>
            <a:pathLst>
              <a:path w="6" h="3">
                <a:moveTo>
                  <a:pt x="0" y="3"/>
                </a:moveTo>
                <a:lnTo>
                  <a:pt x="6" y="1"/>
                </a:lnTo>
                <a:lnTo>
                  <a:pt x="0" y="0"/>
                </a:lnTo>
                <a:lnTo>
                  <a:pt x="0" y="1"/>
                </a:lnTo>
                <a:lnTo>
                  <a:pt x="0" y="3"/>
                </a:lnTo>
              </a:path>
            </a:pathLst>
          </a:custGeom>
          <a:noFill/>
          <a:ln w="17640">
            <a:solidFill>
              <a:srgbClr val="000000"/>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53" name="Freeform 99"/>
          <p:cNvSpPr/>
          <p:nvPr/>
        </p:nvSpPr>
        <p:spPr>
          <a:xfrm>
            <a:off x="7866000" y="2519280"/>
            <a:ext cx="104760" cy="52560"/>
          </a:xfrm>
          <a:custGeom>
            <a:avLst/>
            <a:gdLst>
              <a:gd name="textAreaLeft" fmla="*/ 0 w 104760"/>
              <a:gd name="textAreaRight" fmla="*/ 105120 w 104760"/>
              <a:gd name="textAreaTop" fmla="*/ 0 h 52560"/>
              <a:gd name="textAreaBottom" fmla="*/ 52920 h 52560"/>
            </a:gdLst>
            <a:ahLst/>
            <a:rect l="textAreaLeft" t="textAreaTop" r="textAreaRight" b="textAreaBottom"/>
            <a:pathLst>
              <a:path w="66" h="33">
                <a:moveTo>
                  <a:pt x="0" y="33"/>
                </a:moveTo>
                <a:lnTo>
                  <a:pt x="66" y="11"/>
                </a:lnTo>
                <a:lnTo>
                  <a:pt x="0" y="0"/>
                </a:lnTo>
                <a:lnTo>
                  <a:pt x="0" y="11"/>
                </a:lnTo>
                <a:lnTo>
                  <a:pt x="0" y="33"/>
                </a:lnTo>
                <a:close/>
              </a:path>
            </a:pathLst>
          </a:custGeom>
          <a:solidFill>
            <a:srgbClr val="000000"/>
          </a:solidFill>
          <a:ln w="0">
            <a:solidFill>
              <a:srgbClr val="000000"/>
            </a:solid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854" name="Line 100"/>
          <p:cNvSpPr/>
          <p:nvPr/>
        </p:nvSpPr>
        <p:spPr>
          <a:xfrm flipH="1">
            <a:off x="7585200" y="2536920"/>
            <a:ext cx="280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5" name="Text Box 101"/>
          <p:cNvSpPr/>
          <p:nvPr/>
        </p:nvSpPr>
        <p:spPr>
          <a:xfrm>
            <a:off x="671760" y="1560600"/>
            <a:ext cx="201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SimSun"/>
              </a:rPr>
              <a:t>Fetch + Execu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30T19:18:27Z</dcterms:created>
  <dc:creator>administrator</dc:creator>
  <dc:description/>
  <dc:language>en-US</dc:language>
  <cp:lastModifiedBy>sahithi</cp:lastModifiedBy>
  <dcterms:modified xsi:type="dcterms:W3CDTF">2013-04-23T14:38:13Z</dcterms:modified>
  <cp:revision>108</cp:revision>
  <dc:subject/>
  <dc:title>Chapter 8. Pipelining</dc:title>
</cp:coreProperties>
</file>