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E023-1726-4FC3-9A0A-9101EE868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A462-1590-45C8-96FE-3B776C428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571C-7C42-4006-A1C9-97E6D4F6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D1F-ED9D-4B5A-BD16-75B325CF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9C6-2346-4452-AFE5-A1E32CEC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0BB-73C0-48FE-8D71-B0F354F7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B191-9384-4C83-868F-1FC3DD86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5D3-BB13-48E5-BE13-78225B57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E2A-0276-4B4F-AC58-63024BC7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EE0-79A9-4CDB-A106-63A2A679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5D67-BF82-4905-B084-56C652FB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F2E-A971-4C84-A75A-55EA5D90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B9C-6DA0-45D8-A313-7140FB3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7D1-AF74-4D3E-9EEB-0E38E298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60DA-13CE-4B69-926B-0FA6B0E27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1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1722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B516-D9E5-4A84-9519-F57D34A9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NGING NATURE OF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 Broad Categories of software are challenges for software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and scientifi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-lin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telligenc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CEA4-1C57-48D1-97F4-1709B55E1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NGING NATURE OF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oftwar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software is a collection of programs written to service oth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d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sides in read-only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is used to control products and systems for the consumer and industrial mar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ficial intelligence softwar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ficial intelligence (AI) software makes use of nonnumeric algorithms to solve complex problems that are not amenable to computation or straightforwar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ing and scientific softwar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 and scientific software have been characterized by "number crunching" algorith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6A80-83F3-49B8-B87D-5570A815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cy software are older programs that are developed decade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ty of legacy software is poor because it has inextensible design,convoluted code,poor and nonexistent documentation,test cases and results that are not ach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764F-DE52-4F0D-AB64-F0CEB7124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ime passes legacy systems evolve due to following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must be adapted to meet the needs of new computing environment or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must be enhanced to implement new business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must be extended to make it interoperable with more modern systems o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must be rearchitected to make it viable within a network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0190-8BEC-4DE3-A94A-CBADE7625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evolves due t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occur due to correction,adaption and enh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Laws of unified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Continuing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Increasing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Self-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Conservation of Organizational St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Conservation of Famili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Continuing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Declining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edback System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37FF-EC44-4B24-81CE-FF9D2E6B9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MY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held but fals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misinformation and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agement 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ustomer 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actitioner’s 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E09D-2A7F-4131-8DC7-EB2FCA0B3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MY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available standards and procedures                                                                                                                                                                                                                                                                         for software are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ach organization feel that they have state-of-art software development tools since they have latest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ding more programmers when the work is behind schedule can catch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utsourcing the software project to third party, we can relax and let that party buil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D9C0-DEA1-4CE2-9852-4BCFE258E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neral statement of objective is enough to begin writing programs, the details can be filled in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ftware is easy to change because software is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2547-ED70-4260-B80A-ECE54A646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TIONER’S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nce the program is written, the job has been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ntil the program is running, there is no way of assessing the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only deliverable work product is the work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oftware Engineering creates voluminous and unnecessary documentation and invariably slows down softwa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5E12-B6B4-4562-9D40-900E183C6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762120" y="6094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-A LAYERE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val 5" descr=""/>
          <p:cNvPicPr/>
          <p:nvPr/>
        </p:nvPicPr>
        <p:blipFill>
          <a:blip r:embed="rId1"/>
          <a:stretch/>
        </p:blipFill>
        <p:spPr>
          <a:xfrm>
            <a:off x="1962000" y="2041560"/>
            <a:ext cx="5297760" cy="798480"/>
          </a:xfrm>
          <a:prstGeom prst="rect">
            <a:avLst/>
          </a:prstGeom>
          <a:ln w="0">
            <a:noFill/>
          </a:ln>
        </p:spPr>
      </p:pic>
      <p:sp>
        <p:nvSpPr>
          <p:cNvPr id="115" name="Arc 10"/>
          <p:cNvSpPr/>
          <p:nvPr/>
        </p:nvSpPr>
        <p:spPr>
          <a:xfrm rot="5400000">
            <a:off x="4133520" y="56880"/>
            <a:ext cx="838440" cy="5600880"/>
          </a:xfrm>
          <a:custGeom>
            <a:avLst/>
            <a:gdLst>
              <a:gd name="textAreaLeft" fmla="*/ 165600 w 838440"/>
              <a:gd name="textAreaRight" fmla="*/ 838800 w 838440"/>
              <a:gd name="textAreaTop" fmla="*/ 0 h 5600880"/>
              <a:gd name="textAreaBottom" fmla="*/ 5601240 h 5600880"/>
            </a:gdLst>
            <a:ahLst/>
            <a:rect l="textAreaLeft" t="textAreaTop" r="textAreaRight" b="textAreaBottom"/>
            <a:pathLst>
              <a:path stroke="0" w="838200" h="5600700">
                <a:moveTo>
                  <a:pt x="196188" y="428963"/>
                </a:moveTo>
                <a:lnTo>
                  <a:pt x="196188" y="428963"/>
                </a:lnTo>
                <a:arcTo wR="419100" hR="2800350" stAng="-5722204" swAng="11511429"/>
                <a:lnTo>
                  <a:pt x="419100" y="2800350"/>
                </a:lnTo>
                <a:close/>
              </a:path>
              <a:path fill="none" w="838200" h="5600700">
                <a:moveTo>
                  <a:pt x="196188" y="428963"/>
                </a:moveTo>
                <a:lnTo>
                  <a:pt x="196188" y="428963"/>
                </a:lnTo>
                <a:arcTo wR="419100" hR="2800350" stAng="-5722204" swAng="11511429"/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507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11"/>
          <p:cNvSpPr/>
          <p:nvPr/>
        </p:nvSpPr>
        <p:spPr>
          <a:xfrm rot="5400000">
            <a:off x="4190760" y="75960"/>
            <a:ext cx="685800" cy="6629400"/>
          </a:xfrm>
          <a:custGeom>
            <a:avLst/>
            <a:gdLst>
              <a:gd name="textAreaLeft" fmla="*/ 82080 w 685800"/>
              <a:gd name="textAreaRight" fmla="*/ 686160 w 685800"/>
              <a:gd name="textAreaTop" fmla="*/ 0 h 6629400"/>
              <a:gd name="textAreaBottom" fmla="*/ 6629760 h 6629400"/>
            </a:gdLst>
            <a:ahLst/>
            <a:rect l="textAreaLeft" t="textAreaTop" r="textAreaRight" b="textAreaBottom"/>
            <a:pathLst>
              <a:path stroke="0" w="685800" h="6629400">
                <a:moveTo>
                  <a:pt x="82268" y="1160720"/>
                </a:moveTo>
                <a:lnTo>
                  <a:pt x="82268" y="1160719"/>
                </a:lnTo>
                <a:arcTo wR="342900" hR="3314700" stAng="-5813956" swAng="11613118"/>
                <a:lnTo>
                  <a:pt x="342900" y="3314700"/>
                </a:lnTo>
                <a:close/>
              </a:path>
              <a:path fill="none" w="685800" h="6629400">
                <a:moveTo>
                  <a:pt x="82268" y="1160720"/>
                </a:moveTo>
                <a:lnTo>
                  <a:pt x="82268" y="1160719"/>
                </a:lnTo>
                <a:arcTo wR="342900" hR="3314700" stAng="-5813956" swAng="11613118"/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507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12"/>
          <p:cNvSpPr/>
          <p:nvPr/>
        </p:nvSpPr>
        <p:spPr>
          <a:xfrm rot="5400000">
            <a:off x="4190400" y="0"/>
            <a:ext cx="990720" cy="7696440"/>
          </a:xfrm>
          <a:custGeom>
            <a:avLst/>
            <a:gdLst>
              <a:gd name="textAreaLeft" fmla="*/ 186120 w 990720"/>
              <a:gd name="textAreaRight" fmla="*/ 991080 w 990720"/>
              <a:gd name="textAreaTop" fmla="*/ 0 h 7696440"/>
              <a:gd name="textAreaBottom" fmla="*/ 7696800 h 7696440"/>
            </a:gdLst>
            <a:ahLst/>
            <a:rect l="textAreaLeft" t="textAreaTop" r="textAreaRight" b="textAreaBottom"/>
            <a:pathLst>
              <a:path stroke="0" w="990600" h="7696200">
                <a:moveTo>
                  <a:pt x="186218" y="841194"/>
                </a:moveTo>
                <a:lnTo>
                  <a:pt x="186218" y="841193"/>
                </a:lnTo>
                <a:arcTo wR="495300" hR="3848100" stAng="-5752132" swAng="11432142"/>
                <a:lnTo>
                  <a:pt x="495300" y="3848100"/>
                </a:lnTo>
                <a:close/>
              </a:path>
              <a:path fill="none" w="990600" h="7696200">
                <a:moveTo>
                  <a:pt x="186218" y="841194"/>
                </a:moveTo>
                <a:lnTo>
                  <a:pt x="186218" y="841193"/>
                </a:lnTo>
                <a:arcTo wR="495300" hR="3848100" stAng="-5752132" swAng="11432142"/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50760" dir="5400000" blurRad="0" rotWithShape="0">
              <a:srgbClr val="000000">
                <a:alpha val="5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extBox 13" descr=""/>
          <p:cNvPicPr/>
          <p:nvPr/>
        </p:nvPicPr>
        <p:blipFill>
          <a:blip r:embed="rId2"/>
          <a:stretch/>
        </p:blipFill>
        <p:spPr>
          <a:xfrm>
            <a:off x="3425760" y="2773440"/>
            <a:ext cx="2603520" cy="42048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14" descr=""/>
          <p:cNvPicPr/>
          <p:nvPr/>
        </p:nvPicPr>
        <p:blipFill>
          <a:blip r:embed="rId3"/>
          <a:stretch/>
        </p:blipFill>
        <p:spPr>
          <a:xfrm>
            <a:off x="4054320" y="3309840"/>
            <a:ext cx="1438560" cy="42084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15" descr=""/>
          <p:cNvPicPr/>
          <p:nvPr/>
        </p:nvPicPr>
        <p:blipFill>
          <a:blip r:embed="rId4"/>
          <a:stretch/>
        </p:blipFill>
        <p:spPr>
          <a:xfrm>
            <a:off x="3822840" y="3767040"/>
            <a:ext cx="2114280" cy="42084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E797-5411-487D-B690-C13F21B6B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362320" y="4800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: Software Engineering-A  layere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Software Engineering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ving role of software, Changing Natur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, Software my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eneric view of proces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- A layered technology, a process framework, The Capability Maturity Model Integration (CMMI), Process patterns, process assessment, personal and team process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5943-D605-4DE3-A86E-5D4E582BF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ENGINEERING-A LAYERED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Bedrock that supports software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Foundation for 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Provide technical How-to’s for buil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Provide semi-automatic and automa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t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7E11-72B2-4116-B3A4-26D0F630A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FRAMEWOR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s the foundation for a complete 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a number of framework activities applicable to all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include a set of umbrella activities that are applicable across the entire softwar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C88D-D231-4585-8630-33B4D685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7"/>
          <p:cNvGrpSpPr/>
          <p:nvPr/>
        </p:nvGrpSpPr>
        <p:grpSpPr>
          <a:xfrm>
            <a:off x="1143000" y="2057400"/>
            <a:ext cx="5638680" cy="3809880"/>
            <a:chOff x="1143000" y="2057400"/>
            <a:chExt cx="5638680" cy="3809880"/>
          </a:xfrm>
        </p:grpSpPr>
        <p:grpSp>
          <p:nvGrpSpPr>
            <p:cNvPr id="131" name="Rectangle 4"/>
            <p:cNvGrpSpPr/>
            <p:nvPr/>
          </p:nvGrpSpPr>
          <p:grpSpPr>
            <a:xfrm>
              <a:off x="1143000" y="2057400"/>
              <a:ext cx="5638680" cy="3809880"/>
              <a:chOff x="1143000" y="2057400"/>
              <a:chExt cx="5638680" cy="3809880"/>
            </a:xfrm>
          </p:grpSpPr>
          <p:pic>
            <p:nvPicPr>
              <p:cNvPr id="132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057400"/>
                <a:ext cx="5638680" cy="38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1228320" y="2141640"/>
                <a:ext cx="5461560" cy="36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Box 6"/>
            <p:cNvSpPr/>
            <p:nvPr/>
          </p:nvSpPr>
          <p:spPr>
            <a:xfrm>
              <a:off x="1228320" y="2214360"/>
              <a:ext cx="33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on process frame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1375920" y="3232440"/>
              <a:ext cx="5092560" cy="2399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8"/>
            <p:cNvSpPr/>
            <p:nvPr/>
          </p:nvSpPr>
          <p:spPr>
            <a:xfrm>
              <a:off x="1523520" y="5268240"/>
              <a:ext cx="29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mbrella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1671120" y="2723400"/>
              <a:ext cx="4575960" cy="2544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0"/>
            <p:cNvSpPr/>
            <p:nvPr/>
          </p:nvSpPr>
          <p:spPr>
            <a:xfrm>
              <a:off x="1819080" y="2723400"/>
              <a:ext cx="25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work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1892880" y="3087000"/>
              <a:ext cx="4133160" cy="203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TextBox 13" descr=""/>
            <p:cNvPicPr/>
            <p:nvPr/>
          </p:nvPicPr>
          <p:blipFill>
            <a:blip r:embed="rId2"/>
            <a:stretch/>
          </p:blipFill>
          <p:spPr>
            <a:xfrm>
              <a:off x="1869120" y="3028680"/>
              <a:ext cx="194832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14"/>
            <p:cNvSpPr/>
            <p:nvPr/>
          </p:nvSpPr>
          <p:spPr>
            <a:xfrm>
              <a:off x="2261880" y="3377880"/>
              <a:ext cx="3542760" cy="43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sk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2261880" y="4032000"/>
              <a:ext cx="3542760" cy="43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lestones,delier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2261880" y="4541040"/>
              <a:ext cx="3542760" cy="43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E34A-10D2-46E8-B973-A24272D86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s a basis for the description of proc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proces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EB2F-38E3-4102-B1C5-9C2278425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view of engineering complimented by a number of umbrella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ject tracking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technical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configur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preparation an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abil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2C93-B087-4D0D-A71A-22F99AFB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ABILITY MATURITY MODEL INTEGRATION(CM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SEI(Software Engineering instit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rocess model followed by an organization and rate the organization with differen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software engineering capabilities should be present as organizations reach different levels of process capability and mat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I process meta model can be represented in different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A continuou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A stag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nuous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ts organization select specific improvement that best meet its business objectives and minimiz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vels are called capabil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scribes a process in 2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ach process area is assessed against specific goals and practices and is rated according to the follow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24B2-F6FB-453E-B10E-3FD8DC0B4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levels of CM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0: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: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: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:Quantitative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:Opt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1492-C8A8-4159-B64F-6FBABF83D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rocess is adhoc.Objective and goal of process areas are not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oal,objective,work tasks,work products and other activities of software process are carri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ctivities are monitored, reviewed, evaluated and contr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ctivities are standardized, integrat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antitatively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trics and indicators are available to measure the process an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tinuous process improvement based on quantitative feed back from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Use of innovative ideas and techniques, statistical quality control and other methods for process impr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AEF1-675A-48D2-A34D-2C6FAACF7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g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This model is used if you have no clue of how to improve the  process for quality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It gives a suggestion of what things other organizations have   found helpful to work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Levels are called maturit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D08D-00D2-4428-9DFF-AEA886469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7200" y="762120"/>
          <a:ext cx="8077320" cy="5486400"/>
        </p:xfrm>
        <a:graphic>
          <a:graphicData uri="http://schemas.openxmlformats.org/drawingml/2006/table">
            <a:tbl>
              <a:tblPr/>
              <a:tblGrid>
                <a:gridCol w="2095560"/>
                <a:gridCol w="2390760"/>
                <a:gridCol w="359100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iz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ous process 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rganizational Innovation 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ausal Analysis and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ly mana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rganizational process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Quantitative project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standard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evelop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Solu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Process Foc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Process Defini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ject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676F-3FA5-4CFD-9859-2B8583EFD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990720"/>
          <a:ext cx="8153640" cy="5641920"/>
        </p:xfrm>
        <a:graphic>
          <a:graphicData uri="http://schemas.openxmlformats.org/drawingml/2006/table">
            <a:tbl>
              <a:tblPr/>
              <a:tblGrid>
                <a:gridCol w="981360"/>
                <a:gridCol w="3095640"/>
                <a:gridCol w="2038320"/>
                <a:gridCol w="203832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Sl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to software Engineering: Evolving role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hanging nature of software &amp; legacy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my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generic view of process: Software Engineering-A layered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cess Frame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pability maturity model Integration(CMM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Patterns, Process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and Team Process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471E-AB11-4D1E-ABAB-AD86C0A20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57200" y="228600"/>
          <a:ext cx="8077320" cy="557856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Te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upplier  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Analysis and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Environment for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project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Plan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onitoring and Contr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 Agre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and Analy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and Produc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Assur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9020-C631-4334-8409-C40EE7297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cess is defined as collection of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attern provides a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tter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ask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ag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has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ing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5C03-B14D-4C5B-B708-874BF511D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specify the quality of the software or whether the software will be delivered on time or will it stand up to the user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ttempts to keep a check on the current state of the software process with the intention of improv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7DD1-A1FB-4CAB-BBA8-2BF08582D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304920" y="990720"/>
            <a:ext cx="8381880" cy="5029200"/>
            <a:chOff x="304920" y="990720"/>
            <a:chExt cx="8381880" cy="5029200"/>
          </a:xfrm>
        </p:grpSpPr>
        <p:sp>
          <p:nvSpPr>
            <p:cNvPr id="175" name="Oval 3"/>
            <p:cNvSpPr/>
            <p:nvPr/>
          </p:nvSpPr>
          <p:spPr>
            <a:xfrm>
              <a:off x="2286000" y="990720"/>
              <a:ext cx="426708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2514600" y="3048120"/>
              <a:ext cx="35049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>
              <a:off x="304920" y="4648320"/>
              <a:ext cx="33526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 Proc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ro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5639040" y="4572360"/>
              <a:ext cx="304776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ability determi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101120" y="50659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tiv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H="1">
              <a:off x="3657240" y="541044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>
              <a:off x="1980720" y="403884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6019920" y="403884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 rot="18962400">
              <a:off x="1640520" y="407484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 rot="2330400">
              <a:off x="6246000" y="396216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 rot="18920400">
              <a:off x="916920" y="32000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ntif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 rot="18837000">
              <a:off x="958320" y="338832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ification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 rot="13371000">
              <a:off x="6477120" y="319860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ntif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 rot="2532000">
              <a:off x="6404040" y="3047760"/>
              <a:ext cx="208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abilities &amp;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0"/>
            <p:cNvSpPr/>
            <p:nvPr/>
          </p:nvSpPr>
          <p:spPr>
            <a:xfrm rot="2532000">
              <a:off x="4266360" y="243756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amined 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>
              <a:off x="4038480" y="2133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 flipV="1">
              <a:off x="762120" y="1905120"/>
              <a:ext cx="213336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 flipH="1" flipV="1">
              <a:off x="6019920" y="1905120"/>
              <a:ext cx="2286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ACHES TO SOFTWRE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CMMI assessment (SCAM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M based appraisal for internal process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(ISO/IEC 155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 9001:2000 fo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EA3D-E683-4BAC-B685-B1C561F3B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haroni"/>
              </a:rPr>
              <a:t>Personal and Team Softwar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DESIG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MOR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1819-FC27-4240-B5C4-A44D477A1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haroni"/>
              </a:rPr>
              <a:t>Personal and Team Softwar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f T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self-directed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e the te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ance of CMM level 5 behavior as normal to accelerate software process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mprovement guidance to high maturit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A54B-FD05-4EB7-BFDA-14401049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to software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volving role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role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Information transform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, managing and dis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hicle for delivering 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Control of computer(operating system),the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of information(networks)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eation of other program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B67E-5703-43DD-A1A9-69B017C9C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s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grams that when executed provid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nable the programs to adequ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escribe the operation and use of the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DCA8-B50B-4709-B7AF-DCF311F1F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ition  of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plication of science, tools and methods to find cost effective solution t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i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 is defined as systematic, disciplined and quantifiable approach for the development, operation and maintenance of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7B1C-CB14-495F-ADE3-D4320D8D3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is developed or engine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 is not manufactured in the classical 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does not wear out. How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deteriorates due to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is custom bui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assembling existing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lthough the industry is moving towards component based construction, most software continues to be custom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5E83-AD13-489B-B7A1-E3500B8D5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 rot="16200000">
            <a:off x="-538920" y="16218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lur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2"/>
          <p:cNvGrpSpPr/>
          <p:nvPr/>
        </p:nvGrpSpPr>
        <p:grpSpPr>
          <a:xfrm>
            <a:off x="1905120" y="1447200"/>
            <a:ext cx="4876920" cy="3843000"/>
            <a:chOff x="1905120" y="1447200"/>
            <a:chExt cx="4876920" cy="3843000"/>
          </a:xfrm>
        </p:grpSpPr>
        <p:sp>
          <p:nvSpPr>
            <p:cNvPr id="72" name="TextBox 13"/>
            <p:cNvSpPr/>
            <p:nvPr/>
          </p:nvSpPr>
          <p:spPr>
            <a:xfrm>
              <a:off x="2971800" y="495288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1"/>
            <p:cNvGrpSpPr/>
            <p:nvPr/>
          </p:nvGrpSpPr>
          <p:grpSpPr>
            <a:xfrm>
              <a:off x="1905120" y="1447200"/>
              <a:ext cx="4876920" cy="3050640"/>
              <a:chOff x="1905120" y="1447200"/>
              <a:chExt cx="4876920" cy="3050640"/>
            </a:xfrm>
          </p:grpSpPr>
          <p:cxnSp>
            <p:nvCxnSpPr>
              <p:cNvPr id="74" name="Straight Arrow Connector 5"/>
              <p:cNvCxnSpPr/>
              <p:nvPr/>
            </p:nvCxnSpPr>
            <p:spPr>
              <a:xfrm flipV="1">
                <a:off x="1905120" y="1447200"/>
                <a:ext cx="2160" cy="30488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75" name="Straight Arrow Connector 7"/>
              <p:cNvCxnSpPr/>
              <p:nvPr/>
            </p:nvCxnSpPr>
            <p:spPr>
              <a:xfrm>
                <a:off x="1905120" y="4496040"/>
                <a:ext cx="4877280" cy="21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7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1905120"/>
                <a:ext cx="4646520" cy="2473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77" name="Straight Arrow Connector 17"/>
              <p:cNvCxnSpPr/>
              <p:nvPr/>
            </p:nvCxnSpPr>
            <p:spPr>
              <a:xfrm flipH="1">
                <a:off x="2208960" y="2818440"/>
                <a:ext cx="686520" cy="153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78" name="Straight Arrow Connector 18"/>
              <p:cNvCxnSpPr/>
              <p:nvPr/>
            </p:nvCxnSpPr>
            <p:spPr>
              <a:xfrm flipH="1">
                <a:off x="5562000" y="2742120"/>
                <a:ext cx="686520" cy="153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</p:cxnSp>
          <p:sp>
            <p:nvSpPr>
              <p:cNvPr id="79" name="TextBox 19"/>
              <p:cNvSpPr/>
              <p:nvPr/>
            </p:nvSpPr>
            <p:spPr>
              <a:xfrm>
                <a:off x="2895480" y="2514600"/>
                <a:ext cx="129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fant mortality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20"/>
              <p:cNvSpPr/>
              <p:nvPr/>
            </p:nvSpPr>
            <p:spPr>
              <a:xfrm>
                <a:off x="4572000" y="2743200"/>
                <a:ext cx="137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Wea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ut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TextBox 23"/>
          <p:cNvSpPr/>
          <p:nvPr/>
        </p:nvSpPr>
        <p:spPr>
          <a:xfrm>
            <a:off x="1676520" y="579132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: FAILURE CURVE FOR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290B-6C8B-42FC-8D4B-927FA7B5F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Picture1"/>
          <p:cNvPicPr/>
          <p:nvPr/>
        </p:nvPicPr>
        <p:blipFill>
          <a:blip r:embed="rId1"/>
          <a:stretch/>
        </p:blipFill>
        <p:spPr>
          <a:xfrm>
            <a:off x="990720" y="1371600"/>
            <a:ext cx="64767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676520" y="5791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: FAILURE CURVE FO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4386-1420-482E-A225-439CDCE63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30:35Z</dcterms:created>
  <dc:creator>REENA</dc:creator>
  <dc:description/>
  <dc:language>en-US</dc:language>
  <cp:lastModifiedBy>sahithi</cp:lastModifiedBy>
  <dcterms:modified xsi:type="dcterms:W3CDTF">2012-05-12T13:46:49Z</dcterms:modified>
  <cp:revision>123</cp:revision>
  <dc:subject/>
  <dc:title>unit1</dc:title>
</cp:coreProperties>
</file>