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143E1-33A2-4B06-8401-AE9241111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8BA4-3DCC-4E52-A463-8E227864B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18D4-8B83-4FB0-9A56-8817FD76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1ED1-99E7-4381-8C0C-20831F39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306B-88D0-4C08-92D7-5207FF67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FF80-C25B-40E1-9EED-06DE328A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F32B-7DB5-420D-97D9-2B1F5F224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04D1-BC3C-4BC4-BC2F-5FE399A8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8812-78D1-49B5-BA80-1D316EF4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26B-7E2D-49B1-A74D-536FFFE7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5369-7305-439F-87BD-1DEAA65C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8784-B9D8-498C-90BE-F97A6B81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E0B-D0EE-4E9A-94C6-70096232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8FF1-656F-4AAB-9DCE-2073442B9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A57B-0D66-480E-B4ED-F60AFC07D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1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1722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B757-8C40-4B31-8DE1-FF7530B4C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NGING NATURE OF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 Broad Categories of software are challenges for software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 and scientific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-lin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ificial intelligenc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8563-8B72-45D2-8C12-77317490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CHANGING NATURE OF SOFTWA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softwar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software is a collection of programs written to service oth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mbedded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resides in read-only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is used to control products and systems for the consumer and industrial mark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tificial intelligence softwar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tificial intelligence (AI) software makes use of nonnumeric algorithms to solve complex problems that are not amenable to computation or straightforwar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ing and scientific software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gineering and scientific software have been characterized by "number crunching" algorith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09AD9-0F9B-47DB-9A4E-63161993B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cy software are older programs that are developed decade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quality of legacy software is poor because it has inextensible design,convoluted code,poor and nonexistent documentation,test cases and results that are not achie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3380-F0D7-418D-9A92-23F0C5CB9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time passes legacy systems evolve due to following reas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must be adapted to meet the needs of new computing environment or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must be enhanced to implement new business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must be extended to make it interoperable with more modern systems or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ftware must be rearchitected to make it viable within a network environ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4722D-6C63-44E3-83F3-B7740F342F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evolves due to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nges occur due to correction,adaption and enhanc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 Laws of unified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Continuing Chan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Increasing Complex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Self-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Conservation of Organizational Stab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Conservation of Famili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Continuing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aw of Declining Qu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eedback System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FBAE-02DF-4CC4-BDE9-3D3256D8F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MY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ly held but fals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agate misinformation and conf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ypes of 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nagement 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ustomer 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ractitioner’s my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BDCC7-F335-46AC-AB00-EE3D7D66E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MENT MY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available standards and procedures                                                                                                                                                                                                                                                                         for software are enoug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ach organization feel that they have state-of-art software development tools since they have latest compu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Adding more programmers when the work is behind schedule can catch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utsourcing the software project to third party, we can relax and let that party buil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289D1-D0FB-4A46-B1B3-C4303B1C7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STOMER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General statement of objective is enough to begin writing programs, the details can be filled in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th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oftware is easy to change because software is 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73461-89DF-4086-BA27-D8765848E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TIONER’S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Once the program is written, the job has been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Until the program is running, there is no way of assessing the qua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he only deliverable work product is the work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th(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oftware Engineering creates voluminous and unnecessary documentation and invariably slows down softwa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B10E-17B5-45C9-9C68-E0AB58096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4"/>
          <p:cNvSpPr/>
          <p:nvPr/>
        </p:nvSpPr>
        <p:spPr>
          <a:xfrm>
            <a:off x="762120" y="609480"/>
            <a:ext cx="8076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-A LAYERED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Oval 5" descr=""/>
          <p:cNvPicPr/>
          <p:nvPr/>
        </p:nvPicPr>
        <p:blipFill>
          <a:blip r:embed="rId1"/>
          <a:stretch/>
        </p:blipFill>
        <p:spPr>
          <a:xfrm>
            <a:off x="1962000" y="2041560"/>
            <a:ext cx="5297760" cy="798480"/>
          </a:xfrm>
          <a:prstGeom prst="rect">
            <a:avLst/>
          </a:prstGeom>
          <a:ln w="0">
            <a:noFill/>
          </a:ln>
        </p:spPr>
      </p:pic>
      <p:sp>
        <p:nvSpPr>
          <p:cNvPr id="115" name="Arc 10"/>
          <p:cNvSpPr/>
          <p:nvPr/>
        </p:nvSpPr>
        <p:spPr>
          <a:xfrm rot="5400000">
            <a:off x="4133520" y="56880"/>
            <a:ext cx="838440" cy="5600880"/>
          </a:xfrm>
          <a:custGeom>
            <a:avLst/>
            <a:gdLst>
              <a:gd name="textAreaLeft" fmla="*/ 165600 w 838440"/>
              <a:gd name="textAreaRight" fmla="*/ 838800 w 838440"/>
              <a:gd name="textAreaTop" fmla="*/ 0 h 5600880"/>
              <a:gd name="textAreaBottom" fmla="*/ 5601240 h 5600880"/>
            </a:gdLst>
            <a:ahLst/>
            <a:rect l="textAreaLeft" t="textAreaTop" r="textAreaRight" b="textAreaBottom"/>
            <a:pathLst>
              <a:path stroke="0" w="838200" h="5600700">
                <a:moveTo>
                  <a:pt x="196188" y="428963"/>
                </a:moveTo>
                <a:lnTo>
                  <a:pt x="196188" y="428963"/>
                </a:lnTo>
                <a:arcTo wR="419100" hR="2800350" stAng="-5722204" swAng="11511429"/>
                <a:lnTo>
                  <a:pt x="419100" y="2800350"/>
                </a:lnTo>
                <a:close/>
              </a:path>
              <a:path fill="none" w="838200" h="5600700">
                <a:moveTo>
                  <a:pt x="196188" y="428963"/>
                </a:moveTo>
                <a:lnTo>
                  <a:pt x="196188" y="428963"/>
                </a:lnTo>
                <a:arcTo wR="419100" hR="2800350" stAng="-5722204" swAng="11511429"/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5076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rc 11"/>
          <p:cNvSpPr/>
          <p:nvPr/>
        </p:nvSpPr>
        <p:spPr>
          <a:xfrm rot="5400000">
            <a:off x="4190760" y="75960"/>
            <a:ext cx="685800" cy="6629400"/>
          </a:xfrm>
          <a:custGeom>
            <a:avLst/>
            <a:gdLst>
              <a:gd name="textAreaLeft" fmla="*/ 82080 w 685800"/>
              <a:gd name="textAreaRight" fmla="*/ 686160 w 685800"/>
              <a:gd name="textAreaTop" fmla="*/ 0 h 6629400"/>
              <a:gd name="textAreaBottom" fmla="*/ 6629760 h 6629400"/>
            </a:gdLst>
            <a:ahLst/>
            <a:rect l="textAreaLeft" t="textAreaTop" r="textAreaRight" b="textAreaBottom"/>
            <a:pathLst>
              <a:path stroke="0" w="685800" h="6629400">
                <a:moveTo>
                  <a:pt x="82268" y="1160720"/>
                </a:moveTo>
                <a:lnTo>
                  <a:pt x="82268" y="1160719"/>
                </a:lnTo>
                <a:arcTo wR="342900" hR="3314700" stAng="-5813956" swAng="11613118"/>
                <a:lnTo>
                  <a:pt x="342900" y="3314700"/>
                </a:lnTo>
                <a:close/>
              </a:path>
              <a:path fill="none" w="685800" h="6629400">
                <a:moveTo>
                  <a:pt x="82268" y="1160720"/>
                </a:moveTo>
                <a:lnTo>
                  <a:pt x="82268" y="1160719"/>
                </a:lnTo>
                <a:arcTo wR="342900" hR="3314700" stAng="-5813956" swAng="11613118"/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50760" dir="5400000" blurRad="0" rotWithShape="0">
              <a:srgbClr val="000000">
                <a:alpha val="4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rc 12"/>
          <p:cNvSpPr/>
          <p:nvPr/>
        </p:nvSpPr>
        <p:spPr>
          <a:xfrm rot="5400000">
            <a:off x="4190400" y="0"/>
            <a:ext cx="990720" cy="7696440"/>
          </a:xfrm>
          <a:custGeom>
            <a:avLst/>
            <a:gdLst>
              <a:gd name="textAreaLeft" fmla="*/ 186120 w 990720"/>
              <a:gd name="textAreaRight" fmla="*/ 991080 w 990720"/>
              <a:gd name="textAreaTop" fmla="*/ 0 h 7696440"/>
              <a:gd name="textAreaBottom" fmla="*/ 7696800 h 7696440"/>
            </a:gdLst>
            <a:ahLst/>
            <a:rect l="textAreaLeft" t="textAreaTop" r="textAreaRight" b="textAreaBottom"/>
            <a:pathLst>
              <a:path stroke="0" w="990600" h="7696200">
                <a:moveTo>
                  <a:pt x="186218" y="841194"/>
                </a:moveTo>
                <a:lnTo>
                  <a:pt x="186218" y="841193"/>
                </a:lnTo>
                <a:arcTo wR="495300" hR="3848100" stAng="-5752132" swAng="11432142"/>
                <a:lnTo>
                  <a:pt x="495300" y="3848100"/>
                </a:lnTo>
                <a:close/>
              </a:path>
              <a:path fill="none" w="990600" h="7696200">
                <a:moveTo>
                  <a:pt x="186218" y="841194"/>
                </a:moveTo>
                <a:lnTo>
                  <a:pt x="186218" y="841193"/>
                </a:lnTo>
                <a:arcTo wR="495300" hR="3848100" stAng="-5752132" swAng="11432142"/>
              </a:path>
            </a:pathLst>
          </a:custGeom>
          <a:noFill/>
          <a:ln w="38160">
            <a:solidFill>
              <a:srgbClr val="000000"/>
            </a:solidFill>
            <a:round/>
          </a:ln>
          <a:effectLst>
            <a:outerShdw dist="50760" dir="5400000" blurRad="0" rotWithShape="0">
              <a:srgbClr val="000000">
                <a:alpha val="5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extBox 13" descr=""/>
          <p:cNvPicPr/>
          <p:nvPr/>
        </p:nvPicPr>
        <p:blipFill>
          <a:blip r:embed="rId2"/>
          <a:stretch/>
        </p:blipFill>
        <p:spPr>
          <a:xfrm>
            <a:off x="3425760" y="2773440"/>
            <a:ext cx="2603520" cy="42048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14" descr=""/>
          <p:cNvPicPr/>
          <p:nvPr/>
        </p:nvPicPr>
        <p:blipFill>
          <a:blip r:embed="rId3"/>
          <a:stretch/>
        </p:blipFill>
        <p:spPr>
          <a:xfrm>
            <a:off x="4054320" y="3309840"/>
            <a:ext cx="1438560" cy="420840"/>
          </a:xfrm>
          <a:prstGeom prst="rect">
            <a:avLst/>
          </a:prstGeom>
          <a:ln w="0">
            <a:noFill/>
          </a:ln>
        </p:spPr>
      </p:pic>
      <p:pic>
        <p:nvPicPr>
          <p:cNvPr id="120" name="TextBox 15" descr=""/>
          <p:cNvPicPr/>
          <p:nvPr/>
        </p:nvPicPr>
        <p:blipFill>
          <a:blip r:embed="rId4"/>
          <a:stretch/>
        </p:blipFill>
        <p:spPr>
          <a:xfrm>
            <a:off x="3822840" y="3767040"/>
            <a:ext cx="2114280" cy="420840"/>
          </a:xfrm>
          <a:prstGeom prst="rect">
            <a:avLst/>
          </a:prstGeom>
          <a:ln w="0">
            <a:noFill/>
          </a:ln>
        </p:spPr>
      </p:pic>
      <p:sp>
        <p:nvSpPr>
          <p:cNvPr id="121" name="Slide Number Placeholder 1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1984-5A99-4416-8D07-8B9D5D4D2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2362320" y="48006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: Software Engineering-A  layere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1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roduction to Software Engineering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ving role of software, Changing Nature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, Software my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Generic view of process 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- A layered technology, a process framework, The Capability Maturity Model Integration (CMMI), Process patterns, process assessment, personal and team process mode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5C87-184D-4961-8BB0-A90240D4E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ENGINEERING-A LAYERED TECHNOLOG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Bedrock that supports software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inee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Foundation for software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Provide technical How-to’s for buil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Provide semi-automatic and automat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to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4B5F-295E-4501-9B37-5F732AF67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FRAMEWOR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ishes the foundation for a complete 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es a number of framework activities applicable to all software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include a set of umbrella activities that are applicable across the entire softwar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70CB-5467-4593-9546-49A4CD270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7"/>
          <p:cNvGrpSpPr/>
          <p:nvPr/>
        </p:nvGrpSpPr>
        <p:grpSpPr>
          <a:xfrm>
            <a:off x="1143000" y="2057400"/>
            <a:ext cx="5638680" cy="3809880"/>
            <a:chOff x="1143000" y="2057400"/>
            <a:chExt cx="5638680" cy="3809880"/>
          </a:xfrm>
        </p:grpSpPr>
        <p:grpSp>
          <p:nvGrpSpPr>
            <p:cNvPr id="131" name="Rectangle 4"/>
            <p:cNvGrpSpPr/>
            <p:nvPr/>
          </p:nvGrpSpPr>
          <p:grpSpPr>
            <a:xfrm>
              <a:off x="1143000" y="2057400"/>
              <a:ext cx="5638680" cy="3809880"/>
              <a:chOff x="1143000" y="2057400"/>
              <a:chExt cx="5638680" cy="3809880"/>
            </a:xfrm>
          </p:grpSpPr>
          <p:pic>
            <p:nvPicPr>
              <p:cNvPr id="132" name="Rectangl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143000" y="2057400"/>
                <a:ext cx="5638680" cy="380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1228320" y="2141640"/>
                <a:ext cx="5461560" cy="363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TextBox 6"/>
            <p:cNvSpPr/>
            <p:nvPr/>
          </p:nvSpPr>
          <p:spPr>
            <a:xfrm>
              <a:off x="1228320" y="2214360"/>
              <a:ext cx="339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ommon process frame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7"/>
            <p:cNvSpPr/>
            <p:nvPr/>
          </p:nvSpPr>
          <p:spPr>
            <a:xfrm>
              <a:off x="1375920" y="3232440"/>
              <a:ext cx="5092560" cy="23994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8"/>
            <p:cNvSpPr/>
            <p:nvPr/>
          </p:nvSpPr>
          <p:spPr>
            <a:xfrm>
              <a:off x="1523520" y="5268240"/>
              <a:ext cx="2952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mbrella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1671120" y="2723400"/>
              <a:ext cx="4575960" cy="2544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10"/>
            <p:cNvSpPr/>
            <p:nvPr/>
          </p:nvSpPr>
          <p:spPr>
            <a:xfrm>
              <a:off x="1819080" y="2723400"/>
              <a:ext cx="250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mework activit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1"/>
            <p:cNvSpPr/>
            <p:nvPr/>
          </p:nvSpPr>
          <p:spPr>
            <a:xfrm>
              <a:off x="1892880" y="3087000"/>
              <a:ext cx="4133160" cy="20358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TextBox 13" descr=""/>
            <p:cNvPicPr/>
            <p:nvPr/>
          </p:nvPicPr>
          <p:blipFill>
            <a:blip r:embed="rId2"/>
            <a:stretch/>
          </p:blipFill>
          <p:spPr>
            <a:xfrm>
              <a:off x="1869120" y="3028680"/>
              <a:ext cx="1948320" cy="43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Rectangle 14"/>
            <p:cNvSpPr/>
            <p:nvPr/>
          </p:nvSpPr>
          <p:spPr>
            <a:xfrm>
              <a:off x="2261880" y="3377880"/>
              <a:ext cx="3542760" cy="43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sks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5"/>
            <p:cNvSpPr/>
            <p:nvPr/>
          </p:nvSpPr>
          <p:spPr>
            <a:xfrm>
              <a:off x="2261880" y="4032000"/>
              <a:ext cx="3542760" cy="43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lestones,delierab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2261880" y="4541040"/>
              <a:ext cx="3542760" cy="4359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Slide Number Placeholder 1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48F2-77B2-4BA2-A844-2F4840AE1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s a basis for the description of process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process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FEE9-299E-4A74-895C-40FA5C7385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ROCESS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view of engineering complimented by a number of umbrella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ject tracking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technical re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quality assu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configuration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preparation and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abilit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54E5-4981-4793-9D82-8175096381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PABILITY MATURITY MODEL INTEGRATION(CMMI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d by SEI(Software Engineering institu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ess the process model followed by an organization and rate the organization with different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t of software engineering capabilities should be present as organizations reach different levels of process capability and matur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MI process meta model can be represented in different w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A continuous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A stag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tinuous mod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ts organization select specific improvement that best meet its business objectives and minimize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Levels are called capability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Describes a process in 2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Each process area is assessed against specific goals and practices and is rated according to the following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9D99-C4C4-45CC-9EA5-3406D060D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 levels of CM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0:Incomp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1: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2: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3: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4:Quantitatively manag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 5:Optim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7D432-9A6C-4B85-AB0E-28A429668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Process is adhoc.Objective and goal of process areas are not kn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erform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Goal,objective,work tasks,work products and other activities of software process are carried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ctivities are monitored, reviewed, evaluated and controll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ctivities are standardized, integrated and docu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Quantitatively Mana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etrics and indicators are available to measure the process and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ontinuous process improvement based on quantitative feed back from the us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Use of innovative ideas and techniques, statistical quality control and other methods for process improv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13A4-5B0C-4970-B1E8-965BF499E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M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tag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This model is used if you have no clue of how to improve the  process for quality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It gives a suggestion of what things other organizations have   found helpful to work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Levels are called maturity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6E81-B30D-4DC8-81FB-EA50DF2C9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7200" y="762120"/>
          <a:ext cx="8077320" cy="5486400"/>
        </p:xfrm>
        <a:graphic>
          <a:graphicData uri="http://schemas.openxmlformats.org/drawingml/2006/table">
            <a:tbl>
              <a:tblPr/>
              <a:tblGrid>
                <a:gridCol w="2095560"/>
                <a:gridCol w="2390760"/>
                <a:gridCol w="359100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V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C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ARE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imiz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ous process Improv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rganizational Innovation a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ploy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Causal Analysis and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ly mana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ntitative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rganizational process perform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Quantitative project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standard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Develop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Solu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ific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Process Focu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Process Definit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Trai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Project Manag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k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69C4-9753-4BD5-A2DF-004517CF5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80880" y="990720"/>
          <a:ext cx="8153640" cy="5641920"/>
        </p:xfrm>
        <a:graphic>
          <a:graphicData uri="http://schemas.openxmlformats.org/drawingml/2006/table">
            <a:tbl>
              <a:tblPr/>
              <a:tblGrid>
                <a:gridCol w="981360"/>
                <a:gridCol w="3095640"/>
                <a:gridCol w="2038320"/>
                <a:gridCol w="2038320"/>
              </a:tblGrid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Sl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oduction to software Engineering: Evolving role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hanging nature of software &amp; legacy softwa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my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generic view of process: Software Engineering-A layered technolog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ocess Frame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Capability maturity model Integration(CMM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Patterns, Process assess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onal and Team Process mod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90A46-8C82-42B5-9069-EA485E7DF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457200" y="228600"/>
          <a:ext cx="8077320" cy="557856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94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Team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grated Supplier  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sion Analysis and Resolu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−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ganizational Environment for Integ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ag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ic project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quirements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Planning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ct Monitoring and Contr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lier Agreem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surement and Analysi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and Produc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lity Assura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figuration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A273-473C-4BFE-9D23-4E39EC56C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Process is defined as collection of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pattern provides a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em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attern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Task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tag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hase Pat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ing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ed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C51F-8AA0-4658-BA56-4D7913ECF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specify the quality of the software or whether the software will be delivered on time or will it stand up to the user requir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ttempts to keep a check on the current state of the software process with the intention of improv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818-68FD-4707-9692-934DC7493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22"/>
          <p:cNvGrpSpPr/>
          <p:nvPr/>
        </p:nvGrpSpPr>
        <p:grpSpPr>
          <a:xfrm>
            <a:off x="304920" y="990720"/>
            <a:ext cx="8381880" cy="5029200"/>
            <a:chOff x="304920" y="990720"/>
            <a:chExt cx="8381880" cy="5029200"/>
          </a:xfrm>
        </p:grpSpPr>
        <p:sp>
          <p:nvSpPr>
            <p:cNvPr id="175" name="Oval 3"/>
            <p:cNvSpPr/>
            <p:nvPr/>
          </p:nvSpPr>
          <p:spPr>
            <a:xfrm>
              <a:off x="2286000" y="990720"/>
              <a:ext cx="426708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4"/>
            <p:cNvSpPr/>
            <p:nvPr/>
          </p:nvSpPr>
          <p:spPr>
            <a:xfrm>
              <a:off x="2514600" y="3048120"/>
              <a:ext cx="350496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 Pro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ess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5"/>
            <p:cNvSpPr/>
            <p:nvPr/>
          </p:nvSpPr>
          <p:spPr>
            <a:xfrm>
              <a:off x="304920" y="4648320"/>
              <a:ext cx="33526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ftware Proc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mprov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6"/>
            <p:cNvSpPr/>
            <p:nvPr/>
          </p:nvSpPr>
          <p:spPr>
            <a:xfrm>
              <a:off x="5639040" y="4572360"/>
              <a:ext cx="3047760" cy="144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ability determin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101120" y="50659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tivat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8"/>
            <p:cNvSpPr/>
            <p:nvPr/>
          </p:nvSpPr>
          <p:spPr>
            <a:xfrm flipH="1">
              <a:off x="3657240" y="541044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9"/>
            <p:cNvSpPr/>
            <p:nvPr/>
          </p:nvSpPr>
          <p:spPr>
            <a:xfrm flipH="1">
              <a:off x="1980720" y="4038840"/>
              <a:ext cx="6094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0"/>
            <p:cNvSpPr/>
            <p:nvPr/>
          </p:nvSpPr>
          <p:spPr>
            <a:xfrm>
              <a:off x="6019920" y="4038840"/>
              <a:ext cx="99036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1"/>
            <p:cNvSpPr/>
            <p:nvPr/>
          </p:nvSpPr>
          <p:spPr>
            <a:xfrm rot="18962400">
              <a:off x="1640520" y="407484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2"/>
            <p:cNvSpPr/>
            <p:nvPr/>
          </p:nvSpPr>
          <p:spPr>
            <a:xfrm rot="2330400">
              <a:off x="6246000" y="3962160"/>
              <a:ext cx="86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eads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14"/>
            <p:cNvSpPr/>
            <p:nvPr/>
          </p:nvSpPr>
          <p:spPr>
            <a:xfrm rot="18920400">
              <a:off x="916920" y="320004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ntif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15"/>
            <p:cNvSpPr/>
            <p:nvPr/>
          </p:nvSpPr>
          <p:spPr>
            <a:xfrm rot="18837000">
              <a:off x="958320" y="3388320"/>
              <a:ext cx="165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ification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17"/>
            <p:cNvSpPr/>
            <p:nvPr/>
          </p:nvSpPr>
          <p:spPr>
            <a:xfrm rot="13371000">
              <a:off x="6477120" y="3198600"/>
              <a:ext cx="109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entif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18"/>
            <p:cNvSpPr/>
            <p:nvPr/>
          </p:nvSpPr>
          <p:spPr>
            <a:xfrm rot="2532000">
              <a:off x="6404040" y="3047760"/>
              <a:ext cx="208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abilities &amp; R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20"/>
            <p:cNvSpPr/>
            <p:nvPr/>
          </p:nvSpPr>
          <p:spPr>
            <a:xfrm rot="2532000">
              <a:off x="4266360" y="243756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xamined b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2"/>
            <p:cNvSpPr/>
            <p:nvPr/>
          </p:nvSpPr>
          <p:spPr>
            <a:xfrm>
              <a:off x="4038480" y="213372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3"/>
            <p:cNvSpPr/>
            <p:nvPr/>
          </p:nvSpPr>
          <p:spPr>
            <a:xfrm flipV="1">
              <a:off x="762120" y="1905120"/>
              <a:ext cx="213336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Line 24"/>
            <p:cNvSpPr/>
            <p:nvPr/>
          </p:nvSpPr>
          <p:spPr>
            <a:xfrm flipH="1" flipV="1">
              <a:off x="6019920" y="1905120"/>
              <a:ext cx="2286000" cy="274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PPROACHES TO SOFTWRE ASSESS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CMMI assessment (SCAMP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M based appraisal for internal process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CE(ISO/IEC 1550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 9001:2000 for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79AB6-E121-4788-B22E-370E7A8BB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haroni"/>
              </a:rPr>
              <a:t>Personal and Team Softwar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 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 LEVEL DESIGN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MOR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3E436-328A-4D9B-BB59-EB56A92BE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haroni"/>
              </a:rPr>
              <a:t>Personal and Team Software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m softwar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of T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self-directed te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e the tea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ptance of CMM level 5 behavior as normal to accelerate software process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improvement guidance to high maturit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F8381-8F04-40A5-B822-39DABE63E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roduction to software Engine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Evolving role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al role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Information transforme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, managing and displa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ehicle for delivering a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  Control of computer(operating system),the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of information(networks)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reation of other programs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8505-545D-4A83-9789-DC0F20D23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is defined 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Programs that when executed provid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red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Data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Enable the programs to adequ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ipul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Describe the operation and use of the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39B1-DD39-4D31-9DB1-BA0681ADFA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ition  of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pplication of science, tools and methods to find cost effective solution to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finition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E is defined as systematic, disciplined and quantifiable approach for the development, operation and maintenance of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CAD8-3DCB-41A6-8802-F8FA80C2FC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 to software Engi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aracteristics of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is developed or engineer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 is not manufactured in the classical se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does not wear out. Howe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deteriorates due to cha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ftware is custom buil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ather than assembling existing compon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Although the industry is moving towards component based construction, most software continues to be custom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B1C2-3D1C-407A-B67D-E4B2E7D7D2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HARD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 rot="16200000">
            <a:off x="-538920" y="16218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lure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 22"/>
          <p:cNvGrpSpPr/>
          <p:nvPr/>
        </p:nvGrpSpPr>
        <p:grpSpPr>
          <a:xfrm>
            <a:off x="1905120" y="1447200"/>
            <a:ext cx="4876920" cy="3843000"/>
            <a:chOff x="1905120" y="1447200"/>
            <a:chExt cx="4876920" cy="3843000"/>
          </a:xfrm>
        </p:grpSpPr>
        <p:sp>
          <p:nvSpPr>
            <p:cNvPr id="72" name="TextBox 13"/>
            <p:cNvSpPr/>
            <p:nvPr/>
          </p:nvSpPr>
          <p:spPr>
            <a:xfrm>
              <a:off x="2971800" y="4952880"/>
              <a:ext cx="2133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Group 21"/>
            <p:cNvGrpSpPr/>
            <p:nvPr/>
          </p:nvGrpSpPr>
          <p:grpSpPr>
            <a:xfrm>
              <a:off x="1905120" y="1447200"/>
              <a:ext cx="4876920" cy="3050640"/>
              <a:chOff x="1905120" y="1447200"/>
              <a:chExt cx="4876920" cy="3050640"/>
            </a:xfrm>
          </p:grpSpPr>
          <p:cxnSp>
            <p:nvCxnSpPr>
              <p:cNvPr id="74" name="Straight Arrow Connector 5"/>
              <p:cNvCxnSpPr/>
              <p:nvPr/>
            </p:nvCxnSpPr>
            <p:spPr>
              <a:xfrm flipV="1">
                <a:off x="1905120" y="1447200"/>
                <a:ext cx="2160" cy="304884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75" name="Straight Arrow Connector 7"/>
              <p:cNvCxnSpPr/>
              <p:nvPr/>
            </p:nvCxnSpPr>
            <p:spPr>
              <a:xfrm>
                <a:off x="1905120" y="4496040"/>
                <a:ext cx="4877280" cy="216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pic>
            <p:nvPicPr>
              <p:cNvPr id="76" name="Pictur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1905120"/>
                <a:ext cx="4646520" cy="2473200"/>
              </a:xfrm>
              <a:prstGeom prst="rect">
                <a:avLst/>
              </a:prstGeom>
              <a:ln w="0">
                <a:noFill/>
              </a:ln>
            </p:spPr>
          </p:pic>
          <p:cxnSp>
            <p:nvCxnSpPr>
              <p:cNvPr id="77" name="Straight Arrow Connector 17"/>
              <p:cNvCxnSpPr/>
              <p:nvPr/>
            </p:nvCxnSpPr>
            <p:spPr>
              <a:xfrm flipH="1">
                <a:off x="2208960" y="2818440"/>
                <a:ext cx="686520" cy="153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78" name="Straight Arrow Connector 18"/>
              <p:cNvCxnSpPr/>
              <p:nvPr/>
            </p:nvCxnSpPr>
            <p:spPr>
              <a:xfrm flipH="1">
                <a:off x="5562000" y="2742120"/>
                <a:ext cx="686520" cy="153000"/>
              </a:xfrm>
              <a:prstGeom prst="straightConnector1">
                <a:avLst/>
              </a:prstGeom>
              <a:ln w="28440">
                <a:solidFill>
                  <a:srgbClr val="000000"/>
                </a:solidFill>
                <a:miter/>
                <a:headEnd len="med" type="arrow" w="med"/>
              </a:ln>
            </p:spPr>
          </p:cxnSp>
          <p:sp>
            <p:nvSpPr>
              <p:cNvPr id="79" name="TextBox 19"/>
              <p:cNvSpPr/>
              <p:nvPr/>
            </p:nvSpPr>
            <p:spPr>
              <a:xfrm>
                <a:off x="2895480" y="2514600"/>
                <a:ext cx="12952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Infant mortality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20"/>
              <p:cNvSpPr/>
              <p:nvPr/>
            </p:nvSpPr>
            <p:spPr>
              <a:xfrm>
                <a:off x="4572000" y="2743200"/>
                <a:ext cx="1371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Wea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out”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1" name="TextBox 23"/>
          <p:cNvSpPr/>
          <p:nvPr/>
        </p:nvSpPr>
        <p:spPr>
          <a:xfrm>
            <a:off x="1676520" y="579132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g: FAILURE CURVE FOR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E41E-01CD-4710-8298-137A51DD8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OF SOFTW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Picture1"/>
          <p:cNvPicPr/>
          <p:nvPr/>
        </p:nvPicPr>
        <p:blipFill>
          <a:blip r:embed="rId1"/>
          <a:stretch/>
        </p:blipFill>
        <p:spPr>
          <a:xfrm>
            <a:off x="990720" y="1371600"/>
            <a:ext cx="64767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TextBox 5"/>
          <p:cNvSpPr/>
          <p:nvPr/>
        </p:nvSpPr>
        <p:spPr>
          <a:xfrm>
            <a:off x="1676520" y="5791320"/>
            <a:ext cx="48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: FAILURE CURVE FOR SOFT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992C6-4399-47C6-A8E0-BEED9F5DD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12:30:35Z</dcterms:created>
  <dc:creator>REENA</dc:creator>
  <dc:description/>
  <dc:language>en-US</dc:language>
  <cp:lastModifiedBy>sahithi</cp:lastModifiedBy>
  <dcterms:modified xsi:type="dcterms:W3CDTF">2012-05-12T13:46:49Z</dcterms:modified>
  <cp:revision>123</cp:revision>
  <dc:subject/>
  <dc:title>unit1</dc:title>
</cp:coreProperties>
</file>