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988A-466D-4E86-90FD-CE1348DB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0D45-13C5-4EB2-9BF0-2041DD5A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869-07B4-4B56-9691-5576B7AA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998-0F22-42E5-A3B6-073A9974A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10F-A5D4-4E4A-B077-739A46E5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792-06E7-463A-995D-ED9F73D6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0624-8C83-4A72-80C8-5971B258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0E03-13B9-4518-8518-6AE9916E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F9A-2E16-458F-AEF6-C3D3E548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C98-4F32-4F02-BD31-735A1409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8E12-E61F-432E-AF82-0244928E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8C33-45D2-49B7-B5B7-100660CE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FF78-5820-4708-8535-488ABEBA5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Tech IT/II Sem-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: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-2 PPT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xt Boo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.Software Engineering, A practitioner’s approach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Roger s. Pressman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 McGraw-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Software Engineering Somerville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9B71-3AC3-4687-8752-E3116F39F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CREMENT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releases in incr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ment constitutes Core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equirements are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product undergoes detailed evaluation by the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result, plan is developed for the next inc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addresses the modification of core product to better meet the needs of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is repeated until the complete product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7F21-C082-4424-B773-AC0816574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AD MOD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Rapid Application Developme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remental software proces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a short development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speed adoption of the waterfall model using a component based construction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a fully functional system within a very short span time of 60 to 90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CA64-8976-49F2-954C-CFFE731BD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3733920" y="1752480"/>
            <a:ext cx="0" cy="426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3733920" y="60199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228600" y="1828800"/>
            <a:ext cx="16002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981080" y="3048120"/>
            <a:ext cx="16002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1828800" y="2362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289548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4114800" y="62485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5257800" y="480060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ru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r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matic c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3886200" y="3581280"/>
            <a:ext cx="18288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5791320" y="304812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tru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r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matic c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4800600" y="2209680"/>
            <a:ext cx="1295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siness model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model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s model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6172200" y="1828800"/>
            <a:ext cx="1143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truc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mponent reus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utomatic cod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5257800" y="1066680"/>
            <a:ext cx="1295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siness mode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mode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 mode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388620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>
            <a:off x="5715000" y="4267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4"/>
          <p:cNvSpPr/>
          <p:nvPr/>
        </p:nvSpPr>
        <p:spPr>
          <a:xfrm>
            <a:off x="632448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60958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6"/>
          <p:cNvSpPr/>
          <p:nvPr/>
        </p:nvSpPr>
        <p:spPr>
          <a:xfrm>
            <a:off x="64008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7"/>
          <p:cNvSpPr/>
          <p:nvPr/>
        </p:nvSpPr>
        <p:spPr>
          <a:xfrm>
            <a:off x="6553080" y="1295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>
            <a:off x="6858000" y="1295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4419000" y="320040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m #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0"/>
          <p:cNvSpPr/>
          <p:nvPr/>
        </p:nvSpPr>
        <p:spPr>
          <a:xfrm>
            <a:off x="4494960" y="190512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m #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5028480" y="76212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m #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2"/>
          <p:cNvSpPr/>
          <p:nvPr/>
        </p:nvSpPr>
        <p:spPr>
          <a:xfrm>
            <a:off x="7772400" y="37339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7"/>
          <p:cNvSpPr/>
          <p:nvPr/>
        </p:nvSpPr>
        <p:spPr>
          <a:xfrm>
            <a:off x="7315200" y="2362320"/>
            <a:ext cx="4572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8"/>
          <p:cNvSpPr/>
          <p:nvPr/>
        </p:nvSpPr>
        <p:spPr>
          <a:xfrm>
            <a:off x="7315200" y="38862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9"/>
          <p:cNvSpPr/>
          <p:nvPr/>
        </p:nvSpPr>
        <p:spPr>
          <a:xfrm flipV="1">
            <a:off x="6781680" y="4114440"/>
            <a:ext cx="9907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0"/>
          <p:cNvSpPr/>
          <p:nvPr/>
        </p:nvSpPr>
        <p:spPr>
          <a:xfrm>
            <a:off x="7315200" y="41148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C4E9-34E4-4B12-A22B-1DBBEA780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oftware teams work in parallel on differen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encompasses three major phases: Business modeling, Data modeling and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uses reusable components, automatic code generation and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in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 number of RAD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commitment from both developer and customer for rapid-fire completion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uited when technical risks are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3A7A-CAA0-43D5-87AD-CD34EAA24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OLUTIONARY PROCESS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volves over a period of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and product requirements often change as development proceeds making a straight-line path to an end product unrea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ary models are iterative and as such are applicable to modern day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evolutionary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r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 developmen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3CC1-160E-48D1-9346-99DC7789C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ck up or model( throw away version) of a softwar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customer defines a set of objective but does not identify input,output,or process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r is not sur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of an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bility of an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/machine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8369-33A5-449E-9803-726EFBF7C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9"/>
          <p:cNvSpPr/>
          <p:nvPr/>
        </p:nvSpPr>
        <p:spPr>
          <a:xfrm rot="11603400">
            <a:off x="1981080" y="1599840"/>
            <a:ext cx="4678560" cy="4419720"/>
          </a:xfrm>
          <a:custGeom>
            <a:avLst/>
            <a:gdLst>
              <a:gd name="textAreaLeft" fmla="*/ 685080 w 4678560"/>
              <a:gd name="textAreaRight" fmla="*/ 3993480 w 4678560"/>
              <a:gd name="textAreaTop" fmla="*/ 646920 h 4419720"/>
              <a:gd name="textAreaBottom" fmla="*/ 3772800 h 4419720"/>
            </a:gdLst>
            <a:ahLst/>
            <a:rect l="textAreaLeft" t="textAreaTop" r="textAreaRight" b="textAreaBottom"/>
            <a:pathLst>
              <a:path w="21600" h="21600">
                <a:moveTo>
                  <a:pt x="12302" y="17848"/>
                </a:moveTo>
                <a:cubicBezTo>
                  <a:pt x="15629" y="17139"/>
                  <a:pt x="18007" y="14201"/>
                  <a:pt x="18007" y="10800"/>
                </a:cubicBezTo>
                <a:cubicBezTo>
                  <a:pt x="18007" y="10173"/>
                  <a:pt x="17925" y="9550"/>
                  <a:pt x="17764" y="8945"/>
                </a:cubicBezTo>
                <a:lnTo>
                  <a:pt x="21236" y="8021"/>
                </a:lnTo>
                <a:cubicBezTo>
                  <a:pt x="21477" y="8927"/>
                  <a:pt x="21600" y="9861"/>
                  <a:pt x="21600" y="10800"/>
                </a:cubicBezTo>
                <a:cubicBezTo>
                  <a:pt x="21600" y="15896"/>
                  <a:pt x="18036" y="20299"/>
                  <a:pt x="13052" y="21362"/>
                </a:cubicBezTo>
                <a:lnTo>
                  <a:pt x="13615" y="24003"/>
                </a:lnTo>
                <a:lnTo>
                  <a:pt x="8278" y="20544"/>
                </a:lnTo>
                <a:lnTo>
                  <a:pt x="11739" y="15207"/>
                </a:lnTo>
                <a:lnTo>
                  <a:pt x="12302" y="17848"/>
                </a:lnTo>
                <a:close/>
              </a:path>
            </a:pathLst>
          </a:custGeom>
          <a:solidFill>
            <a:srgbClr val="80808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327680" y="578520"/>
            <a:ext cx="6368040" cy="5512320"/>
            <a:chOff x="1327680" y="578520"/>
            <a:chExt cx="6368040" cy="5512320"/>
          </a:xfrm>
        </p:grpSpPr>
        <p:sp>
          <p:nvSpPr>
            <p:cNvPr id="173" name="AutoShape 6"/>
            <p:cNvSpPr/>
            <p:nvPr/>
          </p:nvSpPr>
          <p:spPr>
            <a:xfrm rot="11603400">
              <a:off x="1676160" y="2088360"/>
              <a:ext cx="4462200" cy="3533760"/>
            </a:xfrm>
            <a:custGeom>
              <a:avLst/>
              <a:gdLst>
                <a:gd name="textAreaLeft" fmla="*/ 653760 w 4462200"/>
                <a:gd name="textAreaRight" fmla="*/ 3808440 w 4462200"/>
                <a:gd name="textAreaTop" fmla="*/ 517680 h 3533760"/>
                <a:gd name="textAreaBottom" fmla="*/ 3016080 h 353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723" y="10685"/>
                  </a:moveTo>
                  <a:cubicBezTo>
                    <a:pt x="16661" y="7458"/>
                    <a:pt x="14027" y="4875"/>
                    <a:pt x="10800" y="4875"/>
                  </a:cubicBezTo>
                  <a:cubicBezTo>
                    <a:pt x="10525" y="4874"/>
                    <a:pt x="10250" y="4894"/>
                    <a:pt x="9978" y="4932"/>
                  </a:cubicBezTo>
                  <a:lnTo>
                    <a:pt x="9302" y="104"/>
                  </a:lnTo>
                  <a:cubicBezTo>
                    <a:pt x="9798" y="34"/>
                    <a:pt x="10299" y="-1"/>
                    <a:pt x="10800" y="0"/>
                  </a:cubicBezTo>
                  <a:cubicBezTo>
                    <a:pt x="16682" y="0"/>
                    <a:pt x="21483" y="4708"/>
                    <a:pt x="21597" y="10590"/>
                  </a:cubicBezTo>
                  <a:lnTo>
                    <a:pt x="24297" y="10537"/>
                  </a:lnTo>
                  <a:lnTo>
                    <a:pt x="19261" y="15774"/>
                  </a:lnTo>
                  <a:lnTo>
                    <a:pt x="14024" y="10737"/>
                  </a:lnTo>
                  <a:lnTo>
                    <a:pt x="16723" y="10685"/>
                  </a:lnTo>
                  <a:close/>
                </a:path>
              </a:pathLst>
            </a:custGeom>
            <a:solidFill>
              <a:srgbClr val="808080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8"/>
            <p:cNvSpPr/>
            <p:nvPr/>
          </p:nvSpPr>
          <p:spPr>
            <a:xfrm>
              <a:off x="1676520" y="4016160"/>
              <a:ext cx="1599840" cy="93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livery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2209680" y="1290600"/>
              <a:ext cx="1523520" cy="93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1"/>
            <p:cNvSpPr/>
            <p:nvPr/>
          </p:nvSpPr>
          <p:spPr>
            <a:xfrm rot="11603400">
              <a:off x="3504240" y="913680"/>
              <a:ext cx="3401640" cy="4292280"/>
            </a:xfrm>
            <a:custGeom>
              <a:avLst/>
              <a:gdLst>
                <a:gd name="textAreaLeft" fmla="*/ 498240 w 3401640"/>
                <a:gd name="textAreaRight" fmla="*/ 2903400 w 3401640"/>
                <a:gd name="textAreaTop" fmla="*/ 628560 h 4292280"/>
                <a:gd name="textAreaBottom" fmla="*/ 3663720 h 42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01" y="11947"/>
                  </a:moveTo>
                  <a:cubicBezTo>
                    <a:pt x="5451" y="14771"/>
                    <a:pt x="7923" y="16809"/>
                    <a:pt x="10800" y="16809"/>
                  </a:cubicBezTo>
                  <a:cubicBezTo>
                    <a:pt x="11305" y="16808"/>
                    <a:pt x="11809" y="16745"/>
                    <a:pt x="12299" y="16619"/>
                  </a:cubicBezTo>
                  <a:lnTo>
                    <a:pt x="13494" y="21258"/>
                  </a:lnTo>
                  <a:cubicBezTo>
                    <a:pt x="12614" y="21485"/>
                    <a:pt x="11708" y="21599"/>
                    <a:pt x="10800" y="21600"/>
                  </a:cubicBezTo>
                  <a:cubicBezTo>
                    <a:pt x="5630" y="21600"/>
                    <a:pt x="1186" y="17937"/>
                    <a:pt x="198" y="12863"/>
                  </a:cubicBezTo>
                  <a:lnTo>
                    <a:pt x="-2452" y="13378"/>
                  </a:lnTo>
                  <a:lnTo>
                    <a:pt x="1576" y="7403"/>
                  </a:lnTo>
                  <a:lnTo>
                    <a:pt x="7551" y="11432"/>
                  </a:lnTo>
                  <a:lnTo>
                    <a:pt x="4901" y="11947"/>
                  </a:lnTo>
                  <a:close/>
                </a:path>
              </a:pathLst>
            </a:custGeom>
            <a:solidFill>
              <a:srgbClr val="808080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2"/>
            <p:cNvSpPr/>
            <p:nvPr/>
          </p:nvSpPr>
          <p:spPr>
            <a:xfrm>
              <a:off x="5714640" y="1357200"/>
              <a:ext cx="1295280" cy="53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ui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3"/>
            <p:cNvSpPr/>
            <p:nvPr/>
          </p:nvSpPr>
          <p:spPr>
            <a:xfrm>
              <a:off x="6095880" y="2088360"/>
              <a:ext cx="1599840" cy="66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e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uick desig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4"/>
            <p:cNvSpPr/>
            <p:nvPr/>
          </p:nvSpPr>
          <p:spPr>
            <a:xfrm rot="5939400">
              <a:off x="2974320" y="1743120"/>
              <a:ext cx="3891960" cy="4050720"/>
            </a:xfrm>
            <a:custGeom>
              <a:avLst/>
              <a:gdLst>
                <a:gd name="textAreaLeft" fmla="*/ 570240 w 3891960"/>
                <a:gd name="textAreaRight" fmla="*/ 3321720 w 3891960"/>
                <a:gd name="textAreaTop" fmla="*/ 593640 h 4050720"/>
                <a:gd name="textAreaBottom" fmla="*/ 3457080 h 405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723" y="10685"/>
                  </a:moveTo>
                  <a:cubicBezTo>
                    <a:pt x="16661" y="7458"/>
                    <a:pt x="14027" y="4875"/>
                    <a:pt x="10800" y="4875"/>
                  </a:cubicBezTo>
                  <a:cubicBezTo>
                    <a:pt x="10525" y="4874"/>
                    <a:pt x="10250" y="4894"/>
                    <a:pt x="9978" y="4932"/>
                  </a:cubicBezTo>
                  <a:lnTo>
                    <a:pt x="9302" y="104"/>
                  </a:lnTo>
                  <a:cubicBezTo>
                    <a:pt x="9798" y="34"/>
                    <a:pt x="10299" y="-1"/>
                    <a:pt x="10800" y="0"/>
                  </a:cubicBezTo>
                  <a:cubicBezTo>
                    <a:pt x="16682" y="0"/>
                    <a:pt x="21483" y="4708"/>
                    <a:pt x="21597" y="10590"/>
                  </a:cubicBezTo>
                  <a:lnTo>
                    <a:pt x="24297" y="10537"/>
                  </a:lnTo>
                  <a:lnTo>
                    <a:pt x="19261" y="15774"/>
                  </a:lnTo>
                  <a:lnTo>
                    <a:pt x="14024" y="10737"/>
                  </a:lnTo>
                  <a:lnTo>
                    <a:pt x="16723" y="10685"/>
                  </a:lnTo>
                  <a:close/>
                </a:path>
              </a:pathLst>
            </a:custGeom>
            <a:solidFill>
              <a:srgbClr val="808080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5486040" y="3750120"/>
              <a:ext cx="75960" cy="66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5486040" y="3750120"/>
              <a:ext cx="1904760" cy="79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truc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 proto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22"/>
          <p:cNvSpPr/>
          <p:nvPr/>
        </p:nvSpPr>
        <p:spPr>
          <a:xfrm>
            <a:off x="1131480" y="69840"/>
            <a:ext cx="720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olutionary Models: Prototy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2FA0-28DC-4872-97BA-1802A269E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IN PROTO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s with requirement gath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whatever requirements are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 areas where further definition is mand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ick design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design leads to the construction of prot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e is evaluated by the custo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are r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e is turned to satisfy the needs of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33C0-8B92-43BD-B28E-1D38434A9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ITATION OF PROTOTY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rush to get it working, overall software quality or long term maintainability are generally overloo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inappropriate OS or 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inefficient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CFD3-F5D4-4FE2-AAA5-7AD3F9BA5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IR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volutionary model which combines the best feature of the classical life cycle and the iterative nature of prototyp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new element : Risk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s in middle and continually visits the basic tasks of communication, planning,modeling,construction and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F47B-EBAB-4777-8BDB-599E68349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SYLLA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models 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terfall model, Incremental process models, Evolutionary process models, The Unified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Requirements 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and non-functional requirements, User requirements, System requirements, Interface specification, the software requirements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0FDE-81EB-4BC9-82D2-BE7CD40F4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ary Models: The Spi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0" descr=""/>
          <p:cNvPicPr/>
          <p:nvPr/>
        </p:nvPicPr>
        <p:blipFill>
          <a:blip r:embed="rId1"/>
          <a:stretch/>
        </p:blipFill>
        <p:spPr>
          <a:xfrm>
            <a:off x="146160" y="1231920"/>
            <a:ext cx="8626320" cy="5059440"/>
          </a:xfrm>
          <a:prstGeom prst="rect">
            <a:avLst/>
          </a:prstGeom>
          <a:ln w="0">
            <a:noFill/>
          </a:ln>
        </p:spPr>
      </p:pic>
      <p:sp>
        <p:nvSpPr>
          <p:cNvPr id="19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A06C-D0B1-45A2-A5F2-8EBEED7E7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IR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COMMUN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Tasks required are establish effective communication between develo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PLANNING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Esti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Schedu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Risk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Deli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4B33-8C81-4CD2-B7F9-6ED594135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IR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tic approach to the development of large scale system an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evolves as process prog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understanding between developer and 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circuit might result in the development of a product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 circuits develop a prot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ophisticated version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55AB-F228-4BCE-AA69-6C32C6E9D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6"/>
          <p:cNvSpPr/>
          <p:nvPr/>
        </p:nvSpPr>
        <p:spPr>
          <a:xfrm>
            <a:off x="838080" y="380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NCURRENT DEVELOPMENT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762120" y="2057400"/>
            <a:ext cx="76960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concurrent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tutes a series of framework activities, software engineering action, tasks and their associa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ctivities exist concurrently but reside in differe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ble to all types of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generated at one point in the process trigger transitions among th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8A87-C62E-40CC-974D-7A960609A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NAL COMMENT ON EVOLUTIONARY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in projec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 of evolution is not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focus on flexibility and extensibility (more emphasis on high qu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 is balance between high quality and flexibility and exte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BA7F-6BB4-4F5B-85E9-211A5DF27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FIED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by Rumbaugh, Booch, Jac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s the best features their OO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s additional features proposed by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ed in Unified Modeling Language(U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ied process developed Rumbaugh and Bo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amework for Object-Oriented Software Engineering using U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818F-DB97-487B-980B-DC55271BE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S OF UNIFIED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EPTION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BORATION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5DD6-7048-4497-BE55-5E2F44FB6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fied Process (U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scan0001"/>
          <p:cNvPicPr/>
          <p:nvPr/>
        </p:nvPicPr>
        <p:blipFill>
          <a:blip r:embed="rId1"/>
          <a:stretch/>
        </p:blipFill>
        <p:spPr>
          <a:xfrm>
            <a:off x="380880" y="1676520"/>
            <a:ext cx="7925040" cy="4647960"/>
          </a:xfrm>
          <a:prstGeom prst="rect">
            <a:avLst/>
          </a:prstGeom>
          <a:ln w="0">
            <a:noFill/>
          </a:ln>
        </p:spPr>
      </p:pic>
      <p:sp>
        <p:nvSpPr>
          <p:cNvPr id="2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98D8-1A5B-40A6-AC85-9DC5E8E13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FIED PROCESS WORK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s which are required to be completed during different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ption Ph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Vision doc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Initial Use-Case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Initial Risk assess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Projec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boration Ph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Use-Case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Analysi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Software Architecture 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Preliminary design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Preliminar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9428-0EBA-435A-A14A-AE3407F95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FIED PROCESS WORK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Design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System compon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est plan and proced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est c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Delivered software incr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Beta test resul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General user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2DD5-47FF-435C-A73E-874A62AD2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-2 P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533520"/>
          <a:ext cx="7848720" cy="6622920"/>
        </p:xfrm>
        <a:graphic>
          <a:graphicData uri="http://schemas.openxmlformats.org/drawingml/2006/table">
            <a:tbl>
              <a:tblPr/>
              <a:tblGrid>
                <a:gridCol w="944640"/>
                <a:gridCol w="2979720"/>
                <a:gridCol w="1962000"/>
                <a:gridCol w="196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 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TSli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Models:Waterfall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incremental Model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AD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olutionary Process Models: 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ral model, Concurrent development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unified Process History, Ph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unified process work 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Requirements                                                                -Functional 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User 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Requirement, Interface  Spec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oftware requirements doc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A35A-1FB3-42C4-BF7D-5B07FD057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defines Requirement 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condition or capability needed by a user to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a problem or achieve an obje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condition or capability that must be met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essed by a system or a syste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 to satisfy constract,standard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ation or formally imposed document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A documented representation of a condi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capability as in 1 o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8FFE-6F70-4880-8837-ECF1733DF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mpasses both the User’s view of the requirements( the external view ) and the Developer’s view( inside characteris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’s Requir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Statements in a natural language plus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, describing the services the system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to provide and the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Describe the system’s function, services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perational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DEA5-058F-4633-9581-37BE42EEC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Function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Statement of services the system should prov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Describe the behavior in particular situ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Defines the system reaction to particular input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functional Requir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Constraints on the services or functions offered by the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Include timing constraints, constraints on the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process and stand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Apply to system as a w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Requirements relate to specific application of the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Reflect characteristics and constraints of tha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B612-7430-4817-A661-D0A335F56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AL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be both complete and 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All services required by the user should b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Requirements should not have contradictory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achieve completeness and consistency for larg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8669-FCA3-4D91-B9DD-8879A9100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FUNCTIONAL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s of Non-functional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Product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Specify product 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Include the follo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Organisational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Derived from policies and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clude the follow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External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 Derived from factors external to the system and its development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cludes the follo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h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isl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ED49-6AD3-4AA0-8639-9BA387EFF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types of non-functional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0" y="1523880"/>
            <a:ext cx="8305920" cy="4953240"/>
            <a:chOff x="0" y="1523880"/>
            <a:chExt cx="8305920" cy="4953240"/>
          </a:xfrm>
        </p:grpSpPr>
        <p:sp>
          <p:nvSpPr>
            <p:cNvPr id="241" name="AutoShape 5"/>
            <p:cNvSpPr/>
            <p:nvPr/>
          </p:nvSpPr>
          <p:spPr>
            <a:xfrm>
              <a:off x="0" y="1523880"/>
              <a:ext cx="8305920" cy="49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"/>
            <p:cNvSpPr/>
            <p:nvPr/>
          </p:nvSpPr>
          <p:spPr>
            <a:xfrm>
              <a:off x="0" y="1523880"/>
              <a:ext cx="8305920" cy="4953240"/>
            </a:xfrm>
            <a:prstGeom prst="rect">
              <a:avLst/>
            </a:prstGeom>
            <a:noFill/>
            <a:ln w="0">
              <a:solidFill>
                <a:srgbClr val="fffff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8"/>
            <p:cNvSpPr/>
            <p:nvPr/>
          </p:nvSpPr>
          <p:spPr>
            <a:xfrm>
              <a:off x="176040" y="5979960"/>
              <a:ext cx="1130400" cy="47628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9"/>
            <p:cNvSpPr/>
            <p:nvPr/>
          </p:nvSpPr>
          <p:spPr>
            <a:xfrm>
              <a:off x="1501920" y="5979960"/>
              <a:ext cx="1130040" cy="47628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77760" y="4881600"/>
              <a:ext cx="1130400" cy="49680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838080" y="3782880"/>
              <a:ext cx="1130400" cy="49716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2184480" y="3782880"/>
              <a:ext cx="1130400" cy="49716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3"/>
            <p:cNvSpPr/>
            <p:nvPr/>
          </p:nvSpPr>
          <p:spPr>
            <a:xfrm>
              <a:off x="3510000" y="3782880"/>
              <a:ext cx="1130400" cy="49716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5010120" y="3782880"/>
              <a:ext cx="1228680" cy="49716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5"/>
            <p:cNvSpPr/>
            <p:nvPr/>
          </p:nvSpPr>
          <p:spPr>
            <a:xfrm>
              <a:off x="6394320" y="3782880"/>
              <a:ext cx="1131840" cy="49716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6"/>
            <p:cNvSpPr/>
            <p:nvPr/>
          </p:nvSpPr>
          <p:spPr>
            <a:xfrm>
              <a:off x="7155000" y="4881600"/>
              <a:ext cx="1131840" cy="49680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7"/>
            <p:cNvSpPr/>
            <p:nvPr/>
          </p:nvSpPr>
          <p:spPr>
            <a:xfrm>
              <a:off x="4230720" y="4881600"/>
              <a:ext cx="1228680" cy="49680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8"/>
            <p:cNvSpPr/>
            <p:nvPr/>
          </p:nvSpPr>
          <p:spPr>
            <a:xfrm>
              <a:off x="5614920" y="4881600"/>
              <a:ext cx="1130400" cy="49680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9"/>
            <p:cNvSpPr/>
            <p:nvPr/>
          </p:nvSpPr>
          <p:spPr>
            <a:xfrm>
              <a:off x="2944800" y="4881600"/>
              <a:ext cx="1130400" cy="49680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0"/>
            <p:cNvSpPr/>
            <p:nvPr/>
          </p:nvSpPr>
          <p:spPr>
            <a:xfrm>
              <a:off x="7155000" y="5979960"/>
              <a:ext cx="1131840" cy="47628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1"/>
            <p:cNvSpPr/>
            <p:nvPr/>
          </p:nvSpPr>
          <p:spPr>
            <a:xfrm>
              <a:off x="5829480" y="5979960"/>
              <a:ext cx="1131840" cy="47628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2"/>
            <p:cNvSpPr/>
            <p:nvPr/>
          </p:nvSpPr>
          <p:spPr>
            <a:xfrm>
              <a:off x="2184480" y="2705040"/>
              <a:ext cx="1130400" cy="47628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3"/>
            <p:cNvSpPr/>
            <p:nvPr/>
          </p:nvSpPr>
          <p:spPr>
            <a:xfrm>
              <a:off x="4289400" y="2705040"/>
              <a:ext cx="1130400" cy="47628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4"/>
            <p:cNvSpPr/>
            <p:nvPr/>
          </p:nvSpPr>
          <p:spPr>
            <a:xfrm>
              <a:off x="6394320" y="2705040"/>
              <a:ext cx="1131840" cy="47628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5"/>
            <p:cNvSpPr/>
            <p:nvPr/>
          </p:nvSpPr>
          <p:spPr>
            <a:xfrm>
              <a:off x="4249800" y="1606680"/>
              <a:ext cx="1190520" cy="49824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6"/>
            <p:cNvSpPr/>
            <p:nvPr/>
          </p:nvSpPr>
          <p:spPr>
            <a:xfrm>
              <a:off x="4795920" y="1793880"/>
              <a:ext cx="1440" cy="327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7"/>
            <p:cNvSpPr/>
            <p:nvPr/>
          </p:nvSpPr>
          <p:spPr>
            <a:xfrm>
              <a:off x="2690640" y="2332080"/>
              <a:ext cx="4211640" cy="1636560"/>
            </a:xfrm>
            <a:custGeom>
              <a:avLst/>
              <a:gdLst>
                <a:gd name="textAreaLeft" fmla="*/ 0 w 4211640"/>
                <a:gd name="textAreaRight" fmla="*/ 4212000 w 4211640"/>
                <a:gd name="textAreaTop" fmla="*/ 0 h 1636560"/>
                <a:gd name="textAreaBottom" fmla="*/ 1636920 h 1636560"/>
              </a:gdLst>
              <a:ahLst/>
              <a:rect l="textAreaLeft" t="textAreaTop" r="textAreaRight" b="textAreaBottom"/>
              <a:pathLst>
                <a:path w="2653" h="1031">
                  <a:moveTo>
                    <a:pt x="2653" y="1031"/>
                  </a:moveTo>
                  <a:lnTo>
                    <a:pt x="2653" y="0"/>
                  </a:lnTo>
                  <a:lnTo>
                    <a:pt x="0" y="0"/>
                  </a:lnTo>
                  <a:lnTo>
                    <a:pt x="0" y="10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8"/>
            <p:cNvSpPr/>
            <p:nvPr/>
          </p:nvSpPr>
          <p:spPr>
            <a:xfrm>
              <a:off x="584280" y="3430440"/>
              <a:ext cx="3432240" cy="138924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1389240"/>
                <a:gd name="textAreaBottom" fmla="*/ 1389240 h 1389240"/>
              </a:gdLst>
              <a:ahLst/>
              <a:rect l="textAreaLeft" t="textAreaTop" r="textAreaRight" b="textAreaBottom"/>
              <a:pathLst>
                <a:path w="2162" h="875">
                  <a:moveTo>
                    <a:pt x="2162" y="339"/>
                  </a:moveTo>
                  <a:lnTo>
                    <a:pt x="2162" y="0"/>
                  </a:lnTo>
                  <a:lnTo>
                    <a:pt x="0" y="0"/>
                  </a:lnTo>
                  <a:lnTo>
                    <a:pt x="0" y="8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9"/>
            <p:cNvSpPr/>
            <p:nvPr/>
          </p:nvSpPr>
          <p:spPr>
            <a:xfrm>
              <a:off x="5556240" y="3430440"/>
              <a:ext cx="2106720" cy="1389240"/>
            </a:xfrm>
            <a:custGeom>
              <a:avLst/>
              <a:gdLst>
                <a:gd name="textAreaLeft" fmla="*/ 0 w 2106720"/>
                <a:gd name="textAreaRight" fmla="*/ 2107080 w 2106720"/>
                <a:gd name="textAreaTop" fmla="*/ 0 h 1389240"/>
                <a:gd name="textAreaBottom" fmla="*/ 1389240 h 1389240"/>
              </a:gdLst>
              <a:ahLst/>
              <a:rect l="textAreaLeft" t="textAreaTop" r="textAreaRight" b="textAreaBottom"/>
              <a:pathLst>
                <a:path w="1327" h="875">
                  <a:moveTo>
                    <a:pt x="0" y="339"/>
                  </a:moveTo>
                  <a:lnTo>
                    <a:pt x="0" y="0"/>
                  </a:lnTo>
                  <a:lnTo>
                    <a:pt x="1327" y="0"/>
                  </a:lnTo>
                  <a:lnTo>
                    <a:pt x="1327" y="8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0"/>
            <p:cNvSpPr/>
            <p:nvPr/>
          </p:nvSpPr>
          <p:spPr>
            <a:xfrm>
              <a:off x="7662960" y="5067360"/>
              <a:ext cx="1440" cy="1098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1"/>
            <p:cNvSpPr/>
            <p:nvPr/>
          </p:nvSpPr>
          <p:spPr>
            <a:xfrm>
              <a:off x="6337440" y="5607000"/>
              <a:ext cx="1325520" cy="558720"/>
            </a:xfrm>
            <a:custGeom>
              <a:avLst/>
              <a:gdLst>
                <a:gd name="textAreaLeft" fmla="*/ 0 w 1325520"/>
                <a:gd name="textAreaRight" fmla="*/ 1325880 w 132552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835" h="352">
                  <a:moveTo>
                    <a:pt x="0" y="352"/>
                  </a:moveTo>
                  <a:lnTo>
                    <a:pt x="0" y="0"/>
                  </a:lnTo>
                  <a:lnTo>
                    <a:pt x="8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2"/>
            <p:cNvSpPr/>
            <p:nvPr/>
          </p:nvSpPr>
          <p:spPr>
            <a:xfrm>
              <a:off x="3470400" y="4529160"/>
              <a:ext cx="2651040" cy="538200"/>
            </a:xfrm>
            <a:custGeom>
              <a:avLst/>
              <a:gdLst>
                <a:gd name="textAreaLeft" fmla="*/ 0 w 2651040"/>
                <a:gd name="textAreaRight" fmla="*/ 2651400 w 265104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670" h="339">
                  <a:moveTo>
                    <a:pt x="1670" y="339"/>
                  </a:moveTo>
                  <a:lnTo>
                    <a:pt x="1670" y="0"/>
                  </a:lnTo>
                  <a:lnTo>
                    <a:pt x="0" y="0"/>
                  </a:lnTo>
                  <a:lnTo>
                    <a:pt x="0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3"/>
            <p:cNvSpPr/>
            <p:nvPr/>
          </p:nvSpPr>
          <p:spPr>
            <a:xfrm flipV="1">
              <a:off x="1365120" y="3430080"/>
              <a:ext cx="1800" cy="53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4"/>
            <p:cNvSpPr/>
            <p:nvPr/>
          </p:nvSpPr>
          <p:spPr>
            <a:xfrm flipV="1">
              <a:off x="1365120" y="4218120"/>
              <a:ext cx="1800" cy="138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5"/>
            <p:cNvSpPr/>
            <p:nvPr/>
          </p:nvSpPr>
          <p:spPr>
            <a:xfrm>
              <a:off x="682560" y="5607000"/>
              <a:ext cx="1344600" cy="558720"/>
            </a:xfrm>
            <a:custGeom>
              <a:avLst/>
              <a:gdLst>
                <a:gd name="textAreaLeft" fmla="*/ 0 w 1344600"/>
                <a:gd name="textAreaRight" fmla="*/ 1344960 w 134460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847" h="352">
                  <a:moveTo>
                    <a:pt x="0" y="352"/>
                  </a:moveTo>
                  <a:lnTo>
                    <a:pt x="0" y="0"/>
                  </a:lnTo>
                  <a:lnTo>
                    <a:pt x="847" y="0"/>
                  </a:lnTo>
                  <a:lnTo>
                    <a:pt x="847" y="3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6"/>
            <p:cNvSpPr/>
            <p:nvPr/>
          </p:nvSpPr>
          <p:spPr>
            <a:xfrm>
              <a:off x="117360" y="5918040"/>
              <a:ext cx="1130400" cy="497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7"/>
            <p:cNvSpPr/>
            <p:nvPr/>
          </p:nvSpPr>
          <p:spPr>
            <a:xfrm>
              <a:off x="317160" y="59799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38"/>
            <p:cNvSpPr/>
            <p:nvPr/>
          </p:nvSpPr>
          <p:spPr>
            <a:xfrm>
              <a:off x="378720" y="5979960"/>
              <a:ext cx="13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9"/>
            <p:cNvSpPr/>
            <p:nvPr/>
          </p:nvSpPr>
          <p:spPr>
            <a:xfrm>
              <a:off x="511200" y="597996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0"/>
            <p:cNvSpPr/>
            <p:nvPr/>
          </p:nvSpPr>
          <p:spPr>
            <a:xfrm>
              <a:off x="543240" y="5979960"/>
              <a:ext cx="14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1"/>
            <p:cNvSpPr/>
            <p:nvPr/>
          </p:nvSpPr>
          <p:spPr>
            <a:xfrm>
              <a:off x="646200" y="597996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ma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2"/>
            <p:cNvSpPr/>
            <p:nvPr/>
          </p:nvSpPr>
          <p:spPr>
            <a:xfrm>
              <a:off x="291960" y="616752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3"/>
            <p:cNvSpPr/>
            <p:nvPr/>
          </p:nvSpPr>
          <p:spPr>
            <a:xfrm>
              <a:off x="313920" y="616752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44"/>
            <p:cNvSpPr/>
            <p:nvPr/>
          </p:nvSpPr>
          <p:spPr>
            <a:xfrm>
              <a:off x="619560" y="616752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45"/>
            <p:cNvSpPr/>
            <p:nvPr/>
          </p:nvSpPr>
          <p:spPr>
            <a:xfrm>
              <a:off x="1461960" y="5918040"/>
              <a:ext cx="1130400" cy="497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46"/>
            <p:cNvSpPr/>
            <p:nvPr/>
          </p:nvSpPr>
          <p:spPr>
            <a:xfrm>
              <a:off x="1832040" y="5979960"/>
              <a:ext cx="39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Spa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47"/>
            <p:cNvSpPr/>
            <p:nvPr/>
          </p:nvSpPr>
          <p:spPr>
            <a:xfrm>
              <a:off x="1617840" y="616752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48"/>
            <p:cNvSpPr/>
            <p:nvPr/>
          </p:nvSpPr>
          <p:spPr>
            <a:xfrm>
              <a:off x="1658520" y="616752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49"/>
            <p:cNvSpPr/>
            <p:nvPr/>
          </p:nvSpPr>
          <p:spPr>
            <a:xfrm>
              <a:off x="1965600" y="616752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0"/>
            <p:cNvSpPr/>
            <p:nvPr/>
          </p:nvSpPr>
          <p:spPr>
            <a:xfrm>
              <a:off x="19080" y="4819680"/>
              <a:ext cx="1131840" cy="49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1"/>
            <p:cNvSpPr/>
            <p:nvPr/>
          </p:nvSpPr>
          <p:spPr>
            <a:xfrm>
              <a:off x="343800" y="4881600"/>
              <a:ext cx="24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Us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2"/>
            <p:cNvSpPr/>
            <p:nvPr/>
          </p:nvSpPr>
          <p:spPr>
            <a:xfrm>
              <a:off x="590400" y="4881600"/>
              <a:ext cx="31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bil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53"/>
            <p:cNvSpPr/>
            <p:nvPr/>
          </p:nvSpPr>
          <p:spPr>
            <a:xfrm>
              <a:off x="174600" y="508968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54"/>
            <p:cNvSpPr/>
            <p:nvPr/>
          </p:nvSpPr>
          <p:spPr>
            <a:xfrm>
              <a:off x="215640" y="508968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55"/>
            <p:cNvSpPr/>
            <p:nvPr/>
          </p:nvSpPr>
          <p:spPr>
            <a:xfrm>
              <a:off x="522720" y="508968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56"/>
            <p:cNvSpPr/>
            <p:nvPr/>
          </p:nvSpPr>
          <p:spPr>
            <a:xfrm>
              <a:off x="800280" y="3741840"/>
              <a:ext cx="1130040" cy="476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57"/>
            <p:cNvSpPr/>
            <p:nvPr/>
          </p:nvSpPr>
          <p:spPr>
            <a:xfrm>
              <a:off x="1096200" y="380376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58"/>
            <p:cNvSpPr/>
            <p:nvPr/>
          </p:nvSpPr>
          <p:spPr>
            <a:xfrm>
              <a:off x="1195920" y="3803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ficien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59"/>
            <p:cNvSpPr/>
            <p:nvPr/>
          </p:nvSpPr>
          <p:spPr>
            <a:xfrm>
              <a:off x="955800" y="399096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60"/>
            <p:cNvSpPr/>
            <p:nvPr/>
          </p:nvSpPr>
          <p:spPr>
            <a:xfrm>
              <a:off x="975960" y="399096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61"/>
            <p:cNvSpPr/>
            <p:nvPr/>
          </p:nvSpPr>
          <p:spPr>
            <a:xfrm>
              <a:off x="1283040" y="399096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62"/>
            <p:cNvSpPr/>
            <p:nvPr/>
          </p:nvSpPr>
          <p:spPr>
            <a:xfrm>
              <a:off x="2125800" y="3741840"/>
              <a:ext cx="1130040" cy="476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63"/>
            <p:cNvSpPr/>
            <p:nvPr/>
          </p:nvSpPr>
          <p:spPr>
            <a:xfrm>
              <a:off x="2432520" y="3803760"/>
              <a:ext cx="8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64"/>
            <p:cNvSpPr/>
            <p:nvPr/>
          </p:nvSpPr>
          <p:spPr>
            <a:xfrm>
              <a:off x="2487240" y="3803760"/>
              <a:ext cx="23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l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5"/>
            <p:cNvSpPr/>
            <p:nvPr/>
          </p:nvSpPr>
          <p:spPr>
            <a:xfrm>
              <a:off x="2715840" y="3803760"/>
              <a:ext cx="31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bil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66"/>
            <p:cNvSpPr/>
            <p:nvPr/>
          </p:nvSpPr>
          <p:spPr>
            <a:xfrm>
              <a:off x="2281320" y="399096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7"/>
            <p:cNvSpPr/>
            <p:nvPr/>
          </p:nvSpPr>
          <p:spPr>
            <a:xfrm>
              <a:off x="2322360" y="399096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68"/>
            <p:cNvSpPr/>
            <p:nvPr/>
          </p:nvSpPr>
          <p:spPr>
            <a:xfrm>
              <a:off x="2627640" y="399096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9"/>
            <p:cNvSpPr/>
            <p:nvPr/>
          </p:nvSpPr>
          <p:spPr>
            <a:xfrm>
              <a:off x="3470400" y="3741840"/>
              <a:ext cx="1110960" cy="476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0"/>
            <p:cNvSpPr/>
            <p:nvPr/>
          </p:nvSpPr>
          <p:spPr>
            <a:xfrm>
              <a:off x="3749400" y="38037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71"/>
            <p:cNvSpPr/>
            <p:nvPr/>
          </p:nvSpPr>
          <p:spPr>
            <a:xfrm>
              <a:off x="3818160" y="3803760"/>
              <a:ext cx="14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72"/>
            <p:cNvSpPr/>
            <p:nvPr/>
          </p:nvSpPr>
          <p:spPr>
            <a:xfrm>
              <a:off x="3932280" y="380376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t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73"/>
            <p:cNvSpPr/>
            <p:nvPr/>
          </p:nvSpPr>
          <p:spPr>
            <a:xfrm>
              <a:off x="4060800" y="3803760"/>
              <a:ext cx="31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bil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74"/>
            <p:cNvSpPr/>
            <p:nvPr/>
          </p:nvSpPr>
          <p:spPr>
            <a:xfrm>
              <a:off x="3625920" y="399096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5"/>
            <p:cNvSpPr/>
            <p:nvPr/>
          </p:nvSpPr>
          <p:spPr>
            <a:xfrm>
              <a:off x="3647880" y="399096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76"/>
            <p:cNvSpPr/>
            <p:nvPr/>
          </p:nvSpPr>
          <p:spPr>
            <a:xfrm>
              <a:off x="3953160" y="399096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77"/>
            <p:cNvSpPr/>
            <p:nvPr/>
          </p:nvSpPr>
          <p:spPr>
            <a:xfrm>
              <a:off x="4952880" y="3741840"/>
              <a:ext cx="1227240" cy="476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78"/>
            <p:cNvSpPr/>
            <p:nvPr/>
          </p:nvSpPr>
          <p:spPr>
            <a:xfrm>
              <a:off x="5085000" y="3803760"/>
              <a:ext cx="32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In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79"/>
            <p:cNvSpPr/>
            <p:nvPr/>
          </p:nvSpPr>
          <p:spPr>
            <a:xfrm>
              <a:off x="5383080" y="380376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op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80"/>
            <p:cNvSpPr/>
            <p:nvPr/>
          </p:nvSpPr>
          <p:spPr>
            <a:xfrm>
              <a:off x="5692320" y="380376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1"/>
            <p:cNvSpPr/>
            <p:nvPr/>
          </p:nvSpPr>
          <p:spPr>
            <a:xfrm>
              <a:off x="5776560" y="3803760"/>
              <a:ext cx="31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bil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82"/>
            <p:cNvSpPr/>
            <p:nvPr/>
          </p:nvSpPr>
          <p:spPr>
            <a:xfrm>
              <a:off x="5165640" y="399096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83"/>
            <p:cNvSpPr/>
            <p:nvPr/>
          </p:nvSpPr>
          <p:spPr>
            <a:xfrm>
              <a:off x="5187600" y="399096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4"/>
            <p:cNvSpPr/>
            <p:nvPr/>
          </p:nvSpPr>
          <p:spPr>
            <a:xfrm>
              <a:off x="5494680" y="399096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85"/>
            <p:cNvSpPr/>
            <p:nvPr/>
          </p:nvSpPr>
          <p:spPr>
            <a:xfrm>
              <a:off x="6337440" y="3741840"/>
              <a:ext cx="1130040" cy="476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86"/>
            <p:cNvSpPr/>
            <p:nvPr/>
          </p:nvSpPr>
          <p:spPr>
            <a:xfrm>
              <a:off x="6694200" y="3803760"/>
              <a:ext cx="43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thic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87"/>
            <p:cNvSpPr/>
            <p:nvPr/>
          </p:nvSpPr>
          <p:spPr>
            <a:xfrm>
              <a:off x="6492960" y="399096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8"/>
            <p:cNvSpPr/>
            <p:nvPr/>
          </p:nvSpPr>
          <p:spPr>
            <a:xfrm>
              <a:off x="6532200" y="399096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9"/>
            <p:cNvSpPr/>
            <p:nvPr/>
          </p:nvSpPr>
          <p:spPr>
            <a:xfrm>
              <a:off x="6839280" y="399096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0"/>
            <p:cNvSpPr/>
            <p:nvPr/>
          </p:nvSpPr>
          <p:spPr>
            <a:xfrm>
              <a:off x="7097760" y="4819680"/>
              <a:ext cx="1130400" cy="49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91"/>
            <p:cNvSpPr/>
            <p:nvPr/>
          </p:nvSpPr>
          <p:spPr>
            <a:xfrm>
              <a:off x="7366320" y="4881600"/>
              <a:ext cx="240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Le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92"/>
            <p:cNvSpPr/>
            <p:nvPr/>
          </p:nvSpPr>
          <p:spPr>
            <a:xfrm>
              <a:off x="7601760" y="488160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isl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3"/>
            <p:cNvSpPr/>
            <p:nvPr/>
          </p:nvSpPr>
          <p:spPr>
            <a:xfrm>
              <a:off x="7803360" y="4881600"/>
              <a:ext cx="8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t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94"/>
            <p:cNvSpPr/>
            <p:nvPr/>
          </p:nvSpPr>
          <p:spPr>
            <a:xfrm>
              <a:off x="7890120" y="48816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95"/>
            <p:cNvSpPr/>
            <p:nvPr/>
          </p:nvSpPr>
          <p:spPr>
            <a:xfrm>
              <a:off x="7954560" y="48816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96"/>
            <p:cNvSpPr/>
            <p:nvPr/>
          </p:nvSpPr>
          <p:spPr>
            <a:xfrm>
              <a:off x="7272360" y="508968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97"/>
            <p:cNvSpPr/>
            <p:nvPr/>
          </p:nvSpPr>
          <p:spPr>
            <a:xfrm>
              <a:off x="7292520" y="508968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8"/>
            <p:cNvSpPr/>
            <p:nvPr/>
          </p:nvSpPr>
          <p:spPr>
            <a:xfrm>
              <a:off x="7599600" y="508968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99"/>
            <p:cNvSpPr/>
            <p:nvPr/>
          </p:nvSpPr>
          <p:spPr>
            <a:xfrm>
              <a:off x="4172040" y="4819680"/>
              <a:ext cx="1247760" cy="49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00"/>
            <p:cNvSpPr/>
            <p:nvPr/>
          </p:nvSpPr>
          <p:spPr>
            <a:xfrm>
              <a:off x="4236120" y="4881600"/>
              <a:ext cx="808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Implement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01"/>
            <p:cNvSpPr/>
            <p:nvPr/>
          </p:nvSpPr>
          <p:spPr>
            <a:xfrm>
              <a:off x="5085000" y="4881600"/>
              <a:ext cx="25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02"/>
            <p:cNvSpPr/>
            <p:nvPr/>
          </p:nvSpPr>
          <p:spPr>
            <a:xfrm>
              <a:off x="4405320" y="508968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3"/>
            <p:cNvSpPr/>
            <p:nvPr/>
          </p:nvSpPr>
          <p:spPr>
            <a:xfrm>
              <a:off x="4427280" y="508968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04"/>
            <p:cNvSpPr/>
            <p:nvPr/>
          </p:nvSpPr>
          <p:spPr>
            <a:xfrm>
              <a:off x="4734360" y="508968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05"/>
            <p:cNvSpPr/>
            <p:nvPr/>
          </p:nvSpPr>
          <p:spPr>
            <a:xfrm>
              <a:off x="5556240" y="4819680"/>
              <a:ext cx="1131840" cy="49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06"/>
            <p:cNvSpPr/>
            <p:nvPr/>
          </p:nvSpPr>
          <p:spPr>
            <a:xfrm>
              <a:off x="5794560" y="4881600"/>
              <a:ext cx="51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Stand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07"/>
            <p:cNvSpPr/>
            <p:nvPr/>
          </p:nvSpPr>
          <p:spPr>
            <a:xfrm>
              <a:off x="6336720" y="4881600"/>
              <a:ext cx="15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d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8"/>
            <p:cNvSpPr/>
            <p:nvPr/>
          </p:nvSpPr>
          <p:spPr>
            <a:xfrm>
              <a:off x="5732640" y="508968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09"/>
            <p:cNvSpPr/>
            <p:nvPr/>
          </p:nvSpPr>
          <p:spPr>
            <a:xfrm>
              <a:off x="5752800" y="508968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10"/>
            <p:cNvSpPr/>
            <p:nvPr/>
          </p:nvSpPr>
          <p:spPr>
            <a:xfrm>
              <a:off x="6059880" y="508968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11"/>
            <p:cNvSpPr/>
            <p:nvPr/>
          </p:nvSpPr>
          <p:spPr>
            <a:xfrm>
              <a:off x="2905200" y="4819680"/>
              <a:ext cx="1111320" cy="49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12"/>
            <p:cNvSpPr/>
            <p:nvPr/>
          </p:nvSpPr>
          <p:spPr>
            <a:xfrm>
              <a:off x="3234600" y="4881600"/>
              <a:ext cx="25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Del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13"/>
            <p:cNvSpPr/>
            <p:nvPr/>
          </p:nvSpPr>
          <p:spPr>
            <a:xfrm>
              <a:off x="3502440" y="48816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14"/>
            <p:cNvSpPr/>
            <p:nvPr/>
          </p:nvSpPr>
          <p:spPr>
            <a:xfrm>
              <a:off x="3540960" y="488160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15"/>
            <p:cNvSpPr/>
            <p:nvPr/>
          </p:nvSpPr>
          <p:spPr>
            <a:xfrm>
              <a:off x="3060720" y="508968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16"/>
            <p:cNvSpPr/>
            <p:nvPr/>
          </p:nvSpPr>
          <p:spPr>
            <a:xfrm>
              <a:off x="3082680" y="508968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17"/>
            <p:cNvSpPr/>
            <p:nvPr/>
          </p:nvSpPr>
          <p:spPr>
            <a:xfrm>
              <a:off x="3387960" y="508968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18"/>
            <p:cNvSpPr/>
            <p:nvPr/>
          </p:nvSpPr>
          <p:spPr>
            <a:xfrm>
              <a:off x="7097760" y="5918040"/>
              <a:ext cx="1130400" cy="497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19"/>
            <p:cNvSpPr/>
            <p:nvPr/>
          </p:nvSpPr>
          <p:spPr>
            <a:xfrm>
              <a:off x="7487640" y="5979960"/>
              <a:ext cx="40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Safe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0"/>
            <p:cNvSpPr/>
            <p:nvPr/>
          </p:nvSpPr>
          <p:spPr>
            <a:xfrm>
              <a:off x="7272360" y="616752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21"/>
            <p:cNvSpPr/>
            <p:nvPr/>
          </p:nvSpPr>
          <p:spPr>
            <a:xfrm>
              <a:off x="7292520" y="616752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2"/>
            <p:cNvSpPr/>
            <p:nvPr/>
          </p:nvSpPr>
          <p:spPr>
            <a:xfrm>
              <a:off x="7599600" y="616752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3"/>
            <p:cNvSpPr/>
            <p:nvPr/>
          </p:nvSpPr>
          <p:spPr>
            <a:xfrm>
              <a:off x="5770440" y="5918040"/>
              <a:ext cx="1131840" cy="497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24"/>
            <p:cNvSpPr/>
            <p:nvPr/>
          </p:nvSpPr>
          <p:spPr>
            <a:xfrm>
              <a:off x="6138000" y="5979960"/>
              <a:ext cx="180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Pr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25"/>
            <p:cNvSpPr/>
            <p:nvPr/>
          </p:nvSpPr>
          <p:spPr>
            <a:xfrm>
              <a:off x="6329520" y="59799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26"/>
            <p:cNvSpPr/>
            <p:nvPr/>
          </p:nvSpPr>
          <p:spPr>
            <a:xfrm>
              <a:off x="6374160" y="5979960"/>
              <a:ext cx="21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a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27"/>
            <p:cNvSpPr/>
            <p:nvPr/>
          </p:nvSpPr>
          <p:spPr>
            <a:xfrm>
              <a:off x="5926320" y="616752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28"/>
            <p:cNvSpPr/>
            <p:nvPr/>
          </p:nvSpPr>
          <p:spPr>
            <a:xfrm>
              <a:off x="5967000" y="616752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29"/>
            <p:cNvSpPr/>
            <p:nvPr/>
          </p:nvSpPr>
          <p:spPr>
            <a:xfrm>
              <a:off x="6274080" y="616752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30"/>
            <p:cNvSpPr/>
            <p:nvPr/>
          </p:nvSpPr>
          <p:spPr>
            <a:xfrm>
              <a:off x="2125800" y="2643120"/>
              <a:ext cx="1130040" cy="49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1"/>
            <p:cNvSpPr/>
            <p:nvPr/>
          </p:nvSpPr>
          <p:spPr>
            <a:xfrm>
              <a:off x="2471760" y="2705040"/>
              <a:ext cx="14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P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2"/>
            <p:cNvSpPr/>
            <p:nvPr/>
          </p:nvSpPr>
          <p:spPr>
            <a:xfrm>
              <a:off x="2579760" y="270504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33"/>
            <p:cNvSpPr/>
            <p:nvPr/>
          </p:nvSpPr>
          <p:spPr>
            <a:xfrm>
              <a:off x="2281320" y="289260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34"/>
            <p:cNvSpPr/>
            <p:nvPr/>
          </p:nvSpPr>
          <p:spPr>
            <a:xfrm>
              <a:off x="2322360" y="289260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35"/>
            <p:cNvSpPr/>
            <p:nvPr/>
          </p:nvSpPr>
          <p:spPr>
            <a:xfrm>
              <a:off x="2627640" y="289260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6"/>
            <p:cNvSpPr/>
            <p:nvPr/>
          </p:nvSpPr>
          <p:spPr>
            <a:xfrm>
              <a:off x="4230720" y="2643120"/>
              <a:ext cx="1130400" cy="49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7"/>
            <p:cNvSpPr/>
            <p:nvPr/>
          </p:nvSpPr>
          <p:spPr>
            <a:xfrm>
              <a:off x="4287960" y="2705040"/>
              <a:ext cx="979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Organisat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38"/>
            <p:cNvSpPr/>
            <p:nvPr/>
          </p:nvSpPr>
          <p:spPr>
            <a:xfrm>
              <a:off x="4386240" y="289260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39"/>
            <p:cNvSpPr/>
            <p:nvPr/>
          </p:nvSpPr>
          <p:spPr>
            <a:xfrm>
              <a:off x="4408200" y="289260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40"/>
            <p:cNvSpPr/>
            <p:nvPr/>
          </p:nvSpPr>
          <p:spPr>
            <a:xfrm>
              <a:off x="4713840" y="289260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41"/>
            <p:cNvSpPr/>
            <p:nvPr/>
          </p:nvSpPr>
          <p:spPr>
            <a:xfrm>
              <a:off x="6337440" y="2643120"/>
              <a:ext cx="1130040" cy="49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42"/>
            <p:cNvSpPr/>
            <p:nvPr/>
          </p:nvSpPr>
          <p:spPr>
            <a:xfrm>
              <a:off x="6640560" y="2705040"/>
              <a:ext cx="54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xter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43"/>
            <p:cNvSpPr/>
            <p:nvPr/>
          </p:nvSpPr>
          <p:spPr>
            <a:xfrm>
              <a:off x="6492960" y="289260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44"/>
            <p:cNvSpPr/>
            <p:nvPr/>
          </p:nvSpPr>
          <p:spPr>
            <a:xfrm>
              <a:off x="6532200" y="289260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45"/>
            <p:cNvSpPr/>
            <p:nvPr/>
          </p:nvSpPr>
          <p:spPr>
            <a:xfrm>
              <a:off x="6839280" y="289260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46"/>
            <p:cNvSpPr/>
            <p:nvPr/>
          </p:nvSpPr>
          <p:spPr>
            <a:xfrm>
              <a:off x="4211640" y="1544760"/>
              <a:ext cx="1170000" cy="49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47"/>
            <p:cNvSpPr/>
            <p:nvPr/>
          </p:nvSpPr>
          <p:spPr>
            <a:xfrm>
              <a:off x="4282200" y="1628640"/>
              <a:ext cx="989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Non-funct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48"/>
            <p:cNvSpPr/>
            <p:nvPr/>
          </p:nvSpPr>
          <p:spPr>
            <a:xfrm>
              <a:off x="4386240" y="181440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49"/>
            <p:cNvSpPr/>
            <p:nvPr/>
          </p:nvSpPr>
          <p:spPr>
            <a:xfrm>
              <a:off x="4408200" y="181440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50"/>
            <p:cNvSpPr/>
            <p:nvPr/>
          </p:nvSpPr>
          <p:spPr>
            <a:xfrm>
              <a:off x="4713840" y="181440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Slide Number Placeholder 14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9EED-4564-432F-AD18-B0D33130F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FACED USING THE NATURAL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ack of c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Leads to misunderstanding beca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mbiguity of natur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Due to over flexibility,sometime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find whether requirem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ame or distin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malgamation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Difficult to modularize natural langua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0008-1CD6-43AA-9E20-B28A3F84D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D LANGUAGE SPEC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are written in a standard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degree of unifor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templates to specif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control constructs and graphical highlighting to partition th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5C6C-3381-4E59-9619-F5E99071F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REQUIREMENTS STANDARD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1951-5BEE-485F-A276-5A10D2B00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of new system must match with the exis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provides this capability and precisely specif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types of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Procedura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Used for calling the existing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new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Provide data passing from one sub-system to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Representation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Ordering of bits to match with the exis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Most common in real-time and embedd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D476F-FE9A-446A-9F66-D1F4BC12D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in the softwar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 the software team through a set of framework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Models may be linear, incremental or evolu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B400-A792-4FE3-A7CA-86BF922DD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oftware Requirements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quirements document is the official statement of what is required of the system develop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uld include both a definition of user requirements and a specification of the system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NOT a design document. As far as possible, it should set of WHAT the system should do rather than HOW it should 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AC40-ACCA-4EE2-B32B-107A6F244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ftware Requirements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inger suggests that there are 6 requirements that requirement document should satisfy. It shou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only external system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constraints on the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easy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 as reference tool for system mai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forethought about the life cycle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e acceptable responses to undesire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01AF-A5AF-4BDD-AD13-991C1DF12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S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between the Customer, Analyst,system developers, maintainers, 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m foundation for the design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system test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project management an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ing the evolution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0D73-DA48-4B3B-BB07-F0DD00289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EEE requirements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es a generic structure for a requirements document that must be instantiated for each specific syst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l descri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fic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end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1550-1DA8-4F74-BC66-6896EA3CF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EEE requirements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Definitions, Acronyms and Abbrev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4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5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3FC9-0C27-4C87-8B9B-C70C89A52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enera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 Product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 Product function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 User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Gener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Assumptions and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pecifi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ternal interfa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erforman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sig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ttributes eg. security, availability,maintainability,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ability/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th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8E5C-85B4-4367-88F7-9D00A4D85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8AA4-58CE-4AD1-A022-536C6FC39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TERFAL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requirements are well understood in the beg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classic lif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ystematic, sequential approach to Softwar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s with customer specification of Requirements and progresses through planning, modeling, construction and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05D0-A819-4977-B3AE-382E713FC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terfal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odel suggests a systematic, sequential approach to SW development that begins at the system level and progresses through analysis, design, code and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228600" y="3429000"/>
            <a:ext cx="2362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initi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 gath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2819520" y="4267080"/>
            <a:ext cx="1600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572000" y="4800600"/>
            <a:ext cx="1295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6095880" y="5257800"/>
            <a:ext cx="1371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7696080" y="5791320"/>
            <a:ext cx="1143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5"/>
          <p:cNvSpPr/>
          <p:nvPr/>
        </p:nvSpPr>
        <p:spPr>
          <a:xfrm>
            <a:off x="25909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6"/>
          <p:cNvSpPr/>
          <p:nvPr/>
        </p:nvSpPr>
        <p:spPr>
          <a:xfrm>
            <a:off x="4419720" y="4952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586728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8"/>
          <p:cNvSpPr/>
          <p:nvPr/>
        </p:nvSpPr>
        <p:spPr>
          <a:xfrm>
            <a:off x="746748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9"/>
          <p:cNvSpPr/>
          <p:nvPr/>
        </p:nvSpPr>
        <p:spPr>
          <a:xfrm>
            <a:off x="8839080" y="6248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8639-8FD8-4413-BEB6-C5CEFAB62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IN WATERFALL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projects rarely follow the sequential flow since they are always it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 requires requirements to be explicitly spelled out in the beginning, which is often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ing model is not available until late in the project tim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0CBB-EE45-4527-B6EA-430D2E52E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NCREMENTAL PROCESS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sequential model is not suited for projects which are iterative in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model suits such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initial requirements are reasonably well-defined and compelling need to provide limited functionality 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ity expanded further in later rel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is developed in inc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C141-43E6-4120-B93C-CDAC01A11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crement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 flipV="1">
            <a:off x="685800" y="15235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685800" y="58672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202760" y="1687680"/>
            <a:ext cx="206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 rot="16200000">
            <a:off x="-1427760" y="3489120"/>
            <a:ext cx="36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functionality an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899080" y="586728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calenda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914400" y="4191120"/>
            <a:ext cx="131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ment #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4"/>
          <p:cNvGrpSpPr/>
          <p:nvPr/>
        </p:nvGrpSpPr>
        <p:grpSpPr>
          <a:xfrm>
            <a:off x="762120" y="4572000"/>
            <a:ext cx="4114800" cy="838080"/>
            <a:chOff x="762120" y="4572000"/>
            <a:chExt cx="4114800" cy="838080"/>
          </a:xfrm>
        </p:grpSpPr>
        <p:sp>
          <p:nvSpPr>
            <p:cNvPr id="84" name="Rectangle 11"/>
            <p:cNvSpPr/>
            <p:nvPr/>
          </p:nvSpPr>
          <p:spPr>
            <a:xfrm>
              <a:off x="914400" y="4572000"/>
              <a:ext cx="6858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mmunication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2"/>
            <p:cNvSpPr/>
            <p:nvPr/>
          </p:nvSpPr>
          <p:spPr>
            <a:xfrm>
              <a:off x="1752480" y="4724280"/>
              <a:ext cx="533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3"/>
            <p:cNvSpPr/>
            <p:nvPr/>
          </p:nvSpPr>
          <p:spPr>
            <a:xfrm>
              <a:off x="2438280" y="4876920"/>
              <a:ext cx="6098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del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4"/>
            <p:cNvSpPr/>
            <p:nvPr/>
          </p:nvSpPr>
          <p:spPr>
            <a:xfrm>
              <a:off x="3200400" y="4952880"/>
              <a:ext cx="609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struc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es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5"/>
            <p:cNvSpPr/>
            <p:nvPr/>
          </p:nvSpPr>
          <p:spPr>
            <a:xfrm>
              <a:off x="4038480" y="5029200"/>
              <a:ext cx="6098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6"/>
            <p:cNvSpPr/>
            <p:nvPr/>
          </p:nvSpPr>
          <p:spPr>
            <a:xfrm>
              <a:off x="762120" y="4724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7"/>
            <p:cNvSpPr/>
            <p:nvPr/>
          </p:nvSpPr>
          <p:spPr>
            <a:xfrm>
              <a:off x="1523880" y="4800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8"/>
            <p:cNvSpPr/>
            <p:nvPr/>
          </p:nvSpPr>
          <p:spPr>
            <a:xfrm>
              <a:off x="2286000" y="5029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9"/>
            <p:cNvSpPr/>
            <p:nvPr/>
          </p:nvSpPr>
          <p:spPr>
            <a:xfrm>
              <a:off x="2971800" y="5105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0"/>
            <p:cNvSpPr/>
            <p:nvPr/>
          </p:nvSpPr>
          <p:spPr>
            <a:xfrm>
              <a:off x="3809880" y="5181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2"/>
            <p:cNvSpPr/>
            <p:nvPr/>
          </p:nvSpPr>
          <p:spPr>
            <a:xfrm>
              <a:off x="4648320" y="5181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23"/>
          <p:cNvSpPr/>
          <p:nvPr/>
        </p:nvSpPr>
        <p:spPr>
          <a:xfrm>
            <a:off x="5037120" y="5105520"/>
            <a:ext cx="109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y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5"/>
          <p:cNvGrpSpPr/>
          <p:nvPr/>
        </p:nvGrpSpPr>
        <p:grpSpPr>
          <a:xfrm>
            <a:off x="2895480" y="3733920"/>
            <a:ext cx="4114800" cy="838080"/>
            <a:chOff x="2895480" y="3733920"/>
            <a:chExt cx="4114800" cy="838080"/>
          </a:xfrm>
        </p:grpSpPr>
        <p:sp>
          <p:nvSpPr>
            <p:cNvPr id="97" name="Rectangle 26"/>
            <p:cNvSpPr/>
            <p:nvPr/>
          </p:nvSpPr>
          <p:spPr>
            <a:xfrm>
              <a:off x="3047760" y="3733920"/>
              <a:ext cx="6858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mmunication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7"/>
            <p:cNvSpPr/>
            <p:nvPr/>
          </p:nvSpPr>
          <p:spPr>
            <a:xfrm>
              <a:off x="3885840" y="3886200"/>
              <a:ext cx="533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8"/>
            <p:cNvSpPr/>
            <p:nvPr/>
          </p:nvSpPr>
          <p:spPr>
            <a:xfrm>
              <a:off x="4571640" y="4038840"/>
              <a:ext cx="6098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del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9"/>
            <p:cNvSpPr/>
            <p:nvPr/>
          </p:nvSpPr>
          <p:spPr>
            <a:xfrm>
              <a:off x="5333760" y="4114800"/>
              <a:ext cx="609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struc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es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0"/>
            <p:cNvSpPr/>
            <p:nvPr/>
          </p:nvSpPr>
          <p:spPr>
            <a:xfrm>
              <a:off x="6171840" y="4191120"/>
              <a:ext cx="6098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1"/>
            <p:cNvSpPr/>
            <p:nvPr/>
          </p:nvSpPr>
          <p:spPr>
            <a:xfrm>
              <a:off x="2895480" y="3886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2"/>
            <p:cNvSpPr/>
            <p:nvPr/>
          </p:nvSpPr>
          <p:spPr>
            <a:xfrm>
              <a:off x="3657240" y="3962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3"/>
            <p:cNvSpPr/>
            <p:nvPr/>
          </p:nvSpPr>
          <p:spPr>
            <a:xfrm>
              <a:off x="4419360" y="41911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4"/>
            <p:cNvSpPr/>
            <p:nvPr/>
          </p:nvSpPr>
          <p:spPr>
            <a:xfrm>
              <a:off x="5105160" y="4267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5"/>
            <p:cNvSpPr/>
            <p:nvPr/>
          </p:nvSpPr>
          <p:spPr>
            <a:xfrm>
              <a:off x="5943240" y="4343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6"/>
            <p:cNvSpPr/>
            <p:nvPr/>
          </p:nvSpPr>
          <p:spPr>
            <a:xfrm>
              <a:off x="6781680" y="4343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37"/>
          <p:cNvSpPr/>
          <p:nvPr/>
        </p:nvSpPr>
        <p:spPr>
          <a:xfrm>
            <a:off x="2894400" y="33526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ment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8"/>
          <p:cNvGrpSpPr/>
          <p:nvPr/>
        </p:nvGrpSpPr>
        <p:grpSpPr>
          <a:xfrm>
            <a:off x="5029200" y="2209680"/>
            <a:ext cx="4114800" cy="838080"/>
            <a:chOff x="5029200" y="2209680"/>
            <a:chExt cx="4114800" cy="838080"/>
          </a:xfrm>
        </p:grpSpPr>
        <p:sp>
          <p:nvSpPr>
            <p:cNvPr id="110" name="Rectangle 39"/>
            <p:cNvSpPr/>
            <p:nvPr/>
          </p:nvSpPr>
          <p:spPr>
            <a:xfrm>
              <a:off x="5181480" y="2209680"/>
              <a:ext cx="6858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mmunication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0"/>
            <p:cNvSpPr/>
            <p:nvPr/>
          </p:nvSpPr>
          <p:spPr>
            <a:xfrm>
              <a:off x="6019560" y="2361960"/>
              <a:ext cx="533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41"/>
            <p:cNvSpPr/>
            <p:nvPr/>
          </p:nvSpPr>
          <p:spPr>
            <a:xfrm>
              <a:off x="6705360" y="2514600"/>
              <a:ext cx="6098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del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7467480" y="2590560"/>
              <a:ext cx="609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struc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es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3"/>
            <p:cNvSpPr/>
            <p:nvPr/>
          </p:nvSpPr>
          <p:spPr>
            <a:xfrm>
              <a:off x="8305560" y="2666880"/>
              <a:ext cx="6098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44"/>
            <p:cNvSpPr/>
            <p:nvPr/>
          </p:nvSpPr>
          <p:spPr>
            <a:xfrm>
              <a:off x="5029200" y="2361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5"/>
            <p:cNvSpPr/>
            <p:nvPr/>
          </p:nvSpPr>
          <p:spPr>
            <a:xfrm>
              <a:off x="5790960" y="2438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46"/>
            <p:cNvSpPr/>
            <p:nvPr/>
          </p:nvSpPr>
          <p:spPr>
            <a:xfrm>
              <a:off x="655308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47"/>
            <p:cNvSpPr/>
            <p:nvPr/>
          </p:nvSpPr>
          <p:spPr>
            <a:xfrm>
              <a:off x="723888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8"/>
            <p:cNvSpPr/>
            <p:nvPr/>
          </p:nvSpPr>
          <p:spPr>
            <a:xfrm>
              <a:off x="8076960" y="2819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9"/>
            <p:cNvSpPr/>
            <p:nvPr/>
          </p:nvSpPr>
          <p:spPr>
            <a:xfrm>
              <a:off x="8915400" y="2819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62"/>
          <p:cNvSpPr/>
          <p:nvPr/>
        </p:nvSpPr>
        <p:spPr>
          <a:xfrm>
            <a:off x="7233120" y="4249800"/>
            <a:ext cx="957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ivery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cr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3"/>
          <p:cNvSpPr/>
          <p:nvPr/>
        </p:nvSpPr>
        <p:spPr>
          <a:xfrm>
            <a:off x="8153280" y="312408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ivery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h incr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4"/>
          <p:cNvSpPr/>
          <p:nvPr/>
        </p:nvSpPr>
        <p:spPr>
          <a:xfrm>
            <a:off x="4952160" y="190512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ment #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0FC0-5C3B-4BE9-89AB-87B37AA2E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5:18:27Z</dcterms:created>
  <dc:creator>REENA</dc:creator>
  <dc:description/>
  <dc:language>en-US</dc:language>
  <cp:lastModifiedBy>sahithi</cp:lastModifiedBy>
  <dcterms:modified xsi:type="dcterms:W3CDTF">2012-05-12T13:49:07Z</dcterms:modified>
  <cp:revision>114</cp:revision>
  <dc:subject/>
  <dc:title>unit2</dc:title>
</cp:coreProperties>
</file>