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81B7-D587-48F4-A642-FCB41627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138F-F46E-479B-BA3B-7BD1AAE0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2655-DDC6-4AE8-86F4-906C1234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E9FF-F710-446A-9551-75DB6DA8B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3D0C-5FAE-4B61-80A4-5C492F78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EA43-7FA3-49FE-AC05-559F0DE3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937E-00D4-4D08-BE57-1FDB1CB31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880-7DCF-450D-91C9-D6DCDD5C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1059-8BF3-4317-A488-A63A76E36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7D15-C8FF-4269-8F85-A5F70945B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E4AE-CBC3-4844-864C-ADF7FDE6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372C-A55B-48E9-A66B-4F1D1B04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065E-C86B-4DC4-B2DE-3D4421A30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.Tech IT/II Sem-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2362320"/>
            <a:ext cx="8610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rm: 2008-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-2 PPT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ext Boo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1.Software Engineering, A practitioner’s approach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Roger s. Pressman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 McGraw-H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Software Engineering Somerville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7580C-7109-4623-A947-ED444AD83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CREMENT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releases in incr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crement constitutes Core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requirements are addres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product undergoes detailed evaluation by the 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 result, plan is developed for the next inc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addresses the modification of core product to better meet the needs of 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is repeated until the complete product is p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F6BC9-E5D4-4233-B29F-B28CDE6CA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RAD MODE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Rapid Application Developmen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cremental software process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ing a short development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-speed adoption of the waterfall model using a component based construction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s a fully functional system within a very short span time of 60 to 90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1A206-BD66-4BB9-8FFA-FBF2A290D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2296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D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3733920" y="1752480"/>
            <a:ext cx="0" cy="4267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3733920" y="6019920"/>
            <a:ext cx="3886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228600" y="1828800"/>
            <a:ext cx="160020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unic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1981080" y="3048120"/>
            <a:ext cx="16002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1828800" y="2362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2895480" y="2362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1"/>
          <p:cNvSpPr/>
          <p:nvPr/>
        </p:nvSpPr>
        <p:spPr>
          <a:xfrm>
            <a:off x="4114800" y="624852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5257800" y="4800600"/>
            <a:ext cx="1523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truc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r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omatic c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7"/>
          <p:cNvSpPr/>
          <p:nvPr/>
        </p:nvSpPr>
        <p:spPr>
          <a:xfrm>
            <a:off x="3886200" y="3581280"/>
            <a:ext cx="182880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mode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"/>
          <p:cNvSpPr/>
          <p:nvPr/>
        </p:nvSpPr>
        <p:spPr>
          <a:xfrm>
            <a:off x="5791320" y="3048120"/>
            <a:ext cx="15238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truc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r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omatic c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9"/>
          <p:cNvSpPr/>
          <p:nvPr/>
        </p:nvSpPr>
        <p:spPr>
          <a:xfrm>
            <a:off x="4800600" y="2209680"/>
            <a:ext cx="1295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usiness model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model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cess model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6172200" y="1828800"/>
            <a:ext cx="11430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nstruc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Component reus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utomatic code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gener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1"/>
          <p:cNvSpPr/>
          <p:nvPr/>
        </p:nvSpPr>
        <p:spPr>
          <a:xfrm>
            <a:off x="5257800" y="1066680"/>
            <a:ext cx="12952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usiness mode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a mode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cess model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2"/>
          <p:cNvSpPr/>
          <p:nvPr/>
        </p:nvSpPr>
        <p:spPr>
          <a:xfrm>
            <a:off x="3886200" y="3429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3"/>
          <p:cNvSpPr/>
          <p:nvPr/>
        </p:nvSpPr>
        <p:spPr>
          <a:xfrm>
            <a:off x="5715000" y="4267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4"/>
          <p:cNvSpPr/>
          <p:nvPr/>
        </p:nvSpPr>
        <p:spPr>
          <a:xfrm>
            <a:off x="632448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5"/>
          <p:cNvSpPr/>
          <p:nvPr/>
        </p:nvSpPr>
        <p:spPr>
          <a:xfrm>
            <a:off x="60958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6"/>
          <p:cNvSpPr/>
          <p:nvPr/>
        </p:nvSpPr>
        <p:spPr>
          <a:xfrm>
            <a:off x="6400800" y="2666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7"/>
          <p:cNvSpPr/>
          <p:nvPr/>
        </p:nvSpPr>
        <p:spPr>
          <a:xfrm>
            <a:off x="6553080" y="1295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>
            <a:off x="6858000" y="1295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9"/>
          <p:cNvSpPr/>
          <p:nvPr/>
        </p:nvSpPr>
        <p:spPr>
          <a:xfrm>
            <a:off x="4419000" y="320040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am #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0"/>
          <p:cNvSpPr/>
          <p:nvPr/>
        </p:nvSpPr>
        <p:spPr>
          <a:xfrm>
            <a:off x="4494960" y="190512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am #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1"/>
          <p:cNvSpPr/>
          <p:nvPr/>
        </p:nvSpPr>
        <p:spPr>
          <a:xfrm>
            <a:off x="5028480" y="762120"/>
            <a:ext cx="9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am #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2"/>
          <p:cNvSpPr/>
          <p:nvPr/>
        </p:nvSpPr>
        <p:spPr>
          <a:xfrm>
            <a:off x="7772400" y="3733920"/>
            <a:ext cx="11430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7"/>
          <p:cNvSpPr/>
          <p:nvPr/>
        </p:nvSpPr>
        <p:spPr>
          <a:xfrm>
            <a:off x="7315200" y="2362320"/>
            <a:ext cx="4572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8"/>
          <p:cNvSpPr/>
          <p:nvPr/>
        </p:nvSpPr>
        <p:spPr>
          <a:xfrm>
            <a:off x="7315200" y="38862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9"/>
          <p:cNvSpPr/>
          <p:nvPr/>
        </p:nvSpPr>
        <p:spPr>
          <a:xfrm flipV="1">
            <a:off x="6781680" y="4114440"/>
            <a:ext cx="99072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0"/>
          <p:cNvSpPr/>
          <p:nvPr/>
        </p:nvSpPr>
        <p:spPr>
          <a:xfrm>
            <a:off x="7315200" y="411480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EFFC-E242-407E-B257-8983EF26C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AD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software teams work in parallel on differen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 encompasses three major phases: Business modeling, Data modeling and process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uction uses reusable components, automatic code generation and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in R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 number of RAD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commitment from both developer and customer for rapid-fire completion of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suited when technical risks are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FE53-4248-4C44-AEBD-946E144C6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OLUTIONARY PROCESS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volves over a period of t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and product requirements often change as development proceeds making a straight-line path to an end product unrealis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utionary models are iterative and as such are applicable to modern day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 of evolutionary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ra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t developmen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9B3BE-5226-4B38-8419-DDCC0D1D73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ck up or model( throw away version) of a software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hen customer defines a set of objective but does not identify input,output,or processing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r is not sure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cy of an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ability of an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/machine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00FA-AC52-4DEF-88A7-7A3BD5229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AutoShape 9"/>
          <p:cNvSpPr/>
          <p:nvPr/>
        </p:nvSpPr>
        <p:spPr>
          <a:xfrm rot="11603400">
            <a:off x="1981080" y="1599840"/>
            <a:ext cx="4678560" cy="4419720"/>
          </a:xfrm>
          <a:custGeom>
            <a:avLst/>
            <a:gdLst>
              <a:gd name="textAreaLeft" fmla="*/ 685080 w 4678560"/>
              <a:gd name="textAreaRight" fmla="*/ 3993480 w 4678560"/>
              <a:gd name="textAreaTop" fmla="*/ 646920 h 4419720"/>
              <a:gd name="textAreaBottom" fmla="*/ 3772800 h 4419720"/>
            </a:gdLst>
            <a:ahLst/>
            <a:rect l="textAreaLeft" t="textAreaTop" r="textAreaRight" b="textAreaBottom"/>
            <a:pathLst>
              <a:path w="21600" h="21600">
                <a:moveTo>
                  <a:pt x="12302" y="17848"/>
                </a:moveTo>
                <a:cubicBezTo>
                  <a:pt x="15629" y="17139"/>
                  <a:pt x="18007" y="14201"/>
                  <a:pt x="18007" y="10800"/>
                </a:cubicBezTo>
                <a:cubicBezTo>
                  <a:pt x="18007" y="10173"/>
                  <a:pt x="17925" y="9550"/>
                  <a:pt x="17764" y="8945"/>
                </a:cubicBezTo>
                <a:lnTo>
                  <a:pt x="21236" y="8021"/>
                </a:lnTo>
                <a:cubicBezTo>
                  <a:pt x="21477" y="8927"/>
                  <a:pt x="21600" y="9861"/>
                  <a:pt x="21600" y="10800"/>
                </a:cubicBezTo>
                <a:cubicBezTo>
                  <a:pt x="21600" y="15896"/>
                  <a:pt x="18036" y="20299"/>
                  <a:pt x="13052" y="21362"/>
                </a:cubicBezTo>
                <a:lnTo>
                  <a:pt x="13615" y="24003"/>
                </a:lnTo>
                <a:lnTo>
                  <a:pt x="8278" y="20544"/>
                </a:lnTo>
                <a:lnTo>
                  <a:pt x="11739" y="15207"/>
                </a:lnTo>
                <a:lnTo>
                  <a:pt x="12302" y="17848"/>
                </a:lnTo>
                <a:close/>
              </a:path>
            </a:pathLst>
          </a:custGeom>
          <a:solidFill>
            <a:srgbClr val="80808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1"/>
          <p:cNvGrpSpPr/>
          <p:nvPr/>
        </p:nvGrpSpPr>
        <p:grpSpPr>
          <a:xfrm>
            <a:off x="1327680" y="578520"/>
            <a:ext cx="6368040" cy="5512320"/>
            <a:chOff x="1327680" y="578520"/>
            <a:chExt cx="6368040" cy="5512320"/>
          </a:xfrm>
        </p:grpSpPr>
        <p:sp>
          <p:nvSpPr>
            <p:cNvPr id="173" name="AutoShape 6"/>
            <p:cNvSpPr/>
            <p:nvPr/>
          </p:nvSpPr>
          <p:spPr>
            <a:xfrm rot="11603400">
              <a:off x="1676160" y="2088360"/>
              <a:ext cx="4462200" cy="3533760"/>
            </a:xfrm>
            <a:custGeom>
              <a:avLst/>
              <a:gdLst>
                <a:gd name="textAreaLeft" fmla="*/ 653760 w 4462200"/>
                <a:gd name="textAreaRight" fmla="*/ 3808440 w 4462200"/>
                <a:gd name="textAreaTop" fmla="*/ 517680 h 3533760"/>
                <a:gd name="textAreaBottom" fmla="*/ 3016080 h 353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723" y="10685"/>
                  </a:moveTo>
                  <a:cubicBezTo>
                    <a:pt x="16661" y="7458"/>
                    <a:pt x="14027" y="4875"/>
                    <a:pt x="10800" y="4875"/>
                  </a:cubicBezTo>
                  <a:cubicBezTo>
                    <a:pt x="10525" y="4874"/>
                    <a:pt x="10250" y="4894"/>
                    <a:pt x="9978" y="4932"/>
                  </a:cubicBezTo>
                  <a:lnTo>
                    <a:pt x="9302" y="104"/>
                  </a:lnTo>
                  <a:cubicBezTo>
                    <a:pt x="9798" y="34"/>
                    <a:pt x="10299" y="-1"/>
                    <a:pt x="10800" y="0"/>
                  </a:cubicBezTo>
                  <a:cubicBezTo>
                    <a:pt x="16682" y="0"/>
                    <a:pt x="21483" y="4708"/>
                    <a:pt x="21597" y="10590"/>
                  </a:cubicBezTo>
                  <a:lnTo>
                    <a:pt x="24297" y="10537"/>
                  </a:lnTo>
                  <a:lnTo>
                    <a:pt x="19261" y="15774"/>
                  </a:lnTo>
                  <a:lnTo>
                    <a:pt x="14024" y="10737"/>
                  </a:lnTo>
                  <a:lnTo>
                    <a:pt x="16723" y="10685"/>
                  </a:lnTo>
                  <a:close/>
                </a:path>
              </a:pathLst>
            </a:custGeom>
            <a:solidFill>
              <a:srgbClr val="808080">
                <a:alpha val="2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8"/>
            <p:cNvSpPr/>
            <p:nvPr/>
          </p:nvSpPr>
          <p:spPr>
            <a:xfrm>
              <a:off x="1676520" y="4016160"/>
              <a:ext cx="1599840" cy="93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livery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0"/>
            <p:cNvSpPr/>
            <p:nvPr/>
          </p:nvSpPr>
          <p:spPr>
            <a:xfrm>
              <a:off x="2209680" y="1290600"/>
              <a:ext cx="1523520" cy="93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mun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11"/>
            <p:cNvSpPr/>
            <p:nvPr/>
          </p:nvSpPr>
          <p:spPr>
            <a:xfrm rot="11603400">
              <a:off x="3504240" y="913680"/>
              <a:ext cx="3401640" cy="4292280"/>
            </a:xfrm>
            <a:custGeom>
              <a:avLst/>
              <a:gdLst>
                <a:gd name="textAreaLeft" fmla="*/ 498240 w 3401640"/>
                <a:gd name="textAreaRight" fmla="*/ 2903400 w 3401640"/>
                <a:gd name="textAreaTop" fmla="*/ 628560 h 4292280"/>
                <a:gd name="textAreaBottom" fmla="*/ 3663720 h 429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4901" y="11947"/>
                  </a:moveTo>
                  <a:cubicBezTo>
                    <a:pt x="5451" y="14771"/>
                    <a:pt x="7923" y="16809"/>
                    <a:pt x="10800" y="16809"/>
                  </a:cubicBezTo>
                  <a:cubicBezTo>
                    <a:pt x="11305" y="16808"/>
                    <a:pt x="11809" y="16745"/>
                    <a:pt x="12299" y="16619"/>
                  </a:cubicBezTo>
                  <a:lnTo>
                    <a:pt x="13494" y="21258"/>
                  </a:lnTo>
                  <a:cubicBezTo>
                    <a:pt x="12614" y="21485"/>
                    <a:pt x="11708" y="21599"/>
                    <a:pt x="10800" y="21600"/>
                  </a:cubicBezTo>
                  <a:cubicBezTo>
                    <a:pt x="5630" y="21600"/>
                    <a:pt x="1186" y="17937"/>
                    <a:pt x="198" y="12863"/>
                  </a:cubicBezTo>
                  <a:lnTo>
                    <a:pt x="-2452" y="13378"/>
                  </a:lnTo>
                  <a:lnTo>
                    <a:pt x="1576" y="7403"/>
                  </a:lnTo>
                  <a:lnTo>
                    <a:pt x="7551" y="11432"/>
                  </a:lnTo>
                  <a:lnTo>
                    <a:pt x="4901" y="11947"/>
                  </a:lnTo>
                  <a:close/>
                </a:path>
              </a:pathLst>
            </a:custGeom>
            <a:solidFill>
              <a:srgbClr val="808080">
                <a:alpha val="2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2"/>
            <p:cNvSpPr/>
            <p:nvPr/>
          </p:nvSpPr>
          <p:spPr>
            <a:xfrm>
              <a:off x="5714640" y="1357200"/>
              <a:ext cx="1295280" cy="53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ui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3"/>
            <p:cNvSpPr/>
            <p:nvPr/>
          </p:nvSpPr>
          <p:spPr>
            <a:xfrm>
              <a:off x="6095880" y="2088360"/>
              <a:ext cx="1599840" cy="66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ode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Quick desig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AutoShape 14"/>
            <p:cNvSpPr/>
            <p:nvPr/>
          </p:nvSpPr>
          <p:spPr>
            <a:xfrm rot="5939400">
              <a:off x="2974320" y="1743120"/>
              <a:ext cx="3891960" cy="4050720"/>
            </a:xfrm>
            <a:custGeom>
              <a:avLst/>
              <a:gdLst>
                <a:gd name="textAreaLeft" fmla="*/ 570240 w 3891960"/>
                <a:gd name="textAreaRight" fmla="*/ 3321720 w 3891960"/>
                <a:gd name="textAreaTop" fmla="*/ 593640 h 4050720"/>
                <a:gd name="textAreaBottom" fmla="*/ 3457080 h 405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723" y="10685"/>
                  </a:moveTo>
                  <a:cubicBezTo>
                    <a:pt x="16661" y="7458"/>
                    <a:pt x="14027" y="4875"/>
                    <a:pt x="10800" y="4875"/>
                  </a:cubicBezTo>
                  <a:cubicBezTo>
                    <a:pt x="10525" y="4874"/>
                    <a:pt x="10250" y="4894"/>
                    <a:pt x="9978" y="4932"/>
                  </a:cubicBezTo>
                  <a:lnTo>
                    <a:pt x="9302" y="104"/>
                  </a:lnTo>
                  <a:cubicBezTo>
                    <a:pt x="9798" y="34"/>
                    <a:pt x="10299" y="-1"/>
                    <a:pt x="10800" y="0"/>
                  </a:cubicBezTo>
                  <a:cubicBezTo>
                    <a:pt x="16682" y="0"/>
                    <a:pt x="21483" y="4708"/>
                    <a:pt x="21597" y="10590"/>
                  </a:cubicBezTo>
                  <a:lnTo>
                    <a:pt x="24297" y="10537"/>
                  </a:lnTo>
                  <a:lnTo>
                    <a:pt x="19261" y="15774"/>
                  </a:lnTo>
                  <a:lnTo>
                    <a:pt x="14024" y="10737"/>
                  </a:lnTo>
                  <a:lnTo>
                    <a:pt x="16723" y="10685"/>
                  </a:lnTo>
                  <a:close/>
                </a:path>
              </a:pathLst>
            </a:custGeom>
            <a:solidFill>
              <a:srgbClr val="808080">
                <a:alpha val="2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5"/>
            <p:cNvSpPr/>
            <p:nvPr/>
          </p:nvSpPr>
          <p:spPr>
            <a:xfrm>
              <a:off x="5486040" y="3750120"/>
              <a:ext cx="75960" cy="66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5486040" y="3750120"/>
              <a:ext cx="1904760" cy="797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struc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f prototyp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Text Box 22"/>
          <p:cNvSpPr/>
          <p:nvPr/>
        </p:nvSpPr>
        <p:spPr>
          <a:xfrm>
            <a:off x="1131480" y="69840"/>
            <a:ext cx="720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olutionary Models: Prototy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9F849-1444-4421-B33B-283D96879A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PS IN PROTOTY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gins with requirement gath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whatever requirements are kn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line areas where further definition is mand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quick design occ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ck design leads to the construction of proto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type is evaluated by the custom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 are r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type is turned to satisfy the needs of custo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39F82-A251-48E7-8C19-3FB2E6C5C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MITATION OF PROTOTY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rush to get it working, overall software quality or long term maintainability are generally overloo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inappropriate OS or 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of inefficient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64D0-FEF1-42ED-8708-1806FCAC3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IR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volutionary model which combines the best feature of the classical life cycle and the iterative nature of prototyp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new element : Risk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s in middle and continually visits the basic tasks of communication, planning,modeling,construction and 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A4F7-D0EF-4ACA-9054-49CC2C289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 2 SYLLAB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cess models 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waterfall model, Incremental process models, Evolutionary process models, The Unified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Requirements 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and non-functional requirements, User requirements, System requirements, Interface specification, the software requirements docu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154C-150A-45AB-8165-ED57920BB7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olutionary Models: The Spi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0" descr=""/>
          <p:cNvPicPr/>
          <p:nvPr/>
        </p:nvPicPr>
        <p:blipFill>
          <a:blip r:embed="rId1"/>
          <a:stretch/>
        </p:blipFill>
        <p:spPr>
          <a:xfrm>
            <a:off x="146160" y="1231920"/>
            <a:ext cx="8626320" cy="5059440"/>
          </a:xfrm>
          <a:prstGeom prst="rect">
            <a:avLst/>
          </a:prstGeom>
          <a:ln w="0">
            <a:noFill/>
          </a:ln>
        </p:spPr>
      </p:pic>
      <p:sp>
        <p:nvSpPr>
          <p:cNvPr id="19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13D5-D838-4733-9729-713B65416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IR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COMMUN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Tasks required are establish effective communication between develo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PLANNING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Estim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Schedu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Risk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Anal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Co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T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Deli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E2976-DCFB-4E6B-A910-E4A56FDFF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PIR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istic approach to the development of large scale system and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evolves as process progr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understanding between developer and custo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rst circuit might result in the development of a product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equent circuits develop a prot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sophisticated version of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EC89-CEEA-48B1-96D7-CFE04918A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 Box 6"/>
          <p:cNvSpPr/>
          <p:nvPr/>
        </p:nvSpPr>
        <p:spPr>
          <a:xfrm>
            <a:off x="838080" y="3808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CONCURRENT DEVELOPMENT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762120" y="2057400"/>
            <a:ext cx="76960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concurrent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itutes a series of framework activities, software engineering action, tasks and their associa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ctivities exist concurrently but reside in differen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ble to all types of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 generated at one point in the process trigger transitions among th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BCAB4-682D-4B57-89ED-DD580EF11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INAL COMMENT ON EVOLUTIONARY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in project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d of evolution is not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es not focus on flexibility and extensibility (more emphasis on high qua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 is balance between high quality and flexibility and exte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B8BF-464C-47DA-8777-84DA1423B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NIFIED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by Rumbaugh, Booch, Jacob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es the best features their OO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opts additional features proposed by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ed in Unified Modeling Language(UM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fied process developed Rumbaugh and Boo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ramework for Object-Oriented Software Engineering using U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86145-5B4C-4EAD-ABF1-EC9F42662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ASES OF UNIFIED PRO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EPTION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ABORATION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ON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ITION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B6208-CD19-4EC6-AA3F-72CB48025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Unified Process (U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scan0001"/>
          <p:cNvPicPr/>
          <p:nvPr/>
        </p:nvPicPr>
        <p:blipFill>
          <a:blip r:embed="rId1"/>
          <a:stretch/>
        </p:blipFill>
        <p:spPr>
          <a:xfrm>
            <a:off x="380880" y="1676520"/>
            <a:ext cx="7925040" cy="4647960"/>
          </a:xfrm>
          <a:prstGeom prst="rect">
            <a:avLst/>
          </a:prstGeom>
          <a:ln w="0">
            <a:noFill/>
          </a:ln>
        </p:spPr>
      </p:pic>
      <p:sp>
        <p:nvSpPr>
          <p:cNvPr id="2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E63C-705B-4DFA-890E-1DB3D6986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FIED PROCESS WORK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s which are required to be completed during different ph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eption Ph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Vision doc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Initial Use-Case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Initial Risk assess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Project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boration Ph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Use-Case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Analysi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Software Architecture descrip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Preliminary design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Preliminar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F11D-EA7E-412D-8625-B035CBA25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NIFIED PROCESS WORK PROD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Design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System compon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est plan and proced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est ca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Delivered software incre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Beta test resul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General user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42CF-7EED-4417-9550-5E3ACBA44B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-2 P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85800" y="533520"/>
          <a:ext cx="7848720" cy="6622920"/>
        </p:xfrm>
        <a:graphic>
          <a:graphicData uri="http://schemas.openxmlformats.org/drawingml/2006/table">
            <a:tbl>
              <a:tblPr/>
              <a:tblGrid>
                <a:gridCol w="944640"/>
                <a:gridCol w="2979720"/>
                <a:gridCol w="1962000"/>
                <a:gridCol w="1962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cture N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TSli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 Models:Waterfall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incremental Model                         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RAD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olutionary Process Models: 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7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iral model, Concurrent development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unified Process History, Ph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unified process work produ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1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ftware Requirements                                                                -Functional Requir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User Requir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ystem Requirement, Interface  Specif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software requirements docu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0902-E70C-4411-A0B9-3A6372BC55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EEE defines Requirement a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A condition or capability needed by a user to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e a problem or achieve an objectiv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 condition or capability that must be met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essed by a system or a syste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nent to satisfy constract,standard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ication or formally imposed document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A documented representation of a condi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capability as in 1 or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2620-0A6A-419D-911E-DA8C99593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mpasses both the User’s view of the requirements( the external view ) and the Developer’s view( inside characteristi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’s Requireme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Statements in a natural language plus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agram, describing the services the system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ed to provide and the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Describe the system’s function, services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operational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D1997-55E7-44DC-A038-A28DBB0C2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Functional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Statement of services the system should prov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Describe the behavior in particular situ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Defines the system reaction to particular input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functional Requirem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 Constraints on the services or functions offered by the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Include timing constraints, constraints on the developme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process and standar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Apply to system as a wh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ain 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Requirements relate to specific application of the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Reflect characteristics and constraints of tha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4FA0-AB51-4C40-8A1D-C3EF321F6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NCTIONAL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be both complete and consis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All services required by the user should be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Requirements should not have contradictory defi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achieve completeness and consistency for larg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5BE5-3B77-44DF-9D33-9C499A94A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FUNCTIONAL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es of Non-functional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Product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Specify product behavi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Include the follow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tab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Organisational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Derived from policies and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nclude the follow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External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 Derived from factors external to the system and its development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Includes the follow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th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isl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48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F94D-339C-4BEB-AA80-F231E061B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fferent types of non-functional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0" y="1523880"/>
            <a:ext cx="8305920" cy="4953240"/>
            <a:chOff x="0" y="1523880"/>
            <a:chExt cx="8305920" cy="4953240"/>
          </a:xfrm>
        </p:grpSpPr>
        <p:sp>
          <p:nvSpPr>
            <p:cNvPr id="241" name="AutoShape 5"/>
            <p:cNvSpPr/>
            <p:nvPr/>
          </p:nvSpPr>
          <p:spPr>
            <a:xfrm>
              <a:off x="0" y="1523880"/>
              <a:ext cx="8305920" cy="49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7"/>
            <p:cNvSpPr/>
            <p:nvPr/>
          </p:nvSpPr>
          <p:spPr>
            <a:xfrm>
              <a:off x="0" y="1523880"/>
              <a:ext cx="8305920" cy="4953240"/>
            </a:xfrm>
            <a:prstGeom prst="rect">
              <a:avLst/>
            </a:prstGeom>
            <a:noFill/>
            <a:ln w="0">
              <a:solidFill>
                <a:srgbClr val="fffff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8"/>
            <p:cNvSpPr/>
            <p:nvPr/>
          </p:nvSpPr>
          <p:spPr>
            <a:xfrm>
              <a:off x="176040" y="5979960"/>
              <a:ext cx="1130400" cy="47628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9"/>
            <p:cNvSpPr/>
            <p:nvPr/>
          </p:nvSpPr>
          <p:spPr>
            <a:xfrm>
              <a:off x="1501920" y="5979960"/>
              <a:ext cx="1130040" cy="47628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0"/>
            <p:cNvSpPr/>
            <p:nvPr/>
          </p:nvSpPr>
          <p:spPr>
            <a:xfrm>
              <a:off x="77760" y="4881600"/>
              <a:ext cx="1130400" cy="49680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1"/>
            <p:cNvSpPr/>
            <p:nvPr/>
          </p:nvSpPr>
          <p:spPr>
            <a:xfrm>
              <a:off x="838080" y="3782880"/>
              <a:ext cx="1130400" cy="49716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2"/>
            <p:cNvSpPr/>
            <p:nvPr/>
          </p:nvSpPr>
          <p:spPr>
            <a:xfrm>
              <a:off x="2184480" y="3782880"/>
              <a:ext cx="1130400" cy="49716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3"/>
            <p:cNvSpPr/>
            <p:nvPr/>
          </p:nvSpPr>
          <p:spPr>
            <a:xfrm>
              <a:off x="3510000" y="3782880"/>
              <a:ext cx="1130400" cy="49716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4"/>
            <p:cNvSpPr/>
            <p:nvPr/>
          </p:nvSpPr>
          <p:spPr>
            <a:xfrm>
              <a:off x="5010120" y="3782880"/>
              <a:ext cx="1228680" cy="49716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5"/>
            <p:cNvSpPr/>
            <p:nvPr/>
          </p:nvSpPr>
          <p:spPr>
            <a:xfrm>
              <a:off x="6394320" y="3782880"/>
              <a:ext cx="1131840" cy="49716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6"/>
            <p:cNvSpPr/>
            <p:nvPr/>
          </p:nvSpPr>
          <p:spPr>
            <a:xfrm>
              <a:off x="7155000" y="4881600"/>
              <a:ext cx="1131840" cy="49680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7"/>
            <p:cNvSpPr/>
            <p:nvPr/>
          </p:nvSpPr>
          <p:spPr>
            <a:xfrm>
              <a:off x="4230720" y="4881600"/>
              <a:ext cx="1228680" cy="49680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8"/>
            <p:cNvSpPr/>
            <p:nvPr/>
          </p:nvSpPr>
          <p:spPr>
            <a:xfrm>
              <a:off x="5614920" y="4881600"/>
              <a:ext cx="1130400" cy="49680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9"/>
            <p:cNvSpPr/>
            <p:nvPr/>
          </p:nvSpPr>
          <p:spPr>
            <a:xfrm>
              <a:off x="2944800" y="4881600"/>
              <a:ext cx="1130400" cy="49680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0"/>
            <p:cNvSpPr/>
            <p:nvPr/>
          </p:nvSpPr>
          <p:spPr>
            <a:xfrm>
              <a:off x="7155000" y="5979960"/>
              <a:ext cx="1131840" cy="47628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1"/>
            <p:cNvSpPr/>
            <p:nvPr/>
          </p:nvSpPr>
          <p:spPr>
            <a:xfrm>
              <a:off x="5829480" y="5979960"/>
              <a:ext cx="1131840" cy="47628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2"/>
            <p:cNvSpPr/>
            <p:nvPr/>
          </p:nvSpPr>
          <p:spPr>
            <a:xfrm>
              <a:off x="2184480" y="2705040"/>
              <a:ext cx="1130400" cy="47628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23"/>
            <p:cNvSpPr/>
            <p:nvPr/>
          </p:nvSpPr>
          <p:spPr>
            <a:xfrm>
              <a:off x="4289400" y="2705040"/>
              <a:ext cx="1130400" cy="47628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24"/>
            <p:cNvSpPr/>
            <p:nvPr/>
          </p:nvSpPr>
          <p:spPr>
            <a:xfrm>
              <a:off x="6394320" y="2705040"/>
              <a:ext cx="1131840" cy="47628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25"/>
            <p:cNvSpPr/>
            <p:nvPr/>
          </p:nvSpPr>
          <p:spPr>
            <a:xfrm>
              <a:off x="4249800" y="1606680"/>
              <a:ext cx="1190520" cy="498240"/>
            </a:xfrm>
            <a:prstGeom prst="rect">
              <a:avLst/>
            </a:prstGeom>
            <a:solidFill>
              <a:srgbClr val="00afe9"/>
            </a:solidFill>
            <a:ln w="0">
              <a:solidFill>
                <a:srgbClr val="00af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26"/>
            <p:cNvSpPr/>
            <p:nvPr/>
          </p:nvSpPr>
          <p:spPr>
            <a:xfrm>
              <a:off x="4795920" y="1793880"/>
              <a:ext cx="1440" cy="3273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7"/>
            <p:cNvSpPr/>
            <p:nvPr/>
          </p:nvSpPr>
          <p:spPr>
            <a:xfrm>
              <a:off x="2690640" y="2332080"/>
              <a:ext cx="4211640" cy="1636560"/>
            </a:xfrm>
            <a:custGeom>
              <a:avLst/>
              <a:gdLst>
                <a:gd name="textAreaLeft" fmla="*/ 0 w 4211640"/>
                <a:gd name="textAreaRight" fmla="*/ 4212000 w 4211640"/>
                <a:gd name="textAreaTop" fmla="*/ 0 h 1636560"/>
                <a:gd name="textAreaBottom" fmla="*/ 1636920 h 1636560"/>
              </a:gdLst>
              <a:ahLst/>
              <a:rect l="textAreaLeft" t="textAreaTop" r="textAreaRight" b="textAreaBottom"/>
              <a:pathLst>
                <a:path w="2653" h="1031">
                  <a:moveTo>
                    <a:pt x="2653" y="1031"/>
                  </a:moveTo>
                  <a:lnTo>
                    <a:pt x="2653" y="0"/>
                  </a:lnTo>
                  <a:lnTo>
                    <a:pt x="0" y="0"/>
                  </a:lnTo>
                  <a:lnTo>
                    <a:pt x="0" y="103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8"/>
            <p:cNvSpPr/>
            <p:nvPr/>
          </p:nvSpPr>
          <p:spPr>
            <a:xfrm>
              <a:off x="584280" y="3430440"/>
              <a:ext cx="3432240" cy="138924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1389240"/>
                <a:gd name="textAreaBottom" fmla="*/ 1389240 h 1389240"/>
              </a:gdLst>
              <a:ahLst/>
              <a:rect l="textAreaLeft" t="textAreaTop" r="textAreaRight" b="textAreaBottom"/>
              <a:pathLst>
                <a:path w="2162" h="875">
                  <a:moveTo>
                    <a:pt x="2162" y="339"/>
                  </a:moveTo>
                  <a:lnTo>
                    <a:pt x="2162" y="0"/>
                  </a:lnTo>
                  <a:lnTo>
                    <a:pt x="0" y="0"/>
                  </a:lnTo>
                  <a:lnTo>
                    <a:pt x="0" y="8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9"/>
            <p:cNvSpPr/>
            <p:nvPr/>
          </p:nvSpPr>
          <p:spPr>
            <a:xfrm>
              <a:off x="5556240" y="3430440"/>
              <a:ext cx="2106720" cy="1389240"/>
            </a:xfrm>
            <a:custGeom>
              <a:avLst/>
              <a:gdLst>
                <a:gd name="textAreaLeft" fmla="*/ 0 w 2106720"/>
                <a:gd name="textAreaRight" fmla="*/ 2107080 w 2106720"/>
                <a:gd name="textAreaTop" fmla="*/ 0 h 1389240"/>
                <a:gd name="textAreaBottom" fmla="*/ 1389240 h 1389240"/>
              </a:gdLst>
              <a:ahLst/>
              <a:rect l="textAreaLeft" t="textAreaTop" r="textAreaRight" b="textAreaBottom"/>
              <a:pathLst>
                <a:path w="1327" h="875">
                  <a:moveTo>
                    <a:pt x="0" y="339"/>
                  </a:moveTo>
                  <a:lnTo>
                    <a:pt x="0" y="0"/>
                  </a:lnTo>
                  <a:lnTo>
                    <a:pt x="1327" y="0"/>
                  </a:lnTo>
                  <a:lnTo>
                    <a:pt x="1327" y="87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0"/>
            <p:cNvSpPr/>
            <p:nvPr/>
          </p:nvSpPr>
          <p:spPr>
            <a:xfrm>
              <a:off x="7662960" y="5067360"/>
              <a:ext cx="1440" cy="1098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31"/>
            <p:cNvSpPr/>
            <p:nvPr/>
          </p:nvSpPr>
          <p:spPr>
            <a:xfrm>
              <a:off x="6337440" y="5607000"/>
              <a:ext cx="1325520" cy="558720"/>
            </a:xfrm>
            <a:custGeom>
              <a:avLst/>
              <a:gdLst>
                <a:gd name="textAreaLeft" fmla="*/ 0 w 1325520"/>
                <a:gd name="textAreaRight" fmla="*/ 1325880 w 132552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835" h="352">
                  <a:moveTo>
                    <a:pt x="0" y="352"/>
                  </a:moveTo>
                  <a:lnTo>
                    <a:pt x="0" y="0"/>
                  </a:lnTo>
                  <a:lnTo>
                    <a:pt x="83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32"/>
            <p:cNvSpPr/>
            <p:nvPr/>
          </p:nvSpPr>
          <p:spPr>
            <a:xfrm>
              <a:off x="3470400" y="4529160"/>
              <a:ext cx="2651040" cy="538200"/>
            </a:xfrm>
            <a:custGeom>
              <a:avLst/>
              <a:gdLst>
                <a:gd name="textAreaLeft" fmla="*/ 0 w 2651040"/>
                <a:gd name="textAreaRight" fmla="*/ 2651400 w 2651040"/>
                <a:gd name="textAreaTop" fmla="*/ 0 h 538200"/>
                <a:gd name="textAreaBottom" fmla="*/ 538560 h 538200"/>
              </a:gdLst>
              <a:ahLst/>
              <a:rect l="textAreaLeft" t="textAreaTop" r="textAreaRight" b="textAreaBottom"/>
              <a:pathLst>
                <a:path w="1670" h="339">
                  <a:moveTo>
                    <a:pt x="1670" y="339"/>
                  </a:moveTo>
                  <a:lnTo>
                    <a:pt x="1670" y="0"/>
                  </a:lnTo>
                  <a:lnTo>
                    <a:pt x="0" y="0"/>
                  </a:lnTo>
                  <a:lnTo>
                    <a:pt x="0" y="3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33"/>
            <p:cNvSpPr/>
            <p:nvPr/>
          </p:nvSpPr>
          <p:spPr>
            <a:xfrm flipV="1">
              <a:off x="1365120" y="3430080"/>
              <a:ext cx="1800" cy="538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34"/>
            <p:cNvSpPr/>
            <p:nvPr/>
          </p:nvSpPr>
          <p:spPr>
            <a:xfrm flipV="1">
              <a:off x="1365120" y="4218120"/>
              <a:ext cx="1800" cy="1388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5"/>
            <p:cNvSpPr/>
            <p:nvPr/>
          </p:nvSpPr>
          <p:spPr>
            <a:xfrm>
              <a:off x="682560" y="5607000"/>
              <a:ext cx="1344600" cy="558720"/>
            </a:xfrm>
            <a:custGeom>
              <a:avLst/>
              <a:gdLst>
                <a:gd name="textAreaLeft" fmla="*/ 0 w 1344600"/>
                <a:gd name="textAreaRight" fmla="*/ 1344960 w 1344600"/>
                <a:gd name="textAreaTop" fmla="*/ 0 h 558720"/>
                <a:gd name="textAreaBottom" fmla="*/ 559080 h 558720"/>
              </a:gdLst>
              <a:ahLst/>
              <a:rect l="textAreaLeft" t="textAreaTop" r="textAreaRight" b="textAreaBottom"/>
              <a:pathLst>
                <a:path w="847" h="352">
                  <a:moveTo>
                    <a:pt x="0" y="352"/>
                  </a:moveTo>
                  <a:lnTo>
                    <a:pt x="0" y="0"/>
                  </a:lnTo>
                  <a:lnTo>
                    <a:pt x="847" y="0"/>
                  </a:lnTo>
                  <a:lnTo>
                    <a:pt x="847" y="35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6"/>
            <p:cNvSpPr/>
            <p:nvPr/>
          </p:nvSpPr>
          <p:spPr>
            <a:xfrm>
              <a:off x="117360" y="5918040"/>
              <a:ext cx="1130400" cy="497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37"/>
            <p:cNvSpPr/>
            <p:nvPr/>
          </p:nvSpPr>
          <p:spPr>
            <a:xfrm>
              <a:off x="317160" y="59799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38"/>
            <p:cNvSpPr/>
            <p:nvPr/>
          </p:nvSpPr>
          <p:spPr>
            <a:xfrm>
              <a:off x="378720" y="5979960"/>
              <a:ext cx="13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39"/>
            <p:cNvSpPr/>
            <p:nvPr/>
          </p:nvSpPr>
          <p:spPr>
            <a:xfrm>
              <a:off x="511200" y="5979960"/>
              <a:ext cx="4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f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0"/>
            <p:cNvSpPr/>
            <p:nvPr/>
          </p:nvSpPr>
          <p:spPr>
            <a:xfrm>
              <a:off x="543240" y="5979960"/>
              <a:ext cx="14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1"/>
            <p:cNvSpPr/>
            <p:nvPr/>
          </p:nvSpPr>
          <p:spPr>
            <a:xfrm>
              <a:off x="646200" y="597996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ma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2"/>
            <p:cNvSpPr/>
            <p:nvPr/>
          </p:nvSpPr>
          <p:spPr>
            <a:xfrm>
              <a:off x="291960" y="616752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43"/>
            <p:cNvSpPr/>
            <p:nvPr/>
          </p:nvSpPr>
          <p:spPr>
            <a:xfrm>
              <a:off x="313920" y="616752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44"/>
            <p:cNvSpPr/>
            <p:nvPr/>
          </p:nvSpPr>
          <p:spPr>
            <a:xfrm>
              <a:off x="619560" y="616752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45"/>
            <p:cNvSpPr/>
            <p:nvPr/>
          </p:nvSpPr>
          <p:spPr>
            <a:xfrm>
              <a:off x="1461960" y="5918040"/>
              <a:ext cx="1130400" cy="497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46"/>
            <p:cNvSpPr/>
            <p:nvPr/>
          </p:nvSpPr>
          <p:spPr>
            <a:xfrm>
              <a:off x="1832040" y="5979960"/>
              <a:ext cx="390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Spa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47"/>
            <p:cNvSpPr/>
            <p:nvPr/>
          </p:nvSpPr>
          <p:spPr>
            <a:xfrm>
              <a:off x="1617840" y="616752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48"/>
            <p:cNvSpPr/>
            <p:nvPr/>
          </p:nvSpPr>
          <p:spPr>
            <a:xfrm>
              <a:off x="1658520" y="616752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49"/>
            <p:cNvSpPr/>
            <p:nvPr/>
          </p:nvSpPr>
          <p:spPr>
            <a:xfrm>
              <a:off x="1965600" y="616752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0"/>
            <p:cNvSpPr/>
            <p:nvPr/>
          </p:nvSpPr>
          <p:spPr>
            <a:xfrm>
              <a:off x="19080" y="4819680"/>
              <a:ext cx="1131840" cy="496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51"/>
            <p:cNvSpPr/>
            <p:nvPr/>
          </p:nvSpPr>
          <p:spPr>
            <a:xfrm>
              <a:off x="343800" y="4881600"/>
              <a:ext cx="24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Us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52"/>
            <p:cNvSpPr/>
            <p:nvPr/>
          </p:nvSpPr>
          <p:spPr>
            <a:xfrm>
              <a:off x="590400" y="4881600"/>
              <a:ext cx="31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bil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53"/>
            <p:cNvSpPr/>
            <p:nvPr/>
          </p:nvSpPr>
          <p:spPr>
            <a:xfrm>
              <a:off x="174600" y="508968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54"/>
            <p:cNvSpPr/>
            <p:nvPr/>
          </p:nvSpPr>
          <p:spPr>
            <a:xfrm>
              <a:off x="215640" y="508968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55"/>
            <p:cNvSpPr/>
            <p:nvPr/>
          </p:nvSpPr>
          <p:spPr>
            <a:xfrm>
              <a:off x="522720" y="508968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56"/>
            <p:cNvSpPr/>
            <p:nvPr/>
          </p:nvSpPr>
          <p:spPr>
            <a:xfrm>
              <a:off x="800280" y="3741840"/>
              <a:ext cx="1130040" cy="476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57"/>
            <p:cNvSpPr/>
            <p:nvPr/>
          </p:nvSpPr>
          <p:spPr>
            <a:xfrm>
              <a:off x="1096200" y="3803760"/>
              <a:ext cx="1270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f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58"/>
            <p:cNvSpPr/>
            <p:nvPr/>
          </p:nvSpPr>
          <p:spPr>
            <a:xfrm>
              <a:off x="1195920" y="3803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ficienc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59"/>
            <p:cNvSpPr/>
            <p:nvPr/>
          </p:nvSpPr>
          <p:spPr>
            <a:xfrm>
              <a:off x="955800" y="399096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60"/>
            <p:cNvSpPr/>
            <p:nvPr/>
          </p:nvSpPr>
          <p:spPr>
            <a:xfrm>
              <a:off x="975960" y="399096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61"/>
            <p:cNvSpPr/>
            <p:nvPr/>
          </p:nvSpPr>
          <p:spPr>
            <a:xfrm>
              <a:off x="1283040" y="399096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62"/>
            <p:cNvSpPr/>
            <p:nvPr/>
          </p:nvSpPr>
          <p:spPr>
            <a:xfrm>
              <a:off x="2125800" y="3741840"/>
              <a:ext cx="1130040" cy="476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63"/>
            <p:cNvSpPr/>
            <p:nvPr/>
          </p:nvSpPr>
          <p:spPr>
            <a:xfrm>
              <a:off x="2432520" y="3803760"/>
              <a:ext cx="8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64"/>
            <p:cNvSpPr/>
            <p:nvPr/>
          </p:nvSpPr>
          <p:spPr>
            <a:xfrm>
              <a:off x="2487240" y="3803760"/>
              <a:ext cx="23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li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5"/>
            <p:cNvSpPr/>
            <p:nvPr/>
          </p:nvSpPr>
          <p:spPr>
            <a:xfrm>
              <a:off x="2715840" y="3803760"/>
              <a:ext cx="31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bil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66"/>
            <p:cNvSpPr/>
            <p:nvPr/>
          </p:nvSpPr>
          <p:spPr>
            <a:xfrm>
              <a:off x="2281320" y="399096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67"/>
            <p:cNvSpPr/>
            <p:nvPr/>
          </p:nvSpPr>
          <p:spPr>
            <a:xfrm>
              <a:off x="2322360" y="399096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68"/>
            <p:cNvSpPr/>
            <p:nvPr/>
          </p:nvSpPr>
          <p:spPr>
            <a:xfrm>
              <a:off x="2627640" y="399096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69"/>
            <p:cNvSpPr/>
            <p:nvPr/>
          </p:nvSpPr>
          <p:spPr>
            <a:xfrm>
              <a:off x="3470400" y="3741840"/>
              <a:ext cx="1110960" cy="476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70"/>
            <p:cNvSpPr/>
            <p:nvPr/>
          </p:nvSpPr>
          <p:spPr>
            <a:xfrm>
              <a:off x="3749400" y="3803760"/>
              <a:ext cx="86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71"/>
            <p:cNvSpPr/>
            <p:nvPr/>
          </p:nvSpPr>
          <p:spPr>
            <a:xfrm>
              <a:off x="3818160" y="3803760"/>
              <a:ext cx="14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o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72"/>
            <p:cNvSpPr/>
            <p:nvPr/>
          </p:nvSpPr>
          <p:spPr>
            <a:xfrm>
              <a:off x="3932280" y="3803760"/>
              <a:ext cx="13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t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73"/>
            <p:cNvSpPr/>
            <p:nvPr/>
          </p:nvSpPr>
          <p:spPr>
            <a:xfrm>
              <a:off x="4060800" y="3803760"/>
              <a:ext cx="31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bil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74"/>
            <p:cNvSpPr/>
            <p:nvPr/>
          </p:nvSpPr>
          <p:spPr>
            <a:xfrm>
              <a:off x="3625920" y="399096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75"/>
            <p:cNvSpPr/>
            <p:nvPr/>
          </p:nvSpPr>
          <p:spPr>
            <a:xfrm>
              <a:off x="3647880" y="399096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76"/>
            <p:cNvSpPr/>
            <p:nvPr/>
          </p:nvSpPr>
          <p:spPr>
            <a:xfrm>
              <a:off x="3953160" y="399096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77"/>
            <p:cNvSpPr/>
            <p:nvPr/>
          </p:nvSpPr>
          <p:spPr>
            <a:xfrm>
              <a:off x="4952880" y="3741840"/>
              <a:ext cx="1227240" cy="476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78"/>
            <p:cNvSpPr/>
            <p:nvPr/>
          </p:nvSpPr>
          <p:spPr>
            <a:xfrm>
              <a:off x="5085000" y="3803760"/>
              <a:ext cx="322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Int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79"/>
            <p:cNvSpPr/>
            <p:nvPr/>
          </p:nvSpPr>
          <p:spPr>
            <a:xfrm>
              <a:off x="5383080" y="3803760"/>
              <a:ext cx="309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ope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80"/>
            <p:cNvSpPr/>
            <p:nvPr/>
          </p:nvSpPr>
          <p:spPr>
            <a:xfrm>
              <a:off x="5692320" y="380376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81"/>
            <p:cNvSpPr/>
            <p:nvPr/>
          </p:nvSpPr>
          <p:spPr>
            <a:xfrm>
              <a:off x="5776560" y="3803760"/>
              <a:ext cx="319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bili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82"/>
            <p:cNvSpPr/>
            <p:nvPr/>
          </p:nvSpPr>
          <p:spPr>
            <a:xfrm>
              <a:off x="5165640" y="399096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83"/>
            <p:cNvSpPr/>
            <p:nvPr/>
          </p:nvSpPr>
          <p:spPr>
            <a:xfrm>
              <a:off x="5187600" y="399096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84"/>
            <p:cNvSpPr/>
            <p:nvPr/>
          </p:nvSpPr>
          <p:spPr>
            <a:xfrm>
              <a:off x="5494680" y="399096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85"/>
            <p:cNvSpPr/>
            <p:nvPr/>
          </p:nvSpPr>
          <p:spPr>
            <a:xfrm>
              <a:off x="6337440" y="3741840"/>
              <a:ext cx="1130040" cy="476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86"/>
            <p:cNvSpPr/>
            <p:nvPr/>
          </p:nvSpPr>
          <p:spPr>
            <a:xfrm>
              <a:off x="6694200" y="3803760"/>
              <a:ext cx="43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thic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87"/>
            <p:cNvSpPr/>
            <p:nvPr/>
          </p:nvSpPr>
          <p:spPr>
            <a:xfrm>
              <a:off x="6492960" y="399096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88"/>
            <p:cNvSpPr/>
            <p:nvPr/>
          </p:nvSpPr>
          <p:spPr>
            <a:xfrm>
              <a:off x="6532200" y="399096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89"/>
            <p:cNvSpPr/>
            <p:nvPr/>
          </p:nvSpPr>
          <p:spPr>
            <a:xfrm>
              <a:off x="6839280" y="399096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90"/>
            <p:cNvSpPr/>
            <p:nvPr/>
          </p:nvSpPr>
          <p:spPr>
            <a:xfrm>
              <a:off x="7097760" y="4819680"/>
              <a:ext cx="1130400" cy="496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91"/>
            <p:cNvSpPr/>
            <p:nvPr/>
          </p:nvSpPr>
          <p:spPr>
            <a:xfrm>
              <a:off x="7366320" y="4881600"/>
              <a:ext cx="240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Le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92"/>
            <p:cNvSpPr/>
            <p:nvPr/>
          </p:nvSpPr>
          <p:spPr>
            <a:xfrm>
              <a:off x="7601760" y="4881600"/>
              <a:ext cx="220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isl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93"/>
            <p:cNvSpPr/>
            <p:nvPr/>
          </p:nvSpPr>
          <p:spPr>
            <a:xfrm>
              <a:off x="7803360" y="4881600"/>
              <a:ext cx="87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t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94"/>
            <p:cNvSpPr/>
            <p:nvPr/>
          </p:nvSpPr>
          <p:spPr>
            <a:xfrm>
              <a:off x="7890120" y="488160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v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95"/>
            <p:cNvSpPr/>
            <p:nvPr/>
          </p:nvSpPr>
          <p:spPr>
            <a:xfrm>
              <a:off x="7954560" y="4881600"/>
              <a:ext cx="7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96"/>
            <p:cNvSpPr/>
            <p:nvPr/>
          </p:nvSpPr>
          <p:spPr>
            <a:xfrm>
              <a:off x="7272360" y="508968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97"/>
            <p:cNvSpPr/>
            <p:nvPr/>
          </p:nvSpPr>
          <p:spPr>
            <a:xfrm>
              <a:off x="7292520" y="508968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98"/>
            <p:cNvSpPr/>
            <p:nvPr/>
          </p:nvSpPr>
          <p:spPr>
            <a:xfrm>
              <a:off x="7599600" y="508968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99"/>
            <p:cNvSpPr/>
            <p:nvPr/>
          </p:nvSpPr>
          <p:spPr>
            <a:xfrm>
              <a:off x="4172040" y="4819680"/>
              <a:ext cx="1247760" cy="496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00"/>
            <p:cNvSpPr/>
            <p:nvPr/>
          </p:nvSpPr>
          <p:spPr>
            <a:xfrm>
              <a:off x="4236120" y="4881600"/>
              <a:ext cx="808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Implement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01"/>
            <p:cNvSpPr/>
            <p:nvPr/>
          </p:nvSpPr>
          <p:spPr>
            <a:xfrm>
              <a:off x="5085000" y="4881600"/>
              <a:ext cx="259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02"/>
            <p:cNvSpPr/>
            <p:nvPr/>
          </p:nvSpPr>
          <p:spPr>
            <a:xfrm>
              <a:off x="4405320" y="508968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03"/>
            <p:cNvSpPr/>
            <p:nvPr/>
          </p:nvSpPr>
          <p:spPr>
            <a:xfrm>
              <a:off x="4427280" y="508968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04"/>
            <p:cNvSpPr/>
            <p:nvPr/>
          </p:nvSpPr>
          <p:spPr>
            <a:xfrm>
              <a:off x="4734360" y="508968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05"/>
            <p:cNvSpPr/>
            <p:nvPr/>
          </p:nvSpPr>
          <p:spPr>
            <a:xfrm>
              <a:off x="5556240" y="4819680"/>
              <a:ext cx="1131840" cy="496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06"/>
            <p:cNvSpPr/>
            <p:nvPr/>
          </p:nvSpPr>
          <p:spPr>
            <a:xfrm>
              <a:off x="5794560" y="4881600"/>
              <a:ext cx="518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Standa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07"/>
            <p:cNvSpPr/>
            <p:nvPr/>
          </p:nvSpPr>
          <p:spPr>
            <a:xfrm>
              <a:off x="6336720" y="4881600"/>
              <a:ext cx="154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d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08"/>
            <p:cNvSpPr/>
            <p:nvPr/>
          </p:nvSpPr>
          <p:spPr>
            <a:xfrm>
              <a:off x="5732640" y="508968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09"/>
            <p:cNvSpPr/>
            <p:nvPr/>
          </p:nvSpPr>
          <p:spPr>
            <a:xfrm>
              <a:off x="5752800" y="508968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10"/>
            <p:cNvSpPr/>
            <p:nvPr/>
          </p:nvSpPr>
          <p:spPr>
            <a:xfrm>
              <a:off x="6059880" y="508968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11"/>
            <p:cNvSpPr/>
            <p:nvPr/>
          </p:nvSpPr>
          <p:spPr>
            <a:xfrm>
              <a:off x="2905200" y="4819680"/>
              <a:ext cx="1111320" cy="496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12"/>
            <p:cNvSpPr/>
            <p:nvPr/>
          </p:nvSpPr>
          <p:spPr>
            <a:xfrm>
              <a:off x="3234600" y="4881600"/>
              <a:ext cx="25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Del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13"/>
            <p:cNvSpPr/>
            <p:nvPr/>
          </p:nvSpPr>
          <p:spPr>
            <a:xfrm>
              <a:off x="3502440" y="488160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v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14"/>
            <p:cNvSpPr/>
            <p:nvPr/>
          </p:nvSpPr>
          <p:spPr>
            <a:xfrm>
              <a:off x="3540960" y="4881600"/>
              <a:ext cx="20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r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15"/>
            <p:cNvSpPr/>
            <p:nvPr/>
          </p:nvSpPr>
          <p:spPr>
            <a:xfrm>
              <a:off x="3060720" y="508968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16"/>
            <p:cNvSpPr/>
            <p:nvPr/>
          </p:nvSpPr>
          <p:spPr>
            <a:xfrm>
              <a:off x="3082680" y="508968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17"/>
            <p:cNvSpPr/>
            <p:nvPr/>
          </p:nvSpPr>
          <p:spPr>
            <a:xfrm>
              <a:off x="3387960" y="508968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18"/>
            <p:cNvSpPr/>
            <p:nvPr/>
          </p:nvSpPr>
          <p:spPr>
            <a:xfrm>
              <a:off x="7097760" y="5918040"/>
              <a:ext cx="1130400" cy="497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19"/>
            <p:cNvSpPr/>
            <p:nvPr/>
          </p:nvSpPr>
          <p:spPr>
            <a:xfrm>
              <a:off x="7487640" y="5979960"/>
              <a:ext cx="40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Safet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20"/>
            <p:cNvSpPr/>
            <p:nvPr/>
          </p:nvSpPr>
          <p:spPr>
            <a:xfrm>
              <a:off x="7272360" y="616752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21"/>
            <p:cNvSpPr/>
            <p:nvPr/>
          </p:nvSpPr>
          <p:spPr>
            <a:xfrm>
              <a:off x="7292520" y="616752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22"/>
            <p:cNvSpPr/>
            <p:nvPr/>
          </p:nvSpPr>
          <p:spPr>
            <a:xfrm>
              <a:off x="7599600" y="616752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23"/>
            <p:cNvSpPr/>
            <p:nvPr/>
          </p:nvSpPr>
          <p:spPr>
            <a:xfrm>
              <a:off x="5770440" y="5918040"/>
              <a:ext cx="1131840" cy="497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24"/>
            <p:cNvSpPr/>
            <p:nvPr/>
          </p:nvSpPr>
          <p:spPr>
            <a:xfrm>
              <a:off x="6138000" y="5979960"/>
              <a:ext cx="180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Pr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25"/>
            <p:cNvSpPr/>
            <p:nvPr/>
          </p:nvSpPr>
          <p:spPr>
            <a:xfrm>
              <a:off x="6329520" y="5979960"/>
              <a:ext cx="72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v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26"/>
            <p:cNvSpPr/>
            <p:nvPr/>
          </p:nvSpPr>
          <p:spPr>
            <a:xfrm>
              <a:off x="6374160" y="5979960"/>
              <a:ext cx="218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acy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27"/>
            <p:cNvSpPr/>
            <p:nvPr/>
          </p:nvSpPr>
          <p:spPr>
            <a:xfrm>
              <a:off x="5926320" y="616752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28"/>
            <p:cNvSpPr/>
            <p:nvPr/>
          </p:nvSpPr>
          <p:spPr>
            <a:xfrm>
              <a:off x="5967000" y="616752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29"/>
            <p:cNvSpPr/>
            <p:nvPr/>
          </p:nvSpPr>
          <p:spPr>
            <a:xfrm>
              <a:off x="6274080" y="616752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30"/>
            <p:cNvSpPr/>
            <p:nvPr/>
          </p:nvSpPr>
          <p:spPr>
            <a:xfrm>
              <a:off x="2125800" y="2643120"/>
              <a:ext cx="1130040" cy="496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31"/>
            <p:cNvSpPr/>
            <p:nvPr/>
          </p:nvSpPr>
          <p:spPr>
            <a:xfrm>
              <a:off x="2471760" y="2705040"/>
              <a:ext cx="14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P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32"/>
            <p:cNvSpPr/>
            <p:nvPr/>
          </p:nvSpPr>
          <p:spPr>
            <a:xfrm>
              <a:off x="2579760" y="2705040"/>
              <a:ext cx="37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oduc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33"/>
            <p:cNvSpPr/>
            <p:nvPr/>
          </p:nvSpPr>
          <p:spPr>
            <a:xfrm>
              <a:off x="2281320" y="289260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34"/>
            <p:cNvSpPr/>
            <p:nvPr/>
          </p:nvSpPr>
          <p:spPr>
            <a:xfrm>
              <a:off x="2322360" y="289260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35"/>
            <p:cNvSpPr/>
            <p:nvPr/>
          </p:nvSpPr>
          <p:spPr>
            <a:xfrm>
              <a:off x="2627640" y="289260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36"/>
            <p:cNvSpPr/>
            <p:nvPr/>
          </p:nvSpPr>
          <p:spPr>
            <a:xfrm>
              <a:off x="4230720" y="2643120"/>
              <a:ext cx="1130400" cy="496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37"/>
            <p:cNvSpPr/>
            <p:nvPr/>
          </p:nvSpPr>
          <p:spPr>
            <a:xfrm>
              <a:off x="4287960" y="2705040"/>
              <a:ext cx="9792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Organisat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38"/>
            <p:cNvSpPr/>
            <p:nvPr/>
          </p:nvSpPr>
          <p:spPr>
            <a:xfrm>
              <a:off x="4386240" y="289260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39"/>
            <p:cNvSpPr/>
            <p:nvPr/>
          </p:nvSpPr>
          <p:spPr>
            <a:xfrm>
              <a:off x="4408200" y="289260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40"/>
            <p:cNvSpPr/>
            <p:nvPr/>
          </p:nvSpPr>
          <p:spPr>
            <a:xfrm>
              <a:off x="4713840" y="289260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41"/>
            <p:cNvSpPr/>
            <p:nvPr/>
          </p:nvSpPr>
          <p:spPr>
            <a:xfrm>
              <a:off x="6337440" y="2643120"/>
              <a:ext cx="1130040" cy="496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42"/>
            <p:cNvSpPr/>
            <p:nvPr/>
          </p:nvSpPr>
          <p:spPr>
            <a:xfrm>
              <a:off x="6640560" y="2705040"/>
              <a:ext cx="543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xter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43"/>
            <p:cNvSpPr/>
            <p:nvPr/>
          </p:nvSpPr>
          <p:spPr>
            <a:xfrm>
              <a:off x="6492960" y="289260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44"/>
            <p:cNvSpPr/>
            <p:nvPr/>
          </p:nvSpPr>
          <p:spPr>
            <a:xfrm>
              <a:off x="6532200" y="289260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45"/>
            <p:cNvSpPr/>
            <p:nvPr/>
          </p:nvSpPr>
          <p:spPr>
            <a:xfrm>
              <a:off x="6839280" y="289260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46"/>
            <p:cNvSpPr/>
            <p:nvPr/>
          </p:nvSpPr>
          <p:spPr>
            <a:xfrm>
              <a:off x="4211640" y="1544760"/>
              <a:ext cx="1170000" cy="496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83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47"/>
            <p:cNvSpPr/>
            <p:nvPr/>
          </p:nvSpPr>
          <p:spPr>
            <a:xfrm>
              <a:off x="4282200" y="1628640"/>
              <a:ext cx="989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Non-functiona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48"/>
            <p:cNvSpPr/>
            <p:nvPr/>
          </p:nvSpPr>
          <p:spPr>
            <a:xfrm>
              <a:off x="4386240" y="1814400"/>
              <a:ext cx="5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49"/>
            <p:cNvSpPr/>
            <p:nvPr/>
          </p:nvSpPr>
          <p:spPr>
            <a:xfrm>
              <a:off x="4408200" y="1814400"/>
              <a:ext cx="34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quir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50"/>
            <p:cNvSpPr/>
            <p:nvPr/>
          </p:nvSpPr>
          <p:spPr>
            <a:xfrm>
              <a:off x="4713840" y="1814400"/>
              <a:ext cx="49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Formata Regular"/>
                </a:rPr>
                <a:t>ement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Slide Number Placeholder 14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18ED-4505-4F8F-BFBD-8AA56A5F36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S FACED USING THE NATURAL LANGU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Lack of c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Leads to misunderstanding becau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mbiguity of natura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Conf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Due to over flexibility,sometime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icult to find whether requireme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same or distin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malgamation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Difficult to modularize natural languag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940D-C089-435D-A283-A5ABEB4BB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CTURED LANGUAGE SPECIF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ments are written in a standard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s degree of unifor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templates to specif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 control constructs and graphical highlighting to partition the spec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2750-0814-4C0A-A6B6-13793E3FD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YSTEM REQUIREMENTS STANDARD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d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1022F-920A-4B3D-AED3-F744F3ED8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 Spec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of new system must match with the exis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provides this capability and precisely specif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types of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Procedura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Used for calling the existing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new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Provide data passing from one sub-system to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Representations of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Ordering of bits to match with the exist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Most common in real-time and embedd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74B4-2D50-477F-922E-882F14422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S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in the software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de the software team through a set of framework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Models may be linear, incremental or evolutio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3D163-8AAC-4079-A545-1B9D4630B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oftware Requirements doc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equirements document is the official statement of what is required of the system develop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uld include both a definition of user requirements and a specification of the system requir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t is NOT a design document. As far as possible, it should set of WHAT the system should do rather than HOW it should do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19A1-8AEA-409A-9C88-ABFE9488BA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oftware Requirements docu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inger suggests that there are 6 requirements that requirement document should satisfy. It shou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only external system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y constraints on the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easy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ve as reference tool for system maintai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forethought about the life cycle of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ze acceptable responses to undesired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254B-7FB5-419E-B061-7D9B36E57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urpose of SR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between the Customer, Analyst,system developers, maintainers, 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m foundation for the design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system test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project management and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ing the evolution of th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854A2-C319-4C5B-89E6-63BF81110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4872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EEE requirements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fines a generic structure for a requirements document that must be instantiated for each specific syst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l descri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fic require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end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de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A0EC-0C6F-4D47-9B2E-D30B30515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IEEE requirements stand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1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2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3 Definitions, Acronyms and Abbrevi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4 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5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BAE9-76A6-480B-A146-B628CACC6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General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1 Product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2 Product function 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 User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 General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 Assumptions and 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pecific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Function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External interfac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Performanc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esign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ttributes eg. security, availability,maintainability,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ability/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Oth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7F62-EB77-477B-97E8-CB43CAB26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n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20B1-E2E5-41D3-A9F2-57EC9BD9C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TERFAL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hen requirements are well understood in the begi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called classic life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ystematic, sequential approach to Software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ins with customer specification of Requirements and progresses through planning, modeling, construction and de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D772-249A-4365-A3B2-7B5F56A82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terfal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9154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odel suggests a systematic, sequential approach to SW development that begins at the system level and progresses through analysis, design, code and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228600" y="3429000"/>
            <a:ext cx="236232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initi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ment gath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2819520" y="4267080"/>
            <a:ext cx="16002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ima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du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4572000" y="4800600"/>
            <a:ext cx="129528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6095880" y="5257800"/>
            <a:ext cx="13716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7696080" y="5791320"/>
            <a:ext cx="1143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>
            <a:off x="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5"/>
          <p:cNvSpPr/>
          <p:nvPr/>
        </p:nvSpPr>
        <p:spPr>
          <a:xfrm>
            <a:off x="25909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6"/>
          <p:cNvSpPr/>
          <p:nvPr/>
        </p:nvSpPr>
        <p:spPr>
          <a:xfrm>
            <a:off x="4419720" y="495288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7"/>
          <p:cNvSpPr/>
          <p:nvPr/>
        </p:nvSpPr>
        <p:spPr>
          <a:xfrm>
            <a:off x="586728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8"/>
          <p:cNvSpPr/>
          <p:nvPr/>
        </p:nvSpPr>
        <p:spPr>
          <a:xfrm>
            <a:off x="7467480" y="5943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9"/>
          <p:cNvSpPr/>
          <p:nvPr/>
        </p:nvSpPr>
        <p:spPr>
          <a:xfrm>
            <a:off x="8839080" y="6248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1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B53E-BA4B-4A0D-B913-1EBB3865C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LEMS IN WATERFALL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projects rarely follow the sequential flow since they are always ite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del requires requirements to be explicitly spelled out in the beginning, which is often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king model is not available until late in the project time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0960-8B01-4067-BC2D-2948CF5E9D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INCREMENTAL PROCESS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ar sequential model is not suited for projects which are iterative in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mental model suits such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when initial requirements are reasonably well-defined and compelling need to provide limited functionality quick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ity expanded further in later rele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is developed in inc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9912-37DE-4757-BF59-CD2F0C314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Incremental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6"/>
          <p:cNvSpPr/>
          <p:nvPr/>
        </p:nvSpPr>
        <p:spPr>
          <a:xfrm flipV="1">
            <a:off x="685800" y="15235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7"/>
          <p:cNvSpPr/>
          <p:nvPr/>
        </p:nvSpPr>
        <p:spPr>
          <a:xfrm>
            <a:off x="685800" y="586728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1202760" y="1687680"/>
            <a:ext cx="2067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r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 rot="16200000">
            <a:off x="-1427760" y="3489120"/>
            <a:ext cx="36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ftware functionality and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899080" y="586728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calendar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914400" y="4191120"/>
            <a:ext cx="131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ment #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24"/>
          <p:cNvGrpSpPr/>
          <p:nvPr/>
        </p:nvGrpSpPr>
        <p:grpSpPr>
          <a:xfrm>
            <a:off x="762120" y="4572000"/>
            <a:ext cx="4114800" cy="838080"/>
            <a:chOff x="762120" y="4572000"/>
            <a:chExt cx="4114800" cy="838080"/>
          </a:xfrm>
        </p:grpSpPr>
        <p:sp>
          <p:nvSpPr>
            <p:cNvPr id="84" name="Rectangle 11"/>
            <p:cNvSpPr/>
            <p:nvPr/>
          </p:nvSpPr>
          <p:spPr>
            <a:xfrm>
              <a:off x="914400" y="4572000"/>
              <a:ext cx="6858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mmunication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2"/>
            <p:cNvSpPr/>
            <p:nvPr/>
          </p:nvSpPr>
          <p:spPr>
            <a:xfrm>
              <a:off x="1752480" y="4724280"/>
              <a:ext cx="533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3"/>
            <p:cNvSpPr/>
            <p:nvPr/>
          </p:nvSpPr>
          <p:spPr>
            <a:xfrm>
              <a:off x="2438280" y="4876920"/>
              <a:ext cx="6098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del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4"/>
            <p:cNvSpPr/>
            <p:nvPr/>
          </p:nvSpPr>
          <p:spPr>
            <a:xfrm>
              <a:off x="3200400" y="4952880"/>
              <a:ext cx="609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struc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es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5"/>
            <p:cNvSpPr/>
            <p:nvPr/>
          </p:nvSpPr>
          <p:spPr>
            <a:xfrm>
              <a:off x="4038480" y="5029200"/>
              <a:ext cx="6098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16"/>
            <p:cNvSpPr/>
            <p:nvPr/>
          </p:nvSpPr>
          <p:spPr>
            <a:xfrm>
              <a:off x="762120" y="4724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7"/>
            <p:cNvSpPr/>
            <p:nvPr/>
          </p:nvSpPr>
          <p:spPr>
            <a:xfrm>
              <a:off x="1523880" y="48006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8"/>
            <p:cNvSpPr/>
            <p:nvPr/>
          </p:nvSpPr>
          <p:spPr>
            <a:xfrm>
              <a:off x="2286000" y="5029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9"/>
            <p:cNvSpPr/>
            <p:nvPr/>
          </p:nvSpPr>
          <p:spPr>
            <a:xfrm>
              <a:off x="2971800" y="5105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20"/>
            <p:cNvSpPr/>
            <p:nvPr/>
          </p:nvSpPr>
          <p:spPr>
            <a:xfrm>
              <a:off x="3809880" y="5181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2"/>
            <p:cNvSpPr/>
            <p:nvPr/>
          </p:nvSpPr>
          <p:spPr>
            <a:xfrm>
              <a:off x="4648320" y="5181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23"/>
          <p:cNvSpPr/>
          <p:nvPr/>
        </p:nvSpPr>
        <p:spPr>
          <a:xfrm>
            <a:off x="5037120" y="5105520"/>
            <a:ext cx="109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ivery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cr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25"/>
          <p:cNvGrpSpPr/>
          <p:nvPr/>
        </p:nvGrpSpPr>
        <p:grpSpPr>
          <a:xfrm>
            <a:off x="2895480" y="3733920"/>
            <a:ext cx="4114800" cy="838080"/>
            <a:chOff x="2895480" y="3733920"/>
            <a:chExt cx="4114800" cy="838080"/>
          </a:xfrm>
        </p:grpSpPr>
        <p:sp>
          <p:nvSpPr>
            <p:cNvPr id="97" name="Rectangle 26"/>
            <p:cNvSpPr/>
            <p:nvPr/>
          </p:nvSpPr>
          <p:spPr>
            <a:xfrm>
              <a:off x="3047760" y="3733920"/>
              <a:ext cx="6858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mmunication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27"/>
            <p:cNvSpPr/>
            <p:nvPr/>
          </p:nvSpPr>
          <p:spPr>
            <a:xfrm>
              <a:off x="3885840" y="3886200"/>
              <a:ext cx="533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28"/>
            <p:cNvSpPr/>
            <p:nvPr/>
          </p:nvSpPr>
          <p:spPr>
            <a:xfrm>
              <a:off x="4571640" y="4038840"/>
              <a:ext cx="6098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del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29"/>
            <p:cNvSpPr/>
            <p:nvPr/>
          </p:nvSpPr>
          <p:spPr>
            <a:xfrm>
              <a:off x="5333760" y="4114800"/>
              <a:ext cx="609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struc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es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0"/>
            <p:cNvSpPr/>
            <p:nvPr/>
          </p:nvSpPr>
          <p:spPr>
            <a:xfrm>
              <a:off x="6171840" y="4191120"/>
              <a:ext cx="6098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31"/>
            <p:cNvSpPr/>
            <p:nvPr/>
          </p:nvSpPr>
          <p:spPr>
            <a:xfrm>
              <a:off x="2895480" y="3886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32"/>
            <p:cNvSpPr/>
            <p:nvPr/>
          </p:nvSpPr>
          <p:spPr>
            <a:xfrm>
              <a:off x="3657240" y="39625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33"/>
            <p:cNvSpPr/>
            <p:nvPr/>
          </p:nvSpPr>
          <p:spPr>
            <a:xfrm>
              <a:off x="4419360" y="41911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34"/>
            <p:cNvSpPr/>
            <p:nvPr/>
          </p:nvSpPr>
          <p:spPr>
            <a:xfrm>
              <a:off x="5105160" y="4267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35"/>
            <p:cNvSpPr/>
            <p:nvPr/>
          </p:nvSpPr>
          <p:spPr>
            <a:xfrm>
              <a:off x="5943240" y="4343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36"/>
            <p:cNvSpPr/>
            <p:nvPr/>
          </p:nvSpPr>
          <p:spPr>
            <a:xfrm>
              <a:off x="6781680" y="43434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 Box 37"/>
          <p:cNvSpPr/>
          <p:nvPr/>
        </p:nvSpPr>
        <p:spPr>
          <a:xfrm>
            <a:off x="2894400" y="3352680"/>
            <a:ext cx="103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ment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38"/>
          <p:cNvGrpSpPr/>
          <p:nvPr/>
        </p:nvGrpSpPr>
        <p:grpSpPr>
          <a:xfrm>
            <a:off x="5029200" y="2209680"/>
            <a:ext cx="4114800" cy="838080"/>
            <a:chOff x="5029200" y="2209680"/>
            <a:chExt cx="4114800" cy="838080"/>
          </a:xfrm>
        </p:grpSpPr>
        <p:sp>
          <p:nvSpPr>
            <p:cNvPr id="110" name="Rectangle 39"/>
            <p:cNvSpPr/>
            <p:nvPr/>
          </p:nvSpPr>
          <p:spPr>
            <a:xfrm>
              <a:off x="5181480" y="2209680"/>
              <a:ext cx="685800" cy="53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mmunication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40"/>
            <p:cNvSpPr/>
            <p:nvPr/>
          </p:nvSpPr>
          <p:spPr>
            <a:xfrm>
              <a:off x="6019560" y="2361960"/>
              <a:ext cx="5335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Plann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41"/>
            <p:cNvSpPr/>
            <p:nvPr/>
          </p:nvSpPr>
          <p:spPr>
            <a:xfrm>
              <a:off x="6705360" y="2514600"/>
              <a:ext cx="6098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Modelin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Analysi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2"/>
            <p:cNvSpPr/>
            <p:nvPr/>
          </p:nvSpPr>
          <p:spPr>
            <a:xfrm>
              <a:off x="7467480" y="2590560"/>
              <a:ext cx="6094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struction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tes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3"/>
            <p:cNvSpPr/>
            <p:nvPr/>
          </p:nvSpPr>
          <p:spPr>
            <a:xfrm>
              <a:off x="8305560" y="2666880"/>
              <a:ext cx="609840" cy="38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eployment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" spc="-1" strike="noStrike">
                  <a:solidFill>
                    <a:srgbClr val="000000"/>
                  </a:solidFill>
                  <a:latin typeface="Arial"/>
                </a:rPr>
                <a:t>feedback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44"/>
            <p:cNvSpPr/>
            <p:nvPr/>
          </p:nvSpPr>
          <p:spPr>
            <a:xfrm>
              <a:off x="5029200" y="2361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45"/>
            <p:cNvSpPr/>
            <p:nvPr/>
          </p:nvSpPr>
          <p:spPr>
            <a:xfrm>
              <a:off x="5790960" y="24382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46"/>
            <p:cNvSpPr/>
            <p:nvPr/>
          </p:nvSpPr>
          <p:spPr>
            <a:xfrm>
              <a:off x="655308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47"/>
            <p:cNvSpPr/>
            <p:nvPr/>
          </p:nvSpPr>
          <p:spPr>
            <a:xfrm>
              <a:off x="7238880" y="2743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48"/>
            <p:cNvSpPr/>
            <p:nvPr/>
          </p:nvSpPr>
          <p:spPr>
            <a:xfrm>
              <a:off x="8076960" y="2819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49"/>
            <p:cNvSpPr/>
            <p:nvPr/>
          </p:nvSpPr>
          <p:spPr>
            <a:xfrm>
              <a:off x="8915400" y="28191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Text Box 62"/>
          <p:cNvSpPr/>
          <p:nvPr/>
        </p:nvSpPr>
        <p:spPr>
          <a:xfrm>
            <a:off x="7233120" y="4249800"/>
            <a:ext cx="957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livery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ncr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3"/>
          <p:cNvSpPr/>
          <p:nvPr/>
        </p:nvSpPr>
        <p:spPr>
          <a:xfrm>
            <a:off x="8153280" y="3124080"/>
            <a:ext cx="115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livery o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h incr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4"/>
          <p:cNvSpPr/>
          <p:nvPr/>
        </p:nvSpPr>
        <p:spPr>
          <a:xfrm>
            <a:off x="4952160" y="190512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ment #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E7E59-EBA7-4CD8-A593-E5EBFABF6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5:18:27Z</dcterms:created>
  <dc:creator>REENA</dc:creator>
  <dc:description/>
  <dc:language>en-US</dc:language>
  <cp:lastModifiedBy>sahithi</cp:lastModifiedBy>
  <dcterms:modified xsi:type="dcterms:W3CDTF">2012-05-12T13:49:07Z</dcterms:modified>
  <cp:revision>114</cp:revision>
  <dc:subject/>
  <dc:title>unit2</dc:title>
</cp:coreProperties>
</file>