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D9CA-E4D7-4468-A5BA-D4B3DAB2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3A1-D4C0-4916-8452-B173A8D0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C820-73DC-46FD-B825-DB228548A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427B-0F77-4EC7-9F9D-4F70D541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8D1A-A421-4D45-AAD3-E7242C90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55C-58E6-46E9-A1B5-FA5C399C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37B9-9E35-4A2D-A945-96BABC76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C32-FCA3-4D8D-A549-C215EC89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5629-54F0-49BE-9161-F4540C2A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B3E-90A4-427E-B4F1-B3A80C69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C3BD-740C-40CB-8CEC-D5886E3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372-B226-4036-9AC7-F1C5D9C1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1ABA-447A-4574-AB2F-ECE511AB0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Tech IT/II Sem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: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4 PP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 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Software Engineering, A practitioner’s approach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Roger s. Pressman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McGraw-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oftware Engineering Somervill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DFF9-22E3-4EB1-BA99-B6328DDE5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a description to enables a designer to determine the following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). Whether the pattern is applicable to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). Whether the pattern can be re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). Whether the pattern can serve as a gu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veloping a similar but functionally 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ally different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EBA5-287B-435B-A36E-24F740BD9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s software into separately named and addressable components, sometimes calle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s are integrated to satisfy problem require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wo problems p1 and p2. If the complexity of p1 is cp1 and of p2 is cp2 then effort to solve p1=cp1 and effort to solve p2=c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p1&gt;cp2 then ep1&gt;e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lexity of two problems when they are combined is often greater than the sum of the perceived complexity when each is taken sepa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Divide and Conquer strategy : it is easier to solve a complex problem when broken into sub-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B070-270D-4965-8D15-92D1D5DE6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ontained within a module is inaccessible to other modules who do not need such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d by defining a set of Independent modules that communicate with one another only that information necessary to achieve S/W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the greatest benefits when modifications are required during testing and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 introduced during modification are less likely to propagate to other location within the S/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1013-F618-4841-828B-C8BC63CE2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AL INDEPEN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 outgrowth of Modularity. abstraction and information hi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d by developing a module with single minded function and an aversion to excessive interaction with other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develop and have simple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maintain because secondary effects caused b design or code modification are limited, error propagation is reduced and reusable modules are poss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ce is assessed by two quantitative crite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Cohe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Performs a single task requiring little interaction with other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p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Measure of interconnection among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pling should be low and cohesion should be high for good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7AD4-7D65-4ABD-B166-EF191FD97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INEMENT &amp; REFACTO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0773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IN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of elaboration from high level abstraction to the lowest level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abstraction begins with a statement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ment causes the designer to elaborate providing more and more details at successive level of abs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 and refinement are complementary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 technique that simplifies the design of a component without changing its function or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s for redundancy, unused design elements and inefficient or unnecessary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C9BA-AC2C-4345-AFEB-BD939C1EF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 CLAS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represents a different layer of design archite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ve types of Design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User interfac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Defines all abstractions that are necessary for human compute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Business domain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Refinement of the analysis classes that identity attributes and services to implement some of business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Process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implements lower level business abstractions required to fully manage the business domain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Persistent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Represent data stores that will persist beyond the execution of the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System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Implements management and control functions to operate and communicate within the computer environment and with the outside wor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B8B8-0A56-4834-B31A-D1834EBB6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viewed in two different dimensions as process dimension and abstract dimen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dimension indicates the evolution of the design model as design tasks are executed as part of software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 dimension represents the level of details as each element of the analysis model is transformed into design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ata Design 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Data design creates a model of data that is represented at a high level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Refined progressively to more implementation-specific representation for processing by the computer bas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ranslation of data model into a data base is pivotal to achieving business objective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140CE-2192-4374-9CC1-29E5022BA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rchitectural desig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d from thre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Information about the application domain of th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Analysis model such as dataflow diagrams or analysis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Architectural pattern and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rface Design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Set of detailed drawings constitu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External interfaces to other systems,devices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Internal interfaces between various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43D4-F561-4A81-976C-91FF0BEB7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ployment level design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Indicates how software functionality and subsystem will be allocated with in the physical comput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UML deployment diagram is developed and ref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onent level design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Fully describe the internal details of each softwar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L diagram can be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29B7-18BB-430B-8C21-F9CFA5FC7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ING AN ARCHITECTURAL DESIG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SOFTWA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ftware architecture of a program or computing system is the structure or structures of the system, which comprise software components, the externally visible properties of those components and the relationship among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18CD-3D99-4FA3-891A-29D80226A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4 SYLLA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ign Engineering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process and Design quality, Design concepts, the desig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n architectural design :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ware architecture, Data design, Architectural styles and patterns, Architectural Desig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B866-38D2-4C65-84D0-F5648D94C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Architecture is not the operational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a representation that enables a software enginee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the effectiveness of the design in meeting its stated requir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rchitectural alternative at a stage when making design changes is still relatively eas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risk associated with the construction of the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368EF-637E-4C26-89C9-020C82EC3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Architecture Importa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key r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Representations of software architecture enables communication and understanding between stake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Highlights early design decisions to create an operational ent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constitutes a model of software components and their inter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3029-FB79-445D-B0BA-852FA90ED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ata design action translates data objects defined as part of the analysis model into data structures at the component level and a database architecture at application level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35E8-8611-4C45-93FE-735DF6D03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DESIGN AT ARCHITECTUR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tructure at programming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base at application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warehouse at business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79D3-8366-4A37-8466-FB6F2543E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DESIGN AT COMPONENT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les for data specif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Proper selection of data objects and data and data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Identification of attribute and functions and their encapsulation of these within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Mechanism for representation of the content o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object. Class diagrams may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Refinement of data design elements from requirement analysis to component level desig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Information hi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A library of useful data structures and operations be develo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Software design and PL should support the specification and realization of abstract data types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9E37-2EB8-49D2-AE8D-144B3B3AA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STY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a system category that encompa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a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n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a 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nect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enables “communication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strai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define how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integrated to form the sys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) 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antic mode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the overall properties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A2B7-5C0B-4E35-929F-3FFC3696F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7"/>
          <p:cNvGrpSpPr/>
          <p:nvPr/>
        </p:nvGrpSpPr>
        <p:grpSpPr>
          <a:xfrm>
            <a:off x="304920" y="762120"/>
            <a:ext cx="8305200" cy="5486400"/>
            <a:chOff x="304920" y="762120"/>
            <a:chExt cx="8305200" cy="5486400"/>
          </a:xfrm>
        </p:grpSpPr>
        <p:sp>
          <p:nvSpPr>
            <p:cNvPr id="115" name="AutoShape 6"/>
            <p:cNvSpPr/>
            <p:nvPr/>
          </p:nvSpPr>
          <p:spPr>
            <a:xfrm>
              <a:off x="380880" y="914400"/>
              <a:ext cx="8229240" cy="53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8" descr=""/>
            <p:cNvPicPr/>
            <p:nvPr/>
          </p:nvPicPr>
          <p:blipFill>
            <a:blip r:embed="rId1"/>
            <a:stretch/>
          </p:blipFill>
          <p:spPr>
            <a:xfrm>
              <a:off x="304920" y="762120"/>
              <a:ext cx="8241840" cy="53481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188CD-8F12-4172-9D9E-4337A0BFB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-flow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s the flow of input data, its computational components and outpu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is also called pipe and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 provides path for flow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manipulate data and work independent of its neighboring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data flow degenerates into a single line of transform, it is termed as batch sequent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44A9-DC97-4009-ADBD-5C8040120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7"/>
          <p:cNvGrpSpPr/>
          <p:nvPr/>
        </p:nvGrpSpPr>
        <p:grpSpPr>
          <a:xfrm>
            <a:off x="228600" y="1143000"/>
            <a:ext cx="8763120" cy="4724280"/>
            <a:chOff x="228600" y="1143000"/>
            <a:chExt cx="8763120" cy="4724280"/>
          </a:xfrm>
        </p:grpSpPr>
        <p:sp>
          <p:nvSpPr>
            <p:cNvPr id="122" name="AutoShape 6"/>
            <p:cNvSpPr/>
            <p:nvPr/>
          </p:nvSpPr>
          <p:spPr>
            <a:xfrm>
              <a:off x="228600" y="1143000"/>
              <a:ext cx="8751960" cy="47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8" descr=""/>
            <p:cNvPicPr/>
            <p:nvPr/>
          </p:nvPicPr>
          <p:blipFill>
            <a:blip r:embed="rId1"/>
            <a:stretch/>
          </p:blipFill>
          <p:spPr>
            <a:xfrm>
              <a:off x="228600" y="1143000"/>
              <a:ext cx="8763120" cy="47242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38C6-2C51-4B0B-9A70-75A18A1A9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l and return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s a structure that is easy to modify and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ub sty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Main program/sub prog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lassic progra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Main program invokes a number of components, which in turn invoke still othe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Remote procedure call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omponents of main program/subprogram are distributed across computers over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4633-2B6E-4B06-A28D-14DF74965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4 P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80880" y="685800"/>
          <a:ext cx="8763120" cy="6510240"/>
        </p:xfrm>
        <a:graphic>
          <a:graphicData uri="http://schemas.openxmlformats.org/drawingml/2006/table">
            <a:tbl>
              <a:tblPr/>
              <a:tblGrid>
                <a:gridCol w="1222560"/>
                <a:gridCol w="3425760"/>
                <a:gridCol w="1981080"/>
                <a:gridCol w="2133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Slid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Process &amp; Design 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Concepts Abstraction, Architectur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terns, Modular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Concepts                                                                                       --Information Hiding, Functional Independence                Refinement,  Refactoring, Design clas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Models                                                                           --Data Design Elements, Architectural Design Elements, Component Level Design Elements, Deployment Level Design El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ing an architectural design: Software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a Des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al styles and patter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1FA8A-260E-4361-923A-C2852097F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bject-oriented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onents of a system encapsulate data and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and coordination between components is done via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0138-AB0C-4593-8672-AD111B494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yered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umber of different layers ar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er Layer( interface with 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ediate Layer Utility services and application fun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er Layer (User interf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102D-7201-4777-9D82-153CF918B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: Layered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C:\Documents and Settings\Reena\Desktop\Picture3.png"/>
          <p:cNvPicPr/>
          <p:nvPr/>
        </p:nvPicPr>
        <p:blipFill>
          <a:blip r:embed="rId1"/>
          <a:stretch/>
        </p:blipFill>
        <p:spPr>
          <a:xfrm>
            <a:off x="-231840" y="944640"/>
            <a:ext cx="8931240" cy="588312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5F8E-342B-4DC5-AA33-6F66DFA6F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AL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template that specifies approach for some behavioral characteristics of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terns are imposed on the architectural sty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tern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Con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Handles multiple tasks that simulates parallelis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Approaches(Patter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Operating system process management  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A task scheduler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Persist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Data survives past the execution of the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Approaches (Patter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Data base management system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b) Application Level persistence Pattern( word processing 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Addresses the communication of system in a distributed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Approaches(Patter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) Broker Pat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 Acts as middleman between client and ser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36CB-2599-464C-ADF8-D4F480A5B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8390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IGN PROCESS AND DESIG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MPASSES the set of principles, concepts and practices that lead to the development of high quality system or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creates a representation or model of the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model provides details about S/W architecture, interfaces and components that are necessary to implement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ty is established during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hould exhibit firmness, commodity an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its at the kernel of S/W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ets the stage for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1ACD-379A-40E4-A47B-4F5D7D953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GUID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ecognizable architectural styles or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; that is logically partitioned into elements or sub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ct representation of data, architecture, interfaces and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priate data structures for the classes to be implemen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pendent functional characteristics for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 that reduces complexity of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abl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B6A8-33C4-4532-A5C9-63354A606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TTRIBU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PS quality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a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Feature set and capabilities of progra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ecurity of the overall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bility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user-friendlin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esthe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Consis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valuated by measuring the frequency and severity of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MTT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Exten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dap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Serviceabilit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2DA0D-94C7-43AA-9D41-4F9F6AAE5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Mod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Information Hi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Functional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Ref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Re-fac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Design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7957-7D9B-4BAB-83B2-DDF6A2C4B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evels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level of abstraction : Solution is slated in broad terms using the language of the problem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levels of abstraction : More detailed description of the solution is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Refers to a sequence of instructions that a specific an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Named collection of data that describe a data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F3279-F742-4914-A488-E90AA4DE2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organization of program components (modules) and their  inter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). Structural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An organised collection of program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. Framework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presents the design in more abstract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). Dynamic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presents the behavioral aspects indicating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function of extern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). Process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Focus on the design of the business or techn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9919-138C-4FBC-8ED3-FD105AD37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04:45:20Z</dcterms:created>
  <dc:creator>REENA</dc:creator>
  <dc:description/>
  <dc:language>en-US</dc:language>
  <cp:lastModifiedBy>sahithi</cp:lastModifiedBy>
  <dcterms:modified xsi:type="dcterms:W3CDTF">2012-05-12T13:51:46Z</dcterms:modified>
  <cp:revision>109</cp:revision>
  <dc:subject/>
  <dc:title>unit 4</dc:title>
</cp:coreProperties>
</file>