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EE3-D9FF-4CEC-929B-3BCA4679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83D-E2BD-48D5-A2CC-389361C4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AD9-E172-4BFD-A2AA-D4478C3C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F35-D370-4B39-B880-E5203379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045-BF27-4316-BB2D-0F8F4EDE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C39-7A25-4BD6-8863-9D03BF59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D49-1B51-4449-96C9-68223CC4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7B7-5217-4843-87F6-627E84B4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903-3EF3-4BE6-B77F-C9BD2887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3F5-3459-4AF4-B44D-2F5440ED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3AF1-A418-41FF-92F0-45F23E31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8CB8-14FB-4144-AA1E-B2E56314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35F5-6C70-4576-BD0B-4D146CBAF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Tech IT/II Sem-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: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4 PPT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xt Boo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.Software Engineering, A practitioner’s approach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Roger s. Pressman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 McGraw-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Software Engineering Somervill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1A27-3218-45D2-A1ED-AD1E0D2D7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description to enables a designer to determine the following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. Whether the pattern is applicable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. Whether the pattern can be re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. Whether the pattern can serve as a gu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veloping a similar but functionally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ly different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605A-301A-40F1-BF2C-A39321739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s software into separately named and addressable components, sometimes calle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 are integrated to satisfy problem requir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wo problems p1 and p2. If the complexity of p1 is cp1 and of p2 is cp2 then effort to solve p1=cp1 and effort to solve p2=c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p1&gt;cp2 then ep1&gt;e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exity of two problems when they are combined is often greater than the sum of the perceived complexity when each is taken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Divide and Conquer strategy : it is easier to solve a complex problem when broken into sub-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1864-E376-452C-B834-407BB5E82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contained within a module is inaccessible to other modules who do not need such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d by defining a set of Independent modules that communicate with one another only that information necessary to achieve S/W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the greatest benefits when modifications are required during testing and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introduced during modification are less likely to propagate to other location within the S/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F041-367D-451B-A5D3-3042B6B31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AL IN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outgrowth of Modularity. abstraction and information hi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ed by developing a module with single minded function and an aversion to excessive interaction with other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develop and have simpl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maintain because secondary effects caused b design or code modification are limited, error propagation is reduced and reusable modul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ce is assessed by two quantitative 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Cohe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erforms a single task requiring little interaction with other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Measure of interconnection among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pling should be low and cohesion should be high for good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1CFC-C9F0-485B-BB77-DFB00893F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INEMENT &amp; REFAC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I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of elaboration from high level abstraction to the lowest level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 abstraction begins with a statement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ment causes the designer to elaborate providing more and more details at successive level of abs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 and refinement are complementary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technique that simplifies the design of a component without changing its function or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s for redundancy, unused design elements and inefficient or unnecessary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64FD-38F7-4BF3-9758-D9A2507BC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 CLAS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represents a different layer of design archite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types of Design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User interfac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Defines all abstractions that are necessary for human computer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Business doma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Refinement of the analysis classes that identity attributes and services to implement some of business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Process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implements lower level business abstractions required to fully manage the business domain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Persistent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Represent data stores that will persist beyond the execution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System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Implements management and control functions to operate and communicate within the computer environment and with the outsid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AB60-0728-4633-8A8E-8B2ABBAE2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viewed in two different dimensions as process dimension and abstract dim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dimension indicates the evolution of the design model as design tasks are executed as part of softwar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 dimension represents the level of details as each element of the analysis model is transformed into design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Design 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ata design creates a model of data that is represented at a high level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Refined progressively to more implementation-specific representation for processing by the computer bas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ranslation of data model into a data base is pivotal to achieving business objective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791D-3D2A-4EE4-B91E-BEB0C35A5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rchitectural desig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from thre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Information about the application domain of th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Analysis model such as dataflow diagrams or analysis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Architectural pattern and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face Desig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et of detailed drawings constitu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External interfaces to other systems,devic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Internal interfaces between various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6B92-C15C-48B2-A535-FF40D91F7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loyment level design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Indicates how software functionality and subsystem will be allocated with in the physical comput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UML deployment diagram is developed and ref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onent level design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Fully describe the internal details of each softwar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diagram can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FE89-85A4-46C8-9736-AC801E847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 ARCHITECTURAL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FTWAR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ftware architecture of a program or computing system is the structure or structures of the system, which comprise software components, the externally visible properties of those components and the relationship amo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D638-337A-48A2-AF02-F53C1B634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4 SYLLAB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ngineering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process and Design quality, Design concepts, the design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an architectural design :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ware architecture, Data design, Architectural styles and patterns, Architectural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25E9-084A-4400-9C94-21E35E2CA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Architecture is not the operational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representation that enables a software engineer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effectiveness of the design in meeting its stated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rchitectural alternative at a stage when making design changes is still relatively eas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risk associated with the construction of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E1BD-0DAD-49F1-9DC4-4627925A0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Architecture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key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Representations of software architecture enables communication and understanding between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Highlights early design decisions to create an operational 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constitutes a model of software components and their inter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CDEA-145C-4EDC-B824-B3718F7F8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design action translates data objects defined as part of the analysis model into data structures at the component level and a database architecture at application level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DE5E-1120-411B-9351-8636A9F84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DESIGN AT ARCHITECTUR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tructure at programm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base at application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warehouse at business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AEA8-1750-4273-AC61-DD974AA6B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DESIGN AT COMPONEN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 for data specif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oper selection of data objects and data and dat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Identification of attribute and functions and their encapsulation of these within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Mechanism for representation of the content 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bject. Class diagrams may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Refinement of data design elements from requirement analysis to component level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Information h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A library of useful data structures and operations be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Software design and PL should support the specification and realization of abstract data type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5DD5-2B82-472C-9576-02546EE14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AL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a system category that encomp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a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a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nect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nables “communication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strai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define how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integrated to form th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antic mode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the overall properties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1958-D01F-404A-B1B0-7967D838F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7"/>
          <p:cNvGrpSpPr/>
          <p:nvPr/>
        </p:nvGrpSpPr>
        <p:grpSpPr>
          <a:xfrm>
            <a:off x="304920" y="762120"/>
            <a:ext cx="8305200" cy="5486400"/>
            <a:chOff x="304920" y="762120"/>
            <a:chExt cx="8305200" cy="5486400"/>
          </a:xfrm>
        </p:grpSpPr>
        <p:sp>
          <p:nvSpPr>
            <p:cNvPr id="115" name="AutoShape 6"/>
            <p:cNvSpPr/>
            <p:nvPr/>
          </p:nvSpPr>
          <p:spPr>
            <a:xfrm>
              <a:off x="380880" y="914400"/>
              <a:ext cx="8229240" cy="53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8" descr=""/>
            <p:cNvPicPr/>
            <p:nvPr/>
          </p:nvPicPr>
          <p:blipFill>
            <a:blip r:embed="rId1"/>
            <a:stretch/>
          </p:blipFill>
          <p:spPr>
            <a:xfrm>
              <a:off x="304920" y="762120"/>
              <a:ext cx="8241840" cy="53481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C7B9-6E4C-4ABF-A57B-E00AC544D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-flow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the flow of input data, its computational components and outpu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is also called pipe and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 provides path for flow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manipulate data and work independent of its neighboring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ata flow degenerates into a single line of transform, it is termed as batch sequent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76C2-2EA4-448A-9014-F0D4FA80E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7"/>
          <p:cNvGrpSpPr/>
          <p:nvPr/>
        </p:nvGrpSpPr>
        <p:grpSpPr>
          <a:xfrm>
            <a:off x="228600" y="1143000"/>
            <a:ext cx="8763120" cy="4724280"/>
            <a:chOff x="228600" y="1143000"/>
            <a:chExt cx="8763120" cy="4724280"/>
          </a:xfrm>
        </p:grpSpPr>
        <p:sp>
          <p:nvSpPr>
            <p:cNvPr id="122" name="AutoShape 6"/>
            <p:cNvSpPr/>
            <p:nvPr/>
          </p:nvSpPr>
          <p:spPr>
            <a:xfrm>
              <a:off x="228600" y="1143000"/>
              <a:ext cx="8751960" cy="47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8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763120" cy="47242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5CE7-21A8-42A4-A6FD-6D2835B38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l and return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s a structure that is easy to modify and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ub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Main program/sub progra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Classic progra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Main program invokes a number of components, which in turn invoke still othe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Remote procedure call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Components of main program/subprogram are distributed across computers over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5623-C8B7-4D98-BE1F-B70D9B1F9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4 P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685800"/>
          <a:ext cx="8763120" cy="6510240"/>
        </p:xfrm>
        <a:graphic>
          <a:graphicData uri="http://schemas.openxmlformats.org/drawingml/2006/table">
            <a:tbl>
              <a:tblPr/>
              <a:tblGrid>
                <a:gridCol w="1222560"/>
                <a:gridCol w="3425760"/>
                <a:gridCol w="1981080"/>
                <a:gridCol w="2133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Sli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Process &amp; Design 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Concepts Abstraction, Architectur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erns, Modula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Concepts                                                                                       --Information Hiding, Functional Independence                Refinement,  Refactoring, Design cla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odels                                                                           --Data Design Elements, Architectural Design Elements, Component Level Design Elements, Deployment Level Design El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ing an architectural design: Software 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al styles and patter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2D5E-D8C7-4C9C-911D-B38B29DFC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-oriented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onents of a system encapsulate data and th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and coordination between components is done via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9F50-BCC7-4F18-BC03-1F42A8808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yered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of different layers ar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er Layer( interface with 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ediate Layer Utility services and application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Layer (User interf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E111-110E-4AAE-8AFA-7A1049B4C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: Layered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C:\Documents and Settings\Reena\Desktop\Picture3.png"/>
          <p:cNvPicPr/>
          <p:nvPr/>
        </p:nvPicPr>
        <p:blipFill>
          <a:blip r:embed="rId1"/>
          <a:stretch/>
        </p:blipFill>
        <p:spPr>
          <a:xfrm>
            <a:off x="-231840" y="944640"/>
            <a:ext cx="8931240" cy="5883120"/>
          </a:xfrm>
          <a:prstGeom prst="rect">
            <a:avLst/>
          </a:prstGeom>
          <a:ln w="0">
            <a:noFill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D6B4-B40F-4AD0-8714-9B8F7F7CE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AL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emplate that specifies approach for some behavioral characteristics of th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terns are imposed on the architectural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tern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Con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Handles multiple tasks that simulates paralle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Approaches(Patter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Operating system process management   pat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A task scheduler pat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Persist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Data survives past the execution of th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Approaches (Patter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Data base management system pat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Application Level persistence Pattern( word processing 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 Addresses the communication of system in a distributed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Approaches(Patter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Broker Pat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 Acts as middleman between client and ser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CD10-8907-4091-8726-917C5F568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IGN PROCESS AND DESIGN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MPASSES the set of principles, concepts and practices that lead to the development of high quality system or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reates a representation or model of the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model provides details about S/W architecture, interfaces and components that are necessary to implement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is established during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hould exhibit firmness, commodity an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its at the kernel of S/W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ets the stage for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352D-34D9-47BA-9D28-A8F875C3F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ecognizable architectural styles or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; that is logically partitioned into elements or sub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 representation of data, architecture, interfaces an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data structures for the classes to be impleme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functional characteristics for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s that reduces complexity of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abl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4BCD-BB8A-44EB-8B62-47A432415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PS quality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Feature set and capabilities of pro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Security of the overal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bility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user-friendl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esth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Evaluated by measuring the frequency and severity of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T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dap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Serviceabilit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0F10-7D73-4904-A378-3C2835F5F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Mod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Information H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Functional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Re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Re-fac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Desig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129D-7296-4F6C-B705-9A1B26F5D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evels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level of abstraction : Solution is slated in broad terms using the language of the proble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levels of abstraction : More detailed description of the solution is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Refers to a sequence of instructions that a specific an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Named collection of data that describe a data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DEB8-B498-425E-B6A2-F33DADAAE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organization of program components (modules) and their  inter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. Structur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An organised collection of program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. Framework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presents the design in more abstract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. Dynam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presents the behavioral aspects indicating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function of externa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). Proces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Focus on the design of the business or techn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ADFB-F7F1-4191-B504-00FD8E66B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4:45:20Z</dcterms:created>
  <dc:creator>REENA</dc:creator>
  <dc:description/>
  <dc:language>en-US</dc:language>
  <cp:lastModifiedBy>sahithi</cp:lastModifiedBy>
  <dcterms:modified xsi:type="dcterms:W3CDTF">2012-05-12T13:51:46Z</dcterms:modified>
  <cp:revision>109</cp:revision>
  <dc:subject/>
  <dc:title>unit 4</dc:title>
</cp:coreProperties>
</file>