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2374-FC70-4195-823D-5BAECA5A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5EA8-E25E-4D10-9882-87E6C3CF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2295-3AF1-49EF-BF58-DF1D3D6A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6400-2281-4D9D-9ABD-D5FEE8F1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715-E564-486F-B266-14881793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B1FA-5A62-483F-9784-FFFBE4F6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DAE0-CA0B-418B-8EC1-2BF92FB21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F50D-6A03-419A-8E48-F70518AA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0CCC-D562-408D-8EDA-B3FE1219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2C9F-34E6-4CEB-A6CF-F078B710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FB99-68DB-49A2-B9A0-0B2E40D7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86E8-2E1E-4FD6-96F4-A1D412B9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DD73E-B2CF-438A-87DB-5A0EA4169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Tech IT/II Sem-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: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-5 PPT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xt Boo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.Software Engineering, A practitioner’s approach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Roger s. Pressman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 McGraw-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Software Engineering Somerville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EB39-EFF2-484D-98ED-5A1EB41BA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Interface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oncerned with specifying the details of the interfaces to an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evol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 advantage OOD approach is to simplify the problem of making changes to the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internal details of an obect is unlikely to effect any other system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4662-5A6E-4EA0-973F-D90B97B6A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lden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lace the user in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duce the user’s memory lo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the interface consist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329B6-2EA8-455A-945B-B1461EA9B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ce the User in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interaction modes in a way that does not force a user into unnecessary or undesired ac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for flexible intera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user interaction to be interruptible and undoab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amline interaction as skill levels advance and allow the interaction to be customiz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e technical internals from the casual us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for direct interaction with objects that appear on the scre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B55D-A1A6-4422-85E7-8C28D2B8F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e the Interface Consis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the user to put the current task into a meaningful con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consistency across a family of applic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past interactive models have created user expectations, do not make changes unless there is a compelling reason to do 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26EB-944E-4484-B71A-64E47E387E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R INTERFACE ANALYSIS AND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verall process for analyzing and designing a user interface begins with the creation of different models of system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4 different models that is to be considered when a user interface is to be analyzed and desig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F1FA-0986-4B7B-BE43-31B5FAEC2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Interface Design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odel —Establishes  a profile of all end users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model — A design model of the entire system incorporates data,architectural,interface and procedural representation of th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—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esign realization of the use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AA4B-2CF3-4064-823F-088092737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’s Mental model (system perception) — the user’s mental image of what the interface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model — the interface “look and feel” coupled with supporting information that describe interface syntax and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14FD8-05F9-4DA3-80FA-024387D91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can be categoriz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No syntactic knowledge of the system and little semantic knowledge of the application or computer usage of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nowledgeable,intermittent us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Reasonable semantic knowledge of the application but low recall of syntactic information to use th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Knowledgeable,frequent us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emantic and syntactic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8406-4E2D-4BC1-831C-5559DFD2B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r interface analysis and design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 interface analysis and design process is an iterative process and it can be represented as a spir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onsists of 5 framework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User,task and environment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Interface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Interface co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Interface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9085-AAE2-4104-B95A-28F979433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Interface Desig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781440" cy="2971800"/>
          </a:xfrm>
          <a:prstGeom prst="rect">
            <a:avLst/>
          </a:prstGeom>
          <a:ln w="0">
            <a:noFill/>
          </a:ln>
        </p:spPr>
      </p:pic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574B-5818-4CA9-8AE3-659478659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5 SYLLAB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ct-Oriented Design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nd object classes, An Object-Oriented design proces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evol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forming User interface design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den rules, User interface analysis and design, interface analysis, interface design steps, Design eval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7DA0-455E-4466-8FD8-3DA416713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Interface Desig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face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ing the user who interacts with the system based on their skill levels.i.e, requirement gath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he task the user performs to accomplish the goals of the system are identified, described and elabor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nalysis of work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erface desig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nterface design, all interface objects and actions that enable a user to perform all desired task ar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totype is initially constructed and then later user interface development tools may be used to complete the construction of the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rrectness of the system is validated   against the user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BC78-9931-456D-BE72-FF0D11138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analysis means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1) the people (end-users) who will interact with the system through the interfa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the tasks that end-users must perform to do their work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) the content that is presented as part of th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) the environment in which these tasks will be conduct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FCC6-49D4-4DFA-8B83-BCCDBC042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r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users trained professionals, technician, clerical, or manufacturing work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level of formal education does the average user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users capable of learning from written materials or have they expressed a desire for classroom trai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users expert typists or keyboard phob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ge range of the user commun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the users be represented predominately by one gen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re users compensated for the work they perfor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users work normal office hours or do they work until the job is don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1724-D1DF-439C-9B6B-BE8EDDA75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sk Analysis and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alysi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-cases define basic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sk elaboration refines interactive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 elaboration identifies interface objects (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low analysis defines how a work process is completed when several people (and roles) are involv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ork will the user perform in specific circumstanc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B2CE-B940-4ADB-8E0F-717AB90EF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Design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information developed during interface analysis define interface objects and actions (operatio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vents (user actions) that will cause the state of the user interface to change. Model this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ict each interface state as it will actually look to the end-u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how the user interprets the state of the system from information provided through the inte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D242-CCD0-4C70-A6CD-D6186CD56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Design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s are available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ete 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an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data mani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r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264A-4CFC-4927-9CD0-E7FE367EB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s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u and command lab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acce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F059-62D1-413B-B37F-C8691C6C4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Evaluation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E65E-067F-4C34-8D82-E9887B20E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7"/>
          <p:cNvGrpSpPr/>
          <p:nvPr/>
        </p:nvGrpSpPr>
        <p:grpSpPr>
          <a:xfrm>
            <a:off x="2516040" y="1600200"/>
            <a:ext cx="4111920" cy="4510080"/>
            <a:chOff x="2516040" y="1600200"/>
            <a:chExt cx="4111920" cy="4510080"/>
          </a:xfrm>
        </p:grpSpPr>
        <p:sp>
          <p:nvSpPr>
            <p:cNvPr id="147" name="AutoShape 6"/>
            <p:cNvSpPr/>
            <p:nvPr/>
          </p:nvSpPr>
          <p:spPr>
            <a:xfrm>
              <a:off x="2516040" y="1600200"/>
              <a:ext cx="4111920" cy="45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8"/>
            <p:cNvSpPr/>
            <p:nvPr/>
          </p:nvSpPr>
          <p:spPr>
            <a:xfrm>
              <a:off x="3414600" y="1609200"/>
              <a:ext cx="1123920" cy="667440"/>
            </a:xfrm>
            <a:prstGeom prst="rect">
              <a:avLst/>
            </a:pr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9"/>
            <p:cNvSpPr/>
            <p:nvPr/>
          </p:nvSpPr>
          <p:spPr>
            <a:xfrm>
              <a:off x="3647520" y="1775520"/>
              <a:ext cx="758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elimina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0"/>
            <p:cNvSpPr/>
            <p:nvPr/>
          </p:nvSpPr>
          <p:spPr>
            <a:xfrm>
              <a:off x="3792600" y="1908720"/>
              <a:ext cx="45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1"/>
            <p:cNvSpPr/>
            <p:nvPr/>
          </p:nvSpPr>
          <p:spPr>
            <a:xfrm>
              <a:off x="5311800" y="2599920"/>
              <a:ext cx="1123920" cy="667440"/>
            </a:xfrm>
            <a:prstGeom prst="rect">
              <a:avLst/>
            </a:pr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"/>
            <p:cNvSpPr/>
            <p:nvPr/>
          </p:nvSpPr>
          <p:spPr>
            <a:xfrm>
              <a:off x="4156200" y="5159520"/>
              <a:ext cx="1123920" cy="667440"/>
            </a:xfrm>
            <a:prstGeom prst="rect">
              <a:avLst/>
            </a:pr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3"/>
            <p:cNvSpPr/>
            <p:nvPr/>
          </p:nvSpPr>
          <p:spPr>
            <a:xfrm>
              <a:off x="2525760" y="4409640"/>
              <a:ext cx="1123920" cy="665640"/>
            </a:xfrm>
            <a:prstGeom prst="rect">
              <a:avLst/>
            </a:pr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4"/>
            <p:cNvSpPr/>
            <p:nvPr/>
          </p:nvSpPr>
          <p:spPr>
            <a:xfrm>
              <a:off x="3844800" y="3417840"/>
              <a:ext cx="1123920" cy="667440"/>
            </a:xfrm>
            <a:prstGeom prst="rect">
              <a:avLst/>
            </a:pr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5"/>
            <p:cNvSpPr/>
            <p:nvPr/>
          </p:nvSpPr>
          <p:spPr>
            <a:xfrm>
              <a:off x="5772240" y="2724840"/>
              <a:ext cx="33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ui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6"/>
            <p:cNvSpPr/>
            <p:nvPr/>
          </p:nvSpPr>
          <p:spPr>
            <a:xfrm>
              <a:off x="5524920" y="2859120"/>
              <a:ext cx="842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totype #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7"/>
            <p:cNvSpPr/>
            <p:nvPr/>
          </p:nvSpPr>
          <p:spPr>
            <a:xfrm>
              <a:off x="5650560" y="299376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8"/>
            <p:cNvSpPr/>
            <p:nvPr/>
          </p:nvSpPr>
          <p:spPr>
            <a:xfrm>
              <a:off x="4377240" y="5236920"/>
              <a:ext cx="69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9"/>
            <p:cNvSpPr/>
            <p:nvPr/>
          </p:nvSpPr>
          <p:spPr>
            <a:xfrm>
              <a:off x="4295160" y="5371560"/>
              <a:ext cx="858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s studied b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20"/>
            <p:cNvSpPr/>
            <p:nvPr/>
          </p:nvSpPr>
          <p:spPr>
            <a:xfrm>
              <a:off x="4433760" y="5506200"/>
              <a:ext cx="584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sign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1"/>
            <p:cNvSpPr/>
            <p:nvPr/>
          </p:nvSpPr>
          <p:spPr>
            <a:xfrm>
              <a:off x="2887920" y="4465080"/>
              <a:ext cx="451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22"/>
            <p:cNvSpPr/>
            <p:nvPr/>
          </p:nvSpPr>
          <p:spPr>
            <a:xfrm>
              <a:off x="2665800" y="4597560"/>
              <a:ext cx="913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modifica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23"/>
            <p:cNvSpPr/>
            <p:nvPr/>
          </p:nvSpPr>
          <p:spPr>
            <a:xfrm>
              <a:off x="2812680" y="4732200"/>
              <a:ext cx="616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re mad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24"/>
            <p:cNvSpPr/>
            <p:nvPr/>
          </p:nvSpPr>
          <p:spPr>
            <a:xfrm>
              <a:off x="4305600" y="3496680"/>
              <a:ext cx="335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uil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25"/>
            <p:cNvSpPr/>
            <p:nvPr/>
          </p:nvSpPr>
          <p:spPr>
            <a:xfrm>
              <a:off x="4033440" y="3631320"/>
              <a:ext cx="803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totype #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6"/>
            <p:cNvSpPr/>
            <p:nvPr/>
          </p:nvSpPr>
          <p:spPr>
            <a:xfrm>
              <a:off x="4811400" y="363132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7"/>
            <p:cNvSpPr/>
            <p:nvPr/>
          </p:nvSpPr>
          <p:spPr>
            <a:xfrm>
              <a:off x="4185360" y="376560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8"/>
            <p:cNvSpPr/>
            <p:nvPr/>
          </p:nvSpPr>
          <p:spPr>
            <a:xfrm>
              <a:off x="5923080" y="3787920"/>
              <a:ext cx="114120" cy="2008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72" h="127">
                  <a:moveTo>
                    <a:pt x="60" y="127"/>
                  </a:moveTo>
                  <a:lnTo>
                    <a:pt x="0" y="14"/>
                  </a:lnTo>
                  <a:lnTo>
                    <a:pt x="72" y="0"/>
                  </a:lnTo>
                  <a:lnTo>
                    <a:pt x="60" y="1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9"/>
            <p:cNvSpPr/>
            <p:nvPr/>
          </p:nvSpPr>
          <p:spPr>
            <a:xfrm>
              <a:off x="5878440" y="3279960"/>
              <a:ext cx="104760" cy="520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0"/>
            <p:cNvSpPr/>
            <p:nvPr/>
          </p:nvSpPr>
          <p:spPr>
            <a:xfrm>
              <a:off x="5616720" y="2394360"/>
              <a:ext cx="133200" cy="204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55" h="85">
                  <a:moveTo>
                    <a:pt x="55" y="1"/>
                  </a:moveTo>
                  <a:cubicBezTo>
                    <a:pt x="52" y="1"/>
                    <a:pt x="49" y="1"/>
                    <a:pt x="47" y="1"/>
                  </a:cubicBezTo>
                  <a:cubicBezTo>
                    <a:pt x="30" y="0"/>
                    <a:pt x="14" y="5"/>
                    <a:pt x="0" y="15"/>
                  </a:cubicBezTo>
                  <a:lnTo>
                    <a:pt x="47" y="85"/>
                  </a:lnTo>
                  <a:lnTo>
                    <a:pt x="55" y="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rc 31"/>
            <p:cNvSpPr/>
            <p:nvPr/>
          </p:nvSpPr>
          <p:spPr>
            <a:xfrm>
              <a:off x="4508640" y="1888200"/>
              <a:ext cx="1199880" cy="710280"/>
            </a:xfrm>
            <a:custGeom>
              <a:avLst/>
              <a:gdLst>
                <a:gd name="textAreaLeft" fmla="*/ 0 w 1199880"/>
                <a:gd name="textAreaRight" fmla="*/ 1200240 w 119988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fill="none" w="20875" h="21597">
                  <a:moveTo>
                    <a:pt x="359" y="0"/>
                  </a:moveTo>
                  <a:cubicBezTo>
                    <a:pt x="10017" y="160"/>
                    <a:pt x="18393" y="6713"/>
                    <a:pt x="20875" y="16047"/>
                  </a:cubicBezTo>
                </a:path>
                <a:path stroke="0" w="20875" h="21597">
                  <a:moveTo>
                    <a:pt x="359" y="0"/>
                  </a:moveTo>
                  <a:cubicBezTo>
                    <a:pt x="10017" y="160"/>
                    <a:pt x="18393" y="6713"/>
                    <a:pt x="20875" y="16047"/>
                  </a:cubicBezTo>
                  <a:lnTo>
                    <a:pt x="0" y="2159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2"/>
            <p:cNvSpPr/>
            <p:nvPr/>
          </p:nvSpPr>
          <p:spPr>
            <a:xfrm>
              <a:off x="5276880" y="5333400"/>
              <a:ext cx="203040" cy="1342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34280"/>
                <a:gd name="textAreaBottom" fmla="*/ 134640 h 134280"/>
              </a:gdLst>
              <a:ahLst/>
              <a:rect l="textAreaLeft" t="textAreaTop" r="textAreaRight" b="textAreaBottom"/>
              <a:pathLst>
                <a:path w="84" h="56">
                  <a:moveTo>
                    <a:pt x="83" y="56"/>
                  </a:moveTo>
                  <a:cubicBezTo>
                    <a:pt x="83" y="52"/>
                    <a:pt x="84" y="48"/>
                    <a:pt x="84" y="44"/>
                  </a:cubicBezTo>
                  <a:cubicBezTo>
                    <a:pt x="84" y="28"/>
                    <a:pt x="79" y="13"/>
                    <a:pt x="72" y="0"/>
                  </a:cubicBezTo>
                  <a:lnTo>
                    <a:pt x="0" y="44"/>
                  </a:lnTo>
                  <a:lnTo>
                    <a:pt x="83" y="5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rc 33"/>
            <p:cNvSpPr/>
            <p:nvPr/>
          </p:nvSpPr>
          <p:spPr>
            <a:xfrm>
              <a:off x="5276880" y="4411080"/>
              <a:ext cx="750960" cy="1017360"/>
            </a:xfrm>
            <a:custGeom>
              <a:avLst/>
              <a:gdLst>
                <a:gd name="textAreaLeft" fmla="*/ 0 w 750960"/>
                <a:gd name="textAreaRight" fmla="*/ 751320 w 75096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fill="none" w="21600" h="20994">
                  <a:moveTo>
                    <a:pt x="21599" y="0"/>
                  </a:moveTo>
                  <a:cubicBezTo>
                    <a:pt x="21599" y="11"/>
                    <a:pt x="21600" y="22"/>
                    <a:pt x="21600" y="33"/>
                  </a:cubicBezTo>
                  <a:cubicBezTo>
                    <a:pt x="21600" y="9954"/>
                    <a:pt x="14841" y="18599"/>
                    <a:pt x="5214" y="20994"/>
                  </a:cubicBezTo>
                </a:path>
                <a:path stroke="0" w="21600" h="20994">
                  <a:moveTo>
                    <a:pt x="21599" y="0"/>
                  </a:moveTo>
                  <a:cubicBezTo>
                    <a:pt x="21599" y="11"/>
                    <a:pt x="21600" y="22"/>
                    <a:pt x="21600" y="33"/>
                  </a:cubicBezTo>
                  <a:cubicBezTo>
                    <a:pt x="21600" y="9954"/>
                    <a:pt x="14841" y="18599"/>
                    <a:pt x="5214" y="20994"/>
                  </a:cubicBezTo>
                  <a:lnTo>
                    <a:pt x="0" y="33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34"/>
            <p:cNvSpPr/>
            <p:nvPr/>
          </p:nvSpPr>
          <p:spPr>
            <a:xfrm>
              <a:off x="3178080" y="5055120"/>
              <a:ext cx="154080" cy="19620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64" h="82">
                  <a:moveTo>
                    <a:pt x="14" y="82"/>
                  </a:moveTo>
                  <a:cubicBezTo>
                    <a:pt x="33" y="79"/>
                    <a:pt x="51" y="69"/>
                    <a:pt x="64" y="54"/>
                  </a:cubicBezTo>
                  <a:lnTo>
                    <a:pt x="0" y="0"/>
                  </a:lnTo>
                  <a:lnTo>
                    <a:pt x="14" y="8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rc 35"/>
            <p:cNvSpPr/>
            <p:nvPr/>
          </p:nvSpPr>
          <p:spPr>
            <a:xfrm>
              <a:off x="3244680" y="5055120"/>
              <a:ext cx="935280" cy="412560"/>
            </a:xfrm>
            <a:custGeom>
              <a:avLst/>
              <a:gdLst>
                <a:gd name="textAreaLeft" fmla="*/ 0 w 935280"/>
                <a:gd name="textAreaRight" fmla="*/ 935640 w 935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fill="none" w="19796" h="21600">
                  <a:moveTo>
                    <a:pt x="19796" y="21600"/>
                  </a:moveTo>
                  <a:cubicBezTo>
                    <a:pt x="11207" y="21600"/>
                    <a:pt x="3435" y="16512"/>
                    <a:pt x="-1" y="8641"/>
                  </a:cubicBezTo>
                </a:path>
                <a:path stroke="0" w="19796" h="21600">
                  <a:moveTo>
                    <a:pt x="19796" y="21600"/>
                  </a:moveTo>
                  <a:cubicBezTo>
                    <a:pt x="11207" y="21600"/>
                    <a:pt x="3435" y="16512"/>
                    <a:pt x="-1" y="8641"/>
                  </a:cubicBezTo>
                  <a:lnTo>
                    <a:pt x="19796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6"/>
            <p:cNvSpPr/>
            <p:nvPr/>
          </p:nvSpPr>
          <p:spPr>
            <a:xfrm>
              <a:off x="3648240" y="3651840"/>
              <a:ext cx="204480" cy="13608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136080"/>
                <a:gd name="textAreaBottom" fmla="*/ 136440 h 136080"/>
              </a:gdLst>
              <a:ahLst/>
              <a:rect l="textAreaLeft" t="textAreaTop" r="textAreaRight" b="textAreaBottom"/>
              <a:pathLst>
                <a:path w="85" h="57">
                  <a:moveTo>
                    <a:pt x="3" y="0"/>
                  </a:moveTo>
                  <a:cubicBezTo>
                    <a:pt x="1" y="7"/>
                    <a:pt x="1" y="14"/>
                    <a:pt x="1" y="20"/>
                  </a:cubicBezTo>
                  <a:cubicBezTo>
                    <a:pt x="0" y="33"/>
                    <a:pt x="3" y="46"/>
                    <a:pt x="9" y="57"/>
                  </a:cubicBezTo>
                  <a:lnTo>
                    <a:pt x="85" y="21"/>
                  </a:lnTo>
                  <a:lnTo>
                    <a:pt x="3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Arc 37"/>
            <p:cNvSpPr/>
            <p:nvPr/>
          </p:nvSpPr>
          <p:spPr>
            <a:xfrm>
              <a:off x="3043080" y="3700800"/>
              <a:ext cx="809640" cy="700920"/>
            </a:xfrm>
            <a:custGeom>
              <a:avLst/>
              <a:gdLst>
                <a:gd name="textAreaLeft" fmla="*/ 0 w 809640"/>
                <a:gd name="textAreaRight" fmla="*/ 810000 w 809640"/>
                <a:gd name="textAreaTop" fmla="*/ 0 h 700920"/>
                <a:gd name="textAreaBottom" fmla="*/ 701280 h 700920"/>
              </a:gdLst>
              <a:ahLst/>
              <a:rect l="textAreaLeft" t="textAreaTop" r="textAreaRight" b="textAreaBottom"/>
              <a:pathLst>
                <a:path fill="none" w="21600" h="21046">
                  <a:moveTo>
                    <a:pt x="0" y="21046"/>
                  </a:moveTo>
                  <a:cubicBezTo>
                    <a:pt x="0" y="10988"/>
                    <a:pt x="6941" y="2262"/>
                    <a:pt x="16740" y="-1"/>
                  </a:cubicBezTo>
                </a:path>
                <a:path stroke="0" w="21600" h="21046">
                  <a:moveTo>
                    <a:pt x="0" y="21046"/>
                  </a:moveTo>
                  <a:cubicBezTo>
                    <a:pt x="0" y="10988"/>
                    <a:pt x="6941" y="2262"/>
                    <a:pt x="16740" y="-1"/>
                  </a:cubicBezTo>
                  <a:lnTo>
                    <a:pt x="21600" y="21046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38"/>
            <p:cNvSpPr/>
            <p:nvPr/>
          </p:nvSpPr>
          <p:spPr>
            <a:xfrm>
              <a:off x="5494320" y="3974400"/>
              <a:ext cx="1123920" cy="667440"/>
            </a:xfrm>
            <a:prstGeom prst="rect">
              <a:avLst/>
            </a:pr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39"/>
            <p:cNvSpPr/>
            <p:nvPr/>
          </p:nvSpPr>
          <p:spPr>
            <a:xfrm>
              <a:off x="5928120" y="407556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40"/>
            <p:cNvSpPr/>
            <p:nvPr/>
          </p:nvSpPr>
          <p:spPr>
            <a:xfrm>
              <a:off x="5742720" y="4210200"/>
              <a:ext cx="67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valuate'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41"/>
            <p:cNvSpPr/>
            <p:nvPr/>
          </p:nvSpPr>
          <p:spPr>
            <a:xfrm>
              <a:off x="5788440" y="4344840"/>
              <a:ext cx="586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fa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42"/>
            <p:cNvSpPr/>
            <p:nvPr/>
          </p:nvSpPr>
          <p:spPr>
            <a:xfrm>
              <a:off x="5657760" y="3780000"/>
              <a:ext cx="158760" cy="1990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66" h="83">
                  <a:moveTo>
                    <a:pt x="50" y="0"/>
                  </a:moveTo>
                  <a:cubicBezTo>
                    <a:pt x="30" y="4"/>
                    <a:pt x="13" y="14"/>
                    <a:pt x="0" y="30"/>
                  </a:cubicBezTo>
                  <a:lnTo>
                    <a:pt x="66" y="83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rc 43"/>
            <p:cNvSpPr/>
            <p:nvPr/>
          </p:nvSpPr>
          <p:spPr>
            <a:xfrm>
              <a:off x="4968720" y="3607560"/>
              <a:ext cx="773280" cy="373320"/>
            </a:xfrm>
            <a:custGeom>
              <a:avLst/>
              <a:gdLst>
                <a:gd name="textAreaLeft" fmla="*/ 0 w 773280"/>
                <a:gd name="textAreaRight" fmla="*/ 773640 w 7732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fill="none" w="19247" h="21597">
                  <a:moveTo>
                    <a:pt x="357" y="-1"/>
                  </a:moveTo>
                  <a:cubicBezTo>
                    <a:pt x="8351" y="132"/>
                    <a:pt x="15618" y="4669"/>
                    <a:pt x="19247" y="11793"/>
                  </a:cubicBezTo>
                </a:path>
                <a:path stroke="0" w="19247" h="21597">
                  <a:moveTo>
                    <a:pt x="357" y="-1"/>
                  </a:moveTo>
                  <a:cubicBezTo>
                    <a:pt x="8351" y="132"/>
                    <a:pt x="15618" y="4669"/>
                    <a:pt x="19247" y="11793"/>
                  </a:cubicBezTo>
                  <a:lnTo>
                    <a:pt x="0" y="21597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4"/>
            <p:cNvSpPr/>
            <p:nvPr/>
          </p:nvSpPr>
          <p:spPr>
            <a:xfrm>
              <a:off x="3225960" y="5637240"/>
              <a:ext cx="195120" cy="11808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23" h="75">
                  <a:moveTo>
                    <a:pt x="0" y="44"/>
                  </a:moveTo>
                  <a:lnTo>
                    <a:pt x="119" y="0"/>
                  </a:lnTo>
                  <a:lnTo>
                    <a:pt x="123" y="75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45"/>
            <p:cNvSpPr/>
            <p:nvPr/>
          </p:nvSpPr>
          <p:spPr>
            <a:xfrm flipH="1">
              <a:off x="3419640" y="5659200"/>
              <a:ext cx="736560" cy="37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46"/>
            <p:cNvSpPr/>
            <p:nvPr/>
          </p:nvSpPr>
          <p:spPr>
            <a:xfrm>
              <a:off x="2912760" y="5811480"/>
              <a:ext cx="881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terface desig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47"/>
            <p:cNvSpPr/>
            <p:nvPr/>
          </p:nvSpPr>
          <p:spPr>
            <a:xfrm>
              <a:off x="3025080" y="5945760"/>
              <a:ext cx="63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s comple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523880"/>
          <a:ext cx="8229600" cy="4529160"/>
        </p:xfrm>
        <a:graphic>
          <a:graphicData uri="http://schemas.openxmlformats.org/drawingml/2006/table">
            <a:tbl>
              <a:tblPr/>
              <a:tblGrid>
                <a:gridCol w="905040"/>
                <a:gridCol w="4682880"/>
                <a:gridCol w="1374840"/>
                <a:gridCol w="126684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de 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 And Object cla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ct oriented design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ev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en ru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interface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interface analysis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r interface design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 analy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face Design Ste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 Analysis and Mode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Evaluation Cyc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Slide Number Placeholder 7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4A67-7582-4FE5-8527-BBB422A81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7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And Object Cla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: An object is an entity that has a state and a defined set of operations that operate on that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bect class defination is both a type specification and a template for creating ob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ncludes declaration of all the attributes and operations that are associated with object of that cla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5D6E-F88F-4D6B-86A0-A44808FF8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Design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five stages of object oriented desig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Understand and define the context and the modes of use of th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Design the system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Identify the principle objects in the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Develop a desig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)Specify the object interface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1B9F-5485-470B-856D-2B5492B8B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s context and modes of u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pecify the context of the system.it also specify the relationships between the software that is being designed and its external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ystem context is a static model it describe the other system in that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system context is a dynamic model then it describe how the system actually interact with the environ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3276720" y="61722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9E9B-F84D-48DE-9C52-D4EF7216E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the interaction between the software system that being designed and the system environment have been defi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use the above information as basis for designing the System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F1047-4ADC-4AA5-A59C-F47343438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Identific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cess is actually concerned with identifying the object cla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identify the object classes by the follow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Use a grammatic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Use a tangible ent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Use a behaviouri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Use a scenario based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B74F-CBAE-42B4-8A11-B6219E6B8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models are the bridge between the requirements and imple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wo type of desig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Static model  describe the relationship between the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Dynamic model describe the interaction between the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4AE1-35C1-43C6-AC38-3F9C123C7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ooter Placeholder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4:18:40Z</dcterms:created>
  <dc:creator>REENA</dc:creator>
  <dc:description/>
  <dc:language>en-US</dc:language>
  <cp:lastModifiedBy>sahithi</cp:lastModifiedBy>
  <dcterms:modified xsi:type="dcterms:W3CDTF">2012-05-12T13:53:03Z</dcterms:modified>
  <cp:revision>17</cp:revision>
  <dc:subject/>
  <dc:title>unit5</dc:title>
</cp:coreProperties>
</file>