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C50-8AA2-4C60-87D8-146F5669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4F3-EC68-4374-9015-602F9D18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3375-9E40-48E2-8596-FE8C0502C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8EBE-6C52-40D6-86E9-21B73D6D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969-A6CC-4FC0-B0A2-CF9F5F26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59AE-AD34-4A8D-BE3C-CD0F674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E97-EAE4-43E5-998A-F2D16839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0D1-14F0-411B-A866-335CC20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B5A-B676-45D9-B95E-6A544F0D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285-D792-465E-BA97-27062AFA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5B83-FD87-40B6-AEB4-8F58FA83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0AB-49FB-4CE9-98FC-DE2C881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1D6A-C0F4-4F67-9BFC-408F25753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5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F08A-974B-4BA3-AF37-3737BD35A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nterface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ncerned with specifying the details of the interfaces to an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v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advantage OOD approach is to simplify the problem of making changes to the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internal details of an obect is unlikely to effect any other system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6DC-B7C5-4730-8BEA-5FFFA3C7B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e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 the user i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e the user’s memory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the interface consi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B513-C91C-4E6F-B734-235E0F768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the User in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teraction modes in a way that does not force a user into unnecessary or undesired a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flexible inte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ser interaction to be interruptible and undo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line interaction as skill levels advance and allow the interaction to be customiz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technical internals from the casual u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direct interaction with objects that appear on th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D080-73B4-4240-8483-1493959C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the Interface Con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e user to put the current task into a meaningful con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consistency across a family of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st interactive models have created user expectations, do not make changes unless there is a compelling reason to do 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DD3F-C6B4-495A-ACB1-8CF62CC60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INTERFACE ANALYSIS AN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process for analyzing and designing a user interface begins with the creation of different models of system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different models that is to be considered when a user interface is to be analyzed and de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3575-55C8-4759-8699-A606FCDF6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sig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odel —Establishes  a profile of all end user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model — A design model of the entire system incorporates data,architectural,interface and procedural representation of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realization of the us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AA4F-AE72-48A9-8529-17DA76AE8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’s Mental model (system perception) — the user’s mental image of what the interfa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model — the interface “look and feel” coupled with supporting information that describe interface 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DF68-DB61-4D70-B0CD-BC4BF52EB9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be categoriz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o syntactic knowledge of the system and little semantic knowledge of the application or computer usage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able,intermittent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asonable semantic knowledge of the application but low recall of syntactic information to use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able,frequent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emantic and syntact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188A-B670-4C07-94EA-BA2A432ED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interface analysis and desig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interface analysis and design process is an iterative process and it can be represented as a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nsists of 5 framework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User,task and environm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nterfac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Interfac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Interface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F774-A84E-475D-9C74-AC96D0952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8144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5439-D8BD-440C-81F6-2A8755F3E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5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Design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nd object classes, An Object-Oriented design proc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User interface design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rules, User interface analysis and design, interface analysis, interface design steps, Design 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DD9-5B76-4A65-BE67-7F9F6605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fa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the user who interacts with the system based on their skill levels.i.e, requirement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he task the user performs to accomplish the goals of the system are identified, described and elabo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nalysis of wor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fac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terface design, all interface objects and actions that enable a user to perform all desired task ar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totype is initially constructed and then later user interface development tools may be used to complete the construction of th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rectness of the system is validated   against the us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8A1-4E4D-41AD-AC0E-49E849CB2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analysis means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the people (end-users) who will interact with the system through the interf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the tasks that end-users must perform to do their wor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the content that is presented as part of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the environment in which these tasks will be conduc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D989-D264-48E0-B29C-3B321A050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rs trained professionals, technician, clerical, or manufacturing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evel of formal education does the average user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users capable of learning from written materials or have they expressed a desire for classroom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rs expert typists or keyboard phob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 range of the user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users be represented predominately by one ge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users compensated for the work they perfo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users work normal office hours or do they work until the job is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823A-08FA-49AB-9C01-F057CECFD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-cases define bas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elaboration refines interac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elaboration identifies interface objects (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analysis defines how a work process is completed when several people (and roles) are involv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 will the user perform in specific circumst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AAE0-0D4C-47A1-BE82-7798D9891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Design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nformation developed during interface analysis define interface objects and actions (opera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vents (user actions) that will cause the state of the user interface to change. Model thi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 each interface state as it will actually look to the end-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how the user interprets the state of the system from information provided through the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2A0C-37E6-4873-8C6C-FC89DC4D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Desig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are availabl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an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data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2CF7-F391-4A53-B342-0D6C394CB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and command lab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C653-390F-490D-BBFC-849C8B224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Evaluat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A5A0-65BD-40D8-927F-6EF75772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2516040" y="1600200"/>
            <a:ext cx="4111920" cy="4510080"/>
            <a:chOff x="2516040" y="1600200"/>
            <a:chExt cx="4111920" cy="4510080"/>
          </a:xfrm>
        </p:grpSpPr>
        <p:sp>
          <p:nvSpPr>
            <p:cNvPr id="147" name="AutoShape 6"/>
            <p:cNvSpPr/>
            <p:nvPr/>
          </p:nvSpPr>
          <p:spPr>
            <a:xfrm>
              <a:off x="2516040" y="1600200"/>
              <a:ext cx="411192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3414600" y="160920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3647520" y="1775520"/>
              <a:ext cx="75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limin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3792600" y="190872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311800" y="259992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156200" y="515952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2525760" y="4409640"/>
              <a:ext cx="1123920" cy="6656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3844800" y="341784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5"/>
            <p:cNvSpPr/>
            <p:nvPr/>
          </p:nvSpPr>
          <p:spPr>
            <a:xfrm>
              <a:off x="5772240" y="272484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5524920" y="2859120"/>
              <a:ext cx="84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totype #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5650560" y="299376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4377240" y="5236920"/>
              <a:ext cx="69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4295160" y="5371560"/>
              <a:ext cx="85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s studied b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0"/>
            <p:cNvSpPr/>
            <p:nvPr/>
          </p:nvSpPr>
          <p:spPr>
            <a:xfrm>
              <a:off x="4433760" y="550620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2887920" y="446508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2665800" y="4597560"/>
              <a:ext cx="91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dific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812680" y="47322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e m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>
              <a:off x="4305600" y="349668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5"/>
            <p:cNvSpPr/>
            <p:nvPr/>
          </p:nvSpPr>
          <p:spPr>
            <a:xfrm>
              <a:off x="4033440" y="36313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totype #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6"/>
            <p:cNvSpPr/>
            <p:nvPr/>
          </p:nvSpPr>
          <p:spPr>
            <a:xfrm>
              <a:off x="4811400" y="3631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7"/>
            <p:cNvSpPr/>
            <p:nvPr/>
          </p:nvSpPr>
          <p:spPr>
            <a:xfrm>
              <a:off x="4185360" y="37656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8"/>
            <p:cNvSpPr/>
            <p:nvPr/>
          </p:nvSpPr>
          <p:spPr>
            <a:xfrm>
              <a:off x="5923080" y="3787920"/>
              <a:ext cx="114120" cy="200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72" h="127">
                  <a:moveTo>
                    <a:pt x="60" y="127"/>
                  </a:moveTo>
                  <a:lnTo>
                    <a:pt x="0" y="14"/>
                  </a:lnTo>
                  <a:lnTo>
                    <a:pt x="72" y="0"/>
                  </a:lnTo>
                  <a:lnTo>
                    <a:pt x="6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9"/>
            <p:cNvSpPr/>
            <p:nvPr/>
          </p:nvSpPr>
          <p:spPr>
            <a:xfrm>
              <a:off x="5878440" y="3279960"/>
              <a:ext cx="104760" cy="52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0"/>
            <p:cNvSpPr/>
            <p:nvPr/>
          </p:nvSpPr>
          <p:spPr>
            <a:xfrm>
              <a:off x="5616720" y="239436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55" h="85">
                  <a:moveTo>
                    <a:pt x="55" y="1"/>
                  </a:moveTo>
                  <a:cubicBezTo>
                    <a:pt x="52" y="1"/>
                    <a:pt x="49" y="1"/>
                    <a:pt x="47" y="1"/>
                  </a:cubicBezTo>
                  <a:cubicBezTo>
                    <a:pt x="30" y="0"/>
                    <a:pt x="14" y="5"/>
                    <a:pt x="0" y="15"/>
                  </a:cubicBezTo>
                  <a:lnTo>
                    <a:pt x="47" y="85"/>
                  </a:lnTo>
                  <a:lnTo>
                    <a:pt x="55" y="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rc 31"/>
            <p:cNvSpPr/>
            <p:nvPr/>
          </p:nvSpPr>
          <p:spPr>
            <a:xfrm>
              <a:off x="4508640" y="1888200"/>
              <a:ext cx="1199880" cy="71028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fill="none" w="20875" h="21597">
                  <a:moveTo>
                    <a:pt x="359" y="0"/>
                  </a:moveTo>
                  <a:cubicBezTo>
                    <a:pt x="10017" y="160"/>
                    <a:pt x="18393" y="6713"/>
                    <a:pt x="20875" y="16047"/>
                  </a:cubicBezTo>
                </a:path>
                <a:path stroke="0" w="20875" h="21597">
                  <a:moveTo>
                    <a:pt x="359" y="0"/>
                  </a:moveTo>
                  <a:cubicBezTo>
                    <a:pt x="10017" y="160"/>
                    <a:pt x="18393" y="6713"/>
                    <a:pt x="20875" y="16047"/>
                  </a:cubicBezTo>
                  <a:lnTo>
                    <a:pt x="0" y="2159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2"/>
            <p:cNvSpPr/>
            <p:nvPr/>
          </p:nvSpPr>
          <p:spPr>
            <a:xfrm>
              <a:off x="5276880" y="5333400"/>
              <a:ext cx="203040" cy="134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4" h="56">
                  <a:moveTo>
                    <a:pt x="83" y="56"/>
                  </a:moveTo>
                  <a:cubicBezTo>
                    <a:pt x="83" y="52"/>
                    <a:pt x="84" y="48"/>
                    <a:pt x="84" y="44"/>
                  </a:cubicBezTo>
                  <a:cubicBezTo>
                    <a:pt x="84" y="28"/>
                    <a:pt x="79" y="13"/>
                    <a:pt x="72" y="0"/>
                  </a:cubicBezTo>
                  <a:lnTo>
                    <a:pt x="0" y="44"/>
                  </a:lnTo>
                  <a:lnTo>
                    <a:pt x="83" y="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rc 33"/>
            <p:cNvSpPr/>
            <p:nvPr/>
          </p:nvSpPr>
          <p:spPr>
            <a:xfrm>
              <a:off x="5276880" y="4411080"/>
              <a:ext cx="750960" cy="101736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fill="none" w="21600" h="20994">
                  <a:moveTo>
                    <a:pt x="21599" y="0"/>
                  </a:moveTo>
                  <a:cubicBezTo>
                    <a:pt x="21599" y="11"/>
                    <a:pt x="21600" y="22"/>
                    <a:pt x="21600" y="33"/>
                  </a:cubicBezTo>
                  <a:cubicBezTo>
                    <a:pt x="21600" y="9954"/>
                    <a:pt x="14841" y="18599"/>
                    <a:pt x="5214" y="20994"/>
                  </a:cubicBezTo>
                </a:path>
                <a:path stroke="0" w="21600" h="20994">
                  <a:moveTo>
                    <a:pt x="21599" y="0"/>
                  </a:moveTo>
                  <a:cubicBezTo>
                    <a:pt x="21599" y="11"/>
                    <a:pt x="21600" y="22"/>
                    <a:pt x="21600" y="33"/>
                  </a:cubicBezTo>
                  <a:cubicBezTo>
                    <a:pt x="21600" y="9954"/>
                    <a:pt x="14841" y="18599"/>
                    <a:pt x="5214" y="20994"/>
                  </a:cubicBezTo>
                  <a:lnTo>
                    <a:pt x="0" y="3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4"/>
            <p:cNvSpPr/>
            <p:nvPr/>
          </p:nvSpPr>
          <p:spPr>
            <a:xfrm>
              <a:off x="3178080" y="5055120"/>
              <a:ext cx="154080" cy="196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64" h="82">
                  <a:moveTo>
                    <a:pt x="14" y="82"/>
                  </a:moveTo>
                  <a:cubicBezTo>
                    <a:pt x="33" y="79"/>
                    <a:pt x="51" y="69"/>
                    <a:pt x="64" y="54"/>
                  </a:cubicBezTo>
                  <a:lnTo>
                    <a:pt x="0" y="0"/>
                  </a:lnTo>
                  <a:lnTo>
                    <a:pt x="14" y="8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35"/>
            <p:cNvSpPr/>
            <p:nvPr/>
          </p:nvSpPr>
          <p:spPr>
            <a:xfrm>
              <a:off x="3244680" y="5055120"/>
              <a:ext cx="935280" cy="4125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fill="none" w="19796" h="21600">
                  <a:moveTo>
                    <a:pt x="19796" y="21600"/>
                  </a:moveTo>
                  <a:cubicBezTo>
                    <a:pt x="11207" y="21600"/>
                    <a:pt x="3435" y="16512"/>
                    <a:pt x="-1" y="8641"/>
                  </a:cubicBezTo>
                </a:path>
                <a:path stroke="0" w="19796" h="21600">
                  <a:moveTo>
                    <a:pt x="19796" y="21600"/>
                  </a:moveTo>
                  <a:cubicBezTo>
                    <a:pt x="11207" y="21600"/>
                    <a:pt x="3435" y="16512"/>
                    <a:pt x="-1" y="8641"/>
                  </a:cubicBezTo>
                  <a:lnTo>
                    <a:pt x="1979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6"/>
            <p:cNvSpPr/>
            <p:nvPr/>
          </p:nvSpPr>
          <p:spPr>
            <a:xfrm>
              <a:off x="3648240" y="3651840"/>
              <a:ext cx="204480" cy="1360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85" h="57">
                  <a:moveTo>
                    <a:pt x="3" y="0"/>
                  </a:moveTo>
                  <a:cubicBezTo>
                    <a:pt x="1" y="7"/>
                    <a:pt x="1" y="14"/>
                    <a:pt x="1" y="20"/>
                  </a:cubicBezTo>
                  <a:cubicBezTo>
                    <a:pt x="0" y="33"/>
                    <a:pt x="3" y="46"/>
                    <a:pt x="9" y="57"/>
                  </a:cubicBezTo>
                  <a:lnTo>
                    <a:pt x="85" y="2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37"/>
            <p:cNvSpPr/>
            <p:nvPr/>
          </p:nvSpPr>
          <p:spPr>
            <a:xfrm>
              <a:off x="3043080" y="3700800"/>
              <a:ext cx="809640" cy="7009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00920"/>
                <a:gd name="textAreaBottom" fmla="*/ 701280 h 700920"/>
              </a:gdLst>
              <a:ahLst/>
              <a:rect l="textAreaLeft" t="textAreaTop" r="textAreaRight" b="textAreaBottom"/>
              <a:pathLst>
                <a:path fill="none" w="21600" h="21046">
                  <a:moveTo>
                    <a:pt x="0" y="21046"/>
                  </a:moveTo>
                  <a:cubicBezTo>
                    <a:pt x="0" y="10988"/>
                    <a:pt x="6941" y="2262"/>
                    <a:pt x="16740" y="-1"/>
                  </a:cubicBezTo>
                </a:path>
                <a:path stroke="0" w="21600" h="21046">
                  <a:moveTo>
                    <a:pt x="0" y="21046"/>
                  </a:moveTo>
                  <a:cubicBezTo>
                    <a:pt x="0" y="10988"/>
                    <a:pt x="6941" y="2262"/>
                    <a:pt x="16740" y="-1"/>
                  </a:cubicBezTo>
                  <a:lnTo>
                    <a:pt x="21600" y="2104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8"/>
            <p:cNvSpPr/>
            <p:nvPr/>
          </p:nvSpPr>
          <p:spPr>
            <a:xfrm>
              <a:off x="5494320" y="397440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9"/>
            <p:cNvSpPr/>
            <p:nvPr/>
          </p:nvSpPr>
          <p:spPr>
            <a:xfrm>
              <a:off x="5928120" y="4075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"/>
            <p:cNvSpPr/>
            <p:nvPr/>
          </p:nvSpPr>
          <p:spPr>
            <a:xfrm>
              <a:off x="5742720" y="4210200"/>
              <a:ext cx="67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valuate'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1"/>
            <p:cNvSpPr/>
            <p:nvPr/>
          </p:nvSpPr>
          <p:spPr>
            <a:xfrm>
              <a:off x="5788440" y="434484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2"/>
            <p:cNvSpPr/>
            <p:nvPr/>
          </p:nvSpPr>
          <p:spPr>
            <a:xfrm>
              <a:off x="5657760" y="3780000"/>
              <a:ext cx="158760" cy="199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66" h="83">
                  <a:moveTo>
                    <a:pt x="50" y="0"/>
                  </a:moveTo>
                  <a:cubicBezTo>
                    <a:pt x="30" y="4"/>
                    <a:pt x="13" y="14"/>
                    <a:pt x="0" y="30"/>
                  </a:cubicBezTo>
                  <a:lnTo>
                    <a:pt x="66" y="83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43"/>
            <p:cNvSpPr/>
            <p:nvPr/>
          </p:nvSpPr>
          <p:spPr>
            <a:xfrm>
              <a:off x="4968720" y="3607560"/>
              <a:ext cx="773280" cy="37332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fill="none" w="19247" h="21597">
                  <a:moveTo>
                    <a:pt x="357" y="-1"/>
                  </a:moveTo>
                  <a:cubicBezTo>
                    <a:pt x="8351" y="132"/>
                    <a:pt x="15618" y="4669"/>
                    <a:pt x="19247" y="11793"/>
                  </a:cubicBezTo>
                </a:path>
                <a:path stroke="0" w="19247" h="21597">
                  <a:moveTo>
                    <a:pt x="357" y="-1"/>
                  </a:moveTo>
                  <a:cubicBezTo>
                    <a:pt x="8351" y="132"/>
                    <a:pt x="15618" y="4669"/>
                    <a:pt x="19247" y="11793"/>
                  </a:cubicBezTo>
                  <a:lnTo>
                    <a:pt x="0" y="2159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4"/>
            <p:cNvSpPr/>
            <p:nvPr/>
          </p:nvSpPr>
          <p:spPr>
            <a:xfrm>
              <a:off x="3225960" y="5637240"/>
              <a:ext cx="195120" cy="1180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23" h="75">
                  <a:moveTo>
                    <a:pt x="0" y="44"/>
                  </a:moveTo>
                  <a:lnTo>
                    <a:pt x="119" y="0"/>
                  </a:lnTo>
                  <a:lnTo>
                    <a:pt x="123" y="7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5"/>
            <p:cNvSpPr/>
            <p:nvPr/>
          </p:nvSpPr>
          <p:spPr>
            <a:xfrm flipH="1">
              <a:off x="3419640" y="5659200"/>
              <a:ext cx="7365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6"/>
            <p:cNvSpPr/>
            <p:nvPr/>
          </p:nvSpPr>
          <p:spPr>
            <a:xfrm>
              <a:off x="2912760" y="5811480"/>
              <a:ext cx="88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face desig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7"/>
            <p:cNvSpPr/>
            <p:nvPr/>
          </p:nvSpPr>
          <p:spPr>
            <a:xfrm>
              <a:off x="3025080" y="5945760"/>
              <a:ext cx="63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523880"/>
          <a:ext cx="8229600" cy="4529160"/>
        </p:xfrm>
        <a:graphic>
          <a:graphicData uri="http://schemas.openxmlformats.org/drawingml/2006/table">
            <a:tbl>
              <a:tblPr/>
              <a:tblGrid>
                <a:gridCol w="905040"/>
                <a:gridCol w="4682880"/>
                <a:gridCol w="1374840"/>
                <a:gridCol w="126684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 And Object 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 oriented desig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ev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en 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interface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interface analysis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interface desig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Design St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Analysis and Mode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Evaluation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Slide Number Placeholder 7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215-0393-4886-8D8F-8ED097C8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7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And Obje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: An object is an entity that has a state and a defined set of operations that operate on that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ect class defination is both a type specification and a template for creating ob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cludes declaration of all the attributes and operations that are associated with object of that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82C7-6462-4F42-A3C0-D4D991FBB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ive stages of object oriented des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Understand and define the context and the modes of use of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Design the system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Identify the principle objects in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Develop a desig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Specify the object interfa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7DBA-7474-4827-B15D-405B2EBA3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s context and modes of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pecify the context of the system.it also specify the relationships between the software that is being designed and its extern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ystem context is a static model it describe the other system in that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ystem context is a dynamic model then it describe how the system actually interact with the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32767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A630-ABC2-4A1E-837B-809BEF84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interaction between the software system that being designed and the system environment have been def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use the above information as basis for designing the System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6AA8-6EA1-47C1-BEDB-E85AAE46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dentif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actually concerned with identifying the object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identify the object classes by the foll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Use a gramma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Use a tangible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Use a behaviouri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Use a scenario 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AE2-2BDD-41FB-B824-32E944B9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models are the bridge between the requirements and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 of desig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Static model  describe the relationship between th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Dynamic model describe the interaction between th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1DE0-4B87-4288-BFFD-1CFB43AAE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4:18:40Z</dcterms:created>
  <dc:creator>REENA</dc:creator>
  <dc:description/>
  <dc:language>en-US</dc:language>
  <cp:lastModifiedBy>sahithi</cp:lastModifiedBy>
  <dcterms:modified xsi:type="dcterms:W3CDTF">2012-05-12T13:53:03Z</dcterms:modified>
  <cp:revision>17</cp:revision>
  <dc:subject/>
  <dc:title>unit5</dc:title>
</cp:coreProperties>
</file>