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F220-A286-4CB4-8EC0-D16ABD5F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4B19-7613-4AEB-BAA5-FD8EA0CF5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EAC-B982-4664-871B-0AAAF53A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932-6209-4DBE-95F7-96CB2A7B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218-E108-41A1-B819-C44D6DFB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FB47-D9B6-4EE8-8B98-F8980EBA7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5BC-A64A-4667-97B7-1C93CAC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14C3-E306-4F87-B3DD-07A9955B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D1C-E536-4484-9F94-353C10F1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991C-18D3-4178-9ADF-BCEC6DAE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F8E-7698-4302-A36F-C71F6D74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AA49-ABE0-4C05-B7D3-EE7798FB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F53-228A-46B2-8875-A41FDC2E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A01-C77E-484A-8422-DA334445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4E86-BCFE-4451-B5CA-FBE2FFF6B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6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of Slides: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8D43-113B-4F4C-A369-B21E79AA0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completion of softwar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dy is absolutely certain that software wi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tatistical modeling and software reliabilit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 percent confidence(probability) that 1000 CPU hours of failure free operation is at least 0.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650B-F1AC-4F31-A14C-9CE27D91B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Tes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ategories of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the system as black box whose behavior can be determined by studying its input and relat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cerned with the internal structure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77A9-9775-4889-9A0A-737308277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ocuses on the functional requirements of the software ie it enables the sw engineer to derive a set of input conditions that fully exercise all the functional requirements for that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functionality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Graph based test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Equivalence part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2A6E-C5AF-414F-A85E-4D1C69BE8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base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graph of objects an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test cases t uncover the graph such that each object and its relationship exerc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548C-A336-4B35-84AE-3355DBC0D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base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2629-DD98-4A5A-B11A-CA1CC5370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9"/>
          <p:cNvGrpSpPr/>
          <p:nvPr/>
        </p:nvGrpSpPr>
        <p:grpSpPr>
          <a:xfrm>
            <a:off x="1371600" y="1523880"/>
            <a:ext cx="4343400" cy="2743200"/>
            <a:chOff x="1371600" y="1523880"/>
            <a:chExt cx="4343400" cy="2743200"/>
          </a:xfrm>
        </p:grpSpPr>
        <p:sp>
          <p:nvSpPr>
            <p:cNvPr id="91" name="Oval 4"/>
            <p:cNvSpPr/>
            <p:nvPr/>
          </p:nvSpPr>
          <p:spPr>
            <a:xfrm>
              <a:off x="1755720" y="1579320"/>
              <a:ext cx="99036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3900600" y="1579320"/>
              <a:ext cx="99036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>
              <a:off x="2855880" y="3389400"/>
              <a:ext cx="98892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Straight Arrow Connector 11"/>
            <p:cNvCxnSpPr/>
            <p:nvPr/>
          </p:nvCxnSpPr>
          <p:spPr>
            <a:xfrm>
              <a:off x="2746440" y="1908000"/>
              <a:ext cx="1154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5" name="Straight Connector 15"/>
            <p:cNvSpPr/>
            <p:nvPr/>
          </p:nvSpPr>
          <p:spPr>
            <a:xfrm>
              <a:off x="2415960" y="2457360"/>
              <a:ext cx="66024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17"/>
            <p:cNvSpPr/>
            <p:nvPr/>
          </p:nvSpPr>
          <p:spPr>
            <a:xfrm flipH="1">
              <a:off x="3625920" y="2401560"/>
              <a:ext cx="60480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9"/>
            <p:cNvSpPr/>
            <p:nvPr/>
          </p:nvSpPr>
          <p:spPr>
            <a:xfrm flipH="1">
              <a:off x="3790800" y="2457360"/>
              <a:ext cx="60480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1"/>
            <p:cNvSpPr/>
            <p:nvPr/>
          </p:nvSpPr>
          <p:spPr>
            <a:xfrm>
              <a:off x="4010760" y="3334320"/>
              <a:ext cx="16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allel Lin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4505400" y="2675880"/>
              <a:ext cx="120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4505400" y="2127240"/>
              <a:ext cx="329760" cy="548640"/>
              <a:chOff x="4505400" y="2127240"/>
              <a:chExt cx="329760" cy="548640"/>
            </a:xfrm>
          </p:grpSpPr>
          <p:sp>
            <p:nvSpPr>
              <p:cNvPr id="101" name="Straight Connector 24"/>
              <p:cNvSpPr/>
              <p:nvPr/>
            </p:nvSpPr>
            <p:spPr>
              <a:xfrm>
                <a:off x="4560840" y="2182680"/>
                <a:ext cx="27432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5"/>
              <p:cNvSpPr/>
              <p:nvPr/>
            </p:nvSpPr>
            <p:spPr>
              <a:xfrm>
                <a:off x="4505400" y="2127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7"/>
            <p:cNvSpPr/>
            <p:nvPr/>
          </p:nvSpPr>
          <p:spPr>
            <a:xfrm>
              <a:off x="1371600" y="2840760"/>
              <a:ext cx="120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irected 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8"/>
            <p:cNvSpPr/>
            <p:nvPr/>
          </p:nvSpPr>
          <p:spPr>
            <a:xfrm>
              <a:off x="2855880" y="1523880"/>
              <a:ext cx="8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ed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45"/>
          <p:cNvSpPr/>
          <p:nvPr/>
        </p:nvSpPr>
        <p:spPr>
          <a:xfrm>
            <a:off x="2590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ce partitio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75248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all possible inputs into classes such that there are a finite equivalence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et of objects that can be linked by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EF6C-8744-4CEE-8BA8-3699E9DDB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ce partitio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consists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asses are n&lt;1,1&lt;=n&lt;=10,n&gt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valid class with value within the allowed range and two invalid classes where values are greater than maximum value and smaller than minimum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55B9-B7A4-4015-806B-C1D52D9E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Valu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input from equivalence classes such that the input lies at the edge of the equivalenc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data lies on the edge or boundary of a class of input data or generates the data that lies at the boundary of a class of out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0050-A91D-4C8E-B1FC-7F2A84410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Valu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0.0&lt;=x&lt;=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est cases (0.0,1.0) for valid input and (-0.1 and 1.1) for invali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F08B-778A-4E95-BB53-BCA5C7152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rra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blems in which input domain is relatively small but too large for exhaustiv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nputs A,B,C each having three values will require 27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9 orthogonal testing will reduce the number of test case to 9 as shown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74F4-F16A-413D-B2C6-0C649AE3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Strategie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ic approach to software testing, test strategies for 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, Black-Box and White-Box testing, Validation testing, System testing, the art of Debu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metric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Quality, Metrics for Analysis Model, Metrics for Design Model, Metrics for source code, Metrics for testing, Metrics for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3489-C4B7-4468-B035-EB8CFBA65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rra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B    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1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2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3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1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2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3      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1      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2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3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1CC-2913-4FC9-A9C9-4E18D281A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glass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knowing the internal working of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that all independent paths will be exercised at leas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s all logical decisions on their true and false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D1B0-93EF-4CA0-A2E0-A38DC5033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all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s all data structures for their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x test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tructu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40FF-F0BC-4326-B70E-FA3BBE3C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Tom McC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a basic set of execution paths based on logical complexity of a procedur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to execute every statement in the program at leas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0FD6-1A03-41FC-9B04-33E314C98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of Basis Pat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low graph from flow chart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cyclomatic complexity of the resultant flow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est cases  that will force execution of each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FCF-08B8-4DEC-81E8-793D946D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hods to compute Cyclomatic complex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E-N+2(E is number of edges, N is number of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Number of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 Number of predicate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9B02-8CD6-40F9-8D26-DBB60650C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tructur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path testing is simple and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sufficient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tructure broadens the basic test coverage and improves the quality of white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B2E-4E41-40C0-9A1A-3480A7F66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the logical conditions contained in a program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ocuses on testing each condition in the program to ensure that it does contai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Simp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&lt;relation operator&gt;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poun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ondition&lt;Boolean operator&gt;simp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BAFC-AA7D-4FB6-B4A8-AF18D1722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s test paths according to the locations of definitions and use of variables in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ensure that the definitions of variables and subsequent use i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onstruct a definition-use graph from the control flow of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ECA4-BF01-4CD1-B302-111C0322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(definition):definition of a variable on the left-hand side of an assignment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 use: Computational use of a variable like read, write or variable on the right hand of assignment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 use: Predicate use in the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U chain be tested at leas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B78-6D11-4885-B82B-EA1770BBB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 P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905040"/>
                <a:gridCol w="4682880"/>
                <a:gridCol w="1374840"/>
                <a:gridCol w="12668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rategic approach for softwar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oftware testing for conventional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Box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Box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Tes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analysi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Design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3B6D-0135-46BC-97C6-1CD55352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the validity of loop con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categories can be def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AB1-8AB4-4FC6-94DB-382DE9E30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f simple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N is the maximum number of allowable passe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he loop entir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s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sse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passes through the loop where m&gt;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1,N,N+1 passes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AC74-8947-4C71-8690-FC658321D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innermost loop. Set all other loops to maximum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simple loop test for the innermost loop while holding the outer loops at their minimum iteration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utward conducting tests for the next loop but keeping all other loops at min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ED6F-7C32-4771-A2EA-7EC7CE58B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approach defined for simple loops, if each of the loop is independent of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loops are not independent, then follow the approach for the 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 the program to avoid 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7ECB-DD69-422E-818D-60A7E0BC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ucceeds when the software functions in a manner that can be reasonably expected by the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Validation Tes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Configuration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Alpha And 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2FE5-8139-4941-98F4-EE094501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purpose is to test the  complet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Recovery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Secur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tress Testing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Performance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F235-441C-4901-8E6F-60B63D916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occurs as a consequences of successful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Strat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Brute Forc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Back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Cause Eliminatio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Automated debug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2873-B3AD-4406-AAD6-7BD1CA126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ost common and least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pplied when all else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emory dump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ies to find the cause from the load of 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mon debugg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ful for smal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Beginning at the system where the symptom has been uncovered, the source code traced backward until the site of the cause is f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E33-F22F-4D47-8A7F-881F7DCE3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Based on the concept of Binary 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 list of all possible causes is developed and tests are conducted to eliminate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118-BF66-4CDF-A794-CFB827EE8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18AE-19FC-4CF3-9CB6-020E2807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bugg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281952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920880" y="343548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73160" y="358776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219320" y="3733920"/>
            <a:ext cx="8269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1295280" y="2819520"/>
            <a:ext cx="1447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803680" y="249876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of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788160" y="229248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5029200" y="3048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559560" y="267336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330960" y="297828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6934320" y="297180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162920" y="26668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7468560" y="303228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7467480" y="3505320"/>
            <a:ext cx="3049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6635880" y="5111640"/>
            <a:ext cx="2044440" cy="74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6859800" y="5241960"/>
            <a:ext cx="165564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 flipH="1" flipV="1">
            <a:off x="6248160" y="480060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4784760" y="402264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cted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 flipH="1">
            <a:off x="4495320" y="44956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3087720" y="4022640"/>
            <a:ext cx="16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 flipH="1">
            <a:off x="2286000" y="44956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 flipH="1">
            <a:off x="6248520" y="5715000"/>
            <a:ext cx="3808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4830120" y="55468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 flipH="1">
            <a:off x="4343400" y="6019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2659680" y="5775480"/>
            <a:ext cx="174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 flipH="1" flipV="1">
            <a:off x="2362320" y="5638320"/>
            <a:ext cx="3045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1055160" y="524196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1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important phases of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is the process of execution of a program with the intention of finding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40% of total projec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6E0-3076-4CDD-88B7-AB32C2EB7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nce to explicitly stated functional and performance requirements, explicitly documented development standards, and implicit characteristics that are expected of all professionally developed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affect software quality can be categorized in two broa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can be directly measured (e.g. defects uncovered during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can be measured only indirectly (e.g. usability or maintain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7B5-6844-4DAD-8231-C744B8F1D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all’s qualit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094F-ADE7-43FA-9471-EF3F95FC1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duct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9126 Qualit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8E37-9DFE-44F6-BD2A-9822990A7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9132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A9E6-8167-4614-AC86-E4B02031B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etrics for computer software helps us to assess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rovides a quantitative indication of the extent, amount, dimension, capacity or size of some attribute of a product o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(IEEE 93 defi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 quantitative measure of the degree to which a system, component or process possess a given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 metric or a combination of metrics that provide insight into the software process, a software project or a product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5FC4-75BA-4047-80B7-ECE82580D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analysis,Design,Test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metrics for the Analysi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oint 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posed by Alb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functionality delivered by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 computed from the follow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puts(E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external outputs(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F041-091A-4D26-976D-AACABB496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the Analysis mod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quiries(EQ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Internal Logical Files(I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terface files(E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ameter is classified as simple, average or complex and weights are assigned as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7E1-72BE-4C92-A426-0C6EF272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the Analysi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Domain        Count         Simple         avg           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3                  4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                                                  4                  5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S                                                   3                  4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FS                                                   7                 10               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FS                                                   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=Count total *[0.65+0.01*E(Fi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D171-2B30-4542-985C-BC42DE494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(Design Structure Quality Ind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ir force has designed the DS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s1 to s7 from data and architectur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:Total number of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:Number of modules whose correct function depends on the data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3:Number of modules whose function depends on pri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:Number of data ba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333C-D244-4F31-9FB5-3C64B4DBF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5:Number of unique databa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6: Number of databas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7:Number of modules with single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D1 to D6 from s1 to s7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1=1 if standard design is followed otherwise D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D622-E4C4-404F-9E77-FE3A646A1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ad map that incorporates test planning, test case design, test execution and resultant data collection and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a different set of activities that ensures that the software is traceable to the customer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&amp;V encompasses a wide array of Software 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3321-0B86-4246-B88B-67A20F817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(module independence)=(1-(s2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3(module not depending on prior processing)=(1-(s3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4(Data base size)=(1-(s5/s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5(Database compartmentalization)=(1-(s6/s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6(Module entry/exit characteristics)=(1-(s7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=sigma of W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5EB3-6688-4413-B89A-EAD38B275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1 to 6,Wi is weight assigned t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igma of wi is 1 then all weights are equal to 0.1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 of present design be compared with past DSQI. If DSQI is significantly lower than the average, further design work and review are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AC69-B09E-4210-B88B-8C2781F2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 FOR SOURC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S(Halstead Software 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measure that may be derived after the code is generated or estimated once design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number of distinct operators that appear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number of distinct operands that appear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total number of operator occur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total number of operand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rogram length N can be compu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2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2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8D65-4D7D-45AC-92DD-9F4B11BB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FOR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distinct operators that appear in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distinct operands that appear in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total number of operator occur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total number of operand occur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Level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 = 1/[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) x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/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A9D-02CF-43DF-9ED9-9C2A9857C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S FOR MAINTENANC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 that have been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 that have been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from the preceding release that were deleted in the curren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Maturity Index, SMI,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 = [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)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1CC1-33F9-4AC0-9084-057D424C6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Formal Technical reviews(FTR) to uncover errors during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testing at component level and move outward to integration of entire component based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testing techniques relevant to stages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FE8-6D78-42C4-9B77-F15599632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can be done by software developer and independent test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nd debugging are different activities. Debugging follow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level tests verifies small code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tests validate major system functions against custome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538-644F-4FA5-9FA5-7B191045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Strategies for Conventional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nit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Integration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Validation Test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System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E38-2E3A-4E76-BDA7-2F0EAA30D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 Representation for Conventiona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80A5-3F06-4926-A85A-1B4B96E53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143000" y="2025720"/>
          <a:ext cx="655308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25720"/>
                    <a:ext cx="65530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5:38:30Z</dcterms:created>
  <dc:creator>REENA</dc:creator>
  <dc:description/>
  <dc:language>en-US</dc:language>
  <cp:lastModifiedBy>sahithi</cp:lastModifiedBy>
  <dcterms:modified xsi:type="dcterms:W3CDTF">2012-05-12T13:54:10Z</dcterms:modified>
  <cp:revision>94</cp:revision>
  <dc:subject/>
  <dc:title>unit6</dc:title>
</cp:coreProperties>
</file>