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4EDB-991A-4F97-BD23-889C8EB39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9692-C44A-450A-918A-F6977D019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5F0F-8C8B-42A2-ADF0-3FE3303B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6714-1338-4AE9-98C8-0AEF1628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1243-AFB9-42E4-9BDF-4643D478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0F24-D249-4FB9-8CF1-D68EC2CB1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254A-80E6-46D5-9660-285CAC7E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4A9F-394A-4385-BE62-BB8A31A2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F3C-D346-41AC-9C3D-F6ABA6A2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6F5A-301C-4AD4-955F-65A5C723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9AED-E2EB-4666-94F1-FC841132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A077-3A0B-4371-AF8A-5A3FE0C8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D981-EBBB-4A85-A693-20CEE60E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DBB3-7A89-455F-BC6C-C119477C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5BEE-3B4C-49D5-ACE0-8059BFA63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Tech IT/II Sem-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: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-6 PPT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xt Boo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.Software Engineering, A practitioner’s approach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Roger s. Pressman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 McGraw-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Software Engineering Somerville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. of Slides: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8105-4A11-4F38-BE65-1F7C0BFD7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iteria for completion of software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body is absolutely certain that software will not f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statistical modeling and software reliability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5 percent confidence(probability) that 1000 CPU hours of failure free operation is at least 0.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1AB7-0DA1-4345-BA2A-404C02E40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Test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ajor categories of softwar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box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box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ck box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ats the system as black box whose behavior can be determined by studying its input and related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concerned with the internal structure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3918-EE39-40F1-8F30-2380402BA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focuses on the functional requirements of the software ie it enables the sw engineer to derive a set of input conditions that fully exercise all the functional requirements for that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ed with functionality and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Graph based test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Equivalence partitio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4181-C1A9-4A45-B870-C43D6DD45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based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graph of objects and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se test cases t uncover the graph such that each object and its relationship exerci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B369-DABC-4B6A-9D6C-09BB21D8A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based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6642-8439-4591-970E-297E25E9C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29"/>
          <p:cNvGrpSpPr/>
          <p:nvPr/>
        </p:nvGrpSpPr>
        <p:grpSpPr>
          <a:xfrm>
            <a:off x="1371600" y="1523880"/>
            <a:ext cx="4343400" cy="2743200"/>
            <a:chOff x="1371600" y="1523880"/>
            <a:chExt cx="4343400" cy="2743200"/>
          </a:xfrm>
        </p:grpSpPr>
        <p:sp>
          <p:nvSpPr>
            <p:cNvPr id="91" name="Oval 4"/>
            <p:cNvSpPr/>
            <p:nvPr/>
          </p:nvSpPr>
          <p:spPr>
            <a:xfrm>
              <a:off x="1755720" y="1579320"/>
              <a:ext cx="990360" cy="877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ject#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"/>
            <p:cNvSpPr/>
            <p:nvPr/>
          </p:nvSpPr>
          <p:spPr>
            <a:xfrm>
              <a:off x="3900600" y="1579320"/>
              <a:ext cx="990360" cy="877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ject#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7"/>
            <p:cNvSpPr/>
            <p:nvPr/>
          </p:nvSpPr>
          <p:spPr>
            <a:xfrm>
              <a:off x="2855880" y="3389400"/>
              <a:ext cx="988920" cy="8776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ject#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Straight Arrow Connector 11"/>
            <p:cNvCxnSpPr/>
            <p:nvPr/>
          </p:nvCxnSpPr>
          <p:spPr>
            <a:xfrm>
              <a:off x="2746440" y="1908000"/>
              <a:ext cx="115488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95" name="Straight Connector 15"/>
            <p:cNvSpPr/>
            <p:nvPr/>
          </p:nvSpPr>
          <p:spPr>
            <a:xfrm>
              <a:off x="2415960" y="2457360"/>
              <a:ext cx="660240" cy="9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Straight Connector 17"/>
            <p:cNvSpPr/>
            <p:nvPr/>
          </p:nvSpPr>
          <p:spPr>
            <a:xfrm flipH="1">
              <a:off x="3625920" y="2401560"/>
              <a:ext cx="604800" cy="10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Straight Connector 19"/>
            <p:cNvSpPr/>
            <p:nvPr/>
          </p:nvSpPr>
          <p:spPr>
            <a:xfrm flipH="1">
              <a:off x="3790800" y="2457360"/>
              <a:ext cx="60480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Box 21"/>
            <p:cNvSpPr/>
            <p:nvPr/>
          </p:nvSpPr>
          <p:spPr>
            <a:xfrm>
              <a:off x="4010760" y="3334320"/>
              <a:ext cx="164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rallel Link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22"/>
            <p:cNvSpPr/>
            <p:nvPr/>
          </p:nvSpPr>
          <p:spPr>
            <a:xfrm>
              <a:off x="4505400" y="2675880"/>
              <a:ext cx="1209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ode weigh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6"/>
            <p:cNvGrpSpPr/>
            <p:nvPr/>
          </p:nvGrpSpPr>
          <p:grpSpPr>
            <a:xfrm>
              <a:off x="4505400" y="2127240"/>
              <a:ext cx="329760" cy="548640"/>
              <a:chOff x="4505400" y="2127240"/>
              <a:chExt cx="329760" cy="548640"/>
            </a:xfrm>
          </p:grpSpPr>
          <p:sp>
            <p:nvSpPr>
              <p:cNvPr id="101" name="Straight Connector 24"/>
              <p:cNvSpPr/>
              <p:nvPr/>
            </p:nvSpPr>
            <p:spPr>
              <a:xfrm>
                <a:off x="4560840" y="2182680"/>
                <a:ext cx="274320" cy="49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Oval 25"/>
              <p:cNvSpPr/>
              <p:nvPr/>
            </p:nvSpPr>
            <p:spPr>
              <a:xfrm>
                <a:off x="4505400" y="2127240"/>
                <a:ext cx="55440" cy="5544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Box 27"/>
            <p:cNvSpPr/>
            <p:nvPr/>
          </p:nvSpPr>
          <p:spPr>
            <a:xfrm>
              <a:off x="1371600" y="2840760"/>
              <a:ext cx="1209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directed lin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28"/>
            <p:cNvSpPr/>
            <p:nvPr/>
          </p:nvSpPr>
          <p:spPr>
            <a:xfrm>
              <a:off x="2855880" y="1523880"/>
              <a:ext cx="879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rected 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Box 45"/>
          <p:cNvSpPr/>
          <p:nvPr/>
        </p:nvSpPr>
        <p:spPr>
          <a:xfrm>
            <a:off x="2590920" y="46483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: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valence partition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175248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s all possible inputs into classes such that there are a finite equivalence cla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ce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Set of objects that can be linked by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the cost of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DC3D-BA74-46A2-8BAA-C1C26C37C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valence partition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consists of 1 to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classes are n&lt;1,1&lt;=n&lt;=10,n&gt;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ne valid class with value within the allowed range and two invalid classes where values are greater than maximum value and smaller than minimum va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C212-C6A6-4655-8C9A-AF080196F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ndary Value analys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input from equivalence classes such that the input lies at the edge of the equivalence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data lies on the edge or boundary of a class of input data or generates the data that lies at the boundary of a class of outpu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263B-8549-42ED-B9A0-236724219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undary Value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0.0&lt;=x&lt;=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test cases (0.0,1.0) for valid input and (-0.1 and 1.1) for invalid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8CF41-F8E2-4DCE-9A8D-1DD5BE734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hogonal array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blems in which input domain is relatively small but too large for exhaustiv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inputs A,B,C each having three values will require 27 test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9 orthogonal testing will reduce the number of test case to 9 as shown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E4A2-9CFD-494E-A1B9-142CC9BBA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T 6 SYLLAB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ing Strategies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trategic approach to software testing, test strategies for conven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, Black-Box and White-Box testing, Validation testing, System testing, the art of Debug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 metrics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Quality, Metrics for Analysis Model, Metrics for Design Model, Metrics for source code, Metrics for testing, Metrics for mainten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2A1C-1044-4A2A-BA62-CA78EF9CC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thogonal array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    B      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1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2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3 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 1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 2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 3      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1       3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2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3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8E82-05A1-4AC3-87B7-E2762E688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glass box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knowing the internal working of a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that all independent paths will be exercised at least 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s all logical decisions on their true and false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152A8-5AD6-4EFB-9671-92B41737A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es all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es all data structures for their valid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box testing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 path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structur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9DE2-29C2-4727-B5BB-86506C977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 path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sed by Tom McCa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s a basic set of execution paths based on logical complexity of a procedur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to execute every statement in the program at least o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BE56-E520-4CB2-B1A7-5E69097AC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 path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of Basis Path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the flow graph from flow chart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he cyclomatic complexity of the resultant flow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test cases  that will force execution of each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27A8-274B-4D72-BCCD-A59243931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 path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ethods to compute Cyclomatic complexity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G)=E-N+2(E is number of edges, N is number of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G)=Number of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(G)= Number of predicates 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B433-38DA-4C1F-AAE5-46FE7D6A6C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Structure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 path testing is simple and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not sufficient in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structure broadens the basic test coverage and improves the quality of white box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low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p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724C-04DF-4AF9-934F-D473BB56B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 Test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08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 the logical conditions contained in a program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Focuses on testing each condition in the program to ensure that it does contain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Simpl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1&lt;relation operator&gt;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Compound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condition&lt;Boolean operator&gt;simpl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CBE5-5ED8-446D-A9C2-54507F0A8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flow Test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s test paths according to the locations of definitions and use of variables in a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s to ensure that the definitions of variables and subsequent use i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construct a definition-use graph from the control flow of a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3D00-CC67-4CF0-A772-E491A6767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flow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(definition):definition of a variable on the left-hand side of an assignment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- use: Computational use of a variable like read, write or variable on the right hand of assignment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- use: Predicate use in the 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DU chain be tested at least o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47AA-CD46-49FA-8AE3-FA6DA6069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6 P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486320"/>
        </p:xfrm>
        <a:graphic>
          <a:graphicData uri="http://schemas.openxmlformats.org/drawingml/2006/table">
            <a:tbl>
              <a:tblPr/>
              <a:tblGrid>
                <a:gridCol w="905040"/>
                <a:gridCol w="4682880"/>
                <a:gridCol w="1374840"/>
                <a:gridCol w="126684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de 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trategic approach for software te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oftware testing for conventional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 Box te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te Box Te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Test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Te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Qu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s for analysis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s for Design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s for tes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s for Mainte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7E86-D421-46D2-BF93-20B0D0A6B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p Test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s on the validity of loop constr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categories can be defin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st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atenat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ructur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21D82-44A9-4384-AC19-377FA1C91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p Test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of simple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N is the maximum number of allowable passes through th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 the loop entir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one pass through th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asses through th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passes through the loop where m&gt;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-1,N,N+1 passes the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4A5D-9CE0-42F6-884B-F13DB89A0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p Test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st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at the innermost loop. Set all other loops to maximum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 simple loop test for the innermost loop while holding the outer loops at their minimum iteration param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utward conducting tests for the next loop but keeping all other loops at minim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05B7-8263-4F0E-9A21-3F83D0FC1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p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atenat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approach defined for simple loops, if each of the loop is independent of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loops are not independent, then follow the approach for the nest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tructur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sign the program to avoid unstructured l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4A13-4C4E-4F9B-971A-1D98D9335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ation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ucceeds when the software functions in a manner that can be reasonably expected by the custo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Validation Test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Configuration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Alpha And Beta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0931-9693-4A8A-BC7D-40FCCB41D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primary purpose is to test the  complete soft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Recovery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Security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Stress Testing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Performance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5C5D-2680-4BE6-9FF7-93EFCF6C5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 of Debu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 occurs as a consequences of successful tes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 Strat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Brute Force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Back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Cause Elimination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Automated debugg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2DD7-3CA0-41F5-BBAC-0836C0DA1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 of Debu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9140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e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Most common and least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Applied when all else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Memory dumps are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Tries to find the cause from the load of 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tra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Common debugging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Useful for small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Beginning at the system where the symptom has been uncovered, the source code traced backward until the site of the cause is fou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13B6-35FC-40E7-B503-09D05C748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 of Debu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Eli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Based on the concept of Binary  partiti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A list of all possible causes is developed and tests are conducted to eliminate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E364-AB37-474B-918B-5CC079E3F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4C6E-D6F4-4D3D-A59D-C3C3BAC2D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Art of Debu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bugging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685800" y="2819520"/>
            <a:ext cx="9777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920880" y="3435480"/>
            <a:ext cx="9777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1073160" y="3587760"/>
            <a:ext cx="977760" cy="105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1219320" y="3733920"/>
            <a:ext cx="82692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1295280" y="2819520"/>
            <a:ext cx="1447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2803680" y="2498760"/>
            <a:ext cx="2377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on of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0"/>
          <p:cNvSpPr/>
          <p:nvPr/>
        </p:nvSpPr>
        <p:spPr>
          <a:xfrm>
            <a:off x="6788160" y="2292480"/>
            <a:ext cx="5968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"/>
          <p:cNvSpPr/>
          <p:nvPr/>
        </p:nvSpPr>
        <p:spPr>
          <a:xfrm>
            <a:off x="5029200" y="304812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2"/>
          <p:cNvSpPr/>
          <p:nvPr/>
        </p:nvSpPr>
        <p:spPr>
          <a:xfrm>
            <a:off x="6559560" y="2673360"/>
            <a:ext cx="5968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3"/>
          <p:cNvSpPr/>
          <p:nvPr/>
        </p:nvSpPr>
        <p:spPr>
          <a:xfrm>
            <a:off x="6330960" y="2978280"/>
            <a:ext cx="59688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"/>
          <p:cNvSpPr/>
          <p:nvPr/>
        </p:nvSpPr>
        <p:spPr>
          <a:xfrm>
            <a:off x="6934320" y="2971800"/>
            <a:ext cx="2286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5"/>
          <p:cNvSpPr/>
          <p:nvPr/>
        </p:nvSpPr>
        <p:spPr>
          <a:xfrm>
            <a:off x="7162920" y="266688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7468560" y="3032280"/>
            <a:ext cx="119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7"/>
          <p:cNvSpPr/>
          <p:nvPr/>
        </p:nvSpPr>
        <p:spPr>
          <a:xfrm>
            <a:off x="7467480" y="3505320"/>
            <a:ext cx="304920" cy="1295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18"/>
          <p:cNvSpPr/>
          <p:nvPr/>
        </p:nvSpPr>
        <p:spPr>
          <a:xfrm>
            <a:off x="6635880" y="5111640"/>
            <a:ext cx="2044440" cy="7495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>
            <a:off x="6859800" y="5241960"/>
            <a:ext cx="1655640" cy="45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0"/>
          <p:cNvSpPr/>
          <p:nvPr/>
        </p:nvSpPr>
        <p:spPr>
          <a:xfrm flipH="1" flipV="1">
            <a:off x="6248160" y="4800600"/>
            <a:ext cx="53316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1"/>
          <p:cNvSpPr/>
          <p:nvPr/>
        </p:nvSpPr>
        <p:spPr>
          <a:xfrm>
            <a:off x="4784760" y="4022640"/>
            <a:ext cx="199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cted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2"/>
          <p:cNvSpPr/>
          <p:nvPr/>
        </p:nvSpPr>
        <p:spPr>
          <a:xfrm flipH="1">
            <a:off x="4495320" y="44956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3"/>
          <p:cNvSpPr/>
          <p:nvPr/>
        </p:nvSpPr>
        <p:spPr>
          <a:xfrm>
            <a:off x="3087720" y="4022640"/>
            <a:ext cx="160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"/>
          <p:cNvSpPr/>
          <p:nvPr/>
        </p:nvSpPr>
        <p:spPr>
          <a:xfrm flipH="1">
            <a:off x="2286000" y="449568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5"/>
          <p:cNvSpPr/>
          <p:nvPr/>
        </p:nvSpPr>
        <p:spPr>
          <a:xfrm flipH="1">
            <a:off x="6248520" y="5715000"/>
            <a:ext cx="38088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6"/>
          <p:cNvSpPr/>
          <p:nvPr/>
        </p:nvSpPr>
        <p:spPr>
          <a:xfrm>
            <a:off x="4830120" y="5546880"/>
            <a:ext cx="150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7"/>
          <p:cNvSpPr/>
          <p:nvPr/>
        </p:nvSpPr>
        <p:spPr>
          <a:xfrm flipH="1">
            <a:off x="4343400" y="60199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8"/>
          <p:cNvSpPr/>
          <p:nvPr/>
        </p:nvSpPr>
        <p:spPr>
          <a:xfrm>
            <a:off x="2659680" y="5775480"/>
            <a:ext cx="174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9"/>
          <p:cNvSpPr/>
          <p:nvPr/>
        </p:nvSpPr>
        <p:spPr>
          <a:xfrm flipH="1" flipV="1">
            <a:off x="2362320" y="5638320"/>
            <a:ext cx="30456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1055160" y="5241960"/>
            <a:ext cx="2454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ressio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1"/>
          <p:cNvSpPr/>
          <p:nvPr/>
        </p:nvSpPr>
        <p:spPr>
          <a:xfrm>
            <a:off x="1828800" y="480060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rategic Approach for Softwar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important phases of softwar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is the process of execution of a program with the intention of finding err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40% of total project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3558-52FD-42EA-8BF7-7F61EEE101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ormance to explicitly stated functional and performance requirements, explicitly documented development standards, and implicit characteristics that are expected of all professionally developed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hat affect software quality can be categorized in two broad grou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hat can be directly measured (e.g. defects uncovered during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hat can be measured only indirectly (e.g. usability or maintainabi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45CC-DE24-4593-88FA-3ACA9E27D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Call’s quality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ility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Re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504000"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C7E67-24D1-455B-8F22-BD7E96278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Product Tran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 9126 Quality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U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Main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Por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8760-B803-4118-BF6F-87AEA1169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5791320" cy="4495680"/>
          </a:xfrm>
          <a:prstGeom prst="rect">
            <a:avLst/>
          </a:prstGeom>
          <a:ln w="0">
            <a:noFill/>
          </a:ln>
        </p:spPr>
      </p:pic>
      <p:sp>
        <p:nvSpPr>
          <p:cNvPr id="219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9148-F44B-4DC1-A27B-9758F9D504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8088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etrics for computer software helps us to assess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Provides a quantitative indication of the extent, amount, dimension, capacity or size of some attribute of a product or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(IEEE 93 defi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A quantitative measure of the degree to which a system, component or process possess a given attrib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A metric or a combination of metrics that provide insight into the software process, a software project or a product it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8B5F-0D70-4CC1-A545-D96E03207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 Metrics for analysis,Design,Test and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duct metrics for the Analysi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point 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roposed by Albre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the functionality delivered by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P computed from the following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external inputs(E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external outputs(E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C6B7-5661-4B5F-917C-68C1C2E431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 metrics for the Analysis mode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external Inquiries(EQ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Internal Logical Files(IL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external interface files(EIF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rameter is classified as simple, average or complex and weights are assigned as 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44DCF-0793-4962-A99C-BBBB9DA18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duct metrics for the Analysi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Domain        Count         Simple         avg           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3                  4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                                                  4                  5     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S                                                   3                  4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FS                                                   7                 10               1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FS                                                   5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P=Count total *[0.65+0.01*E(Fi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B611-6D93-488A-AF72-74749CD07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s for Desig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QI(Design Structure Quality Inde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 air force has designed the DSQ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s1 to s7 from data and architectur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1:Total number of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2:Number of modules whose correct function depends on the data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3:Number of modules whose function depends on prior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4:Number of data base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38F6-4473-4006-B3D6-BC02A3BCA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s for Desig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5:Number of unique database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6: Number of database se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7:Number of modules with single entry and ex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D1 to D6 from s1 to s7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1=1 if standard design is followed otherwise D1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3C1C-8328-4D30-AED5-EC506B1E7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rategic Approach for Softwar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oad map that incorporates test planning, test case design, test execution and resultant data collection and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i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fers to a different set of activities that ensures that the software is traceable to the customer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&amp;V encompasses a wide array of Software Quality As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A43B-BE6F-4F21-86A4-A17ACB42A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s for Desig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2(module independence)=(1-(s2/s1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3(module not depending on prior processing)=(1-(s3/s1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4(Data base size)=(1-(s5/s4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5(Database compartmentalization)=(1-(s6/s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6(Module entry/exit characteristics)=(1-(s7/s1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QI=sigma of Wi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A3BC9-F757-49A6-BB50-323285884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s for Desig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=1 to 6,Wi is weight assigned to 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igma of wi is 1 then all weights are equal to 0.1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SQI of present design be compared with past DSQI. If DSQI is significantly lower than the average, further design work and review are ind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EFFF-D17E-4338-8BC9-59D6E167C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RIC FOR SOURC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SS(Halstead Software sci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itive measure that may be derived after the code is generated or estimated once design is 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he number of distinct operators that appear i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he number of distinct operands that appear in a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he total number of operator occurr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the total number of operand occurr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program length N can be compu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g2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g2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= N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802E1-2515-45EA-8D05-1CFFBC15E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 FOR T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distinct operators that appear in 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distinct operands that appear in a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total number of operator occur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total number of operand occur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Level and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 = 1/[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2) x (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V/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3AB3-F2B2-4E4C-80F6-8DD47EE46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RICS FOR MAINTENANCE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modules in the current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modules in the current release that have been chan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modules in the current release that have been ad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he number of modules from the preceding release that were deleted in the current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ftware Maturity Index, SMI, is defin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I = [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 –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 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)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6B08-9779-4573-A37C-FB8839DA2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rategic Approach for Softwar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Formal Technical reviews(FTR) to uncover errors during softwar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testing at component level and move outward to integration of entire component based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 testing techniques relevant to stages of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696C-F921-46D9-A5D8-2E0ACA6F3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trategic Approach for Softwar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can be done by software developer and independent test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and debugging are different activities. Debugging follows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level tests verifies small code seg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level tests validate major system functions against customer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DC2E9-AAAF-44AA-81EE-0F881D2D1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Strategies for Conventional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Unit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Integration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Validation Testing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)System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2D00-C778-4C2A-A49C-1DFCC3B64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ral Representation for Conventional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705720" y="6095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2948-703A-411E-9C89-8EA0708F4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2"/>
          <p:cNvGraphicFramePr/>
          <p:nvPr/>
        </p:nvGraphicFramePr>
        <p:xfrm>
          <a:off x="1143000" y="2025720"/>
          <a:ext cx="655308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025720"/>
                    <a:ext cx="655308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5:38:30Z</dcterms:created>
  <dc:creator>REENA</dc:creator>
  <dc:description/>
  <dc:language>en-US</dc:language>
  <cp:lastModifiedBy>sahithi</cp:lastModifiedBy>
  <dcterms:modified xsi:type="dcterms:W3CDTF">2012-05-12T13:54:10Z</dcterms:modified>
  <cp:revision>94</cp:revision>
  <dc:subject/>
  <dc:title>unit6</dc:title>
</cp:coreProperties>
</file>