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796-5B1A-466B-AAD6-5A574CE6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C19-6ABD-457A-8AD1-487D2F4A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C87-F08D-4C42-89CD-EB519FC6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0223-7669-4398-B350-6E033989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EAF-52C6-4C7A-AD7E-D1290B13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B9A-9A9E-4DD2-B798-47FDB2CC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DF7-7642-4F11-A5E2-221A61BB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B36B-2129-4E07-8B1A-270DC080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F21-F760-42C5-8DB8-EC080973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83B-8A89-4290-933B-C286D0E9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0C6-160D-43DD-9EA5-AD41C0D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27E5-66B9-4D83-B92E-3D15F52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D5D1-FFC6-42E0-92DD-491BD4E1B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7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D6B3-4005-42D2-82F1-993E5DC3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met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vant for object 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enarios(Similar to us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ke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uppor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average support class per key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B69F-7932-47E9-972F-8C3815FEA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based application met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related to web based application measure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tatic pages(N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ynamic pages(N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ation(C)=NSP/NSP+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should approach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9906-CBB8-46F4-8A53-348EE7295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Softwa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=defects/K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ability=MTTC(Mean-time to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=Sigma[1-(threat(1-security)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 : Probability that an attack of specific type will occur within a give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: Probability that an attack of a specific type will be repe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03BE-2048-4736-9074-52BB9D43E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Usability: 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Defect Removal Efficiency(D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=E/(E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the no. of errors found before   delivery and D is no. of defects reported after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value of DRE i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0E27-2EEB-4D2E-AE27-52FEF0C7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s an undesired event or circumstance that occur while a project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ecessary for the project manager to anticipate and identify different risks that a project may be susceptibl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ims at reducing the impact of all kinds of risk that may effect a project by identifying, analyzing and manag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F01E-C5BF-4CD6-B554-6CB52F8C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ve Vs Proactiv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onitors the projects likely risk and resources are set a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re identified, their probability and impact is ac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AB8-5E89-4DF6-9872-34595C968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volve 2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y :  Risk may or may not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: If risk is reality unwanted loss or consequences will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cl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Projec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Technical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Busines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Known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Unpredictabl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Predictabl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4CE2-A4C1-41BF-A624-9C39C53DB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risk: Threaten the project plan and affect schedule and resultan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risk: Threaten the quality and timeliness of software to be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isk: Threaten the viability of software to b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risk: These risks can be recovered from carefu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able risk: Risks are identified by past project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 risk: Risks that occur and may be difficult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6438-0EE7-41DD-BEAF-2CC80EFCD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cerned with identification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Identify all possible ri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Create item check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Categorize into risk components-Performance risk, cost risk, support risk and schedul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Divide the risk into one of 4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igible-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strophic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336E-4AAD-4717-AAC3-D2B27980E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Identification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to be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siz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0B14-9911-44D4-92A4-3F730B73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7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rics for Process and Product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Measurement, Metrics for softwa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management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 vs. Proactive Risk strategies, software risks, Risk identification, Risk projection, Risk refinement, RMMM, RMMM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38D7-F649-4AB8-BD6D-FC2206514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risk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stimates the impact of risk on the project and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 is done by using Risk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ojection addresses risk in 2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 or probability that the risk is real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C4B7-FA60-46BF-B92E-5898C4F22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8380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 Risk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the consequenc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th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risk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the risk where the management concern is low i.e., risk having impact high or low with low probability of oc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ll risks where management concern is high i.e., high impact with high or moderate probability of occurrence or low impact with high probability of oc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8AE5-7A6C-41B2-862F-563D93A2D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143000"/>
          <a:ext cx="7924680" cy="374976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estimate may be significantl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 no. of users than 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reuse than 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user resist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17C0-A5D7-437A-AA88-2DCACACFA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each risk is assessed by Impac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strophic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ible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09C1-7482-4827-910B-D16D073C1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s the risk table in reviewing the risk impact based on the following thre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: Likely problems if risk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 Just how serious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: When and 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61C-E8DF-47FF-AFCC-7BA2F7F6E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ased on Risk E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Risk exposure RE=P*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P is probability and C is cost of project if risk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A644-2FF3-487B-B4EC-A6241F174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itigation Monitoring And Management (RMM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goal is to assist project team in developing a strategy for dealing with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issues of RM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Risk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Risk Monitor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Risk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E088-4CC6-482C-95B4-965D84E48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itigation Monitoring And Management (RMM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i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 planning for risk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whether predicted risk occur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ing risk aversion steps are being properly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information for future ris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ich risks caused whic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2219-643F-4D74-8C22-65F7E5D6D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itigation Monitoring And Management (RMM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gency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to be taken in the event that mitigation steps have failed and the risk has become a liv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RMMP(Risk Mitigation Monitoring And Management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6F4-953C-4EFC-8CFB-7283CD69B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MM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cuments all work performed as a part of risk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isk is documented individually by using a Risk Information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 is maintained by using a databas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724B-4DA4-46AF-A024-FE27B24C1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219320"/>
          <a:ext cx="8229600" cy="6411960"/>
        </p:xfrm>
        <a:graphic>
          <a:graphicData uri="http://schemas.openxmlformats.org/drawingml/2006/table">
            <a:tbl>
              <a:tblPr/>
              <a:tblGrid>
                <a:gridCol w="905040"/>
                <a:gridCol w="4505040"/>
                <a:gridCol w="1552680"/>
                <a:gridCol w="12668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 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process and product: Software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software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Management: Reactive VS Proactive 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Proj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fi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Mitigation Monitoring And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MM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Slide Number Placeholder 7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2A00-1C59-49B5-8850-CA3B51460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Process And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measurement can b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Direct Measur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Indirect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3F0-8293-4CC3-9249-F08F3B06A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Process And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easure of software process include cost and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easure of product include lines of code, Execution speed, memory size, defects per reporting ti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rect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measure examines the quality of software product itself(e.g. :-functionality, complexity, efficiency, reliability and maintain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DCB9-4B6A-4703-9A04-92B1DDF02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in baseline for comparison with futur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status with respect to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dict the size, cost and duration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product quality and process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273A-913A-4143-B950-05D8A026F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rics in software Measurement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rien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orien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ased application 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06AE-F549-47E7-95D4-FB6D8763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 Orient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tally concerned with the measurement of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ftware company maintains a simple record for calculating the size of the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ncludes LOC, Effort,$$,PP document,Error,Defect ,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9C5-EBC1-4375-A031-8FC395860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rient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functionality deriv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widely used function oriented metric is Functio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point is independent of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functionality from user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FB72-0875-4A28-A106-4B0EBB05C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6:30:18Z</dcterms:created>
  <dc:creator>REENA</dc:creator>
  <dc:description/>
  <dc:language>en-US</dc:language>
  <cp:lastModifiedBy>sahithi</cp:lastModifiedBy>
  <dcterms:modified xsi:type="dcterms:W3CDTF">2012-05-12T13:55:00Z</dcterms:modified>
  <cp:revision>43</cp:revision>
  <dc:subject/>
  <dc:title>unit7</dc:title>
</cp:coreProperties>
</file>