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14EA-EF7A-4A2B-9A18-2939BA83E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AE91-0B80-496F-9AFE-B9E28C32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1C14-9A13-45F6-9CB7-706AAF28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701-8128-4FB3-846E-6808B08B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EAB6-6BBA-49EA-80AF-4808E5AF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8A77-091C-413A-AF5B-42597787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A980-997D-4E8F-8ADC-DB07634B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EC7B-B6D9-4A6A-ADFC-2172D5AD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2DD-D933-4EF2-904F-B9650E5D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8E0-D1CB-4FCE-8588-D4D013DC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0741-874A-4393-A133-A735BCF1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99F7-4FAA-4BC0-AFB2-550B921D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729B-C799-41E0-964D-4802D6700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Tech IT/II Sem-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: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7 PPT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xt Boo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.Software Engineering, A practitioner’s approach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Roger s. Pressman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 McGraw-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Software Engineering Somervill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EBE0-C94F-406C-910B-B42084DA4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 oriented met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vant for object oriented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cenarios(Similar to use cas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key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uppor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average support class per key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ub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6C96-C607-44B7-997A-6B463C0ED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based application met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related to web based application measure the foll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tatic pages(NS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dynamic pages(N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zation(C)=NSP/NSP+N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should approach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4CEA-9B9D-4F58-89D1-C7E0A1336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s for Software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Software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ness=defects/K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ability=MTTC(Mean-time to chan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ity=Sigma[1-(threat(1-security))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 : Probability that an attack of specific type will occur within a give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: Probability that an attack of a specific type will be repe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7666-DCF8-4399-A795-E659B7C56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s for Software 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Usability: Ease of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Defect Removal Efficiency(D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=E/(E+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is the no. of errors found before   delivery and D is no. of defects reported after deliv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l value of DRE is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1D24-7B07-4E89-9C70-8AF2AB41E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is an undesired event or circumstance that occur while a project is unde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necessary for the project manager to anticipate and identify different risks that a project may be susceptible 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aims at reducing the impact of all kinds of risk that may effect a project by identifying, analyzing and manag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F73E-63B5-4BAE-B3A9-A6C4F50C4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ve Vs Proactive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onitors the projects likely risk and resources are set a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are identified, their probability and impact is acc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6ABE-5D1F-4019-B71C-78D75DDEA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volve 2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certainty :  Risk may or may not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: If risk is reality unwanted loss or consequences will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nclu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Projec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Technical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Business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Known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)Unpredictable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)Predictable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F255-CE38-4119-B2DA-13E15CB2DE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Ri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risk: Threaten the project plan and affect schedule and resultant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risk: Threaten the quality and timeliness of software to be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risk: Threaten the viability of software to be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risk: These risks can be recovered from careful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able risk: Risks are identified by past project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predictable risk: Risks that occur and may be difficult to iden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FBB2-F670-409B-87F8-C06217337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concerned with identification of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1: Identify all possible risk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2: Create item check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3: Categorize into risk components-Performance risk, cost risk, support risk and schedule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4: Divide the risk into one of 4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ligible-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ginal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strophic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46D8-CFBE-4C9B-99F1-6F5A9573F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8088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Identification incl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iness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to be b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ff size and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349C-FB34-43FE-B979-359FBDDA4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7 Sylla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rics for Process and Products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Measurement, Metrics for software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management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ve vs. Proactive Risk strategies, software risks, Risk identification, Risk projection, Risk refinement, RMMM, RMMM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3F24-3897-41EF-BEA1-02471B5DF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risk 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estimates the impact of risk on the project and th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 is done by using Risk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projection addresses risk in 2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 or probability that the risk is real(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quences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5F50-9D09-4118-8194-183A256F3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8380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in Risk proj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each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the consequence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th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the risk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the risk where the management concern is low i.e., risk having impact high or low with low probability of occur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all risks where management concern is high i.e., high impact with high or moderate probability of occurrence or low impact with high probability of occur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D9E2-4D3C-4CCA-B126-AB91A1FF0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520" y="1143000"/>
          <a:ext cx="7924680" cy="3749760"/>
        </p:xfrm>
        <a:graphic>
          <a:graphicData uri="http://schemas.openxmlformats.org/drawingml/2006/table">
            <a:tbl>
              <a:tblPr/>
              <a:tblGrid>
                <a:gridCol w="1584360"/>
                <a:gridCol w="1585800"/>
                <a:gridCol w="1584360"/>
                <a:gridCol w="1585800"/>
                <a:gridCol w="1584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eg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b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a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M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ze estimate may be significantly 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r no. of users than plan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reuse than plan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 user resist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5128-ABBC-4641-8E61-8F763B7E8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Proj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mpact of each risk is assessed by Impac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astrophic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itical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ginal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gible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1F5B-DB79-4046-A831-9A002D1B25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Refi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Risk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ines the risk table in reviewing the risk impact based on the following three fa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e: Likely problems if risk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pe: Just how serious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: When and how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3059-39DD-45DB-878F-32788C90C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Refin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based on Risk E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Risk exposure RE=P*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P is probability and C is cost of project if risk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3687-687C-4E05-91A7-010E845E2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k Mitigation Monitoring And Management (RMM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goal is to assist project team in developing a strategy for dealing with r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three issues of RM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Risk Avo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Risk Monitoring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Risk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F129-2171-412A-A2E9-2FA350FB3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k Mitigation Monitoring And Management (RMM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Miti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active planning for risk avoi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sk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ing whether predicted risk occur or 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ing risk aversion steps are being properly appl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information for future risk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which risks caused which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528F-2EEA-4304-ACE8-609782642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sk Mitigation Monitoring And Management (RMM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gency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s to be taken in the event that mitigation steps have failed and the risk has become a liv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se RMMP(Risk Mitigation Monitoring And Management Pl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1273-7F03-4FD9-8E37-553802EE2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MMM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documents all work performed as a part of risk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isk is documented individually by using a Risk Information She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 is maintained by using a database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02FD-937C-46B6-98A8-C0F67AD7B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219320"/>
          <a:ext cx="8229600" cy="6411960"/>
        </p:xfrm>
        <a:graphic>
          <a:graphicData uri="http://schemas.openxmlformats.org/drawingml/2006/table">
            <a:tbl>
              <a:tblPr/>
              <a:tblGrid>
                <a:gridCol w="905040"/>
                <a:gridCol w="4505040"/>
                <a:gridCol w="1552680"/>
                <a:gridCol w="1266840"/>
              </a:tblGrid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 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de 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 for process and product: Software Measur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rics for software qua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Management: Reactive VS Proactive r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R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Ident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Proje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Refin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Mitigation Monitoring And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MM pl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Slide Number Placeholder 7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D3E8-FEB9-4AA5-9824-3BCA8FF43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s for Process And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Measur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measurement can be categorized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Direct Measure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Indirect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0CEA-A70E-45AD-A713-FDCEA2FE7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rics for Process And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335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rect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measure of software process include cost and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measure of product include lines of code, Execution speed, memory size, defects per reporting time peri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direct Measu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rect measure examines the quality of software product itself(e.g. :-functionality, complexity, efficiency, reliability and maintainabil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185E-15A1-4026-8B8C-003679A8E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for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ain baseline for comparison with futur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status with respect to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edict the size, cost and duration est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mprove the product quality and process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2083-C561-4AF7-B6AB-814D29BCF9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trics in software Measurement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orient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orient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 oriented 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based application met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C257-F584-4897-A9E1-3877BA6B8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ze Oriented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otally concerned with the measurement of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ftware company maintains a simple record for calculating the size of the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ncludes LOC, Effort,$$,PP document,Error,Defect ,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5FBA-2A51-4041-AD63-6080C7D83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riented met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the functionality derived by th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widely used function oriented metric is Function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point is independent of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functionality from user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631B-2DDE-4628-893A-0B82775CE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7T06:30:18Z</dcterms:created>
  <dc:creator>REENA</dc:creator>
  <dc:description/>
  <dc:language>en-US</dc:language>
  <cp:lastModifiedBy>sahithi</cp:lastModifiedBy>
  <dcterms:modified xsi:type="dcterms:W3CDTF">2012-05-12T13:55:00Z</dcterms:modified>
  <cp:revision>43</cp:revision>
  <dc:subject/>
  <dc:title>unit7</dc:title>
</cp:coreProperties>
</file>