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F7AD9-683B-4FD0-831F-A4F2D355F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5BFD8-6AC8-4E0A-9911-E5153FD76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EB506-64EE-4A86-AC91-F2DD663EC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61EA2-7FF4-4CA0-ADB9-6A4282AAE6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28545-2522-47A9-ABF0-4730F6688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03225-C310-4691-91B0-5C8EEE2AA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7B2BA-73A7-43E8-AB37-317ED0887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0001E-482D-4C37-8073-063249AF9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71A8F-E6E9-475A-B5F7-A5ACD97FD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D622-7B39-42E4-A296-C438A75D0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80CFE-79D5-47C9-9381-5B349320C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3B2FA-EF23-4051-910C-FD7BE56FC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6956-B1BB-451E-9195-8D477572B8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gineering</a:t>
            </a:r>
            <a:br>
              <a:rPr sz="2800"/>
            </a:br>
            <a:r>
              <a:rPr b="0" lang="en-US" sz="2800" spc="-1" strike="noStrike">
                <a:solidFill>
                  <a:srgbClr val="000000"/>
                </a:solidFill>
                <a:latin typeface="Arial"/>
              </a:rPr>
              <a:t>B.Tech IT/II Sem-II</a:t>
            </a:r>
            <a:endParaRPr b="0" lang="en-US" sz="2800" spc="-1" strike="noStrike">
              <a:solidFill>
                <a:srgbClr val="000000"/>
              </a:solidFill>
              <a:latin typeface="Arial"/>
            </a:endParaRPr>
          </a:p>
        </p:txBody>
      </p:sp>
      <p:sp>
        <p:nvSpPr>
          <p:cNvPr id="42" name="PlaceHolder 2"/>
          <p:cNvSpPr>
            <a:spLocks noGrp="1"/>
          </p:cNvSpPr>
          <p:nvPr>
            <p:ph/>
          </p:nvPr>
        </p:nvSpPr>
        <p:spPr>
          <a:xfrm>
            <a:off x="304920" y="2362320"/>
            <a:ext cx="8610480" cy="3657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2008-2009</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8 PPT SLID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ext Books</a:t>
            </a:r>
            <a:r>
              <a:rPr b="0" lang="en-US" sz="2400" spc="-1" strike="noStrike">
                <a:solidFill>
                  <a:srgbClr val="000000"/>
                </a:solidFill>
                <a:latin typeface="Arial"/>
              </a:rPr>
              <a:t>:1.Software Engineering, A practitioner’s approach          </a:t>
            </a:r>
            <a:r>
              <a:rPr b="0" lang="en-US" sz="2400" spc="-1" strike="noStrike">
                <a:solidFill>
                  <a:srgbClr val="000000"/>
                </a:solidFill>
                <a:latin typeface="Arial"/>
              </a:rPr>
              <a:t>	</a:t>
            </a:r>
            <a:r>
              <a:rPr b="0" lang="en-US" sz="2400" spc="-1" strike="noStrike">
                <a:solidFill>
                  <a:srgbClr val="000000"/>
                </a:solidFill>
                <a:latin typeface="Arial"/>
              </a:rPr>
              <a:t>           Roger s. Pressman 6</a:t>
            </a:r>
            <a:r>
              <a:rPr b="0" lang="en-US" sz="2400" spc="-1" strike="noStrike" baseline="30000">
                <a:solidFill>
                  <a:srgbClr val="000000"/>
                </a:solidFill>
                <a:latin typeface="Arial"/>
              </a:rPr>
              <a:t>th</a:t>
            </a:r>
            <a:r>
              <a:rPr b="0" lang="en-US" sz="2400" spc="-1" strike="noStrike">
                <a:solidFill>
                  <a:srgbClr val="000000"/>
                </a:solidFill>
                <a:latin typeface="Arial"/>
              </a:rPr>
              <a:t> edition McGraw-H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Software Engineering Somerville 7</a:t>
            </a:r>
            <a:r>
              <a:rPr b="0" lang="en-US" sz="2400" spc="-1" strike="noStrike" baseline="30000">
                <a:solidFill>
                  <a:srgbClr val="000000"/>
                </a:solidFill>
                <a:latin typeface="Arial"/>
              </a:rPr>
              <a:t>th</a:t>
            </a:r>
            <a:r>
              <a:rPr b="0" lang="en-US" sz="2400" spc="-1" strike="noStrike">
                <a:solidFill>
                  <a:srgbClr val="000000"/>
                </a:solidFill>
                <a:latin typeface="Arial"/>
              </a:rPr>
              <a:t> edi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Review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is to find errors before they 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on to another software engine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or released to the custom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gineers (and others) condu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technical reviews (FTRs) for softw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formal technical reviews (walkthroug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inspections) is an effective means f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software qual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8AB6-4ED4-420C-83D2-2F044315AE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Technical Review</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TR is a software quality control activity performed by software engineers and others.The objectives 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cover errors in function, logic or implementation for any representation of the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erify that the software under review meets its requir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sure that the software has been represented according to predefined standa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hieve software that is developed in a uniform manner 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projects more managea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519A-704F-4CE1-A1DA-C9C1FF3D5D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Technical Review</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view meeting in FT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view meeting in a FTR should abide to the following constrai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meeting members should be between three and f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person should prepare for the meeting and should not require more than two hours of work for each p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uration of the review meeting should be less than two hou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FF66-B826-4B14-A8D7-7D90F44D42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Technical Review</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cus of FTR is on a work product that is requirement specification, a detailed component design, a source code listing for a componen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dividual who has developed the work product i.e, the producer informs the project leader that the work product is complete and that a review is required.</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leader contacts a review leader, who evaluates the product for readiness, generates copy of product material and distributes them to two or three review members for advance preparation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viewer is expected to spend between one and two hours reviewing the product, making not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CEAD-EAF3-40DA-85D4-97C6B5DBDF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Technical Review</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view leader also reviews the product and establish an agenda for the review meeti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view meeting is attended by review leader, all reviewers and the produc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reviewer act as a recorder,who notes down all important points discussed in the meet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eting(FTR) is started by introducing the agenda of meeting and then the producer introduces his product. Then the producer “walkthrough” the product, the reviewers raise issues which they have prepared in adva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rrors are found the recorder notes dow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777DF-9E3E-4410-AB82-9FA13B8A56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reporting and Record keeping</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FTR, a reviewer( recorder) records all issues that have been rai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view summary report answers three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review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reviewed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ere the findings and conclus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ummary report is a single page form with possible attach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iew issues list serves two purpo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dentify problem areas in the produ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rve as an action item checklist that guides the producer as corrections are mad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22544-83E9-45F3-9980-6870B6FD2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uidelin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the product, not the produc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n agenda and maintain i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debate and rebutt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unciate problem areas, but don’t attempt to solve every problem no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return no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the number of participants and insist upon advance prepa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checklist for each product i.e likely to be review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 resources and schedule time for FT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meaningful training for all review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your early review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9B7F-760D-4FD7-B78F-C0AE9C4044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ec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studies suggest that design 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50-65% of all defects or err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software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echniques have been shown to be 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75% effective in uncovering design fla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ultimately reduces the cost o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quent activities in the software proc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260A-9C18-4029-895D-76A40758E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Quality Assuranc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bout software defects is col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categori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efect is traced back to its ca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Pareto principle (80% of the def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traced to 20% of the causes) isol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tal few" defect cau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correct the problems that caused th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s in the "vital fe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B533-FDCF-418F-9C4A-055DEA1DBB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x Sigma for Software Engineering</a:t>
            </a:r>
            <a:endParaRPr b="0" lang="en-US" sz="4000" spc="-1" strike="noStrike">
              <a:solidFill>
                <a:srgbClr val="000000"/>
              </a:solidFill>
              <a:latin typeface="Arial"/>
            </a:endParaRPr>
          </a:p>
        </p:txBody>
      </p:sp>
      <p:sp>
        <p:nvSpPr>
          <p:cNvPr id="9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widely used strategy for statistical quality assura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core step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fine customer requirements, deliverables, and project goals via well-defin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customer communic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easure each existing process and its output to determine current qual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e.g., compute defect metric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nalyze defect metrics and determine vital few caus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n existing process that needs improv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mprove process by eliminating the root causes for defec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ontrol future work to ensure that future work does not reintroduce causes o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ew processes are being develop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sign each new process to avoid root causes of defects and to me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requirem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Verify that the process model will avoid defects and meet custom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146E-C6C5-4DC6-92D8-AFFE0C0568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8 Syllabus</a:t>
            </a:r>
            <a:endParaRPr b="0" lang="en-US" sz="4400" spc="-1" strike="noStrike">
              <a:solidFill>
                <a:srgbClr val="000000"/>
              </a:solidFill>
              <a:latin typeface="Arial"/>
            </a:endParaRPr>
          </a:p>
        </p:txBody>
      </p:sp>
      <p:sp>
        <p:nvSpPr>
          <p:cNvPr id="45" name=""/>
          <p:cNvSpPr txBox="1"/>
          <p:nvPr/>
        </p:nvSpPr>
        <p:spPr>
          <a:xfrm>
            <a:off x="38088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 Management : </a:t>
            </a:r>
            <a:r>
              <a:rPr b="0" lang="en-US" sz="3200" spc="-1" strike="noStrike">
                <a:solidFill>
                  <a:srgbClr val="000000"/>
                </a:solidFill>
                <a:latin typeface="Arial"/>
              </a:rPr>
              <a:t>Quality concepts, Software quality assurance, Software Reviews, Formal technical reviews, Statistical Software quality Assurance, Software reliability, The ISO 9000quality standards.</a:t>
            </a:r>
            <a:endParaRPr b="0" lang="en-US" sz="3200" spc="-1" strike="noStrike">
              <a:solidFill>
                <a:srgbClr val="000000"/>
              </a:solidFill>
              <a:latin typeface="Arial"/>
            </a:endParaRPr>
          </a:p>
        </p:txBody>
      </p:sp>
      <p:sp>
        <p:nvSpPr>
          <p:cNvPr id="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C54C-B1B2-4D06-AAE7-60595640FB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Reliability</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as the probability of failure free operation of 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program in a specified environment for a specifi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peri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measured directly and estimated using historical 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l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reliability problems can usually be traced back 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in design or implement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of Reliabi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n time between failure (MTBF) = MTTF + MTT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TTF = mean time to fail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TTR = mean time to repa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vailability = [MTTF / (MTTF + MTTR)] x 10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E69A-D371-4D40-9ECE-0E30F69E39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O 9000 Quality Standard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urance systems are defined as th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structure, responsibilities, proced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and resources for implementing qua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9000 describes the quality elements that mu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resent for a quality assurance system to b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ant with the standard, but it does not describ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n organization should implement the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9001:2000 is the quality standard that contai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requirements that must be present in an effect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quality assurance syst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3C80-3124-4CD5-9CD8-9980CA9970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a:t>
            </a:r>
            <a:br>
              <a:rPr sz="2800"/>
            </a:br>
            <a:r>
              <a:rPr b="0" lang="en-US" sz="2800" spc="-1" strike="noStrike">
                <a:solidFill>
                  <a:srgbClr val="000000"/>
                </a:solidFill>
                <a:latin typeface="Arial"/>
              </a:rPr>
              <a:t>Unit 8</a:t>
            </a:r>
            <a:endParaRPr b="0" lang="en-US" sz="2800" spc="-1" strike="noStrike">
              <a:solidFill>
                <a:srgbClr val="000000"/>
              </a:solidFill>
              <a:latin typeface="Arial"/>
            </a:endParaRPr>
          </a:p>
        </p:txBody>
      </p:sp>
      <p:graphicFrame>
        <p:nvGraphicFramePr>
          <p:cNvPr id="48" name=""/>
          <p:cNvGraphicFramePr/>
          <p:nvPr/>
        </p:nvGraphicFramePr>
        <p:xfrm>
          <a:off x="457200" y="1600200"/>
          <a:ext cx="8229600" cy="4915080"/>
        </p:xfrm>
        <a:graphic>
          <a:graphicData uri="http://schemas.openxmlformats.org/drawingml/2006/table">
            <a:tbl>
              <a:tblPr/>
              <a:tblGrid>
                <a:gridCol w="905040"/>
                <a:gridCol w="4682880"/>
                <a:gridCol w="1374840"/>
                <a:gridCol w="1266840"/>
              </a:tblGrid>
              <a:tr h="388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ic Nam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cture No</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No.</a:t>
                      </a:r>
                      <a:endParaRPr b="0" lang="en-US" sz="1600" spc="-1" strike="noStrike">
                        <a:solidFill>
                          <a:srgbClr val="000000"/>
                        </a:solidFill>
                        <a:latin typeface="Arial"/>
                      </a:endParaRPr>
                    </a:p>
                  </a:txBody>
                  <a:tcPr anchor="t" marL="90000" marR="90000">
                    <a:lnL>
                      <a:noFill/>
                    </a:lnL>
                    <a:lnR>
                      <a:noFill/>
                    </a:lnR>
                    <a:lnT>
                      <a:noFill/>
                    </a:lnT>
                    <a:lnB>
                      <a:noFill/>
                    </a:lnB>
                    <a:noFill/>
                  </a:tcPr>
                </a:tc>
              </a:tr>
              <a:tr h="389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Management: Quality Concept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a:noFill/>
                    </a:lnL>
                    <a:lnR>
                      <a:noFill/>
                    </a:lnR>
                    <a:lnT>
                      <a:noFill/>
                    </a:lnT>
                    <a:lnB>
                      <a:no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Quality Assuranc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a:noFill/>
                    </a:lnL>
                    <a:lnR>
                      <a:noFill/>
                    </a:lnR>
                    <a:lnT>
                      <a:noFill/>
                    </a:lnT>
                    <a:lnB>
                      <a:noFill/>
                    </a:lnB>
                    <a:noFill/>
                  </a:tcPr>
                </a:tc>
              </a:tr>
              <a:tr h="357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Review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a:noFill/>
                    </a:lnL>
                    <a:lnR>
                      <a:noFill/>
                    </a:lnR>
                    <a:lnT>
                      <a:noFill/>
                    </a:lnT>
                    <a:lnB>
                      <a:noFill/>
                    </a:lnB>
                    <a:no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l Technical Review</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a:noFill/>
                    </a:lnL>
                    <a:lnR>
                      <a:noFill/>
                    </a:lnR>
                    <a:lnT>
                      <a:noFill/>
                    </a:lnT>
                    <a:lnB>
                      <a:no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software quality assuranc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a:noFill/>
                    </a:lnL>
                    <a:lnR>
                      <a:noFill/>
                    </a:lnR>
                    <a:lnT>
                      <a:noFill/>
                    </a:lnT>
                    <a:lnB>
                      <a:no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Reliability</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a:noFill/>
                    </a:lnL>
                    <a:lnR>
                      <a:noFill/>
                    </a:lnR>
                    <a:lnT>
                      <a:noFill/>
                    </a:lnT>
                    <a:lnB>
                      <a:no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9000 2000 quality assuranc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a:noFill/>
                    </a:lnL>
                    <a:lnR>
                      <a:noFill/>
                    </a:lnR>
                    <a:lnT>
                      <a:noFill/>
                    </a:lnT>
                    <a:lnB>
                      <a:no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52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55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9" name="Slide Number Placeholder 7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Management</a:t>
            </a:r>
            <a:endParaRPr b="0" lang="en-US" sz="4400" spc="-1" strike="noStrike">
              <a:solidFill>
                <a:srgbClr val="000000"/>
              </a:solidFill>
              <a:latin typeface="Arial"/>
            </a:endParaRPr>
          </a:p>
        </p:txBody>
      </p:sp>
      <p:sp>
        <p:nvSpPr>
          <p:cNvPr id="51" name=""/>
          <p:cNvSpPr txBox="1"/>
          <p:nvPr/>
        </p:nvSpPr>
        <p:spPr>
          <a:xfrm>
            <a:off x="380880" y="1295280"/>
            <a:ext cx="8229600" cy="4525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 Concepts</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 control is the heart of quality control</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one project to another, we want to minimize the difference between the predicted resources needed to complete a project and the actual resources used, including staff, equipment, and calendar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lity of design</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characteristics that designers specify for the end produ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CE10-5A41-4D57-AB55-C0EE7A3B1D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Management</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lity of conformanc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gree to which design specifications are followed in manufacturing the product</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lity control</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ries of inspections, reviews, and tests used to ensure conformance of a work product to its specific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lity assuranc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sts of a set of auditing and reporting functions that assess the effectiveness and completeness of quality control 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8E5C4-163F-451B-AFFB-1963B85C92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Management</a:t>
            </a:r>
            <a:endParaRPr b="0" lang="en-US" sz="4400" spc="-1" strike="noStrike">
              <a:solidFill>
                <a:srgbClr val="000000"/>
              </a:solidFill>
              <a:latin typeface="Arial"/>
            </a:endParaRPr>
          </a:p>
        </p:txBody>
      </p:sp>
      <p:sp>
        <p:nvSpPr>
          <p:cNvPr id="57" name=""/>
          <p:cNvSpPr txBox="1"/>
          <p:nvPr/>
        </p:nvSpPr>
        <p:spPr>
          <a:xfrm>
            <a:off x="304920" y="1371600"/>
            <a:ext cx="8229600" cy="452592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 of Quality</a:t>
            </a:r>
            <a:endParaRPr b="0" lang="en-US" sz="2800" spc="-1" strike="noStrike">
              <a:solidFill>
                <a:srgbClr val="000000"/>
              </a:solidFill>
              <a:latin typeface="Arial"/>
            </a:endParaRPr>
          </a:p>
          <a:p>
            <a:pPr marL="315360" indent="-3153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evention costs</a:t>
            </a:r>
            <a:endParaRPr b="0" lang="en-US" sz="2800" spc="-1" strike="noStrike">
              <a:solidFill>
                <a:srgbClr val="000000"/>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ality planning, formal technical reviews, test equipment, training</a:t>
            </a:r>
            <a:endParaRPr b="0" lang="en-US" sz="2800" spc="-1" strike="noStrike">
              <a:solidFill>
                <a:srgbClr val="000000"/>
              </a:solidFill>
              <a:latin typeface="Arial"/>
            </a:endParaRPr>
          </a:p>
          <a:p>
            <a:pPr marL="315360" indent="-3153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ppraisal costs</a:t>
            </a:r>
            <a:endParaRPr b="0" lang="en-US" sz="2800" spc="-1" strike="noStrike">
              <a:solidFill>
                <a:srgbClr val="000000"/>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process and inter-process inspection, equipment calibration and maintenance, testing</a:t>
            </a:r>
            <a:endParaRPr b="0" lang="en-US" sz="2800" spc="-1" strike="noStrike">
              <a:solidFill>
                <a:srgbClr val="000000"/>
              </a:solidFill>
              <a:latin typeface="Arial"/>
            </a:endParaRPr>
          </a:p>
          <a:p>
            <a:pPr marL="315360" indent="-3153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ailure costs</a:t>
            </a:r>
            <a:endParaRPr b="0" lang="en-US" sz="2800" spc="-1" strike="noStrike">
              <a:solidFill>
                <a:srgbClr val="000000"/>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work, repair, failure mode analysis</a:t>
            </a:r>
            <a:endParaRPr b="0" lang="en-US" sz="2800" spc="-1" strike="noStrike">
              <a:solidFill>
                <a:srgbClr val="000000"/>
              </a:solidFill>
              <a:latin typeface="Arial"/>
            </a:endParaRPr>
          </a:p>
          <a:p>
            <a:pPr marL="315360" indent="-3153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ternal failure costs</a:t>
            </a:r>
            <a:endParaRPr b="0" lang="en-US" sz="2800" spc="-1" strike="noStrike">
              <a:solidFill>
                <a:srgbClr val="000000"/>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laint resolution, product return and replacement, help line support, warranty work</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34D3-E4AF-4862-A4F0-E5105E4A67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Assuranc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quality assurance (SQA) is the concern 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software engineer to reduce cost and impro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time-to-mar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ftware Quality Assurance Plan is not mere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name for a test plan, though test plans 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d in an SQA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A activities are performed on every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metrics is an important part of developing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 to improve the quality of both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and work produc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7842-CC95-46E1-BE2D-E59C3848DC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Assuranc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Software Quality serves to emphasiz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Conformance to software requirements is the found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om which software quality is measur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pecified standards are used to define the develop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iteria that are used to guide the manner in whic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ftware is engineer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Software must conform to implicit requirements (ease o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maintainability, reliability, etc.) as well as its explic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51CD-9740-4074-B3AB-7BF82C7B7D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Activiti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SQA plan for the proje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 in the development of the project's softw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descrip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software engineering activities to verify compli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defined software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designated software work products to verify compli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ose defined as part of the software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ny deviations in software or work products 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ed and handled according to a documen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any evidence of noncompliance and reports them 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DCFB-3EF0-4DE8-854B-A6C206F4B2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0:08:01Z</dcterms:created>
  <dc:creator>REENA</dc:creator>
  <dc:description/>
  <dc:language>en-US</dc:language>
  <cp:lastModifiedBy>sahithi</cp:lastModifiedBy>
  <dcterms:modified xsi:type="dcterms:W3CDTF">2012-05-12T13:56:47Z</dcterms:modified>
  <cp:revision>16</cp:revision>
  <dc:subject/>
  <dc:title>unit8</dc:title>
</cp:coreProperties>
</file>